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chimes.wav" ContentType="audio/x-wav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6AFD-CE9E-4B30-A89E-34108B4DA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AAA0-A891-4139-835E-DB027B1E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A4B5-BED7-438E-ACD6-DC180CCB4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28B0-61D8-46F6-A26B-2360718B7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8B198-17B0-4CBD-930C-91486A2E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27502-5AA5-4DB7-835C-B8E18EF4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76407-C9DA-4414-BAA8-E61B8F5C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53FF14-5FE4-422C-949E-A671C713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F5DB7-4897-4C55-B7A7-B6B5F6AC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6889F-4661-4610-8EBF-BF9891E1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21836-20F1-4A0C-AEB9-FF0015AB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0C99-3136-4E11-B785-25590419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F2591-F62A-4052-A646-F1CD1515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8F9D9-84B7-4D02-A313-4B1D269C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055E8-16BF-4AA5-8E51-A4F4CE6C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4B93B-A9DB-4977-B114-F1797FC30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A2B0A-FE07-4413-A95C-4CE2167EF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AC72-F00F-43F0-BF10-F3ACF670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572A-7621-46B9-9E90-93ACC38B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5312-6DA0-4E08-A5A4-CED8C517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0DD9-6093-4E6E-94D5-5653DFEC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A9C2-5354-4277-A44C-E9417269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6263-224A-4E49-B53C-AEEBFDAD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1306-8502-4434-87B8-364C6579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1D64-29E7-4849-9274-264ECF713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CFA0-5FD5-46F6-BBF9-6E6FEECF51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" Target="slide10.xml"/><Relationship Id="rId11" Type="http://schemas.openxmlformats.org/officeDocument/2006/relationships/slide" Target="slide10.xml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6149"/>
          <p:cNvSpPr/>
          <p:nvPr/>
        </p:nvSpPr>
        <p:spPr>
          <a:xfrm>
            <a:off x="3595680" y="4840200"/>
            <a:ext cx="447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华文楷体"/>
                <a:ea typeface="黑体"/>
              </a:rPr>
              <a:t>—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九年级（</a:t>
            </a:r>
            <a:r>
              <a:rPr b="1" lang="en-US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18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）班主题班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矩形 6151"/>
          <p:cNvSpPr/>
          <p:nvPr/>
        </p:nvSpPr>
        <p:spPr>
          <a:xfrm>
            <a:off x="395280" y="1268280"/>
            <a:ext cx="85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40ffff"/>
                </a:solidFill>
                <a:latin typeface="Arial"/>
                <a:ea typeface="华文行楷"/>
              </a:rPr>
              <a:t>勤奋努力，刻苦学习，在期末创造辉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120833" descr="1308381522828372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8001000" cy="17384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3e3ff"/>
                </a:solidFill>
                <a:latin typeface="Arial"/>
              </a:rPr>
              <a:t>初三的道路是不平坦的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7720" y="327672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谁要是怕走这崎岖的山道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谁就只好留在山下</a:t>
            </a:r>
            <a:r>
              <a:rPr b="0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" dur="1" fill="hold"/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21857" descr="10195707867_500X667"/>
          <p:cNvPicPr/>
          <p:nvPr/>
        </p:nvPicPr>
        <p:blipFill>
          <a:blip r:embed="rId1"/>
          <a:stretch/>
        </p:blipFill>
        <p:spPr>
          <a:xfrm>
            <a:off x="1908000" y="1052640"/>
            <a:ext cx="3103560" cy="36716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5292360" y="1268280"/>
            <a:ext cx="3529080" cy="36734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大爷，你别看我年龄小，其实我总结了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初三可短暂了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和睡觉是一样一样的。眼一闭一睁高一就到了，嗯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矩形 121859"/>
          <p:cNvSpPr/>
          <p:nvPr/>
        </p:nvSpPr>
        <p:spPr>
          <a:xfrm>
            <a:off x="324000" y="5300640"/>
            <a:ext cx="882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时间是短暂的，但只要我们从现在开始坚持学习，美好还是会留在我们的身边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人生的第一步不是每天期盼就可以实现， 它需要我们的行动。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60093"/>
                </a:solidFill>
                <a:latin typeface="Arial"/>
              </a:rPr>
              <a:t>一、良好的心态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834920" y="2060280"/>
            <a:ext cx="60498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心静</a:t>
            </a:r>
            <a:r>
              <a:rPr b="0" lang="en-US" sz="44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-----</a:t>
            </a:r>
            <a:r>
              <a:rPr b="0" lang="zh-CN" sz="4400" spc="-1" strike="noStrike" u="sng">
                <a:solidFill>
                  <a:srgbClr val="00ffcc"/>
                </a:solidFill>
                <a:uFillTx/>
                <a:latin typeface="Arial"/>
                <a:hlinkClick r:id="rId3" action="ppaction://hlinksldjump"/>
              </a:rPr>
              <a:t>集中注意力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ffcc"/>
                </a:solidFill>
                <a:uFillTx/>
                <a:latin typeface="Arial"/>
                <a:hlinkClick r:id="rId4" action="ppaction://hlinksldjump"/>
              </a:rPr>
              <a:t>乐观</a:t>
            </a:r>
            <a:r>
              <a:rPr b="0" lang="en-US" sz="4400" spc="-1" strike="noStrike" u="sng">
                <a:solidFill>
                  <a:srgbClr val="00ffcc"/>
                </a:solidFill>
                <a:uFillTx/>
                <a:latin typeface="Arial"/>
                <a:hlinkClick r:id="rId5" action="ppaction://hlinksldjump"/>
              </a:rPr>
              <a:t>-----</a:t>
            </a:r>
            <a:r>
              <a:rPr b="0" lang="zh-CN" sz="4400" spc="-1" strike="noStrike" u="sng">
                <a:solidFill>
                  <a:srgbClr val="00ffcc"/>
                </a:solidFill>
                <a:uFillTx/>
                <a:latin typeface="Arial"/>
                <a:hlinkClick r:id="rId6" action="ppaction://hlinksldjump"/>
              </a:rPr>
              <a:t>充满自信力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ffcc"/>
                </a:solidFill>
                <a:uFillTx/>
                <a:latin typeface="Arial"/>
                <a:hlinkClick r:id="rId7" action="ppaction://hlinksldjump"/>
              </a:rPr>
              <a:t>目标</a:t>
            </a:r>
            <a:r>
              <a:rPr b="0" lang="en-US" sz="4400" spc="-1" strike="noStrike" u="sng">
                <a:solidFill>
                  <a:srgbClr val="00ffcc"/>
                </a:solidFill>
                <a:uFillTx/>
                <a:latin typeface="Arial"/>
                <a:hlinkClick r:id="rId8" action="ppaction://hlinksldjump"/>
              </a:rPr>
              <a:t>-----</a:t>
            </a:r>
            <a:r>
              <a:rPr b="0" lang="zh-CN" sz="4400" spc="-1" strike="noStrike" u="sng">
                <a:solidFill>
                  <a:srgbClr val="00ffcc"/>
                </a:solidFill>
                <a:uFillTx/>
                <a:latin typeface="Arial"/>
                <a:hlinkClick r:id="rId9" action="ppaction://hlinksldjump"/>
              </a:rPr>
              <a:t>开动内驱力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ffcc"/>
                </a:solidFill>
                <a:uFillTx/>
                <a:latin typeface="Arial"/>
                <a:hlinkClick r:id="rId10" action="ppaction://hlinksldjump"/>
              </a:rPr>
              <a:t>自省</a:t>
            </a:r>
            <a:r>
              <a:rPr b="0" lang="en-US" sz="4400" spc="-1" strike="noStrike" u="sng">
                <a:solidFill>
                  <a:srgbClr val="00ffcc"/>
                </a:solidFill>
                <a:uFillTx/>
                <a:latin typeface="Arial"/>
                <a:hlinkClick r:id="rId11" action="ppaction://hlinksldjump"/>
              </a:rPr>
              <a:t>-----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加强意志力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文本框 84993"/>
          <p:cNvSpPr/>
          <p:nvPr/>
        </p:nvSpPr>
        <p:spPr>
          <a:xfrm>
            <a:off x="468360" y="1916280"/>
            <a:ext cx="7920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如果没有集中的注意力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将渐渐失去方向；我们必将让短暂的复习时间消耗殆尽！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无聊的闲谈，是庸俗的交往，是频繁的打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分散着我们的注意力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注意力高度集中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才能专注于学习，才有高效的复习，最大收益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矩形 84994"/>
          <p:cNvSpPr/>
          <p:nvPr/>
        </p:nvSpPr>
        <p:spPr>
          <a:xfrm>
            <a:off x="2771640" y="333360"/>
            <a:ext cx="55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  <a:ea typeface="隶书"/>
              </a:rPr>
              <a:t>从现在开始，我们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  <a:ea typeface="隶书"/>
              </a:rPr>
              <a:t>更加集中自己的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  <a:ea typeface="黑体"/>
              </a:rPr>
              <a:t>注意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79640" y="620280"/>
            <a:ext cx="68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Arial"/>
              </a:rPr>
              <a:t>心静、口紧、身正！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692000" y="2060640"/>
            <a:ext cx="705636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黑体"/>
              </a:rPr>
              <a:t>心中要有紧迫感和危机感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黑体"/>
              </a:rPr>
              <a:t>要将精力、时间用到学习上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黑体"/>
              </a:rPr>
              <a:t>少闲聊、多学习、勤思考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黑体"/>
              </a:rPr>
              <a:t>管好嘴、坐好位，身正心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黑体"/>
              </a:rPr>
              <a:t>效率高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矩形 87041"/>
          <p:cNvSpPr/>
          <p:nvPr/>
        </p:nvSpPr>
        <p:spPr>
          <a:xfrm>
            <a:off x="826920" y="2133720"/>
            <a:ext cx="769644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积极的人，像太阳，照到哪里哪里亮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消极的人，像月亮，初一十五不一样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想法决定我们的生活和学习，有什么样的想法，就有什么样的未来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矩形 87042"/>
          <p:cNvSpPr txBox="1"/>
          <p:nvPr/>
        </p:nvSpPr>
        <p:spPr>
          <a:xfrm>
            <a:off x="3059280" y="549360"/>
            <a:ext cx="3528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信心</a:t>
            </a:r>
            <a:endParaRPr b="0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86017"/>
          <p:cNvSpPr/>
          <p:nvPr/>
        </p:nvSpPr>
        <p:spPr>
          <a:xfrm>
            <a:off x="900000" y="3448080"/>
            <a:ext cx="741708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</a:t>
            </a:r>
            <a:r>
              <a:rPr b="0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相信自己是最优秀的，相信自己是最努力的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隶书"/>
                <a:ea typeface="隶书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坚信自己成功的人，已经成功了一半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矩形 86018"/>
          <p:cNvSpPr txBox="1"/>
          <p:nvPr/>
        </p:nvSpPr>
        <p:spPr>
          <a:xfrm>
            <a:off x="2124000" y="981000"/>
            <a:ext cx="48006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相信自己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88065"/>
          <p:cNvSpPr/>
          <p:nvPr/>
        </p:nvSpPr>
        <p:spPr>
          <a:xfrm>
            <a:off x="0" y="27241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矩形 88066"/>
          <p:cNvSpPr/>
          <p:nvPr/>
        </p:nvSpPr>
        <p:spPr>
          <a:xfrm>
            <a:off x="395280" y="2133720"/>
            <a:ext cx="85694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ff"/>
                </a:solidFill>
                <a:latin typeface="Arial"/>
                <a:ea typeface="幼圆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大厦巍然屹立，是因为有坚强的支柱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航船破浪前行，是因为有指示方向的罗盘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目标就是人生航船的罗盘！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矩形 88067"/>
          <p:cNvSpPr txBox="1"/>
          <p:nvPr/>
        </p:nvSpPr>
        <p:spPr>
          <a:xfrm>
            <a:off x="2340000" y="907920"/>
            <a:ext cx="51116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确立目标</a:t>
            </a:r>
            <a:endParaRPr b="0" lang="en-US" sz="54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眼前有一个目标</a:t>
            </a: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矩形 94211"/>
          <p:cNvSpPr/>
          <p:nvPr/>
        </p:nvSpPr>
        <p:spPr>
          <a:xfrm>
            <a:off x="539640" y="2060640"/>
            <a:ext cx="7488360" cy="3672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具体操作中，很多聪明人的做法是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盯住眼前的那个同学，以他为赶超对象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再付出努力去超越他。当你做到这一点的时候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一定会有成就感的，也一定会越来越有信心的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23554"/>
          <p:cNvSpPr/>
          <p:nvPr/>
        </p:nvSpPr>
        <p:spPr>
          <a:xfrm>
            <a:off x="971640" y="1557360"/>
            <a:ext cx="777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学们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面对</a:t>
            </a:r>
            <a:r>
              <a:rPr b="1" lang="zh-CN" sz="5400" spc="-1" strike="noStrike">
                <a:solidFill>
                  <a:srgbClr val="d60093"/>
                </a:solidFill>
                <a:latin typeface="华文新魏"/>
                <a:ea typeface="华文新魏"/>
              </a:rPr>
              <a:t>寒冷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面对</a:t>
            </a:r>
            <a:r>
              <a:rPr b="1" lang="zh-CN" sz="5400" spc="-1" strike="noStrike">
                <a:solidFill>
                  <a:srgbClr val="d60093"/>
                </a:solidFill>
                <a:latin typeface="华文新魏"/>
                <a:ea typeface="华文新魏"/>
              </a:rPr>
              <a:t>期末考试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你准备好了吗？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心里有一种信念。它叫做坚持</a:t>
            </a: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42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33cccc"/>
                </a:solidFill>
                <a:latin typeface="Arial"/>
              </a:rPr>
              <a:t>骐骥一跃，不能十步；驽马十驾，功在不舍。锲而舍之，朽木不折；锲而不舍，金石可镂。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33cccc"/>
                </a:solidFill>
                <a:latin typeface="Arial"/>
              </a:rPr>
              <a:t>荀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矩形 78851"/>
          <p:cNvSpPr/>
          <p:nvPr/>
        </p:nvSpPr>
        <p:spPr>
          <a:xfrm>
            <a:off x="1547640" y="4005360"/>
            <a:ext cx="597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当自己松懈的时候，英国前首相丘吉尔是这么鞭策自己的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决不放弃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决不决不放弃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决不决不决不放弃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矩形 78852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104449"/>
          <p:cNvSpPr/>
          <p:nvPr/>
        </p:nvSpPr>
        <p:spPr>
          <a:xfrm>
            <a:off x="2556000" y="2125080"/>
            <a:ext cx="583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每个人都希望梦想成真，但成功似乎远在天边遥不可及，是倦怠和不自信让我们放弃努力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其实，我们不必想以后的事，只要想着今天我要作些什么，明天我该作些什么，然后努力去完成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就象钟一样，每秒“滴答”摆一下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成功的喜悦就会慢慢浸润我们的生命！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矩形 104450"/>
          <p:cNvSpPr txBox="1"/>
          <p:nvPr/>
        </p:nvSpPr>
        <p:spPr>
          <a:xfrm rot="5400000">
            <a:off x="-74880" y="2387520"/>
            <a:ext cx="2741760" cy="1944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执着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90113"/>
          <p:cNvSpPr txBox="1"/>
          <p:nvPr/>
        </p:nvSpPr>
        <p:spPr>
          <a:xfrm>
            <a:off x="3132000" y="333360"/>
            <a:ext cx="43974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坚持到底</a:t>
            </a:r>
            <a:endParaRPr b="1" lang="en-US" sz="5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74" name="矩形 90114"/>
          <p:cNvSpPr/>
          <p:nvPr/>
        </p:nvSpPr>
        <p:spPr>
          <a:xfrm>
            <a:off x="755640" y="2421000"/>
            <a:ext cx="698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成功者永不放弃，放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者决不会成功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坚持到底，决不放弃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隶书"/>
              </a:rPr>
              <a:t>—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成功的秘诀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二、正确的方法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42560" y="2204640"/>
            <a:ext cx="770436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时间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-----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效率优先、合理安排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复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-----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做好计划、及时监控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考试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-----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适度紧张、稳打稳扎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脚下有一地汗水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24000" y="184428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天道酬勤”，就是说上天会照顾勤劳的人的愿望。其实，所有的成功者都是趟着汗水一路走来的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离开了“勤”字，一切都没有意义。有了“勤”字，它一能补拙，二能出效益，三能节约时间。“勤”是一切的根本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91137"/>
          <p:cNvSpPr/>
          <p:nvPr/>
        </p:nvSpPr>
        <p:spPr>
          <a:xfrm>
            <a:off x="304920" y="295920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矩形 91138"/>
          <p:cNvSpPr txBox="1"/>
          <p:nvPr/>
        </p:nvSpPr>
        <p:spPr>
          <a:xfrm>
            <a:off x="1908000" y="1052640"/>
            <a:ext cx="532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制定计划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81" name="矩形 91139"/>
          <p:cNvSpPr/>
          <p:nvPr/>
        </p:nvSpPr>
        <p:spPr>
          <a:xfrm>
            <a:off x="2495880" y="2565360"/>
            <a:ext cx="4002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成功永远属于有准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的人，没有详细的计划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就不会取得成功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96257"/>
          <p:cNvSpPr/>
          <p:nvPr/>
        </p:nvSpPr>
        <p:spPr>
          <a:xfrm>
            <a:off x="-252360" y="2492280"/>
            <a:ext cx="93963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矩形 96258"/>
          <p:cNvSpPr txBox="1"/>
          <p:nvPr/>
        </p:nvSpPr>
        <p:spPr>
          <a:xfrm>
            <a:off x="2268360" y="620640"/>
            <a:ext cx="4800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采取行动</a:t>
            </a:r>
            <a:endParaRPr b="0" lang="en-US" sz="5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84" name="矩形 96259"/>
          <p:cNvSpPr/>
          <p:nvPr/>
        </p:nvSpPr>
        <p:spPr>
          <a:xfrm>
            <a:off x="2421360" y="2421000"/>
            <a:ext cx="453924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隶书"/>
              </a:rPr>
              <a:t>     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因为我奋斗，所以我快乐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奋斗改变命运，梦想让我们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众不同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64008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Arial"/>
                <a:ea typeface="华文行楷"/>
              </a:rPr>
              <a:t>复习小方法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39280" y="1196640"/>
            <a:ext cx="8280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、要重视基础、重视课本，做好基本题，练好基本功，拿到基本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　</a:t>
            </a:r>
            <a:r>
              <a:rPr b="1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、要重视归纳总结，对做错的题目要及时纠正。要充分总结错题，养成分析错误，改正错误的好习惯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　</a:t>
            </a:r>
            <a:r>
              <a:rPr b="1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、要努力培养思考问题、分析问题、解决问题的能力，要在老师的统一安排下，强化专题训练，提高解题能力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、要突出“五练”，练规范、练速度、练重点、练技巧、练能力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、要学会总结，会一题要懂一片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116000" y="1196640"/>
            <a:ext cx="74167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楷体_GB2312"/>
              </a:rPr>
              <a:t>考试是三分水平，七分心理。这句话是说明了心理素质影响水平发挥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楷体_GB2312"/>
              </a:rPr>
              <a:t>对待考试要做到“不烦恼、不害怕、不着急、不骄傲”，用一颗平常心来对待成绩和名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楷体_GB2312"/>
              </a:rPr>
              <a:t>要劳逸结合，保证考试时拥有充沛的精力和积极的心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楷体_GB2312"/>
              </a:rPr>
              <a:t>考试要先易后难，稳打稳扎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64008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应试小方法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97281"/>
          <p:cNvSpPr/>
          <p:nvPr/>
        </p:nvSpPr>
        <p:spPr>
          <a:xfrm>
            <a:off x="826920" y="1484280"/>
            <a:ext cx="76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隶书"/>
                <a:ea typeface="隶书"/>
              </a:rPr>
              <a:t>距离考试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隶书"/>
                <a:ea typeface="隶书"/>
              </a:rPr>
              <a:t>只有两个礼拜了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隶书"/>
                <a:ea typeface="隶书"/>
              </a:rPr>
              <a:t>同学们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隶书"/>
                <a:ea typeface="隶书"/>
              </a:rPr>
              <a:t>加油吧！！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文本框 112641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行楷"/>
              </a:rPr>
              <a:t>天下课件：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shop62905894.taobao.c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：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图片 112642" descr="1504241138-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矩形 112643"/>
          <p:cNvSpPr txBox="1"/>
          <p:nvPr/>
        </p:nvSpPr>
        <p:spPr>
          <a:xfrm>
            <a:off x="914400" y="1201680"/>
            <a:ext cx="68007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现在试想一下如果现在仍不思进取</a:t>
            </a:r>
            <a:endParaRPr b="1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    </a:t>
            </a:r>
            <a:r>
              <a:rPr b="1" lang="zh-CN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你的未来将会如何？！</a:t>
            </a:r>
            <a:endParaRPr b="1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你的明天？！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9" name="图片 114690" descr="05"/>
          <p:cNvPicPr/>
          <p:nvPr/>
        </p:nvPicPr>
        <p:blipFill>
          <a:blip r:embed="rId1"/>
          <a:srcRect l="0" t="0" r="0" b="4310"/>
          <a:stretch/>
        </p:blipFill>
        <p:spPr>
          <a:xfrm>
            <a:off x="1763640" y="1628640"/>
            <a:ext cx="7056360" cy="48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你的明天？！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1" name="图片 115714" descr="04"/>
          <p:cNvPicPr/>
          <p:nvPr/>
        </p:nvPicPr>
        <p:blipFill>
          <a:blip r:embed="rId1"/>
          <a:srcRect l="0" t="0" r="0" b="4760"/>
          <a:stretch/>
        </p:blipFill>
        <p:spPr>
          <a:xfrm>
            <a:off x="1692360" y="1773360"/>
            <a:ext cx="7219800" cy="48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你的明天？！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3" name="图片 116738" descr="06"/>
          <p:cNvPicPr/>
          <p:nvPr/>
        </p:nvPicPr>
        <p:blipFill>
          <a:blip r:embed="rId1"/>
          <a:srcRect l="0" t="0" r="0" b="3521"/>
          <a:stretch/>
        </p:blipFill>
        <p:spPr>
          <a:xfrm>
            <a:off x="1908000" y="1773360"/>
            <a:ext cx="6840720" cy="4824360"/>
          </a:xfrm>
          <a:prstGeom prst="rect">
            <a:avLst/>
          </a:prstGeom>
          <a:ln w="0">
            <a:noFill/>
          </a:ln>
        </p:spPr>
      </p:pic>
      <p:sp>
        <p:nvSpPr>
          <p:cNvPr id="134" name="文本框 116739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行楷"/>
              </a:rPr>
              <a:t>天下课件：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shop62905894.taobao.c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：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文本框 117761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行楷"/>
              </a:rPr>
              <a:t>天下课件：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shop62905894.taobao.c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：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图片 117762" descr="2004050511470102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6920" y="2500200"/>
            <a:ext cx="8208720" cy="6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对于他们选择的生活，你有什么感想或启示呢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18785" descr="200912010822063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118786"/>
          <p:cNvSpPr/>
          <p:nvPr/>
        </p:nvSpPr>
        <p:spPr>
          <a:xfrm>
            <a:off x="826920" y="1268280"/>
            <a:ext cx="777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矩形 118787"/>
          <p:cNvSpPr/>
          <p:nvPr/>
        </p:nvSpPr>
        <p:spPr>
          <a:xfrm>
            <a:off x="1042920" y="1341360"/>
            <a:ext cx="770436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人生的道路虽然很漫长</a:t>
            </a:r>
            <a:r>
              <a:rPr b="1" lang="en-US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但紧要处常常只有几步</a:t>
            </a:r>
            <a:r>
              <a:rPr b="1" lang="en-US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特别是当人年轻的时候</a:t>
            </a:r>
            <a:r>
              <a:rPr b="1" lang="en-US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       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没有一个人的生活道路是笔直的</a:t>
            </a:r>
            <a:r>
              <a:rPr b="1" lang="en-US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没有岔道的</a:t>
            </a:r>
            <a:r>
              <a:rPr b="1" lang="en-US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有些岔道口</a:t>
            </a:r>
            <a:r>
              <a:rPr b="1" lang="en-US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比如政治上的岔口</a:t>
            </a:r>
            <a:r>
              <a:rPr b="1" lang="en-US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事业上的岔口</a:t>
            </a:r>
            <a:r>
              <a:rPr b="1" lang="en-US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个人生活上的岔口</a:t>
            </a:r>
            <a:r>
              <a:rPr b="1" lang="en-US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你走错一步</a:t>
            </a:r>
            <a:r>
              <a:rPr b="1" lang="en-US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可以影响人生的一个时期</a:t>
            </a:r>
            <a:r>
              <a:rPr b="1" lang="en-US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也可以影响一生</a:t>
            </a:r>
            <a:r>
              <a:rPr b="1" lang="en-US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                                                                 </a:t>
            </a:r>
            <a:r>
              <a:rPr b="1" lang="en-US" sz="36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                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初三是什么？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050920" y="1916280"/>
            <a:ext cx="6842160" cy="46814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初三是人生的一次转折，是紧张的，充实的，是富有挑战性的，也是一个人坚强的毅力和顽强生命力的形成的重要阶段，也是一生中最美好的回忆阶段之一，因为她是成功与挫折，喜悦与悲伤的混合体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文本框 119811"/>
          <p:cNvSpPr/>
          <p:nvPr/>
        </p:nvSpPr>
        <p:spPr>
          <a:xfrm>
            <a:off x="770760" y="2781360"/>
            <a:ext cx="7898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初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02:54:27Z</dcterms:created>
  <dc:creator>USER</dc:creator>
  <dc:description/>
  <cp:keywords/>
  <dc:language>en-US</dc:language>
  <cp:lastModifiedBy>ASUS</cp:lastModifiedBy>
  <dcterms:modified xsi:type="dcterms:W3CDTF">2020-01-03T05:43:27Z</dcterms:modified>
  <cp:revision>84</cp:revision>
  <dc:subject/>
  <dc:title>传染病管理制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441</vt:lpwstr>
  </property>
</Properties>
</file>