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breeze.wav" ContentType="audio/x-wav"/>
  <Override PartName="/ppt/media/image20.gif" ContentType="image/gif"/>
  <Override PartName="/ppt/media/image13.png" ContentType="image/png"/>
  <Override PartName="/ppt/media/image19.jpeg" ContentType="image/jpeg"/>
  <Override PartName="/ppt/media/image16.png" ContentType="image/png"/>
  <Override PartName="/ppt/media/chimes.wav" ContentType="audio/x-wav"/>
  <Override PartName="/ppt/media/image3.png" ContentType="image/png"/>
  <Override PartName="/ppt/media/image1.jpeg" ContentType="image/jpeg"/>
  <Override PartName="/ppt/media/image4.gif" ContentType="image/gif"/>
  <Override PartName="/ppt/media/image23.wmf" ContentType="image/x-wmf"/>
  <Override PartName="/ppt/media/whoosh.wav" ContentType="audio/x-wav"/>
  <Override PartName="/ppt/media/image2.png" ContentType="image/png"/>
  <Override PartName="/ppt/media/image10.wmf" ContentType="image/x-wmf"/>
  <Override PartName="/ppt/media/suction.wav" ContentType="audio/x-wav"/>
  <Override PartName="/ppt/media/image24.wmf" ContentType="image/x-wmf"/>
  <Override PartName="/ppt/media/projctor.wav" ContentType="audio/x-wav"/>
  <Override PartName="/ppt/media/bomb.wav" ContentType="audio/x-wav"/>
  <Override PartName="/ppt/media/image22.wmf" ContentType="image/x-wmf"/>
  <Override PartName="/ppt/media/image11.wmf" ContentType="image/x-wmf"/>
  <Override PartName="/ppt/media/explode.wav" ContentType="audio/x-wav"/>
  <Override PartName="/ppt/media/image5.gif" ContentType="image/gif"/>
  <Override PartName="/ppt/media/image7.jpeg" ContentType="image/jpeg"/>
  <Override PartName="/ppt/media/image8.wmf" ContentType="image/x-wmf"/>
  <Override PartName="/ppt/media/wind.wav" ContentType="audio/x-wav"/>
  <Override PartName="/ppt/media/image9.wmf" ContentType="image/x-wmf"/>
  <Override PartName="/ppt/media/image14.png" ContentType="image/png"/>
  <Override PartName="/ppt/media/image21.gif" ContentType="image/gif"/>
  <Override PartName="/ppt/media/image12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type.wav" ContentType="audio/x-wav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D1D-F95F-42B3-BF0C-3D6C9932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902-A692-4D22-9AF3-3906801F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3237-43A0-4FC5-A4FE-CB1C06AFD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271-8500-409C-B39A-48780096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004-860E-4EB8-A567-86547C32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617-A02D-4737-9D0B-21AAA762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2E43-1269-4001-BF83-1F7E5A00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AF3-52B0-49C7-B91A-68C2ED28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E2C6-590C-46A5-BB9A-FDD1AD47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1A66-FAFD-4B3D-AD58-5629FF34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3BA-322A-427B-A637-BA7431DE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F46-6F38-4DFD-962B-B11808B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A1590-BB47-4DAD-A616-177C4365E2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" Target="slide9.xml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slide" Target="slide10.xm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wind.wav"/><Relationship Id="rId3" Type="http://schemas.openxmlformats.org/officeDocument/2006/relationships/audio" Target="../media/breez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image" Target="../media/image4.gif"/><Relationship Id="rId4" Type="http://schemas.openxmlformats.org/officeDocument/2006/relationships/slide" Target="slide2.xml"/><Relationship Id="rId5" Type="http://schemas.openxmlformats.org/officeDocument/2006/relationships/image" Target="../media/image4.gif"/><Relationship Id="rId6" Type="http://schemas.openxmlformats.org/officeDocument/2006/relationships/slide" Target="slide9.xml"/><Relationship Id="rId7" Type="http://schemas.openxmlformats.org/officeDocument/2006/relationships/image" Target="../media/image4.gif"/><Relationship Id="rId8" Type="http://schemas.openxmlformats.org/officeDocument/2006/relationships/slide" Target="slide2.xml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" Target="slide10.xml"/><Relationship Id="rId12" Type="http://schemas.openxmlformats.org/officeDocument/2006/relationships/image" Target="../media/image4.gif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7640" y="26028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黑体"/>
              </a:rPr>
              <a:t>复习回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979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如图，直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相交于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，则对顶角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对， 分别是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OD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邻补角有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个，分别是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908000" y="2637000"/>
            <a:ext cx="4495680" cy="1983600"/>
            <a:chOff x="1908000" y="2637000"/>
            <a:chExt cx="4495680" cy="1983600"/>
          </a:xfrm>
        </p:grpSpPr>
        <p:grpSp>
          <p:nvGrpSpPr>
            <p:cNvPr id="44" name=""/>
            <p:cNvGrpSpPr/>
            <p:nvPr/>
          </p:nvGrpSpPr>
          <p:grpSpPr>
            <a:xfrm>
              <a:off x="2441520" y="3017520"/>
              <a:ext cx="3581280" cy="1295640"/>
              <a:chOff x="2441520" y="3017520"/>
              <a:chExt cx="3581280" cy="1295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2441520" y="3017520"/>
                <a:ext cx="3581280" cy="1066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593800" y="3017880"/>
                <a:ext cx="327672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5946480" y="4160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89080" y="3017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12920" y="2637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22800" y="27892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08000" y="3932280"/>
              <a:ext cx="4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780000" y="3141720"/>
            <a:ext cx="6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851280" y="34275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 rot="5863200">
            <a:off x="3268080" y="3276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0000" y="2708280"/>
            <a:ext cx="568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 rot="16354800">
            <a:off x="4239360" y="340020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321300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51280" y="3716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284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49417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上图：若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=2∠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生活中的垂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3244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5136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7208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12008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766764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763640" y="4149720"/>
            <a:ext cx="647640" cy="431640"/>
            <a:chOff x="1763640" y="4149720"/>
            <a:chExt cx="647640" cy="431640"/>
          </a:xfrm>
        </p:grpSpPr>
        <p:sp>
          <p:nvSpPr>
            <p:cNvPr id="164" name=""/>
            <p:cNvSpPr/>
            <p:nvPr/>
          </p:nvSpPr>
          <p:spPr>
            <a:xfrm flipH="1">
              <a:off x="2340000" y="4149720"/>
              <a:ext cx="71280" cy="431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63640" y="4437000"/>
              <a:ext cx="576360" cy="144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932360" y="1483920"/>
            <a:ext cx="1079640" cy="1513080"/>
            <a:chOff x="4932360" y="1483920"/>
            <a:chExt cx="1079640" cy="1513080"/>
          </a:xfrm>
        </p:grpSpPr>
        <p:sp>
          <p:nvSpPr>
            <p:cNvPr id="167" name=""/>
            <p:cNvSpPr/>
            <p:nvPr/>
          </p:nvSpPr>
          <p:spPr>
            <a:xfrm flipV="1">
              <a:off x="4932360" y="1483920"/>
              <a:ext cx="1079640" cy="289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12000" y="1484280"/>
              <a:ext cx="0" cy="151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79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生活中的垂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023840" y="2714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797440" y="0"/>
            <a:ext cx="2935080" cy="3308040"/>
            <a:chOff x="5797440" y="0"/>
            <a:chExt cx="2935080" cy="3308040"/>
          </a:xfrm>
        </p:grpSpPr>
        <p:sp>
          <p:nvSpPr>
            <p:cNvPr id="172" name=""/>
            <p:cNvSpPr/>
            <p:nvPr/>
          </p:nvSpPr>
          <p:spPr>
            <a:xfrm>
              <a:off x="6156360" y="1800360"/>
              <a:ext cx="2160720" cy="0"/>
            </a:xfrm>
            <a:prstGeom prst="line">
              <a:avLst/>
            </a:prstGeom>
            <a:ln w="349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360" y="792000"/>
              <a:ext cx="0" cy="2232360"/>
            </a:xfrm>
            <a:prstGeom prst="line">
              <a:avLst/>
            </a:prstGeom>
            <a:ln w="349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97440" y="13683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46880" y="129708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3399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94160" y="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38880" y="266544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64360" y="1655640"/>
              <a:ext cx="289080" cy="0"/>
            </a:xfrm>
            <a:prstGeom prst="line">
              <a:avLst/>
            </a:prstGeom>
            <a:ln w="349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53440" y="1655640"/>
              <a:ext cx="0" cy="144720"/>
            </a:xfrm>
            <a:prstGeom prst="line">
              <a:avLst/>
            </a:prstGeom>
            <a:ln w="3492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63240" y="1722600"/>
              <a:ext cx="53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1517760" y="21607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几何语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50840" y="3933720"/>
            <a:ext cx="45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)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∵ ∠AOC﹦90°(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已知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1320" y="451008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A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⊥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CD   (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垂直的定义</a:t>
            </a:r>
            <a:r>
              <a:rPr b="1" lang="en-US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49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360" y="4653000"/>
            <a:ext cx="248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3141720"/>
            <a:ext cx="52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已知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AB.CD</a:t>
            </a:r>
            <a:r>
              <a:rPr b="1" lang="zh-CN" sz="4000" spc="-1" strike="noStrike">
                <a:solidFill>
                  <a:srgbClr val="ff3399"/>
                </a:solidFill>
                <a:latin typeface="Arial"/>
              </a:rPr>
              <a:t>相交于点</a:t>
            </a: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O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6960" y="-44280"/>
            <a:ext cx="28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垂直的书写形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4000" y="76500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如图，当直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C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相交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点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O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=9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,A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C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，垂足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3" dur="1" fill="hold"/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0820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3400" y="2276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几何语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33307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05960" y="3429000"/>
            <a:ext cx="33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AB⊥CD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已知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6480" y="4437000"/>
            <a:ext cx="44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COB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 ﹦90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垂直的定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5078160" y="476280"/>
            <a:ext cx="3890880" cy="3176280"/>
            <a:chOff x="5078160" y="476280"/>
            <a:chExt cx="3890880" cy="3176280"/>
          </a:xfrm>
        </p:grpSpPr>
        <p:sp>
          <p:nvSpPr>
            <p:cNvPr id="195" name=""/>
            <p:cNvSpPr/>
            <p:nvPr/>
          </p:nvSpPr>
          <p:spPr>
            <a:xfrm>
              <a:off x="5602320" y="1987560"/>
              <a:ext cx="2808000" cy="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68880" y="836640"/>
              <a:ext cx="0" cy="259236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78160" y="156996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483400" y="162252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043400" y="4762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2880" y="30099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542160" y="4581360"/>
            <a:ext cx="32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50520" y="1773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27000" y="189000"/>
            <a:ext cx="25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垂直的书写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1125360"/>
            <a:ext cx="76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反之，若直线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CD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垂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垂足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，那么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OC=9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8" dur="1" fill="hold"/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580536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16720" y="27813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562720" y="1143000"/>
            <a:ext cx="2895480" cy="3187440"/>
            <a:chOff x="5562720" y="1143000"/>
            <a:chExt cx="2895480" cy="3187440"/>
          </a:xfrm>
        </p:grpSpPr>
        <p:sp>
          <p:nvSpPr>
            <p:cNvPr id="208" name=""/>
            <p:cNvSpPr/>
            <p:nvPr/>
          </p:nvSpPr>
          <p:spPr>
            <a:xfrm>
              <a:off x="7010640" y="1676520"/>
              <a:ext cx="75960" cy="205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96240" y="2666880"/>
              <a:ext cx="1904760" cy="763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58000" y="380988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58000" y="1143000"/>
              <a:ext cx="38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77320" y="2514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562720" y="251460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95280" y="1413000"/>
            <a:ext cx="51055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交于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OC=9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2400" y="316404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记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2160" y="3789360"/>
            <a:ext cx="31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交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叫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4520" y="4437000"/>
            <a:ext cx="357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垂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5280" y="260280"/>
            <a:ext cx="25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课堂抢答：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95280" y="1052640"/>
            <a:ext cx="8353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直线相交所成的四个角中，下列条件中能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定两条直线垂直的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 有两个角相等       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两对角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有三个角相等         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有四对邻补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95640" y="2781360"/>
            <a:ext cx="295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780000" y="234936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95280" y="260280"/>
            <a:ext cx="25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课堂抢答：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28600" y="1295280"/>
            <a:ext cx="8520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下面四种判断两条直线垂直的方法正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（         ）个             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条直线相交所成的四个角中有一个角是直角，则这两条直线互相垂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条直线相交，有一组邻补角相等，则这两条直线互相垂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条直线相交，所成的四个角相等，这两条直线互相垂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条直线相交，有一组对顶角互补，则这两条直线互相垂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          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             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            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35680" y="162864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95280" y="260280"/>
            <a:ext cx="251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课堂抢答：</a:t>
            </a:r>
            <a:endParaRPr b="0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332000" y="1844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3640" y="2205000"/>
            <a:ext cx="594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∵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5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5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已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1844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184464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292720" y="1197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垂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492360" y="3429000"/>
            <a:ext cx="49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 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08360" y="486900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E⊥AB   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垂直的定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5280" y="189000"/>
            <a:ext cx="820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图，已知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都经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射线，若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5°   ∠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5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位置关系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2781360"/>
            <a:ext cx="3418920" cy="2754000"/>
            <a:chOff x="0" y="2781360"/>
            <a:chExt cx="3418920" cy="2754000"/>
          </a:xfrm>
        </p:grpSpPr>
        <p:grpSp>
          <p:nvGrpSpPr>
            <p:cNvPr id="235" name=""/>
            <p:cNvGrpSpPr/>
            <p:nvPr/>
          </p:nvGrpSpPr>
          <p:grpSpPr>
            <a:xfrm>
              <a:off x="152280" y="2925720"/>
              <a:ext cx="3266640" cy="2232000"/>
              <a:chOff x="152280" y="2925720"/>
              <a:chExt cx="3266640" cy="2232000"/>
            </a:xfrm>
          </p:grpSpPr>
          <p:sp>
            <p:nvSpPr>
              <p:cNvPr id="236" name=""/>
              <p:cNvSpPr/>
              <p:nvPr/>
            </p:nvSpPr>
            <p:spPr>
              <a:xfrm>
                <a:off x="152280" y="3933720"/>
                <a:ext cx="3266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35560" y="2925720"/>
                <a:ext cx="1747440" cy="187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7080" y="3933720"/>
                <a:ext cx="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1367640" y="3634920"/>
                <a:ext cx="459000" cy="4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161" y="536"/>
                    </a:moveTo>
                    <a:arcTo wR="10800" hR="10800" stAng="-4312229" swAng="507506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161" y="536"/>
                    </a:moveTo>
                    <a:arcTo wR="10800" hR="10800" stAng="-4312229" swAng="5075066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rot="10460400">
                <a:off x="1596600" y="4004640"/>
                <a:ext cx="500400" cy="45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010" y="1120"/>
                    </a:moveTo>
                    <a:arcTo wR="10800" hR="10800" stAng="-6979822" swAng="619489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010" y="1120"/>
                    </a:moveTo>
                    <a:arcTo wR="10800" hR="10800" stAng="-6979822" swAng="6194895"/>
                  </a:path>
                </a:pathLst>
              </a:cu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455400" y="2781360"/>
              <a:ext cx="72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32520" y="4797360"/>
              <a:ext cx="723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3430800"/>
              <a:ext cx="4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6000" y="3502080"/>
              <a:ext cx="56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71840" y="350208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368720" y="5014800"/>
              <a:ext cx="88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988560" y="3430800"/>
              <a:ext cx="40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24480" y="4365720"/>
              <a:ext cx="48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6012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新魏"/>
                <a:ea typeface="华文新魏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45320" y="3762360"/>
            <a:ext cx="144360" cy="144360"/>
          </a:xfrm>
          <a:prstGeom prst="rect">
            <a:avLst/>
          </a:prstGeom>
          <a:solidFill>
            <a:srgbClr val="bbe0e3"/>
          </a:soli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9640" y="98100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图，直线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交于点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OE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⊥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=125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COE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度数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06920" y="3913200"/>
            <a:ext cx="259236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6732720" y="2689200"/>
            <a:ext cx="0" cy="122400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7640" y="2760840"/>
            <a:ext cx="1008360" cy="230472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2728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53960" y="24526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721920" y="2421000"/>
            <a:ext cx="40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778880" y="378792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756480" y="465624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43520" y="3794040"/>
            <a:ext cx="5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16200" y="3952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6811200">
            <a:off x="6381720" y="380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80960" y="476280"/>
            <a:ext cx="819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a10e8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1a10e8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∠ABC=90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华文新魏"/>
              </a:rPr>
              <a:t>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,∠1=60</a:t>
            </a: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华文新魏"/>
              </a:rPr>
              <a:t>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垂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垂足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垂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垂足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若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= ∠2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求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O, ∠BO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3786120"/>
            <a:ext cx="48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∵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O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⊥AC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于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435640" y="2276640"/>
            <a:ext cx="3787200" cy="2900520"/>
            <a:chOff x="5435640" y="2276640"/>
            <a:chExt cx="3787200" cy="2900520"/>
          </a:xfrm>
        </p:grpSpPr>
        <p:sp>
          <p:nvSpPr>
            <p:cNvPr id="266" name=""/>
            <p:cNvSpPr/>
            <p:nvPr/>
          </p:nvSpPr>
          <p:spPr>
            <a:xfrm>
              <a:off x="5946480" y="2740320"/>
              <a:ext cx="2895120" cy="1752480"/>
            </a:xfrm>
            <a:prstGeom prst="rtTriangle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946480" y="3254040"/>
              <a:ext cx="76176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08600" y="3254400"/>
              <a:ext cx="0" cy="1219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700320" y="4160520"/>
              <a:ext cx="303840" cy="304560"/>
              <a:chOff x="6700320" y="4160520"/>
              <a:chExt cx="303840" cy="304560"/>
            </a:xfrm>
          </p:grpSpPr>
          <p:sp>
            <p:nvSpPr>
              <p:cNvPr id="270" name=""/>
              <p:cNvSpPr/>
              <p:nvPr/>
            </p:nvSpPr>
            <p:spPr>
              <a:xfrm flipV="1">
                <a:off x="6700320" y="4178520"/>
                <a:ext cx="303840" cy="1944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83640" y="4160520"/>
                <a:ext cx="19440" cy="3045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6175080" y="386424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756120" y="335628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35640" y="2276640"/>
              <a:ext cx="60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41560" y="447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613360" y="4457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55960" y="44578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5960" y="2629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6361560" y="3059640"/>
              <a:ext cx="275760" cy="380160"/>
              <a:chOff x="6361560" y="3059640"/>
              <a:chExt cx="275760" cy="380160"/>
            </a:xfrm>
          </p:grpSpPr>
          <p:sp>
            <p:nvSpPr>
              <p:cNvPr id="280" name=""/>
              <p:cNvSpPr/>
              <p:nvPr/>
            </p:nvSpPr>
            <p:spPr>
              <a:xfrm flipH="1" flipV="1">
                <a:off x="6361560" y="3310200"/>
                <a:ext cx="275760" cy="129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6370560" y="3059640"/>
                <a:ext cx="129600" cy="276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6112440" y="40341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156800">
              <a:off x="6667200" y="3306240"/>
              <a:ext cx="490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华文中宋"/>
                  <a:ea typeface="华文中宋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348000" y="48718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042920" y="2349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∵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C=90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°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00000" y="2782800"/>
            <a:ext cx="47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=60°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80000" y="234936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8360" y="32716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BO=3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8920" y="234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76720" y="37861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已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8360" y="42940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OC=9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58737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OD=3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771640" y="3284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互余的定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59280" y="58593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互余的定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27828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已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916360" y="429264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垂直的定义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95280" y="47991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又∵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∠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=∠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0880" y="5373720"/>
            <a:ext cx="193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=6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71640" y="537048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等量代换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03280" y="1844640"/>
            <a:ext cx="5905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5.1.2 </a:t>
            </a:r>
            <a:r>
              <a:rPr b="1" lang="zh-CN" sz="54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华文新魏"/>
              </a:rPr>
              <a:t>垂线</a:t>
            </a:r>
            <a:endParaRPr b="1" lang="en-US" sz="54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457200" y="66960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探究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三角尺或量角器画已知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线，这样的垂线能画出几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30621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过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上一点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线，这样的垂线能画出几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43376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过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一点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i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垂线，这样的垂线能画出几条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21240" y="40464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华文新魏"/>
              </a:rPr>
              <a:t>二、垂线的画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539640" y="62064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垂线的画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2492280"/>
            <a:ext cx="2160360" cy="155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这样画</a:t>
            </a:r>
            <a:r>
              <a:rPr b="1" i="1" lang="en-US" sz="32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l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的垂线可以画几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51280" y="3846600"/>
            <a:ext cx="146160" cy="14436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16360" y="4005360"/>
            <a:ext cx="30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850920" y="2276640"/>
            <a:ext cx="28440" cy="21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13800" y="367344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85400" y="394020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177336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如图，已知直线 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PMingLiU"/>
              </a:rPr>
              <a:t>l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作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PMingLiU"/>
              </a:rPr>
              <a:t>l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的垂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7020000" y="4370400"/>
          <a:ext cx="114912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20000" y="4370400"/>
                    <a:ext cx="11491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3851280" y="907920"/>
          <a:ext cx="746280" cy="142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907920"/>
                    <a:ext cx="7462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/>
          <p:cNvSpPr/>
          <p:nvPr/>
        </p:nvSpPr>
        <p:spPr>
          <a:xfrm>
            <a:off x="755640" y="119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工具：三角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50960" y="213372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4581360"/>
            <a:ext cx="17287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华文新魏"/>
              </a:rPr>
              <a:t>无数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324000" y="42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2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8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69942E-006 L -0.3467 -0.31075 E">
                                      <p:cBhvr>
                                        <p:cTn id="486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"/>
                            </p:stCondLst>
                            <p:childTnLst>
                              <p:par>
                                <p:cTn id="49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92 L 0.00017 0.25087 E">
                                      <p:cBhvr>
                                        <p:cTn id="493" dur="3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671 -0.31075 L -0.00764 0.00578 E">
                                      <p:cBhvr>
                                        <p:cTn id="502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18900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垂线的画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879720" y="3414600"/>
            <a:ext cx="144720" cy="14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916360" y="3573360"/>
            <a:ext cx="30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808440" y="3502080"/>
            <a:ext cx="142920" cy="1429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13800" y="3241800"/>
            <a:ext cx="3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2720" y="3429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83664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如图，已知直线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和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PMingLiU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上的一点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A ,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作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020000" y="3938760"/>
            <a:ext cx="1149120" cy="17809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836880" y="490680"/>
            <a:ext cx="746280" cy="14270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421080" y="1700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16360" y="1700280"/>
            <a:ext cx="360072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则所画直线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是过点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的直线</a:t>
            </a:r>
            <a:r>
              <a:rPr b="1" i="1" lang="en-US" sz="3200" spc="-1" strike="noStrike">
                <a:solidFill>
                  <a:srgbClr val="cc0066"/>
                </a:solidFill>
                <a:latin typeface="Times New Roman"/>
                <a:ea typeface="PMingLiU"/>
              </a:rPr>
              <a:t>l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3850920" y="1411200"/>
            <a:ext cx="57240" cy="2594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8360" y="1484280"/>
            <a:ext cx="21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结论：过直线上的一点有且只有一条直线与已知直线互相垂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188720" y="4365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画垂线的基本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00000" y="5013360"/>
            <a:ext cx="4931640" cy="1539720"/>
            <a:chOff x="900000" y="5013360"/>
            <a:chExt cx="4931640" cy="1539720"/>
          </a:xfrm>
        </p:grpSpPr>
        <p:sp>
          <p:nvSpPr>
            <p:cNvPr id="335" name="Text Box 8"/>
            <p:cNvSpPr/>
            <p:nvPr/>
          </p:nvSpPr>
          <p:spPr>
            <a:xfrm>
              <a:off x="900000" y="5013360"/>
              <a:ext cx="11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贴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9"/>
            <p:cNvSpPr/>
            <p:nvPr/>
          </p:nvSpPr>
          <p:spPr>
            <a:xfrm>
              <a:off x="1086840" y="559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二靠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0"/>
            <p:cNvSpPr/>
            <p:nvPr/>
          </p:nvSpPr>
          <p:spPr>
            <a:xfrm>
              <a:off x="1086840" y="6093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三画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1"/>
            <p:cNvSpPr/>
            <p:nvPr/>
          </p:nvSpPr>
          <p:spPr>
            <a:xfrm>
              <a:off x="2907720" y="5013360"/>
              <a:ext cx="292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三角尺的一条直角边贴住已知直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3658320" y="55962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另一条直角边靠住已知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2567880" y="60933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按要求画垂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4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416 L -0.25209 -0.31029 E">
                                      <p:cBhvr>
                                        <p:cTn id="566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21 -0.31029 L -0.34497 -0.31029 E">
                                      <p:cBhvr>
                                        <p:cTn id="570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92 L 0.00017 0.25087 E">
                                      <p:cBhvr>
                                        <p:cTn id="577" dur="3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671 -0.31075 L -0.00764 0.00578 E">
                                      <p:cBhvr>
                                        <p:cTn id="587" dur="20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79720" y="3414600"/>
            <a:ext cx="144720" cy="14472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850920" y="1266840"/>
            <a:ext cx="57240" cy="2882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9640" y="54936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垂线的画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3573360"/>
            <a:ext cx="30240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440" y="198900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013440" y="329256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PMingLiU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49440" y="1773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1125360"/>
            <a:ext cx="79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如图，已知直线 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PMingLiU"/>
              </a:rPr>
              <a:t>l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和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PMingLiU"/>
              </a:rPr>
              <a:t>l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外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的一点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A ,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作</a:t>
            </a:r>
            <a:r>
              <a:rPr b="1" i="1" lang="en-US" sz="3200" spc="-1" strike="noStrike">
                <a:solidFill>
                  <a:srgbClr val="6600ff"/>
                </a:solidFill>
                <a:latin typeface="Times New Roman"/>
                <a:ea typeface="PMingLiU"/>
              </a:rPr>
              <a:t>l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020000" y="3938760"/>
            <a:ext cx="1149120" cy="1780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51280" y="476280"/>
            <a:ext cx="746280" cy="14270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1440" y="35002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16360" y="1700280"/>
            <a:ext cx="360072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则所画直线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是经过点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的直线</a:t>
            </a:r>
            <a:r>
              <a:rPr b="1" lang="zh-CN" sz="3200" spc="-1" strike="noStrike">
                <a:solidFill>
                  <a:srgbClr val="cc0066"/>
                </a:solidFill>
                <a:latin typeface="PMingLiU"/>
                <a:ea typeface="PMingLiU"/>
              </a:rPr>
              <a:t>l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的垂线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5280" y="177336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结论：过直线外一点有且只有一条直线与已知直线垂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500"/>
                            </p:stCondLst>
                            <p:childTnLst>
                              <p:par>
                                <p:cTn id="6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77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1" dur="770" fill="hold"/>
                                        <p:tgtEl>
                                          <p:spTgt spid="3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3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5" dur="77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450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416 L -0.25209 -0.31029 E">
                                      <p:cBhvr>
                                        <p:cTn id="65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21 -0.31029 L -0.34497 -0.31029 E">
                                      <p:cBhvr>
                                        <p:cTn id="657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92 L 0.00017 0.25087 E">
                                      <p:cBhvr>
                                        <p:cTn id="664" dur="3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671 -0.31075 L -0.00764 0.00578 E">
                                      <p:cBhvr>
                                        <p:cTn id="673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9280" y="2565360"/>
            <a:ext cx="896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垂线的性质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130901"/>
                </a:solidFill>
                <a:latin typeface="黑体"/>
                <a:ea typeface="黑体"/>
              </a:rPr>
              <a:t>过一点有且只有一条直线与已知直线垂直</a:t>
            </a:r>
            <a:r>
              <a:rPr b="1" lang="en-US" sz="3600" spc="-1" strike="noStrike">
                <a:solidFill>
                  <a:srgbClr val="130901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6920" y="1628640"/>
            <a:ext cx="633744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能作一条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而且只能作一条</a:t>
            </a:r>
            <a:r>
              <a:rPr b="1" lang="en-US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24000" y="404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问题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过已知直线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l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和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l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上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或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的一点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A 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作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PMingLiU"/>
              </a:rPr>
              <a:t>l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的垂线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可以作几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4365720"/>
            <a:ext cx="7920000" cy="1556280"/>
          </a:xfrm>
          <a:prstGeom prst="rect">
            <a:avLst/>
          </a:prstGeom>
          <a:solidFill>
            <a:srgbClr val="ff99cc"/>
          </a:solidFill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注意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过一点画已知线段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或射线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的垂线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就是画这条线段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或射线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所在直线的垂线</a:t>
            </a:r>
            <a:r>
              <a:rPr b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059280" y="33336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24000" y="98100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选择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0" y="1557360"/>
            <a:ext cx="8915400" cy="520560"/>
            <a:chOff x="0" y="1557360"/>
            <a:chExt cx="8915400" cy="520560"/>
          </a:xfrm>
        </p:grpSpPr>
        <p:sp>
          <p:nvSpPr>
            <p:cNvPr id="361" name=""/>
            <p:cNvSpPr/>
            <p:nvPr/>
          </p:nvSpPr>
          <p:spPr>
            <a:xfrm>
              <a:off x="0" y="1557360"/>
              <a:ext cx="891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过点     向线段     所在直线引垂线，正确的是（     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1"/>
            <a:stretch/>
          </p:blipFill>
          <p:spPr>
            <a:xfrm>
              <a:off x="1504800" y="1670040"/>
              <a:ext cx="35892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" descr=""/>
            <p:cNvPicPr/>
            <p:nvPr/>
          </p:nvPicPr>
          <p:blipFill>
            <a:blip r:embed="rId2"/>
            <a:stretch/>
          </p:blipFill>
          <p:spPr>
            <a:xfrm>
              <a:off x="2800440" y="1631880"/>
              <a:ext cx="609480" cy="3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4" name=""/>
          <p:cNvSpPr/>
          <p:nvPr/>
        </p:nvSpPr>
        <p:spPr>
          <a:xfrm>
            <a:off x="0" y="32576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50532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611280" y="1989000"/>
            <a:ext cx="8127720" cy="2320560"/>
            <a:chOff x="611280" y="1989000"/>
            <a:chExt cx="8127720" cy="2320560"/>
          </a:xfrm>
        </p:grpSpPr>
        <p:sp>
          <p:nvSpPr>
            <p:cNvPr id="367" name=""/>
            <p:cNvSpPr/>
            <p:nvPr/>
          </p:nvSpPr>
          <p:spPr>
            <a:xfrm>
              <a:off x="778680" y="1989000"/>
              <a:ext cx="7731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                 B                       C                       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1" descr=""/>
            <p:cNvPicPr/>
            <p:nvPr/>
          </p:nvPicPr>
          <p:blipFill>
            <a:blip r:embed="rId3"/>
            <a:stretch/>
          </p:blipFill>
          <p:spPr>
            <a:xfrm>
              <a:off x="611280" y="2863080"/>
              <a:ext cx="1927800" cy="12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2" descr=""/>
            <p:cNvPicPr/>
            <p:nvPr/>
          </p:nvPicPr>
          <p:blipFill>
            <a:blip r:embed="rId4"/>
            <a:stretch/>
          </p:blipFill>
          <p:spPr>
            <a:xfrm>
              <a:off x="2692440" y="2547360"/>
              <a:ext cx="1484280" cy="159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3" descr=""/>
            <p:cNvPicPr/>
            <p:nvPr/>
          </p:nvPicPr>
          <p:blipFill>
            <a:blip r:embed="rId5"/>
            <a:stretch/>
          </p:blipFill>
          <p:spPr>
            <a:xfrm>
              <a:off x="4454280" y="2608560"/>
              <a:ext cx="2217960" cy="170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5" descr=""/>
            <p:cNvPicPr/>
            <p:nvPr/>
          </p:nvPicPr>
          <p:blipFill>
            <a:blip r:embed="rId6"/>
            <a:stretch/>
          </p:blipFill>
          <p:spPr>
            <a:xfrm>
              <a:off x="6825600" y="2547360"/>
              <a:ext cx="1913400" cy="156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"/>
          <p:cNvSpPr/>
          <p:nvPr/>
        </p:nvSpPr>
        <p:spPr>
          <a:xfrm>
            <a:off x="93600" y="4572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0672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155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50960" y="4365720"/>
            <a:ext cx="421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一条线段的垂线，垂足在 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线段上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线段的端点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线段的延长线上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以上都有可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40360" y="429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图，请你过点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出线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或射线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垂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画在课本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页上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4360" y="3357720"/>
            <a:ext cx="637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1640" y="3284640"/>
            <a:ext cx="57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627280" y="4076640"/>
            <a:ext cx="2879640" cy="10112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508720" y="1989000"/>
            <a:ext cx="57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2374920" cy="22129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5651640" y="2060640"/>
            <a:ext cx="849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4932360" y="1628640"/>
            <a:ext cx="259236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82760" y="44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回顾复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78880" y="476280"/>
            <a:ext cx="45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节课你学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4360" y="2583000"/>
            <a:ext cx="1707840" cy="7016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相交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48000" y="2781360"/>
            <a:ext cx="1295280" cy="7016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916360" y="1268280"/>
            <a:ext cx="2260440" cy="73980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线性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916360" y="4365720"/>
            <a:ext cx="2216160" cy="7016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垂线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484360" y="2800440"/>
            <a:ext cx="863640" cy="358560"/>
          </a:xfrm>
          <a:prstGeom prst="rightArrow">
            <a:avLst>
              <a:gd name="adj1" fmla="val 50000"/>
              <a:gd name="adj2" fmla="val 6021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16200000">
            <a:off x="3564000" y="2168280"/>
            <a:ext cx="863280" cy="358920"/>
          </a:xfrm>
          <a:prstGeom prst="rightArrow">
            <a:avLst>
              <a:gd name="adj1" fmla="val 50000"/>
              <a:gd name="adj2" fmla="val 6013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3527280" y="3752640"/>
            <a:ext cx="863640" cy="358560"/>
          </a:xfrm>
          <a:prstGeom prst="rightArrow">
            <a:avLst>
              <a:gd name="adj1" fmla="val 50000"/>
              <a:gd name="adj2" fmla="val 6021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007520" y="558972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在这节课中你还有什么疑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900000" y="1773360"/>
            <a:ext cx="719280" cy="302400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49000" y="1916280"/>
            <a:ext cx="103356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条直线相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619280" y="3141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123640" y="1125360"/>
            <a:ext cx="7308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95640" y="112536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124000" y="5516640"/>
            <a:ext cx="172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987640" y="836640"/>
            <a:ext cx="792360" cy="20876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136320" y="981000"/>
            <a:ext cx="60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1280" y="4941720"/>
            <a:ext cx="1225440" cy="936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95640" y="5084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80000" y="17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88000" y="69228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88000" y="69228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788000" y="299736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651640" y="404640"/>
            <a:ext cx="2520720" cy="9367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940360" y="765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96000" y="549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顶角：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80000" y="2421000"/>
            <a:ext cx="2808360" cy="8636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24360" y="256536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邻补角：互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076720" y="551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08720" y="4724280"/>
            <a:ext cx="2950920" cy="122580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24360" y="508464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垂线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124000" y="49989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特殊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050920" y="5589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交成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4395600" cy="330984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945880" y="579600"/>
            <a:ext cx="17528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1600200"/>
            <a:ext cx="800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人不慎掉入有鳄鱼的湖中。如图，他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，应选择什么样的路线尽快游到岸边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 flipH="1" rot="1011600">
            <a:off x="1618920" y="3933720"/>
            <a:ext cx="1228680" cy="11808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6443640" y="4581360"/>
            <a:ext cx="108108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3120" y="4533840"/>
            <a:ext cx="73080" cy="7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460640" y="4482720"/>
            <a:ext cx="102600" cy="104400"/>
            <a:chOff x="7460640" y="4482720"/>
            <a:chExt cx="102600" cy="104400"/>
          </a:xfrm>
        </p:grpSpPr>
        <p:sp>
          <p:nvSpPr>
            <p:cNvPr id="426" name=""/>
            <p:cNvSpPr/>
            <p:nvPr/>
          </p:nvSpPr>
          <p:spPr>
            <a:xfrm flipH="1" flipV="1">
              <a:off x="7460640" y="4485600"/>
              <a:ext cx="5760" cy="10152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61000" y="4482720"/>
              <a:ext cx="102240" cy="2880"/>
            </a:xfrm>
            <a:prstGeom prst="line">
              <a:avLst/>
            </a:prstGeom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4306 0.01873 L 0.31094 0.03978 E">
                                      <p:cBhvr>
                                        <p:cTn id="899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052640"/>
            <a:ext cx="8280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理解垂直及其有关概念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会用三角板、直尺过一点画已知直线的垂线；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掌握垂线的性质，并会运用所学知识进行简单的计算和推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7080" y="2095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学习目标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572000" y="836640"/>
            <a:ext cx="1584360" cy="1584360"/>
          </a:xfrm>
          <a:prstGeom prst="line">
            <a:avLst/>
          </a:prstGeom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836640"/>
            <a:ext cx="2808360" cy="1584360"/>
          </a:xfrm>
          <a:prstGeom prst="line">
            <a:avLst/>
          </a:prstGeom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4067280" y="836640"/>
            <a:ext cx="504720" cy="1511280"/>
          </a:xfrm>
          <a:prstGeom prst="line">
            <a:avLst/>
          </a:prstGeom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3059280" y="836640"/>
            <a:ext cx="1512720" cy="1584360"/>
          </a:xfrm>
          <a:prstGeom prst="line">
            <a:avLst/>
          </a:prstGeom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66560" y="321300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连接直线外一点与直线上各点的所有线段中，垂线段最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25640" y="3762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垂线段最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5280" y="522936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直线外一点到这条直线的</a:t>
            </a: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黑体"/>
              </a:rPr>
              <a:t>垂线段的长度</a:t>
            </a: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，叫做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点到直线的距离</a:t>
            </a:r>
            <a:r>
              <a:rPr b="1" lang="zh-CN" sz="3600" spc="-1" strike="noStrike">
                <a:solidFill>
                  <a:srgbClr val="06070e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835280" y="2421000"/>
            <a:ext cx="5976720" cy="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474720" y="809640"/>
            <a:ext cx="1066680" cy="160020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41760" y="809640"/>
            <a:ext cx="0" cy="160020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541760" y="809640"/>
            <a:ext cx="1067040" cy="160020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541760" y="2070000"/>
            <a:ext cx="380880" cy="339840"/>
            <a:chOff x="4541760" y="2070000"/>
            <a:chExt cx="380880" cy="339840"/>
          </a:xfrm>
        </p:grpSpPr>
        <p:sp>
          <p:nvSpPr>
            <p:cNvPr id="440" name=""/>
            <p:cNvSpPr/>
            <p:nvPr/>
          </p:nvSpPr>
          <p:spPr>
            <a:xfrm>
              <a:off x="4541760" y="2070000"/>
              <a:ext cx="380880" cy="0"/>
            </a:xfrm>
            <a:prstGeom prst="line">
              <a:avLst/>
            </a:prstGeom>
            <a:ln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22640" y="2070000"/>
              <a:ext cx="0" cy="339840"/>
            </a:xfrm>
            <a:prstGeom prst="line">
              <a:avLst/>
            </a:prstGeom>
            <a:ln w="6336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41760" y="809640"/>
            <a:ext cx="2438640" cy="1600200"/>
          </a:xfrm>
          <a:prstGeom prst="line">
            <a:avLst/>
          </a:prstGeom>
          <a:ln w="63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987640" y="115920"/>
            <a:ext cx="5254200" cy="2943720"/>
            <a:chOff x="2987640" y="115920"/>
            <a:chExt cx="5254200" cy="2943720"/>
          </a:xfrm>
        </p:grpSpPr>
        <p:grpSp>
          <p:nvGrpSpPr>
            <p:cNvPr id="444" name=""/>
            <p:cNvGrpSpPr/>
            <p:nvPr/>
          </p:nvGrpSpPr>
          <p:grpSpPr>
            <a:xfrm>
              <a:off x="3246480" y="115920"/>
              <a:ext cx="4995360" cy="2943720"/>
              <a:chOff x="3246480" y="115920"/>
              <a:chExt cx="4995360" cy="2943720"/>
            </a:xfrm>
          </p:grpSpPr>
          <p:sp>
            <p:nvSpPr>
              <p:cNvPr id="445" name=""/>
              <p:cNvSpPr/>
              <p:nvPr/>
            </p:nvSpPr>
            <p:spPr>
              <a:xfrm>
                <a:off x="4488120" y="11592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P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246480" y="233352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78240" y="24782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419800" y="247824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785360" y="2130480"/>
                <a:ext cx="456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fb4107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523200" y="2333520"/>
                <a:ext cx="83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40000"/>
                    </a:solidFill>
                    <a:latin typeface="Arial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987640" y="765360"/>
              <a:ext cx="4464000" cy="1726560"/>
              <a:chOff x="2987640" y="765360"/>
              <a:chExt cx="4464000" cy="1726560"/>
            </a:xfrm>
          </p:grpSpPr>
          <p:sp>
            <p:nvSpPr>
              <p:cNvPr id="452" name=""/>
              <p:cNvSpPr/>
              <p:nvPr/>
            </p:nvSpPr>
            <p:spPr>
              <a:xfrm>
                <a:off x="4500360" y="765360"/>
                <a:ext cx="144720" cy="14400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083280" y="2347560"/>
                <a:ext cx="14436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19280" y="2347560"/>
                <a:ext cx="14472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498920" y="2347560"/>
                <a:ext cx="14436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580000" y="2347560"/>
                <a:ext cx="14436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875280" y="2347560"/>
                <a:ext cx="14472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987640" y="2347560"/>
                <a:ext cx="14436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07280" y="2347560"/>
                <a:ext cx="14436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95640" y="2347560"/>
                <a:ext cx="144360" cy="144360"/>
              </a:xfrm>
              <a:prstGeom prst="ellipse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5435640" y="52354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段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长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484640" y="44370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黑体"/>
              </a:rPr>
              <a:t>简单说成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垂线段最短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78880" y="2708280"/>
            <a:ext cx="22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垂线的性质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549360"/>
            <a:ext cx="25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线段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到直线</a:t>
            </a:r>
            <a:r>
              <a:rPr b="1" i="1" lang="zh-CN" sz="2800" spc="-1" strike="noStrike">
                <a:solidFill>
                  <a:srgbClr val="fb4107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24000" y="33336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线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图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垂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我们就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线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叫做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到直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垂线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3124080"/>
            <a:ext cx="0" cy="152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038480" y="4495680"/>
            <a:ext cx="152280" cy="152280"/>
            <a:chOff x="4038480" y="4495680"/>
            <a:chExt cx="152280" cy="152280"/>
          </a:xfrm>
        </p:grpSpPr>
        <p:sp>
          <p:nvSpPr>
            <p:cNvPr id="468" name=""/>
            <p:cNvSpPr/>
            <p:nvPr/>
          </p:nvSpPr>
          <p:spPr>
            <a:xfrm>
              <a:off x="4038480" y="44956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90760" y="449568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371600" y="2685960"/>
            <a:ext cx="5353200" cy="2497680"/>
            <a:chOff x="1371600" y="2685960"/>
            <a:chExt cx="5353200" cy="2497680"/>
          </a:xfrm>
        </p:grpSpPr>
        <p:sp>
          <p:nvSpPr>
            <p:cNvPr id="471" name=""/>
            <p:cNvSpPr/>
            <p:nvPr/>
          </p:nvSpPr>
          <p:spPr>
            <a:xfrm>
              <a:off x="4100400" y="268596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71600" y="4647960"/>
              <a:ext cx="5334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962520" y="3047760"/>
              <a:ext cx="15228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85800" y="460224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249960" y="4525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63960" y="460224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3733920" y="3124080"/>
            <a:ext cx="304560" cy="1524240"/>
          </a:xfrm>
          <a:custGeom>
            <a:avLst/>
            <a:gdLst>
              <a:gd name="textAreaLeft" fmla="*/ 194760 w 304560"/>
              <a:gd name="textAreaRight" fmla="*/ 304920 w 3045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043080" y="2944080"/>
            <a:ext cx="729000" cy="19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垂线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8480" y="3124080"/>
            <a:ext cx="0" cy="1524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2209680"/>
            <a:ext cx="2438280" cy="2286000"/>
          </a:xfrm>
          <a:prstGeom prst="wedgeEllipseCallout">
            <a:avLst>
              <a:gd name="adj1" fmla="val 70703"/>
              <a:gd name="adj2" fmla="val 22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垂线与垂线段有何    区别和联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052720" y="1413000"/>
            <a:ext cx="698508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区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垂线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垂线段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线段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联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垂线和垂线段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垂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已知直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47080" y="5254560"/>
            <a:ext cx="6027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注    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到直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距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垂线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长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而不是垂线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  <p:sndAc>
      <p:stSnd>
        <p:snd r:embed="rId1" name="camera.wav"/>
      </p:stSnd>
    </p:sndAc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6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500"/>
                            </p:stCondLst>
                            <p:childTnLst>
                              <p:par>
                                <p:cTn id="10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4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36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拓 展 应 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rot="18114600">
            <a:off x="1914120" y="5689440"/>
            <a:ext cx="1316160" cy="74880"/>
          </a:xfrm>
          <a:prstGeom prst="rect">
            <a:avLst/>
          </a:prstGeom>
          <a:solidFill>
            <a:srgbClr val="a6e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97488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如图：要把水渠中的水引到水池</a:t>
            </a:r>
            <a:r>
              <a:rPr b="1" i="1" lang="en-US" sz="4000" spc="-1" strike="noStrike">
                <a:solidFill>
                  <a:srgbClr val="040000"/>
                </a:solidFill>
                <a:latin typeface="Arial"/>
                <a:ea typeface="楷体_GB2312"/>
              </a:rPr>
              <a:t>C</a:t>
            </a: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中，在渠岸的什么地方开沟，水沟的长度才能最短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0000"/>
                </a:solidFill>
                <a:latin typeface="楷体_GB2312"/>
                <a:ea typeface="楷体_GB2312"/>
              </a:rPr>
              <a:t>请画出图来，并说明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050920" y="4014720"/>
            <a:ext cx="3097080" cy="2376360"/>
            <a:chOff x="2050920" y="4014720"/>
            <a:chExt cx="3097080" cy="2376360"/>
          </a:xfrm>
        </p:grpSpPr>
        <p:sp>
          <p:nvSpPr>
            <p:cNvPr id="487" name=""/>
            <p:cNvSpPr/>
            <p:nvPr/>
          </p:nvSpPr>
          <p:spPr>
            <a:xfrm>
              <a:off x="2124000" y="6246720"/>
              <a:ext cx="144360" cy="144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2050920" y="4014720"/>
              <a:ext cx="3097080" cy="2160720"/>
              <a:chOff x="2050920" y="4014720"/>
              <a:chExt cx="3097080" cy="2160720"/>
            </a:xfrm>
          </p:grpSpPr>
          <p:sp>
            <p:nvSpPr>
              <p:cNvPr id="489" name=""/>
              <p:cNvSpPr/>
              <p:nvPr/>
            </p:nvSpPr>
            <p:spPr>
              <a:xfrm>
                <a:off x="2050920" y="4662360"/>
                <a:ext cx="2665440" cy="151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55640" y="4014720"/>
                <a:ext cx="2592360" cy="1440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未知"/>
              <p:cNvSpPr/>
              <p:nvPr/>
            </p:nvSpPr>
            <p:spPr>
              <a:xfrm>
                <a:off x="2627280" y="4157640"/>
                <a:ext cx="2278080" cy="1319040"/>
              </a:xfrm>
              <a:custGeom>
                <a:avLst/>
                <a:gdLst/>
                <a:ahLst/>
                <a:rect l="l" t="t" r="r" b="b"/>
                <a:pathLst>
                  <a:path w="1739" h="1005">
                    <a:moveTo>
                      <a:pt x="0" y="0"/>
                    </a:moveTo>
                    <a:cubicBezTo>
                      <a:pt x="11" y="32"/>
                      <a:pt x="19" y="75"/>
                      <a:pt x="45" y="101"/>
                    </a:cubicBezTo>
                    <a:cubicBezTo>
                      <a:pt x="106" y="162"/>
                      <a:pt x="229" y="162"/>
                      <a:pt x="305" y="169"/>
                    </a:cubicBezTo>
                    <a:cubicBezTo>
                      <a:pt x="336" y="190"/>
                      <a:pt x="384" y="261"/>
                      <a:pt x="395" y="293"/>
                    </a:cubicBezTo>
                    <a:cubicBezTo>
                      <a:pt x="404" y="319"/>
                      <a:pt x="409" y="340"/>
                      <a:pt x="429" y="361"/>
                    </a:cubicBezTo>
                    <a:cubicBezTo>
                      <a:pt x="491" y="424"/>
                      <a:pt x="632" y="413"/>
                      <a:pt x="700" y="418"/>
                    </a:cubicBezTo>
                    <a:cubicBezTo>
                      <a:pt x="725" y="426"/>
                      <a:pt x="749" y="430"/>
                      <a:pt x="768" y="452"/>
                    </a:cubicBezTo>
                    <a:cubicBezTo>
                      <a:pt x="825" y="517"/>
                      <a:pt x="805" y="566"/>
                      <a:pt x="870" y="610"/>
                    </a:cubicBezTo>
                    <a:cubicBezTo>
                      <a:pt x="905" y="719"/>
                      <a:pt x="1142" y="686"/>
                      <a:pt x="1197" y="689"/>
                    </a:cubicBezTo>
                    <a:cubicBezTo>
                      <a:pt x="1304" y="724"/>
                      <a:pt x="1316" y="913"/>
                      <a:pt x="1423" y="948"/>
                    </a:cubicBezTo>
                    <a:cubicBezTo>
                      <a:pt x="1491" y="994"/>
                      <a:pt x="1425" y="960"/>
                      <a:pt x="1547" y="960"/>
                    </a:cubicBezTo>
                    <a:cubicBezTo>
                      <a:pt x="1592" y="960"/>
                      <a:pt x="1638" y="967"/>
                      <a:pt x="1683" y="971"/>
                    </a:cubicBezTo>
                    <a:cubicBezTo>
                      <a:pt x="1727" y="985"/>
                      <a:pt x="1709" y="973"/>
                      <a:pt x="1739" y="100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未知"/>
              <p:cNvSpPr/>
              <p:nvPr/>
            </p:nvSpPr>
            <p:spPr>
              <a:xfrm>
                <a:off x="2484360" y="4375080"/>
                <a:ext cx="2374920" cy="1366920"/>
              </a:xfrm>
              <a:custGeom>
                <a:avLst/>
                <a:gdLst/>
                <a:ahLst/>
                <a:rect l="l" t="t" r="r" b="b"/>
                <a:pathLst>
                  <a:path w="1603" h="1005">
                    <a:moveTo>
                      <a:pt x="0" y="0"/>
                    </a:moveTo>
                    <a:cubicBezTo>
                      <a:pt x="7" y="11"/>
                      <a:pt x="13" y="24"/>
                      <a:pt x="22" y="34"/>
                    </a:cubicBezTo>
                    <a:cubicBezTo>
                      <a:pt x="32" y="44"/>
                      <a:pt x="48" y="46"/>
                      <a:pt x="56" y="57"/>
                    </a:cubicBezTo>
                    <a:cubicBezTo>
                      <a:pt x="116" y="133"/>
                      <a:pt x="6" y="52"/>
                      <a:pt x="101" y="113"/>
                    </a:cubicBezTo>
                    <a:cubicBezTo>
                      <a:pt x="172" y="218"/>
                      <a:pt x="235" y="195"/>
                      <a:pt x="361" y="204"/>
                    </a:cubicBezTo>
                    <a:cubicBezTo>
                      <a:pt x="376" y="226"/>
                      <a:pt x="397" y="246"/>
                      <a:pt x="406" y="271"/>
                    </a:cubicBezTo>
                    <a:cubicBezTo>
                      <a:pt x="433" y="352"/>
                      <a:pt x="409" y="326"/>
                      <a:pt x="463" y="362"/>
                    </a:cubicBezTo>
                    <a:cubicBezTo>
                      <a:pt x="490" y="445"/>
                      <a:pt x="573" y="434"/>
                      <a:pt x="643" y="452"/>
                    </a:cubicBezTo>
                    <a:cubicBezTo>
                      <a:pt x="666" y="458"/>
                      <a:pt x="688" y="467"/>
                      <a:pt x="711" y="475"/>
                    </a:cubicBezTo>
                    <a:cubicBezTo>
                      <a:pt x="722" y="479"/>
                      <a:pt x="745" y="486"/>
                      <a:pt x="745" y="486"/>
                    </a:cubicBezTo>
                    <a:cubicBezTo>
                      <a:pt x="756" y="494"/>
                      <a:pt x="770" y="498"/>
                      <a:pt x="779" y="509"/>
                    </a:cubicBezTo>
                    <a:cubicBezTo>
                      <a:pt x="825" y="567"/>
                      <a:pt x="747" y="519"/>
                      <a:pt x="813" y="576"/>
                    </a:cubicBezTo>
                    <a:cubicBezTo>
                      <a:pt x="864" y="620"/>
                      <a:pt x="946" y="677"/>
                      <a:pt x="1016" y="689"/>
                    </a:cubicBezTo>
                    <a:cubicBezTo>
                      <a:pt x="1058" y="696"/>
                      <a:pt x="1089" y="700"/>
                      <a:pt x="1129" y="712"/>
                    </a:cubicBezTo>
                    <a:cubicBezTo>
                      <a:pt x="1152" y="719"/>
                      <a:pt x="1197" y="734"/>
                      <a:pt x="1197" y="734"/>
                    </a:cubicBezTo>
                    <a:cubicBezTo>
                      <a:pt x="1212" y="757"/>
                      <a:pt x="1227" y="779"/>
                      <a:pt x="1242" y="802"/>
                    </a:cubicBezTo>
                    <a:cubicBezTo>
                      <a:pt x="1257" y="825"/>
                      <a:pt x="1310" y="847"/>
                      <a:pt x="1310" y="847"/>
                    </a:cubicBezTo>
                    <a:cubicBezTo>
                      <a:pt x="1349" y="908"/>
                      <a:pt x="1310" y="861"/>
                      <a:pt x="1366" y="893"/>
                    </a:cubicBezTo>
                    <a:cubicBezTo>
                      <a:pt x="1390" y="906"/>
                      <a:pt x="1408" y="930"/>
                      <a:pt x="1434" y="938"/>
                    </a:cubicBezTo>
                    <a:cubicBezTo>
                      <a:pt x="1457" y="945"/>
                      <a:pt x="1479" y="952"/>
                      <a:pt x="1502" y="960"/>
                    </a:cubicBezTo>
                    <a:cubicBezTo>
                      <a:pt x="1513" y="964"/>
                      <a:pt x="1525" y="968"/>
                      <a:pt x="1536" y="972"/>
                    </a:cubicBezTo>
                    <a:cubicBezTo>
                      <a:pt x="1556" y="979"/>
                      <a:pt x="1603" y="979"/>
                      <a:pt x="1603" y="100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未知"/>
              <p:cNvSpPr/>
              <p:nvPr/>
            </p:nvSpPr>
            <p:spPr>
              <a:xfrm>
                <a:off x="2340000" y="4654440"/>
                <a:ext cx="2592360" cy="1376280"/>
              </a:xfrm>
              <a:custGeom>
                <a:avLst/>
                <a:gdLst/>
                <a:ahLst/>
                <a:rect l="l" t="t" r="r" b="b"/>
                <a:pathLst>
                  <a:path w="1542" h="826">
                    <a:moveTo>
                      <a:pt x="6" y="0"/>
                    </a:moveTo>
                    <a:cubicBezTo>
                      <a:pt x="27" y="65"/>
                      <a:pt x="0" y="6"/>
                      <a:pt x="51" y="57"/>
                    </a:cubicBezTo>
                    <a:cubicBezTo>
                      <a:pt x="126" y="132"/>
                      <a:pt x="15" y="51"/>
                      <a:pt x="107" y="113"/>
                    </a:cubicBezTo>
                    <a:cubicBezTo>
                      <a:pt x="152" y="179"/>
                      <a:pt x="180" y="156"/>
                      <a:pt x="265" y="147"/>
                    </a:cubicBezTo>
                    <a:cubicBezTo>
                      <a:pt x="303" y="151"/>
                      <a:pt x="341" y="149"/>
                      <a:pt x="378" y="158"/>
                    </a:cubicBezTo>
                    <a:cubicBezTo>
                      <a:pt x="424" y="169"/>
                      <a:pt x="406" y="185"/>
                      <a:pt x="423" y="215"/>
                    </a:cubicBezTo>
                    <a:cubicBezTo>
                      <a:pt x="464" y="287"/>
                      <a:pt x="449" y="275"/>
                      <a:pt x="502" y="294"/>
                    </a:cubicBezTo>
                    <a:cubicBezTo>
                      <a:pt x="551" y="366"/>
                      <a:pt x="625" y="373"/>
                      <a:pt x="706" y="384"/>
                    </a:cubicBezTo>
                    <a:cubicBezTo>
                      <a:pt x="771" y="405"/>
                      <a:pt x="778" y="440"/>
                      <a:pt x="830" y="474"/>
                    </a:cubicBezTo>
                    <a:cubicBezTo>
                      <a:pt x="851" y="539"/>
                      <a:pt x="824" y="480"/>
                      <a:pt x="875" y="531"/>
                    </a:cubicBezTo>
                    <a:cubicBezTo>
                      <a:pt x="885" y="541"/>
                      <a:pt x="888" y="555"/>
                      <a:pt x="898" y="565"/>
                    </a:cubicBezTo>
                    <a:cubicBezTo>
                      <a:pt x="962" y="628"/>
                      <a:pt x="1098" y="616"/>
                      <a:pt x="1169" y="621"/>
                    </a:cubicBezTo>
                    <a:cubicBezTo>
                      <a:pt x="1206" y="646"/>
                      <a:pt x="1222" y="676"/>
                      <a:pt x="1259" y="700"/>
                    </a:cubicBezTo>
                    <a:cubicBezTo>
                      <a:pt x="1267" y="711"/>
                      <a:pt x="1272" y="725"/>
                      <a:pt x="1282" y="734"/>
                    </a:cubicBezTo>
                    <a:cubicBezTo>
                      <a:pt x="1303" y="752"/>
                      <a:pt x="1350" y="779"/>
                      <a:pt x="1350" y="779"/>
                    </a:cubicBezTo>
                    <a:cubicBezTo>
                      <a:pt x="1357" y="790"/>
                      <a:pt x="1359" y="811"/>
                      <a:pt x="1372" y="813"/>
                    </a:cubicBezTo>
                    <a:cubicBezTo>
                      <a:pt x="1449" y="826"/>
                      <a:pt x="1477" y="791"/>
                      <a:pt x="1542" y="79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"/>
          <p:cNvSpPr/>
          <p:nvPr/>
        </p:nvSpPr>
        <p:spPr>
          <a:xfrm>
            <a:off x="1219320" y="592776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17998800">
            <a:off x="2158920" y="4319280"/>
            <a:ext cx="1681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76320" y="228600"/>
            <a:ext cx="2286000" cy="6174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4643280" y="407664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隶书"/>
              </a:rPr>
              <a:t>垂线段最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0920" y="1177920"/>
            <a:ext cx="5715000" cy="520560"/>
          </a:xfrm>
          <a:prstGeom prst="rect">
            <a:avLst/>
          </a:pr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中宋"/>
              </a:rPr>
              <a:t>立定跳远中，体育老师是如何测量运动员的成绩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676160" y="4213080"/>
            <a:ext cx="3200760" cy="152280"/>
            <a:chOff x="1676160" y="4213080"/>
            <a:chExt cx="3200760" cy="152280"/>
          </a:xfrm>
        </p:grpSpPr>
        <p:sp>
          <p:nvSpPr>
            <p:cNvPr id="500" name=""/>
            <p:cNvSpPr/>
            <p:nvPr/>
          </p:nvSpPr>
          <p:spPr>
            <a:xfrm flipH="1">
              <a:off x="1676520" y="4213080"/>
              <a:ext cx="3200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1676160" y="4213080"/>
              <a:ext cx="152640" cy="152280"/>
              <a:chOff x="1676160" y="4213080"/>
              <a:chExt cx="152640" cy="152280"/>
            </a:xfrm>
          </p:grpSpPr>
          <p:sp>
            <p:nvSpPr>
              <p:cNvPr id="502" name=""/>
              <p:cNvSpPr/>
              <p:nvPr/>
            </p:nvSpPr>
            <p:spPr>
              <a:xfrm>
                <a:off x="1828800" y="421308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1676160" y="4365360"/>
                <a:ext cx="152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4" name=""/>
          <p:cNvSpPr/>
          <p:nvPr/>
        </p:nvSpPr>
        <p:spPr>
          <a:xfrm>
            <a:off x="4506840" y="2430360"/>
            <a:ext cx="3810240" cy="1143000"/>
          </a:xfrm>
          <a:prstGeom prst="wedgeRoundRectCallout">
            <a:avLst>
              <a:gd name="adj1" fmla="val -46666"/>
              <a:gd name="adj2" fmla="val 9222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ahoma"/>
              </a:rPr>
              <a:t>体育老师实际上测量的是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点到直线的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689880" y="314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1118880" y="2852640"/>
            <a:ext cx="6596280" cy="3733920"/>
            <a:chOff x="1118880" y="2852640"/>
            <a:chExt cx="6596280" cy="3733920"/>
          </a:xfrm>
        </p:grpSpPr>
        <p:sp>
          <p:nvSpPr>
            <p:cNvPr id="507" name=""/>
            <p:cNvSpPr/>
            <p:nvPr/>
          </p:nvSpPr>
          <p:spPr>
            <a:xfrm>
              <a:off x="1695240" y="3081240"/>
              <a:ext cx="0" cy="3505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95640" y="4071960"/>
              <a:ext cx="762120" cy="304560"/>
            </a:xfrm>
            <a:prstGeom prst="flowChartTerminator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00560" y="4681440"/>
              <a:ext cx="762120" cy="304920"/>
            </a:xfrm>
            <a:prstGeom prst="flowChartTerminator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18880" y="2852640"/>
              <a:ext cx="1033560" cy="22096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80836"/>
                  </a:solidFill>
                  <a:latin typeface="Tahoma"/>
                </a:rPr>
                <a:t>起跳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38640" y="4681440"/>
              <a:ext cx="1676520" cy="5814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ahoma"/>
                </a:rPr>
                <a:t>落脚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84480" y="-666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文鼎CS舒同体"/>
              </a:rPr>
              <a:t>小常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294920" y="0"/>
            <a:ext cx="66920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直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一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到直线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黑体"/>
              </a:rPr>
              <a:t>距离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指的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2080" y="1197000"/>
            <a:ext cx="71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垂线段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垂线段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14240" y="1844640"/>
            <a:ext cx="6853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垂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点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垂线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174160" y="692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257280" y="-3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250920" y="270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外一点，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=4cm,PB=5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=6cm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直线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距离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cm          B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cm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大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cm    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41440" y="3933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  <p:sndAc>
      <p:stSnd>
        <p:snd r:embed="rId1" name="camera.wav"/>
      </p:stSnd>
    </p:sndAc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9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0" y="190800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0" y="212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609480" y="762120"/>
            <a:ext cx="7620120" cy="48888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4643280" y="3500280"/>
            <a:ext cx="4141800" cy="2979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257280" y="-3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巩固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6212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85800" y="1295280"/>
            <a:ext cx="6858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相垂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相垂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垂线段是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是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长度是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距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295280" y="4036680"/>
            <a:ext cx="426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中正确的有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 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.   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5000" y="7650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468360" y="981000"/>
            <a:ext cx="8351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AC⊥BC, ∠C=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线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最短的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)   AC     (B)   BC     (C)  CD    (D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能确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276720" y="3789360"/>
            <a:ext cx="2555640" cy="1224000"/>
            <a:chOff x="3276720" y="3789360"/>
            <a:chExt cx="2555640" cy="1224000"/>
          </a:xfrm>
        </p:grpSpPr>
        <p:sp>
          <p:nvSpPr>
            <p:cNvPr id="531" name=""/>
            <p:cNvSpPr/>
            <p:nvPr/>
          </p:nvSpPr>
          <p:spPr>
            <a:xfrm>
              <a:off x="3276720" y="3789360"/>
              <a:ext cx="2555640" cy="12240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554360" y="3789360"/>
              <a:ext cx="0" cy="122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4554360" y="4940280"/>
              <a:ext cx="68040" cy="72720"/>
              <a:chOff x="4554360" y="4940280"/>
              <a:chExt cx="68040" cy="72720"/>
            </a:xfrm>
          </p:grpSpPr>
          <p:sp>
            <p:nvSpPr>
              <p:cNvPr id="534" name=""/>
              <p:cNvSpPr/>
              <p:nvPr/>
            </p:nvSpPr>
            <p:spPr>
              <a:xfrm>
                <a:off x="4554360" y="4940280"/>
                <a:ext cx="68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622400" y="4940280"/>
                <a:ext cx="0" cy="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6" name=""/>
            <p:cNvSpPr/>
            <p:nvPr/>
          </p:nvSpPr>
          <p:spPr>
            <a:xfrm>
              <a:off x="4487760" y="3862080"/>
              <a:ext cx="66240" cy="7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4554360" y="3861720"/>
              <a:ext cx="68040" cy="70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4502160" y="4938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774880" y="48672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834160" y="47973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08440" y="34304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916360" y="1484280"/>
            <a:ext cx="47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750960" y="2479680"/>
            <a:ext cx="2590560" cy="2209680"/>
          </a:xfrm>
          <a:prstGeom prst="cube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4724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66880" y="46483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40440" y="25527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83040" y="26956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78520" y="39625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767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916200" y="21337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30040" y="38098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90040" y="3733920"/>
            <a:ext cx="45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9480" y="43434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708360" y="83664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方正舒体"/>
                <a:ea typeface="方正舒体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长方体的顶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有一只蚂蚁想爬到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，请你帮它画出爬行的最佳路线。并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750960" y="3055680"/>
            <a:ext cx="2016000" cy="1657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708360" y="2924280"/>
            <a:ext cx="518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的蚂蚁想爬到棱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上，你认为它的最佳路线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80000" y="4365720"/>
            <a:ext cx="51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问题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若蚂蚁在点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处，想爬到棱</a:t>
            </a:r>
            <a:r>
              <a:rPr b="1" lang="en-US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BC</a:t>
            </a:r>
            <a:r>
              <a:rPr b="1" lang="zh-CN" sz="2800" spc="-1" strike="noStrike">
                <a:solidFill>
                  <a:srgbClr val="06070e"/>
                </a:solidFill>
                <a:latin typeface="楷体_GB2312"/>
                <a:ea typeface="楷体_GB2312"/>
              </a:rPr>
              <a:t>上，请你设计一条最佳路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62120" y="4114800"/>
            <a:ext cx="2057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50160" y="3733920"/>
            <a:ext cx="36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364480" y="40640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533520" y="457200"/>
            <a:ext cx="243828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你会设计吗？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"/>
          <p:cNvSpPr/>
          <p:nvPr/>
        </p:nvSpPr>
        <p:spPr>
          <a:xfrm>
            <a:off x="736560" y="4699080"/>
            <a:ext cx="2057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959120" y="609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732720" y="3213000"/>
            <a:ext cx="215640" cy="216000"/>
          </a:xfrm>
          <a:prstGeom prst="rect">
            <a:avLst/>
          </a:prstGeom>
          <a:solidFill>
            <a:srgbClr val="bbe0e3"/>
          </a:solidFill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844880" y="3399480"/>
            <a:ext cx="3600360" cy="208080"/>
            <a:chOff x="4844880" y="3399480"/>
            <a:chExt cx="3600360" cy="208080"/>
          </a:xfrm>
        </p:grpSpPr>
        <p:sp>
          <p:nvSpPr>
            <p:cNvPr id="66" name=""/>
            <p:cNvSpPr/>
            <p:nvPr/>
          </p:nvSpPr>
          <p:spPr>
            <a:xfrm>
              <a:off x="4844880" y="3427560"/>
              <a:ext cx="3600360" cy="144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9000000">
              <a:off x="6587280" y="3427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41160" y="2408760"/>
            <a:ext cx="3031920" cy="2183040"/>
            <a:chOff x="5141160" y="2408760"/>
            <a:chExt cx="3031920" cy="2183040"/>
          </a:xfrm>
        </p:grpSpPr>
        <p:sp>
          <p:nvSpPr>
            <p:cNvPr id="69" name=""/>
            <p:cNvSpPr/>
            <p:nvPr/>
          </p:nvSpPr>
          <p:spPr>
            <a:xfrm rot="19500000">
              <a:off x="4856760" y="3427920"/>
              <a:ext cx="360036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6900000">
              <a:off x="6598080" y="34160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387040" y="2125080"/>
            <a:ext cx="2539080" cy="2751480"/>
            <a:chOff x="5387040" y="2125080"/>
            <a:chExt cx="2539080" cy="2751480"/>
          </a:xfrm>
        </p:grpSpPr>
        <p:sp>
          <p:nvSpPr>
            <p:cNvPr id="72" name=""/>
            <p:cNvSpPr/>
            <p:nvPr/>
          </p:nvSpPr>
          <p:spPr>
            <a:xfrm rot="18750600">
              <a:off x="4856400" y="3428280"/>
              <a:ext cx="360036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6150600">
              <a:off x="6595560" y="34135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743440" y="1879920"/>
            <a:ext cx="1825200" cy="3242880"/>
            <a:chOff x="5743440" y="1879920"/>
            <a:chExt cx="1825200" cy="3242880"/>
          </a:xfrm>
        </p:grpSpPr>
        <p:sp>
          <p:nvSpPr>
            <p:cNvPr id="75" name=""/>
            <p:cNvSpPr/>
            <p:nvPr/>
          </p:nvSpPr>
          <p:spPr>
            <a:xfrm rot="17888400">
              <a:off x="4855680" y="3429000"/>
              <a:ext cx="3600360" cy="14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5288400">
              <a:off x="6591600" y="341064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106320" y="1748160"/>
            <a:ext cx="1098720" cy="3508560"/>
            <a:chOff x="6106320" y="1748160"/>
            <a:chExt cx="1098720" cy="3508560"/>
          </a:xfrm>
        </p:grpSpPr>
        <p:sp>
          <p:nvSpPr>
            <p:cNvPr id="78" name=""/>
            <p:cNvSpPr/>
            <p:nvPr/>
          </p:nvSpPr>
          <p:spPr>
            <a:xfrm rot="17127600">
              <a:off x="4855320" y="3430080"/>
              <a:ext cx="3600360" cy="144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4527600">
              <a:off x="6587640" y="3409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6555600" y="1703520"/>
            <a:ext cx="207720" cy="3600360"/>
            <a:chOff x="6555600" y="1703520"/>
            <a:chExt cx="207720" cy="3600360"/>
          </a:xfrm>
        </p:grpSpPr>
        <p:sp>
          <p:nvSpPr>
            <p:cNvPr id="81" name=""/>
            <p:cNvSpPr/>
            <p:nvPr/>
          </p:nvSpPr>
          <p:spPr>
            <a:xfrm rot="5400000">
              <a:off x="4862880" y="3431520"/>
              <a:ext cx="3600360" cy="144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4400000">
              <a:off x="6582960" y="3445920"/>
              <a:ext cx="152280" cy="1522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537200" y="981000"/>
            <a:ext cx="541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在相交线的模型中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固定木条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a,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转动木条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3720" y="2852640"/>
            <a:ext cx="240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当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α=90°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时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互相垂直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628640"/>
            <a:ext cx="47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当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位置变化时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,a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所成的角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α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也会发生变化</a:t>
            </a: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3800" y="522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垂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41960" y="5373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垂直是相交的特殊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5589720"/>
            <a:ext cx="1081440" cy="0"/>
          </a:xfrm>
          <a:prstGeom prst="line">
            <a:avLst/>
          </a:prstGeom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270600">
            <a:off x="3708000" y="259920"/>
            <a:ext cx="2413080" cy="6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观察思考</a:t>
            </a:r>
            <a:endParaRPr b="0" i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90" name=""/>
          <p:cNvSpPr/>
          <p:nvPr/>
        </p:nvSpPr>
        <p:spPr>
          <a:xfrm>
            <a:off x="7185960" y="2924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中宋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9800" y="285264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02520" y="3429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86520" y="1916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95920" y="16542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46680" y="15541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5800" y="162576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052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垂直定义：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当两条直线相交所成的四个角中，有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华文新魏"/>
              </a:rPr>
              <a:t>一个角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是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华文新魏"/>
              </a:rPr>
              <a:t>直角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时，这两条直线互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垂直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，其中一条直线叫另一条直线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垂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，它们的交点叫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新魏"/>
              </a:rPr>
              <a:t>垂足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3098880"/>
            <a:ext cx="47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例如、如图，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互相垂直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,O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叫垂足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.a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叫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的垂线，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也叫</a:t>
            </a:r>
            <a:r>
              <a:rPr b="1" lang="en-US" sz="3200" spc="-1" strike="noStrike">
                <a:solidFill>
                  <a:srgbClr val="6600ff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6600ff"/>
                </a:solidFill>
                <a:latin typeface="Arial"/>
                <a:ea typeface="华文新魏"/>
              </a:rPr>
              <a:t>的垂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012000" y="2379600"/>
            <a:ext cx="2271960" cy="2201760"/>
            <a:chOff x="6012000" y="2379600"/>
            <a:chExt cx="2271960" cy="2201760"/>
          </a:xfrm>
        </p:grpSpPr>
        <p:sp>
          <p:nvSpPr>
            <p:cNvPr id="100" name=""/>
            <p:cNvSpPr/>
            <p:nvPr/>
          </p:nvSpPr>
          <p:spPr>
            <a:xfrm>
              <a:off x="7020000" y="3502080"/>
              <a:ext cx="144360" cy="14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12000" y="3645000"/>
              <a:ext cx="2089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20000" y="2636640"/>
              <a:ext cx="0" cy="19447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821360" y="3084480"/>
              <a:ext cx="462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78960" y="2379600"/>
              <a:ext cx="43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20640" y="3544920"/>
              <a:ext cx="54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821240" y="48420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Arial"/>
                <a:ea typeface="华文新魏"/>
              </a:rPr>
              <a:t>一、垂直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4654440"/>
            <a:ext cx="8066160" cy="2087640"/>
          </a:xfrm>
          <a:prstGeom prst="wedgeRoundRectCallout">
            <a:avLst>
              <a:gd name="adj1" fmla="val -28587"/>
              <a:gd name="adj2" fmla="val -49240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从垂直的定义可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判断两条直线互相垂直的关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只要找到两条直线相交时四个交角中一个角是直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020000" y="3141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12000" y="3284640"/>
            <a:ext cx="2089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0000" y="2276640"/>
            <a:ext cx="0" cy="165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1360" y="2724120"/>
            <a:ext cx="4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978600" y="2019240"/>
            <a:ext cx="4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2720" y="3284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用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”和直线字母表示垂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20640" y="3184560"/>
            <a:ext cx="5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宋体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9560" y="2708280"/>
            <a:ext cx="5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78136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新魏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垂直的表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128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例如、如图，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、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互相垂直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垂足为</a:t>
            </a:r>
            <a:r>
              <a:rPr b="1" lang="en-US" sz="3200" spc="-1" strike="noStrike">
                <a:solidFill>
                  <a:srgbClr val="cc0066"/>
                </a:solidFill>
                <a:latin typeface="Arial"/>
                <a:ea typeface="华文新魏"/>
              </a:rPr>
              <a:t>O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，则记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49417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b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⊥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5661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华文新魏"/>
              </a:rPr>
              <a:t>若要强调垂足，则记为：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⊥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b,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新魏"/>
              </a:rPr>
              <a:t>垂足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826920" y="1341360"/>
            <a:ext cx="2763720" cy="2392200"/>
            <a:chOff x="826920" y="1341360"/>
            <a:chExt cx="2763720" cy="2392200"/>
          </a:xfrm>
        </p:grpSpPr>
        <p:sp>
          <p:nvSpPr>
            <p:cNvPr id="121" name=""/>
            <p:cNvSpPr/>
            <p:nvPr/>
          </p:nvSpPr>
          <p:spPr>
            <a:xfrm>
              <a:off x="2916000" y="1628640"/>
              <a:ext cx="67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826920" y="1341360"/>
              <a:ext cx="2142720" cy="2392200"/>
              <a:chOff x="826920" y="1341360"/>
              <a:chExt cx="2142720" cy="2392200"/>
            </a:xfrm>
          </p:grpSpPr>
          <p:sp>
            <p:nvSpPr>
              <p:cNvPr id="123" name=""/>
              <p:cNvSpPr/>
              <p:nvPr/>
            </p:nvSpPr>
            <p:spPr>
              <a:xfrm flipH="1">
                <a:off x="1145520" y="1805040"/>
                <a:ext cx="1824120" cy="128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550880" y="1730160"/>
                <a:ext cx="1081080" cy="173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1888560" y="2106360"/>
                <a:ext cx="20340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092320" y="2106360"/>
                <a:ext cx="134640" cy="227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26920" y="2923920"/>
                <a:ext cx="539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476360" y="1341360"/>
                <a:ext cx="6080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55640" y="3213000"/>
                <a:ext cx="406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50920" y="2276280"/>
                <a:ext cx="674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"/>
          <p:cNvSpPr/>
          <p:nvPr/>
        </p:nvSpPr>
        <p:spPr>
          <a:xfrm>
            <a:off x="0" y="4495680"/>
            <a:ext cx="4705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作：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N⊥EF 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垂足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MN⊥EF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00720" y="981000"/>
            <a:ext cx="3671280" cy="2465280"/>
            <a:chOff x="4500720" y="981000"/>
            <a:chExt cx="3671280" cy="2465280"/>
          </a:xfrm>
        </p:grpSpPr>
        <p:sp>
          <p:nvSpPr>
            <p:cNvPr id="133" name=""/>
            <p:cNvSpPr/>
            <p:nvPr/>
          </p:nvSpPr>
          <p:spPr>
            <a:xfrm>
              <a:off x="4716360" y="2924280"/>
              <a:ext cx="30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88000" y="1341360"/>
              <a:ext cx="0" cy="158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88000" y="270828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04000" y="2708280"/>
              <a:ext cx="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0720" y="2852640"/>
              <a:ext cx="79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524720" y="2852640"/>
              <a:ext cx="64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72000" y="29257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27640" y="981000"/>
              <a:ext cx="72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648320" y="4419720"/>
            <a:ext cx="4271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⊥O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垂足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⊥OE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16000" y="1773360"/>
            <a:ext cx="7215120" cy="35557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78408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日常生活中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两条直线互相垂直的情形很常见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说出图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5.1-6</a:t>
            </a: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中的一些互相垂直的线条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9440" y="537048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你能再举出其他例子吗</a:t>
            </a:r>
            <a:r>
              <a:rPr b="1" lang="en-US" sz="3200" spc="-1" strike="noStrike">
                <a:solidFill>
                  <a:srgbClr val="cc0066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2268360" y="1484280"/>
            <a:ext cx="4248000" cy="4817880"/>
            <a:chOff x="2268360" y="1484280"/>
            <a:chExt cx="4248000" cy="481788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268360" y="1484280"/>
              <a:ext cx="4248000" cy="410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135240" y="5844600"/>
              <a:ext cx="2949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792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生活中的垂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03244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75136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47208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120080" y="6381720"/>
            <a:ext cx="476280" cy="476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8244000" y="6381720"/>
            <a:ext cx="431640" cy="4190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667640" y="6381720"/>
            <a:ext cx="4762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01:34:17Z</dcterms:created>
  <dc:creator>zhangxiangfeng</dc:creator>
  <dc:description/>
  <cp:keywords/>
  <dc:language>en-US</dc:language>
  <cp:lastModifiedBy>15</cp:lastModifiedBy>
  <cp:lastPrinted>1899-12-30T00:00:00Z</cp:lastPrinted>
  <dcterms:modified xsi:type="dcterms:W3CDTF">2015-03-03T01:08:45Z</dcterms:modified>
  <cp:revision>1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