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whoosh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984-D51E-401E-B80E-2906E7DE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415-12C2-4419-B1DA-E622BED6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725AA-52DF-4DC6-BFC1-A7E787E8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54900-28C2-405B-8286-6DDDAA00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97F3D-5063-4BF5-80E6-3918ADDC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B0955-DB04-4D15-925A-4982F70B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4F9DC-DF77-458C-88D9-9D05D25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E7FF3-5902-4150-9D3A-28171A02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57067-F4FF-43A4-B57A-7836AB35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CCCEE-CD64-4B4D-9503-D6D6952E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031E7-CC8A-40C7-B8B1-1CB46286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895FC-63FE-4D85-9626-0346D33D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ECB-64BE-4A9A-8369-2B6B8480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ED7C3-9A88-4507-B6DD-C5F9425A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13F00-98CB-44C4-A417-27D665F7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6D871-8BB5-4BC3-B526-2C6F12E9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0AA07-FA23-4F87-9851-2607E915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7AA98-C81F-4FBB-AF39-E8CD303B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D6E3A-D64A-4BA2-B77B-7F85DF7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20A4D-5743-478F-8C33-4372A45B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223C2-A6EF-469D-B4E1-448C63F3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78342-A6E3-4FD6-9DDE-3358C91E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DC110-9BF9-45B5-8D8C-C38371FA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B7D-3C17-40F6-9433-D48D9754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FF095-ECA3-448D-9E27-0CBA6892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3EA1E-07FF-4E4B-84F6-386D69FF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F0277-4EAF-4B58-9923-C24984C9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C5A1F-7C68-4CA6-BDE7-6710DC08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804AC-9FA6-4348-838C-38445CC1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2444B-44B6-4C63-BC84-14EA8055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C2012-992E-4E39-8DF1-363BA393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4A78F-D694-4ED8-A81F-E84E4A4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84D88-7BD5-468E-9A32-EF905019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7607E-8313-4F7D-B20E-D0334C8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CDAD-D237-465B-A534-59F8B691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2C0DE-C741-4E70-8783-5E73253B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BCFA6-A8EA-43DB-9601-EFC10D65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09F18-2746-46C4-8DB5-C7C1F7AB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F935-0D0E-4EDF-BCF3-0A5A25EF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7157-07E6-44FA-A8CA-0D5D23CA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7B03-A867-4634-9582-87FF062E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C0AA-4C9A-4765-95EF-A9CA01F9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A7FA-32DD-4398-A2DA-5A543BE9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7EB6-DD17-4C10-B574-114E4EF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8AB-4D26-499C-A1BD-2F43014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9801-6ECF-4AAB-9622-875D0E08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D03D-46B5-448A-A4C5-DF2F6C8D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55B8-319F-4BDD-B859-F0D1C7A7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7EEC-3ED0-440C-A933-A24761E7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BFFB-6197-4BCF-A333-4FA64F97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E9969-0886-489B-9D30-1A6BA3EF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2C01-F771-47A2-B417-D5A696A2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1B1C-0757-4ECB-BFDE-DF6DC9A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4453-62D7-497C-8B36-052AB6CB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0BBD-8AB8-4A27-8543-CDD67F45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089-39E6-4056-8D8B-2659C65A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E888-EC10-4144-BD65-5A3997D9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A4C6-0237-485F-AC30-822219EF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5B41-0F7B-4B55-959E-C14AC9A1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CF6B-8785-498F-9D47-B2C1F4A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34FB-EAA9-4ABE-A2D4-2B3AC69B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F987E-65FA-4FD5-974A-834E0D74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BFC6-214C-41FC-AE31-45640651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641A3-D3AC-4A77-A3F3-0273338D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9493-3C13-4D48-9275-88B750DC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BBFE2-A54D-4E4E-84CE-BDFF0525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1D1-32D7-4051-B04D-3A1CA2D7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1CEC8-552D-4172-94C7-7F22F7E7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5D6FE-D684-4F4D-A082-64591342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91FFE-7C10-4453-B3D0-DC130D78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CFE06-D46A-4E45-8348-9D2ADFA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8EE3-1B23-439A-9BD2-8CE6CADE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0630A-98EC-410D-B3F5-D5D2876A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410D-BA29-4151-9346-4355FDF2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D0B0-710F-4DD1-9904-DE1CEE12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96421-70DB-4252-B536-4009C679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07C1-D6E3-4361-92D2-375E340F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571-756C-420C-88F9-F47E3AD5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73167-D818-4645-BF68-9495C2D0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D14E3-8EEC-46A4-B67F-5D41AB1F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34CE7-3995-4C46-B827-4414AB89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45469-C702-45F7-8368-DE17913E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7FACA-C97E-4CDD-8BB2-9F66E701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ECF94-45CF-4282-989B-623F9BFC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67B1E-56EC-4AF2-9956-A8944867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BB4EA-A2C4-4FCC-8BA5-98CCAD3B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E2D81-1E80-402B-BF0B-D493E40A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C0B21-F2AF-4FC5-92DA-F859DB01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1B7-170A-43C9-8CE3-0A763312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79BF0-8D3A-4C71-A62E-333C0F15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F252E-C161-4B9F-AF31-311A3BE0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A45A8-DFF8-423F-B4A4-B8C285DA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45B1E-633C-4606-872E-3C915799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CE68B-78C1-4872-A32D-69D582FE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C8DE1-2F67-4F48-93F1-91DE382D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312CC-0668-428A-880B-47F8FADD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31019-A0CD-4ECE-8CC9-8AACEC7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8D3C7-EACB-4035-B1E2-9BD1DD4E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22678-8AF5-4DB6-889A-BFCAB45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0B5-43B6-47C6-A238-B8464A3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F9E42-6762-4D69-97E6-D64CA370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EC975-2557-4EE1-BC53-9319B045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B89A5-474C-4DEB-9E7E-F1E3EB88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A2DFE-97C2-492D-B77E-A4E2B603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6EBAC-BAF2-4724-8E9E-09454B7C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3D2BC-92F2-483B-B34D-5BD3B0E3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DE855-8B64-45FF-81B2-EE9D0A56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3CE73-8FC4-4744-A8D9-F275E233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3D949-5F18-4928-B7CE-254F1D5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244C9-F41F-443E-ADAD-B73DEFDE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1BE-02BE-4CC9-A2A7-8F1C1CB8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DE8D6-886C-422E-8768-ECEEDF4B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3B388-367E-446E-9739-6396A855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BF2C0-C9DB-46A6-9256-9A39E545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332C1-B244-470F-90A3-A8A29D33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7630C-85B7-4CCD-835C-2306A1D9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42268-9FF0-4D6D-A008-BB1D0902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7F85D-8C7D-4F96-AC58-53F0754D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7BFD4-E7A1-4867-B543-37A1218A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F125-59AF-4D05-B5F8-EBDE4292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BF4AF-BBB3-4D63-9961-C6A5C4CB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922-3E98-4E6F-9E5B-F208C3C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89188-97C8-468E-B46B-3B65167B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B07CE-E11F-49E2-AC7B-2BBE7B61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4896E-0847-4C55-B54C-E8867218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91990-8C30-424B-8496-D83BEAE5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F7101-1F74-406C-B843-231BF6FF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7AA91-12E2-4C5E-B254-3D9E365A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0688B-0D40-4F6A-B24C-7256A72E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06D1D-FD29-4B59-A80A-B4485A63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3DD86-7F9D-4B03-84F3-C5860C84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7F7D1-95CB-4B0F-A6EF-E7C9838A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79BF-C1D5-41D7-BD82-5FEEB38ACD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4D48-538B-44D5-8D56-60BDBAE9C2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B693-E41C-43B5-820B-CF49F908B6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23E6-F883-4116-8087-2AA13A3A5C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80D7-5EED-4658-A12A-C99B8AD7E6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FE04-F3DB-4E80-8380-303CFE86B3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E522-EEFE-451C-B096-9131E63544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A151-FA3F-4004-B2ED-9887E7C56D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278B-A110-496A-8B31-9CC628FE99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0307-0F1E-46E6-8B3C-17C0D3EE77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67C8-3E8E-4269-9AA5-2815150EF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f163.com/zhuanti/chang_hen_ge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279,24,&#24187;&#28783;&#29255; 24" TargetMode="External"/><Relationship Id="rId2" Type="http://schemas.openxmlformats.org/officeDocument/2006/relationships/hyperlink" Target="280,25,&#24187;&#28783;&#29255; 25" TargetMode="External"/><Relationship Id="rId3" Type="http://schemas.openxmlformats.org/officeDocument/2006/relationships/hyperlink" Target="281,26,&#24187;&#28783;&#29255; 26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112641"/>
          <p:cNvSpPr/>
          <p:nvPr/>
        </p:nvSpPr>
        <p:spPr>
          <a:xfrm>
            <a:off x="5089320" y="18435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以意逆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112642"/>
          <p:cNvSpPr/>
          <p:nvPr/>
        </p:nvSpPr>
        <p:spPr>
          <a:xfrm>
            <a:off x="5233680" y="32835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知人论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12643"/>
          <p:cNvSpPr/>
          <p:nvPr/>
        </p:nvSpPr>
        <p:spPr>
          <a:xfrm>
            <a:off x="2917440" y="5228640"/>
            <a:ext cx="411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中国古代诗歌散文鉴赏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华文新魏"/>
              </a:rPr>
              <a:t>》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121857"/>
          <p:cNvSpPr txBox="1"/>
          <p:nvPr/>
        </p:nvSpPr>
        <p:spPr>
          <a:xfrm>
            <a:off x="539640" y="333360"/>
            <a:ext cx="4176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知人论世，背景介绍： </a:t>
            </a:r>
            <a:endParaRPr b="1" lang="en-US" sz="32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4" name="矩形 121858"/>
          <p:cNvSpPr/>
          <p:nvPr/>
        </p:nvSpPr>
        <p:spPr>
          <a:xfrm>
            <a:off x="395280" y="2906280"/>
            <a:ext cx="835344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首诗创作于元和元年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806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，白居易与陈鸿、王质夫同游仙游寺，说起了当地流传已久的唐玄宗与杨贵妃悲欢离合的故事，大家都为之唏嘘不已，王质夫举着一杯酒来到白居易面前，说：“这种旷世之事，如果没有文笔出众的人来记录、润色，就会随着时间的流逝而磨灭，从世上消失。你深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谙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诗之道，情感丰富，你试着为这个故事写一首诗，如何？”白居易于是写下了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长恨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122881"/>
          <p:cNvSpPr txBox="1"/>
          <p:nvPr/>
        </p:nvSpPr>
        <p:spPr>
          <a:xfrm>
            <a:off x="890640" y="333360"/>
            <a:ext cx="245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故事背景介绍： 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6" name="矩形 122882"/>
          <p:cNvSpPr/>
          <p:nvPr/>
        </p:nvSpPr>
        <p:spPr>
          <a:xfrm>
            <a:off x="4716360" y="32288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杨玉环是蜀州司户杨玄瑛的女儿，随叔父杨玄琰入长安，及笄，嫁与玄宗第十四个儿子寿王李瑁为妃。后被李隆基看中。李欲将杨占为已有，又碍于名分，于是，让她出宫做女道士，而后再迎归宫中，掩耳盗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122883" descr="guifei"/>
          <p:cNvPicPr/>
          <p:nvPr/>
        </p:nvPicPr>
        <p:blipFill>
          <a:blip r:embed="rId1"/>
          <a:stretch/>
        </p:blipFill>
        <p:spPr>
          <a:xfrm>
            <a:off x="395280" y="1197000"/>
            <a:ext cx="3384720" cy="4537080"/>
          </a:xfrm>
          <a:prstGeom prst="rect">
            <a:avLst/>
          </a:prstGeom>
          <a:ln w="0">
            <a:noFill/>
          </a:ln>
        </p:spPr>
      </p:pic>
      <p:sp>
        <p:nvSpPr>
          <p:cNvPr id="498" name="文本框 122884"/>
          <p:cNvSpPr/>
          <p:nvPr/>
        </p:nvSpPr>
        <p:spPr>
          <a:xfrm>
            <a:off x="826920" y="5805360"/>
            <a:ext cx="20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李杨之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杨家显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三姐妹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→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韩国夫人、虢国夫人、秦国夫人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哥哥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→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殿中少监      父亲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→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齐国公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母亲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→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凉国夫人    堂哥杨国忠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→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右丞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京城歌谣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生女勿酸悲  生男勿喜欢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男不封侯女作妃  看女却为门上楣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123908" descr="长恨歌1"/>
          <p:cNvPicPr/>
          <p:nvPr/>
        </p:nvPicPr>
        <p:blipFill>
          <a:blip r:embed="rId1"/>
          <a:stretch/>
        </p:blipFill>
        <p:spPr>
          <a:xfrm>
            <a:off x="7308720" y="3284640"/>
            <a:ext cx="1619280" cy="2492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图片 124929" descr="长恨歌1"/>
          <p:cNvPicPr/>
          <p:nvPr/>
        </p:nvPicPr>
        <p:blipFill>
          <a:blip r:embed="rId1"/>
          <a:stretch/>
        </p:blipFill>
        <p:spPr>
          <a:xfrm>
            <a:off x="34920" y="1440"/>
            <a:ext cx="2881440" cy="68151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2773080" y="261720"/>
            <a:ext cx="6264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马嵬兵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宝十四年，安禄山起兵范阳，六郡附之。次年长安失守，玄宗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宫女出逃，大将陈玄礼护驾，西行至马嵬驿，将士们怨恨杨氏兄妹，不肯前进，诬说杨国忠通敌谋反而杀之，陈又对皇帝说“既然杨国忠通敌，杨贵妃也不宜留下。”李隆基无可奈何，用白绫让其自缢  时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，已追随皇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125953" descr="GFGGG"/>
          <p:cNvPicPr/>
          <p:nvPr/>
        </p:nvPicPr>
        <p:blipFill>
          <a:blip r:embed="rId1"/>
          <a:stretch/>
        </p:blipFill>
        <p:spPr>
          <a:xfrm>
            <a:off x="-1544760" y="0"/>
            <a:ext cx="481968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文本框 125954"/>
          <p:cNvSpPr/>
          <p:nvPr/>
        </p:nvSpPr>
        <p:spPr>
          <a:xfrm>
            <a:off x="3780000" y="0"/>
            <a:ext cx="5113080" cy="62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听录音，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ff"/>
                </a:solidFill>
                <a:latin typeface="Arial"/>
              </a:rPr>
              <a:t>恨的意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谁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恨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为什么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5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怎么表现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       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宫（    ）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霓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临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）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鼓（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仙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       衣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       钗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干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约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    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à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宫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霓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á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临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ió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鼓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仙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è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    衣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à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è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钗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é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干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á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约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u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129025" descr="长恨歌1"/>
          <p:cNvPicPr/>
          <p:nvPr/>
        </p:nvPicPr>
        <p:blipFill>
          <a:blip r:embed="rId1"/>
          <a:stretch/>
        </p:blipFill>
        <p:spPr>
          <a:xfrm>
            <a:off x="7451640" y="1844640"/>
            <a:ext cx="1403280" cy="2376360"/>
          </a:xfrm>
          <a:prstGeom prst="rect">
            <a:avLst/>
          </a:prstGeom>
          <a:ln w="0">
            <a:noFill/>
          </a:ln>
        </p:spPr>
      </p:pic>
      <p:sp>
        <p:nvSpPr>
          <p:cNvPr id="511" name="文本框 129026"/>
          <p:cNvSpPr/>
          <p:nvPr/>
        </p:nvSpPr>
        <p:spPr>
          <a:xfrm>
            <a:off x="68580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长恨歌，就是歌长恨，恨是什么意思？谁恨？恨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29027"/>
          <p:cNvSpPr txBox="1"/>
          <p:nvPr/>
        </p:nvSpPr>
        <p:spPr>
          <a:xfrm>
            <a:off x="0" y="228600"/>
            <a:ext cx="9572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13" name="文本框 129028"/>
          <p:cNvSpPr/>
          <p:nvPr/>
        </p:nvSpPr>
        <p:spPr>
          <a:xfrm>
            <a:off x="755640" y="1844640"/>
            <a:ext cx="78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遗憾。长恨：长久的遗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129029"/>
          <p:cNvSpPr/>
          <p:nvPr/>
        </p:nvSpPr>
        <p:spPr>
          <a:xfrm>
            <a:off x="914400" y="306864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隆基  杨贵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129030"/>
          <p:cNvSpPr/>
          <p:nvPr/>
        </p:nvSpPr>
        <p:spPr>
          <a:xfrm>
            <a:off x="914400" y="4221000"/>
            <a:ext cx="708660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恨什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彼此相爱却不能在一起，最终杨贵妃身死，而李隆基退位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图片 130049" descr="长恨歌1"/>
          <p:cNvPicPr/>
          <p:nvPr/>
        </p:nvPicPr>
        <p:blipFill>
          <a:blip r:embed="rId1"/>
          <a:stretch/>
        </p:blipFill>
        <p:spPr>
          <a:xfrm>
            <a:off x="6993000" y="3789360"/>
            <a:ext cx="2151000" cy="277956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30050"/>
          <p:cNvSpPr/>
          <p:nvPr/>
        </p:nvSpPr>
        <p:spPr>
          <a:xfrm>
            <a:off x="-1093680" y="1197000"/>
            <a:ext cx="2374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为什么恨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30051"/>
          <p:cNvSpPr/>
          <p:nvPr/>
        </p:nvSpPr>
        <p:spPr>
          <a:xfrm>
            <a:off x="1547640" y="333360"/>
            <a:ext cx="759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哪一句集中描写了杨玉环的美貌？运用了什么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李隆基对杨贵妃的宠爱表现在哪些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重墨渲染玉环受到的专宠意在表达什么思想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造成恨的原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130052"/>
          <p:cNvSpPr txBox="1"/>
          <p:nvPr/>
        </p:nvSpPr>
        <p:spPr>
          <a:xfrm>
            <a:off x="0" y="0"/>
            <a:ext cx="9572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07640" y="1052640"/>
            <a:ext cx="8785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一句集中描写了杨玉环的美貌？运用了     什么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808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8080ff"/>
                </a:solidFill>
                <a:latin typeface="Arial"/>
              </a:rPr>
              <a:t>回眸一笑百媚生，六宫粉黛无颜色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8080ff"/>
                </a:solidFill>
                <a:latin typeface="Arial"/>
              </a:rPr>
              <a:t>运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夸张和对比</a:t>
            </a:r>
            <a:r>
              <a:rPr b="1" lang="zh-CN" sz="3200" spc="-1" strike="noStrike">
                <a:solidFill>
                  <a:srgbClr val="8080ff"/>
                </a:solidFill>
                <a:latin typeface="Arial"/>
              </a:rPr>
              <a:t>，反衬出杨玉环倾国倾城   的美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131074"/>
          <p:cNvSpPr txBox="1"/>
          <p:nvPr/>
        </p:nvSpPr>
        <p:spPr>
          <a:xfrm>
            <a:off x="611280" y="333360"/>
            <a:ext cx="180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思考：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934560" y="3644640"/>
            <a:ext cx="78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隆基对杨贵妃的宠爱表现在哪些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31076"/>
          <p:cNvSpPr/>
          <p:nvPr/>
        </p:nvSpPr>
        <p:spPr>
          <a:xfrm>
            <a:off x="976320" y="4292640"/>
            <a:ext cx="77724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ff"/>
                </a:solidFill>
                <a:latin typeface="Arial"/>
                <a:ea typeface="宋体"/>
              </a:rPr>
              <a:t>从此君王不早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ff"/>
                </a:solidFill>
                <a:latin typeface="Arial"/>
                <a:ea typeface="宋体"/>
              </a:rPr>
              <a:t>三千宠爱在一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ff"/>
                </a:solidFill>
                <a:latin typeface="Arial"/>
                <a:ea typeface="宋体"/>
              </a:rPr>
              <a:t>姊妹弟兄皆列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ff"/>
                </a:solidFill>
                <a:latin typeface="Arial"/>
                <a:ea typeface="宋体"/>
              </a:rPr>
              <a:t>不重生男重生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右大括号 131077"/>
          <p:cNvSpPr/>
          <p:nvPr/>
        </p:nvSpPr>
        <p:spPr>
          <a:xfrm>
            <a:off x="4427640" y="4437000"/>
            <a:ext cx="73080" cy="936720"/>
          </a:xfrm>
          <a:custGeom>
            <a:avLst/>
            <a:gdLst>
              <a:gd name="textAreaLeft" fmla="*/ 0 w 73080"/>
              <a:gd name="textAreaRight" fmla="*/ 2628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31078"/>
          <p:cNvSpPr/>
          <p:nvPr/>
        </p:nvSpPr>
        <p:spPr>
          <a:xfrm>
            <a:off x="4861800" y="4710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夸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右大括号 131079"/>
          <p:cNvSpPr/>
          <p:nvPr/>
        </p:nvSpPr>
        <p:spPr>
          <a:xfrm>
            <a:off x="4427640" y="5589720"/>
            <a:ext cx="73080" cy="936360"/>
          </a:xfrm>
          <a:custGeom>
            <a:avLst/>
            <a:gdLst>
              <a:gd name="textAreaLeft" fmla="*/ 0 w 73080"/>
              <a:gd name="textAreaRight" fmla="*/ 26280 w 730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31080"/>
          <p:cNvSpPr/>
          <p:nvPr/>
        </p:nvSpPr>
        <p:spPr>
          <a:xfrm>
            <a:off x="4898520" y="573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图片 131081" descr="长恨歌1"/>
          <p:cNvPicPr/>
          <p:nvPr/>
        </p:nvPicPr>
        <p:blipFill>
          <a:blip r:embed="rId1"/>
          <a:stretch/>
        </p:blipFill>
        <p:spPr>
          <a:xfrm>
            <a:off x="7524720" y="4365720"/>
            <a:ext cx="1619280" cy="2492280"/>
          </a:xfrm>
          <a:prstGeom prst="rect">
            <a:avLst/>
          </a:prstGeom>
          <a:ln w="0">
            <a:noFill/>
          </a:ln>
        </p:spPr>
      </p:pic>
      <p:sp>
        <p:nvSpPr>
          <p:cNvPr id="529" name="文本框 131082"/>
          <p:cNvSpPr/>
          <p:nvPr/>
        </p:nvSpPr>
        <p:spPr>
          <a:xfrm>
            <a:off x="6012000" y="515772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讽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85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385" fill="hold"/>
                                        <p:tgtEl>
                                          <p:spTgt spid="5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385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385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5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050920" y="549000"/>
            <a:ext cx="496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以意逆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读文辞，揣摩情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融入体验，体会情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超越原意，推陈出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知人论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不同，诗风各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境遇不同，诗情有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代不同，精神迥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图片 132097" descr="长恨歌1"/>
          <p:cNvPicPr/>
          <p:nvPr/>
        </p:nvPicPr>
        <p:blipFill>
          <a:blip r:embed="rId1"/>
          <a:stretch/>
        </p:blipFill>
        <p:spPr>
          <a:xfrm>
            <a:off x="7524720" y="4365720"/>
            <a:ext cx="1619280" cy="2492280"/>
          </a:xfrm>
          <a:prstGeom prst="rect">
            <a:avLst/>
          </a:prstGeom>
          <a:ln w="0">
            <a:noFill/>
          </a:ln>
        </p:spPr>
      </p:pic>
      <p:sp>
        <p:nvSpPr>
          <p:cNvPr id="531" name="文本框 132098"/>
          <p:cNvSpPr/>
          <p:nvPr/>
        </p:nvSpPr>
        <p:spPr>
          <a:xfrm>
            <a:off x="0" y="981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皇之重色、求色，杨女之美貌、娇媚，皇杨之间缠绵悱恻的宫闱之欢，杨之得宠，不仅自己“夜专夜” 而且“姊妹弟兄皆列土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恨之内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史之乱，杨女之死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恨之直接原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悲剧的制造者成了悲剧的主人公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32099"/>
          <p:cNvSpPr/>
          <p:nvPr/>
        </p:nvSpPr>
        <p:spPr>
          <a:xfrm>
            <a:off x="539640" y="26028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为什么恨？造成恨的原因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32100"/>
          <p:cNvSpPr txBox="1"/>
          <p:nvPr/>
        </p:nvSpPr>
        <p:spPr>
          <a:xfrm>
            <a:off x="0" y="0"/>
            <a:ext cx="9572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133122"/>
          <p:cNvSpPr/>
          <p:nvPr/>
        </p:nvSpPr>
        <p:spPr>
          <a:xfrm>
            <a:off x="250920" y="3059280"/>
            <a:ext cx="856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一部分写出了“长恨”的原因，是悲剧故事的基础。诗人通过这一段宫中生活的写实，不无讽刺地向我们介绍了故事的男女主人公：一个重色轻国的帝王，一个娇媚恃宠的妃子；还形象地暗示我们，唐玄宗的迷色误国，就是这一悲剧的根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33123"/>
          <p:cNvSpPr txBox="1"/>
          <p:nvPr/>
        </p:nvSpPr>
        <p:spPr>
          <a:xfrm>
            <a:off x="1187280" y="549360"/>
            <a:ext cx="172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小  结：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newsflash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134145"/>
          <p:cNvSpPr txBox="1"/>
          <p:nvPr/>
        </p:nvSpPr>
        <p:spPr>
          <a:xfrm>
            <a:off x="0" y="404640"/>
            <a:ext cx="919080" cy="8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37" name="文本框 134146"/>
          <p:cNvSpPr/>
          <p:nvPr/>
        </p:nvSpPr>
        <p:spPr>
          <a:xfrm>
            <a:off x="1619280" y="2602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人是如何表现长恨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34147"/>
          <p:cNvSpPr/>
          <p:nvPr/>
        </p:nvSpPr>
        <p:spPr>
          <a:xfrm>
            <a:off x="250920" y="1773360"/>
            <a:ext cx="458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34148"/>
          <p:cNvSpPr/>
          <p:nvPr/>
        </p:nvSpPr>
        <p:spPr>
          <a:xfrm>
            <a:off x="-383760" y="1773360"/>
            <a:ext cx="16426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唐玄宗之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34149"/>
          <p:cNvSpPr/>
          <p:nvPr/>
        </p:nvSpPr>
        <p:spPr>
          <a:xfrm>
            <a:off x="7260840" y="1773360"/>
            <a:ext cx="9115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杨玉环之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图片 134150" descr="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241280"/>
            <a:ext cx="4752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135169"/>
          <p:cNvSpPr txBox="1"/>
          <p:nvPr/>
        </p:nvSpPr>
        <p:spPr>
          <a:xfrm>
            <a:off x="0" y="404640"/>
            <a:ext cx="919080" cy="8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43" name="文本框 135170"/>
          <p:cNvSpPr/>
          <p:nvPr/>
        </p:nvSpPr>
        <p:spPr>
          <a:xfrm>
            <a:off x="2362320" y="6858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人是如何表现长恨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35171"/>
          <p:cNvSpPr/>
          <p:nvPr/>
        </p:nvSpPr>
        <p:spPr>
          <a:xfrm>
            <a:off x="762120" y="1523880"/>
            <a:ext cx="7391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入蜀途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35172"/>
          <p:cNvSpPr/>
          <p:nvPr/>
        </p:nvSpPr>
        <p:spPr>
          <a:xfrm>
            <a:off x="3276720" y="1484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以景色来烘托人物的悲思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35173"/>
          <p:cNvSpPr/>
          <p:nvPr/>
        </p:nvSpPr>
        <p:spPr>
          <a:xfrm>
            <a:off x="762120" y="3276720"/>
            <a:ext cx="7391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归途的思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5174"/>
          <p:cNvSpPr/>
          <p:nvPr/>
        </p:nvSpPr>
        <p:spPr>
          <a:xfrm>
            <a:off x="3419640" y="328464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于快乐中写悲情，愈见情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5175"/>
          <p:cNvSpPr/>
          <p:nvPr/>
        </p:nvSpPr>
        <p:spPr>
          <a:xfrm>
            <a:off x="385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融情入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176"/>
          <p:cNvSpPr/>
          <p:nvPr/>
        </p:nvSpPr>
        <p:spPr>
          <a:xfrm>
            <a:off x="3780000" y="40053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以行写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5177"/>
          <p:cNvSpPr/>
          <p:nvPr/>
        </p:nvSpPr>
        <p:spPr>
          <a:xfrm>
            <a:off x="539640" y="5084640"/>
            <a:ext cx="2952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回京后的思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35178"/>
          <p:cNvSpPr/>
          <p:nvPr/>
        </p:nvSpPr>
        <p:spPr>
          <a:xfrm>
            <a:off x="3564000" y="51577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景物依旧，人却不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35179"/>
          <p:cNvSpPr/>
          <p:nvPr/>
        </p:nvSpPr>
        <p:spPr>
          <a:xfrm>
            <a:off x="3276720" y="5697360"/>
            <a:ext cx="37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借景抒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叙事抒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135180"/>
          <p:cNvSpPr/>
          <p:nvPr/>
        </p:nvSpPr>
        <p:spPr>
          <a:xfrm>
            <a:off x="250920" y="1773360"/>
            <a:ext cx="458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35181"/>
          <p:cNvSpPr/>
          <p:nvPr/>
        </p:nvSpPr>
        <p:spPr>
          <a:xfrm>
            <a:off x="4320" y="2060640"/>
            <a:ext cx="7290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ff"/>
                </a:solidFill>
                <a:latin typeface="Arial"/>
                <a:ea typeface="楷体_GB2312"/>
              </a:rPr>
              <a:t>唐玄宗之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文本框 136193"/>
          <p:cNvSpPr/>
          <p:nvPr/>
        </p:nvSpPr>
        <p:spPr>
          <a:xfrm>
            <a:off x="0" y="0"/>
            <a:ext cx="414036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埃散漫风萧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栈萦纡登剑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峨嵋山下少人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旌旗无光日色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蜀江水碧蜀山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圣主朝朝暮暮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宫见月伤心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夜雨闻铃肠断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136194"/>
          <p:cNvSpPr/>
          <p:nvPr/>
        </p:nvSpPr>
        <p:spPr>
          <a:xfrm>
            <a:off x="3635280" y="4762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秋景凄凉，以凄凉的秋景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烘托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人物的悲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136195"/>
          <p:cNvSpPr/>
          <p:nvPr/>
        </p:nvSpPr>
        <p:spPr>
          <a:xfrm>
            <a:off x="3492360" y="3068640"/>
            <a:ext cx="50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面对青山绿水，朝夕不能忘情，表现了玄宗内心的痛苦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乐景写哀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36196"/>
          <p:cNvSpPr/>
          <p:nvPr/>
        </p:nvSpPr>
        <p:spPr>
          <a:xfrm>
            <a:off x="3564000" y="494172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借景抒情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用月色和铃声给予玄宗的特殊感觉表现玄宗悲痛的心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动作按钮: 后退或前一项 136197">
            <a:hlinkClick r:id="" action="ppaction://hlinkshowjump?jump=previousslide"/>
          </p:cNvPr>
          <p:cNvSpPr/>
          <p:nvPr/>
        </p:nvSpPr>
        <p:spPr>
          <a:xfrm>
            <a:off x="7885080" y="6021360"/>
            <a:ext cx="754200" cy="647640"/>
          </a:xfrm>
          <a:custGeom>
            <a:avLst/>
            <a:gdLst>
              <a:gd name="textAreaLeft" fmla="*/ 41760 w 754200"/>
              <a:gd name="textAreaRight" fmla="*/ 712440 w 7542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5152" h="21600">
                <a:moveTo>
                  <a:pt x="0" y="0"/>
                </a:moveTo>
                <a:lnTo>
                  <a:pt x="25152" y="0"/>
                </a:lnTo>
                <a:lnTo>
                  <a:pt x="25152" y="21600"/>
                </a:lnTo>
                <a:lnTo>
                  <a:pt x="0" y="21600"/>
                </a:lnTo>
                <a:close/>
              </a:path>
              <a:path fill="lightenLess" w="25152" h="21600">
                <a:moveTo>
                  <a:pt x="0" y="0"/>
                </a:moveTo>
                <a:lnTo>
                  <a:pt x="25152" y="0"/>
                </a:lnTo>
                <a:lnTo>
                  <a:pt x="23752" y="1400"/>
                </a:lnTo>
                <a:lnTo>
                  <a:pt x="1400" y="1400"/>
                </a:lnTo>
                <a:close/>
              </a:path>
              <a:path fill="darken" w="25152" h="21600">
                <a:moveTo>
                  <a:pt x="25152" y="0"/>
                </a:moveTo>
                <a:lnTo>
                  <a:pt x="25152" y="21600"/>
                </a:lnTo>
                <a:lnTo>
                  <a:pt x="23752" y="20200"/>
                </a:lnTo>
                <a:lnTo>
                  <a:pt x="23752" y="1400"/>
                </a:lnTo>
                <a:close/>
              </a:path>
              <a:path fill="darkenLess" w="25152" h="21600">
                <a:moveTo>
                  <a:pt x="25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52" y="20200"/>
                </a:lnTo>
                <a:close/>
              </a:path>
              <a:path fill="lighten" w="25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52" h="21600">
                <a:moveTo>
                  <a:pt x="5570" y="10800"/>
                </a:moveTo>
                <a:lnTo>
                  <a:pt x="19582" y="3794"/>
                </a:lnTo>
                <a:lnTo>
                  <a:pt x="195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直接连接符 136198"/>
          <p:cNvSpPr/>
          <p:nvPr/>
        </p:nvSpPr>
        <p:spPr>
          <a:xfrm>
            <a:off x="179280" y="620640"/>
            <a:ext cx="26640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136199"/>
          <p:cNvSpPr/>
          <p:nvPr/>
        </p:nvSpPr>
        <p:spPr>
          <a:xfrm>
            <a:off x="1692360" y="0"/>
            <a:ext cx="431640" cy="620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136200"/>
          <p:cNvSpPr/>
          <p:nvPr/>
        </p:nvSpPr>
        <p:spPr>
          <a:xfrm>
            <a:off x="1187280" y="486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136201"/>
          <p:cNvSpPr/>
          <p:nvPr/>
        </p:nvSpPr>
        <p:spPr>
          <a:xfrm>
            <a:off x="395280" y="5734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136202"/>
          <p:cNvSpPr/>
          <p:nvPr/>
        </p:nvSpPr>
        <p:spPr>
          <a:xfrm>
            <a:off x="250920" y="3933720"/>
            <a:ext cx="26636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36203"/>
          <p:cNvSpPr/>
          <p:nvPr/>
        </p:nvSpPr>
        <p:spPr>
          <a:xfrm>
            <a:off x="179280" y="3068640"/>
            <a:ext cx="273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椭圆 136204"/>
          <p:cNvSpPr/>
          <p:nvPr/>
        </p:nvSpPr>
        <p:spPr>
          <a:xfrm>
            <a:off x="1763640" y="2565360"/>
            <a:ext cx="86364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文本框 137217"/>
          <p:cNvSpPr/>
          <p:nvPr/>
        </p:nvSpPr>
        <p:spPr>
          <a:xfrm>
            <a:off x="0" y="620640"/>
            <a:ext cx="3548160" cy="50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旋日转回龙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踌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嵬坡下泥土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见玉颜空死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臣相顾尽沾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望都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137218"/>
          <p:cNvSpPr/>
          <p:nvPr/>
        </p:nvSpPr>
        <p:spPr>
          <a:xfrm>
            <a:off x="3419640" y="1989000"/>
            <a:ext cx="53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于乐事中写悲情，愈见情悲。旧地重过，玉颜不见 ，故而踌躇，叙事见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动作按钮: 后退或前一项 137219"/>
          <p:cNvSpPr/>
          <p:nvPr/>
        </p:nvSpPr>
        <p:spPr>
          <a:xfrm>
            <a:off x="7812000" y="5877000"/>
            <a:ext cx="970200" cy="684000"/>
          </a:xfrm>
          <a:custGeom>
            <a:avLst/>
            <a:gdLst>
              <a:gd name="textAreaLeft" fmla="*/ 44280 w 970200"/>
              <a:gd name="textAreaRight" fmla="*/ 925920 w 97020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30633" h="21600">
                <a:moveTo>
                  <a:pt x="0" y="0"/>
                </a:moveTo>
                <a:lnTo>
                  <a:pt x="30633" y="0"/>
                </a:lnTo>
                <a:lnTo>
                  <a:pt x="30633" y="21600"/>
                </a:lnTo>
                <a:lnTo>
                  <a:pt x="0" y="21600"/>
                </a:lnTo>
                <a:close/>
              </a:path>
              <a:path fill="lightenLess" w="30633" h="21600">
                <a:moveTo>
                  <a:pt x="0" y="0"/>
                </a:moveTo>
                <a:lnTo>
                  <a:pt x="30633" y="0"/>
                </a:lnTo>
                <a:lnTo>
                  <a:pt x="29233" y="1400"/>
                </a:lnTo>
                <a:lnTo>
                  <a:pt x="1400" y="1400"/>
                </a:lnTo>
                <a:close/>
              </a:path>
              <a:path fill="darken" w="30633" h="21600">
                <a:moveTo>
                  <a:pt x="30633" y="0"/>
                </a:moveTo>
                <a:lnTo>
                  <a:pt x="30633" y="21600"/>
                </a:lnTo>
                <a:lnTo>
                  <a:pt x="29233" y="20200"/>
                </a:lnTo>
                <a:lnTo>
                  <a:pt x="29233" y="1400"/>
                </a:lnTo>
                <a:close/>
              </a:path>
              <a:path fill="darkenLess" w="30633" h="21600">
                <a:moveTo>
                  <a:pt x="30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3" y="20200"/>
                </a:lnTo>
                <a:close/>
              </a:path>
              <a:path fill="lighten" w="30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3" h="21600">
                <a:moveTo>
                  <a:pt x="8310" y="10800"/>
                </a:moveTo>
                <a:lnTo>
                  <a:pt x="22323" y="3794"/>
                </a:lnTo>
                <a:lnTo>
                  <a:pt x="2232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文本框 138241"/>
          <p:cNvSpPr/>
          <p:nvPr/>
        </p:nvSpPr>
        <p:spPr>
          <a:xfrm>
            <a:off x="2759400" y="52560"/>
            <a:ext cx="354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归来池苑皆依旧，太液芙蓉未央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芙蓉如面柳如眉，对此如何不泪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春风桃李花开夜，秋雨梧桐叶落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西宫南内多秋草，落叶满阶红不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梨园弟子白发新，椒房阿监青娥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夕殿萤飞思悄然，孤灯挑尽未成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迟迟钟鼓初长夜，耿耿星河欲曙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鸳鸯瓦冷霜华重，翡翠衾寒谁与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悠悠生死别经年，魂魄不曾来入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138242"/>
          <p:cNvSpPr/>
          <p:nvPr/>
        </p:nvSpPr>
        <p:spPr>
          <a:xfrm>
            <a:off x="0" y="4149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景物依旧，人却不在</a:t>
            </a: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 ，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触景生情。黄昏黎明，春风秋雨，情思萦绕，久久不能入睡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苦苦的思恋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表现了玄宗的冷落孤寂、彻夜相思。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叙事见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38243"/>
          <p:cNvSpPr/>
          <p:nvPr/>
        </p:nvSpPr>
        <p:spPr>
          <a:xfrm>
            <a:off x="5651640" y="122400"/>
            <a:ext cx="349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景物依旧，物是人非，从太液池的芙蓉花和未央宫的垂柳仿佛看到了贵妃的容貌，展示了人物极其复杂微妙的内心，表现了怀念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动作按钮: 后退或前一项 138244"/>
          <p:cNvSpPr/>
          <p:nvPr/>
        </p:nvSpPr>
        <p:spPr>
          <a:xfrm>
            <a:off x="7812000" y="5877000"/>
            <a:ext cx="900360" cy="691920"/>
          </a:xfrm>
          <a:custGeom>
            <a:avLst/>
            <a:gdLst>
              <a:gd name="textAreaLeft" fmla="*/ 44640 w 900360"/>
              <a:gd name="textAreaRight" fmla="*/ 855720 w 90036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8104" h="21600">
                <a:moveTo>
                  <a:pt x="0" y="0"/>
                </a:moveTo>
                <a:lnTo>
                  <a:pt x="28104" y="0"/>
                </a:lnTo>
                <a:lnTo>
                  <a:pt x="28104" y="21600"/>
                </a:lnTo>
                <a:lnTo>
                  <a:pt x="0" y="21600"/>
                </a:lnTo>
                <a:close/>
              </a:path>
              <a:path fill="lightenLess" w="28104" h="21600">
                <a:moveTo>
                  <a:pt x="0" y="0"/>
                </a:moveTo>
                <a:lnTo>
                  <a:pt x="28104" y="0"/>
                </a:lnTo>
                <a:lnTo>
                  <a:pt x="26704" y="1400"/>
                </a:lnTo>
                <a:lnTo>
                  <a:pt x="1400" y="1400"/>
                </a:lnTo>
                <a:close/>
              </a:path>
              <a:path fill="darken" w="28104" h="21600">
                <a:moveTo>
                  <a:pt x="28104" y="0"/>
                </a:moveTo>
                <a:lnTo>
                  <a:pt x="28104" y="21600"/>
                </a:lnTo>
                <a:lnTo>
                  <a:pt x="26704" y="20200"/>
                </a:lnTo>
                <a:lnTo>
                  <a:pt x="26704" y="1400"/>
                </a:lnTo>
                <a:close/>
              </a:path>
              <a:path fill="darkenLess" w="28104" h="21600">
                <a:moveTo>
                  <a:pt x="28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4" y="20200"/>
                </a:lnTo>
                <a:close/>
              </a:path>
              <a:path fill="lighten" w="28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4" h="21600">
                <a:moveTo>
                  <a:pt x="7045" y="10800"/>
                </a:moveTo>
                <a:lnTo>
                  <a:pt x="21058" y="3794"/>
                </a:lnTo>
                <a:lnTo>
                  <a:pt x="210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图片 139265" descr="长恨歌1"/>
          <p:cNvPicPr/>
          <p:nvPr/>
        </p:nvPicPr>
        <p:blipFill>
          <a:blip r:embed="rId1"/>
          <a:stretch/>
        </p:blipFill>
        <p:spPr>
          <a:xfrm>
            <a:off x="7524720" y="4365720"/>
            <a:ext cx="1619280" cy="2492280"/>
          </a:xfrm>
          <a:prstGeom prst="rect">
            <a:avLst/>
          </a:prstGeom>
          <a:ln w="0">
            <a:noFill/>
          </a:ln>
        </p:spPr>
      </p:pic>
      <p:sp>
        <p:nvSpPr>
          <p:cNvPr id="575" name="文本框 139266"/>
          <p:cNvSpPr/>
          <p:nvPr/>
        </p:nvSpPr>
        <p:spPr>
          <a:xfrm>
            <a:off x="395280" y="620640"/>
            <a:ext cx="85201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黄埃散漫到蜀山青青，从行宫夜雨到凯旋回归，从白日到黑夜，从春天到秋天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处处触物伤情，时时睹物思人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从各个方面反复渲染诗中主人公的苦苦追求和寻觅。现实生活中找不到，到梦中去找，梦中找不到，又到仙境中去找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诗人正是通过这样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层层渲染，反复抒情，回环往复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让人物的思想感情蕴蓄得更深邃丰富，使诗歌“肌理细腻”，更富有艺术的感染力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140289" descr="长恨歌1"/>
          <p:cNvPicPr/>
          <p:nvPr/>
        </p:nvPicPr>
        <p:blipFill>
          <a:blip r:embed="rId1"/>
          <a:stretch/>
        </p:blipFill>
        <p:spPr>
          <a:xfrm>
            <a:off x="7812000" y="4365720"/>
            <a:ext cx="1619280" cy="2492280"/>
          </a:xfrm>
          <a:prstGeom prst="rect">
            <a:avLst/>
          </a:prstGeom>
          <a:ln w="0">
            <a:noFill/>
          </a:ln>
        </p:spPr>
      </p:pic>
      <p:sp>
        <p:nvSpPr>
          <p:cNvPr id="577" name="文本框 140290"/>
          <p:cNvSpPr/>
          <p:nvPr/>
        </p:nvSpPr>
        <p:spPr>
          <a:xfrm>
            <a:off x="826920" y="1125360"/>
            <a:ext cx="7490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mso-hansi-font-family: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mso-hansi-font-family:"/>
              </a:rPr>
              <a:t>惊魂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9900"/>
                </a:solidFill>
                <a:latin typeface="mso-hansi-font-family:"/>
              </a:rPr>
              <a:t>揽衣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9900"/>
                </a:solidFill>
                <a:latin typeface="mso-hansi-font-family:"/>
              </a:rPr>
              <a:t>推枕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下堂来</a:t>
            </a:r>
            <a:r>
              <a:rPr b="1" lang="zh-CN" sz="2400" spc="-1" strike="noStrike">
                <a:solidFill>
                  <a:srgbClr val="009900"/>
                </a:solidFill>
                <a:latin typeface="mso-hansi-font-family: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mso-hansi-font-family:"/>
              </a:rPr>
              <a:t>几个连贯的动作，描摹她得悉汉皇派来使者后的惊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迫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40291"/>
          <p:cNvSpPr/>
          <p:nvPr/>
        </p:nvSpPr>
        <p:spPr>
          <a:xfrm>
            <a:off x="1116000" y="27813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玉容寂寞泪阑干，梨花一枝春带雨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现了杨贵妃内心的悲哀、寂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40292"/>
          <p:cNvSpPr/>
          <p:nvPr/>
        </p:nvSpPr>
        <p:spPr>
          <a:xfrm>
            <a:off x="1042920" y="4149720"/>
            <a:ext cx="763272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钿盒金钗寄将去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七月七日长生殿，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托物寄情，以表心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夜半无人私语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在天愿作比翼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在地愿为连理枝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40293"/>
          <p:cNvSpPr/>
          <p:nvPr/>
        </p:nvSpPr>
        <p:spPr>
          <a:xfrm>
            <a:off x="4592520" y="1989000"/>
            <a:ext cx="45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mso-hansi-font-family:"/>
                <a:ea typeface="华文行楷"/>
              </a:rPr>
              <a:t>以行写情，叙事见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40294"/>
          <p:cNvSpPr/>
          <p:nvPr/>
        </p:nvSpPr>
        <p:spPr>
          <a:xfrm>
            <a:off x="4319640" y="342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mso-hansi-font-family:"/>
                <a:ea typeface="华文行楷"/>
              </a:rPr>
              <a:t>以形写情，描写见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40295"/>
          <p:cNvSpPr/>
          <p:nvPr/>
        </p:nvSpPr>
        <p:spPr>
          <a:xfrm>
            <a:off x="4572000" y="6093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mso-hansi-font-family:"/>
                <a:ea typeface="华文行楷"/>
              </a:rPr>
              <a:t>以行写情，叙事见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140296"/>
          <p:cNvSpPr/>
          <p:nvPr/>
        </p:nvSpPr>
        <p:spPr>
          <a:xfrm>
            <a:off x="1619280" y="189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人是如何表现长恨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40297"/>
          <p:cNvSpPr txBox="1"/>
          <p:nvPr/>
        </p:nvSpPr>
        <p:spPr>
          <a:xfrm>
            <a:off x="179280" y="0"/>
            <a:ext cx="919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85" name="文本框 140298"/>
          <p:cNvSpPr/>
          <p:nvPr/>
        </p:nvSpPr>
        <p:spPr>
          <a:xfrm>
            <a:off x="-605520" y="2205000"/>
            <a:ext cx="13993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杨贵妃之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文本框 141313"/>
          <p:cNvSpPr/>
          <p:nvPr/>
        </p:nvSpPr>
        <p:spPr>
          <a:xfrm>
            <a:off x="900000" y="260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诗歌塑造了怎样的人物形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141314"/>
          <p:cNvSpPr/>
          <p:nvPr/>
        </p:nvSpPr>
        <p:spPr>
          <a:xfrm>
            <a:off x="396720" y="2925720"/>
            <a:ext cx="849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透过这两个人物形象，你认为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恨歌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主题是什么？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41315"/>
          <p:cNvSpPr txBox="1"/>
          <p:nvPr/>
        </p:nvSpPr>
        <p:spPr>
          <a:xfrm>
            <a:off x="380880" y="457200"/>
            <a:ext cx="762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89" name="文本框 141316"/>
          <p:cNvSpPr/>
          <p:nvPr/>
        </p:nvSpPr>
        <p:spPr>
          <a:xfrm>
            <a:off x="324000" y="1341360"/>
            <a:ext cx="864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mso-hansi-font-family:"/>
              </a:rPr>
              <a:t>汉皇：荒淫误国的昏君？深爱杨女的痴心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mso-hansi-font-family:"/>
              </a:rPr>
              <a:t>杨女：害国殃民的祸水？忠贞爱情的痴心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141317"/>
          <p:cNvSpPr/>
          <p:nvPr/>
        </p:nvSpPr>
        <p:spPr>
          <a:xfrm>
            <a:off x="108000" y="4365720"/>
            <a:ext cx="6854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、历史真实与艺术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、对历史人物的评价和文学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、伦理的批评和审美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图片 141318" descr="长恨歌1"/>
          <p:cNvPicPr/>
          <p:nvPr/>
        </p:nvPicPr>
        <p:blipFill>
          <a:blip r:embed="rId1"/>
          <a:stretch/>
        </p:blipFill>
        <p:spPr>
          <a:xfrm>
            <a:off x="7308720" y="4365720"/>
            <a:ext cx="1619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文本框 114689"/>
          <p:cNvSpPr/>
          <p:nvPr/>
        </p:nvSpPr>
        <p:spPr>
          <a:xfrm>
            <a:off x="8177040" y="5084640"/>
            <a:ext cx="729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杜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图片 114690" descr="过华清宫1"/>
          <p:cNvPicPr/>
          <p:nvPr/>
        </p:nvPicPr>
        <p:blipFill>
          <a:blip r:embed="rId1"/>
          <a:stretch/>
        </p:blipFill>
        <p:spPr>
          <a:xfrm>
            <a:off x="108000" y="2060640"/>
            <a:ext cx="3029040" cy="4719600"/>
          </a:xfrm>
          <a:prstGeom prst="rect">
            <a:avLst/>
          </a:prstGeom>
          <a:ln w="0">
            <a:noFill/>
          </a:ln>
        </p:spPr>
      </p:pic>
      <p:sp>
        <p:nvSpPr>
          <p:cNvPr id="457" name="文本框 114691"/>
          <p:cNvSpPr/>
          <p:nvPr/>
        </p:nvSpPr>
        <p:spPr>
          <a:xfrm>
            <a:off x="-1074600" y="262080"/>
            <a:ext cx="989460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8080ff"/>
                </a:solidFill>
                <a:latin typeface="宋体"/>
                <a:ea typeface="楷体_GB2312"/>
              </a:rPr>
              <a:t>过华清宫绝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其二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长安回望绣成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山顶千门次第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一骑红尘妃子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无人知是荔枝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ff"/>
                </a:solidFill>
                <a:latin typeface="Arial"/>
              </a:rPr>
              <a:t>过华清宫绝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其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新丰绿树起黄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数骑渔阳探使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霓裳一曲千峰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舞破中原始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114692"/>
          <p:cNvSpPr/>
          <p:nvPr/>
        </p:nvSpPr>
        <p:spPr>
          <a:xfrm>
            <a:off x="7308720" y="40464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114693"/>
          <p:cNvSpPr/>
          <p:nvPr/>
        </p:nvSpPr>
        <p:spPr>
          <a:xfrm flipH="1">
            <a:off x="2410920" y="404640"/>
            <a:ext cx="1800" cy="3313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114694"/>
          <p:cNvSpPr/>
          <p:nvPr/>
        </p:nvSpPr>
        <p:spPr>
          <a:xfrm>
            <a:off x="1619280" y="47628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接连接符 114695"/>
          <p:cNvSpPr/>
          <p:nvPr/>
        </p:nvSpPr>
        <p:spPr>
          <a:xfrm>
            <a:off x="684360" y="40464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114696"/>
          <p:cNvSpPr/>
          <p:nvPr/>
        </p:nvSpPr>
        <p:spPr>
          <a:xfrm>
            <a:off x="6516720" y="40464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114697"/>
          <p:cNvSpPr/>
          <p:nvPr/>
        </p:nvSpPr>
        <p:spPr>
          <a:xfrm>
            <a:off x="5724360" y="47628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114698"/>
          <p:cNvSpPr/>
          <p:nvPr/>
        </p:nvSpPr>
        <p:spPr>
          <a:xfrm>
            <a:off x="4788000" y="33336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114699"/>
          <p:cNvSpPr/>
          <p:nvPr/>
        </p:nvSpPr>
        <p:spPr>
          <a:xfrm>
            <a:off x="3203640" y="40464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142337" descr="shouye"/>
          <p:cNvPicPr/>
          <p:nvPr/>
        </p:nvPicPr>
        <p:blipFill>
          <a:blip r:embed="rId1"/>
          <a:stretch/>
        </p:blipFill>
        <p:spPr>
          <a:xfrm>
            <a:off x="5940360" y="1700280"/>
            <a:ext cx="2808360" cy="4681440"/>
          </a:xfrm>
          <a:prstGeom prst="rect">
            <a:avLst/>
          </a:prstGeom>
          <a:ln w="0">
            <a:noFill/>
          </a:ln>
        </p:spPr>
      </p:pic>
      <p:sp>
        <p:nvSpPr>
          <p:cNvPr id="593" name="矩形 142339"/>
          <p:cNvSpPr/>
          <p:nvPr/>
        </p:nvSpPr>
        <p:spPr>
          <a:xfrm>
            <a:off x="755640" y="1052640"/>
            <a:ext cx="7705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长恨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的三种典型观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讽喻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爱情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双重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图片 142340" descr="shouye"/>
          <p:cNvPicPr/>
          <p:nvPr/>
        </p:nvPicPr>
        <p:blipFill>
          <a:blip r:embed="rId2"/>
          <a:stretch/>
        </p:blipFill>
        <p:spPr>
          <a:xfrm>
            <a:off x="5796000" y="1844640"/>
            <a:ext cx="3006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文本框 115714"/>
          <p:cNvSpPr/>
          <p:nvPr/>
        </p:nvSpPr>
        <p:spPr>
          <a:xfrm>
            <a:off x="1135080" y="838080"/>
            <a:ext cx="7342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马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李商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海外徒闻更九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他生未卜此生休。</a:t>
            </a:r>
            <a:r>
              <a:rPr b="1" lang="en-US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空闻虎旅鸣宵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无复鸡人报晓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 </a:t>
            </a: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此日六军同驻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当时七夕笑牵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  </a:t>
            </a: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如何四纪为天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不及卢家有莫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5715"/>
          <p:cNvSpPr/>
          <p:nvPr/>
        </p:nvSpPr>
        <p:spPr>
          <a:xfrm>
            <a:off x="6477120" y="152388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15716"/>
          <p:cNvSpPr/>
          <p:nvPr/>
        </p:nvSpPr>
        <p:spPr>
          <a:xfrm>
            <a:off x="5715000" y="144792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15717"/>
          <p:cNvSpPr/>
          <p:nvPr/>
        </p:nvSpPr>
        <p:spPr>
          <a:xfrm>
            <a:off x="5029200" y="144792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15718"/>
          <p:cNvSpPr/>
          <p:nvPr/>
        </p:nvSpPr>
        <p:spPr>
          <a:xfrm>
            <a:off x="4267080" y="152388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15719"/>
          <p:cNvSpPr/>
          <p:nvPr/>
        </p:nvSpPr>
        <p:spPr>
          <a:xfrm>
            <a:off x="3505320" y="152388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15720"/>
          <p:cNvSpPr/>
          <p:nvPr/>
        </p:nvSpPr>
        <p:spPr>
          <a:xfrm>
            <a:off x="2819520" y="152388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115721"/>
          <p:cNvSpPr/>
          <p:nvPr/>
        </p:nvSpPr>
        <p:spPr>
          <a:xfrm>
            <a:off x="2057400" y="152388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115722"/>
          <p:cNvSpPr/>
          <p:nvPr/>
        </p:nvSpPr>
        <p:spPr>
          <a:xfrm>
            <a:off x="1371600" y="1523880"/>
            <a:ext cx="0" cy="32004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图片 116737" descr="长生殿"/>
          <p:cNvPicPr/>
          <p:nvPr/>
        </p:nvPicPr>
        <p:blipFill>
          <a:blip r:embed="rId1"/>
          <a:stretch/>
        </p:blipFill>
        <p:spPr>
          <a:xfrm>
            <a:off x="5029200" y="990720"/>
            <a:ext cx="3193920" cy="487656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16738" descr="长生殿1"/>
          <p:cNvPicPr/>
          <p:nvPr/>
        </p:nvPicPr>
        <p:blipFill>
          <a:blip r:embed="rId2"/>
          <a:stretch/>
        </p:blipFill>
        <p:spPr>
          <a:xfrm>
            <a:off x="4648320" y="1676520"/>
            <a:ext cx="2286000" cy="331452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6739" descr="梧桐雨"/>
          <p:cNvPicPr/>
          <p:nvPr/>
        </p:nvPicPr>
        <p:blipFill>
          <a:blip r:embed="rId3"/>
          <a:stretch/>
        </p:blipFill>
        <p:spPr>
          <a:xfrm>
            <a:off x="1143000" y="685800"/>
            <a:ext cx="2171880" cy="320040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116740" descr="梧桐雨1"/>
          <p:cNvPicPr/>
          <p:nvPr/>
        </p:nvPicPr>
        <p:blipFill>
          <a:blip r:embed="rId4"/>
          <a:stretch/>
        </p:blipFill>
        <p:spPr>
          <a:xfrm>
            <a:off x="838080" y="2514600"/>
            <a:ext cx="4496040" cy="338760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 116741"/>
          <p:cNvSpPr/>
          <p:nvPr/>
        </p:nvSpPr>
        <p:spPr>
          <a:xfrm>
            <a:off x="1071360" y="1828800"/>
            <a:ext cx="729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梧桐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117761" descr="shouye"/>
          <p:cNvPicPr/>
          <p:nvPr/>
        </p:nvPicPr>
        <p:blipFill>
          <a:blip r:embed="rId1"/>
          <a:stretch/>
        </p:blipFill>
        <p:spPr>
          <a:xfrm>
            <a:off x="250920" y="2637000"/>
            <a:ext cx="3654360" cy="3987720"/>
          </a:xfrm>
          <a:prstGeom prst="rect">
            <a:avLst/>
          </a:prstGeom>
          <a:ln w="0">
            <a:noFill/>
          </a:ln>
        </p:spPr>
      </p:pic>
      <p:sp>
        <p:nvSpPr>
          <p:cNvPr id="481" name="文本框 117762"/>
          <p:cNvSpPr/>
          <p:nvPr/>
        </p:nvSpPr>
        <p:spPr>
          <a:xfrm>
            <a:off x="3924360" y="486900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白居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117763"/>
          <p:cNvSpPr txBox="1"/>
          <p:nvPr/>
        </p:nvSpPr>
        <p:spPr>
          <a:xfrm>
            <a:off x="2268360" y="2060640"/>
            <a:ext cx="5562720" cy="2133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031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长 恨 歌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483" name="图片 117764" descr="pic223"/>
          <p:cNvPicPr/>
          <p:nvPr/>
        </p:nvPicPr>
        <p:blipFill>
          <a:blip r:embed="rId2"/>
          <a:stretch/>
        </p:blipFill>
        <p:spPr>
          <a:xfrm>
            <a:off x="2987640" y="0"/>
            <a:ext cx="1486080" cy="217188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117765" descr="pic223"/>
          <p:cNvPicPr/>
          <p:nvPr/>
        </p:nvPicPr>
        <p:blipFill>
          <a:blip r:embed="rId3"/>
          <a:stretch/>
        </p:blipFill>
        <p:spPr>
          <a:xfrm>
            <a:off x="468360" y="0"/>
            <a:ext cx="1485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了解白居易生平和诗歌创作特点，在诗歌史上的地位及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通过对课文的具体赏析，讨论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38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59280" y="259920"/>
            <a:ext cx="5472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白居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72-8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字乐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号香山居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四十四岁被贬江州司马为界，诗人的一生可分为前后两个时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前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主要是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兼济天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在创作上，创作了大量针砭时弊、反映民生疾苦的诗作，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秦中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乐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都作于此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后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主要是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独善其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 。这一时期他创作了大量的闲适诗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xx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119811"/>
          <p:cNvSpPr/>
          <p:nvPr/>
        </p:nvSpPr>
        <p:spPr>
          <a:xfrm>
            <a:off x="873000" y="2276640"/>
            <a:ext cx="459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图片 119812" descr="12345"/>
          <p:cNvPicPr/>
          <p:nvPr/>
        </p:nvPicPr>
        <p:blipFill>
          <a:blip r:embed="rId1"/>
          <a:stretch/>
        </p:blipFill>
        <p:spPr>
          <a:xfrm>
            <a:off x="108000" y="1268280"/>
            <a:ext cx="3006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知人论世：白居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771640" y="1125000"/>
            <a:ext cx="5616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居易最大的艺术成就是倡导了“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新乐府运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就是用新题写时事的乐府式的诗。他提出了一种写作准则：“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文章合为时而著，歌诗合为事而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白居易从文学理论上和创作上掀起了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现实主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高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图片 120835" descr="12345"/>
          <p:cNvPicPr/>
          <p:nvPr/>
        </p:nvPicPr>
        <p:blipFill>
          <a:blip r:embed="rId1"/>
          <a:stretch/>
        </p:blipFill>
        <p:spPr>
          <a:xfrm>
            <a:off x="108000" y="1270080"/>
            <a:ext cx="2646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22:26:30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20-01-01T10:29:56Z</dcterms:modified>
  <cp:revision>15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