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7EAA-7D4F-4C33-9712-A908108C6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70B0-572D-4B89-904E-A9D220EB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5B8D-A9B4-425F-8D7A-12023C71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60DE-9C0C-44FC-A07C-0FD3A0B6D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3D66-8520-4465-85E1-9B8A00F4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A3A5-34D9-470F-9793-3D94CD0F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A1BA-0B3C-491F-9B88-3B2108DE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4EB1-321D-453A-A8A6-7BCFBD6C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1407-8C9A-443D-9E55-05577E1C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1FA7-13C4-4269-A45F-F9E6A690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3BB0-6D9E-4A5D-B399-9FAFDCBC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EF7F-545B-46BB-8311-F760A241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C11A-E139-4D8C-84C0-9AD336DF2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66680" y="2997000"/>
            <a:ext cx="40813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39640" y="3571560"/>
            <a:ext cx="511164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08520" y="4123080"/>
            <a:ext cx="32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46270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931000" y="573336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16880" y="3283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94400" y="326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Administrator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