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D7-682A-4ADA-9F2E-FA54DB36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25E-A09D-4B5B-AFF3-5F66F78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5D1-365A-411B-8761-A3ACD1FC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1C2-A5E6-428F-808D-B5E844D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742-7B93-480A-B96B-E1FEB532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B8F-5153-4A2C-BC0C-7997C8FD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863-5BAD-4943-A04A-D18FDE04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58D-CBFC-4D72-9BF1-945C3D57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E171-B3CD-4E6F-A0EF-B4D6AD5B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183E-0572-4334-8A1B-BDD2C5D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CF67-DE74-4726-9F6D-F1D9582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482-C85F-4BC1-86F4-DDB662A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55C-3EA6-4E6D-8246-FBC2272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E68-E991-4B4B-83B8-03B86DF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7585-B9EC-49D3-AB29-F49661D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D92-CEF0-4215-89E2-F6E8FC8F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FE50-5162-454A-A54B-9D6771CC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2F9-5154-435F-A739-FB18595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D37-F69D-4DA0-B0CA-81EBB653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170-C4C4-4F43-A883-FEDAB65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CC0-7090-4FA5-AF61-F77FE83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59D-FF32-4C21-98A6-3513BEC5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E40-CDD2-4EE3-B44F-05F7AE5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541-F065-4D94-B4AE-10B32442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E7F-1053-472D-9C33-B7D169187C9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6" descr="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圖片 7" descr="2012-06-08_15105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33" descr="M:\出版部美編\天下雜誌群Logo\親子天下logo-新！正版！！\親子天下+出版藍logo.jpg"/>
          <p:cNvPicPr/>
          <p:nvPr/>
        </p:nvPicPr>
        <p:blipFill>
          <a:blip r:embed="rId4"/>
          <a:stretch/>
        </p:blipFill>
        <p:spPr>
          <a:xfrm>
            <a:off x="7885080" y="6407280"/>
            <a:ext cx="1295280" cy="450720"/>
          </a:xfrm>
          <a:prstGeom prst="rect">
            <a:avLst/>
          </a:prstGeom>
          <a:ln w="0">
            <a:noFill/>
          </a:ln>
        </p:spPr>
      </p:pic>
      <p:sp>
        <p:nvSpPr>
          <p:cNvPr id="44" name="直線接點 9"/>
          <p:cNvSpPr/>
          <p:nvPr/>
        </p:nvSpPr>
        <p:spPr>
          <a:xfrm>
            <a:off x="250920" y="1197000"/>
            <a:ext cx="403380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C35-F05E-4532-B18B-267D948A24A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95280" y="549360"/>
            <a:ext cx="5472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小兒科醫師在你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輕鬆克服四大麻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病毒、細菌、流感、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圖片 5" descr="黃瑽寧_書封照片.gif"/>
          <p:cNvPicPr/>
          <p:nvPr/>
        </p:nvPicPr>
        <p:blipFill>
          <a:blip r:embed="rId1"/>
          <a:stretch/>
        </p:blipFill>
        <p:spPr>
          <a:xfrm>
            <a:off x="5364000" y="1255680"/>
            <a:ext cx="3780000" cy="5602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黃瑽寧醫師健康講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33" descr="M:\出版部美編\天下雜誌群Logo\親子天下logo-新！正版！！\親子天下+出版藍logo.jpg"/>
          <p:cNvPicPr/>
          <p:nvPr/>
        </p:nvPicPr>
        <p:blipFill>
          <a:blip r:embed="rId2"/>
          <a:stretch/>
        </p:blipFill>
        <p:spPr>
          <a:xfrm>
            <a:off x="7885080" y="6407280"/>
            <a:ext cx="1295280" cy="450720"/>
          </a:xfrm>
          <a:prstGeom prst="rect">
            <a:avLst/>
          </a:prstGeom>
          <a:ln w="0">
            <a:noFill/>
          </a:ln>
        </p:spPr>
      </p:pic>
      <p:pic>
        <p:nvPicPr>
          <p:cNvPr id="90" name="圖片 8" descr="7.jpg"/>
          <p:cNvPicPr/>
          <p:nvPr/>
        </p:nvPicPr>
        <p:blipFill>
          <a:blip r:embed="rId3"/>
          <a:stretch/>
        </p:blipFill>
        <p:spPr>
          <a:xfrm>
            <a:off x="92160" y="5761080"/>
            <a:ext cx="390672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250920" y="1074600"/>
            <a:ext cx="4105080" cy="19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684360" y="1484280"/>
            <a:ext cx="7200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在所有危險族群當中，相對於老人與嬰兒，孕婦是比較會外出、搭捷運、坐公車的人。偏偏孕婦得到流感之後的重症率較高，死亡率也較高，所以接種疫苗絕對是刻不容緩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目前全世界的研究都顯示，孕婦接種流感疫苗安全無慮，因此懷孕的媽媽可以放心接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什麼孕婦要打流感疫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圖片 5" descr="9.jpg"/>
          <p:cNvPicPr/>
          <p:nvPr/>
        </p:nvPicPr>
        <p:blipFill>
          <a:blip r:embed="rId1"/>
          <a:stretch/>
        </p:blipFill>
        <p:spPr>
          <a:xfrm>
            <a:off x="7070760" y="-23760"/>
            <a:ext cx="1969920" cy="237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684360" y="1484280"/>
            <a:ext cx="720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甚至有人更詢問，要怎麼區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型流感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型流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以醫生的角度而言，這兩個問題都非常困難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如何區分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標楷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型流感和一般感冒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圖片 3" descr="3.jpg"/>
          <p:cNvPicPr/>
          <p:nvPr/>
        </p:nvPicPr>
        <p:blipFill>
          <a:blip r:embed="rId1"/>
          <a:stretch/>
        </p:blipFill>
        <p:spPr>
          <a:xfrm>
            <a:off x="6516720" y="42840"/>
            <a:ext cx="2590920" cy="185904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684360" y="3213000"/>
            <a:ext cx="720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流感季流行高峰期，約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的感冒病患都是得到流感病毒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型流感幾乎都會發燒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會咳嗽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會流鼻涕，還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有腸胃症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型流感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型流感症狀幾乎類似，唯一不同處是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</a:t>
            </a:r>
            <a:r>
              <a:rPr b="1" lang="zh-TW" sz="2400" spc="-1" strike="noStrike">
                <a:solidFill>
                  <a:srgbClr val="0000ff"/>
                </a:solidFill>
                <a:latin typeface="Verdana"/>
              </a:rPr>
              <a:t>型流感比較容易腹瀉和肌肉酸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68436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不是絕對不能養貓或養狗，但必須做好防範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寵物餵食的地方與裝飼料的碗都不可在廚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餵食寵物前與後，都要用肥皂或酒精洗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家長必須監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歲以下的小朋友正確洗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清理寵物的糞便後，要用肥皂或酒精洗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寵物若有腹瀉，要帶去獸醫檢查是否感染沙門氏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跟寵物玩耍需避免被抓傷，玩耍之後要洗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不要讓寵物舔、親吻、咬您的手，更不可舔小孩的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寵物要定期給獸醫師檢查，以及接種預防疫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懷孕生子時可以養貓或養狗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圖片 5" descr="8.jpg"/>
          <p:cNvPicPr/>
          <p:nvPr/>
        </p:nvPicPr>
        <p:blipFill>
          <a:blip r:embed="rId1"/>
          <a:stretch/>
        </p:blipFill>
        <p:spPr>
          <a:xfrm>
            <a:off x="6126120" y="-12600"/>
            <a:ext cx="2981520" cy="135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539640" y="1484280"/>
            <a:ext cx="806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Calibri"/>
              </a:rPr>
              <a:t>喜樂的心，乃是良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快樂的生活較不容易生病，因為心情好，抵抗力就佳，這是得到科學證明的事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快樂生活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昇孩子的抵抗力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圖片 5" descr="4.jpg"/>
          <p:cNvPicPr/>
          <p:nvPr/>
        </p:nvPicPr>
        <p:blipFill>
          <a:blip r:embed="rId1"/>
          <a:stretch/>
        </p:blipFill>
        <p:spPr>
          <a:xfrm>
            <a:off x="6218280" y="42840"/>
            <a:ext cx="2962080" cy="1871640"/>
          </a:xfrm>
          <a:prstGeom prst="rect">
            <a:avLst/>
          </a:prstGeom>
          <a:ln w="0">
            <a:noFill/>
          </a:ln>
        </p:spPr>
      </p:pic>
      <p:sp>
        <p:nvSpPr>
          <p:cNvPr id="132" name="矩形 8"/>
          <p:cNvSpPr/>
          <p:nvPr/>
        </p:nvSpPr>
        <p:spPr>
          <a:xfrm>
            <a:off x="539640" y="3645000"/>
            <a:ext cx="8064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孩子的心情當然也是免疫力的指標，家人常陪在身邊，生活很開心的孩子，其實不容易生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如果爸媽每天能抱抱孩子，告訴他們你們愛他，陪他們講故事，看看他們臉上的笑容，相信很多疾病將會不藥而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2"/>
          <p:cNvSpPr/>
          <p:nvPr/>
        </p:nvSpPr>
        <p:spPr>
          <a:xfrm>
            <a:off x="3851280" y="3284640"/>
            <a:ext cx="50418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小孩生病，誰是元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搞清楚敵人是誰，一切輕鬆搞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不管小孩打預防針還是發高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都能穩如泰山來判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就像小兒科醫生在你家一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851280" y="1700280"/>
            <a:ext cx="5041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Calibri"/>
              </a:rPr>
              <a:t>史上最幽默的小兒健康寶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Calibri"/>
              </a:rPr>
              <a:t>帶您輕鬆認識幼兒病菌與預防方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唉唷！這些惱人的小麻煩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—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輕鬆搞懂疫苗、流感、細菌與病毒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圖片 8" descr="BCCEF001P 唉唷！這些惱人的小麻煩.jpg"/>
          <p:cNvPicPr/>
          <p:nvPr/>
        </p:nvPicPr>
        <p:blipFill>
          <a:blip r:embed="rId1"/>
          <a:stretch/>
        </p:blipFill>
        <p:spPr>
          <a:xfrm>
            <a:off x="479520" y="1700280"/>
            <a:ext cx="32288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0"/>
          <p:cNvSpPr/>
          <p:nvPr/>
        </p:nvSpPr>
        <p:spPr>
          <a:xfrm>
            <a:off x="3851280" y="1700280"/>
            <a:ext cx="482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《親子天下》雜誌專欄作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其部落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疑難雜症的故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第五屆華文部落格大獎年度最佳生活情報推薦優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另著有育兒書《輕鬆當爸媽，孩子更健康》及親子書《身教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馬偕醫院小兒感染科主治醫師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黃瑽寧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醫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圖片 7" descr="1.jpg"/>
          <p:cNvPicPr/>
          <p:nvPr/>
        </p:nvPicPr>
        <p:blipFill>
          <a:blip r:embed="rId1"/>
          <a:stretch/>
        </p:blipFill>
        <p:spPr>
          <a:xfrm>
            <a:off x="6504120" y="55440"/>
            <a:ext cx="2560680" cy="1792440"/>
          </a:xfrm>
          <a:prstGeom prst="rect">
            <a:avLst/>
          </a:prstGeom>
          <a:ln w="0">
            <a:noFill/>
          </a:ln>
        </p:spPr>
      </p:pic>
      <p:pic>
        <p:nvPicPr>
          <p:cNvPr id="140" name="圖片 7" descr="BCCEF001P 唉唷！這些惱人的小麻煩.jpg"/>
          <p:cNvPicPr/>
          <p:nvPr/>
        </p:nvPicPr>
        <p:blipFill>
          <a:blip r:embed="rId2"/>
          <a:stretch/>
        </p:blipFill>
        <p:spPr>
          <a:xfrm>
            <a:off x="479520" y="1700280"/>
            <a:ext cx="32288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468360" y="1341360"/>
            <a:ext cx="820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黃醫師以深入淺出的文字，生動清楚地回答上述這些令人難以理解的專業問題，不僅讓人有身歷其境的感覺，而且在沒有壓力之下，輕鬆了解這些艱澀的醫學常識。更加難能可貴的是，他在專業學理的說明亦十分用心，</a:t>
            </a:r>
            <a:r>
              <a:rPr b="1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避開大家較不熟悉的字彙，使用大家熟悉的語言，讓讀者可以輕易看懂，這真的是一本不可多得的育兒寶典。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紀鑫（馬偕醫院小兒感染科主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專家真誠推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圖片 3" descr="7.jpg"/>
          <p:cNvPicPr/>
          <p:nvPr/>
        </p:nvPicPr>
        <p:blipFill>
          <a:blip r:embed="rId1"/>
          <a:stretch/>
        </p:blipFill>
        <p:spPr>
          <a:xfrm>
            <a:off x="6083280" y="109440"/>
            <a:ext cx="2987640" cy="8049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468360" y="4005360"/>
            <a:ext cx="8207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黃瑽寧醫師無疑是「說清楚」的高手，在本書裡更可看出他如何有趣又有系統地將「傳染病」和「微生物」介紹給讀者。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看完後，萬一將來不幸給「惱人的小麻煩」纏上身，也可以從容的了解發病過程的來龍去脈以及要注意的事項。就請泡壺茶或點杯咖啡，輕鬆地翻開下一頁吧！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邱南昌（中華民國兒童保健協會秘書長、馬偕醫院兒科部資深主治醫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684360" y="1484280"/>
            <a:ext cx="7200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如果有病毒跑到鼻子裡，不管有沒有「著涼」，都會感冒，也就是說，</a:t>
            </a:r>
            <a:r>
              <a:rPr b="1" lang="zh-TW" sz="2400" spc="-1" strike="noStrike">
                <a:solidFill>
                  <a:srgbClr val="0000ff"/>
                </a:solidFill>
                <a:latin typeface="Calibri"/>
              </a:rPr>
              <a:t>感冒還是要有病毒感染才會發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人每天都會接觸到各種病毒，這些病毒一般會被我們上皮組織的免疫細胞阻擋著，無法進到身體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著涼真的會感冒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圖片 10" descr="2.jpg"/>
          <p:cNvPicPr/>
          <p:nvPr/>
        </p:nvPicPr>
        <p:blipFill>
          <a:blip r:embed="rId1"/>
          <a:stretch/>
        </p:blipFill>
        <p:spPr>
          <a:xfrm>
            <a:off x="7126200" y="128520"/>
            <a:ext cx="1908360" cy="142560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684360" y="4221000"/>
            <a:ext cx="7200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但若突然遇到冷空氣，鼻腔的血管會馬上收縮，造成免疫細胞供應不足，這時候病毒就可以突破重圍，造成疾病的產生，可能就會感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684360" y="1484280"/>
            <a:ext cx="7200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接下來這四種病毒症狀都很類似，同樣會造成一般感冒、肺炎、急性細支氣管炎、中耳炎和鼻竇炎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父母必須在症狀當中尋找一些蛛絲馬跡，以提供給醫生來做鑑別診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常見感染兒童呼吸道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大殺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圖片 4" descr="3.jpg"/>
          <p:cNvPicPr/>
          <p:nvPr/>
        </p:nvPicPr>
        <p:blipFill>
          <a:blip r:embed="rId1"/>
          <a:stretch/>
        </p:blipFill>
        <p:spPr>
          <a:xfrm>
            <a:off x="6748560" y="42840"/>
            <a:ext cx="2408040" cy="1730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68436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綽　　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燒久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一般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發高燒、咳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特殊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眼睛泛紅、結膜炎、扁桃腺化膿、頸部淋巴結腫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英勇事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常燒超過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天，把醫生嚇得半死，把家長累成人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檢驗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咽喉採檢送病毒培養（需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天甚至更久），常常病人都痊癒回家了，報告才出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對付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無，只能多喝水多休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常見感染兒童呼吸道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大殺手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腺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圖片 7" descr="1.jpg"/>
          <p:cNvPicPr/>
          <p:nvPr/>
        </p:nvPicPr>
        <p:blipFill>
          <a:blip r:embed="rId1"/>
          <a:stretch/>
        </p:blipFill>
        <p:spPr>
          <a:xfrm>
            <a:off x="6404040" y="57240"/>
            <a:ext cx="2663640" cy="185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68436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綽　　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冬日殺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一般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發燒、咳嗽、流鼻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特殊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型流感容易肌肉酸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英勇事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發燒約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天，於冬天流行，造成幼兒與老人嚴重的併發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檢驗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咽喉快篩可以迅速診斷，但非百分之百準確。傳統的病毒培養需要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天左右，緩不濟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對付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口服「克流感」可治療，於發病兩天內使用效果較好，孕婦嬰兒皆可服用。另有預防性的流感疫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常見感染兒童呼吸道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大殺手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流感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圖片 5" descr="9.jpg"/>
          <p:cNvPicPr/>
          <p:nvPr/>
        </p:nvPicPr>
        <p:blipFill>
          <a:blip r:embed="rId1"/>
          <a:stretch/>
        </p:blipFill>
        <p:spPr>
          <a:xfrm>
            <a:off x="6993000" y="25560"/>
            <a:ext cx="2043000" cy="246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68436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綽　　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哮喘製造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一般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發燒、咳嗽、微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特殊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常引起急性細支氣管炎，氣喘發作，嬰幼兒哮喘，以及久咳不癒超過兩週以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英勇事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早產兒與患先天性心臟病的兒童，感染此病毒可能會住院，甚至死亡。它也是造成一般小孩急性細支氣管炎住院主要的病毒之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檢驗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咽喉或抽痰送快速篩檢，報告兩天內就會出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對付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有吸入型抗病毒藥物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ibavirin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，但副作用多，只使用在加護病房的病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常見感染兒童呼吸道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大殺手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呼吸道融合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圖片 5" descr="10.jpg"/>
          <p:cNvPicPr/>
          <p:nvPr/>
        </p:nvPicPr>
        <p:blipFill>
          <a:blip r:embed="rId1"/>
          <a:stretch/>
        </p:blipFill>
        <p:spPr>
          <a:xfrm>
            <a:off x="6638760" y="85680"/>
            <a:ext cx="242604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68436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綽　　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鎖喉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一般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發燒、咳嗽、鎖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特殊症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造成「哮吼」疾病，咳起來像狗吠，聲音沙啞，呼吸困難。成人如果得到此病毒，也會沙啞的說不出話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英勇事蹟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如果鎖喉太過嚴重，小孩可能因為呼吸困難，半夜被送到急診室急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檢驗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咽喉採檢送病毒培養，培養出病毒需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天或更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ff"/>
                </a:solidFill>
                <a:latin typeface="Verdana"/>
              </a:rPr>
              <a:t>對付方法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無，喝開水多休息，約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週會痊癒。可使用氣霧機或浴室的蒸汽，讓寶寶吸入潮溼空氣紓緩症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常見感染兒童呼吸道的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Verdana"/>
              </a:rPr>
              <a:t>大殺手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副流感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圖片 3" descr="2.jpg"/>
          <p:cNvPicPr/>
          <p:nvPr/>
        </p:nvPicPr>
        <p:blipFill>
          <a:blip r:embed="rId1"/>
          <a:stretch/>
        </p:blipFill>
        <p:spPr>
          <a:xfrm>
            <a:off x="7034040" y="128520"/>
            <a:ext cx="2000520" cy="149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684360" y="148428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事實上是很難分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流感患者約有九成會有發燒、咳嗽症狀，喉嚨痛佔六成，腸胃道症狀則少於四分之一（吐或腹瀉），其中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的病人需住院治療。</a:t>
            </a:r>
            <a:r>
              <a:rPr b="1" lang="zh-TW" sz="2400" spc="-1" strike="noStrike">
                <a:solidFill>
                  <a:srgbClr val="0000ff"/>
                </a:solidFill>
                <a:latin typeface="Verdana"/>
              </a:rPr>
              <a:t>病人看起來比較虛弱，可算是流感的特色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何分辨流感與感冒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圖片 5" descr="4.jpg"/>
          <p:cNvPicPr/>
          <p:nvPr/>
        </p:nvPicPr>
        <p:blipFill>
          <a:blip r:embed="rId1"/>
          <a:stretch/>
        </p:blipFill>
        <p:spPr>
          <a:xfrm>
            <a:off x="6334200" y="42840"/>
            <a:ext cx="2846160" cy="180504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684360" y="4508640"/>
            <a:ext cx="7200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發燒可不可以當做流感的指標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雖然大部分流感病人都會發燒，但非百分百準確指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684360" y="1484280"/>
            <a:ext cx="7200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Verdana"/>
              </a:rPr>
              <a:t>戴口罩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：不需全天都戴，只需在人潮多的公共場所，才需戴口罩。外科口罩有三層式結構，可以阻擋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的飛沫，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95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相去並不會太遠，所以戴外科口罩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何預防得到新流感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圖片 5" descr="8.jpg"/>
          <p:cNvPicPr/>
          <p:nvPr/>
        </p:nvPicPr>
        <p:blipFill>
          <a:blip r:embed="rId1"/>
          <a:srcRect l="0" t="35141" r="0" b="0"/>
          <a:stretch/>
        </p:blipFill>
        <p:spPr>
          <a:xfrm>
            <a:off x="61920" y="5373720"/>
            <a:ext cx="3176640" cy="151128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684360" y="3716280"/>
            <a:ext cx="7200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Verdana"/>
              </a:rPr>
              <a:t>勤洗手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：是預防流感的王道。人常不自覺摸鼻子、揉眼睛，建議隨身帶一瓶乾洗手液，接觸別的物品之後就使用，這樣才能減少手上的病毒帶給自己的機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8:58:50Z</dcterms:created>
  <dc:creator> </dc:creator>
  <dc:description/>
  <dc:language>en-US</dc:language>
  <cp:lastModifiedBy>User</cp:lastModifiedBy>
  <dcterms:modified xsi:type="dcterms:W3CDTF">2012-10-24T01:06:30Z</dcterms:modified>
  <cp:revision>214</cp:revision>
  <dc:subject/>
  <dc:title>投影片 1</dc:title>
</cp:coreProperties>
</file>