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FCF1-2F22-48A4-B0E2-3455681C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229-D64A-425B-807D-CE6388A5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7682C-992E-429A-B977-74828F37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35A6E-97B9-4E0E-9051-CA92BB2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CFB4D-C78C-429D-9D69-39CB6778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DBC25-9273-4B4B-BCE8-BDD46633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628DC-E69A-406A-80E8-0AC0D95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5078E-7256-45C9-A534-78A6AA2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CA5EB-5399-4D3B-B2C4-ED2B7B8A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7F2DD-E82C-4FDD-B7FA-29C50DA1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F7B77-6D48-4D8E-808C-0D8DADC3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CDD78-C62F-46E8-A429-662A9043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1CD-C6AB-497B-BD53-87E34E8E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69005-E026-451D-BCA4-34B9A8F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B81AE-892E-47AF-9C2C-BFACD66C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F0D89-6461-4986-8719-9ED9730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5F1B7-48A3-41E9-AD54-24B994A9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2F2FB-76E6-4993-8C49-D9180F8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B0539-CF21-490C-8C23-9538937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41700-3401-4B68-BF8D-02AB99BD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E48C3-C69C-43E7-98D8-A2E79048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F9968-9802-4D8E-9568-ED1642DC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FB874-EA8F-4C66-B82E-694EF656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AAD-1164-40D8-ABD4-D60B14F2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E50F1-B17B-4D55-8442-EA191257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23A98-E864-46C6-A122-2AACB1FC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C17C2-7AC8-42CA-935F-CF7B942F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F6D21-FEB0-40D7-A210-157AF8CF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B1C84-B004-4D90-88DF-7BDC2E51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9CD7-A26E-40E9-8B0F-0D6A192A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59132-8B51-407E-8616-2671810D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E15C5-B433-457A-B2C1-9E20145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EE3D7-A83F-4C19-96CF-2F721CC6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63261-2D18-4685-A61B-3125A13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8FB7-5CCF-4D07-A1EB-0FFB7C58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56FF7-9A6A-49E0-A930-8FF5D13B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B1F5-CDEB-4199-9884-1AECED67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43AD8-4990-429E-9249-A74735A8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81A37-E2C0-4D71-AB7E-224307BF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1F981-B6F1-49C8-87FA-CC062C48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2C19D-039E-4CDD-AB15-59FF55FE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024C7-2FC0-4289-BB1A-C07D1D81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5F7F6-B204-4D19-8DC1-E7955917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4209E-0FA6-435B-99C4-7B2B9976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B6BAA-57F1-400A-BF70-BF80C8B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181C-E57C-4BDE-B033-234D89DF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59C8B-21E3-464A-B1B8-56D3C12D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43D4A-EFA7-4A87-8E87-E1F3A3E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16082-1BE6-45F1-BF96-C35C4639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D7000-8801-4F8C-A05E-2FC7A381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6E0F7-C004-4B3D-B691-2B69E21B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33664-AAF1-4EDA-9B45-6B0FD75B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205A5-3B64-45BE-B038-DB8CB41D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F7050-714D-4E2B-867F-C6B9FD3E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73101-39B4-4984-8189-9B89FF1F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D3B47-2F18-4916-9FCE-01EE9F24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7B0E-EF1A-445D-A09D-CC21E971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887FE-5BBB-4A96-8203-C1CC905B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BD5F7-2A28-4A37-A600-B966C532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03044-A920-466E-968C-3595058E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8304D-DA80-4C72-A605-78A7777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CB38D-0EDD-4800-9871-486F25A3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7F55D-2865-40FC-8FB7-D82A57AA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8C7C3-6ED3-4C78-B589-3F7A71F7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48FB-7C89-472E-B05A-03003E26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045C-9F5D-4249-8211-6818A479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9325-00E8-4004-8545-B56615B7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0D00-4720-406F-A7C8-9AFAF233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04A-0B71-4AEC-8D82-B8C36EBC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9C95-5D7E-4843-A2DA-A1BA641A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3C6-06A8-40E0-886E-39A89209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7106-AF17-46E3-8DE1-DEB54C2D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604E-8B53-4608-8019-B0693C53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6908-1871-4E2C-AED3-3E9E69F2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8054-71BA-45F6-9B79-E3EB4F00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04FC0-A20C-4ECF-9FDB-0C138252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AF22-CD0D-43D2-8009-58770086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A85A-ABF6-4AD3-B740-37D91BCF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0ED9-29DD-4B77-BB26-8EFDC9C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7C27-7A5A-4FD0-A04F-932796FD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A105-399A-4BC6-BD85-B94AB621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8A40-BF46-4C64-93CC-C4ACF1E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AD4A-4EAD-4828-BA13-932D7DF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85AF-1BAC-4632-9E6E-988B3307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1816-F18B-4F66-9170-1C0B0231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056B-1330-4418-A383-32671814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1F86-DF71-48B1-A3DC-9DF9B660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DB19-F88E-45E8-A334-5883CB4F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255B-FE6B-4D4D-9455-0F14203B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979E-8AA8-4AA4-B0FE-150B2860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77D-A9F4-4BEB-BD07-CDBE3964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FD26-7AB3-42AC-9AA0-3C34CCBD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7DFE-1F7D-411F-9E1D-10E04449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159F-A944-4399-9536-5A465CAA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8A4CE-86F0-488C-97B4-D6CD4BC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F3CF-F767-4A8A-95EE-B9B19E8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BD39-F7AA-45CE-A2D7-3773CFBC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3D635-A4E2-49AE-95DE-F50D129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147B-9437-435F-915F-3CF5258B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E5EB-F525-4DA5-9781-A208B367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0A0D7-8D3E-4B27-96C4-D734D3D7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860-78B5-4B23-89AA-486D6B70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8325-4C22-45A7-8B06-75334379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602B-A52B-4BDE-8E89-8FC56CC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D353-654D-4807-8372-2F1F865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281CD-F0B9-444B-B4A7-4DB3EF6A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2322-2EF6-4FAD-A912-C8FB6C04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61B8-715B-4BAF-9BAC-11DB0CBC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924B6-FDFF-477E-8488-43ED8A6F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F882-49DA-4742-89AC-DF9B01B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4B201-2674-4A85-B552-08A7A528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3CCF1-0970-4B82-883D-8B2DCCBA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81C-D0D5-49C0-93D7-BB56CD42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6D2E4-848D-4017-8FC6-66247D25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B883-6524-4015-9C94-2390A761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67F4-7B37-45D1-A7D1-C52E194B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A1D1B-19C4-4752-A4E9-ADED64AA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9E8A-FDE4-42F5-91BC-C290FDBA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BD263-9CE5-4E32-9260-E57A9E61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68ECD-280B-48AC-A0F2-679E1493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B14E4-6136-4889-85D2-79A6261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5AD6D-9BF8-4EB5-807D-88165FC9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1C5A0-B8DD-4FE2-B364-DC0BCC1B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FF9-4817-46E5-B901-0D64EF3B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737E-954A-410F-9B37-FD7FA135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6CD9B-F0BE-45DD-863A-8559AF7A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33C7-85B9-4B5F-93B8-2FF01D35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C61F-268F-4A4F-95C5-EBDD7931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808FF-25E4-477C-96FA-07B35311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D465E-7EC9-41D7-AFBB-4D94D6C0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D913F-B052-4BC0-A4DD-47325CDD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F2926-2B79-49C8-9122-7EE801F5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737FF-D5D7-4BBC-89DB-61893B5A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B7A38-716F-40AD-A80F-9F9B4D5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05E-F969-4899-BF6E-3C7AF379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74500-DDF6-4DDC-AE56-E55D2D76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F043-F7CC-4FE8-AAA4-8976D6B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E98E0-62EB-4906-BFDA-5D2EA73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0696-3896-4850-98F3-2215FC6F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5F81-4B83-4BEA-A44F-FE3DFDFF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94769-B4EA-41CF-9834-EE96DC39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0CFDA-F0F3-401A-9961-759F1B2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DAA5F-C1D2-4DC9-8160-FFCD30F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766F1-6ACD-4C57-97FD-3F347B02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79EEC-1C88-40C7-9795-F45C592A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11C-1EBF-427D-B5C4-6A17EF28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7F00-227F-4A2A-AB8F-4411CB64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CB1C0-5DDF-4523-BCF9-75A4A88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92C48-0BE0-4239-B59E-2852B17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C3A65-2D06-4B16-9241-24718506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C7793-F0C5-4015-BCB9-664F492B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A738F-2DEE-454A-9F41-7E2B15F6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84DB4-D995-41B9-AC37-7F0E5665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E4F19-C723-4343-A3D0-A918D3C7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7B85D-EB3A-438B-B3DD-6E21022C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D799B-20AA-4661-B5CA-66901C30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9C23-468F-405D-A735-0A1ADA6C40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624A-8DDE-40C4-9B47-DEC4B0E347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23FD-27C1-4B07-A16F-CE8BD53405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3E27-FD2C-43A0-867A-931A44D767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A435-CC7A-453A-82DF-2673DA76EB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687C-AE4E-4021-BECF-1AF60E19FC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7D15-493F-48D5-A233-76217466B4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CF16-BD76-4197-B5C5-E361989F3C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BE71-70A9-4258-B1B2-C40A5822A0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DADC-1F37-407F-A1DE-DAA218569F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B97E-DA19-4E23-8B13-612A6E1C21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0184-6D27-465B-B924-87AC1DEB9D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3AB0-9878-457F-9F7D-08F83AD19C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A369-B9CB-4091-AC84-3ADC15F6C5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78D-8B02-4457-A51D-A4D739B9E5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D0B-C6F9-4E1D-BA4C-4916D757E4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7006-1488-4669-8316-4F5E40F3E8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6067-553A-48F2-84A5-22E4C21381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9566-7D35-4125-8C47-DBE3F241BA4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ADC-A33F-42A9-9F93-7DA59B6022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E75C-850F-443B-966F-10432B63E5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D38D-AEF2-46C6-902F-326E14E07C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AAA9-22B1-4595-91CB-BF83E4E10E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D6A-C876-4DB5-9931-6F48513408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A46A-93D3-4D2B-9524-AE9FA3656E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0D07-AFAA-4B70-9E73-818981E939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13"/>
          <p:cNvSpPr/>
          <p:nvPr/>
        </p:nvSpPr>
        <p:spPr>
          <a:xfrm>
            <a:off x="942840" y="3168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1440" y="936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"/>
          <p:cNvPicPr/>
          <p:nvPr/>
        </p:nvPicPr>
        <p:blipFill>
          <a:blip r:embed="rId4"/>
          <a:stretch/>
        </p:blipFill>
        <p:spPr>
          <a:xfrm>
            <a:off x="1440" y="32893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"/>
          <p:cNvPicPr/>
          <p:nvPr/>
        </p:nvPicPr>
        <p:blipFill>
          <a:blip r:embed="rId5"/>
          <a:stretch/>
        </p:blipFill>
        <p:spPr>
          <a:xfrm>
            <a:off x="0" y="482436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6"/>
          <a:stretch/>
        </p:blipFill>
        <p:spPr>
          <a:xfrm>
            <a:off x="1670040" y="1776240"/>
            <a:ext cx="3611520" cy="6142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"/>
          <p:cNvPicPr/>
          <p:nvPr/>
        </p:nvPicPr>
        <p:blipFill>
          <a:blip r:embed="rId7"/>
          <a:stretch/>
        </p:blipFill>
        <p:spPr>
          <a:xfrm>
            <a:off x="-11160" y="1628640"/>
            <a:ext cx="1087560" cy="21495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"/>
          <p:cNvPicPr/>
          <p:nvPr/>
        </p:nvPicPr>
        <p:blipFill>
          <a:blip r:embed="rId8"/>
          <a:stretch/>
        </p:blipFill>
        <p:spPr>
          <a:xfrm>
            <a:off x="0" y="-4680"/>
            <a:ext cx="9828360" cy="1503360"/>
          </a:xfrm>
          <a:prstGeom prst="rect">
            <a:avLst/>
          </a:prstGeom>
          <a:ln w="0">
            <a:noFill/>
          </a:ln>
        </p:spPr>
      </p:pic>
      <p:sp>
        <p:nvSpPr>
          <p:cNvPr id="542" name="TextBox 3"/>
          <p:cNvSpPr/>
          <p:nvPr/>
        </p:nvSpPr>
        <p:spPr>
          <a:xfrm>
            <a:off x="2356200" y="35892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1"/>
          <p:cNvSpPr/>
          <p:nvPr/>
        </p:nvSpPr>
        <p:spPr>
          <a:xfrm>
            <a:off x="4784760" y="84456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-30240" y="9360"/>
            <a:ext cx="9174240" cy="68565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4"/>
          <a:stretch/>
        </p:blipFill>
        <p:spPr>
          <a:xfrm>
            <a:off x="-36360" y="3274920"/>
            <a:ext cx="7035480" cy="35766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5"/>
          <a:stretch/>
        </p:blipFill>
        <p:spPr>
          <a:xfrm>
            <a:off x="-36360" y="4826160"/>
            <a:ext cx="6557760" cy="20318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"/>
          <p:cNvPicPr/>
          <p:nvPr/>
        </p:nvPicPr>
        <p:blipFill>
          <a:blip r:embed="rId6"/>
          <a:stretch/>
        </p:blipFill>
        <p:spPr>
          <a:xfrm>
            <a:off x="-20520" y="1268280"/>
            <a:ext cx="1392120" cy="2756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9320" cy="68644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4"/>
          <a:stretch/>
        </p:blipFill>
        <p:spPr>
          <a:xfrm>
            <a:off x="-7920" y="32749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7" descr=""/>
          <p:cNvPicPr/>
          <p:nvPr/>
        </p:nvPicPr>
        <p:blipFill>
          <a:blip r:embed="rId5"/>
          <a:stretch/>
        </p:blipFill>
        <p:spPr>
          <a:xfrm>
            <a:off x="-3240" y="482760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8" descr=""/>
          <p:cNvPicPr/>
          <p:nvPr/>
        </p:nvPicPr>
        <p:blipFill>
          <a:blip r:embed="rId6"/>
          <a:stretch/>
        </p:blipFill>
        <p:spPr>
          <a:xfrm>
            <a:off x="-11160" y="1268280"/>
            <a:ext cx="1303560" cy="25797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11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7"/>
          <p:cNvSpPr/>
          <p:nvPr/>
        </p:nvSpPr>
        <p:spPr>
          <a:xfrm>
            <a:off x="0" y="299880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9" descr=""/>
          <p:cNvPicPr/>
          <p:nvPr/>
        </p:nvPicPr>
        <p:blipFill>
          <a:blip r:embed="rId9"/>
          <a:stretch/>
        </p:blipFill>
        <p:spPr>
          <a:xfrm>
            <a:off x="1042920" y="125280"/>
            <a:ext cx="7705800" cy="268452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png-0644"/>
          <p:cNvPicPr/>
          <p:nvPr/>
        </p:nvPicPr>
        <p:blipFill>
          <a:blip r:embed="rId10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png-0652"/>
          <p:cNvPicPr/>
          <p:nvPr/>
        </p:nvPicPr>
        <p:blipFill>
          <a:blip r:embed="rId11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8-05T01:47:51Z</dcterms:modified>
  <cp:revision>12</cp:revision>
  <dc:subject/>
  <dc:title>PowerPoint 演示文稿</dc:title>
</cp:coreProperties>
</file>