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whoosh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10.png" ContentType="image/png"/>
  <Override PartName="/ppt/media/image13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18.jpeg" ContentType="image/jpeg"/>
  <Override PartName="/ppt/media/image22.wmf" ContentType="image/x-wmf"/>
  <Override PartName="/ppt/media/camera.wav" ContentType="audio/x-wav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type.wav" ContentType="audio/x-wav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A243-D113-4C1D-9085-CBECC36EEA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E2CB-B435-449F-ADD6-1FB5AB76E2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2FC7-0D4F-4248-AD78-C55A61BEF9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DCA0-ADB0-4244-BF96-207F0D7716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54EE-5038-4BBC-BBF3-3C1C32EB51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978-846B-4094-8815-4027FF86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605-F43C-4295-984D-0058479D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98773-FB10-42CD-83E1-4A0D990D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99EDF-2D5E-4DEC-B12B-32A91080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2B47A-37B4-4956-9D63-93F04D4F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5C453-8642-403A-A22E-B9061F23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4D207-1626-4561-9579-AFE4409A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D4152-AAFC-4E72-8302-7A7E3A0D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B3619-B8C6-4736-BC8E-4D299EFD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20729-6568-4D6F-AEDC-87C2D0AD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BD9C7-63CC-49A2-8BFF-E2C5E0DA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3F57E-C415-4585-8C8A-9B9468ED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D82-631C-4479-9671-0126C8F9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CC683-DABB-4B3F-A336-5CA15512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AE813-1834-4F08-A458-25EA232B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19B24-A0FB-4059-847A-92E40C06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08961-D237-439E-B20E-60CB2186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45AFD-296C-4A7C-807E-FE888DF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9D248-F9E3-4469-8917-FC521594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70AB7-6B36-48A0-8C5B-E680655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5D249-CB82-422E-A341-B4DA86CE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BFF54-3F6A-4B6A-823F-8EADA340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0EE10-0181-4749-A8A3-472D4BE2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6F2-6F29-4898-BD0B-05A3D0B7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CA130-7B9B-49FC-AB7A-FF106A46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B843F-BCD6-49AC-A898-E55E5E9D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0123F-8BFF-4227-B57B-905E08C3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21C4C-279F-48E5-8B8C-6F824E18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D0EE9-CE9A-4E55-8110-359E784C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164F6-4ED7-49A7-8B6B-08B7EBA9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D5EAE-75C3-42EA-A16E-6805D66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05DE3-AFDA-4690-B3D3-2325063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6381E-312D-4C35-8A7B-298A6571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09943-1E56-49C2-A3E6-E8FFA178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76C7-5E95-43EE-B378-F9EFB012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0036D-7AAB-43EB-B9C9-6399485C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54973-B476-4AC6-B39A-451439BA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E4154-D576-4FB3-949E-BAD747C8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DBC69-49C5-4202-BC88-5BC9E772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6A16B-CFD4-4E8B-8BD1-01F662B9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EBBE1-C634-452B-BEE6-6DA1AB6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C314A-558C-4478-801D-AF02F0D3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42C41-BF71-4AB0-8422-03FD1CC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7A21B-BFCC-4DD4-BC58-42097EE1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60937-E9A2-4B99-A500-963DF9CD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C5A5-53E9-4048-8D4D-2834947A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9C4CB-B388-4869-9FC0-50902FFB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495A4-CFC2-45E7-A232-6625AA67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BEDC6-B016-492A-9BF6-6AEA5697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E8D82-64F7-4693-B4F1-8952FD59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E1C1F-DC44-46CF-BA81-40CA20E0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D999-DBAD-456D-B738-AD3B49C0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994B-A59E-41F2-9664-0121F7A6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458B-6D92-4013-B62F-4191588A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3628-394A-4046-A51B-C5560B48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EDA3-7199-4DED-BF2E-D9961FD4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C35-56FA-45F4-A7E9-90CE246D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D9C4-22BD-43C2-AE07-15334182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BF7F-4142-4707-8215-1FC5D65F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BA76-7DB9-42E8-B273-C033E0A3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7177-C3B9-4F60-9F42-AA6AC6BC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C514-B789-4529-B6B1-383355ED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0D87-475E-4C11-8565-4E598BD1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674B-2B12-42F9-A803-903A675E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0EFAB-1B1C-4498-98F9-DDD14DA7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F3CE-4A4F-4235-8957-9D9D3169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860E-E790-4611-99F6-A1168097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4C9A-7159-4A71-8733-FD7D48A4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D8488-29FC-4EBD-82E7-3B538CBA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37EB-DCC4-4164-AB58-FD2C333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F384-BD2F-4D8F-B3AF-2E3063C4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40EE-252F-4543-9ADC-1C14499D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9168-387C-4BDC-A2AF-7E00CC65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4E3F-6BA8-42EA-A41E-90BB7003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372F-B82E-49A0-88CE-13B49CE8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2B5F-1F88-4992-8FD3-2344901B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6B2D-D83B-4A1A-BA92-8BD940EB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7C1E0-D122-49FA-A12D-DC085590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8F1-18A9-489A-BA68-41679BB1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E529-7072-4582-8D58-DC137F16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5F35-4A61-42B3-9A8F-513485FE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7FCB-39C6-40CB-B295-A1798B54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D6E6E-04EC-470F-A755-4BD566A1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D5EA-BBB5-45C8-8873-7189B266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70EF-0CC5-4810-9924-CD7C9D87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CE80-3371-428A-B091-BAE1B306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19AC-AF01-4ECE-B7E9-254196D1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607EC-0ECC-466F-A75E-E1707D2A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31066-48E9-47A1-A663-45B90EDE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DFE-F812-470E-A9E7-F6CFDC29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14F40-D261-4369-BB96-D5C6200A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0B65E-A3A1-4089-BD10-850AAB45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1FE2-093C-4C16-B983-F80DB024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D0972-3D1E-42A2-AA5F-B49C00E8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FB2E-C445-4A3F-A333-E8E2FBF8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95A70-6B5B-4544-91BA-C96FA1CD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5558F-F9FD-4BE4-805D-E5D5F3B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937F8-EAAB-4F0A-8DCC-AD312E19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BD26C-8249-4067-9888-2622251F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EDA98-45A1-4918-BF69-43372F0E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621-C403-4FBD-9EB6-C1EF6D20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06067-CB39-48C6-B04A-644D3228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FC1A-E26E-4E31-82C7-FCC76FCE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E9A5-0944-4789-8D88-7535E3C9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46BC8-8704-4331-8563-43D9DF58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74302-BC79-45DB-A4D2-2FB945C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BFCC3-5577-4802-BE53-A5296395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1C440-983E-4DEA-A11B-3CC9453F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A52C1-7396-4E8F-8873-86E0ABD2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AB2F8-2FE4-4FB5-82F3-3ED2E6D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D9E2E-C785-4095-B173-1CBB06E7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386-5CE8-4E60-8BBA-4DCDE92E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0B116-1A0C-40B1-97F2-CE5A193A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E5F51-DB81-434B-8354-25E5A071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0F120-F06B-4209-AF86-B35C4797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3DD09-5B33-4B83-9E1B-DF379751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D323-BC1F-4B9F-ADBA-DDCA9F81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63D62-A170-44D2-83C8-510D416B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4F95A-0468-48FF-945D-A1A88907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071B1-F823-402C-B9C3-1F60C693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30140-E774-4339-8E0F-BA94E7EB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281DD-15F1-4A77-B5FA-268D81F8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E36-22BE-4526-BB3A-392311BF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CD3A-23B0-41CC-892F-9C18D52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90F0A-CF9B-4AA6-ADCD-E00EC791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D49CF-3138-460D-B02C-4BC86823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11C6D-5EA3-4BC0-9191-4E497242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BCE60-73E6-4000-84CB-35F68582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61667-E8FD-47E6-A6B3-86AFB133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ED98A-7247-42A5-86C4-F46160D9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5493D-B9FF-498B-AB8F-14B384C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5E325-A82B-4058-95F6-6AA4E457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7BA11-CDA1-4E36-8888-5A1855DA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C07-D2AF-4F4C-A01F-E3B96B7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0ABAC-F53E-4D10-AB5B-EC3D4A11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C49DB-648D-4270-98B9-E7A51CA2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5740E-22B3-4049-B1B3-B5B1654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D0E5D-C225-4C03-8BF4-F079D03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90E0E-5F23-44ED-8231-6FD247AA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D0563-62A1-4252-8EFB-E4B4E5BB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F40AD-6C7E-48C5-937A-24CDF3D9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5EFA0-43B1-44FF-A5CC-324439AE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A6660-86B6-43E6-8583-65F3358C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4F971-E385-47EE-B075-980C3327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8F10-07EE-4C17-A6EF-1601D6E595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2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513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8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659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2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673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687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701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4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715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729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2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43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4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5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5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3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4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5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4A28-154F-4A98-AE5A-C3085904BE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9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800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946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9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960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3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974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988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1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002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016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030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1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032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D60D-532B-42AF-8A5A-78BFC58B79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6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3087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2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233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247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0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261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4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275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89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2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303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6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317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8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319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 type="dt" idx="3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PlaceHolder 4"/>
          <p:cNvSpPr>
            <a:spLocks noGrp="1"/>
          </p:cNvSpPr>
          <p:nvPr>
            <p:ph type="ftr" idx="3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PlaceHolder 5"/>
          <p:cNvSpPr>
            <a:spLocks noGrp="1"/>
          </p:cNvSpPr>
          <p:nvPr>
            <p:ph type="sldNum" idx="3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FD37-A2F8-4BB5-98C7-9D8DAF21F1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任意多边形 106497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106498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任意多边形 106499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106500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106501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106502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任意多边形 106503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106504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106505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106506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106507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106508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106509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106510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106511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06512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矩形 106513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106514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06515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106516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106517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任意多边形 106518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106519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106520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106521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106522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106523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106524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106525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任意多边形 106526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106527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106528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106529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106530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106531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106532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106533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任意多边形 106534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106535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06536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06537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106538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106539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106540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106541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106542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106543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106544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106545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106546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106547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06548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06549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任意多边形 106550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106551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106552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106553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106554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106555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106556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106557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106558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106559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06560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06561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106562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106563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106564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106565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任意多边形 106566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106567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106568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106569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106570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106571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06572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06573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106574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106575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106576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106577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106578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106579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106580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106581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106582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106583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06584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06585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106586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106587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106588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106589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任意多边形 106590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106591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106592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106593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106594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106595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06596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06597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任意多边形 106598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06599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106600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106601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106602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06603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06604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06605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任意多边形 106606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106607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06608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06609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106610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任意多边形 106611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任意多边形 106612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106613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任意多边形 106614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106615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106616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106617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106618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106619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06620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06621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106622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任意多边形 106623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106624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任意多边形 106625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106626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106627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106628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任意多边形 106629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106630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106631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06632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06633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106634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106635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106636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任意多边形 106637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106638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106639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106640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106641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106642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106643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106644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06645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106646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106647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106648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任意多边形 106649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106650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106651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106652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任意多边形 106653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任意多边形 106654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任意多边形 106655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106656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任意多边形 106657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06663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任意多边形 106664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任意多边形 106665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106666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106667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106668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106669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106670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 106671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106672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任意多边形 106673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 106674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 106675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任意多边形 106676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3C9F-0F1A-4D29-A186-300A582178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04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50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64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78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92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06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20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34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36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725A-C331-4A2F-8C28-816552A714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791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937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951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965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979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993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007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021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023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849A-EB7F-4E7A-B2E4-B3D6249B20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078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224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238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252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266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280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294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308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310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0197-D718-4672-8CAA-AF358B94EA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365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511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525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8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539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553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567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581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595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6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597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E0BA-FD85-4E2D-BF08-D9717F37BF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1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652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7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798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812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826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40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854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868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882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884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0C96-0518-4D2D-8017-508B5251E5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8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939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085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8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99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2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13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127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0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141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4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55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169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171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525F-34F4-43FD-9667-4A23B37E52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5" name="组合 105473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226" name="矩形 105474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任意多边形 105475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任意多边形 105476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任意多边形 105477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任意多边形 105478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任意多边形 105479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任意多边形 105480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任意多边形 105481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任意多边形 105482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任意多边形 105483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任意多边形 105484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矩形 105485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矩形 105486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任意多边形 105487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任意多边形 105488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任意多边形 105489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任意多边形 105490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任意多边形 105491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任意多边形 105492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任意多边形 105493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任意多边形 105494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任意多边形 105495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任意多边形 105496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矩形 105497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矩形 105498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任意多边形 105499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任意多边形 105500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任意多边形 105501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任意多边形 105502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任意多边形 105503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任意多边形 105504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任意多边形 105505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任意多边形 105506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任意多边形 105507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任意多边形 105508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矩形 105509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矩形 105510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任意多边形 105511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任意多边形 105512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任意多边形 105513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任意多边形 105514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任意多边形 105515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任意多边形 105516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任意多边形 105517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任意多边形 105518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任意多边形 105519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任意多边形 105520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矩形 105521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05522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任意多边形 105523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任意多边形 105524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任意多边形 105525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任意多边形 105526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任意多边形 105527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任意多边形 105528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任意多边形 105529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任意多边形 105530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任意多边形 105531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任意多边形 105532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矩形 105533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矩形 105534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任意多边形 105535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任意多边形 105536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任意多边形 105537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任意多边形 105538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任意多边形 105539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任意多边形 105540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任意多边形 105541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任意多边形 105542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任意多边形 105543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任意多边形 105544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矩形 105545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105546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任意多边形 105547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任意多边形 105548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任意多边形 105549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任意多边形 105550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任意多边形 105551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任意多边形 105552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任意多边形 105553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任意多边形 105554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任意多边形 105555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任意多边形 105556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矩形 105557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矩形 105558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任意多边形 105559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任意多边形 105560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任意多边形 105561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任意多边形 105562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任意多边形 105563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任意多边形 105564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任意多边形 105565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任意多边形 105566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任意多边形 105567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任意多边形 105568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矩形 105569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矩形 105570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任意多边形 105571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任意多边形 105572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任意多边形 105573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任意多边形 105574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任意多边形 105575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任意多边形 105576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任意多边形 105577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任意多边形 105578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任意多边形 105579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任意多边形 105580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矩形 105581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矩形 105582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任意多边形 105583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任意多边形 105584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任意多边形 105585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任意多边形 105586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任意多边形 105587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任意多边形 105588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任意多边形 105589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任意多边形 105590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任意多边形 105591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任意多边形 105592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矩形 105593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矩形 105594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任意多边形 105595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任意多边形 105596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任意多边形 105597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任意多边形 105598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任意多边形 105599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任意多边形 105600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任意多边形 105601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任意多边形 105602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任意多边形 105603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任意多边形 105604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矩形 105605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矩形 105606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任意多边形 105607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任意多边形 105608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任意多边形 105609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任意多边形 105610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任意多边形 105611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任意多边形 105612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任意多边形 105613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任意多边形 105614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任意多边形 105615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任意多边形 105616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矩形 105617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任意多边形 105618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1" name="组合 105619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372" name="任意多边形 105620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任意多边形 105621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任意多边形 105622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任意多边形 105623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任意多边形 105624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任意多边形 105625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任意多边形 105626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任意多边形 105627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任意多边形 105628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任意多边形 105629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任意多边形 105630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任意多边形 105631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任意多边形 105632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105633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386" name="任意多边形 105634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任意多边形 105635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任意多边形 105636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任意多边形 105637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任意多边形 105638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任意多边形 105639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任意多边形 105640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任意多边形 105641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任意多边形 105642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任意多边形 105643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任意多边形 105644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任意多边形 105645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任意多边形 105646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9" name="组合 105647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400" name="任意多边形 105648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任意多边形 105649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任意多边形 105650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任意多边形 105651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任意多边形 105652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任意多边形 105653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任意多边形 105654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任意多边形 105655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任意多边形 105656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任意多边形 105657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任意多边形 105658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任意多边形 105659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任意多边形 105660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3" name="组合 105661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414" name="任意多边形 105662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任意多边形 105663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任意多边形 105664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任意多边形 105665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任意多边形 105666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任意多边形 105667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任意多边形 105668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任意多边形 105669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任意多边形 105670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任意多边形 105671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任意多边形 105672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任意多边形 105673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任意多边形 105674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组合 105675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28" name="任意多边形 105676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任意多边形 105677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任意多边形 105678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任意多边形 105679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任意多边形 105680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任意多边形 105681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任意多边形 105682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任意多边形 105683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任意多边形 105684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任意多边形 105685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任意多边形 105686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任意多边形 105687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任意多边形 105688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1" name="组合 105689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442" name="任意多边形 105690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任意多边形 105691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任意多边形 105692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任意多边形 105693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任意多边形 105694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任意多边形 105695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任意多边形 105696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任意多边形 105697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任意多边形 105698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任意多边形 105699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任意多边形 105700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任意多边形 105701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任意多边形 105702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组合 105703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456" name="任意多边形 105704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7" name="组合 105705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458" name="任意多边形 105706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任意多边形 105707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任意多边形 105708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任意多边形 105709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任意多边形 105710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任意多边形 105711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任意多边形 105712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任意多边形 105713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任意多边形 105714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任意多边形 105715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任意多边形 105716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任意多边形 105717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任意多边形 105718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3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4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5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A0FD-DAEB-4F30-8811-6912779200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0" name="矩形 2" descr=""/>
          <p:cNvPicPr/>
          <p:nvPr/>
        </p:nvPicPr>
        <p:blipFill>
          <a:blip r:embed="rId2"/>
          <a:stretch/>
        </p:blipFill>
        <p:spPr>
          <a:xfrm>
            <a:off x="3333600" y="1736640"/>
            <a:ext cx="651672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3382560" y="639360"/>
            <a:ext cx="173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自 尊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835200" y="1978200"/>
            <a:ext cx="724824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是自尊为本，自尊自爱，爱护自己的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次要尊重自己的职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闻道有先后，术业有专攻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要尊重自己的公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尊重他人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1544760" y="2053800"/>
            <a:ext cx="646416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f0531"/>
                </a:solidFill>
                <a:latin typeface="Arial"/>
                <a:ea typeface="MS Mincho"/>
              </a:rPr>
              <a:t>对不同人的尊重体现</a:t>
            </a:r>
            <a:r>
              <a:rPr b="0" lang="zh-CN" sz="2800" spc="-1" strike="noStrike">
                <a:solidFill>
                  <a:srgbClr val="9f0531"/>
                </a:solidFill>
                <a:latin typeface="Arial"/>
              </a:rPr>
              <a:t>的</a:t>
            </a:r>
            <a:r>
              <a:rPr b="0" lang="zh-CN" sz="2800" spc="-1" strike="noStrike">
                <a:solidFill>
                  <a:srgbClr val="9f0531"/>
                </a:solidFill>
                <a:latin typeface="Arial"/>
                <a:ea typeface="MS Mincho"/>
              </a:rPr>
              <a:t>个人修养</a:t>
            </a:r>
            <a:r>
              <a:rPr b="0" lang="zh-CN" sz="2800" spc="-1" strike="noStrike">
                <a:solidFill>
                  <a:srgbClr val="9f0531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上级是一种天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下级是一种美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客户是一种常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同事是一种本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尊重所有人是一种教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1" name="Diagram 2"/>
          <p:cNvGrpSpPr/>
          <p:nvPr/>
        </p:nvGrpSpPr>
        <p:grpSpPr>
          <a:xfrm>
            <a:off x="685800" y="1828800"/>
            <a:ext cx="8076960" cy="4266720"/>
            <a:chOff x="685800" y="1828800"/>
            <a:chExt cx="8076960" cy="4266720"/>
          </a:xfrm>
        </p:grpSpPr>
        <p:sp>
          <p:nvSpPr>
            <p:cNvPr id="3462" name="AutoShape 3"/>
            <p:cNvSpPr/>
            <p:nvPr/>
          </p:nvSpPr>
          <p:spPr>
            <a:xfrm>
              <a:off x="685800" y="1828800"/>
              <a:ext cx="8076960" cy="4266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_s4100"/>
            <p:cNvSpPr/>
            <p:nvPr/>
          </p:nvSpPr>
          <p:spPr>
            <a:xfrm flipH="1" flipV="1">
              <a:off x="3972600" y="3295080"/>
              <a:ext cx="378000" cy="3330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_s4101"/>
            <p:cNvSpPr/>
            <p:nvPr/>
          </p:nvSpPr>
          <p:spPr>
            <a:xfrm>
              <a:off x="3119760" y="2432520"/>
              <a:ext cx="959400" cy="10666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_s4102"/>
            <p:cNvSpPr/>
            <p:nvPr/>
          </p:nvSpPr>
          <p:spPr>
            <a:xfrm flipH="1">
              <a:off x="3787920" y="4078800"/>
              <a:ext cx="469440" cy="119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_s4103"/>
            <p:cNvSpPr/>
            <p:nvPr/>
          </p:nvSpPr>
          <p:spPr>
            <a:xfrm>
              <a:off x="2842920" y="3784320"/>
              <a:ext cx="959400" cy="10666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_s4104"/>
            <p:cNvSpPr/>
            <p:nvPr/>
          </p:nvSpPr>
          <p:spPr>
            <a:xfrm flipH="1">
              <a:off x="4309560" y="4440240"/>
              <a:ext cx="208080" cy="4831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_s4105"/>
            <p:cNvSpPr/>
            <p:nvPr/>
          </p:nvSpPr>
          <p:spPr>
            <a:xfrm>
              <a:off x="3621240" y="4867560"/>
              <a:ext cx="959400" cy="1066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_s4106"/>
            <p:cNvSpPr/>
            <p:nvPr/>
          </p:nvSpPr>
          <p:spPr>
            <a:xfrm>
              <a:off x="4932360" y="4440240"/>
              <a:ext cx="209880" cy="4809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_s4107"/>
            <p:cNvSpPr/>
            <p:nvPr/>
          </p:nvSpPr>
          <p:spPr>
            <a:xfrm>
              <a:off x="4869360" y="4867560"/>
              <a:ext cx="959400" cy="1066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_s4108"/>
            <p:cNvSpPr/>
            <p:nvPr/>
          </p:nvSpPr>
          <p:spPr>
            <a:xfrm>
              <a:off x="5192280" y="4078800"/>
              <a:ext cx="468000" cy="1180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_s4109"/>
            <p:cNvSpPr/>
            <p:nvPr/>
          </p:nvSpPr>
          <p:spPr>
            <a:xfrm>
              <a:off x="5647320" y="3782520"/>
              <a:ext cx="959400" cy="10666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_s4110"/>
            <p:cNvSpPr/>
            <p:nvPr/>
          </p:nvSpPr>
          <p:spPr>
            <a:xfrm flipV="1">
              <a:off x="5099040" y="3295080"/>
              <a:ext cx="374760" cy="3330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_s4111"/>
            <p:cNvSpPr/>
            <p:nvPr/>
          </p:nvSpPr>
          <p:spPr>
            <a:xfrm>
              <a:off x="5369400" y="2430360"/>
              <a:ext cx="959400" cy="10666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_s4112"/>
            <p:cNvSpPr/>
            <p:nvPr/>
          </p:nvSpPr>
          <p:spPr>
            <a:xfrm flipV="1">
              <a:off x="4724280" y="2895120"/>
              <a:ext cx="0" cy="5331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_s4113"/>
            <p:cNvSpPr/>
            <p:nvPr/>
          </p:nvSpPr>
          <p:spPr>
            <a:xfrm>
              <a:off x="4244400" y="1828800"/>
              <a:ext cx="959400" cy="10666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_s4114"/>
            <p:cNvSpPr/>
            <p:nvPr/>
          </p:nvSpPr>
          <p:spPr>
            <a:xfrm>
              <a:off x="4244400" y="3428640"/>
              <a:ext cx="959400" cy="10666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8" name="Rectangle 19"/>
          <p:cNvSpPr/>
          <p:nvPr/>
        </p:nvSpPr>
        <p:spPr>
          <a:xfrm>
            <a:off x="4552200" y="9144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AutoShape 20"/>
          <p:cNvSpPr/>
          <p:nvPr/>
        </p:nvSpPr>
        <p:spPr>
          <a:xfrm>
            <a:off x="838080" y="2362320"/>
            <a:ext cx="2590920" cy="3657600"/>
          </a:xfrm>
          <a:prstGeom prst="wedgeRoundRectCallout">
            <a:avLst>
              <a:gd name="adj1" fmla="val 140194"/>
              <a:gd name="adj2" fmla="val 782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既要严于律己，更要宽以待人。要多容忍他人，多体谅他人，多理解他人，千万不要求全责备，斤斤计较，过分苛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1294920" y="152352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宽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1" name="Diagram 2"/>
          <p:cNvGrpSpPr/>
          <p:nvPr/>
        </p:nvGrpSpPr>
        <p:grpSpPr>
          <a:xfrm>
            <a:off x="685800" y="1905120"/>
            <a:ext cx="8076960" cy="4190400"/>
            <a:chOff x="685800" y="1905120"/>
            <a:chExt cx="8076960" cy="4190400"/>
          </a:xfrm>
        </p:grpSpPr>
        <p:sp>
          <p:nvSpPr>
            <p:cNvPr id="3482" name="AutoShape 3"/>
            <p:cNvSpPr/>
            <p:nvPr/>
          </p:nvSpPr>
          <p:spPr>
            <a:xfrm>
              <a:off x="685800" y="1905120"/>
              <a:ext cx="8076960" cy="419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_s5124"/>
            <p:cNvSpPr/>
            <p:nvPr/>
          </p:nvSpPr>
          <p:spPr>
            <a:xfrm flipH="1" flipV="1">
              <a:off x="3972600" y="3345840"/>
              <a:ext cx="378000" cy="326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_s5125"/>
            <p:cNvSpPr/>
            <p:nvPr/>
          </p:nvSpPr>
          <p:spPr>
            <a:xfrm>
              <a:off x="3119760" y="2498040"/>
              <a:ext cx="959400" cy="1047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_s5126"/>
            <p:cNvSpPr/>
            <p:nvPr/>
          </p:nvSpPr>
          <p:spPr>
            <a:xfrm flipH="1">
              <a:off x="3787920" y="4114800"/>
              <a:ext cx="469440" cy="1177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_s5127"/>
            <p:cNvSpPr/>
            <p:nvPr/>
          </p:nvSpPr>
          <p:spPr>
            <a:xfrm>
              <a:off x="2842920" y="3825720"/>
              <a:ext cx="959400" cy="1047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_s5128"/>
            <p:cNvSpPr/>
            <p:nvPr/>
          </p:nvSpPr>
          <p:spPr>
            <a:xfrm flipH="1">
              <a:off x="4309560" y="4469760"/>
              <a:ext cx="208080" cy="474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_s5129"/>
            <p:cNvSpPr/>
            <p:nvPr/>
          </p:nvSpPr>
          <p:spPr>
            <a:xfrm>
              <a:off x="3621240" y="4889520"/>
              <a:ext cx="959400" cy="1047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_s5130"/>
            <p:cNvSpPr/>
            <p:nvPr/>
          </p:nvSpPr>
          <p:spPr>
            <a:xfrm>
              <a:off x="4932360" y="4469760"/>
              <a:ext cx="209880" cy="4726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_s5131"/>
            <p:cNvSpPr/>
            <p:nvPr/>
          </p:nvSpPr>
          <p:spPr>
            <a:xfrm>
              <a:off x="4869360" y="4889520"/>
              <a:ext cx="959400" cy="1047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_s5132"/>
            <p:cNvSpPr/>
            <p:nvPr/>
          </p:nvSpPr>
          <p:spPr>
            <a:xfrm>
              <a:off x="5192280" y="4114800"/>
              <a:ext cx="468000" cy="1162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_s5133"/>
            <p:cNvSpPr/>
            <p:nvPr/>
          </p:nvSpPr>
          <p:spPr>
            <a:xfrm>
              <a:off x="5647320" y="3823920"/>
              <a:ext cx="959400" cy="1047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_s5134"/>
            <p:cNvSpPr/>
            <p:nvPr/>
          </p:nvSpPr>
          <p:spPr>
            <a:xfrm flipV="1">
              <a:off x="5099040" y="3345840"/>
              <a:ext cx="374760" cy="326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_s5135"/>
            <p:cNvSpPr/>
            <p:nvPr/>
          </p:nvSpPr>
          <p:spPr>
            <a:xfrm>
              <a:off x="5369400" y="2495880"/>
              <a:ext cx="959400" cy="1047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_s5136"/>
            <p:cNvSpPr/>
            <p:nvPr/>
          </p:nvSpPr>
          <p:spPr>
            <a:xfrm flipV="1">
              <a:off x="4724280" y="2952360"/>
              <a:ext cx="0" cy="5238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_s5137"/>
            <p:cNvSpPr/>
            <p:nvPr/>
          </p:nvSpPr>
          <p:spPr>
            <a:xfrm>
              <a:off x="4244400" y="1905120"/>
              <a:ext cx="959400" cy="1047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_s5138"/>
            <p:cNvSpPr/>
            <p:nvPr/>
          </p:nvSpPr>
          <p:spPr>
            <a:xfrm>
              <a:off x="4244400" y="3476520"/>
              <a:ext cx="959400" cy="1047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8" name="Rectangle 19"/>
          <p:cNvSpPr/>
          <p:nvPr/>
        </p:nvSpPr>
        <p:spPr>
          <a:xfrm>
            <a:off x="5386680" y="990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AutoShape 20"/>
          <p:cNvSpPr/>
          <p:nvPr/>
        </p:nvSpPr>
        <p:spPr>
          <a:xfrm>
            <a:off x="-304920" y="1752480"/>
            <a:ext cx="5639040" cy="2819520"/>
          </a:xfrm>
          <a:prstGeom prst="wedgeRoundRectCallout">
            <a:avLst>
              <a:gd name="adj1" fmla="val 47240"/>
              <a:gd name="adj2" fmla="val 76296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任何交往对象都必须一视同仁，给予同等程度的礼遇。不允许因为交往对象彼此之间在年龄、性别、种族、文化、身份、财富以及关系的亲疏远近等方面有所不同而厚此薄彼，给予不同待遇。但可以根据不同的交往对象，采取不同的具体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1"/>
          <p:cNvSpPr>
            <a:spLocks noGrp="1"/>
          </p:cNvSpPr>
          <p:nvPr>
            <p:ph type="title"/>
          </p:nvPr>
        </p:nvSpPr>
        <p:spPr>
          <a:xfrm>
            <a:off x="758880" y="609480"/>
            <a:ext cx="1752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平等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1" name="Diagram 2"/>
          <p:cNvGrpSpPr/>
          <p:nvPr/>
        </p:nvGrpSpPr>
        <p:grpSpPr>
          <a:xfrm>
            <a:off x="685800" y="2286000"/>
            <a:ext cx="8076960" cy="3809520"/>
            <a:chOff x="685800" y="2286000"/>
            <a:chExt cx="8076960" cy="3809520"/>
          </a:xfrm>
        </p:grpSpPr>
        <p:sp>
          <p:nvSpPr>
            <p:cNvPr id="3502" name="AutoShape 3"/>
            <p:cNvSpPr/>
            <p:nvPr/>
          </p:nvSpPr>
          <p:spPr>
            <a:xfrm>
              <a:off x="685800" y="2286000"/>
              <a:ext cx="8076960" cy="3809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_s6148"/>
            <p:cNvSpPr/>
            <p:nvPr/>
          </p:nvSpPr>
          <p:spPr>
            <a:xfrm flipH="1" flipV="1">
              <a:off x="3972600" y="3595680"/>
              <a:ext cx="378000" cy="297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_s6149"/>
            <p:cNvSpPr/>
            <p:nvPr/>
          </p:nvSpPr>
          <p:spPr>
            <a:xfrm>
              <a:off x="3119760" y="2824920"/>
              <a:ext cx="959400" cy="952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_s6150"/>
            <p:cNvSpPr/>
            <p:nvPr/>
          </p:nvSpPr>
          <p:spPr>
            <a:xfrm flipH="1">
              <a:off x="3787920" y="4295160"/>
              <a:ext cx="469440" cy="1069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_s6151"/>
            <p:cNvSpPr/>
            <p:nvPr/>
          </p:nvSpPr>
          <p:spPr>
            <a:xfrm>
              <a:off x="2842920" y="4032000"/>
              <a:ext cx="959400" cy="952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_s6152"/>
            <p:cNvSpPr/>
            <p:nvPr/>
          </p:nvSpPr>
          <p:spPr>
            <a:xfrm flipH="1">
              <a:off x="4309560" y="4617360"/>
              <a:ext cx="208080" cy="4312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_s6153"/>
            <p:cNvSpPr/>
            <p:nvPr/>
          </p:nvSpPr>
          <p:spPr>
            <a:xfrm>
              <a:off x="3621240" y="4999320"/>
              <a:ext cx="959400" cy="952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_s6154"/>
            <p:cNvSpPr/>
            <p:nvPr/>
          </p:nvSpPr>
          <p:spPr>
            <a:xfrm>
              <a:off x="4932360" y="4617360"/>
              <a:ext cx="209880" cy="429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_s6155"/>
            <p:cNvSpPr/>
            <p:nvPr/>
          </p:nvSpPr>
          <p:spPr>
            <a:xfrm>
              <a:off x="4869360" y="4999320"/>
              <a:ext cx="959400" cy="952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_s6156"/>
            <p:cNvSpPr/>
            <p:nvPr/>
          </p:nvSpPr>
          <p:spPr>
            <a:xfrm>
              <a:off x="5192280" y="4295160"/>
              <a:ext cx="468000" cy="105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_s6157"/>
            <p:cNvSpPr/>
            <p:nvPr/>
          </p:nvSpPr>
          <p:spPr>
            <a:xfrm>
              <a:off x="5647320" y="4030200"/>
              <a:ext cx="959400" cy="952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_s6158"/>
            <p:cNvSpPr/>
            <p:nvPr/>
          </p:nvSpPr>
          <p:spPr>
            <a:xfrm flipV="1">
              <a:off x="5099040" y="3595680"/>
              <a:ext cx="374760" cy="297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_s6159"/>
            <p:cNvSpPr/>
            <p:nvPr/>
          </p:nvSpPr>
          <p:spPr>
            <a:xfrm>
              <a:off x="5369400" y="2823120"/>
              <a:ext cx="959400" cy="952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_s6160"/>
            <p:cNvSpPr/>
            <p:nvPr/>
          </p:nvSpPr>
          <p:spPr>
            <a:xfrm flipV="1">
              <a:off x="4724280" y="3238200"/>
              <a:ext cx="0" cy="4759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_s6161"/>
            <p:cNvSpPr/>
            <p:nvPr/>
          </p:nvSpPr>
          <p:spPr>
            <a:xfrm>
              <a:off x="4244400" y="2286000"/>
              <a:ext cx="959400" cy="952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_s6162"/>
            <p:cNvSpPr/>
            <p:nvPr/>
          </p:nvSpPr>
          <p:spPr>
            <a:xfrm>
              <a:off x="4244400" y="3714480"/>
              <a:ext cx="959400" cy="9522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Rectangle 19"/>
          <p:cNvSpPr/>
          <p:nvPr/>
        </p:nvSpPr>
        <p:spPr>
          <a:xfrm>
            <a:off x="4780800" y="1143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AutoShape 20"/>
          <p:cNvSpPr/>
          <p:nvPr/>
        </p:nvSpPr>
        <p:spPr>
          <a:xfrm>
            <a:off x="228600" y="1905120"/>
            <a:ext cx="5029200" cy="2590560"/>
          </a:xfrm>
          <a:prstGeom prst="wedgeRoundRectCallout">
            <a:avLst>
              <a:gd name="adj1" fmla="val 29231"/>
              <a:gd name="adj2" fmla="val 79226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100fa"/>
                </a:solidFill>
                <a:latin typeface="宋体"/>
              </a:rPr>
              <a:t>务必诚实无欺，言行一致，表里如一。只有如此，自己在运用礼仪时所表现出来的对交往对象的尊敬与友好，才会更好地被对方理解并接受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真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1" name="Diagram 2"/>
          <p:cNvGrpSpPr/>
          <p:nvPr/>
        </p:nvGrpSpPr>
        <p:grpSpPr>
          <a:xfrm>
            <a:off x="685800" y="2209680"/>
            <a:ext cx="8076960" cy="3809880"/>
            <a:chOff x="685800" y="2209680"/>
            <a:chExt cx="8076960" cy="3809880"/>
          </a:xfrm>
        </p:grpSpPr>
        <p:sp>
          <p:nvSpPr>
            <p:cNvPr id="3522" name="AutoShape 3"/>
            <p:cNvSpPr/>
            <p:nvPr/>
          </p:nvSpPr>
          <p:spPr>
            <a:xfrm>
              <a:off x="685800" y="2209680"/>
              <a:ext cx="8076960" cy="380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_s7172"/>
            <p:cNvSpPr/>
            <p:nvPr/>
          </p:nvSpPr>
          <p:spPr>
            <a:xfrm flipH="1" flipV="1">
              <a:off x="3972600" y="3519360"/>
              <a:ext cx="378000" cy="297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_s7173"/>
            <p:cNvSpPr/>
            <p:nvPr/>
          </p:nvSpPr>
          <p:spPr>
            <a:xfrm>
              <a:off x="3119760" y="2748960"/>
              <a:ext cx="959400" cy="9522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_s7174"/>
            <p:cNvSpPr/>
            <p:nvPr/>
          </p:nvSpPr>
          <p:spPr>
            <a:xfrm flipH="1">
              <a:off x="3787920" y="4218840"/>
              <a:ext cx="469440" cy="1069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_s7175"/>
            <p:cNvSpPr/>
            <p:nvPr/>
          </p:nvSpPr>
          <p:spPr>
            <a:xfrm>
              <a:off x="2842920" y="3956040"/>
              <a:ext cx="959400" cy="952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_s7176"/>
            <p:cNvSpPr/>
            <p:nvPr/>
          </p:nvSpPr>
          <p:spPr>
            <a:xfrm flipH="1">
              <a:off x="4309560" y="4541400"/>
              <a:ext cx="208080" cy="431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_s7177"/>
            <p:cNvSpPr/>
            <p:nvPr/>
          </p:nvSpPr>
          <p:spPr>
            <a:xfrm>
              <a:off x="3621240" y="4923000"/>
              <a:ext cx="959400" cy="952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_s7178"/>
            <p:cNvSpPr/>
            <p:nvPr/>
          </p:nvSpPr>
          <p:spPr>
            <a:xfrm>
              <a:off x="4932360" y="4541400"/>
              <a:ext cx="209880" cy="429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_s7179"/>
            <p:cNvSpPr/>
            <p:nvPr/>
          </p:nvSpPr>
          <p:spPr>
            <a:xfrm>
              <a:off x="4869360" y="4923000"/>
              <a:ext cx="959400" cy="952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_s7180"/>
            <p:cNvSpPr/>
            <p:nvPr/>
          </p:nvSpPr>
          <p:spPr>
            <a:xfrm>
              <a:off x="5192280" y="4218840"/>
              <a:ext cx="468000" cy="105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_s7181"/>
            <p:cNvSpPr/>
            <p:nvPr/>
          </p:nvSpPr>
          <p:spPr>
            <a:xfrm>
              <a:off x="5647320" y="3954240"/>
              <a:ext cx="959400" cy="952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_s7182"/>
            <p:cNvSpPr/>
            <p:nvPr/>
          </p:nvSpPr>
          <p:spPr>
            <a:xfrm flipV="1">
              <a:off x="5099040" y="3519360"/>
              <a:ext cx="374760" cy="297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_s7183"/>
            <p:cNvSpPr/>
            <p:nvPr/>
          </p:nvSpPr>
          <p:spPr>
            <a:xfrm>
              <a:off x="5369400" y="2746800"/>
              <a:ext cx="959400" cy="952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_s7184"/>
            <p:cNvSpPr/>
            <p:nvPr/>
          </p:nvSpPr>
          <p:spPr>
            <a:xfrm flipV="1">
              <a:off x="4724280" y="3161880"/>
              <a:ext cx="0" cy="4759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_s7185"/>
            <p:cNvSpPr/>
            <p:nvPr/>
          </p:nvSpPr>
          <p:spPr>
            <a:xfrm>
              <a:off x="4244400" y="2209680"/>
              <a:ext cx="959400" cy="952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_s7186"/>
            <p:cNvSpPr/>
            <p:nvPr/>
          </p:nvSpPr>
          <p:spPr>
            <a:xfrm>
              <a:off x="4244400" y="3638160"/>
              <a:ext cx="959400" cy="9522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8" name="Rectangle 19"/>
          <p:cNvSpPr/>
          <p:nvPr/>
        </p:nvSpPr>
        <p:spPr>
          <a:xfrm>
            <a:off x="4015080" y="1143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AutoShape 21"/>
          <p:cNvSpPr/>
          <p:nvPr/>
        </p:nvSpPr>
        <p:spPr>
          <a:xfrm>
            <a:off x="457200" y="2438280"/>
            <a:ext cx="1981080" cy="3200400"/>
          </a:xfrm>
          <a:prstGeom prst="wedgeRoundRectCallout">
            <a:avLst>
              <a:gd name="adj1" fmla="val 92870"/>
              <a:gd name="adj2" fmla="val 6995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100fa"/>
                </a:solidFill>
                <a:latin typeface="宋体"/>
              </a:rPr>
              <a:t>必须注意技巧及其规范，特别要注意做到把握分寸，认真得体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2590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适度</a:t>
            </a: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                                   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1" name="Diagram 2"/>
          <p:cNvGrpSpPr/>
          <p:nvPr/>
        </p:nvGrpSpPr>
        <p:grpSpPr>
          <a:xfrm>
            <a:off x="685800" y="1676520"/>
            <a:ext cx="8229240" cy="4723920"/>
            <a:chOff x="685800" y="1676520"/>
            <a:chExt cx="8229240" cy="4723920"/>
          </a:xfrm>
        </p:grpSpPr>
        <p:sp>
          <p:nvSpPr>
            <p:cNvPr id="3542" name="AutoShape 3"/>
            <p:cNvSpPr/>
            <p:nvPr/>
          </p:nvSpPr>
          <p:spPr>
            <a:xfrm>
              <a:off x="685800" y="1676520"/>
              <a:ext cx="8229240" cy="4723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_s8196"/>
            <p:cNvSpPr/>
            <p:nvPr/>
          </p:nvSpPr>
          <p:spPr>
            <a:xfrm flipH="1" flipV="1">
              <a:off x="4034880" y="3300480"/>
              <a:ext cx="385200" cy="368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_s8197"/>
            <p:cNvSpPr/>
            <p:nvPr/>
          </p:nvSpPr>
          <p:spPr>
            <a:xfrm>
              <a:off x="3165480" y="2345040"/>
              <a:ext cx="977760" cy="1180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_s8198"/>
            <p:cNvSpPr/>
            <p:nvPr/>
          </p:nvSpPr>
          <p:spPr>
            <a:xfrm flipH="1">
              <a:off x="3846240" y="4167720"/>
              <a:ext cx="478440" cy="1328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_s8199"/>
            <p:cNvSpPr/>
            <p:nvPr/>
          </p:nvSpPr>
          <p:spPr>
            <a:xfrm>
              <a:off x="2883600" y="3841920"/>
              <a:ext cx="977760" cy="1180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_s8200"/>
            <p:cNvSpPr/>
            <p:nvPr/>
          </p:nvSpPr>
          <p:spPr>
            <a:xfrm flipH="1">
              <a:off x="4377240" y="4567680"/>
              <a:ext cx="212040" cy="5349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_s8201"/>
            <p:cNvSpPr/>
            <p:nvPr/>
          </p:nvSpPr>
          <p:spPr>
            <a:xfrm>
              <a:off x="3676680" y="5041080"/>
              <a:ext cx="977760" cy="11808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_s8202"/>
            <p:cNvSpPr/>
            <p:nvPr/>
          </p:nvSpPr>
          <p:spPr>
            <a:xfrm>
              <a:off x="5012640" y="4567680"/>
              <a:ext cx="213840" cy="5328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_s8203"/>
            <p:cNvSpPr/>
            <p:nvPr/>
          </p:nvSpPr>
          <p:spPr>
            <a:xfrm>
              <a:off x="4948200" y="5041080"/>
              <a:ext cx="977760" cy="11808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_s8204"/>
            <p:cNvSpPr/>
            <p:nvPr/>
          </p:nvSpPr>
          <p:spPr>
            <a:xfrm>
              <a:off x="5277240" y="4167720"/>
              <a:ext cx="476640" cy="1310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_s8205"/>
            <p:cNvSpPr/>
            <p:nvPr/>
          </p:nvSpPr>
          <p:spPr>
            <a:xfrm>
              <a:off x="5740920" y="3839400"/>
              <a:ext cx="977760" cy="11808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_s8206"/>
            <p:cNvSpPr/>
            <p:nvPr/>
          </p:nvSpPr>
          <p:spPr>
            <a:xfrm flipV="1">
              <a:off x="5182200" y="3300480"/>
              <a:ext cx="381600" cy="368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_s8207"/>
            <p:cNvSpPr/>
            <p:nvPr/>
          </p:nvSpPr>
          <p:spPr>
            <a:xfrm>
              <a:off x="5457600" y="2342520"/>
              <a:ext cx="977760" cy="1180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_s8208"/>
            <p:cNvSpPr/>
            <p:nvPr/>
          </p:nvSpPr>
          <p:spPr>
            <a:xfrm flipV="1">
              <a:off x="4800240" y="2857320"/>
              <a:ext cx="0" cy="5904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_s8209"/>
            <p:cNvSpPr/>
            <p:nvPr/>
          </p:nvSpPr>
          <p:spPr>
            <a:xfrm>
              <a:off x="4311360" y="1676520"/>
              <a:ext cx="977760" cy="1180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_s8210"/>
            <p:cNvSpPr/>
            <p:nvPr/>
          </p:nvSpPr>
          <p:spPr>
            <a:xfrm>
              <a:off x="4311360" y="3448080"/>
              <a:ext cx="977760" cy="1180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8" name="AutoShape 3091"/>
          <p:cNvSpPr/>
          <p:nvPr/>
        </p:nvSpPr>
        <p:spPr>
          <a:xfrm>
            <a:off x="0" y="2743200"/>
            <a:ext cx="3124080" cy="3276720"/>
          </a:xfrm>
          <a:prstGeom prst="wedgeRoundRectCallout">
            <a:avLst>
              <a:gd name="adj1" fmla="val 78504"/>
              <a:gd name="adj2" fmla="val -38564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100fa"/>
                </a:solidFill>
                <a:latin typeface="宋体"/>
              </a:rPr>
              <a:t>由于国情、民族、文化背景的不同，必须坚持入乡随俗，与绝大多数人的习惯做法保持一致。切勿目中无人、自以为是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1371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从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0" name="Rectangle 3093"/>
          <p:cNvSpPr/>
          <p:nvPr/>
        </p:nvSpPr>
        <p:spPr>
          <a:xfrm>
            <a:off x="4015080" y="1143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学习礼仪要达到的目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懂得人际交往的一般礼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提升职业成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掌握职业素养的评价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提高职业修养和礼仪水准，使之固化为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0d0c"/>
                </a:solidFill>
                <a:latin typeface="Arial"/>
              </a:rPr>
              <a:t>培育高素质职场环境，提升企业与个人附加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3366"/>
                </a:solidFill>
                <a:uFillTx/>
                <a:latin typeface="Arial"/>
                <a:ea typeface="华文行楷"/>
              </a:rPr>
              <a:t>职业形象塑造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835200" y="2356920"/>
            <a:ext cx="264312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＊仪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＊仪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   </a:t>
            </a:r>
            <a:r>
              <a:rPr b="1" lang="zh-CN" sz="4400" spc="-1" strike="noStrike">
                <a:solidFill>
                  <a:srgbClr val="993366"/>
                </a:solidFill>
                <a:latin typeface="Arial"/>
                <a:ea typeface="华文行楷"/>
              </a:rPr>
              <a:t>＊仪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5" name="Picture 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800600" y="228600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仪  容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华文行楷"/>
              </a:rPr>
              <a:t>＊男士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华文行楷"/>
              </a:rPr>
              <a:t>面部、头发、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华文行楷"/>
              </a:rPr>
              <a:t>＊女士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华文行楷"/>
              </a:rPr>
              <a:t>面部、头发、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形象礼仪培训课程内容简介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2" name=""/>
          <p:cNvSpPr txBox="1"/>
          <p:nvPr/>
        </p:nvSpPr>
        <p:spPr>
          <a:xfrm>
            <a:off x="468360" y="233208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着装打扮（轮廓、面料、颜色、细节），发型，脸部仪容，以及更重要的：这套着装是否最好表现出你的气质，你的个性，你的专业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礼仪举止。当你起身，微笑，跟对方握手的那一霎那，你是否是一个有内涵、有风度的专业人士已经在对方心中打出了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说话谈吐。你的声音、语速和态度，都是对方与你交谈的重要因素，注重沟通的艺术，能让你在与人交往的过程中，永远立于不败之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Rectangle 2"/>
          <p:cNvSpPr/>
          <p:nvPr/>
        </p:nvSpPr>
        <p:spPr>
          <a:xfrm>
            <a:off x="1371600" y="1523880"/>
            <a:ext cx="7162920" cy="34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着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职业装是职业人首选的装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TPO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首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华文行楷"/>
                <a:ea typeface="华文行楷"/>
              </a:rPr>
              <a:t>符合身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e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华文行楷"/>
                <a:ea typeface="华文行楷"/>
              </a:rPr>
              <a:t>以少为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2968200" y="3808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中宋"/>
              </a:rPr>
              <a:t>仪表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0" name=""/>
          <p:cNvGraphicFramePr/>
          <p:nvPr/>
        </p:nvGraphicFramePr>
        <p:xfrm>
          <a:off x="0" y="1236600"/>
          <a:ext cx="9067680" cy="4997520"/>
        </p:xfrm>
        <a:graphic>
          <a:graphicData uri="http://schemas.openxmlformats.org/drawingml/2006/table">
            <a:tbl>
              <a:tblPr/>
              <a:tblGrid>
                <a:gridCol w="914400"/>
                <a:gridCol w="3992400"/>
                <a:gridCol w="4160880"/>
              </a:tblGrid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部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女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整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然大方得体，符合工作需要及安全规则。精神奕奕充满活力，整齐清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头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头发要经常梳洗，保持整齐清洁、自然色泽，勿标新立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发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前发不过眉，侧发不盖耳，后发不触后衣领，无烫发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女员工发长不过肩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如留长发须束起或使用发髻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面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脸、颈及耳朵绝对干净，每日剃刮胡须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脸、颈及耳朵绝对干净，上班要化淡妆，但不得浓妆艳抹和在办公室内化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身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注意个人卫生，身体、面部、手部保持清洁。勤洗澡，无体味。上班前不吃异味食物，保持口腔清洁，上班时不在工作场所内吸烟，不饮酒，以免散发烟味或酒气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2669760" y="410760"/>
            <a:ext cx="442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日常礼仪行为规范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2"/>
          <p:cNvSpPr/>
          <p:nvPr/>
        </p:nvSpPr>
        <p:spPr>
          <a:xfrm>
            <a:off x="154080" y="-7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仪容仪表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Line 3"/>
          <p:cNvSpPr/>
          <p:nvPr/>
        </p:nvSpPr>
        <p:spPr>
          <a:xfrm>
            <a:off x="2857680" y="2287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4" name=""/>
          <p:cNvGraphicFramePr/>
          <p:nvPr/>
        </p:nvGraphicFramePr>
        <p:xfrm>
          <a:off x="0" y="914400"/>
          <a:ext cx="9144000" cy="6167520"/>
        </p:xfrm>
        <a:graphic>
          <a:graphicData uri="http://schemas.openxmlformats.org/drawingml/2006/table">
            <a:tbl>
              <a:tblPr/>
              <a:tblGrid>
                <a:gridCol w="1362240"/>
                <a:gridCol w="3501720"/>
                <a:gridCol w="241560"/>
                <a:gridCol w="4038480"/>
              </a:tblGrid>
              <a:tr h="558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部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女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衣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工作时间内着本岗位规定制服，非因工作需要，外出时不得穿着制服。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制服应干净、平整，无明显污迹、破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制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穿着按照公司规定执行，不可擅自改变制服的穿着形式，私自增减饰物，不敞开外衣、卷起裤脚、衣袖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制服外不得显露个人物品，衣裤口袋平整，勿显鼓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西装制服按规范扣好，衬衣领、袖整洁，钮扣扣好，衬衣袖口可长出西装外套袖口的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.5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c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裤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裤子要烫直，折痕清晰，长及鞋面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保持指甲干净，不留长指甲及涂有色指甲油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鞋底、鞋面、鞋侧保持清洁，鞋面要擦亮，以黑色为宜，无破损，勿钉金属掌，禁止着露趾凉鞋上班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男员工应穿黑色或深蓝色、不透明的短中筒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女员工着裙装须着肉色袜，袜无破洞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  <a:tr h="82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工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工作时间须将工作牌统一按规范佩带，一般佩带在左胸显眼处，挂绳式应正面向上挂在胸前，保持清洁端正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cc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5" name="Rectangle 34"/>
          <p:cNvSpPr/>
          <p:nvPr/>
        </p:nvSpPr>
        <p:spPr>
          <a:xfrm>
            <a:off x="0" y="775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日常礼仪行为规范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7" name="Picture 2" descr="未标题-12"/>
          <p:cNvPicPr/>
          <p:nvPr/>
        </p:nvPicPr>
        <p:blipFill>
          <a:blip r:embed="rId1"/>
          <a:stretch/>
        </p:blipFill>
        <p:spPr>
          <a:xfrm>
            <a:off x="914400" y="533520"/>
            <a:ext cx="6029280" cy="6324480"/>
          </a:xfrm>
          <a:prstGeom prst="rect">
            <a:avLst/>
          </a:prstGeom>
          <a:ln w="0">
            <a:noFill/>
          </a:ln>
        </p:spPr>
      </p:pic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2669760" y="258840"/>
            <a:ext cx="2135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男士穿戴图</a:t>
            </a:r>
            <a:endParaRPr b="0" lang="en-US" sz="2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9" name="Picture 2" descr="未标题-13"/>
          <p:cNvPicPr/>
          <p:nvPr/>
        </p:nvPicPr>
        <p:blipFill>
          <a:blip r:embed="rId1"/>
          <a:stretch/>
        </p:blipFill>
        <p:spPr>
          <a:xfrm>
            <a:off x="2286000" y="295200"/>
            <a:ext cx="4282920" cy="6562800"/>
          </a:xfrm>
          <a:prstGeom prst="rect">
            <a:avLst/>
          </a:prstGeom>
          <a:ln w="0">
            <a:noFill/>
          </a:ln>
        </p:spPr>
      </p:pic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1143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男士穿戴禁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1" name="Picture 1026" descr="未标题-14"/>
          <p:cNvPicPr/>
          <p:nvPr/>
        </p:nvPicPr>
        <p:blipFill>
          <a:blip r:embed="rId1"/>
          <a:stretch/>
        </p:blipFill>
        <p:spPr>
          <a:xfrm>
            <a:off x="3048120" y="304920"/>
            <a:ext cx="4432320" cy="6172200"/>
          </a:xfrm>
          <a:prstGeom prst="rect">
            <a:avLst/>
          </a:prstGeom>
          <a:ln w="0">
            <a:noFill/>
          </a:ln>
        </p:spPr>
      </p:pic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8384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女士穿戴图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83" name="Text Box 1028"/>
          <p:cNvSpPr/>
          <p:nvPr/>
        </p:nvSpPr>
        <p:spPr>
          <a:xfrm>
            <a:off x="-3110400" y="6350040"/>
            <a:ext cx="64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管理资源吧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ww.glzy8.co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，提供海量管理资料免费下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4" name="Picture 2050" descr="未标题-15"/>
          <p:cNvPicPr/>
          <p:nvPr/>
        </p:nvPicPr>
        <p:blipFill>
          <a:blip r:embed="rId1"/>
          <a:stretch/>
        </p:blipFill>
        <p:spPr>
          <a:xfrm>
            <a:off x="3276720" y="304920"/>
            <a:ext cx="4941720" cy="6248160"/>
          </a:xfrm>
          <a:prstGeom prst="rect">
            <a:avLst/>
          </a:prstGeom>
          <a:ln w="0">
            <a:noFill/>
          </a:ln>
        </p:spPr>
      </p:pic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1600200" y="1066680"/>
            <a:ext cx="83808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女士穿戴禁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Text Box 1026"/>
          <p:cNvSpPr/>
          <p:nvPr/>
        </p:nvSpPr>
        <p:spPr>
          <a:xfrm>
            <a:off x="1585800" y="878040"/>
            <a:ext cx="1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Text Box 1027"/>
          <p:cNvSpPr/>
          <p:nvPr/>
        </p:nvSpPr>
        <p:spPr>
          <a:xfrm>
            <a:off x="1281240" y="496800"/>
            <a:ext cx="1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Text Box 1029"/>
          <p:cNvSpPr/>
          <p:nvPr/>
        </p:nvSpPr>
        <p:spPr>
          <a:xfrm>
            <a:off x="1219320" y="190512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600" spc="-1" strike="noStrike">
                <a:solidFill>
                  <a:srgbClr val="993366"/>
                </a:solidFill>
                <a:latin typeface="华文行楷"/>
                <a:ea typeface="华文行楷"/>
              </a:rPr>
              <a:t>微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600" spc="-1" strike="noStrike">
                <a:solidFill>
                  <a:srgbClr val="993366"/>
                </a:solidFill>
                <a:latin typeface="华文行楷"/>
                <a:ea typeface="华文行楷"/>
              </a:rPr>
              <a:t>眼神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坐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站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走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1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蹲姿</a:t>
            </a:r>
            <a:r>
              <a:rPr b="0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Arial"/>
                <a:ea typeface="华文中宋"/>
              </a:rPr>
              <a:t>仪 态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0" name=""/>
          <p:cNvGraphicFramePr/>
          <p:nvPr/>
        </p:nvGraphicFramePr>
        <p:xfrm>
          <a:off x="1600200" y="457200"/>
          <a:ext cx="6210360" cy="6070680"/>
        </p:xfrm>
        <a:graphic>
          <a:graphicData uri="http://schemas.openxmlformats.org/drawingml/2006/table">
            <a:tbl>
              <a:tblPr/>
              <a:tblGrid>
                <a:gridCol w="604800"/>
                <a:gridCol w="2844720"/>
                <a:gridCol w="2760840"/>
              </a:tblGrid>
              <a:tr h="155016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败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5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男性“劲”的壮美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女性“静”的优美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东倒西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耸肩勾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双手乱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4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做小动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264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男士的步伐像“进行曲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女士的步伐像“小夜曲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身体摇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双手乱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目光左顾右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4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脚步蹒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5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奔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坐姿要端正、稳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坐如钟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懒洋洋地摊在椅子上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脚尖朝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3.</a:t>
                      </a:r>
                      <a:r>
                        <a:rPr b="1" lang="zh-CN" sz="2000" spc="-1" strike="noStrike">
                          <a:solidFill>
                            <a:srgbClr val="e40000"/>
                          </a:solidFill>
                          <a:latin typeface="Times New Roman"/>
                        </a:rPr>
                        <a:t>抖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2592000" y="258480"/>
            <a:ext cx="324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站姿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抬头、挺胸、收腹。抬头的同时要收颌，挺胸的同时要夹肩，收腹的同时要提臀，并且要目视前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男士站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脚：两脚分开，比肩略窄，重心在两脚间；双腿并拢，脚尖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—45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V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字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手：双手合放于体前，左手压右手（男左女右）；双手合起放于体后，右手压左手；双手各垂放于体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女士站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脚：双腿并拢，脚尖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—45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的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V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字型；双腿并拢，脚尖呈“丁”字型（能够隐藏腿的弧度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手：双手合起放于腹前，右手压左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Text Box 5"/>
          <p:cNvSpPr/>
          <p:nvPr/>
        </p:nvSpPr>
        <p:spPr>
          <a:xfrm>
            <a:off x="2195640" y="1844640"/>
            <a:ext cx="496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做一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知礼、懂礼、行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之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坐姿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入座时要轻，至少要坐满椅子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，后背轻靠椅背，双膝自然并拢（男士可略分开）。身体稍向前倾，则表示尊重和谦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男士坐姿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男士可将双腿分开略向前伸，如长时间端坐，可双腿交叉重叠，但要注意将上面的腿向回收，脚尖向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女士坐姿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女士入座前应用背对着客人的手理裙子，并将裙角向前收拢，两手叠放于左右腿上。如长时间端坐可将两腿交叉重叠，但要注意上面的腿向回收，脚尖向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5" name="Picture 2" descr="未标题-10"/>
          <p:cNvPicPr/>
          <p:nvPr/>
        </p:nvPicPr>
        <p:blipFill>
          <a:blip r:embed="rId1"/>
          <a:stretch/>
        </p:blipFill>
        <p:spPr>
          <a:xfrm>
            <a:off x="2438280" y="0"/>
            <a:ext cx="4156200" cy="6829560"/>
          </a:xfrm>
          <a:prstGeom prst="rect">
            <a:avLst/>
          </a:prstGeom>
          <a:ln w="0">
            <a:noFill/>
          </a:ln>
        </p:spPr>
      </p:pic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685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坐姿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3349800" y="38052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行姿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标准的行走姿势，要以端正的站立姿态为基础。其要领是：以大关节带动小关节，排除多余的肌肉紧张，要走得轻巧、自如、稳健、大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手臂伸直放松，手指自然弯屈，摆动时，要以肩关节为轴，上臂带动前臂，向前，手臂要摆直线，肘关节略屈，前臂不要向上甩动，向后摆动时，手臂外开不超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。前后摆动的幅度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30-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厘米。上体前倾，提髋屈大腿带动小腿向前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脚尖略开，脚跟先接触地面，依靠后腿将身体重心推送到前脚脚掌，使身体前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以上行走动作，符合人体结构的机制，是最省力的。外八字、斜肩、猫腰、大肚的走法都是不美观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蹲姿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如果你在拾取低处的物件时，应保持大方、端正的蹲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 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男士蹲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不让臀部高于自己的头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女士蹲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优雅的蹲姿的基本要领是：一脚在前，一脚在后，两腿向下蹲，前脚全着地，小腿基本垂直于地面，脚后跟提起，脚掌着地，臀部向下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1" name="Picture 2" descr="未标题-3"/>
          <p:cNvPicPr/>
          <p:nvPr/>
        </p:nvPicPr>
        <p:blipFill>
          <a:blip r:embed="rId1"/>
          <a:stretch/>
        </p:blipFill>
        <p:spPr>
          <a:xfrm>
            <a:off x="1905120" y="447840"/>
            <a:ext cx="3047760" cy="6410160"/>
          </a:xfrm>
          <a:prstGeom prst="rect">
            <a:avLst/>
          </a:prstGeom>
          <a:ln w="0">
            <a:noFill/>
          </a:ln>
        </p:spPr>
      </p:pic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38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蹲姿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3" name="Picture 2" descr="PE01561_"/>
          <p:cNvPicPr/>
          <p:nvPr/>
        </p:nvPicPr>
        <p:blipFill>
          <a:blip r:embed="rId1"/>
          <a:stretch/>
        </p:blipFill>
        <p:spPr>
          <a:xfrm>
            <a:off x="4952880" y="2971800"/>
            <a:ext cx="3973680" cy="2637000"/>
          </a:xfrm>
          <a:prstGeom prst="rect">
            <a:avLst/>
          </a:prstGeom>
          <a:ln w="0">
            <a:noFill/>
          </a:ln>
        </p:spPr>
      </p:pic>
      <p:sp>
        <p:nvSpPr>
          <p:cNvPr id="3604" name="Rectangle 3"/>
          <p:cNvSpPr/>
          <p:nvPr/>
        </p:nvSpPr>
        <p:spPr>
          <a:xfrm>
            <a:off x="4572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Rectangle 4"/>
          <p:cNvSpPr/>
          <p:nvPr/>
        </p:nvSpPr>
        <p:spPr>
          <a:xfrm>
            <a:off x="1219320" y="1828800"/>
            <a:ext cx="5867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日常礼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沟通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</a:t>
            </a: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宋体"/>
              </a:rPr>
              <a:t>电话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握手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接待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介绍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宋体"/>
              </a:rPr>
              <a:t>＊名片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2354040" y="487440"/>
            <a:ext cx="4113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3366"/>
                </a:solidFill>
                <a:uFillTx/>
                <a:latin typeface="Arial"/>
                <a:ea typeface="华文行楷"/>
              </a:rPr>
              <a:t>职场礼仪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3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"/>
                                        <p:tgtEl>
                                          <p:spTgt spid="3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打招呼礼仪—日常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早晨的打招呼是一天工作情绪和干劲的发端。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先发制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地给予对方以明朗的招呼，打招呼是你自己赋予自己的一方精神良药，把自己焕发的精神传达、感染于周围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对能正视对方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坦诚的眼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一副面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微笑的面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明朗的声音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向人打招呼，是一个成功的职员应具备的素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2053800" y="4568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点头礼—日常礼仪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911160" y="1674720"/>
            <a:ext cx="7701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微微地点头，以对人表示礼貌。适用于比较随便的场合，如：在路上行走，或是在公共场所与熟人相遇，无须驻足长谈时，可行点头礼。还可以随之说些问候的话。与相识者在同一场合多次见面，只点头致意即可。对一面之交的朋友或不相识者，在社交场合均可点头或微笑致意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4"/>
          <p:cNvSpPr/>
          <p:nvPr/>
        </p:nvSpPr>
        <p:spPr>
          <a:xfrm>
            <a:off x="457200" y="838080"/>
            <a:ext cx="7792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行礼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Rectangle 5"/>
          <p:cNvSpPr/>
          <p:nvPr/>
        </p:nvSpPr>
        <p:spPr>
          <a:xfrm>
            <a:off x="356220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Rectangle 6"/>
          <p:cNvSpPr/>
          <p:nvPr/>
        </p:nvSpPr>
        <p:spPr>
          <a:xfrm>
            <a:off x="35481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Rectangle 7"/>
          <p:cNvSpPr/>
          <p:nvPr/>
        </p:nvSpPr>
        <p:spPr>
          <a:xfrm>
            <a:off x="35290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5" name="Picture 8" descr="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04920" y="2514600"/>
            <a:ext cx="1904760" cy="3124080"/>
          </a:xfrm>
          <a:prstGeom prst="rect">
            <a:avLst/>
          </a:prstGeom>
          <a:ln w="0">
            <a:noFill/>
          </a:ln>
        </p:spPr>
      </p:pic>
      <p:pic>
        <p:nvPicPr>
          <p:cNvPr id="3616" name="Picture 9" descr="9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819520" y="2590920"/>
            <a:ext cx="1828800" cy="3276360"/>
          </a:xfrm>
          <a:prstGeom prst="rect">
            <a:avLst/>
          </a:prstGeom>
          <a:ln w="0">
            <a:noFill/>
          </a:ln>
        </p:spPr>
      </p:pic>
      <p:sp>
        <p:nvSpPr>
          <p:cNvPr id="3617" name="AutoShape 10"/>
          <p:cNvSpPr/>
          <p:nvPr/>
        </p:nvSpPr>
        <p:spPr>
          <a:xfrm>
            <a:off x="4419720" y="2819520"/>
            <a:ext cx="1143000" cy="914400"/>
          </a:xfrm>
          <a:prstGeom prst="wedgeEllipseCallout">
            <a:avLst>
              <a:gd name="adj1" fmla="val -74027"/>
              <a:gd name="adj2" fmla="val 3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度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AutoShape 11"/>
          <p:cNvSpPr/>
          <p:nvPr/>
        </p:nvSpPr>
        <p:spPr>
          <a:xfrm>
            <a:off x="1752480" y="2819520"/>
            <a:ext cx="1143000" cy="914400"/>
          </a:xfrm>
          <a:prstGeom prst="wedgeEllipseCallout">
            <a:avLst>
              <a:gd name="adj1" fmla="val -59861"/>
              <a:gd name="adj2" fmla="val 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度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9" name="Picture 12" descr="10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5562720" y="2743200"/>
            <a:ext cx="1981080" cy="2895480"/>
          </a:xfrm>
          <a:prstGeom prst="rect">
            <a:avLst/>
          </a:prstGeom>
          <a:ln w="0">
            <a:noFill/>
          </a:ln>
        </p:spPr>
      </p:pic>
      <p:sp>
        <p:nvSpPr>
          <p:cNvPr id="3620" name="AutoShape 13"/>
          <p:cNvSpPr/>
          <p:nvPr/>
        </p:nvSpPr>
        <p:spPr>
          <a:xfrm>
            <a:off x="7010280" y="2819520"/>
            <a:ext cx="1143000" cy="914400"/>
          </a:xfrm>
          <a:prstGeom prst="wedgeEllipseCallout">
            <a:avLst>
              <a:gd name="adj1" fmla="val -51388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度行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1" name="Picture 1026" descr="未标题-16"/>
          <p:cNvPicPr/>
          <p:nvPr/>
        </p:nvPicPr>
        <p:blipFill>
          <a:blip r:embed="rId1"/>
          <a:stretch/>
        </p:blipFill>
        <p:spPr>
          <a:xfrm>
            <a:off x="1447920" y="1359000"/>
            <a:ext cx="7315200" cy="4889520"/>
          </a:xfrm>
          <a:prstGeom prst="rect">
            <a:avLst/>
          </a:prstGeom>
          <a:ln w="0">
            <a:noFill/>
          </a:ln>
        </p:spPr>
      </p:pic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3619440" y="258840"/>
            <a:ext cx="3084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鞠躬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什么是礼仪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礼仪是一门综合性较强的行为科学，是指在人际交往中，自始至终地以一定的，约定俗成的程序、方式来表现的律已、敬人的完整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亚里士多德说：</a:t>
            </a: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一个人不跟别人打交道，他不是一个神就是一个兽</a:t>
            </a: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-------</a:t>
            </a:r>
            <a:r>
              <a:rPr b="1" lang="zh-CN" sz="2400" spc="-1" strike="noStrike">
                <a:solidFill>
                  <a:srgbClr val="4100fa"/>
                </a:solidFill>
                <a:latin typeface="Arial"/>
              </a:rPr>
              <a:t>强调人与人之间交往和沟通的必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国是“文明古国，礼仪之邦” </a:t>
            </a:r>
            <a:r>
              <a:rPr b="0" lang="zh-CN" sz="2400" spc="-1" strike="noStrike">
                <a:solidFill>
                  <a:srgbClr val="4100fa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孔子曰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非礼勿视，非礼勿听，非礼勿言，非礼勿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4100fa"/>
                </a:solidFill>
                <a:latin typeface="Arial"/>
              </a:rPr>
              <a:t>古人说：</a:t>
            </a:r>
            <a:r>
              <a:rPr b="0" lang="zh-CN" sz="2400" spc="-1" strike="noStrike">
                <a:solidFill>
                  <a:srgbClr val="4100fa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礼出于俗，俗化为礼</a:t>
            </a:r>
            <a:r>
              <a:rPr b="0" lang="zh-CN" sz="2400" spc="-1" strike="noStrike">
                <a:solidFill>
                  <a:srgbClr val="4100fa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4100fa"/>
                </a:solidFill>
                <a:latin typeface="Arial"/>
              </a:rPr>
              <a:t>。早在先秦周公的“制礼作乐”、北京人的“老礼儿”，到五讲四美、各行业的服务规范，都包含了仪容仪表、言行举止、为人处事等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1749600" y="4572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握手礼仪—日常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握手次序：女士先伸手，男士才可握手；领导或长辈先伸手，下级或晚辈才可握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握手动作：对方伸手后，我方应迅速迎上去，但避免很多人互相交叉握手，用大约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公斤的力，避免上下过分地摇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握手禁忌：不能用左手，与异性握手不可用双手，不能戴墨镜、不能戴帽子、不能戴手套。不要在与人握手时递给对方冷冰冰的指尖，不在握手时长篇大论，或点头哈腰过分热情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5" name="Picture 2" descr="未标题-26"/>
          <p:cNvPicPr/>
          <p:nvPr/>
        </p:nvPicPr>
        <p:blipFill>
          <a:blip r:embed="rId1"/>
          <a:stretch/>
        </p:blipFill>
        <p:spPr>
          <a:xfrm>
            <a:off x="2438280" y="171360"/>
            <a:ext cx="4641840" cy="6381720"/>
          </a:xfrm>
          <a:prstGeom prst="rect">
            <a:avLst/>
          </a:prstGeom>
          <a:ln w="0">
            <a:noFill/>
          </a:ln>
        </p:spPr>
      </p:pic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1066320" y="1599840"/>
            <a:ext cx="762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握手图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沟通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眼到、口到、意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眼到：要有目光的交流，注视别人目光应友善，采用平视，必要的时候仰视，与人目光交流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3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秒，其他时间看嘴巴和眼部中间的位置，注视对方的时间是对方与你相处时间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口到：讲普通话，热情正确称呼，表示对交往对象的尊重，体现社会风尚，反映个人修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意到：通过微笑把友善、热情表现出来，不卑不亢，落落大方，不能假笑、冷笑、怪笑、媚笑、窃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沟通礼仪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---</a:t>
            </a: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如何说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9900"/>
                </a:solidFill>
                <a:latin typeface="宋体"/>
              </a:rPr>
              <a:t> </a:t>
            </a:r>
            <a:r>
              <a:rPr b="1" sz="3600" spc="-1" strike="noStrike">
                <a:solidFill>
                  <a:srgbClr val="ff9900"/>
                </a:solidFill>
                <a:latin typeface="宋体"/>
              </a:rPr>
              <a:t>细语柔声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9900"/>
                </a:solidFill>
                <a:latin typeface="宋体"/>
              </a:rPr>
              <a:t>善于跟交谈对象互动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9900"/>
                </a:solidFill>
                <a:latin typeface="宋体"/>
              </a:rPr>
              <a:t>注意尊重对方</a:t>
            </a:r>
            <a:r>
              <a:rPr b="1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sz="2800" spc="-1" strike="noStrike">
                <a:solidFill>
                  <a:srgbClr val="ff6600"/>
                </a:solidFill>
                <a:latin typeface="宋体"/>
              </a:rPr>
              <a:t>不打断对方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sz="2800" spc="-1" strike="noStrike">
                <a:solidFill>
                  <a:srgbClr val="ff6600"/>
                </a:solidFill>
                <a:latin typeface="宋体"/>
              </a:rPr>
              <a:t>不补充对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sz="2800" spc="-1" strike="noStrike">
                <a:solidFill>
                  <a:srgbClr val="ff6600"/>
                </a:solidFill>
                <a:latin typeface="宋体"/>
              </a:rPr>
              <a:t>不纠正人家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sz="2800" spc="-1" strike="noStrike">
                <a:solidFill>
                  <a:srgbClr val="ff6600"/>
                </a:solidFill>
                <a:latin typeface="宋体"/>
              </a:rPr>
              <a:t>不质疑对方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沟通礼仪—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说什么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非议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要涉及公司秘密与商业秘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随便非议交往对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在背后议论领导、同行和同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谈论格调不高的话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沟通禁忌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问收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不问年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不问婚姻家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不问健康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不问个人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要的第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清晰、亲切、悦耳，使用礼貌用语，“你好，宏兴”，接电话人员应有“我代表公司、代表宏兴形象”的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允许接电话以“喂，喂”或者一张嘴就不客气的说“你找谁呀”“你是谁呀”“有什么事儿啊”像查户口似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接听电话是个人素质的直接体现，维护企业形象，树立办公新风，让我们从接听电话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7" name="Picture 2" descr="未标题-19"/>
          <p:cNvPicPr/>
          <p:nvPr/>
        </p:nvPicPr>
        <p:blipFill>
          <a:blip r:embed="rId1"/>
          <a:stretch/>
        </p:blipFill>
        <p:spPr>
          <a:xfrm>
            <a:off x="2362320" y="57240"/>
            <a:ext cx="4465440" cy="6648480"/>
          </a:xfrm>
          <a:prstGeom prst="rect">
            <a:avLst/>
          </a:prstGeom>
          <a:ln w="0">
            <a:noFill/>
          </a:ln>
        </p:spPr>
      </p:pic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617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图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、微笑接听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声音可以把你的表情传递给对方，笑是可以通过声音来感觉到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、清晰明朗的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打电话过程中不可以吸烟、吃零食、打哈欠，如果你弯着腰靠在椅子上，前仰后合，对方也能听出你的声音是懒散的，无精打采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通话中不可以与别人闲聊，不要让对方感到他在对方心中无足轻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给予任何人同等的待遇，一视同仁，不卑不亢，这种公平的态度，容易为自己赢得朋友，也有利于公司良好待人接物形象宣传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2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迅速准确的接听电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在听到电话响时，如果附近没有人，我们应该以最快的速度拿起话筒。这样的态度是每个人应该拥有的，这样的习惯也是每个办公室工作人员都应该养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电话最好在响三声之内接听，长时间让对方等候是很不礼貌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如果电话是在响了五声后才接起，请别忘记先向对方道歉“不好意思，让您久等了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Oval 1026"/>
          <p:cNvSpPr/>
          <p:nvPr/>
        </p:nvSpPr>
        <p:spPr>
          <a:xfrm>
            <a:off x="4267080" y="2286000"/>
            <a:ext cx="1447920" cy="914400"/>
          </a:xfrm>
          <a:prstGeom prst="ellipse">
            <a:avLst/>
          </a:prstGeom>
          <a:gradFill rotWithShape="0">
            <a:gsLst>
              <a:gs pos="0">
                <a:srgbClr val="e1f4ff"/>
              </a:gs>
              <a:gs pos="100000">
                <a:srgbClr val="ffd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礼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Oval 1027"/>
          <p:cNvSpPr/>
          <p:nvPr/>
        </p:nvSpPr>
        <p:spPr>
          <a:xfrm>
            <a:off x="4191120" y="4572000"/>
            <a:ext cx="1447560" cy="914400"/>
          </a:xfrm>
          <a:prstGeom prst="ellipse">
            <a:avLst/>
          </a:prstGeom>
          <a:gradFill rotWithShape="0">
            <a:gsLst>
              <a:gs pos="0">
                <a:srgbClr val="9f9fbf"/>
              </a:gs>
              <a:gs pos="100000">
                <a:srgbClr val="ffd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仪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Oval 1028"/>
          <p:cNvSpPr/>
          <p:nvPr/>
        </p:nvSpPr>
        <p:spPr>
          <a:xfrm>
            <a:off x="2895480" y="2514600"/>
            <a:ext cx="144792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d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礼貌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Oval 1029"/>
          <p:cNvSpPr/>
          <p:nvPr/>
        </p:nvSpPr>
        <p:spPr>
          <a:xfrm>
            <a:off x="5562720" y="4267080"/>
            <a:ext cx="144756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d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仪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Oval 1030"/>
          <p:cNvSpPr/>
          <p:nvPr/>
        </p:nvSpPr>
        <p:spPr>
          <a:xfrm>
            <a:off x="3657600" y="3048120"/>
            <a:ext cx="2755800" cy="1589040"/>
          </a:xfrm>
          <a:prstGeom prst="ellipse">
            <a:avLst/>
          </a:prstGeom>
          <a:gradFill rotWithShape="0">
            <a:gsLst>
              <a:gs pos="0">
                <a:srgbClr val="ffd9ff"/>
              </a:gs>
              <a:gs pos="100000">
                <a:srgbClr val="fffb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幼圆"/>
              </a:rPr>
              <a:t>礼仪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Text Box 1031"/>
          <p:cNvSpPr/>
          <p:nvPr/>
        </p:nvSpPr>
        <p:spPr>
          <a:xfrm>
            <a:off x="5486400" y="1600200"/>
            <a:ext cx="365760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d9ff"/>
              </a:gs>
            </a:gsLst>
            <a:lin ang="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指人们在社会交往过程中表示出的尊重、祝颂、致意、问候、哀悼等惯用的形式和规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Text Box 1032"/>
          <p:cNvSpPr/>
          <p:nvPr/>
        </p:nvSpPr>
        <p:spPr>
          <a:xfrm>
            <a:off x="6629400" y="4648320"/>
            <a:ext cx="228600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d9ff"/>
              </a:gs>
              <a:gs pos="100000">
                <a:srgbClr val="ffffcc"/>
              </a:gs>
            </a:gsLst>
            <a:lin ang="189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是指人的外表。如容貌、服饰、姿态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Text Box 1033"/>
          <p:cNvSpPr/>
          <p:nvPr/>
        </p:nvSpPr>
        <p:spPr>
          <a:xfrm>
            <a:off x="0" y="1600200"/>
            <a:ext cx="3048120" cy="569160"/>
          </a:xfrm>
          <a:prstGeom prst="rect">
            <a:avLst/>
          </a:prstGeom>
          <a:gradFill rotWithShape="0">
            <a:gsLst>
              <a:gs pos="0">
                <a:srgbClr val="ffd9ff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指人们在相互交往过程中应具有的相互表示敬意、友好、得体的气度和风范</a:t>
            </a:r>
            <a:r>
              <a:rPr b="1" lang="zh-CN" sz="26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Text Box 1034"/>
          <p:cNvSpPr/>
          <p:nvPr/>
        </p:nvSpPr>
        <p:spPr>
          <a:xfrm>
            <a:off x="0" y="4648320"/>
            <a:ext cx="419112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d9ff"/>
              </a:gs>
              <a:gs pos="100000">
                <a:srgbClr val="ffffcc"/>
              </a:gs>
            </a:gsLst>
            <a:lin ang="27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是指在特定场合举行的、具有专门程序、规范化的活动。如发奖仪式、签字仪式、开幕式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1"/>
          <p:cNvSpPr>
            <a:spLocks noGrp="1"/>
          </p:cNvSpPr>
          <p:nvPr>
            <p:ph type="title"/>
          </p:nvPr>
        </p:nvSpPr>
        <p:spPr>
          <a:xfrm>
            <a:off x="2828520" y="258480"/>
            <a:ext cx="332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礼仪的内容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3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500"/>
                                        <p:tgtEl>
                                          <p:spTgt spid="3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认真做好电话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上班时间打来的电话都是与工作有关的，所以公司里每一个电话都很重要，即使对方要找的人不在，切忌只说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不在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，应做好电话记录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电话记录牢记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1H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原则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en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何时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o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何人来电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ere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事件地点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at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何事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hy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为什么，原因，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how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如何做。电话记录简洁又完备，有赖于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W1H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不要抱怨接到的任何电话，那怕与你无关，做好记录是对同事的尊重，对工作的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永远不要对打来的电话说：我不知道！这是一种不负责任的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2433240" y="563040"/>
            <a:ext cx="434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接电话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顺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拿起电话听筒，并告知自己的姓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您好，宏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确认对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“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生，您好！”、“感谢您的关照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听取对方来电用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时应进行记录，使用“是”、“好的”、“清楚”、“明白”等用语；谈话时不要离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确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确认时间、地点、对象和事由；用“请您再重复一遍”、“那么明天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钟见”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束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清楚了”、“请放心……”、“我一定转达”、“谢谢”、“再见”等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回电话听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对方放下电话后再轻轻放回电话机上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2117520" y="563040"/>
            <a:ext cx="537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打电话的注意事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考虑打电话的时间（对方此时是否有时间或者方便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确认对方的电话号码、单位、姓名，以避免打错电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准备好所需要用到的资料、文件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讲话的内容要有次序，简洁、明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通话时间，不宜过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使用礼貌语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避免私人电话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1749240" y="45684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打电话的顺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533160" y="2101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准备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确认拨打电话方的姓名、电话号码、要讲的内容、说话的顺序和所需要的资料、文件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问候、告知自己的姓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您好！我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确认电话对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必须确认电话的对方；如与要找的人接通电话后，应重新问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部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先生在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您好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先生，我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电话内容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今天打电话是想向您咨询一下关于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×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 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结束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谢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麻烦您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那就拜托您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放回电话听筒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等对方放下电话后再轻放回电话机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挂电话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通电话时，如果自己正在开会、会客，不宜长谈，或另有电话打进来，需要中止通话时，应说明原因，告之对方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有空，我马上打电话给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免得让对方认为我方厚此薄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止电话时应恭候对方先放下电话，不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越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抢先。一般下级要等上级先挂电话，晚辈要等长辈先挂电话，被叫等主叫先挂电话，不可只管自己讲完就挂断电话，那是一种非常没有教养的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遇上不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识相的人打起电话没完没了，不宜说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说完了没有？我还有事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最好委婉、含蓄，不要让对方难堪，应讲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好吧，我不再占用您宝贵的时间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真不希望就此道别，不过以后希望有机会与您联络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拨错电话礼仪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要保持风度，切勿发脾气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耍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确认对方打错电话，应先自报家门，然后告知电话打错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、如果对方道了歉，不要忘了说：“没关系”应对，不要教训人家，或抱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3273120" y="228240"/>
            <a:ext cx="3048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接待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来有迎声，问有答声，去有送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明五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问候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求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感谢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谢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抱歉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不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别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热情三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眼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目中有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口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话要懂得因人而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意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心意要到：表情要自然、表情要互动、要大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介绍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互介绍。尊者居后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地位低者介绍给地位高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年轻者介绍给长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客人介绍给主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男士介绍给女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仿宋_GB2312"/>
              </a:rPr>
              <a:t>把迟到者介绍给早到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介绍时动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手心向上，介绍时一般应站立，特殊情况下年长者和女士可除外，在宴会或会谈桌上可以不起立，微笑点头示意即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9" name="Picture 2" descr="BS01197_"/>
          <p:cNvPicPr/>
          <p:nvPr/>
        </p:nvPicPr>
        <p:blipFill>
          <a:blip r:embed="rId1"/>
          <a:stretch/>
        </p:blipFill>
        <p:spPr>
          <a:xfrm>
            <a:off x="685800" y="2514600"/>
            <a:ext cx="3048120" cy="2817720"/>
          </a:xfrm>
          <a:prstGeom prst="rect">
            <a:avLst/>
          </a:prstGeom>
          <a:ln w="0">
            <a:noFill/>
          </a:ln>
        </p:spPr>
      </p:pic>
      <p:sp>
        <p:nvSpPr>
          <p:cNvPr id="3660" name="Text Box 3"/>
          <p:cNvSpPr/>
          <p:nvPr/>
        </p:nvSpPr>
        <p:spPr>
          <a:xfrm>
            <a:off x="668988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1" name="Group 7"/>
          <p:cNvGrpSpPr/>
          <p:nvPr/>
        </p:nvGrpSpPr>
        <p:grpSpPr>
          <a:xfrm>
            <a:off x="4191120" y="1600200"/>
            <a:ext cx="3733560" cy="4925160"/>
            <a:chOff x="4191120" y="1600200"/>
            <a:chExt cx="3733560" cy="4925160"/>
          </a:xfrm>
        </p:grpSpPr>
        <p:sp>
          <p:nvSpPr>
            <p:cNvPr id="3662" name="AutoShape 8"/>
            <p:cNvSpPr/>
            <p:nvPr/>
          </p:nvSpPr>
          <p:spPr>
            <a:xfrm>
              <a:off x="4191120" y="1600200"/>
              <a:ext cx="3733560" cy="48769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ff"/>
                </a:gs>
                <a:gs pos="100000">
                  <a:srgbClr val="33cccc"/>
                </a:gs>
              </a:gsLst>
              <a:lin ang="2700000"/>
            </a:gradFill>
            <a:ln w="0">
              <a:noFill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Text Box 9"/>
            <p:cNvSpPr/>
            <p:nvPr/>
          </p:nvSpPr>
          <p:spPr>
            <a:xfrm>
              <a:off x="4886640" y="1676520"/>
              <a:ext cx="225144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同时要看着对方的眼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有力但不能握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大约持续三秒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只晃两三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开始和结束要干净利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不要在介绍过程中一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握着对方的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1958760" y="487440"/>
            <a:ext cx="4190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握手的礼仪标准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8" dur="500"/>
                                        <p:tgtEl>
                                          <p:spTgt spid="3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2749680" y="563040"/>
            <a:ext cx="308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宋体"/>
              </a:rPr>
              <a:t>递物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递物与接物是常用的一种动作，应当双手递物，双手接物（五指并拢）表现出恭敬与尊重的态度。注意两臂挟紧，自然地将两手伸出。在接待工作中，所有东两、物品都要轻拿轻放，客人需要的东西要轻轻地用双手送上，不要随便扔过去，接物时应点头示意或道声谢谢。递上剪刀、刀子或尖利的物品，应用手拿着尖头部位递给对方，让对方方便接取。同时，还要注意递笔时，笔尖不可以指向对方。递书、资料、文件、名片等，字体应正对接受者，要让对方马上容易看清楚。这些微小的动作能显示出你的聪明与教养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3124080" y="3045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礼仪的原则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8" name="Diagram 2"/>
          <p:cNvGrpSpPr/>
          <p:nvPr/>
        </p:nvGrpSpPr>
        <p:grpSpPr>
          <a:xfrm>
            <a:off x="539640" y="1628640"/>
            <a:ext cx="8229240" cy="4724280"/>
            <a:chOff x="539640" y="1628640"/>
            <a:chExt cx="8229240" cy="4724280"/>
          </a:xfrm>
        </p:grpSpPr>
        <p:sp>
          <p:nvSpPr>
            <p:cNvPr id="3399" name="AutoShape 3"/>
            <p:cNvSpPr/>
            <p:nvPr/>
          </p:nvSpPr>
          <p:spPr>
            <a:xfrm>
              <a:off x="539640" y="1628640"/>
              <a:ext cx="8229240" cy="4724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_s1028"/>
            <p:cNvSpPr/>
            <p:nvPr/>
          </p:nvSpPr>
          <p:spPr>
            <a:xfrm flipH="1" flipV="1">
              <a:off x="3888720" y="3252600"/>
              <a:ext cx="385200" cy="368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_s1029"/>
            <p:cNvSpPr/>
            <p:nvPr/>
          </p:nvSpPr>
          <p:spPr>
            <a:xfrm>
              <a:off x="3019320" y="2297160"/>
              <a:ext cx="977760" cy="1180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_s1030"/>
            <p:cNvSpPr/>
            <p:nvPr/>
          </p:nvSpPr>
          <p:spPr>
            <a:xfrm flipH="1">
              <a:off x="3700080" y="4119840"/>
              <a:ext cx="478440" cy="1328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_s1031"/>
            <p:cNvSpPr/>
            <p:nvPr/>
          </p:nvSpPr>
          <p:spPr>
            <a:xfrm>
              <a:off x="2737440" y="3794040"/>
              <a:ext cx="977760" cy="1180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_s1032"/>
            <p:cNvSpPr/>
            <p:nvPr/>
          </p:nvSpPr>
          <p:spPr>
            <a:xfrm flipH="1">
              <a:off x="4231080" y="4519800"/>
              <a:ext cx="212040" cy="5349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_s1033"/>
            <p:cNvSpPr/>
            <p:nvPr/>
          </p:nvSpPr>
          <p:spPr>
            <a:xfrm>
              <a:off x="3530520" y="4993200"/>
              <a:ext cx="977760" cy="11808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_s1034"/>
            <p:cNvSpPr/>
            <p:nvPr/>
          </p:nvSpPr>
          <p:spPr>
            <a:xfrm>
              <a:off x="4866480" y="4519800"/>
              <a:ext cx="213840" cy="5328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_s1035"/>
            <p:cNvSpPr/>
            <p:nvPr/>
          </p:nvSpPr>
          <p:spPr>
            <a:xfrm>
              <a:off x="4802040" y="4993200"/>
              <a:ext cx="977760" cy="11808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_s1036"/>
            <p:cNvSpPr/>
            <p:nvPr/>
          </p:nvSpPr>
          <p:spPr>
            <a:xfrm>
              <a:off x="5131080" y="4119840"/>
              <a:ext cx="476640" cy="1310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_s1037"/>
            <p:cNvSpPr/>
            <p:nvPr/>
          </p:nvSpPr>
          <p:spPr>
            <a:xfrm>
              <a:off x="5594760" y="3791880"/>
              <a:ext cx="977760" cy="11808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_s1038"/>
            <p:cNvSpPr/>
            <p:nvPr/>
          </p:nvSpPr>
          <p:spPr>
            <a:xfrm flipV="1">
              <a:off x="5036040" y="3252600"/>
              <a:ext cx="381600" cy="3686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_s1039"/>
            <p:cNvSpPr/>
            <p:nvPr/>
          </p:nvSpPr>
          <p:spPr>
            <a:xfrm>
              <a:off x="5311440" y="2295000"/>
              <a:ext cx="977760" cy="1180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_s1040"/>
            <p:cNvSpPr/>
            <p:nvPr/>
          </p:nvSpPr>
          <p:spPr>
            <a:xfrm flipV="1">
              <a:off x="4654080" y="2809440"/>
              <a:ext cx="0" cy="5904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_s1041"/>
            <p:cNvSpPr/>
            <p:nvPr/>
          </p:nvSpPr>
          <p:spPr>
            <a:xfrm>
              <a:off x="4165200" y="1628640"/>
              <a:ext cx="977760" cy="1180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_s1042"/>
            <p:cNvSpPr/>
            <p:nvPr/>
          </p:nvSpPr>
          <p:spPr>
            <a:xfrm>
              <a:off x="4165200" y="3400200"/>
              <a:ext cx="977760" cy="1180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7" name="Picture 2" descr="BS01580_"/>
          <p:cNvPicPr/>
          <p:nvPr/>
        </p:nvPicPr>
        <p:blipFill>
          <a:blip r:embed="rId1"/>
          <a:stretch/>
        </p:blipFill>
        <p:spPr>
          <a:xfrm>
            <a:off x="0" y="4343400"/>
            <a:ext cx="2146320" cy="1982880"/>
          </a:xfrm>
          <a:prstGeom prst="rect">
            <a:avLst/>
          </a:prstGeom>
          <a:ln w="0">
            <a:noFill/>
          </a:ln>
        </p:spPr>
      </p:pic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华文行楷"/>
                <a:ea typeface="华文行楷"/>
              </a:rPr>
              <a:t>名片的使用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205704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保持名片的清洁、平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下级或访问方先递名片，同时应说些请多关照之类的寒喧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起身双手接收名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接收的名片不要在上面作标记，不可来回摆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妥善保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名片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1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、准备名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名片不要和钱包、笔记本等放在一起，原则上应该使用名片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名片可放在上衣口袋（但不可放在裤兜里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要保持名片或名片夹的清洁、平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）如果你的职务、地址、电话变了，应及时更换名片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30477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仿宋_GB2312"/>
              </a:rPr>
              <a:t>接受名片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987120" y="1903320"/>
            <a:ext cx="769932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必须起身接收名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应双手接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接收的名片不要在上面作标记或写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接收的名片不可来回摆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</a:rPr>
              <a:t>）接收名片时，要认真地看一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要将对方的名片遗忘在座位上，或存放时不注意落在地上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2815920" y="53352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换名片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互换名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递名片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双手拿出自己的名片，将名片的方向调整到最适合对方观看的位置，不必提职务、头衔，只要把名字重复一下，顺序要先职务高后职务低，由近而远，圆桌上按顺时针方向开始，在用敬语：“认识您真高兴”“请多指教”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接名片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：双手接过对方的名片，要简单地看一下内容，轻声念出对方名字，不要直接把名片放起不看，也不要长时间拿在手里不停摆弄，更不要在离开时把名片漏带，应将名片放在专用的名片夹，或放在其他不易折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3223800" y="639360"/>
            <a:ext cx="2768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</a:rPr>
              <a:t>传递名片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递名片的次序是由下级或访问方先递名片，如是介绍时，应由先被介绍方递名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递名片时，应说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请多关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请多指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之类的寒喧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互换名片时，应用右手拿着自己的名片，用左手接对方的名片后，用双手托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4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互换名片时，也要看一遍对方职务、姓名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5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遇到难认字，应事先询问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6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在会议室如遇到多数人相互交换名片时，可按对方座次排列名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会谈中，应称呼对方的职务、职称，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先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小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，而尽量不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字或直呼其名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3425400" y="304920"/>
            <a:ext cx="2971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开门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79088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外开门时，先敲门，打开门后把住门把手，站在门旁，对客人说“请进”并施礼。进入房间后，用右手将门轻轻关上，请客人入坐。向内开门时，敲门后，自己先进入房间，侧身，把住门把手，对客人说“请进”并施礼。进入房间后，轻轻关上门后，请客人入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3066840" y="639360"/>
            <a:ext cx="332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乘车礼仪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/>
          </p:nvPr>
        </p:nvSpPr>
        <p:spPr>
          <a:xfrm>
            <a:off x="1062000" y="1674720"/>
            <a:ext cx="77011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乘汽车时，通常是遵循右为上，左为下，后为上，前为下的原则，故一般情况下，司机后排右侧是上宾席。但若主人亲自驾车，则副驾驶位置为上宾席。另外，如果上宾首先上车，那他所坐的位置即是上宾席，不必劳驾移位，除非他坐在了驾驶座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上车时优美的姿势是扶着门，把身体放低，轻轻移进车子。错误的上车姿势是低着头，拱着背，钻进车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下车时优美的姿势是先伸出一只脚站稳后，让身体徐徐升起。错误的姿势是伸出头来，十分艰难地把身体钻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993366"/>
                </a:solidFill>
                <a:uFillTx/>
                <a:latin typeface="Arial"/>
                <a:ea typeface="华文行楷"/>
              </a:rPr>
              <a:t>办公室日常礼仪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2873520" y="1977840"/>
            <a:ext cx="52099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真诚相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成为大家的一份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多与同事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帮助周围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好的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传闲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4" name="Picture 4" descr="PE01832_"/>
          <p:cNvPicPr/>
          <p:nvPr/>
        </p:nvPicPr>
        <p:blipFill>
          <a:blip r:embed="rId1"/>
          <a:stretch/>
        </p:blipFill>
        <p:spPr>
          <a:xfrm>
            <a:off x="5867280" y="2895480"/>
            <a:ext cx="3276720" cy="3135600"/>
          </a:xfrm>
          <a:prstGeom prst="rect">
            <a:avLst/>
          </a:prstGeom>
          <a:ln w="0">
            <a:noFill/>
          </a:ln>
        </p:spPr>
      </p:pic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993366"/>
                </a:solidFill>
                <a:uFillTx/>
                <a:latin typeface="Arial"/>
                <a:ea typeface="华文行楷"/>
              </a:rPr>
              <a:t>与 上 司 的 关 系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6" name="PlaceHolder 2"/>
          <p:cNvSpPr>
            <a:spLocks noGrp="1"/>
          </p:cNvSpPr>
          <p:nvPr>
            <p:ph/>
          </p:nvPr>
        </p:nvSpPr>
        <p:spPr>
          <a:xfrm>
            <a:off x="2195280" y="2356920"/>
            <a:ext cx="4452840" cy="36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尊重与体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了解上司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工作第一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体谅上司并协作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大方合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距离就是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学会赞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75"/>
                                        <p:tgtEl>
                                          <p:spTgt spid="3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75"/>
                                        <p:tgtEl>
                                          <p:spTgt spid="3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75"/>
                                        <p:tgtEl>
                                          <p:spTgt spid="3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75"/>
                                        <p:tgtEl>
                                          <p:spTgt spid="3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75"/>
                                        <p:tgtEl>
                                          <p:spTgt spid="3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75"/>
                                        <p:tgtEl>
                                          <p:spTgt spid="3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75"/>
                                        <p:tgtEl>
                                          <p:spTgt spid="3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75"/>
                                        <p:tgtEl>
                                          <p:spTgt spid="3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993366"/>
                </a:solidFill>
                <a:uFillTx/>
                <a:latin typeface="华文行楷"/>
                <a:ea typeface="华文行楷"/>
              </a:rPr>
              <a:t>与 同 事 相 处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1740960" y="2660760"/>
            <a:ext cx="498348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平等与相互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礼字当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协作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人情交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华文行楷"/>
              </a:rPr>
              <a:t>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视同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9" name="Picture 4" descr="PE01476_"/>
          <p:cNvPicPr/>
          <p:nvPr/>
        </p:nvPicPr>
        <p:blipFill>
          <a:blip r:embed="rId1"/>
          <a:stretch/>
        </p:blipFill>
        <p:spPr>
          <a:xfrm>
            <a:off x="6400800" y="2590920"/>
            <a:ext cx="2549520" cy="28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3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Rectangle 2"/>
          <p:cNvSpPr/>
          <p:nvPr/>
        </p:nvSpPr>
        <p:spPr>
          <a:xfrm>
            <a:off x="3276720" y="4572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礼仪的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6" name="Diagram 2"/>
          <p:cNvGrpSpPr/>
          <p:nvPr/>
        </p:nvGrpSpPr>
        <p:grpSpPr>
          <a:xfrm>
            <a:off x="380880" y="1371600"/>
            <a:ext cx="8076960" cy="4876560"/>
            <a:chOff x="380880" y="1371600"/>
            <a:chExt cx="8076960" cy="4876560"/>
          </a:xfrm>
        </p:grpSpPr>
        <p:sp>
          <p:nvSpPr>
            <p:cNvPr id="3417" name="AutoShape 3"/>
            <p:cNvSpPr/>
            <p:nvPr/>
          </p:nvSpPr>
          <p:spPr>
            <a:xfrm>
              <a:off x="380880" y="1371600"/>
              <a:ext cx="8076960" cy="487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_s2052"/>
            <p:cNvSpPr/>
            <p:nvPr/>
          </p:nvSpPr>
          <p:spPr>
            <a:xfrm flipH="1" flipV="1">
              <a:off x="3667680" y="3047760"/>
              <a:ext cx="378000" cy="3805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_s2053"/>
            <p:cNvSpPr/>
            <p:nvPr/>
          </p:nvSpPr>
          <p:spPr>
            <a:xfrm>
              <a:off x="2814840" y="2061720"/>
              <a:ext cx="959400" cy="1218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_s2054"/>
            <p:cNvSpPr/>
            <p:nvPr/>
          </p:nvSpPr>
          <p:spPr>
            <a:xfrm flipH="1">
              <a:off x="3483000" y="3943440"/>
              <a:ext cx="469440" cy="1371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_s2055"/>
            <p:cNvSpPr/>
            <p:nvPr/>
          </p:nvSpPr>
          <p:spPr>
            <a:xfrm>
              <a:off x="2538000" y="3606840"/>
              <a:ext cx="959400" cy="1218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_s2056"/>
            <p:cNvSpPr/>
            <p:nvPr/>
          </p:nvSpPr>
          <p:spPr>
            <a:xfrm flipH="1">
              <a:off x="4004640" y="4356000"/>
              <a:ext cx="208080" cy="55224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_s2057"/>
            <p:cNvSpPr/>
            <p:nvPr/>
          </p:nvSpPr>
          <p:spPr>
            <a:xfrm>
              <a:off x="3316320" y="4844880"/>
              <a:ext cx="959400" cy="1218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_s2058"/>
            <p:cNvSpPr/>
            <p:nvPr/>
          </p:nvSpPr>
          <p:spPr>
            <a:xfrm>
              <a:off x="4627440" y="4356000"/>
              <a:ext cx="209880" cy="5500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_s2059"/>
            <p:cNvSpPr/>
            <p:nvPr/>
          </p:nvSpPr>
          <p:spPr>
            <a:xfrm>
              <a:off x="4564440" y="4844880"/>
              <a:ext cx="959400" cy="1218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_s2060"/>
            <p:cNvSpPr/>
            <p:nvPr/>
          </p:nvSpPr>
          <p:spPr>
            <a:xfrm>
              <a:off x="4887360" y="3943440"/>
              <a:ext cx="468000" cy="13536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_s2061"/>
            <p:cNvSpPr/>
            <p:nvPr/>
          </p:nvSpPr>
          <p:spPr>
            <a:xfrm>
              <a:off x="5342400" y="3604320"/>
              <a:ext cx="959400" cy="121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_s2062"/>
            <p:cNvSpPr/>
            <p:nvPr/>
          </p:nvSpPr>
          <p:spPr>
            <a:xfrm flipV="1">
              <a:off x="4794120" y="3047760"/>
              <a:ext cx="374760" cy="3805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_s2063"/>
            <p:cNvSpPr/>
            <p:nvPr/>
          </p:nvSpPr>
          <p:spPr>
            <a:xfrm>
              <a:off x="5064480" y="2059200"/>
              <a:ext cx="959400" cy="12189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_s2064"/>
            <p:cNvSpPr/>
            <p:nvPr/>
          </p:nvSpPr>
          <p:spPr>
            <a:xfrm flipV="1">
              <a:off x="4419360" y="2590200"/>
              <a:ext cx="0" cy="609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_s2065"/>
            <p:cNvSpPr/>
            <p:nvPr/>
          </p:nvSpPr>
          <p:spPr>
            <a:xfrm>
              <a:off x="3939480" y="1371600"/>
              <a:ext cx="959400" cy="121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_s2066"/>
            <p:cNvSpPr/>
            <p:nvPr/>
          </p:nvSpPr>
          <p:spPr>
            <a:xfrm>
              <a:off x="3939480" y="3200400"/>
              <a:ext cx="959400" cy="12189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3" name="AutoShape 20"/>
          <p:cNvSpPr/>
          <p:nvPr/>
        </p:nvSpPr>
        <p:spPr>
          <a:xfrm>
            <a:off x="457200" y="1981080"/>
            <a:ext cx="2743200" cy="3505320"/>
          </a:xfrm>
          <a:prstGeom prst="wedgeRoundRectCallout">
            <a:avLst>
              <a:gd name="adj1" fmla="val 105902"/>
              <a:gd name="adj2" fmla="val -43930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4100fa"/>
                </a:solidFill>
                <a:latin typeface="Arial"/>
              </a:rPr>
              <a:t>自我要求、自我约束、自我控制、自我对照、自我反省、自我检点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40000"/>
                </a:solidFill>
                <a:latin typeface="Arial"/>
              </a:rPr>
              <a:t>是礼仪的基础和出发点。</a:t>
            </a:r>
            <a:r>
              <a:rPr b="1" lang="zh-CN" sz="2600" spc="-1" strike="noStrike">
                <a:solidFill>
                  <a:srgbClr val="4100fa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律己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华文行楷"/>
              </a:rPr>
              <a:t>教养体现于细节，细节展示素质</a:t>
            </a:r>
            <a:br>
              <a:rPr sz="4000"/>
            </a:br>
            <a:br>
              <a:rPr sz="3200"/>
            </a:br>
            <a:r>
              <a:rPr b="1" lang="zh-CN" sz="4400" spc="-1" strike="noStrike">
                <a:solidFill>
                  <a:srgbClr val="660033"/>
                </a:solidFill>
                <a:latin typeface="Arial"/>
                <a:ea typeface="华文彩云"/>
              </a:rPr>
              <a:t>职业化是我们唯一的标准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subTitle"/>
          </p:nvPr>
        </p:nvSpPr>
        <p:spPr>
          <a:xfrm>
            <a:off x="914400" y="48002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98989"/>
                </a:solidFill>
                <a:latin typeface="Arial"/>
                <a:ea typeface="华文行楷"/>
              </a:rPr>
              <a:t> </a:t>
            </a:r>
            <a:r>
              <a:rPr b="0" lang="zh-CN" sz="4400" spc="-1" strike="noStrike">
                <a:solidFill>
                  <a:srgbClr val="898989"/>
                </a:solidFill>
                <a:latin typeface="Arial"/>
                <a:ea typeface="华文行楷"/>
              </a:rPr>
              <a:t>让周围的人喜欢与你相处吧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75"/>
                                        <p:tgtEl>
                                          <p:spTgt spid="3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75"/>
                                        <p:tgtEl>
                                          <p:spTgt spid="3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33"/>
                </a:solidFill>
                <a:latin typeface="Arial"/>
                <a:ea typeface="华文彩云"/>
              </a:rPr>
              <a:t>谢谢大家！</a:t>
            </a:r>
            <a:endParaRPr b="0" lang="en-US" sz="8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93" name="PlaceHolder 2"/>
          <p:cNvSpPr>
            <a:spLocks noGrp="1"/>
          </p:cNvSpPr>
          <p:nvPr>
            <p:ph type="subTitle"/>
          </p:nvPr>
        </p:nvSpPr>
        <p:spPr>
          <a:xfrm>
            <a:off x="914400" y="48002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98989"/>
                </a:solidFill>
                <a:latin typeface="Arial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75"/>
                                        <p:tgtEl>
                                          <p:spTgt spid="3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75"/>
                                        <p:tgtEl>
                                          <p:spTgt spid="3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5" name="Diagram 2"/>
          <p:cNvGrpSpPr/>
          <p:nvPr/>
        </p:nvGrpSpPr>
        <p:grpSpPr>
          <a:xfrm>
            <a:off x="685800" y="1905120"/>
            <a:ext cx="8076960" cy="4190400"/>
            <a:chOff x="685800" y="1905120"/>
            <a:chExt cx="8076960" cy="4190400"/>
          </a:xfrm>
        </p:grpSpPr>
        <p:sp>
          <p:nvSpPr>
            <p:cNvPr id="3436" name="AutoShape 3"/>
            <p:cNvSpPr/>
            <p:nvPr/>
          </p:nvSpPr>
          <p:spPr>
            <a:xfrm>
              <a:off x="685800" y="1905120"/>
              <a:ext cx="8076960" cy="4190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_s3076"/>
            <p:cNvSpPr/>
            <p:nvPr/>
          </p:nvSpPr>
          <p:spPr>
            <a:xfrm flipH="1" flipV="1">
              <a:off x="3972600" y="3345840"/>
              <a:ext cx="378000" cy="326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_s3077"/>
            <p:cNvSpPr/>
            <p:nvPr/>
          </p:nvSpPr>
          <p:spPr>
            <a:xfrm>
              <a:off x="3119760" y="2498040"/>
              <a:ext cx="959400" cy="1047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从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_s3078"/>
            <p:cNvSpPr/>
            <p:nvPr/>
          </p:nvSpPr>
          <p:spPr>
            <a:xfrm flipH="1">
              <a:off x="3787920" y="4114800"/>
              <a:ext cx="469440" cy="11772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_s3079"/>
            <p:cNvSpPr/>
            <p:nvPr/>
          </p:nvSpPr>
          <p:spPr>
            <a:xfrm>
              <a:off x="2842920" y="3825720"/>
              <a:ext cx="959400" cy="1047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适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_s3080"/>
            <p:cNvSpPr/>
            <p:nvPr/>
          </p:nvSpPr>
          <p:spPr>
            <a:xfrm flipH="1">
              <a:off x="4309560" y="4469760"/>
              <a:ext cx="208080" cy="4744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_s3081"/>
            <p:cNvSpPr/>
            <p:nvPr/>
          </p:nvSpPr>
          <p:spPr>
            <a:xfrm>
              <a:off x="3621240" y="4889520"/>
              <a:ext cx="959400" cy="1047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真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_s3082"/>
            <p:cNvSpPr/>
            <p:nvPr/>
          </p:nvSpPr>
          <p:spPr>
            <a:xfrm>
              <a:off x="4932360" y="4469760"/>
              <a:ext cx="209880" cy="4726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_s3083"/>
            <p:cNvSpPr/>
            <p:nvPr/>
          </p:nvSpPr>
          <p:spPr>
            <a:xfrm>
              <a:off x="4869360" y="4889520"/>
              <a:ext cx="959400" cy="1047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平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_s3084"/>
            <p:cNvSpPr/>
            <p:nvPr/>
          </p:nvSpPr>
          <p:spPr>
            <a:xfrm>
              <a:off x="5192280" y="4114800"/>
              <a:ext cx="468000" cy="1162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_s3085"/>
            <p:cNvSpPr/>
            <p:nvPr/>
          </p:nvSpPr>
          <p:spPr>
            <a:xfrm>
              <a:off x="5647320" y="3823920"/>
              <a:ext cx="959400" cy="1047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宽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_s3086"/>
            <p:cNvSpPr/>
            <p:nvPr/>
          </p:nvSpPr>
          <p:spPr>
            <a:xfrm flipV="1">
              <a:off x="5099040" y="3345840"/>
              <a:ext cx="374760" cy="32688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_s3087"/>
            <p:cNvSpPr/>
            <p:nvPr/>
          </p:nvSpPr>
          <p:spPr>
            <a:xfrm>
              <a:off x="5369400" y="2495880"/>
              <a:ext cx="959400" cy="1047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敬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_s3088"/>
            <p:cNvSpPr/>
            <p:nvPr/>
          </p:nvSpPr>
          <p:spPr>
            <a:xfrm flipV="1">
              <a:off x="4724280" y="2952360"/>
              <a:ext cx="0" cy="523800"/>
            </a:xfrm>
            <a:prstGeom prst="line">
              <a:avLst/>
            </a:prstGeom>
            <a:ln w="38160">
              <a:solidFill>
                <a:srgbClr val="e1f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_s3089"/>
            <p:cNvSpPr/>
            <p:nvPr/>
          </p:nvSpPr>
          <p:spPr>
            <a:xfrm>
              <a:off x="4244400" y="1905120"/>
              <a:ext cx="959400" cy="1047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Times New Roman"/>
                  <a:ea typeface="黑体"/>
                </a:rPr>
                <a:t>律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_s3090"/>
            <p:cNvSpPr/>
            <p:nvPr/>
          </p:nvSpPr>
          <p:spPr>
            <a:xfrm>
              <a:off x="4244400" y="3476520"/>
              <a:ext cx="959400" cy="1047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礼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原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Rectangle 19"/>
          <p:cNvSpPr/>
          <p:nvPr/>
        </p:nvSpPr>
        <p:spPr>
          <a:xfrm>
            <a:off x="4019040" y="9144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礼仪的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AutoShape 20"/>
          <p:cNvSpPr/>
          <p:nvPr/>
        </p:nvSpPr>
        <p:spPr>
          <a:xfrm>
            <a:off x="457200" y="2057400"/>
            <a:ext cx="3121200" cy="4340160"/>
          </a:xfrm>
          <a:prstGeom prst="wedgeRoundRectCallout">
            <a:avLst>
              <a:gd name="adj1" fmla="val 123425"/>
              <a:gd name="adj2" fmla="val -26754"/>
              <a:gd name="adj3" fmla="val 16667"/>
            </a:avLst>
          </a:prstGeom>
          <a:solidFill>
            <a:srgbClr val="e1f4ff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宋体"/>
              </a:rPr>
              <a:t>礼仪的重点和核心</a:t>
            </a: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。是对待他人的诸多做法中最要紧的一条，就是要敬人之心常存，处处不可失敬于人，不可伤害他人的尊严，更不能侮辱对方的人格。</a:t>
            </a:r>
            <a:r>
              <a:rPr b="1" lang="zh-CN" sz="2400" spc="-1" strike="noStrike">
                <a:solidFill>
                  <a:srgbClr val="e40000"/>
                </a:solidFill>
                <a:latin typeface="宋体"/>
              </a:rPr>
              <a:t>掌握了这一点，就等于掌握了礼仪的灵魂。</a:t>
            </a:r>
            <a:r>
              <a:rPr b="1" lang="zh-CN" sz="2400" spc="-1" strike="noStrike">
                <a:solidFill>
                  <a:srgbClr val="4100fa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152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敬人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礼仪的核心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834840" y="1977840"/>
            <a:ext cx="7702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礼仪的核心是敬人，即尊重为本。尊重二字，是礼仪之本，也是待人接物的根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尊重分自尊与尊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3:33:11Z</dcterms:created>
  <dc:creator>04</dc:creator>
  <dc:description/>
  <cp:keywords/>
  <dc:language>en-US</dc:language>
  <cp:lastModifiedBy>Administrator</cp:lastModifiedBy>
  <dcterms:modified xsi:type="dcterms:W3CDTF">2019-10-30T03:05:11Z</dcterms:modified>
  <cp:revision>9</cp:revision>
  <dc:subject/>
  <dc:title>银行大客户服务礼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