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6C3-EDCF-4A5F-B890-92C60CFC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EE1-5E00-4615-9B6B-5501D31C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83A6-0F4E-4D82-9C90-F0E0A638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802B8-A684-4AB2-ACD9-E68197C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9E677-FCE3-4231-AFD1-BA95A384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66D6A-D47E-4A63-848B-FBB1F6C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2B72E-BD1E-47D4-8C0E-2D3385C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B5C4-B526-4DBA-9EA7-CE046F1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57118-58CB-4068-8256-DD66CE73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B177C-4306-4AB1-9E1E-05A86393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05732-C909-4D0C-A38E-6D94C3B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9951E-3FC3-4590-853E-7CA0FBA3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925-4786-40E9-82DB-43CAF2F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F909A-DC91-4641-A73F-21987E86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BBFD6-DEC9-473E-B564-546EF207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7544C-22A0-4122-856C-CCFB4F01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AFCD0-4226-4C4F-9812-9152CAFD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87D49-266A-4787-9882-DCCCBCB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772A1-C558-4330-883D-D5581F2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6F95C-C1C1-4D0C-97EF-54AD242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32FB2-AA97-4A90-8F68-F165A7F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66F74-4342-4844-BD8B-FD2CC875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7F444-0B22-4701-B321-11578E7F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2DB-1BEB-4294-8FBA-1FF719A0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4DBE4-8A85-490A-B829-F7CC2ED7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B2C0-F335-4F93-B78D-27BBAED1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C6DB4-D8C7-46BE-A416-07CCE1C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F1741-D120-4135-8CA5-EE6DF0CF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C6068-D8DE-4B55-A0AF-9CA7AC5C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E0F4F-6467-487A-8A7A-A4DFDFD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981B5-ECF2-400B-BEB8-6B59C84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73C8E-5172-4493-BE46-DC8E5BF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C0BE6-4F09-453F-8D0A-D92CC1E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D88F4-431E-4F70-BFB9-DB1A389F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98AB-36C6-4B47-8ADF-047F6DFA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FC82-4B58-4E53-98B3-991EA6CF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61CB4-3535-4171-9AC3-3CD980B7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C536-B1DC-41FD-9F12-20387C70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8C00E-9AE5-4E70-A013-C859D0DE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F7DAB-7F29-4611-BAD7-4E632A0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65E74-40B8-446F-B4CD-EE6AF71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7E92-B5B9-4B4F-803C-07E25B3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306E2-8745-4176-91FC-158C7E5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0D689-86EF-4E41-9734-80460AEE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F8195-2911-4FB7-A015-75CBBC5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B1D4-8052-4682-AE3E-B134D5E2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37DC2-D666-40F8-BF6B-FC65DC1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20128-BAD1-4BE3-B7B6-540996D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026F-C6D5-4967-AE62-F73D1A00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93073-3678-43F8-9155-0D2F8F2F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638E3-9A7A-47AE-AE0C-3EC0256D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9D4E-92CA-4C78-9096-2F36A067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D054-C05C-400C-8B35-27B9A418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E03D-A829-4E69-B62A-7EA81E6F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0C2F-DD8E-4045-8F85-D13089E7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530-B13D-4CEE-B001-244B993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E8E-EB7F-4578-95EC-61C7ED1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4FE2-EDA3-4066-8808-D35EBD9E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18A-8E42-46A3-92C0-EEB61CF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76E-5BD3-4C86-AA4D-165831E4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209F-B449-4869-BCF6-7BFF7570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2AE8-8BBD-4AA9-8A2A-03720AEB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66CD-0719-492A-BA1A-505D21A0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3630-5043-46EE-A60F-333204E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5BCF-2D1C-4033-8F49-82D41C0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25CB-1330-499F-BC66-5F2271C7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5C9D-A930-4F82-B53A-8FB4D9E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845-00BB-4DD0-88E9-4FD13302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30FC-20DD-414A-B99C-9D28F3B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B8F8-A2E3-4914-8E18-C84A1F5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2871-A132-44CF-9A2E-ADEA3D4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30FC-C71F-40C3-A47D-E1648B5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E265-1369-4844-B11E-84B513E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9D80-CF1B-4E21-9FA6-98845B17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FE19-227E-4D79-93B9-366BE78B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FC48-8682-42DE-A759-E98E71FB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FD305-94E7-4B31-970D-46AEBB4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C46C-658C-41CB-8D4C-AA7CF0C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5F9-267A-4765-B4CD-51CF6586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3F5D-BDD8-4866-8D51-7B9C89D5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E2CB-288F-483C-8050-C24055A8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6041C-F6F6-4E6C-9F64-945F2AF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3669-C616-4B98-AC0B-A7B7C136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FA93-8D76-426D-9BBC-875A84A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3124-C96F-47AF-A01F-430E1BC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C7CF-DC6E-4399-967E-830B1EC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6169-66EA-4B48-B77E-6694F389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8AFB-1EF1-4FE0-A167-D54CFC64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1A24-1313-4A6F-929A-6A4B6666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067-7067-4674-B70B-B77F591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D63A-D7EB-41E7-98FC-7E125E4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B707-2E0C-4FB9-9694-5B568273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47DC-EA24-4C2C-9709-1B624A2A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A6A5-3A0F-4901-A9E3-71D86A92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E959-5BC7-485F-9E28-3EB018B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8AB4-1C2F-4B70-82D4-2700C9C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54EB-BA8B-41F5-A251-F13B3053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AEC1-8AC2-48C1-AB24-15C62D6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A5B1-FBD5-466F-AD4D-CC8B85BE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6D953-0D07-4A3A-88FE-127390A6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6E4-653E-47C9-8BE8-B1ADDA9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09A5-BF11-4A55-BBD2-D4AE1E6C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2C76D-B1AA-4104-9E0B-99B428A9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DE07-A832-4C8A-9447-E79C501E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74CC-E8EE-4A09-B881-D4A773A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73E0-F73B-4BC5-8B44-6B18BAF9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5211-5F07-491A-8681-CC313F9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7E1C-F2DD-42B4-A0B6-6D76287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EEF86-FDC5-411F-9FB4-24411CD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9ABC-A8EA-41D9-87C0-9AB524E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71145-09BD-4318-99CF-87EF748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382-E581-4747-B35F-868557D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78F2F-2EE9-4EBA-A516-9B3B6DEA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5346-B2F7-41EF-8E0F-65E9146C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CEDFD-D78F-4BB0-B424-30607E8F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F686-52BC-4673-A18E-E7DA450A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1A1A-2E6E-4937-B7E9-C9790DB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A7FB8-AF10-4A0D-85F7-50E542C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52A60-4FAB-4076-815D-24494780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3A66-9C53-4037-ACDB-33306C86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6343-42E7-4134-BEE7-28FF0FC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FF08-C1FB-4621-B85C-924DC03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4C7-69CB-45B4-9F88-9C9ED93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C7E3-4707-4CDE-90E0-EC61270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C9AEA-B513-441A-BD5C-D2445BB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75FB-AC6C-4A0E-97D7-A0D69ED7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97B1-E5BD-4921-A57E-3F1A6199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0F508-00E9-4A4D-AF94-AED02A9E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FF1D-E158-489E-887C-91A11672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0AC5-7D0A-4FA3-BC2B-6D932521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EED7-744C-4D93-B52E-5664C88D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CCFDA-EAAF-44BB-837D-57B068AE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F42F-03DA-4CBA-8B9D-18B63BD1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1AE-D182-4C27-AAB2-867B83F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B467-636A-4171-8147-5431258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31559-6002-473B-B561-55751D0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65F3-38AE-4660-8C10-B4A9CD7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EDD2-DDC6-4148-B8C4-620B73F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BE7BE-64FC-4332-BA5A-00D46000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652EB-13CE-4D66-B46B-0FDCFC49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D5A4-28D3-400F-A369-931757FF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691A-5E63-40B0-98FB-3256AD00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1073F-5FC1-411E-BAA1-F5B03B20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BCC87-6F87-4A5D-8BEA-D322841B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957B-0C8A-41A3-8A20-1F83673CCF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B639-5F6C-4748-B0EC-10AA8F8113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41FF-6DB7-4359-89EB-40A05617E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49D-D376-46A6-BEAD-F8C93E2314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CCD-79C3-40FC-90C7-716789FC0A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8AE5-78F4-42DB-8510-3A8F1F8C3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AB97-89B0-4174-98FB-758479BE6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2D9A-3213-4E77-A4EC-384E1C9AC4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95C-20DB-492C-B270-856EFC0CD3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569-39DF-4B58-9828-2E5D6DB080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70F-99E9-4457-B615-2687C6555E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AE64-6F44-4B96-9387-663EDC157B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1"/>
          <p:cNvPicPr/>
          <p:nvPr/>
        </p:nvPicPr>
        <p:blipFill>
          <a:blip r:embed="rId2"/>
          <a:stretch/>
        </p:blipFill>
        <p:spPr>
          <a:xfrm>
            <a:off x="6667560" y="3141720"/>
            <a:ext cx="2476440" cy="33256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20"/>
          <p:cNvGrpSpPr/>
          <p:nvPr/>
        </p:nvGrpSpPr>
        <p:grpSpPr>
          <a:xfrm>
            <a:off x="7030440" y="3333240"/>
            <a:ext cx="2070360" cy="1801440"/>
            <a:chOff x="7030440" y="3333240"/>
            <a:chExt cx="2070360" cy="1801440"/>
          </a:xfrm>
        </p:grpSpPr>
        <p:sp>
          <p:nvSpPr>
            <p:cNvPr id="495" name="Text Box 18"/>
            <p:cNvSpPr/>
            <p:nvPr/>
          </p:nvSpPr>
          <p:spPr>
            <a:xfrm rot="19800000">
              <a:off x="7165800" y="3736080"/>
              <a:ext cx="1801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核 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考 点 聚 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9"/>
            <p:cNvSpPr/>
            <p:nvPr/>
          </p:nvSpPr>
          <p:spPr>
            <a:xfrm rot="19800000">
              <a:off x="7163640" y="3715200"/>
              <a:ext cx="1801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核 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考 点 聚 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22" descr="2"/>
          <p:cNvPicPr/>
          <p:nvPr/>
        </p:nvPicPr>
        <p:blipFill>
          <a:blip r:embed="rId3"/>
          <a:stretch/>
        </p:blipFill>
        <p:spPr>
          <a:xfrm rot="3232200">
            <a:off x="7812000" y="58766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1"/>
          <p:cNvPicPr/>
          <p:nvPr/>
        </p:nvPicPr>
        <p:blipFill>
          <a:blip r:embed="rId4"/>
          <a:stretch/>
        </p:blipFill>
        <p:spPr>
          <a:xfrm>
            <a:off x="0" y="3141720"/>
            <a:ext cx="2533680" cy="33256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5"/>
          <p:cNvSpPr/>
          <p:nvPr/>
        </p:nvSpPr>
        <p:spPr>
          <a:xfrm>
            <a:off x="250920" y="22194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仿宋"/>
                <a:ea typeface="仿宋"/>
              </a:rPr>
              <a:t>第</a:t>
            </a:r>
            <a:r>
              <a:rPr b="1" lang="en-US" sz="4000" spc="-1" strike="noStrike">
                <a:solidFill>
                  <a:srgbClr val="008000"/>
                </a:solidFill>
                <a:latin typeface="仿宋"/>
                <a:ea typeface="仿宋"/>
              </a:rPr>
              <a:t>11</a:t>
            </a:r>
            <a:r>
              <a:rPr b="1" lang="zh-CN" sz="4000" spc="-1" strike="noStrike">
                <a:solidFill>
                  <a:srgbClr val="008000"/>
                </a:solidFill>
                <a:latin typeface="仿宋"/>
                <a:ea typeface="仿宋"/>
              </a:rPr>
              <a:t>课时 </a:t>
            </a:r>
            <a:r>
              <a:rPr b="1" lang="en-US" sz="4000" spc="-1" strike="noStrike">
                <a:solidFill>
                  <a:srgbClr val="008000"/>
                </a:solidFill>
                <a:latin typeface="仿宋"/>
                <a:ea typeface="仿宋"/>
              </a:rPr>
              <a:t>《</a:t>
            </a:r>
            <a:r>
              <a:rPr b="1" lang="zh-CN" sz="4000" spc="-1" strike="noStrike">
                <a:solidFill>
                  <a:srgbClr val="008000"/>
                </a:solidFill>
                <a:latin typeface="仿宋"/>
                <a:ea typeface="仿宋"/>
              </a:rPr>
              <a:t>桃花源记</a:t>
            </a:r>
            <a:r>
              <a:rPr b="1" lang="en-US" sz="4000" spc="-1" strike="noStrike">
                <a:solidFill>
                  <a:srgbClr val="008000"/>
                </a:solidFill>
                <a:latin typeface="仿宋"/>
                <a:ea typeface="仿宋"/>
              </a:rPr>
              <a:t>》</a:t>
            </a:r>
            <a:r>
              <a:rPr b="1" lang="zh-CN" sz="4000" spc="-1" strike="noStrike">
                <a:solidFill>
                  <a:srgbClr val="008000"/>
                </a:solidFill>
                <a:latin typeface="仿宋"/>
                <a:ea typeface="仿宋"/>
              </a:rPr>
              <a:t>知识清单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1" descr="2"/>
          <p:cNvPicPr/>
          <p:nvPr/>
        </p:nvPicPr>
        <p:blipFill>
          <a:blip r:embed="rId5"/>
          <a:stretch/>
        </p:blipFill>
        <p:spPr>
          <a:xfrm flipH="1" rot="18912600">
            <a:off x="1065240" y="5950080"/>
            <a:ext cx="487440" cy="498600"/>
          </a:xfrm>
          <a:prstGeom prst="rect">
            <a:avLst/>
          </a:prstGeom>
          <a:ln w="0">
            <a:noFill/>
          </a:ln>
        </p:spPr>
      </p:pic>
      <p:grpSp>
        <p:nvGrpSpPr>
          <p:cNvPr id="501" name="组合 31"/>
          <p:cNvGrpSpPr/>
          <p:nvPr/>
        </p:nvGrpSpPr>
        <p:grpSpPr>
          <a:xfrm>
            <a:off x="65160" y="3311640"/>
            <a:ext cx="2113560" cy="1815480"/>
            <a:chOff x="65160" y="3311640"/>
            <a:chExt cx="2113560" cy="1815480"/>
          </a:xfrm>
        </p:grpSpPr>
        <p:sp>
          <p:nvSpPr>
            <p:cNvPr id="502" name="Text Box 18"/>
            <p:cNvSpPr/>
            <p:nvPr/>
          </p:nvSpPr>
          <p:spPr>
            <a:xfrm flipH="1" rot="1800000">
              <a:off x="204480" y="3718080"/>
              <a:ext cx="18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基 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考 点 聚 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9"/>
            <p:cNvSpPr/>
            <p:nvPr/>
          </p:nvSpPr>
          <p:spPr>
            <a:xfrm flipH="1" rot="1800000">
              <a:off x="195120" y="3704040"/>
              <a:ext cx="18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基 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考 点 聚 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对象 97283" descr=""/>
          <p:cNvPicPr/>
          <p:nvPr/>
        </p:nvPicPr>
        <p:blipFill>
          <a:blip r:embed="rId2"/>
          <a:stretch/>
        </p:blipFill>
        <p:spPr>
          <a:xfrm>
            <a:off x="722160" y="1563840"/>
            <a:ext cx="8026560" cy="4673520"/>
          </a:xfrm>
          <a:prstGeom prst="rect">
            <a:avLst/>
          </a:prstGeom>
          <a:ln w="0">
            <a:noFill/>
          </a:ln>
        </p:spPr>
      </p:pic>
      <p:grpSp>
        <p:nvGrpSpPr>
          <p:cNvPr id="58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86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89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组合 15"/>
          <p:cNvGrpSpPr/>
          <p:nvPr/>
        </p:nvGrpSpPr>
        <p:grpSpPr>
          <a:xfrm>
            <a:off x="285840" y="1338120"/>
            <a:ext cx="2714760" cy="578160"/>
            <a:chOff x="285840" y="1338120"/>
            <a:chExt cx="2714760" cy="578160"/>
          </a:xfrm>
        </p:grpSpPr>
        <p:pic>
          <p:nvPicPr>
            <p:cNvPr id="594" name="Picture 11" descr=""/>
            <p:cNvPicPr/>
            <p:nvPr/>
          </p:nvPicPr>
          <p:blipFill>
            <a:blip r:embed="rId2"/>
            <a:stretch/>
          </p:blipFill>
          <p:spPr>
            <a:xfrm>
              <a:off x="285840" y="1338120"/>
              <a:ext cx="271476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Box 13"/>
            <p:cNvSpPr/>
            <p:nvPr/>
          </p:nvSpPr>
          <p:spPr>
            <a:xfrm>
              <a:off x="1125000" y="1341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核心考点聚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97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00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矩形 99340"/>
          <p:cNvSpPr/>
          <p:nvPr/>
        </p:nvSpPr>
        <p:spPr>
          <a:xfrm>
            <a:off x="73692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整体理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对象 99341" descr=""/>
          <p:cNvPicPr/>
          <p:nvPr/>
        </p:nvPicPr>
        <p:blipFill>
          <a:blip r:embed="rId5"/>
          <a:stretch/>
        </p:blipFill>
        <p:spPr>
          <a:xfrm>
            <a:off x="611280" y="2641680"/>
            <a:ext cx="8026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07" name="Picture 21" descr=""/>
            <p:cNvPicPr/>
            <p:nvPr/>
          </p:nvPicPr>
          <p:blipFill>
            <a:blip r:embed="rId2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10" name="Picture 21" descr=""/>
            <p:cNvPicPr/>
            <p:nvPr/>
          </p:nvPicPr>
          <p:blipFill>
            <a:blip r:embed="rId3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对象 100361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80262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16" name="Picture 21" descr=""/>
            <p:cNvPicPr/>
            <p:nvPr/>
          </p:nvPicPr>
          <p:blipFill>
            <a:blip r:embed="rId2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19" name="Picture 21" descr=""/>
            <p:cNvPicPr/>
            <p:nvPr/>
          </p:nvPicPr>
          <p:blipFill>
            <a:blip r:embed="rId3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101385"/>
          <p:cNvSpPr/>
          <p:nvPr/>
        </p:nvSpPr>
        <p:spPr>
          <a:xfrm>
            <a:off x="736920" y="1340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思路图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101386" descr="D:/搜狗高速下载/JL6.EPS"/>
          <p:cNvPicPr/>
          <p:nvPr/>
        </p:nvPicPr>
        <p:blipFill>
          <a:blip r:embed="rId4"/>
          <a:stretch/>
        </p:blipFill>
        <p:spPr>
          <a:xfrm>
            <a:off x="755640" y="2133720"/>
            <a:ext cx="75614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102403"/>
          <p:cNvSpPr/>
          <p:nvPr/>
        </p:nvSpPr>
        <p:spPr>
          <a:xfrm>
            <a:off x="749160" y="13928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四：内容理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对象 102404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8166240" cy="3187440"/>
          </a:xfrm>
          <a:prstGeom prst="rect">
            <a:avLst/>
          </a:prstGeom>
          <a:ln w="0">
            <a:noFill/>
          </a:ln>
        </p:spPr>
      </p:pic>
      <p:sp>
        <p:nvSpPr>
          <p:cNvPr id="627" name="矩形 102405"/>
          <p:cNvSpPr/>
          <p:nvPr/>
        </p:nvSpPr>
        <p:spPr>
          <a:xfrm>
            <a:off x="608040" y="1968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中考真题演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02406"/>
          <p:cNvSpPr/>
          <p:nvPr/>
        </p:nvSpPr>
        <p:spPr>
          <a:xfrm>
            <a:off x="765000" y="3427920"/>
            <a:ext cx="8379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描绘了一个没有人剥削人、人压迫人的自由、快乐的社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30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33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对象 104451" descr=""/>
          <p:cNvPicPr/>
          <p:nvPr/>
        </p:nvPicPr>
        <p:blipFill>
          <a:blip r:embed="rId2"/>
          <a:stretch/>
        </p:blipFill>
        <p:spPr>
          <a:xfrm>
            <a:off x="395280" y="1465200"/>
            <a:ext cx="8166240" cy="3187800"/>
          </a:xfrm>
          <a:prstGeom prst="rect">
            <a:avLst/>
          </a:prstGeom>
          <a:ln w="0">
            <a:noFill/>
          </a:ln>
        </p:spPr>
      </p:pic>
      <p:sp>
        <p:nvSpPr>
          <p:cNvPr id="638" name="矩形 104452"/>
          <p:cNvSpPr/>
          <p:nvPr/>
        </p:nvSpPr>
        <p:spPr>
          <a:xfrm>
            <a:off x="909720" y="3144960"/>
            <a:ext cx="762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略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围绕“自然环境、社会环境、人们生活、社会风尚”回答；围绕“美丽富足、和平安宁、自由快乐、尊老爱幼、民风淳朴、热情好客”回答也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40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43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矩形 104459"/>
          <p:cNvSpPr/>
          <p:nvPr/>
        </p:nvSpPr>
        <p:spPr>
          <a:xfrm>
            <a:off x="592560" y="42678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归纳总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对象 104460" descr=""/>
          <p:cNvPicPr/>
          <p:nvPr/>
        </p:nvPicPr>
        <p:blipFill>
          <a:blip r:embed="rId5"/>
          <a:stretch/>
        </p:blipFill>
        <p:spPr>
          <a:xfrm>
            <a:off x="469800" y="4815000"/>
            <a:ext cx="81662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06499"/>
          <p:cNvSpPr/>
          <p:nvPr/>
        </p:nvSpPr>
        <p:spPr>
          <a:xfrm>
            <a:off x="810720" y="10990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五：写法及赏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对象 106500" descr=""/>
          <p:cNvPicPr/>
          <p:nvPr/>
        </p:nvPicPr>
        <p:blipFill>
          <a:blip r:embed="rId2"/>
          <a:stretch/>
        </p:blipFill>
        <p:spPr>
          <a:xfrm>
            <a:off x="393840" y="2184480"/>
            <a:ext cx="8165880" cy="3936960"/>
          </a:xfrm>
          <a:prstGeom prst="rect">
            <a:avLst/>
          </a:prstGeom>
          <a:ln w="0">
            <a:noFill/>
          </a:ln>
        </p:spPr>
      </p:pic>
      <p:sp>
        <p:nvSpPr>
          <p:cNvPr id="651" name="矩形 106501"/>
          <p:cNvSpPr/>
          <p:nvPr/>
        </p:nvSpPr>
        <p:spPr>
          <a:xfrm>
            <a:off x="608040" y="16754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中考真题演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106502"/>
          <p:cNvSpPr/>
          <p:nvPr/>
        </p:nvSpPr>
        <p:spPr>
          <a:xfrm>
            <a:off x="765000" y="4084560"/>
            <a:ext cx="7839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示例：“此人一一为具言所闻，皆叹惋。”“具言”的内容和“叹惋”的内容文中都没有具体体现，但读者结合文章可以想象到“具言”和“叹惋”的是桃花源外世事变迁，人们饱经战乱之苦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只要所选之句为读者留下了一定的想象空间，并能对此句进行简要分析即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54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57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62" name="Picture 21" descr=""/>
            <p:cNvPicPr/>
            <p:nvPr/>
          </p:nvPicPr>
          <p:blipFill>
            <a:blip r:embed="rId2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65" name="Picture 21" descr=""/>
            <p:cNvPicPr/>
            <p:nvPr/>
          </p:nvPicPr>
          <p:blipFill>
            <a:blip r:embed="rId3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矩形 108553"/>
          <p:cNvSpPr/>
          <p:nvPr/>
        </p:nvSpPr>
        <p:spPr>
          <a:xfrm>
            <a:off x="592560" y="1843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归纳总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对象 108554" descr=""/>
          <p:cNvPicPr/>
          <p:nvPr/>
        </p:nvPicPr>
        <p:blipFill>
          <a:blip r:embed="rId4"/>
          <a:stretch/>
        </p:blipFill>
        <p:spPr>
          <a:xfrm>
            <a:off x="469800" y="2387520"/>
            <a:ext cx="816624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10595"/>
          <p:cNvSpPr/>
          <p:nvPr/>
        </p:nvSpPr>
        <p:spPr>
          <a:xfrm>
            <a:off x="810720" y="18072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六：主旨及拓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对象 110596" descr=""/>
          <p:cNvPicPr/>
          <p:nvPr/>
        </p:nvPicPr>
        <p:blipFill>
          <a:blip r:embed="rId2"/>
          <a:stretch/>
        </p:blipFill>
        <p:spPr>
          <a:xfrm>
            <a:off x="393840" y="2892600"/>
            <a:ext cx="8165880" cy="2552400"/>
          </a:xfrm>
          <a:prstGeom prst="rect">
            <a:avLst/>
          </a:prstGeom>
          <a:ln w="0">
            <a:noFill/>
          </a:ln>
        </p:spPr>
      </p:pic>
      <p:sp>
        <p:nvSpPr>
          <p:cNvPr id="673" name="矩形 110597"/>
          <p:cNvSpPr/>
          <p:nvPr/>
        </p:nvSpPr>
        <p:spPr>
          <a:xfrm>
            <a:off x="608040" y="2383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中考真题演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10598"/>
          <p:cNvSpPr/>
          <p:nvPr/>
        </p:nvSpPr>
        <p:spPr>
          <a:xfrm>
            <a:off x="765000" y="3934080"/>
            <a:ext cx="783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略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围绕“没有剥削压迫，没有战乱，生活安定富足”回答即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76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79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对象 112643" descr=""/>
          <p:cNvPicPr/>
          <p:nvPr/>
        </p:nvPicPr>
        <p:blipFill>
          <a:blip r:embed="rId2"/>
          <a:stretch/>
        </p:blipFill>
        <p:spPr>
          <a:xfrm>
            <a:off x="393840" y="1868400"/>
            <a:ext cx="8165880" cy="3936960"/>
          </a:xfrm>
          <a:prstGeom prst="rect">
            <a:avLst/>
          </a:prstGeom>
          <a:ln w="0">
            <a:noFill/>
          </a:ln>
        </p:spPr>
      </p:pic>
      <p:sp>
        <p:nvSpPr>
          <p:cNvPr id="684" name="矩形 112644"/>
          <p:cNvSpPr/>
          <p:nvPr/>
        </p:nvSpPr>
        <p:spPr>
          <a:xfrm>
            <a:off x="765000" y="3541680"/>
            <a:ext cx="783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表达了作者对美好生活的追求与向往、对黑暗现实的否定与批判，寄托了作者的政治理想，反映了广大劳动人民的意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86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89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grpSp>
        <p:nvGrpSpPr>
          <p:cNvPr id="506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07" name="Picture 21" descr=""/>
            <p:cNvPicPr/>
            <p:nvPr/>
          </p:nvPicPr>
          <p:blipFill>
            <a:blip r:embed="rId2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10" name="Picture 21" descr=""/>
            <p:cNvPicPr/>
            <p:nvPr/>
          </p:nvPicPr>
          <p:blipFill>
            <a:blip r:embed="rId3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对象 80905" descr=""/>
          <p:cNvPicPr/>
          <p:nvPr/>
        </p:nvPicPr>
        <p:blipFill>
          <a:blip r:embed="rId4"/>
          <a:stretch/>
        </p:blipFill>
        <p:spPr>
          <a:xfrm>
            <a:off x="546120" y="1639800"/>
            <a:ext cx="792468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对象 114691" descr=""/>
          <p:cNvPicPr/>
          <p:nvPr/>
        </p:nvPicPr>
        <p:blipFill>
          <a:blip r:embed="rId2"/>
          <a:stretch/>
        </p:blipFill>
        <p:spPr>
          <a:xfrm>
            <a:off x="393840" y="1562040"/>
            <a:ext cx="8165880" cy="3936960"/>
          </a:xfrm>
          <a:prstGeom prst="rect">
            <a:avLst/>
          </a:prstGeom>
          <a:ln w="0">
            <a:noFill/>
          </a:ln>
        </p:spPr>
      </p:pic>
      <p:sp>
        <p:nvSpPr>
          <p:cNvPr id="694" name="矩形 114692"/>
          <p:cNvSpPr/>
          <p:nvPr/>
        </p:nvSpPr>
        <p:spPr>
          <a:xfrm>
            <a:off x="755640" y="3457080"/>
            <a:ext cx="7839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因为桃花源是人们理想中的最佳风景，宁静而优美；但又绝不是单纯的风景，是没有压迫、没有剥削、人人安居乐业的理想社会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或：因为桃花源不是单纯的美景，“桃花源”已成为一种精神符号、一种文化标记，寄托着千百年来人们对理想社会、美好生活的追求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696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699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对象 116739" descr=""/>
          <p:cNvPicPr/>
          <p:nvPr/>
        </p:nvPicPr>
        <p:blipFill>
          <a:blip r:embed="rId2"/>
          <a:stretch/>
        </p:blipFill>
        <p:spPr>
          <a:xfrm>
            <a:off x="395280" y="1465200"/>
            <a:ext cx="8166240" cy="3187800"/>
          </a:xfrm>
          <a:prstGeom prst="rect">
            <a:avLst/>
          </a:prstGeom>
          <a:ln w="0">
            <a:noFill/>
          </a:ln>
        </p:spPr>
      </p:pic>
      <p:sp>
        <p:nvSpPr>
          <p:cNvPr id="704" name="矩形 116740"/>
          <p:cNvSpPr/>
          <p:nvPr/>
        </p:nvSpPr>
        <p:spPr>
          <a:xfrm>
            <a:off x="1125360" y="2707200"/>
            <a:ext cx="7623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要点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政治黑暗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寄托理想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时尚中黑简体"/>
              </a:rPr>
              <a:t>报国无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706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709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矩形 116747"/>
          <p:cNvSpPr/>
          <p:nvPr/>
        </p:nvSpPr>
        <p:spPr>
          <a:xfrm>
            <a:off x="592560" y="3548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归纳总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对象 116748" descr=""/>
          <p:cNvPicPr/>
          <p:nvPr/>
        </p:nvPicPr>
        <p:blipFill>
          <a:blip r:embed="rId5"/>
          <a:stretch/>
        </p:blipFill>
        <p:spPr>
          <a:xfrm>
            <a:off x="469800" y="4102200"/>
            <a:ext cx="81662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grpSp>
        <p:nvGrpSpPr>
          <p:cNvPr id="515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16" name="Picture 21" descr=""/>
            <p:cNvPicPr/>
            <p:nvPr/>
          </p:nvPicPr>
          <p:blipFill>
            <a:blip r:embed="rId2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19" name="Picture 21" descr=""/>
            <p:cNvPicPr/>
            <p:nvPr/>
          </p:nvPicPr>
          <p:blipFill>
            <a:blip r:embed="rId3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对象 82953" descr=""/>
          <p:cNvPicPr/>
          <p:nvPr/>
        </p:nvPicPr>
        <p:blipFill>
          <a:blip r:embed="rId4"/>
          <a:stretch/>
        </p:blipFill>
        <p:spPr>
          <a:xfrm>
            <a:off x="546120" y="1639800"/>
            <a:ext cx="792468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grpSp>
        <p:nvGrpSpPr>
          <p:cNvPr id="524" name="组合 23"/>
          <p:cNvGrpSpPr/>
          <p:nvPr/>
        </p:nvGrpSpPr>
        <p:grpSpPr>
          <a:xfrm>
            <a:off x="214200" y="1268280"/>
            <a:ext cx="2715120" cy="614520"/>
            <a:chOff x="214200" y="1268280"/>
            <a:chExt cx="2715120" cy="614520"/>
          </a:xfrm>
        </p:grpSpPr>
        <p:pic>
          <p:nvPicPr>
            <p:cNvPr id="525" name="Picture 20" descr=""/>
            <p:cNvPicPr/>
            <p:nvPr/>
          </p:nvPicPr>
          <p:blipFill>
            <a:blip r:embed="rId2"/>
            <a:stretch/>
          </p:blipFill>
          <p:spPr>
            <a:xfrm>
              <a:off x="214200" y="1268280"/>
              <a:ext cx="27151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Box 22"/>
            <p:cNvSpPr/>
            <p:nvPr/>
          </p:nvSpPr>
          <p:spPr>
            <a:xfrm>
              <a:off x="1064880" y="12682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基础考点聚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矩形 84998"/>
          <p:cNvSpPr/>
          <p:nvPr/>
        </p:nvSpPr>
        <p:spPr>
          <a:xfrm>
            <a:off x="1407960" y="19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一：文学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对象 84999" descr=""/>
          <p:cNvPicPr/>
          <p:nvPr/>
        </p:nvPicPr>
        <p:blipFill>
          <a:blip r:embed="rId3"/>
          <a:stretch/>
        </p:blipFill>
        <p:spPr>
          <a:xfrm>
            <a:off x="393840" y="2638440"/>
            <a:ext cx="8394480" cy="3238560"/>
          </a:xfrm>
          <a:prstGeom prst="rect">
            <a:avLst/>
          </a:prstGeom>
          <a:ln w="0">
            <a:noFill/>
          </a:ln>
        </p:spPr>
      </p:pic>
      <p:grpSp>
        <p:nvGrpSpPr>
          <p:cNvPr id="529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30" name="Picture 21" descr=""/>
            <p:cNvPicPr/>
            <p:nvPr/>
          </p:nvPicPr>
          <p:blipFill>
            <a:blip r:embed="rId4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33" name="Picture 21" descr=""/>
            <p:cNvPicPr/>
            <p:nvPr/>
          </p:nvPicPr>
          <p:blipFill>
            <a:blip r:embed="rId5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87043"/>
          <p:cNvSpPr/>
          <p:nvPr/>
        </p:nvSpPr>
        <p:spPr>
          <a:xfrm>
            <a:off x="829080" y="1242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二：重要实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对象 87044" descr=""/>
          <p:cNvPicPr/>
          <p:nvPr/>
        </p:nvPicPr>
        <p:blipFill>
          <a:blip r:embed="rId2"/>
          <a:stretch/>
        </p:blipFill>
        <p:spPr>
          <a:xfrm>
            <a:off x="584280" y="1854360"/>
            <a:ext cx="8026200" cy="467352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40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43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对象 89091" descr=""/>
          <p:cNvPicPr/>
          <p:nvPr/>
        </p:nvPicPr>
        <p:blipFill>
          <a:blip r:embed="rId2"/>
          <a:stretch/>
        </p:blipFill>
        <p:spPr>
          <a:xfrm>
            <a:off x="722160" y="1708200"/>
            <a:ext cx="8026560" cy="4673520"/>
          </a:xfrm>
          <a:prstGeom prst="rect">
            <a:avLst/>
          </a:prstGeom>
          <a:ln w="0">
            <a:noFill/>
          </a:ln>
        </p:spPr>
      </p:pic>
      <p:grpSp>
        <p:nvGrpSpPr>
          <p:cNvPr id="548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49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52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对象 91139" descr=""/>
          <p:cNvPicPr/>
          <p:nvPr/>
        </p:nvPicPr>
        <p:blipFill>
          <a:blip r:embed="rId2"/>
          <a:stretch/>
        </p:blipFill>
        <p:spPr>
          <a:xfrm>
            <a:off x="722160" y="1563840"/>
            <a:ext cx="8026560" cy="4673520"/>
          </a:xfrm>
          <a:prstGeom prst="rect">
            <a:avLst/>
          </a:prstGeom>
          <a:ln w="0">
            <a:noFill/>
          </a:ln>
        </p:spPr>
      </p:pic>
      <p:grpSp>
        <p:nvGrpSpPr>
          <p:cNvPr id="557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58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61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93187"/>
          <p:cNvSpPr/>
          <p:nvPr/>
        </p:nvSpPr>
        <p:spPr>
          <a:xfrm>
            <a:off x="831600" y="14580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三：名句积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对象 93188" descr=""/>
          <p:cNvPicPr/>
          <p:nvPr/>
        </p:nvPicPr>
        <p:blipFill>
          <a:blip r:embed="rId2"/>
          <a:stretch/>
        </p:blipFill>
        <p:spPr>
          <a:xfrm>
            <a:off x="584280" y="2139840"/>
            <a:ext cx="8026200" cy="467388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68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71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"/>
          <p:cNvSpPr/>
          <p:nvPr/>
        </p:nvSpPr>
        <p:spPr>
          <a:xfrm>
            <a:off x="576720" y="295200"/>
            <a:ext cx="421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11</a:t>
            </a:r>
            <a:r>
              <a:rPr b="1" lang="zh-CN" sz="23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┃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桃花源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知识清单　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对象 95235" descr=""/>
          <p:cNvPicPr/>
          <p:nvPr/>
        </p:nvPicPr>
        <p:blipFill>
          <a:blip r:embed="rId2"/>
          <a:stretch/>
        </p:blipFill>
        <p:spPr>
          <a:xfrm>
            <a:off x="611280" y="1635120"/>
            <a:ext cx="8026200" cy="4673520"/>
          </a:xfrm>
          <a:prstGeom prst="rect">
            <a:avLst/>
          </a:prstGeom>
          <a:ln w="0">
            <a:noFill/>
          </a:ln>
        </p:spPr>
      </p:pic>
      <p:grpSp>
        <p:nvGrpSpPr>
          <p:cNvPr id="576" name="组合 23"/>
          <p:cNvGrpSpPr/>
          <p:nvPr/>
        </p:nvGrpSpPr>
        <p:grpSpPr>
          <a:xfrm>
            <a:off x="1692360" y="6537240"/>
            <a:ext cx="1655640" cy="276480"/>
            <a:chOff x="1692360" y="6537240"/>
            <a:chExt cx="1655640" cy="276480"/>
          </a:xfrm>
        </p:grpSpPr>
        <p:pic>
          <p:nvPicPr>
            <p:cNvPr id="577" name="Picture 21" descr=""/>
            <p:cNvPicPr/>
            <p:nvPr/>
          </p:nvPicPr>
          <p:blipFill>
            <a:blip r:embed="rId3"/>
            <a:stretch/>
          </p:blipFill>
          <p:spPr>
            <a:xfrm>
              <a:off x="1931400" y="6559200"/>
              <a:ext cx="134712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22"/>
            <p:cNvSpPr/>
            <p:nvPr/>
          </p:nvSpPr>
          <p:spPr>
            <a:xfrm>
              <a:off x="1692360" y="653724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基础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24"/>
          <p:cNvGrpSpPr/>
          <p:nvPr/>
        </p:nvGrpSpPr>
        <p:grpSpPr>
          <a:xfrm>
            <a:off x="3924360" y="6537240"/>
            <a:ext cx="1439640" cy="276480"/>
            <a:chOff x="3924360" y="6537240"/>
            <a:chExt cx="1439640" cy="276480"/>
          </a:xfrm>
        </p:grpSpPr>
        <p:pic>
          <p:nvPicPr>
            <p:cNvPr id="580" name="Picture 21" descr=""/>
            <p:cNvPicPr/>
            <p:nvPr/>
          </p:nvPicPr>
          <p:blipFill>
            <a:blip r:embed="rId4"/>
            <a:stretch/>
          </p:blipFill>
          <p:spPr>
            <a:xfrm>
              <a:off x="3979440" y="6559200"/>
              <a:ext cx="13845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Box 26"/>
            <p:cNvSpPr/>
            <p:nvPr/>
          </p:nvSpPr>
          <p:spPr>
            <a:xfrm>
              <a:off x="3924360" y="6537240"/>
              <a:ext cx="13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核心考点聚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6:01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0:56:42Z</dcterms:modified>
  <cp:revision>13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