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096-07AD-4BAD-8980-D14855A3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574-1ECF-42E5-8596-25BB6643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80B-4834-468F-874B-8C2C90AA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7DE-2F65-4A92-9243-A9A7705A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46BA-D4F8-421D-9855-20262630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D5AE-99FB-4228-8E86-CE4A6477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EF1A-2A4D-41EF-92BC-F88D5EB8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8708-EDB6-4752-A992-3DE33E0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9C73-8B30-4340-9B1A-6AE9A174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72E0-7B05-40B1-8933-DBB7E11A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A1BE-1317-43EA-A6F5-03A2EDBF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6B5-5342-4C2B-BC66-C198DC71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4BEB-C46D-4297-9ECB-1933C475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2DFB-8DB5-4166-B75E-0E39693F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6370-940B-4AFC-9675-0DFAC72B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389D-B694-4A95-961C-6D1251FE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4074-CF61-4A17-84E7-E9DEE0E6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1D3-11D6-410F-9D50-EB6E5BAF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BB8-4822-4A31-8DB6-5F3851B5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79C-F56F-411D-BF08-B0068598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809-3300-4E30-A8A6-E88F478F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24E-784F-424A-87D3-2A5D65F5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CE4-EBCB-409A-8FFB-DE717FB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6F6-E286-4CA1-A822-8F8FC20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E363-B3B8-4519-AE98-E07676D8B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AE26-B75F-4EC8-9516-8B79EE101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4" descr="白色大理石"/>
          <p:cNvPicPr/>
          <p:nvPr/>
        </p:nvPicPr>
        <p:blipFill>
          <a:blip r:embed="rId1"/>
          <a:stretch/>
        </p:blipFill>
        <p:spPr>
          <a:xfrm>
            <a:off x="1743120" y="1322280"/>
            <a:ext cx="5553000" cy="1683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2771640" y="2997360"/>
            <a:ext cx="36734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28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镶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869920" y="5580000"/>
            <a:ext cx="31449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孝感市文昌中学     程世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539640" y="371520"/>
            <a:ext cx="82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镶嵌</a:t>
            </a: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用形状相同或不同的平面封闭图形</a:t>
            </a: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把一块地面既无缝隙、又不重叠地全部覆盖，在几何里叫做平面镶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24000" y="2602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隶书"/>
              </a:rPr>
              <a:t>要设计几种地板图案，必须解决如下问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41440" y="22384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如果限于用一种正多边形镶嵌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哪几种多边形能镶嵌成一个平面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414972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如果允许用几种正多边形组合起来镶嵌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由哪几种多边形组合起来能镶嵌成一个平面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68360" y="189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如果限于用一种正多边形镶嵌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哪几种多边形能镶嵌成一个平面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8360" y="1268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正多边形的顶点落在另一个多边形的边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下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906560" y="22766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7640" y="305424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706920" y="305424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427640" y="305424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146560" y="305424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5867280" y="30560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6588000" y="30560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346560" y="22766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4067280" y="22766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4788000" y="22766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5506920" y="22766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6227640" y="22766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6946920" y="22766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2266920" y="305424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1908000" y="3844800"/>
            <a:ext cx="72108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627280" y="384480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346560" y="384480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384480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788000" y="384480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506920" y="384480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6227640" y="384480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6946920" y="3832200"/>
            <a:ext cx="720720" cy="777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2627280" y="2276640"/>
            <a:ext cx="720720" cy="777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82"/>
          <p:cNvGrpSpPr/>
          <p:nvPr/>
        </p:nvGrpSpPr>
        <p:grpSpPr>
          <a:xfrm>
            <a:off x="2050920" y="4869000"/>
            <a:ext cx="5400720" cy="1728720"/>
            <a:chOff x="2050920" y="4869000"/>
            <a:chExt cx="5400720" cy="1728720"/>
          </a:xfrm>
        </p:grpSpPr>
        <p:sp>
          <p:nvSpPr>
            <p:cNvPr id="115" name="AutoShape 29"/>
            <p:cNvSpPr/>
            <p:nvPr/>
          </p:nvSpPr>
          <p:spPr>
            <a:xfrm>
              <a:off x="205092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30"/>
            <p:cNvSpPr/>
            <p:nvPr/>
          </p:nvSpPr>
          <p:spPr>
            <a:xfrm>
              <a:off x="435600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1"/>
            <p:cNvSpPr/>
            <p:nvPr/>
          </p:nvSpPr>
          <p:spPr>
            <a:xfrm>
              <a:off x="493236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2"/>
            <p:cNvSpPr/>
            <p:nvPr/>
          </p:nvSpPr>
          <p:spPr>
            <a:xfrm>
              <a:off x="5508720" y="4869000"/>
              <a:ext cx="57600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3"/>
            <p:cNvSpPr/>
            <p:nvPr/>
          </p:nvSpPr>
          <p:spPr>
            <a:xfrm>
              <a:off x="608328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4"/>
            <p:cNvSpPr/>
            <p:nvPr/>
          </p:nvSpPr>
          <p:spPr>
            <a:xfrm>
              <a:off x="665964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5"/>
            <p:cNvSpPr/>
            <p:nvPr/>
          </p:nvSpPr>
          <p:spPr>
            <a:xfrm>
              <a:off x="262728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6"/>
            <p:cNvSpPr/>
            <p:nvPr/>
          </p:nvSpPr>
          <p:spPr>
            <a:xfrm>
              <a:off x="6012000" y="544500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7"/>
            <p:cNvSpPr/>
            <p:nvPr/>
          </p:nvSpPr>
          <p:spPr>
            <a:xfrm>
              <a:off x="6588000" y="5445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8"/>
            <p:cNvSpPr/>
            <p:nvPr/>
          </p:nvSpPr>
          <p:spPr>
            <a:xfrm>
              <a:off x="320364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9"/>
            <p:cNvSpPr/>
            <p:nvPr/>
          </p:nvSpPr>
          <p:spPr>
            <a:xfrm>
              <a:off x="3780000" y="4869000"/>
              <a:ext cx="57600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0"/>
            <p:cNvSpPr/>
            <p:nvPr/>
          </p:nvSpPr>
          <p:spPr>
            <a:xfrm>
              <a:off x="2050920" y="602136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1"/>
            <p:cNvSpPr/>
            <p:nvPr/>
          </p:nvSpPr>
          <p:spPr>
            <a:xfrm>
              <a:off x="2556000" y="544500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2"/>
            <p:cNvSpPr/>
            <p:nvPr/>
          </p:nvSpPr>
          <p:spPr>
            <a:xfrm>
              <a:off x="3132000" y="5445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3"/>
            <p:cNvSpPr/>
            <p:nvPr/>
          </p:nvSpPr>
          <p:spPr>
            <a:xfrm>
              <a:off x="3706920" y="544500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4"/>
            <p:cNvSpPr/>
            <p:nvPr/>
          </p:nvSpPr>
          <p:spPr>
            <a:xfrm>
              <a:off x="4282920" y="5445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45"/>
            <p:cNvSpPr/>
            <p:nvPr/>
          </p:nvSpPr>
          <p:spPr>
            <a:xfrm>
              <a:off x="4859280" y="5445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6"/>
            <p:cNvSpPr/>
            <p:nvPr/>
          </p:nvSpPr>
          <p:spPr>
            <a:xfrm>
              <a:off x="5435640" y="5445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7"/>
            <p:cNvSpPr/>
            <p:nvPr/>
          </p:nvSpPr>
          <p:spPr>
            <a:xfrm>
              <a:off x="3203640" y="602136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48"/>
            <p:cNvSpPr/>
            <p:nvPr/>
          </p:nvSpPr>
          <p:spPr>
            <a:xfrm>
              <a:off x="3780000" y="602136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9"/>
            <p:cNvSpPr/>
            <p:nvPr/>
          </p:nvSpPr>
          <p:spPr>
            <a:xfrm>
              <a:off x="4356000" y="602136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0"/>
            <p:cNvSpPr/>
            <p:nvPr/>
          </p:nvSpPr>
          <p:spPr>
            <a:xfrm>
              <a:off x="4932360" y="602136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51"/>
            <p:cNvSpPr/>
            <p:nvPr/>
          </p:nvSpPr>
          <p:spPr>
            <a:xfrm>
              <a:off x="5508720" y="602136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52"/>
            <p:cNvSpPr/>
            <p:nvPr/>
          </p:nvSpPr>
          <p:spPr>
            <a:xfrm>
              <a:off x="6083280" y="602136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3"/>
            <p:cNvSpPr/>
            <p:nvPr/>
          </p:nvSpPr>
          <p:spPr>
            <a:xfrm>
              <a:off x="6659640" y="602136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54"/>
            <p:cNvSpPr/>
            <p:nvPr/>
          </p:nvSpPr>
          <p:spPr>
            <a:xfrm>
              <a:off x="2627280" y="602136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55"/>
            <p:cNvSpPr/>
            <p:nvPr/>
          </p:nvSpPr>
          <p:spPr>
            <a:xfrm rot="10800000">
              <a:off x="233964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56"/>
            <p:cNvSpPr/>
            <p:nvPr/>
          </p:nvSpPr>
          <p:spPr>
            <a:xfrm rot="10800000">
              <a:off x="2266560" y="544464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57"/>
            <p:cNvSpPr/>
            <p:nvPr/>
          </p:nvSpPr>
          <p:spPr>
            <a:xfrm rot="10800000">
              <a:off x="6372360" y="4869000"/>
              <a:ext cx="57600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58"/>
            <p:cNvSpPr/>
            <p:nvPr/>
          </p:nvSpPr>
          <p:spPr>
            <a:xfrm rot="10800000">
              <a:off x="2339640" y="6021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59"/>
            <p:cNvSpPr/>
            <p:nvPr/>
          </p:nvSpPr>
          <p:spPr>
            <a:xfrm rot="10800000">
              <a:off x="2916360" y="602100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0"/>
            <p:cNvSpPr/>
            <p:nvPr/>
          </p:nvSpPr>
          <p:spPr>
            <a:xfrm rot="10800000">
              <a:off x="3490560" y="6021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1"/>
            <p:cNvSpPr/>
            <p:nvPr/>
          </p:nvSpPr>
          <p:spPr>
            <a:xfrm rot="10800000">
              <a:off x="4067280" y="602100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2"/>
            <p:cNvSpPr/>
            <p:nvPr/>
          </p:nvSpPr>
          <p:spPr>
            <a:xfrm rot="10800000">
              <a:off x="4642920" y="6021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3"/>
            <p:cNvSpPr/>
            <p:nvPr/>
          </p:nvSpPr>
          <p:spPr>
            <a:xfrm rot="10800000">
              <a:off x="5219280" y="6021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64"/>
            <p:cNvSpPr/>
            <p:nvPr/>
          </p:nvSpPr>
          <p:spPr>
            <a:xfrm rot="10800000">
              <a:off x="5795640" y="602100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65"/>
            <p:cNvSpPr/>
            <p:nvPr/>
          </p:nvSpPr>
          <p:spPr>
            <a:xfrm rot="10800000">
              <a:off x="6372360" y="602100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66"/>
            <p:cNvSpPr/>
            <p:nvPr/>
          </p:nvSpPr>
          <p:spPr>
            <a:xfrm rot="10800000">
              <a:off x="521928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67"/>
            <p:cNvSpPr/>
            <p:nvPr/>
          </p:nvSpPr>
          <p:spPr>
            <a:xfrm rot="10800000">
              <a:off x="579564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68"/>
            <p:cNvSpPr/>
            <p:nvPr/>
          </p:nvSpPr>
          <p:spPr>
            <a:xfrm rot="10800000">
              <a:off x="2842920" y="544464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69"/>
            <p:cNvSpPr/>
            <p:nvPr/>
          </p:nvSpPr>
          <p:spPr>
            <a:xfrm rot="10800000">
              <a:off x="3419640" y="544464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70"/>
            <p:cNvSpPr/>
            <p:nvPr/>
          </p:nvSpPr>
          <p:spPr>
            <a:xfrm rot="10800000">
              <a:off x="3995280" y="544464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1"/>
            <p:cNvSpPr/>
            <p:nvPr/>
          </p:nvSpPr>
          <p:spPr>
            <a:xfrm rot="10800000">
              <a:off x="4571640" y="544464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2"/>
            <p:cNvSpPr/>
            <p:nvPr/>
          </p:nvSpPr>
          <p:spPr>
            <a:xfrm rot="10800000">
              <a:off x="5148360" y="544464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4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3"/>
            <p:cNvSpPr/>
            <p:nvPr/>
          </p:nvSpPr>
          <p:spPr>
            <a:xfrm rot="10800000">
              <a:off x="5724000" y="544464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74"/>
            <p:cNvSpPr/>
            <p:nvPr/>
          </p:nvSpPr>
          <p:spPr>
            <a:xfrm rot="10800000">
              <a:off x="6298920" y="5444640"/>
              <a:ext cx="57636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75"/>
            <p:cNvSpPr/>
            <p:nvPr/>
          </p:nvSpPr>
          <p:spPr>
            <a:xfrm rot="10800000">
              <a:off x="6875640" y="5444640"/>
              <a:ext cx="576000" cy="576360"/>
            </a:xfrm>
            <a:prstGeom prst="triangle">
              <a:avLst>
                <a:gd name="adj" fmla="val 50000"/>
              </a:avLst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76"/>
            <p:cNvSpPr/>
            <p:nvPr/>
          </p:nvSpPr>
          <p:spPr>
            <a:xfrm rot="10800000">
              <a:off x="2916360" y="4869000"/>
              <a:ext cx="57600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4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77"/>
            <p:cNvSpPr/>
            <p:nvPr/>
          </p:nvSpPr>
          <p:spPr>
            <a:xfrm rot="10800000">
              <a:off x="349200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4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78"/>
            <p:cNvSpPr/>
            <p:nvPr/>
          </p:nvSpPr>
          <p:spPr>
            <a:xfrm rot="10800000">
              <a:off x="4067280" y="4869000"/>
              <a:ext cx="57600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5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79"/>
            <p:cNvSpPr/>
            <p:nvPr/>
          </p:nvSpPr>
          <p:spPr>
            <a:xfrm rot="10800000">
              <a:off x="4642920" y="4869000"/>
              <a:ext cx="576360" cy="576000"/>
            </a:xfrm>
            <a:prstGeom prst="triangle">
              <a:avLst>
                <a:gd name="adj" fmla="val 50000"/>
              </a:avLst>
            </a:prstGeom>
            <a:blipFill rotWithShape="0">
              <a:blip r:embed="rId5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80"/>
          <p:cNvSpPr/>
          <p:nvPr/>
        </p:nvSpPr>
        <p:spPr>
          <a:xfrm>
            <a:off x="611280" y="3132000"/>
            <a:ext cx="108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这种情况我们不作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68360" y="333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正多边形的顶点不落在另一个多边形的边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下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5578560" y="1531800"/>
            <a:ext cx="1081080" cy="935280"/>
          </a:xfrm>
          <a:prstGeom prst="hexagon">
            <a:avLst>
              <a:gd name="adj" fmla="val 2889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748040" y="1989000"/>
            <a:ext cx="1081440" cy="935280"/>
          </a:xfrm>
          <a:prstGeom prst="hexagon">
            <a:avLst>
              <a:gd name="adj" fmla="val 28907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761000" y="2924280"/>
            <a:ext cx="1081080" cy="934920"/>
          </a:xfrm>
          <a:prstGeom prst="hexagon">
            <a:avLst>
              <a:gd name="adj" fmla="val 28908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5580000" y="2446200"/>
            <a:ext cx="1081080" cy="935280"/>
          </a:xfrm>
          <a:prstGeom prst="hexagon">
            <a:avLst>
              <a:gd name="adj" fmla="val 28897"/>
              <a:gd name="vf" fmla="val 11547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5578560" y="3395520"/>
            <a:ext cx="1081080" cy="935280"/>
          </a:xfrm>
          <a:prstGeom prst="hexagon">
            <a:avLst>
              <a:gd name="adj" fmla="val 28897"/>
              <a:gd name="vf" fmla="val 11547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6397560" y="2924280"/>
            <a:ext cx="1081080" cy="934920"/>
          </a:xfrm>
          <a:prstGeom prst="hexagon">
            <a:avLst>
              <a:gd name="adj" fmla="val 28908"/>
              <a:gd name="vf" fmla="val 11547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6408720" y="1989000"/>
            <a:ext cx="1081080" cy="935280"/>
          </a:xfrm>
          <a:prstGeom prst="hexagon">
            <a:avLst>
              <a:gd name="adj" fmla="val 28897"/>
              <a:gd name="vf" fmla="val 11547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11280" y="1268280"/>
            <a:ext cx="388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由图形可知</a:t>
            </a: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镶嵌的正多边形的边必须与另一个正多边形的边重合</a:t>
            </a: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于是</a:t>
            </a: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镶嵌的正多边形的边长都相等</a:t>
            </a:r>
            <a:r>
              <a:rPr b="1" lang="en-US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4788000" y="4292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还可以看到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镶嵌时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几个正多边形的顶点相聚于一点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3123720" y="6027840"/>
            <a:ext cx="8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下面我们就研究这一类问题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702440" y="333360"/>
            <a:ext cx="55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问题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什么样的正多边形可以用来镶嵌呢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 flipV="1">
            <a:off x="1836720" y="2637000"/>
            <a:ext cx="1150920" cy="9950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1836720" y="1628640"/>
            <a:ext cx="1150920" cy="995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 flipV="1">
            <a:off x="685800" y="2637000"/>
            <a:ext cx="1150920" cy="9950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 rot="10800000">
            <a:off x="1260000" y="1628280"/>
            <a:ext cx="1150920" cy="99540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260360" y="2637000"/>
            <a:ext cx="1150920" cy="9950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684360" y="1641600"/>
            <a:ext cx="1150920" cy="99540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851040" y="907920"/>
            <a:ext cx="17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5486400" y="98100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5578560" y="1843200"/>
            <a:ext cx="865080" cy="865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5578560" y="2708280"/>
            <a:ext cx="865080" cy="865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443640" y="1844640"/>
            <a:ext cx="865080" cy="865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6443640" y="2708280"/>
            <a:ext cx="865080" cy="865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814680" y="3789360"/>
            <a:ext cx="17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五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5612040" y="3713040"/>
            <a:ext cx="17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六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874800" y="4365720"/>
            <a:ext cx="1150920" cy="1093680"/>
          </a:xfrm>
          <a:prstGeom prst="pentagon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 rot="2208000">
            <a:off x="1836360" y="4690800"/>
            <a:ext cx="1150920" cy="1093680"/>
          </a:xfrm>
          <a:prstGeom prst="pentagon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2"/>
          <p:cNvSpPr/>
          <p:nvPr/>
        </p:nvSpPr>
        <p:spPr>
          <a:xfrm rot="2166600">
            <a:off x="920520" y="5359320"/>
            <a:ext cx="1150920" cy="1094040"/>
          </a:xfrm>
          <a:prstGeom prst="pentagon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5"/>
          <p:cNvSpPr/>
          <p:nvPr/>
        </p:nvSpPr>
        <p:spPr>
          <a:xfrm>
            <a:off x="5702400" y="4465800"/>
            <a:ext cx="1079280" cy="933120"/>
          </a:xfrm>
          <a:prstGeom prst="hexagon">
            <a:avLst>
              <a:gd name="adj" fmla="val 28916"/>
              <a:gd name="vf" fmla="val 115470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6516720" y="4943520"/>
            <a:ext cx="1079640" cy="933480"/>
          </a:xfrm>
          <a:prstGeom prst="hexagon">
            <a:avLst>
              <a:gd name="adj" fmla="val 28914"/>
              <a:gd name="vf" fmla="val 115470"/>
            </a:avLst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5689440" y="5407200"/>
            <a:ext cx="1079640" cy="933120"/>
          </a:xfrm>
          <a:prstGeom prst="hexagon">
            <a:avLst>
              <a:gd name="adj" fmla="val 28926"/>
              <a:gd name="vf" fmla="val 115470"/>
            </a:avLst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3059280" y="16588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由此</a:t>
            </a:r>
            <a:r>
              <a:rPr b="1" lang="en-US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可以看到正三角形、正方形、正六边形可以作平面镶嵌，而正五边形不能作镶嵌，那么什么样的正多边形可以作镶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9"/>
          <p:cNvGrpSpPr/>
          <p:nvPr/>
        </p:nvGrpSpPr>
        <p:grpSpPr>
          <a:xfrm>
            <a:off x="735120" y="115920"/>
            <a:ext cx="7940520" cy="1159560"/>
            <a:chOff x="735120" y="115920"/>
            <a:chExt cx="7940520" cy="1159560"/>
          </a:xfrm>
        </p:grpSpPr>
        <p:sp>
          <p:nvSpPr>
            <p:cNvPr id="201" name="Text Box 4"/>
            <p:cNvSpPr/>
            <p:nvPr/>
          </p:nvSpPr>
          <p:spPr>
            <a:xfrm>
              <a:off x="735120" y="115920"/>
              <a:ext cx="7940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         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一般地，假定有正</a:t>
              </a:r>
              <a:r>
                <a:rPr b="1" lang="en-US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n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边形，则此正</a:t>
              </a:r>
              <a:r>
                <a:rPr b="1" lang="en-US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n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边形的每一个内角等于               ，如果在一个顶点周围有</a:t>
              </a:r>
              <a:r>
                <a:rPr b="1" lang="en-US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个正</a:t>
              </a:r>
              <a:r>
                <a:rPr b="1" lang="en-US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n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边形的角，由于这些角的和应为</a:t>
              </a:r>
              <a:r>
                <a:rPr b="1" lang="en-US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360°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，因此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8"/>
            <p:cNvGrpSpPr/>
            <p:nvPr/>
          </p:nvGrpSpPr>
          <p:grpSpPr>
            <a:xfrm>
              <a:off x="4478040" y="547560"/>
              <a:ext cx="1838520" cy="727920"/>
              <a:chOff x="4478040" y="547560"/>
              <a:chExt cx="1838520" cy="727920"/>
            </a:xfrm>
          </p:grpSpPr>
          <p:sp>
            <p:nvSpPr>
              <p:cNvPr id="203" name="Text Box 5"/>
              <p:cNvSpPr/>
              <p:nvPr/>
            </p:nvSpPr>
            <p:spPr>
              <a:xfrm>
                <a:off x="4478040" y="547560"/>
                <a:ext cx="183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(n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－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2)180 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"/>
              <p:cNvSpPr/>
              <p:nvPr/>
            </p:nvSpPr>
            <p:spPr>
              <a:xfrm>
                <a:off x="5081760" y="8157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7"/>
              <p:cNvSpPr/>
              <p:nvPr/>
            </p:nvSpPr>
            <p:spPr>
              <a:xfrm>
                <a:off x="4514760" y="960120"/>
                <a:ext cx="15112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Text Box 12"/>
          <p:cNvSpPr/>
          <p:nvPr/>
        </p:nvSpPr>
        <p:spPr>
          <a:xfrm>
            <a:off x="4877280" y="223992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=360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2658600" y="1989000"/>
            <a:ext cx="2390040" cy="1022760"/>
            <a:chOff x="2658600" y="1989000"/>
            <a:chExt cx="2390040" cy="1022760"/>
          </a:xfrm>
        </p:grpSpPr>
        <p:sp>
          <p:nvSpPr>
            <p:cNvPr id="208" name="Text Box 10"/>
            <p:cNvSpPr/>
            <p:nvPr/>
          </p:nvSpPr>
          <p:spPr>
            <a:xfrm>
              <a:off x="2658600" y="1989000"/>
              <a:ext cx="239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(n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)180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"/>
            <p:cNvSpPr/>
            <p:nvPr/>
          </p:nvSpPr>
          <p:spPr>
            <a:xfrm>
              <a:off x="3544200" y="2430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2751120" y="2544480"/>
              <a:ext cx="2015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4"/>
          <p:cNvSpPr/>
          <p:nvPr/>
        </p:nvSpPr>
        <p:spPr>
          <a:xfrm>
            <a:off x="2232360" y="2243160"/>
            <a:ext cx="5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1173600" y="2852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此式可化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225600" y="2852640"/>
            <a:ext cx="29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)(k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11280" y="335772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因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k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为正整数，所以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k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是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的正因数，于是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1116000" y="4221000"/>
            <a:ext cx="1710720" cy="1018080"/>
            <a:chOff x="1116000" y="4221000"/>
            <a:chExt cx="1710720" cy="1018080"/>
          </a:xfrm>
        </p:grpSpPr>
        <p:sp>
          <p:nvSpPr>
            <p:cNvPr id="216" name="Text Box 20"/>
            <p:cNvSpPr/>
            <p:nvPr/>
          </p:nvSpPr>
          <p:spPr>
            <a:xfrm>
              <a:off x="1270800" y="4221000"/>
              <a:ext cx="155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3"/>
            <p:cNvSpPr/>
            <p:nvPr/>
          </p:nvSpPr>
          <p:spPr>
            <a:xfrm>
              <a:off x="1277280" y="4657680"/>
              <a:ext cx="15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k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=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6"/>
            <p:cNvSpPr/>
            <p:nvPr/>
          </p:nvSpPr>
          <p:spPr>
            <a:xfrm>
              <a:off x="1116000" y="4546440"/>
              <a:ext cx="216000" cy="503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960 h 503280"/>
                <a:gd name="textAreaBottom" fmla="*/ 49032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3622680" y="4216320"/>
            <a:ext cx="1683720" cy="1014480"/>
            <a:chOff x="3622680" y="4216320"/>
            <a:chExt cx="1683720" cy="1014480"/>
          </a:xfrm>
        </p:grpSpPr>
        <p:sp>
          <p:nvSpPr>
            <p:cNvPr id="220" name="Text Box 22"/>
            <p:cNvSpPr/>
            <p:nvPr/>
          </p:nvSpPr>
          <p:spPr>
            <a:xfrm>
              <a:off x="3750480" y="4216320"/>
              <a:ext cx="155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3772800" y="4649400"/>
              <a:ext cx="15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k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27"/>
            <p:cNvSpPr/>
            <p:nvPr/>
          </p:nvSpPr>
          <p:spPr>
            <a:xfrm>
              <a:off x="3622680" y="4522680"/>
              <a:ext cx="215640" cy="5029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12960 h 502920"/>
                <a:gd name="textAreaBottom" fmla="*/ 48996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9"/>
          <p:cNvGrpSpPr/>
          <p:nvPr/>
        </p:nvGrpSpPr>
        <p:grpSpPr>
          <a:xfrm>
            <a:off x="5924520" y="4173480"/>
            <a:ext cx="1685520" cy="1057680"/>
            <a:chOff x="5924520" y="4173480"/>
            <a:chExt cx="1685520" cy="1057680"/>
          </a:xfrm>
        </p:grpSpPr>
        <p:sp>
          <p:nvSpPr>
            <p:cNvPr id="224" name="Text Box 21"/>
            <p:cNvSpPr/>
            <p:nvPr/>
          </p:nvSpPr>
          <p:spPr>
            <a:xfrm>
              <a:off x="6054120" y="4173480"/>
              <a:ext cx="155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=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6069960" y="4649760"/>
              <a:ext cx="15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k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28"/>
            <p:cNvSpPr/>
            <p:nvPr/>
          </p:nvSpPr>
          <p:spPr>
            <a:xfrm>
              <a:off x="5924520" y="4505400"/>
              <a:ext cx="216000" cy="503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960 h 503280"/>
                <a:gd name="textAreaBottom" fmla="*/ 49032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32"/>
          <p:cNvSpPr/>
          <p:nvPr/>
        </p:nvSpPr>
        <p:spPr>
          <a:xfrm>
            <a:off x="5375520" y="450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2912040" y="4451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4"/>
          <p:cNvSpPr/>
          <p:nvPr/>
        </p:nvSpPr>
        <p:spPr>
          <a:xfrm>
            <a:off x="856800" y="508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解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1332000" y="5397480"/>
            <a:ext cx="1036800" cy="1057680"/>
            <a:chOff x="1332000" y="5397480"/>
            <a:chExt cx="1036800" cy="1057680"/>
          </a:xfrm>
        </p:grpSpPr>
        <p:sp>
          <p:nvSpPr>
            <p:cNvPr id="231" name="Text Box 36"/>
            <p:cNvSpPr/>
            <p:nvPr/>
          </p:nvSpPr>
          <p:spPr>
            <a:xfrm>
              <a:off x="1476360" y="539748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n=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7"/>
            <p:cNvSpPr/>
            <p:nvPr/>
          </p:nvSpPr>
          <p:spPr>
            <a:xfrm>
              <a:off x="1492560" y="5873760"/>
              <a:ext cx="86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k=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38"/>
            <p:cNvSpPr/>
            <p:nvPr/>
          </p:nvSpPr>
          <p:spPr>
            <a:xfrm>
              <a:off x="1332000" y="5729400"/>
              <a:ext cx="215640" cy="5032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12960 h 503280"/>
                <a:gd name="textAreaBottom" fmla="*/ 49032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0"/>
          <p:cNvGrpSpPr/>
          <p:nvPr/>
        </p:nvGrpSpPr>
        <p:grpSpPr>
          <a:xfrm>
            <a:off x="2987640" y="5373720"/>
            <a:ext cx="1036800" cy="1057320"/>
            <a:chOff x="2987640" y="5373720"/>
            <a:chExt cx="1036800" cy="1057320"/>
          </a:xfrm>
        </p:grpSpPr>
        <p:sp>
          <p:nvSpPr>
            <p:cNvPr id="235" name="Text Box 41"/>
            <p:cNvSpPr/>
            <p:nvPr/>
          </p:nvSpPr>
          <p:spPr>
            <a:xfrm>
              <a:off x="3132000" y="537372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n=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2"/>
            <p:cNvSpPr/>
            <p:nvPr/>
          </p:nvSpPr>
          <p:spPr>
            <a:xfrm>
              <a:off x="3148200" y="5849640"/>
              <a:ext cx="86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k=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43"/>
            <p:cNvSpPr/>
            <p:nvPr/>
          </p:nvSpPr>
          <p:spPr>
            <a:xfrm>
              <a:off x="2987640" y="5705280"/>
              <a:ext cx="215640" cy="5029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12960 h 502920"/>
                <a:gd name="textAreaBottom" fmla="*/ 48996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4"/>
          <p:cNvGrpSpPr/>
          <p:nvPr/>
        </p:nvGrpSpPr>
        <p:grpSpPr>
          <a:xfrm>
            <a:off x="4716360" y="5373720"/>
            <a:ext cx="1036800" cy="1057320"/>
            <a:chOff x="4716360" y="5373720"/>
            <a:chExt cx="1036800" cy="1057320"/>
          </a:xfrm>
        </p:grpSpPr>
        <p:sp>
          <p:nvSpPr>
            <p:cNvPr id="239" name="Text Box 45"/>
            <p:cNvSpPr/>
            <p:nvPr/>
          </p:nvSpPr>
          <p:spPr>
            <a:xfrm>
              <a:off x="4860720" y="5373720"/>
              <a:ext cx="8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n=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6"/>
            <p:cNvSpPr/>
            <p:nvPr/>
          </p:nvSpPr>
          <p:spPr>
            <a:xfrm>
              <a:off x="4876920" y="5849640"/>
              <a:ext cx="86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k=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7"/>
            <p:cNvSpPr/>
            <p:nvPr/>
          </p:nvSpPr>
          <p:spPr>
            <a:xfrm>
              <a:off x="4716360" y="5705280"/>
              <a:ext cx="215640" cy="5029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12960 h 502920"/>
                <a:gd name="textAreaBottom" fmla="*/ 48996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48"/>
          <p:cNvSpPr/>
          <p:nvPr/>
        </p:nvSpPr>
        <p:spPr>
          <a:xfrm>
            <a:off x="2422800" y="5657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9"/>
          <p:cNvSpPr/>
          <p:nvPr/>
        </p:nvSpPr>
        <p:spPr>
          <a:xfrm>
            <a:off x="4135680" y="5657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1691640" y="549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由以上分析和讨论可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84360" y="1125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由一种正多边形进行镶嵌，只能有三种情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451520" y="2343240"/>
            <a:ext cx="25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Dotum"/>
              </a:rPr>
              <a:t>（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Dotum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正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379160" y="3075120"/>
            <a:ext cx="22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Dotum"/>
              </a:rPr>
              <a:t>（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Dotum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正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479960" y="3795840"/>
            <a:ext cx="25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Dotum"/>
              </a:rPr>
              <a:t>（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Dotum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正六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11280" y="4797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问题：由两种或两种以上的正多边形进行镶嵌，有几种情况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5"/>
          <p:cNvSpPr txBox="1"/>
          <p:nvPr/>
        </p:nvSpPr>
        <p:spPr>
          <a:xfrm>
            <a:off x="2340000" y="1268280"/>
            <a:ext cx="4248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9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08:32:39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59Z</dcterms:modified>
  <cp:revision>11</cp:revision>
  <dc:subject>人教版七年级数学（下）全套课件</dc:subject>
  <dc:title>人教版七年级数学（下）全套课件</dc:title>
</cp:coreProperties>
</file>