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8683625" cy="11753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8683200" cy="117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762360" cy="587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3"/>
          </p:nvPr>
        </p:nvSpPr>
        <p:spPr>
          <a:xfrm>
            <a:off x="4919400" y="0"/>
            <a:ext cx="3762360" cy="587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402920" y="880920"/>
            <a:ext cx="5878440" cy="44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1157040" y="5583240"/>
            <a:ext cx="6367320" cy="529128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14"/>
          </p:nvPr>
        </p:nvSpPr>
        <p:spPr>
          <a:xfrm>
            <a:off x="-360" y="11167920"/>
            <a:ext cx="3762360" cy="587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15"/>
          </p:nvPr>
        </p:nvSpPr>
        <p:spPr>
          <a:xfrm>
            <a:off x="4919400" y="11167920"/>
            <a:ext cx="3762360" cy="587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b">
            <a:noAutofit/>
          </a:bodyPr>
          <a:lstStyle>
            <a:lvl1pPr indent="0" algn="r">
              <a:buNone/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fld id="{237E666C-83DA-428A-AEF6-DB00F7FEECA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31"/>
          <p:cNvSpPr/>
          <p:nvPr/>
        </p:nvSpPr>
        <p:spPr>
          <a:xfrm>
            <a:off x="4919760" y="11167920"/>
            <a:ext cx="3762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640" rIns="116640" tIns="58320" bIns="58320" anchor="b">
            <a:noAutofit/>
          </a:bodyPr>
          <a:p>
            <a:pPr algn="r"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fld id="{D7D80332-7287-4577-B2EC-03AB126AFE9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405080" y="880920"/>
            <a:ext cx="5878440" cy="44085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157040" y="5583240"/>
            <a:ext cx="63673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ACF-3F59-4BEB-AAD0-6E0A4077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220-799F-4FA7-A9D0-AEE69BB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E25-A045-42C6-ACF7-EAA9F460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004-4C7A-4FCF-A28D-58CA1ED9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4E9-3CB0-4BB2-AB9C-CC3D609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337E-57E6-48E1-AC79-E450E3D8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53A-5248-4303-8A65-5961FF3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384A-42C2-4FD7-8891-7527032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19E-8348-499E-93C0-882CFA9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BE7-7168-44A2-BAD3-3E3A9B3F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8A3-5BA1-4999-8953-D35337FE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A7A5-9A5B-4C07-A2FB-99FD66B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8572-1B92-4D1B-9DCC-FA89A50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F36E-7331-48EB-83E2-F96882C9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208F-1D53-498B-B49E-5E9635DB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E41C-E7B7-4987-A3E6-9308E06A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3B7-3B95-43FD-86D0-FF0C15EB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B187-BB96-4518-A228-FF1F1D6B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52E4-0242-471C-AD50-6900F701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D014-15EE-4171-84A4-7A46A67A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ADE4-A8DD-4F18-AF72-54EEC23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2C7-92FA-4A2C-B94A-5D877864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06AF-8D53-45FB-BFEB-B0C16C6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752C-2513-4B43-92CA-90F48AD5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B8AF-1C2D-4F1B-8BD1-101AFC6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997B-2451-4F0E-8FF8-9B72344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BADB-3D87-4D11-934C-BDAF347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6539-D71A-4FB9-8EA2-CA124C7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A272-B266-4F4C-95D8-8519712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E1EE-3A46-4C60-920C-34B8FFD8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9DCC-DFB1-4A97-AC1D-BD909C35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DC37-D690-486D-AED8-11856898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8DF-E0EC-4318-B3AB-749647B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A91C-EB34-4221-B461-CE603E42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972EC-1EBE-4554-89ED-455A084A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9C8A-46D5-4E7B-B0C1-CDB1541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7B7F-B3A8-4350-A714-E91A633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ED9E-51D1-474A-B0C8-EE69260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8DC5-D112-4B77-A1A3-FF02F638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057C-552B-4476-84C5-687925F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71F1-E2B8-4AEC-986E-0CB73597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66F8-D768-466B-AAD0-3070365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E7FF-DA14-41DF-A41C-EB5363D0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153-A1B9-49D4-892D-6FD4604E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AE3D-66D0-4454-A046-6B6859B1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525-7B1E-4D15-B613-34BEEF3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642-1581-4BF5-9476-9C60D67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3BE-D757-47A9-A9E6-85353BA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263-129F-4036-AAB6-F2E4906B0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0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1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1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3486-8056-4DE3-8F74-5A832F2B5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6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7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38D-4344-4A9D-BFB2-B95E29B14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2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2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23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242E-CB1F-47FB-ADCD-CAAD336A2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ejianyuan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73200" y="1222200"/>
            <a:ext cx="7683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3e5"/>
                </a:solidFill>
                <a:latin typeface="Times New Roman"/>
                <a:ea typeface="黑体"/>
              </a:rPr>
              <a:t>9.3    </a:t>
            </a:r>
            <a:r>
              <a:rPr b="1" lang="zh-CN" sz="4800" spc="-1" strike="noStrike">
                <a:solidFill>
                  <a:srgbClr val="ffe3e5"/>
                </a:solidFill>
                <a:latin typeface="Times New Roman"/>
                <a:ea typeface="黑体"/>
              </a:rPr>
              <a:t>一元一次不等式组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5889600" y="377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733920" y="4210200"/>
            <a:ext cx="4857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单位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中畈中学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授课人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张志才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92" name="alice.mp3" descr=""/>
          <p:cNvPicPr/>
          <p:nvPr/>
        </p:nvPicPr>
        <p:blipFill>
          <a:blip r:embed="rId1"/>
          <a:stretch/>
        </p:blipFill>
        <p:spPr>
          <a:xfrm>
            <a:off x="79628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4038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小组讨论：</a:t>
            </a:r>
            <a:br>
              <a:rPr sz="3200"/>
            </a:b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    根据不等式组的解集的意义，你觉得解决尝试题需要哪些步骤？在这些步骤中，哪个是我们原有的知识，哪个是我们今天获得的新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04840" y="628560"/>
            <a:ext cx="7734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归纳解一元一次不等式组的步骤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1143000" y="24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131840" y="1717560"/>
            <a:ext cx="423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e3e5"/>
                </a:solidFill>
                <a:latin typeface="Times New Roman"/>
              </a:rPr>
              <a:t>求出每个不等式的解集；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1106640" y="2631960"/>
            <a:ext cx="6798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e3e5"/>
                </a:solidFill>
                <a:latin typeface="Times New Roman"/>
              </a:rPr>
              <a:t>把不等式的解集在同一个数轴上表示出来；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898560" y="3641760"/>
            <a:ext cx="6299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ffe3e5"/>
                </a:solidFill>
                <a:latin typeface="Times New Roman"/>
              </a:rPr>
              <a:t>找出各个不等式的解集的公共部分；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1050840" y="4632480"/>
            <a:ext cx="595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ffe3e5"/>
                </a:solidFill>
                <a:latin typeface="Times New Roman"/>
              </a:rPr>
              <a:t>不等式组的解集就是这个公共部分。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870120" y="5697360"/>
            <a:ext cx="77086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特别注意，没有公共部分称为不等式组无解。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巩固练习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解下列不等式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23"/>
          <p:cNvGrpSpPr/>
          <p:nvPr/>
        </p:nvGrpSpPr>
        <p:grpSpPr>
          <a:xfrm>
            <a:off x="941760" y="2387520"/>
            <a:ext cx="3289680" cy="1066680"/>
            <a:chOff x="941760" y="2387520"/>
            <a:chExt cx="3289680" cy="1066680"/>
          </a:xfrm>
        </p:grpSpPr>
        <p:grpSp>
          <p:nvGrpSpPr>
            <p:cNvPr id="481" name="Group 24"/>
            <p:cNvGrpSpPr/>
            <p:nvPr/>
          </p:nvGrpSpPr>
          <p:grpSpPr>
            <a:xfrm>
              <a:off x="1530000" y="2387520"/>
              <a:ext cx="2701440" cy="1066680"/>
              <a:chOff x="1530000" y="2387520"/>
              <a:chExt cx="2701440" cy="1066680"/>
            </a:xfrm>
          </p:grpSpPr>
          <p:sp>
            <p:nvSpPr>
              <p:cNvPr id="482" name="Text Box 25"/>
              <p:cNvSpPr/>
              <p:nvPr/>
            </p:nvSpPr>
            <p:spPr>
              <a:xfrm>
                <a:off x="1861920" y="2387520"/>
                <a:ext cx="236952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－１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&lt;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+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１ 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&lt;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3" name="Text Box 26"/>
              <p:cNvSpPr/>
              <p:nvPr/>
            </p:nvSpPr>
            <p:spPr>
              <a:xfrm>
                <a:off x="1530000" y="2654280"/>
                <a:ext cx="3787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ff66"/>
                    </a:solidFill>
                    <a:latin typeface="Times New Roman"/>
                  </a:rPr>
                  <a:t>{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Rectangle 27"/>
            <p:cNvSpPr/>
            <p:nvPr/>
          </p:nvSpPr>
          <p:spPr>
            <a:xfrm>
              <a:off x="941760" y="2647800"/>
              <a:ext cx="744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3e5"/>
                  </a:solidFill>
                  <a:latin typeface="Times New Roman"/>
                  <a:ea typeface="楷体_GB2312"/>
                </a:rPr>
                <a:t>(1)</a:t>
              </a:r>
              <a:r>
                <a:rPr b="0" lang="en-US" sz="3200" spc="-1" strike="noStrike">
                  <a:solidFill>
                    <a:srgbClr val="ffe3e5"/>
                  </a:solidFill>
                  <a:latin typeface="Times New Roman"/>
                  <a:ea typeface="楷体_GB2312"/>
                </a:rPr>
                <a:t>  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85" name="Group 28"/>
          <p:cNvGrpSpPr/>
          <p:nvPr/>
        </p:nvGrpSpPr>
        <p:grpSpPr>
          <a:xfrm>
            <a:off x="4918680" y="2425680"/>
            <a:ext cx="2837160" cy="1066680"/>
            <a:chOff x="4918680" y="2425680"/>
            <a:chExt cx="2837160" cy="1066680"/>
          </a:xfrm>
        </p:grpSpPr>
        <p:grpSp>
          <p:nvGrpSpPr>
            <p:cNvPr id="486" name="Group 29"/>
            <p:cNvGrpSpPr/>
            <p:nvPr/>
          </p:nvGrpSpPr>
          <p:grpSpPr>
            <a:xfrm>
              <a:off x="5488560" y="2425680"/>
              <a:ext cx="2267280" cy="1066680"/>
              <a:chOff x="5488560" y="2425680"/>
              <a:chExt cx="2267280" cy="1066680"/>
            </a:xfrm>
          </p:grpSpPr>
          <p:sp>
            <p:nvSpPr>
              <p:cNvPr id="487" name="Text Box 30"/>
              <p:cNvSpPr/>
              <p:nvPr/>
            </p:nvSpPr>
            <p:spPr>
              <a:xfrm>
                <a:off x="6088320" y="2425680"/>
                <a:ext cx="166752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－１＞ 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+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１ ＞ 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8" name="Text Box 31"/>
              <p:cNvSpPr/>
              <p:nvPr/>
            </p:nvSpPr>
            <p:spPr>
              <a:xfrm>
                <a:off x="5488560" y="2692440"/>
                <a:ext cx="3787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ff66"/>
                    </a:solidFill>
                    <a:latin typeface="Times New Roman"/>
                  </a:rPr>
                  <a:t>{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32"/>
            <p:cNvSpPr/>
            <p:nvPr/>
          </p:nvSpPr>
          <p:spPr>
            <a:xfrm>
              <a:off x="4918680" y="2685960"/>
              <a:ext cx="744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3e5"/>
                  </a:solidFill>
                  <a:latin typeface="Times New Roman"/>
                </a:rPr>
                <a:t>(2)</a:t>
              </a:r>
              <a:r>
                <a:rPr b="1" lang="en-US" sz="3200" spc="-1" strike="noStrike">
                  <a:solidFill>
                    <a:srgbClr val="ffe3e5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90" name="Group 33"/>
          <p:cNvGrpSpPr/>
          <p:nvPr/>
        </p:nvGrpSpPr>
        <p:grpSpPr>
          <a:xfrm>
            <a:off x="928080" y="3784680"/>
            <a:ext cx="3043080" cy="1066680"/>
            <a:chOff x="928080" y="3784680"/>
            <a:chExt cx="3043080" cy="1066680"/>
          </a:xfrm>
        </p:grpSpPr>
        <p:grpSp>
          <p:nvGrpSpPr>
            <p:cNvPr id="491" name="Group 34"/>
            <p:cNvGrpSpPr/>
            <p:nvPr/>
          </p:nvGrpSpPr>
          <p:grpSpPr>
            <a:xfrm>
              <a:off x="1436400" y="3784680"/>
              <a:ext cx="2534760" cy="1066680"/>
              <a:chOff x="1436400" y="3784680"/>
              <a:chExt cx="2534760" cy="1066680"/>
            </a:xfrm>
          </p:grpSpPr>
          <p:sp>
            <p:nvSpPr>
              <p:cNvPr id="492" name="Text Box 35"/>
              <p:cNvSpPr/>
              <p:nvPr/>
            </p:nvSpPr>
            <p:spPr>
              <a:xfrm>
                <a:off x="1760400" y="3784680"/>
                <a:ext cx="221076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－１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&lt;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+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１ ＞ 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3" name="Text Box 36"/>
              <p:cNvSpPr/>
              <p:nvPr/>
            </p:nvSpPr>
            <p:spPr>
              <a:xfrm>
                <a:off x="1436400" y="4051440"/>
                <a:ext cx="3787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ff66"/>
                    </a:solidFill>
                    <a:latin typeface="Times New Roman"/>
                  </a:rPr>
                  <a:t>{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37"/>
            <p:cNvSpPr/>
            <p:nvPr/>
          </p:nvSpPr>
          <p:spPr>
            <a:xfrm>
              <a:off x="928080" y="4044960"/>
              <a:ext cx="642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3e5"/>
                  </a:solidFill>
                  <a:latin typeface="Times New Roman"/>
                </a:rPr>
                <a:t>(3)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95" name="Group 38"/>
          <p:cNvGrpSpPr/>
          <p:nvPr/>
        </p:nvGrpSpPr>
        <p:grpSpPr>
          <a:xfrm>
            <a:off x="4904640" y="3848040"/>
            <a:ext cx="3135240" cy="1066680"/>
            <a:chOff x="4904640" y="3848040"/>
            <a:chExt cx="3135240" cy="1066680"/>
          </a:xfrm>
        </p:grpSpPr>
        <p:grpSp>
          <p:nvGrpSpPr>
            <p:cNvPr id="496" name="Group 39"/>
            <p:cNvGrpSpPr/>
            <p:nvPr/>
          </p:nvGrpSpPr>
          <p:grpSpPr>
            <a:xfrm>
              <a:off x="5446800" y="3848040"/>
              <a:ext cx="2593080" cy="1066680"/>
              <a:chOff x="5446800" y="3848040"/>
              <a:chExt cx="2593080" cy="1066680"/>
            </a:xfrm>
          </p:grpSpPr>
          <p:sp>
            <p:nvSpPr>
              <p:cNvPr id="497" name="Text Box 40"/>
              <p:cNvSpPr/>
              <p:nvPr/>
            </p:nvSpPr>
            <p:spPr>
              <a:xfrm>
                <a:off x="5762160" y="3848040"/>
                <a:ext cx="227772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－１＞ 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x+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１ 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Times New Roman"/>
                  </a:rPr>
                  <a:t>&lt;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Times New Roman"/>
                  </a:rPr>
                  <a:t>３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8" name="Text Box 41"/>
              <p:cNvSpPr/>
              <p:nvPr/>
            </p:nvSpPr>
            <p:spPr>
              <a:xfrm>
                <a:off x="5446800" y="4114800"/>
                <a:ext cx="3787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cff66"/>
                    </a:solidFill>
                    <a:latin typeface="Times New Roman"/>
                  </a:rPr>
                  <a:t>{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42"/>
            <p:cNvSpPr/>
            <p:nvPr/>
          </p:nvSpPr>
          <p:spPr>
            <a:xfrm>
              <a:off x="4904640" y="4108320"/>
              <a:ext cx="744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3e5"/>
                  </a:solidFill>
                  <a:latin typeface="Times New Roman"/>
                </a:rPr>
                <a:t>(4)</a:t>
              </a:r>
              <a:r>
                <a:rPr b="1" lang="en-US" sz="3200" spc="-1" strike="noStrike">
                  <a:solidFill>
                    <a:srgbClr val="ffe3e5"/>
                  </a:solidFill>
                  <a:latin typeface="Times New Roman"/>
                  <a:ea typeface="楷体_GB2312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190440" y="399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节课你学到了什么？有哪些感受？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79028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3e5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，学习一元一次不等式组是数学知识拓展的需要，也是现实生活的需要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3e5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，学习不等式组时，我们可以类比方程组、方程组的解来理解不等式组、不等式组的解集的概念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3e5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，求不等式组的解集时，利用数轴很直观，也很快捷，这是一种数与形结合的思想方法，不仅现在有用，今后我们还会有更深的体验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、  必做题：课本第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147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页习题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9.3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题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、  选做题：解不等式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3≤2x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1≤5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，你觉得该怎样思考这个问题，你有解决的办法吗？求出不等式组 的解集中的正整数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图片 3" descr="kejianyu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0960" y="6124680"/>
            <a:ext cx="23810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200582615584606"/>
          <p:cNvPicPr/>
          <p:nvPr/>
        </p:nvPicPr>
        <p:blipFill>
          <a:blip r:embed="rId1"/>
          <a:stretch/>
        </p:blipFill>
        <p:spPr>
          <a:xfrm>
            <a:off x="-19080" y="-1908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7"/>
          <p:cNvSpPr txBox="1"/>
          <p:nvPr/>
        </p:nvSpPr>
        <p:spPr>
          <a:xfrm rot="20329800">
            <a:off x="1871280" y="1747440"/>
            <a:ext cx="451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谢谢指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5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171468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40" y="5048280"/>
            <a:ext cx="85154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e3e5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e3e5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e3e5"/>
                </a:solidFill>
                <a:latin typeface="Arial"/>
              </a:rPr>
              <a:t>）从跷跷板的状况你可以找出怎样的不等关系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e3e5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e3e5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e3e5"/>
                </a:solidFill>
                <a:latin typeface="Arial"/>
              </a:rPr>
              <a:t>）你认为怎样求</a:t>
            </a:r>
            <a:r>
              <a:rPr b="1" lang="en-US" sz="1800" spc="-1" strike="noStrike">
                <a:solidFill>
                  <a:srgbClr val="ffe3e5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ffe3e5"/>
                </a:solidFill>
                <a:latin typeface="Arial"/>
              </a:rPr>
              <a:t>的范围，可以尽可能地接近小宝的体重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93600" y="912960"/>
            <a:ext cx="3689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小宝和爸爸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妈妈三人在操场上玩跷跷板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爸爸体重为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72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千克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体重只有妈妈一半的小宝和妈妈一同坐在跷跷板的另一端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这时爸爸的一端仍然着地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后来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小宝借来一副质量为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千克的哑铃   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加在他和妈妈坐的一端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结果爸爸被跷起离地 ．猜猜小宝的体重约是多少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?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在这个问题中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如果设小宝的体重为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ffe3e5"/>
                </a:solidFill>
                <a:latin typeface="Arial"/>
              </a:rPr>
              <a:t>千克</a:t>
            </a:r>
            <a:r>
              <a:rPr b="1" lang="en-US" sz="2000" spc="-1" strike="noStrike">
                <a:solidFill>
                  <a:srgbClr val="ffe3e5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96" name="Group 80"/>
          <p:cNvGrpSpPr/>
          <p:nvPr/>
        </p:nvGrpSpPr>
        <p:grpSpPr>
          <a:xfrm>
            <a:off x="4912920" y="3154320"/>
            <a:ext cx="3789360" cy="2468880"/>
            <a:chOff x="4912920" y="3154320"/>
            <a:chExt cx="3789360" cy="2468880"/>
          </a:xfrm>
        </p:grpSpPr>
        <p:grpSp>
          <p:nvGrpSpPr>
            <p:cNvPr id="297" name="Group 70"/>
            <p:cNvGrpSpPr/>
            <p:nvPr/>
          </p:nvGrpSpPr>
          <p:grpSpPr>
            <a:xfrm>
              <a:off x="5812200" y="3390840"/>
              <a:ext cx="2424600" cy="2232360"/>
              <a:chOff x="5812200" y="3390840"/>
              <a:chExt cx="2424600" cy="2232360"/>
            </a:xfrm>
          </p:grpSpPr>
          <p:grpSp>
            <p:nvGrpSpPr>
              <p:cNvPr id="298" name="Group 34"/>
              <p:cNvGrpSpPr/>
              <p:nvPr/>
            </p:nvGrpSpPr>
            <p:grpSpPr>
              <a:xfrm>
                <a:off x="5812200" y="3390840"/>
                <a:ext cx="2424600" cy="1978920"/>
                <a:chOff x="5812200" y="3390840"/>
                <a:chExt cx="2424600" cy="1978920"/>
              </a:xfrm>
            </p:grpSpPr>
            <p:grpSp>
              <p:nvGrpSpPr>
                <p:cNvPr id="299" name="Group 35"/>
                <p:cNvGrpSpPr/>
                <p:nvPr/>
              </p:nvGrpSpPr>
              <p:grpSpPr>
                <a:xfrm>
                  <a:off x="5812200" y="4435200"/>
                  <a:ext cx="586800" cy="934560"/>
                  <a:chOff x="5812200" y="4435200"/>
                  <a:chExt cx="586800" cy="934560"/>
                </a:xfrm>
              </p:grpSpPr>
              <p:sp>
                <p:nvSpPr>
                  <p:cNvPr id="300" name="Oval 36"/>
                  <p:cNvSpPr/>
                  <p:nvPr/>
                </p:nvSpPr>
                <p:spPr>
                  <a:xfrm rot="20100000">
                    <a:off x="6139080" y="5011560"/>
                    <a:ext cx="69840" cy="360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6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1" name="Group 37"/>
                  <p:cNvGrpSpPr/>
                  <p:nvPr/>
                </p:nvGrpSpPr>
                <p:grpSpPr>
                  <a:xfrm>
                    <a:off x="5864400" y="4435200"/>
                    <a:ext cx="534600" cy="660240"/>
                    <a:chOff x="5864400" y="4435200"/>
                    <a:chExt cx="534600" cy="660240"/>
                  </a:xfrm>
                </p:grpSpPr>
                <p:sp>
                  <p:nvSpPr>
                    <p:cNvPr id="302" name="Oval 38"/>
                    <p:cNvSpPr/>
                    <p:nvPr/>
                  </p:nvSpPr>
                  <p:spPr>
                    <a:xfrm>
                      <a:off x="5864400" y="4435200"/>
                      <a:ext cx="285840" cy="227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2f2f47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Oval 39"/>
                    <p:cNvSpPr/>
                    <p:nvPr/>
                  </p:nvSpPr>
                  <p:spPr>
                    <a:xfrm>
                      <a:off x="5954760" y="4651200"/>
                      <a:ext cx="180360" cy="444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f2f47"/>
                        </a:gs>
                        <a:gs pos="50000">
                          <a:srgbClr val="666699"/>
                        </a:gs>
                        <a:gs pos="100000">
                          <a:srgbClr val="2f2f47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Oval 40"/>
                    <p:cNvSpPr/>
                    <p:nvPr/>
                  </p:nvSpPr>
                  <p:spPr>
                    <a:xfrm rot="13132800">
                      <a:off x="5878080" y="4818960"/>
                      <a:ext cx="362160" cy="55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2f2f47"/>
                        </a:gs>
                      </a:gsLst>
                      <a:lin ang="13866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-5760" bIns="-576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Oval 41"/>
                    <p:cNvSpPr/>
                    <p:nvPr/>
                  </p:nvSpPr>
                  <p:spPr>
                    <a:xfrm rot="2242200">
                      <a:off x="6059520" y="4783320"/>
                      <a:ext cx="358560" cy="56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2f2f47"/>
                        </a:gs>
                      </a:gsLst>
                      <a:lin ang="3156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-5400" bIns="-54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6" name="Oval 42"/>
                  <p:cNvSpPr/>
                  <p:nvPr/>
                </p:nvSpPr>
                <p:spPr>
                  <a:xfrm rot="1500000">
                    <a:off x="5884920" y="5011560"/>
                    <a:ext cx="69840" cy="360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3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43"/>
                <p:cNvGrpSpPr/>
                <p:nvPr/>
              </p:nvGrpSpPr>
              <p:grpSpPr>
                <a:xfrm>
                  <a:off x="6015600" y="4553640"/>
                  <a:ext cx="488880" cy="657000"/>
                  <a:chOff x="6015600" y="4553640"/>
                  <a:chExt cx="488880" cy="657000"/>
                </a:xfrm>
              </p:grpSpPr>
              <p:sp>
                <p:nvSpPr>
                  <p:cNvPr id="308" name="Oval 44"/>
                  <p:cNvSpPr/>
                  <p:nvPr/>
                </p:nvSpPr>
                <p:spPr>
                  <a:xfrm rot="20100000">
                    <a:off x="6284520" y="4957200"/>
                    <a:ext cx="58680" cy="25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6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9" name="Group 45"/>
                  <p:cNvGrpSpPr/>
                  <p:nvPr/>
                </p:nvGrpSpPr>
                <p:grpSpPr>
                  <a:xfrm>
                    <a:off x="6049080" y="4553640"/>
                    <a:ext cx="455400" cy="462960"/>
                    <a:chOff x="6049080" y="4553640"/>
                    <a:chExt cx="455400" cy="462960"/>
                  </a:xfrm>
                </p:grpSpPr>
                <p:sp>
                  <p:nvSpPr>
                    <p:cNvPr id="310" name="Oval 46"/>
                    <p:cNvSpPr/>
                    <p:nvPr/>
                  </p:nvSpPr>
                  <p:spPr>
                    <a:xfrm>
                      <a:off x="6049080" y="4553640"/>
                      <a:ext cx="243000" cy="160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50000">
                          <a:srgbClr val="2f2f47"/>
                        </a:gs>
                        <a:gs pos="100000">
                          <a:srgbClr val="6666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Oval 47"/>
                    <p:cNvSpPr/>
                    <p:nvPr/>
                  </p:nvSpPr>
                  <p:spPr>
                    <a:xfrm>
                      <a:off x="6127920" y="4704840"/>
                      <a:ext cx="153360" cy="311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f2f47"/>
                        </a:gs>
                        <a:gs pos="50000">
                          <a:srgbClr val="666699"/>
                        </a:gs>
                        <a:gs pos="100000">
                          <a:srgbClr val="2f2f47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Oval 48"/>
                    <p:cNvSpPr/>
                    <p:nvPr/>
                  </p:nvSpPr>
                  <p:spPr>
                    <a:xfrm rot="13132800">
                      <a:off x="6061320" y="4822200"/>
                      <a:ext cx="309960" cy="39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2f2f47"/>
                        </a:gs>
                      </a:gsLst>
                      <a:lin ang="13866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-17280" bIns="-1728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Oval 49"/>
                    <p:cNvSpPr/>
                    <p:nvPr/>
                  </p:nvSpPr>
                  <p:spPr>
                    <a:xfrm rot="2242200">
                      <a:off x="6216120" y="4797000"/>
                      <a:ext cx="307800" cy="39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2f2f47"/>
                        </a:gs>
                      </a:gsLst>
                      <a:lin ang="3156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-17280" bIns="-1728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4" name="Oval 50"/>
                  <p:cNvSpPr/>
                  <p:nvPr/>
                </p:nvSpPr>
                <p:spPr>
                  <a:xfrm rot="1500000">
                    <a:off x="6066000" y="4957560"/>
                    <a:ext cx="59760" cy="25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3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Line 51"/>
                <p:cNvSpPr/>
                <p:nvPr/>
              </p:nvSpPr>
              <p:spPr>
                <a:xfrm flipV="1">
                  <a:off x="5996160" y="4208040"/>
                  <a:ext cx="2046600" cy="904320"/>
                </a:xfrm>
                <a:prstGeom prst="line">
                  <a:avLst/>
                </a:prstGeom>
                <a:ln cap="sq"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Group 52"/>
                <p:cNvGrpSpPr/>
                <p:nvPr/>
              </p:nvGrpSpPr>
              <p:grpSpPr>
                <a:xfrm>
                  <a:off x="7448760" y="3390840"/>
                  <a:ext cx="788040" cy="1204560"/>
                  <a:chOff x="7448760" y="3390840"/>
                  <a:chExt cx="788040" cy="1204560"/>
                </a:xfrm>
              </p:grpSpPr>
              <p:sp>
                <p:nvSpPr>
                  <p:cNvPr id="317" name="Oval 53"/>
                  <p:cNvSpPr/>
                  <p:nvPr/>
                </p:nvSpPr>
                <p:spPr>
                  <a:xfrm rot="20100000">
                    <a:off x="8045640" y="4132080"/>
                    <a:ext cx="97560" cy="46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6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Oval 54"/>
                  <p:cNvSpPr/>
                  <p:nvPr/>
                </p:nvSpPr>
                <p:spPr>
                  <a:xfrm>
                    <a:off x="7659720" y="3390840"/>
                    <a:ext cx="400320" cy="29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2f2f47"/>
                      </a:gs>
                      <a:gs pos="100000">
                        <a:srgbClr val="6666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Oval 55"/>
                  <p:cNvSpPr/>
                  <p:nvPr/>
                </p:nvSpPr>
                <p:spPr>
                  <a:xfrm>
                    <a:off x="7786440" y="3668400"/>
                    <a:ext cx="250920" cy="57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f2f47"/>
                      </a:gs>
                      <a:gs pos="50000">
                        <a:srgbClr val="666699"/>
                      </a:gs>
                      <a:gs pos="100000">
                        <a:srgbClr val="2f2f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Oval 56"/>
                  <p:cNvSpPr/>
                  <p:nvPr/>
                </p:nvSpPr>
                <p:spPr>
                  <a:xfrm rot="7203600">
                    <a:off x="7689240" y="3938760"/>
                    <a:ext cx="411840" cy="8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1979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7280" bIns="1728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Oval 57"/>
                  <p:cNvSpPr/>
                  <p:nvPr/>
                </p:nvSpPr>
                <p:spPr>
                  <a:xfrm rot="19309200">
                    <a:off x="7416720" y="3884760"/>
                    <a:ext cx="505080" cy="71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769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040" bIns="504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Oval 58"/>
                  <p:cNvSpPr/>
                  <p:nvPr/>
                </p:nvSpPr>
                <p:spPr>
                  <a:xfrm rot="1500000">
                    <a:off x="7688160" y="4132080"/>
                    <a:ext cx="97560" cy="46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3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AutoShape 59"/>
                <p:cNvSpPr/>
                <p:nvPr/>
              </p:nvSpPr>
              <p:spPr>
                <a:xfrm>
                  <a:off x="6828120" y="4672080"/>
                  <a:ext cx="409320" cy="398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6215040" y="4695840"/>
                  <a:ext cx="379800" cy="382320"/>
                  <a:chOff x="6215040" y="4695840"/>
                  <a:chExt cx="379800" cy="3823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19014000">
                    <a:off x="6248520" y="4912560"/>
                    <a:ext cx="117360" cy="144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Rectangle 62"/>
                  <p:cNvSpPr/>
                  <p:nvPr/>
                </p:nvSpPr>
                <p:spPr>
                  <a:xfrm rot="19014000">
                    <a:off x="6325920" y="4862160"/>
                    <a:ext cx="166680" cy="46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720" bIns="72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Oval 63"/>
                  <p:cNvSpPr/>
                  <p:nvPr/>
                </p:nvSpPr>
                <p:spPr>
                  <a:xfrm rot="19014000">
                    <a:off x="6443280" y="4716000"/>
                    <a:ext cx="117000" cy="146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Text Box 68"/>
              <p:cNvSpPr/>
              <p:nvPr/>
            </p:nvSpPr>
            <p:spPr>
              <a:xfrm>
                <a:off x="6775200" y="5165640"/>
                <a:ext cx="540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Text Box 72"/>
            <p:cNvSpPr/>
            <p:nvPr/>
          </p:nvSpPr>
          <p:spPr>
            <a:xfrm>
              <a:off x="4912920" y="4373280"/>
              <a:ext cx="91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妈妈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X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千克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0" name="Text Box 73"/>
            <p:cNvSpPr/>
            <p:nvPr/>
          </p:nvSpPr>
          <p:spPr>
            <a:xfrm>
              <a:off x="6139080" y="4259160"/>
              <a:ext cx="823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小宝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千克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1" name="Text Box 74"/>
            <p:cNvSpPr/>
            <p:nvPr/>
          </p:nvSpPr>
          <p:spPr>
            <a:xfrm>
              <a:off x="6214320" y="4964040"/>
              <a:ext cx="785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哑铃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千克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32" name="Text Box 75"/>
            <p:cNvSpPr/>
            <p:nvPr/>
          </p:nvSpPr>
          <p:spPr>
            <a:xfrm>
              <a:off x="7826760" y="3154320"/>
              <a:ext cx="875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爸爸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72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千克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33" name="Group 79"/>
          <p:cNvGrpSpPr/>
          <p:nvPr/>
        </p:nvGrpSpPr>
        <p:grpSpPr>
          <a:xfrm>
            <a:off x="4897080" y="514440"/>
            <a:ext cx="3941640" cy="2595960"/>
            <a:chOff x="4897080" y="514440"/>
            <a:chExt cx="3941640" cy="2595960"/>
          </a:xfrm>
        </p:grpSpPr>
        <p:grpSp>
          <p:nvGrpSpPr>
            <p:cNvPr id="334" name="Group 69"/>
            <p:cNvGrpSpPr/>
            <p:nvPr/>
          </p:nvGrpSpPr>
          <p:grpSpPr>
            <a:xfrm>
              <a:off x="5627520" y="703800"/>
              <a:ext cx="2597760" cy="2406600"/>
              <a:chOff x="5627520" y="703800"/>
              <a:chExt cx="2597760" cy="2406600"/>
            </a:xfrm>
          </p:grpSpPr>
          <p:grpSp>
            <p:nvGrpSpPr>
              <p:cNvPr id="335" name="Group 66"/>
              <p:cNvGrpSpPr/>
              <p:nvPr/>
            </p:nvGrpSpPr>
            <p:grpSpPr>
              <a:xfrm>
                <a:off x="5627520" y="703800"/>
                <a:ext cx="2597760" cy="2406600"/>
                <a:chOff x="5627520" y="703800"/>
                <a:chExt cx="2597760" cy="2406600"/>
              </a:xfrm>
            </p:grpSpPr>
            <p:sp>
              <p:nvSpPr>
                <p:cNvPr id="336" name="Line 10"/>
                <p:cNvSpPr/>
                <p:nvPr/>
              </p:nvSpPr>
              <p:spPr>
                <a:xfrm>
                  <a:off x="5826240" y="1329480"/>
                  <a:ext cx="2194920" cy="1420560"/>
                </a:xfrm>
                <a:prstGeom prst="line">
                  <a:avLst/>
                </a:prstGeom>
                <a:ln cap="sq"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 rot="20847000">
                  <a:off x="5946840" y="1303200"/>
                  <a:ext cx="62640" cy="34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61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" name="Group 13"/>
                <p:cNvGrpSpPr/>
                <p:nvPr/>
              </p:nvGrpSpPr>
              <p:grpSpPr>
                <a:xfrm>
                  <a:off x="5798520" y="703800"/>
                  <a:ext cx="427680" cy="675000"/>
                  <a:chOff x="5798520" y="703800"/>
                  <a:chExt cx="427680" cy="675000"/>
                </a:xfrm>
              </p:grpSpPr>
              <p:sp>
                <p:nvSpPr>
                  <p:cNvPr id="339" name="Oval 14"/>
                  <p:cNvSpPr/>
                  <p:nvPr/>
                </p:nvSpPr>
                <p:spPr>
                  <a:xfrm rot="746400">
                    <a:off x="5831280" y="728280"/>
                    <a:ext cx="254520" cy="22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2f2f47"/>
                      </a:gs>
                      <a:gs pos="100000">
                        <a:srgbClr val="6666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Oval 15"/>
                  <p:cNvSpPr/>
                  <p:nvPr/>
                </p:nvSpPr>
                <p:spPr>
                  <a:xfrm rot="746400">
                    <a:off x="5842440" y="939960"/>
                    <a:ext cx="160560" cy="42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f2f47"/>
                      </a:gs>
                      <a:gs pos="50000">
                        <a:srgbClr val="666699"/>
                      </a:gs>
                      <a:gs pos="100000">
                        <a:srgbClr val="2f2f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Oval 16"/>
                  <p:cNvSpPr/>
                  <p:nvPr/>
                </p:nvSpPr>
                <p:spPr>
                  <a:xfrm rot="13879200">
                    <a:off x="5782320" y="1101960"/>
                    <a:ext cx="32004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1386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Oval 17"/>
                  <p:cNvSpPr/>
                  <p:nvPr/>
                </p:nvSpPr>
                <p:spPr>
                  <a:xfrm rot="2988600">
                    <a:off x="5944320" y="1103040"/>
                    <a:ext cx="317520" cy="54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315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Oval 18"/>
                <p:cNvSpPr/>
                <p:nvPr/>
              </p:nvSpPr>
              <p:spPr>
                <a:xfrm rot="2246400">
                  <a:off x="5726880" y="1247040"/>
                  <a:ext cx="60120" cy="34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31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20"/>
                <p:cNvSpPr/>
                <p:nvPr/>
              </p:nvSpPr>
              <p:spPr>
                <a:xfrm rot="20847000">
                  <a:off x="8027640" y="2658240"/>
                  <a:ext cx="86400" cy="44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61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21"/>
                <p:cNvSpPr/>
                <p:nvPr/>
              </p:nvSpPr>
              <p:spPr>
                <a:xfrm rot="746400">
                  <a:off x="7845480" y="1908720"/>
                  <a:ext cx="353160" cy="28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50000">
                      <a:srgbClr val="2f2f47"/>
                    </a:gs>
                    <a:gs pos="100000">
                      <a:srgbClr val="666699"/>
                    </a:gs>
                  </a:gsLst>
                  <a:lin ang="46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22"/>
                <p:cNvSpPr/>
                <p:nvPr/>
              </p:nvSpPr>
              <p:spPr>
                <a:xfrm rot="746400">
                  <a:off x="7879680" y="2178000"/>
                  <a:ext cx="221760" cy="55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2f47"/>
                    </a:gs>
                    <a:gs pos="50000">
                      <a:srgbClr val="666699"/>
                    </a:gs>
                    <a:gs pos="100000">
                      <a:srgbClr val="2f2f47"/>
                    </a:gs>
                  </a:gsLst>
                  <a:lin ang="46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23"/>
                <p:cNvSpPr/>
                <p:nvPr/>
              </p:nvSpPr>
              <p:spPr>
                <a:xfrm rot="7950600">
                  <a:off x="7770240" y="2440080"/>
                  <a:ext cx="398520" cy="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1905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720" bIns="97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24"/>
                <p:cNvSpPr/>
                <p:nvPr/>
              </p:nvSpPr>
              <p:spPr>
                <a:xfrm rot="20056200">
                  <a:off x="7563240" y="2339280"/>
                  <a:ext cx="445320" cy="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69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520" bIns="25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25"/>
                <p:cNvSpPr/>
                <p:nvPr/>
              </p:nvSpPr>
              <p:spPr>
                <a:xfrm rot="2246400">
                  <a:off x="7720920" y="2581200"/>
                  <a:ext cx="84600" cy="44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31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27"/>
                <p:cNvSpPr/>
                <p:nvPr/>
              </p:nvSpPr>
              <p:spPr>
                <a:xfrm rot="20847000">
                  <a:off x="6076440" y="1364760"/>
                  <a:ext cx="51840" cy="24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61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28"/>
                <p:cNvGrpSpPr/>
                <p:nvPr/>
              </p:nvGrpSpPr>
              <p:grpSpPr>
                <a:xfrm>
                  <a:off x="5944680" y="933120"/>
                  <a:ext cx="356760" cy="481680"/>
                  <a:chOff x="5944680" y="933120"/>
                  <a:chExt cx="356760" cy="481680"/>
                </a:xfrm>
              </p:grpSpPr>
              <p:sp>
                <p:nvSpPr>
                  <p:cNvPr id="352" name="Oval 29"/>
                  <p:cNvSpPr/>
                  <p:nvPr/>
                </p:nvSpPr>
                <p:spPr>
                  <a:xfrm rot="746400">
                    <a:off x="5958720" y="954360"/>
                    <a:ext cx="214560" cy="15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2f2f47"/>
                      </a:gs>
                      <a:gs pos="100000">
                        <a:srgbClr val="6666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Oval 30"/>
                  <p:cNvSpPr/>
                  <p:nvPr/>
                </p:nvSpPr>
                <p:spPr>
                  <a:xfrm rot="746400">
                    <a:off x="5978520" y="1101240"/>
                    <a:ext cx="135720" cy="302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f2f47"/>
                      </a:gs>
                      <a:gs pos="50000">
                        <a:srgbClr val="666699"/>
                      </a:gs>
                      <a:gs pos="100000">
                        <a:srgbClr val="2f2f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Oval 31"/>
                  <p:cNvSpPr/>
                  <p:nvPr/>
                </p:nvSpPr>
                <p:spPr>
                  <a:xfrm rot="13879200">
                    <a:off x="5925240" y="1220040"/>
                    <a:ext cx="272160" cy="3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1386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720" bIns="-1872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Oval 32"/>
                  <p:cNvSpPr/>
                  <p:nvPr/>
                </p:nvSpPr>
                <p:spPr>
                  <a:xfrm rot="2988600">
                    <a:off x="6062760" y="1224720"/>
                    <a:ext cx="272160" cy="3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2f2f47"/>
                      </a:gs>
                    </a:gsLst>
                    <a:lin ang="315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720" bIns="-1872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Oval 33"/>
                <p:cNvSpPr/>
                <p:nvPr/>
              </p:nvSpPr>
              <p:spPr>
                <a:xfrm rot="2246400">
                  <a:off x="5886720" y="1319760"/>
                  <a:ext cx="56520" cy="24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2f2f47"/>
                    </a:gs>
                  </a:gsLst>
                  <a:lin ang="315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65"/>
                <p:cNvSpPr/>
                <p:nvPr/>
              </p:nvSpPr>
              <p:spPr>
                <a:xfrm>
                  <a:off x="6639120" y="2001600"/>
                  <a:ext cx="435240" cy="46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30a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Text Box 67"/>
              <p:cNvSpPr/>
              <p:nvPr/>
            </p:nvSpPr>
            <p:spPr>
              <a:xfrm>
                <a:off x="6588000" y="2544840"/>
                <a:ext cx="5403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78"/>
            <p:cNvGrpSpPr/>
            <p:nvPr/>
          </p:nvGrpSpPr>
          <p:grpSpPr>
            <a:xfrm>
              <a:off x="4897080" y="514440"/>
              <a:ext cx="3941640" cy="1371600"/>
              <a:chOff x="4897080" y="514440"/>
              <a:chExt cx="3941640" cy="1371600"/>
            </a:xfrm>
          </p:grpSpPr>
          <p:sp>
            <p:nvSpPr>
              <p:cNvPr id="360" name="Text Box 71"/>
              <p:cNvSpPr/>
              <p:nvPr/>
            </p:nvSpPr>
            <p:spPr>
              <a:xfrm>
                <a:off x="7963200" y="1581120"/>
                <a:ext cx="875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</a:rPr>
                  <a:t>爸爸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Times New Roman"/>
                  </a:rPr>
                  <a:t>72</a:t>
                </a: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</a:rPr>
                  <a:t>千克</a:t>
                </a:r>
                <a:endParaRPr b="0" lang="en-US" sz="1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1" name="Text Box 76"/>
              <p:cNvSpPr/>
              <p:nvPr/>
            </p:nvSpPr>
            <p:spPr>
              <a:xfrm>
                <a:off x="4897080" y="514440"/>
                <a:ext cx="91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</a:rPr>
                  <a:t>妈妈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Times New Roman"/>
                  </a:rPr>
                  <a:t>2X</a:t>
                </a: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</a:rPr>
                  <a:t>千克</a:t>
                </a:r>
                <a:endParaRPr b="0" lang="en-US" sz="1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2" name="Text Box 77"/>
              <p:cNvSpPr/>
              <p:nvPr/>
            </p:nvSpPr>
            <p:spPr>
              <a:xfrm>
                <a:off x="6275520" y="781200"/>
                <a:ext cx="8236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</a:rPr>
                  <a:t>小宝</a:t>
                </a:r>
                <a:r>
                  <a:rPr b="1" lang="en-US" sz="14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1" lang="zh-CN" sz="1400" spc="-1" strike="noStrike">
                    <a:solidFill>
                      <a:srgbClr val="ff0000"/>
                    </a:solidFill>
                    <a:latin typeface="Times New Roman"/>
                  </a:rPr>
                  <a:t>千克</a:t>
                </a:r>
                <a:endParaRPr b="0" lang="en-US" sz="1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009440" y="742680"/>
            <a:ext cx="62290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在讨论或议论中，列出不等式：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  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012680" y="4397400"/>
            <a:ext cx="636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其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同时满足以上两个不等式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2542680" y="2111400"/>
            <a:ext cx="3805200" cy="581400"/>
            <a:chOff x="2542680" y="2111400"/>
            <a:chExt cx="3805200" cy="581400"/>
          </a:xfrm>
        </p:grpSpPr>
        <p:grpSp>
          <p:nvGrpSpPr>
            <p:cNvPr id="366" name="Group 13"/>
            <p:cNvGrpSpPr/>
            <p:nvPr/>
          </p:nvGrpSpPr>
          <p:grpSpPr>
            <a:xfrm>
              <a:off x="5997960" y="2228760"/>
              <a:ext cx="349920" cy="386280"/>
              <a:chOff x="5997960" y="2228760"/>
              <a:chExt cx="349920" cy="386280"/>
            </a:xfrm>
          </p:grpSpPr>
          <p:sp>
            <p:nvSpPr>
              <p:cNvPr id="367" name="Oval 10"/>
              <p:cNvSpPr/>
              <p:nvPr/>
            </p:nvSpPr>
            <p:spPr>
              <a:xfrm>
                <a:off x="6000840" y="2249280"/>
                <a:ext cx="324000" cy="323280"/>
              </a:xfrm>
              <a:prstGeom prst="ellipse">
                <a:avLst/>
              </a:prstGeom>
              <a:noFill/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8" name="Rectangle 12"/>
              <p:cNvSpPr/>
              <p:nvPr/>
            </p:nvSpPr>
            <p:spPr>
              <a:xfrm>
                <a:off x="5997960" y="2228760"/>
                <a:ext cx="34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3e5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69" name="Text Box 16"/>
            <p:cNvSpPr/>
            <p:nvPr/>
          </p:nvSpPr>
          <p:spPr>
            <a:xfrm>
              <a:off x="2542680" y="211140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x &lt; 72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370" name="Group 19"/>
          <p:cNvGrpSpPr/>
          <p:nvPr/>
        </p:nvGrpSpPr>
        <p:grpSpPr>
          <a:xfrm>
            <a:off x="1717560" y="2816280"/>
            <a:ext cx="4752360" cy="581400"/>
            <a:chOff x="1717560" y="2816280"/>
            <a:chExt cx="4752360" cy="581400"/>
          </a:xfrm>
        </p:grpSpPr>
        <p:grpSp>
          <p:nvGrpSpPr>
            <p:cNvPr id="371" name="Group 15"/>
            <p:cNvGrpSpPr/>
            <p:nvPr/>
          </p:nvGrpSpPr>
          <p:grpSpPr>
            <a:xfrm>
              <a:off x="6060240" y="2939400"/>
              <a:ext cx="409680" cy="386280"/>
              <a:chOff x="6060240" y="2939400"/>
              <a:chExt cx="409680" cy="38628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6064200" y="2961000"/>
                <a:ext cx="405720" cy="340920"/>
              </a:xfrm>
              <a:prstGeom prst="ellipse">
                <a:avLst/>
              </a:prstGeom>
              <a:noFill/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3" name="Rectangle 14"/>
              <p:cNvSpPr/>
              <p:nvPr/>
            </p:nvSpPr>
            <p:spPr>
              <a:xfrm>
                <a:off x="6060240" y="2939400"/>
                <a:ext cx="34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3e5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374" name="Text Box 17"/>
            <p:cNvSpPr/>
            <p:nvPr/>
          </p:nvSpPr>
          <p:spPr>
            <a:xfrm>
              <a:off x="1717560" y="2816280"/>
              <a:ext cx="346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＞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2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75" name="Line 20"/>
          <p:cNvSpPr/>
          <p:nvPr/>
        </p:nvSpPr>
        <p:spPr>
          <a:xfrm>
            <a:off x="1047600" y="666720"/>
            <a:ext cx="0" cy="478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7760" y="95400"/>
            <a:ext cx="20955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680" y="952560"/>
            <a:ext cx="71820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现有两根木条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10 cm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3 cm.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如果再找一根木条，用这三根木条钉成一个三角形木框，那么对木条的长度有什么要求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317600" y="3086280"/>
            <a:ext cx="6813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解：设这根木条的长度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cm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1810080" y="4094280"/>
            <a:ext cx="3280320" cy="515520"/>
            <a:chOff x="1810080" y="4094280"/>
            <a:chExt cx="3280320" cy="515520"/>
          </a:xfrm>
        </p:grpSpPr>
        <p:sp>
          <p:nvSpPr>
            <p:cNvPr id="380" name="Text Box 8"/>
            <p:cNvSpPr/>
            <p:nvPr/>
          </p:nvSpPr>
          <p:spPr>
            <a:xfrm flipV="1" rot="10845600">
              <a:off x="1812960" y="4110120"/>
              <a:ext cx="23968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x&lt;10+3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381" name="Group 14"/>
            <p:cNvGrpSpPr/>
            <p:nvPr/>
          </p:nvGrpSpPr>
          <p:grpSpPr>
            <a:xfrm>
              <a:off x="4740480" y="4191120"/>
              <a:ext cx="349920" cy="386280"/>
              <a:chOff x="4740480" y="4191120"/>
              <a:chExt cx="349920" cy="386280"/>
            </a:xfrm>
          </p:grpSpPr>
          <p:sp>
            <p:nvSpPr>
              <p:cNvPr id="382" name="Oval 11"/>
              <p:cNvSpPr/>
              <p:nvPr/>
            </p:nvSpPr>
            <p:spPr>
              <a:xfrm>
                <a:off x="4743360" y="4211640"/>
                <a:ext cx="323280" cy="324000"/>
              </a:xfrm>
              <a:prstGeom prst="ellipse">
                <a:avLst/>
              </a:prstGeom>
              <a:noFill/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3" name="Rectangle 12"/>
              <p:cNvSpPr/>
              <p:nvPr/>
            </p:nvSpPr>
            <p:spPr>
              <a:xfrm>
                <a:off x="4740480" y="4191120"/>
                <a:ext cx="34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3e5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22"/>
          <p:cNvGrpSpPr/>
          <p:nvPr/>
        </p:nvGrpSpPr>
        <p:grpSpPr>
          <a:xfrm>
            <a:off x="1890720" y="4815000"/>
            <a:ext cx="3199680" cy="581400"/>
            <a:chOff x="1890720" y="4815000"/>
            <a:chExt cx="3199680" cy="581400"/>
          </a:xfrm>
        </p:grpSpPr>
        <p:sp>
          <p:nvSpPr>
            <p:cNvPr id="385" name="Text Box 6"/>
            <p:cNvSpPr/>
            <p:nvPr/>
          </p:nvSpPr>
          <p:spPr>
            <a:xfrm>
              <a:off x="1890720" y="4815000"/>
              <a:ext cx="197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x&gt;10-3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386" name="Group 20"/>
            <p:cNvGrpSpPr/>
            <p:nvPr/>
          </p:nvGrpSpPr>
          <p:grpSpPr>
            <a:xfrm>
              <a:off x="4740480" y="4932360"/>
              <a:ext cx="349920" cy="386280"/>
              <a:chOff x="4740480" y="4932360"/>
              <a:chExt cx="349920" cy="386280"/>
            </a:xfrm>
          </p:grpSpPr>
          <p:sp>
            <p:nvSpPr>
              <p:cNvPr id="387" name="Oval 17"/>
              <p:cNvSpPr/>
              <p:nvPr/>
            </p:nvSpPr>
            <p:spPr>
              <a:xfrm>
                <a:off x="4743360" y="4953240"/>
                <a:ext cx="323280" cy="323640"/>
              </a:xfrm>
              <a:prstGeom prst="ellipse">
                <a:avLst/>
              </a:prstGeom>
              <a:noFill/>
              <a:ln cap="sq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8" name="Rectangle 18"/>
              <p:cNvSpPr/>
              <p:nvPr/>
            </p:nvSpPr>
            <p:spPr>
              <a:xfrm>
                <a:off x="4740480" y="4932360"/>
                <a:ext cx="34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3e5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Text Box 23"/>
          <p:cNvSpPr/>
          <p:nvPr/>
        </p:nvSpPr>
        <p:spPr>
          <a:xfrm>
            <a:off x="2498760" y="6451560"/>
            <a:ext cx="183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Rectangle 24"/>
          <p:cNvSpPr/>
          <p:nvPr/>
        </p:nvSpPr>
        <p:spPr>
          <a:xfrm>
            <a:off x="5716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类似于</a:t>
            </a:r>
            <a:r>
              <a:rPr b="1" lang="zh-CN" sz="3200" spc="-1" strike="noStrike" u="sng">
                <a:solidFill>
                  <a:srgbClr val="f9ece9"/>
                </a:solidFill>
                <a:uFillTx/>
                <a:latin typeface="Arial"/>
              </a:rPr>
              <a:t>方程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概念，你能说出一元一次不等式组的概念吗？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　      一般地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关于同一个未知数的几个一元一次不等式合在一起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就组成一个一元一次不等式组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(linear inequalities of one unknown)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46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理类比方程组的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能说出一元一次不等式组解集的概念吗？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631800" y="3460680"/>
            <a:ext cx="7670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一般地，几个不等式的解集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公共部分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，叫做由它们所组成的不等式组的解集。解不等式组就是求它的解集。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运用教科书例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，尝试解下列不等式组：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1557360" y="4314960"/>
            <a:ext cx="3520440" cy="2544840"/>
            <a:chOff x="1557360" y="4314960"/>
            <a:chExt cx="3520440" cy="2544840"/>
          </a:xfrm>
        </p:grpSpPr>
        <p:grpSp>
          <p:nvGrpSpPr>
            <p:cNvPr id="396" name="Group 5"/>
            <p:cNvGrpSpPr/>
            <p:nvPr/>
          </p:nvGrpSpPr>
          <p:grpSpPr>
            <a:xfrm>
              <a:off x="1907280" y="4314960"/>
              <a:ext cx="3170520" cy="2544840"/>
              <a:chOff x="1907280" y="4314960"/>
              <a:chExt cx="3170520" cy="2544840"/>
            </a:xfrm>
          </p:grpSpPr>
          <p:sp>
            <p:nvSpPr>
              <p:cNvPr id="397" name="Rectangle 6"/>
              <p:cNvSpPr/>
              <p:nvPr/>
            </p:nvSpPr>
            <p:spPr>
              <a:xfrm>
                <a:off x="1907280" y="4314960"/>
                <a:ext cx="53100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ffffff"/>
                    </a:solidFill>
                    <a:latin typeface="宋体"/>
                  </a:rPr>
                  <a:t>{</a:t>
                </a:r>
                <a:endParaRPr b="0" lang="en-US" sz="7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2180520" y="5305680"/>
                <a:ext cx="27522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X-1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＜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3- x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9" name="Rectangle 8"/>
              <p:cNvSpPr/>
              <p:nvPr/>
            </p:nvSpPr>
            <p:spPr>
              <a:xfrm>
                <a:off x="2455920" y="4584960"/>
                <a:ext cx="262188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2x+3 ≥ x+5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00" name="Rectangle 9"/>
            <p:cNvSpPr/>
            <p:nvPr/>
          </p:nvSpPr>
          <p:spPr>
            <a:xfrm>
              <a:off x="1557360" y="5248440"/>
              <a:ext cx="415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1652400" y="2209680"/>
            <a:ext cx="3413520" cy="1824120"/>
            <a:chOff x="1652400" y="2209680"/>
            <a:chExt cx="3413520" cy="1824120"/>
          </a:xfrm>
        </p:grpSpPr>
        <p:sp>
          <p:nvSpPr>
            <p:cNvPr id="402" name="Rectangle 12"/>
            <p:cNvSpPr/>
            <p:nvPr/>
          </p:nvSpPr>
          <p:spPr>
            <a:xfrm>
              <a:off x="2056320" y="2209680"/>
              <a:ext cx="53100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宋体"/>
                </a:rPr>
                <a:t>{</a:t>
              </a:r>
              <a:endParaRPr b="0" lang="en-US" sz="7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403" name="Group 16"/>
            <p:cNvGrpSpPr/>
            <p:nvPr/>
          </p:nvGrpSpPr>
          <p:grpSpPr>
            <a:xfrm>
              <a:off x="1652400" y="2479680"/>
              <a:ext cx="3413520" cy="1554120"/>
              <a:chOff x="1652400" y="2479680"/>
              <a:chExt cx="3413520" cy="1554120"/>
            </a:xfrm>
          </p:grpSpPr>
          <p:sp>
            <p:nvSpPr>
              <p:cNvPr id="404" name="Rectangle 13"/>
              <p:cNvSpPr/>
              <p:nvPr/>
            </p:nvSpPr>
            <p:spPr>
              <a:xfrm>
                <a:off x="2444040" y="3200400"/>
                <a:ext cx="262188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2x+3&lt;4x-1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 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5" name="Rectangle 14"/>
              <p:cNvSpPr/>
              <p:nvPr/>
            </p:nvSpPr>
            <p:spPr>
              <a:xfrm>
                <a:off x="2504880" y="2479680"/>
                <a:ext cx="21337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2x-2&gt;x+1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6" name="Rectangle 15"/>
              <p:cNvSpPr/>
              <p:nvPr/>
            </p:nvSpPr>
            <p:spPr>
              <a:xfrm>
                <a:off x="1652400" y="3038400"/>
                <a:ext cx="4928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①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286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师生一起完成尝试题 </a:t>
            </a:r>
            <a:r>
              <a:rPr b="1" lang="en-US" sz="2800" spc="-1" strike="noStrike">
                <a:solidFill>
                  <a:srgbClr val="ffe3e5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12360" y="380880"/>
            <a:ext cx="4080960" cy="1813680"/>
            <a:chOff x="612360" y="380880"/>
            <a:chExt cx="4080960" cy="1813680"/>
          </a:xfrm>
        </p:grpSpPr>
        <p:grpSp>
          <p:nvGrpSpPr>
            <p:cNvPr id="409" name="Group 5"/>
            <p:cNvGrpSpPr/>
            <p:nvPr/>
          </p:nvGrpSpPr>
          <p:grpSpPr>
            <a:xfrm>
              <a:off x="1055880" y="380880"/>
              <a:ext cx="3637440" cy="1813680"/>
              <a:chOff x="1055880" y="380880"/>
              <a:chExt cx="3637440" cy="1813680"/>
            </a:xfrm>
          </p:grpSpPr>
          <p:sp>
            <p:nvSpPr>
              <p:cNvPr id="410" name="Rectangle 6"/>
              <p:cNvSpPr/>
              <p:nvPr/>
            </p:nvSpPr>
            <p:spPr>
              <a:xfrm>
                <a:off x="1055880" y="380880"/>
                <a:ext cx="531000" cy="17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ffffff"/>
                    </a:solidFill>
                    <a:latin typeface="宋体"/>
                  </a:rPr>
                  <a:t>{</a:t>
                </a:r>
                <a:endParaRPr b="0" lang="en-US" sz="7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1112040" y="1371600"/>
                <a:ext cx="339876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2x+3&lt;4x-1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　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②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 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12" name="Rectangle 8"/>
              <p:cNvSpPr/>
              <p:nvPr/>
            </p:nvSpPr>
            <p:spPr>
              <a:xfrm>
                <a:off x="1375200" y="650880"/>
                <a:ext cx="331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2x-2&gt;x+1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　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①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　</a:t>
                </a:r>
                <a:endParaRPr b="0" lang="en-US" sz="32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13" name="Rectangle 9"/>
            <p:cNvSpPr/>
            <p:nvPr/>
          </p:nvSpPr>
          <p:spPr>
            <a:xfrm>
              <a:off x="612360" y="1209600"/>
              <a:ext cx="540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e3e5"/>
                  </a:solidFill>
                  <a:latin typeface="Times New Roman"/>
                  <a:ea typeface="楷体_GB2312"/>
                </a:rPr>
                <a:t>①</a:t>
              </a:r>
              <a:endParaRPr b="0" lang="en-US" sz="3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14" name="Text Box 10"/>
          <p:cNvSpPr/>
          <p:nvPr/>
        </p:nvSpPr>
        <p:spPr>
          <a:xfrm>
            <a:off x="574560" y="2496960"/>
            <a:ext cx="5423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Times New Roman"/>
              </a:rPr>
              <a:t>解：解不等式①得   </a:t>
            </a: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x&gt;3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15" name="Group 38"/>
          <p:cNvGrpSpPr/>
          <p:nvPr/>
        </p:nvGrpSpPr>
        <p:grpSpPr>
          <a:xfrm>
            <a:off x="1486080" y="4857840"/>
            <a:ext cx="3962160" cy="612720"/>
            <a:chOff x="1486080" y="4857840"/>
            <a:chExt cx="3962160" cy="612720"/>
          </a:xfrm>
        </p:grpSpPr>
        <p:sp>
          <p:nvSpPr>
            <p:cNvPr id="416" name="Text Box 15"/>
            <p:cNvSpPr/>
            <p:nvPr/>
          </p:nvSpPr>
          <p:spPr>
            <a:xfrm>
              <a:off x="1789560" y="4891320"/>
              <a:ext cx="2878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1    0    1    2    3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>
              <a:off x="1486080" y="4915080"/>
              <a:ext cx="3962160" cy="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3028680" y="4857840"/>
              <a:ext cx="0" cy="763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>
              <a:off x="3943080" y="4857840"/>
              <a:ext cx="0" cy="763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0" name="Line 25"/>
            <p:cNvSpPr/>
            <p:nvPr/>
          </p:nvSpPr>
          <p:spPr>
            <a:xfrm>
              <a:off x="3485880" y="4857840"/>
              <a:ext cx="0" cy="763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1" name="Line 27"/>
            <p:cNvSpPr/>
            <p:nvPr/>
          </p:nvSpPr>
          <p:spPr>
            <a:xfrm>
              <a:off x="2152440" y="4857840"/>
              <a:ext cx="0" cy="763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>
              <a:off x="2590560" y="4857840"/>
              <a:ext cx="0" cy="763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23" name="Line 35"/>
            <p:cNvSpPr/>
            <p:nvPr/>
          </p:nvSpPr>
          <p:spPr>
            <a:xfrm flipV="1">
              <a:off x="4400280" y="4857840"/>
              <a:ext cx="0" cy="763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24" name="Group 43"/>
          <p:cNvGrpSpPr/>
          <p:nvPr/>
        </p:nvGrpSpPr>
        <p:grpSpPr>
          <a:xfrm>
            <a:off x="3246480" y="4273560"/>
            <a:ext cx="1708200" cy="678960"/>
            <a:chOff x="3246480" y="4273560"/>
            <a:chExt cx="1708200" cy="678960"/>
          </a:xfrm>
        </p:grpSpPr>
        <p:grpSp>
          <p:nvGrpSpPr>
            <p:cNvPr id="425" name="Group 17"/>
            <p:cNvGrpSpPr/>
            <p:nvPr/>
          </p:nvGrpSpPr>
          <p:grpSpPr>
            <a:xfrm>
              <a:off x="3246480" y="4273560"/>
              <a:ext cx="1708200" cy="616320"/>
              <a:chOff x="3246480" y="4273560"/>
              <a:chExt cx="1708200" cy="616320"/>
            </a:xfrm>
          </p:grpSpPr>
          <p:sp>
            <p:nvSpPr>
              <p:cNvPr id="426" name="Text Box 18"/>
              <p:cNvSpPr/>
              <p:nvPr/>
            </p:nvSpPr>
            <p:spPr>
              <a:xfrm>
                <a:off x="3246480" y="4273560"/>
                <a:ext cx="1708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00"/>
                    </a:solidFill>
                    <a:latin typeface="Times New Roman"/>
                  </a:rPr>
                  <a:t>┏━━━━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7" name="Rectangle 19"/>
              <p:cNvSpPr/>
              <p:nvPr/>
            </p:nvSpPr>
            <p:spPr>
              <a:xfrm>
                <a:off x="3309120" y="4432320"/>
                <a:ext cx="3664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00"/>
                    </a:solidFill>
                    <a:latin typeface="Times New Roman"/>
                  </a:rPr>
                  <a:t>┃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428" name="Oval 39"/>
            <p:cNvSpPr/>
            <p:nvPr/>
          </p:nvSpPr>
          <p:spPr>
            <a:xfrm>
              <a:off x="3409920" y="4819320"/>
              <a:ext cx="133560" cy="133200"/>
            </a:xfrm>
            <a:prstGeom prst="ellipse">
              <a:avLst/>
            </a:prstGeom>
            <a:noFill/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29" name="Group 42"/>
          <p:cNvGrpSpPr/>
          <p:nvPr/>
        </p:nvGrpSpPr>
        <p:grpSpPr>
          <a:xfrm>
            <a:off x="3701880" y="4438800"/>
            <a:ext cx="1708200" cy="513720"/>
            <a:chOff x="3701880" y="4438800"/>
            <a:chExt cx="1708200" cy="513720"/>
          </a:xfrm>
        </p:grpSpPr>
        <p:sp>
          <p:nvSpPr>
            <p:cNvPr id="430" name="Text Box 16"/>
            <p:cNvSpPr/>
            <p:nvPr/>
          </p:nvSpPr>
          <p:spPr>
            <a:xfrm>
              <a:off x="3701880" y="4438800"/>
              <a:ext cx="1708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┏━━━━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31" name="Oval 41"/>
            <p:cNvSpPr/>
            <p:nvPr/>
          </p:nvSpPr>
          <p:spPr>
            <a:xfrm>
              <a:off x="3885840" y="4838760"/>
              <a:ext cx="114480" cy="113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32" name="Text Box 44"/>
          <p:cNvSpPr/>
          <p:nvPr/>
        </p:nvSpPr>
        <p:spPr>
          <a:xfrm>
            <a:off x="2612880" y="5956200"/>
            <a:ext cx="184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5391000"/>
            <a:ext cx="80391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从上图中可以找出两个不等式解集的公共部份，得出不等式组的解集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&gt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6"/>
          <p:cNvSpPr/>
          <p:nvPr/>
        </p:nvSpPr>
        <p:spPr>
          <a:xfrm>
            <a:off x="1165320" y="2994120"/>
            <a:ext cx="387972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e3e5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解不等式②得    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x&gt;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5" name="Text Box 47"/>
          <p:cNvSpPr/>
          <p:nvPr/>
        </p:nvSpPr>
        <p:spPr>
          <a:xfrm>
            <a:off x="1165320" y="3622680"/>
            <a:ext cx="608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把不等式①和 ②的解集在数轴上表示出来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438120" y="190440"/>
            <a:ext cx="622944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3e5"/>
                </a:solidFill>
                <a:latin typeface="Arial"/>
              </a:rPr>
              <a:t>师生一起完成尝试题 </a:t>
            </a:r>
            <a:r>
              <a:rPr b="1" lang="en-US" sz="3200" spc="-1" strike="noStrike">
                <a:solidFill>
                  <a:srgbClr val="ffe3e5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437" name="Group 21"/>
          <p:cNvGrpSpPr/>
          <p:nvPr/>
        </p:nvGrpSpPr>
        <p:grpSpPr>
          <a:xfrm>
            <a:off x="604800" y="619200"/>
            <a:ext cx="4481640" cy="1812960"/>
            <a:chOff x="604800" y="619200"/>
            <a:chExt cx="4481640" cy="1812960"/>
          </a:xfrm>
        </p:grpSpPr>
        <p:sp>
          <p:nvSpPr>
            <p:cNvPr id="438" name="Rectangle 6"/>
            <p:cNvSpPr/>
            <p:nvPr/>
          </p:nvSpPr>
          <p:spPr>
            <a:xfrm>
              <a:off x="1010880" y="619200"/>
              <a:ext cx="53100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宋体"/>
                </a:rPr>
                <a:t>{</a:t>
              </a:r>
              <a:endParaRPr b="0" lang="en-US" sz="72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439" name="Group 20"/>
            <p:cNvGrpSpPr/>
            <p:nvPr/>
          </p:nvGrpSpPr>
          <p:grpSpPr>
            <a:xfrm>
              <a:off x="604800" y="812520"/>
              <a:ext cx="4481640" cy="1619640"/>
              <a:chOff x="604800" y="812520"/>
              <a:chExt cx="4481640" cy="1619640"/>
            </a:xfrm>
          </p:grpSpPr>
          <p:sp>
            <p:nvSpPr>
              <p:cNvPr id="440" name="Rectangle 7"/>
              <p:cNvSpPr/>
              <p:nvPr/>
            </p:nvSpPr>
            <p:spPr>
              <a:xfrm>
                <a:off x="990360" y="1609200"/>
                <a:ext cx="409608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X-1 </a:t>
                </a:r>
                <a:r>
                  <a:rPr b="1" lang="zh-CN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＜</a:t>
                </a: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3- x   </a:t>
                </a:r>
                <a:r>
                  <a:rPr b="1" lang="en-US" sz="24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(2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1" name="Rectangle 8"/>
              <p:cNvSpPr/>
              <p:nvPr/>
            </p:nvSpPr>
            <p:spPr>
              <a:xfrm>
                <a:off x="1317960" y="812520"/>
                <a:ext cx="36583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2x+3 ≥ x+5  </a:t>
                </a:r>
                <a:r>
                  <a:rPr b="1" lang="en-US" sz="2400" spc="-1" strike="noStrike">
                    <a:solidFill>
                      <a:srgbClr val="ffe3e5"/>
                    </a:solidFill>
                    <a:latin typeface="楷体_GB2312"/>
                    <a:ea typeface="楷体_GB2312"/>
                  </a:rPr>
                  <a:t>(1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2" name="Rectangle 9"/>
              <p:cNvSpPr/>
              <p:nvPr/>
            </p:nvSpPr>
            <p:spPr>
              <a:xfrm>
                <a:off x="604800" y="1590120"/>
                <a:ext cx="4489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3e5"/>
                    </a:solidFill>
                    <a:latin typeface="Times New Roman"/>
                  </a:rPr>
                  <a:t>②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552600" y="24922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Times New Roman"/>
              </a:rPr>
              <a:t>解：解不等式①得 </a:t>
            </a: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e3e5"/>
                </a:solidFill>
                <a:latin typeface="楷体_GB2312"/>
                <a:ea typeface="楷体_GB2312"/>
              </a:rPr>
              <a:t>≥</a:t>
            </a:r>
            <a:r>
              <a:rPr b="1" lang="en-US" sz="2400" spc="-1" strike="noStrike">
                <a:solidFill>
                  <a:srgbClr val="ffe3e5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45" name="Group 44"/>
          <p:cNvGrpSpPr/>
          <p:nvPr/>
        </p:nvGrpSpPr>
        <p:grpSpPr>
          <a:xfrm>
            <a:off x="1809720" y="4421160"/>
            <a:ext cx="1830240" cy="493920"/>
            <a:chOff x="1809720" y="4421160"/>
            <a:chExt cx="1830240" cy="493920"/>
          </a:xfrm>
        </p:grpSpPr>
        <p:sp>
          <p:nvSpPr>
            <p:cNvPr id="446" name="Text Box 12"/>
            <p:cNvSpPr/>
            <p:nvPr/>
          </p:nvSpPr>
          <p:spPr>
            <a:xfrm>
              <a:off x="1809720" y="4421160"/>
              <a:ext cx="1830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00"/>
                  </a:solidFill>
                  <a:latin typeface="Times New Roman"/>
                </a:rPr>
                <a:t>━━━━┓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47" name="Oval 19"/>
            <p:cNvSpPr/>
            <p:nvPr/>
          </p:nvSpPr>
          <p:spPr>
            <a:xfrm>
              <a:off x="3257280" y="4781520"/>
              <a:ext cx="132840" cy="133560"/>
            </a:xfrm>
            <a:prstGeom prst="ellipse">
              <a:avLst/>
            </a:prstGeom>
            <a:noFill/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48" name="Text Box 22"/>
          <p:cNvSpPr/>
          <p:nvPr/>
        </p:nvSpPr>
        <p:spPr>
          <a:xfrm>
            <a:off x="1184400" y="3106800"/>
            <a:ext cx="36306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解不等式②得    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＜ </a:t>
            </a:r>
            <a:r>
              <a:rPr b="1" lang="en-US" sz="2400" spc="-1" strike="noStrike">
                <a:solidFill>
                  <a:srgbClr val="ffe3e5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1165320" y="3639960"/>
            <a:ext cx="6011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把不等式①和 ②的解集在数轴上表示出来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835200" y="5732640"/>
            <a:ext cx="76039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从上图中可以找不出两个不等式解集的公共部份，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e3e5"/>
                </a:solidFill>
                <a:latin typeface="Arial"/>
              </a:rPr>
              <a:t>得出不等式组的解集为空集（即不等式无解）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 flipV="1">
            <a:off x="9055080" y="5016240"/>
            <a:ext cx="0" cy="75960"/>
          </a:xfrm>
          <a:prstGeom prst="line">
            <a:avLst/>
          </a:prstGeom>
          <a:ln w="31680">
            <a:solidFill>
              <a:srgbClr val="ffe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 flipV="1">
            <a:off x="9271080" y="5232240"/>
            <a:ext cx="0" cy="76320"/>
          </a:xfrm>
          <a:prstGeom prst="line">
            <a:avLst/>
          </a:prstGeom>
          <a:ln w="31680">
            <a:solidFill>
              <a:srgbClr val="ffe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53" name="Group 41"/>
          <p:cNvGrpSpPr/>
          <p:nvPr/>
        </p:nvGrpSpPr>
        <p:grpSpPr>
          <a:xfrm>
            <a:off x="1314360" y="4755960"/>
            <a:ext cx="5562720" cy="637920"/>
            <a:chOff x="1314360" y="4755960"/>
            <a:chExt cx="5562720" cy="637920"/>
          </a:xfrm>
        </p:grpSpPr>
        <p:sp>
          <p:nvSpPr>
            <p:cNvPr id="454" name="Text Box 26"/>
            <p:cNvSpPr/>
            <p:nvPr/>
          </p:nvSpPr>
          <p:spPr>
            <a:xfrm>
              <a:off x="1637640" y="4814640"/>
              <a:ext cx="501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1    0    1    2    3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     5    6   7   8    9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314360" y="4838400"/>
              <a:ext cx="5562720" cy="1872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287640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379080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333360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59" name="Line 31"/>
            <p:cNvSpPr/>
            <p:nvPr/>
          </p:nvSpPr>
          <p:spPr>
            <a:xfrm>
              <a:off x="200016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0" name="Line 32"/>
            <p:cNvSpPr/>
            <p:nvPr/>
          </p:nvSpPr>
          <p:spPr>
            <a:xfrm>
              <a:off x="243828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1" name="Line 33"/>
            <p:cNvSpPr/>
            <p:nvPr/>
          </p:nvSpPr>
          <p:spPr>
            <a:xfrm flipV="1">
              <a:off x="424800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2" name="Line 34"/>
            <p:cNvSpPr/>
            <p:nvPr/>
          </p:nvSpPr>
          <p:spPr>
            <a:xfrm flipV="1">
              <a:off x="4724280" y="478152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3" name="Line 35"/>
            <p:cNvSpPr/>
            <p:nvPr/>
          </p:nvSpPr>
          <p:spPr>
            <a:xfrm flipV="1">
              <a:off x="5168880" y="4768200"/>
              <a:ext cx="0" cy="7596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4" name="Line 36"/>
            <p:cNvSpPr/>
            <p:nvPr/>
          </p:nvSpPr>
          <p:spPr>
            <a:xfrm flipV="1">
              <a:off x="5594400" y="4755960"/>
              <a:ext cx="0" cy="7596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5" name="Line 37"/>
            <p:cNvSpPr/>
            <p:nvPr/>
          </p:nvSpPr>
          <p:spPr>
            <a:xfrm flipV="1">
              <a:off x="6019560" y="476244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6" name="Line 40"/>
            <p:cNvSpPr/>
            <p:nvPr/>
          </p:nvSpPr>
          <p:spPr>
            <a:xfrm flipV="1">
              <a:off x="6438960" y="4762440"/>
              <a:ext cx="0" cy="75600"/>
            </a:xfrm>
            <a:prstGeom prst="line">
              <a:avLst/>
            </a:prstGeom>
            <a:ln w="31680">
              <a:solidFill>
                <a:srgbClr val="ffe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467" name="Group 43"/>
          <p:cNvGrpSpPr/>
          <p:nvPr/>
        </p:nvGrpSpPr>
        <p:grpSpPr>
          <a:xfrm>
            <a:off x="5753160" y="4405320"/>
            <a:ext cx="2370240" cy="509760"/>
            <a:chOff x="5753160" y="4405320"/>
            <a:chExt cx="2370240" cy="509760"/>
          </a:xfrm>
        </p:grpSpPr>
        <p:sp>
          <p:nvSpPr>
            <p:cNvPr id="468" name="Text Box 18"/>
            <p:cNvSpPr/>
            <p:nvPr/>
          </p:nvSpPr>
          <p:spPr>
            <a:xfrm>
              <a:off x="5753160" y="4405320"/>
              <a:ext cx="2370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┏━━━━━━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469" name="Oval 42"/>
            <p:cNvSpPr/>
            <p:nvPr/>
          </p:nvSpPr>
          <p:spPr>
            <a:xfrm>
              <a:off x="5962680" y="4781520"/>
              <a:ext cx="133200" cy="133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12:18:08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34:33Z</dcterms:modified>
  <cp:revision>118</cp:revision>
  <dc:subject>人教版七年级数学（下）全套课件</dc:subject>
  <dc:title>人教版七年级数学（下）全套课件</dc:title>
</cp:coreProperties>
</file>