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himes.wav" ContentType="audio/x-wav"/>
  <Override PartName="/ppt/media/image1.wmf" ContentType="image/x-wmf"/>
  <Override PartName="/ppt/media/TRIANGL2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22C-6756-462D-97D8-138C4DAE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2EB-1E36-425E-9BB1-54EAFC12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897-A8CB-482E-A090-135C3827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93C-159C-4819-8E2F-879668FA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D765-56A8-4CFA-AFC7-620F87FD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C4F5-B336-4B7B-9B9C-D5B2B367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7D25-03D3-4BA0-9E38-D6976E9F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2F4A-A67F-444D-BBFB-E7B47D22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3FDB-C296-4273-A84C-F5C78A94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D651-53CB-4C22-9E4F-9046D02E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9098-6F33-4F0D-B5CF-F201E348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8B2-0D0B-44E7-887E-2EEE5596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92A4-AE81-49FA-B325-A557F9A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4634-BDAE-4321-A595-0033FEA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7336-175F-42F5-BD3A-05F789E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68A0-76AC-4A26-8C0E-93E1AACA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D2CE-3D0E-4B5B-9B18-B2665964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81F0-C91A-4ACA-A826-F6C48166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921C3-86CB-4A7C-8FFB-DE0A4967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ADBF-B23A-4DFC-BF45-3A7C5C0F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ECD9-A132-4AA2-B1E4-1E2EBA8F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04C3D-B08E-47B0-B8BC-C093A474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6C6-7BF2-4596-9D20-F78FE788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B8B0-7383-4CFA-8C27-471F1428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4C90-8EF7-4AA1-A3F3-6C48FF55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0511-0B1A-4BE1-90D0-5CE8D687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8B30-839A-4C32-9A58-1AA457E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52B0-7DEA-4E95-B360-F122AB93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EADB-D5D5-437B-9B99-C736D2BD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D74E-60D4-4B35-A1E2-BD628872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084-B5E2-402E-AE27-76FEC51E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56E-9457-4E81-B1F5-7B9BB1AD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8E3-EDB4-47B6-8C05-864B6127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755-C2A6-4297-98AA-4BDF529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CB7-EF79-4B44-89A7-8360078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829-2207-43DB-8414-F71C0C21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8CE0-F59E-47B9-884B-0EBD92402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5292-D46B-43FF-AC04-610C7821E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7191-2CD1-43A4-AF7F-CA67BFE86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T4.WAV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22016;.wav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T4.WAV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22016;.wav" TargetMode="External"/><Relationship Id="rId2" Type="http://schemas.openxmlformats.org/officeDocument/2006/relationships/hyperlink" Target="file:///tmp/home/.config/libreoffice/4/user/gallery/LAST4.WAV" TargetMode="Externa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22016;.wav" TargetMode="External"/><Relationship Id="rId2" Type="http://schemas.openxmlformats.org/officeDocument/2006/relationships/hyperlink" Target="file:///tmp/home/.config/libreoffice/4/user/gallery/LAST4.WAV" TargetMode="External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T4.WAV" TargetMode="External"/><Relationship Id="rId2" Type="http://schemas.openxmlformats.org/officeDocument/2006/relationships/hyperlink" Target="file:///tmp/home/.config/libreoffice/4/user/gallery/LAST4.WAV" TargetMode="Externa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T4.WAV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tmp/home/.config/libreoffice/4/user/gallery/LAST4.WAV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tmp/home/.config/libreoffice/4/user/gallery/LAST4.WAV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tmp/home/.config/libreoffice/4/user/gallery/LAST4.WAV" TargetMode="External"/><Relationship Id="rId3" Type="http://schemas.openxmlformats.org/officeDocument/2006/relationships/audio" Target="../media/TRIANGL2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T4.WAV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T4.WAV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T4.WAV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0">
            <a:hlinkClick r:id="rId1" action="ppaction://hlinksldjump"/>
          </p:cNvPr>
          <p:cNvSpPr/>
          <p:nvPr/>
        </p:nvSpPr>
        <p:spPr>
          <a:xfrm>
            <a:off x="380880" y="1295280"/>
            <a:ext cx="1600200" cy="459720"/>
          </a:xfrm>
          <a:prstGeom prst="rect">
            <a:avLst/>
          </a:prstGeom>
          <a:gradFill rotWithShape="0">
            <a:gsLst>
              <a:gs pos="0">
                <a:srgbClr val="2f7618"/>
              </a:gs>
              <a:gs pos="50000">
                <a:srgbClr val="66ff33"/>
              </a:gs>
              <a:gs pos="100000">
                <a:srgbClr val="2f7618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试一试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600200" y="161604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果两条直线平行，那么这两条平行线被第三条直线所截而成的同位角会有什么关系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743200" y="0"/>
            <a:ext cx="3886200" cy="581400"/>
          </a:xfrm>
          <a:prstGeom prst="rect">
            <a:avLst/>
          </a:prstGeom>
          <a:gradFill rotWithShape="0">
            <a:gsLst>
              <a:gs pos="0">
                <a:srgbClr val="171008"/>
              </a:gs>
              <a:gs pos="50000">
                <a:srgbClr val="996633"/>
              </a:gs>
              <a:gs pos="100000">
                <a:srgbClr val="171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平行线的性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24"/>
          <p:cNvSpPr/>
          <p:nvPr/>
        </p:nvSpPr>
        <p:spPr>
          <a:xfrm>
            <a:off x="2819520" y="3581280"/>
            <a:ext cx="373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2819520" y="5181480"/>
            <a:ext cx="396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26"/>
          <p:cNvSpPr/>
          <p:nvPr/>
        </p:nvSpPr>
        <p:spPr>
          <a:xfrm flipH="1">
            <a:off x="3352320" y="2895480"/>
            <a:ext cx="213372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66294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6858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56386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51832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41166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49528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3886200" y="51814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4724280" y="3200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3733920" y="4800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3505320" y="5105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7"/>
          <p:cNvSpPr/>
          <p:nvPr/>
        </p:nvSpPr>
        <p:spPr>
          <a:xfrm>
            <a:off x="4572000" y="3581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1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42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>
            <a:hlinkClick r:id="rId1"/>
          </p:cNvPr>
          <p:cNvSpPr/>
          <p:nvPr/>
        </p:nvSpPr>
        <p:spPr>
          <a:xfrm>
            <a:off x="609480" y="1447920"/>
            <a:ext cx="83844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例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523880" y="11430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如图，是有梯形上底的一部分，已经量得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=1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=10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梯形另外两个角各是多少度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Group 7"/>
          <p:cNvGrpSpPr/>
          <p:nvPr/>
        </p:nvGrpSpPr>
        <p:grpSpPr>
          <a:xfrm>
            <a:off x="6172200" y="1262160"/>
            <a:ext cx="2361960" cy="1940760"/>
            <a:chOff x="6172200" y="1262160"/>
            <a:chExt cx="2361960" cy="1940760"/>
          </a:xfrm>
        </p:grpSpPr>
        <p:grpSp>
          <p:nvGrpSpPr>
            <p:cNvPr id="308" name="Group 8"/>
            <p:cNvGrpSpPr/>
            <p:nvPr/>
          </p:nvGrpSpPr>
          <p:grpSpPr>
            <a:xfrm>
              <a:off x="6310800" y="1614600"/>
              <a:ext cx="2153880" cy="1199160"/>
              <a:chOff x="6310800" y="1614600"/>
              <a:chExt cx="2153880" cy="1199160"/>
            </a:xfrm>
          </p:grpSpPr>
          <p:sp>
            <p:nvSpPr>
              <p:cNvPr id="309" name="Line 9"/>
              <p:cNvSpPr/>
              <p:nvPr/>
            </p:nvSpPr>
            <p:spPr>
              <a:xfrm>
                <a:off x="6909120" y="1614600"/>
                <a:ext cx="9572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Line 10"/>
              <p:cNvSpPr/>
              <p:nvPr/>
            </p:nvSpPr>
            <p:spPr>
              <a:xfrm>
                <a:off x="6311160" y="2813760"/>
                <a:ext cx="215352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11"/>
              <p:cNvSpPr/>
              <p:nvPr/>
            </p:nvSpPr>
            <p:spPr>
              <a:xfrm flipH="1">
                <a:off x="6632280" y="1614600"/>
                <a:ext cx="276480" cy="5328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Line 12"/>
              <p:cNvSpPr/>
              <p:nvPr/>
            </p:nvSpPr>
            <p:spPr>
              <a:xfrm>
                <a:off x="7866360" y="1614600"/>
                <a:ext cx="298800" cy="66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13" name="AutoShape 13"/>
              <p:cNvCxnSpPr>
                <a:endCxn id="312" idx="0"/>
              </p:cNvCxnSpPr>
              <p:nvPr/>
            </p:nvCxnSpPr>
            <p:spPr>
              <a:xfrm>
                <a:off x="6669720" y="2147400"/>
                <a:ext cx="1495800" cy="150480"/>
              </a:xfrm>
              <a:prstGeom prst="curvedConnector5">
                <a:avLst>
                  <a:gd name="adj1" fmla="val 39985"/>
                  <a:gd name="adj2" fmla="val 111031"/>
                  <a:gd name="adj3" fmla="val 39985"/>
                </a:avLst>
              </a:prstGeom>
              <a:ln w="38160">
                <a:solidFill>
                  <a:srgbClr val="ff00ff"/>
                </a:solidFill>
                <a:miter/>
              </a:ln>
            </p:spPr>
          </p:cxnSp>
          <p:sp>
            <p:nvSpPr>
              <p:cNvPr id="314" name="Line 14"/>
              <p:cNvSpPr/>
              <p:nvPr/>
            </p:nvSpPr>
            <p:spPr>
              <a:xfrm flipH="1">
                <a:off x="6310800" y="1614600"/>
                <a:ext cx="597960" cy="119916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Line 15"/>
              <p:cNvSpPr/>
              <p:nvPr/>
            </p:nvSpPr>
            <p:spPr>
              <a:xfrm>
                <a:off x="7866360" y="1614600"/>
                <a:ext cx="538200" cy="119916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16"/>
            <p:cNvSpPr/>
            <p:nvPr/>
          </p:nvSpPr>
          <p:spPr>
            <a:xfrm>
              <a:off x="7770240" y="1262160"/>
              <a:ext cx="34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8187120" y="2743200"/>
              <a:ext cx="34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6172200" y="2743200"/>
              <a:ext cx="3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6658560" y="1262160"/>
              <a:ext cx="34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AutoShape 26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27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523880" y="11430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如图，是有梯形上底的一部分，已经量得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=1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=10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梯形另外两个角各是多少度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600200" y="2743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∥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梯形定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52388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+∠B=18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Group 5"/>
          <p:cNvGrpSpPr/>
          <p:nvPr/>
        </p:nvGrpSpPr>
        <p:grpSpPr>
          <a:xfrm>
            <a:off x="6172200" y="1262160"/>
            <a:ext cx="2361960" cy="1940760"/>
            <a:chOff x="6172200" y="1262160"/>
            <a:chExt cx="2361960" cy="1940760"/>
          </a:xfrm>
        </p:grpSpPr>
        <p:grpSp>
          <p:nvGrpSpPr>
            <p:cNvPr id="326" name="Group 6"/>
            <p:cNvGrpSpPr/>
            <p:nvPr/>
          </p:nvGrpSpPr>
          <p:grpSpPr>
            <a:xfrm>
              <a:off x="6310800" y="1614600"/>
              <a:ext cx="2153880" cy="1199160"/>
              <a:chOff x="6310800" y="1614600"/>
              <a:chExt cx="2153880" cy="1199160"/>
            </a:xfrm>
          </p:grpSpPr>
          <p:sp>
            <p:nvSpPr>
              <p:cNvPr id="327" name="Line 7"/>
              <p:cNvSpPr/>
              <p:nvPr/>
            </p:nvSpPr>
            <p:spPr>
              <a:xfrm>
                <a:off x="6909120" y="1614600"/>
                <a:ext cx="9572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Line 8"/>
              <p:cNvSpPr/>
              <p:nvPr/>
            </p:nvSpPr>
            <p:spPr>
              <a:xfrm>
                <a:off x="6311160" y="2813760"/>
                <a:ext cx="215352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9"/>
              <p:cNvSpPr/>
              <p:nvPr/>
            </p:nvSpPr>
            <p:spPr>
              <a:xfrm flipH="1">
                <a:off x="6632280" y="1614600"/>
                <a:ext cx="276480" cy="5328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Line 10"/>
              <p:cNvSpPr/>
              <p:nvPr/>
            </p:nvSpPr>
            <p:spPr>
              <a:xfrm>
                <a:off x="7866360" y="1614600"/>
                <a:ext cx="298800" cy="66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31" name="AutoShape 11"/>
              <p:cNvCxnSpPr>
                <a:endCxn id="330" idx="0"/>
              </p:cNvCxnSpPr>
              <p:nvPr/>
            </p:nvCxnSpPr>
            <p:spPr>
              <a:xfrm>
                <a:off x="6669720" y="2147400"/>
                <a:ext cx="1495800" cy="150480"/>
              </a:xfrm>
              <a:prstGeom prst="curvedConnector5">
                <a:avLst>
                  <a:gd name="adj1" fmla="val 39985"/>
                  <a:gd name="adj2" fmla="val 111031"/>
                  <a:gd name="adj3" fmla="val 39985"/>
                </a:avLst>
              </a:prstGeom>
              <a:ln w="38160">
                <a:solidFill>
                  <a:srgbClr val="ff00ff"/>
                </a:solidFill>
                <a:miter/>
              </a:ln>
            </p:spPr>
          </p:cxnSp>
          <p:sp>
            <p:nvSpPr>
              <p:cNvPr id="332" name="Line 12"/>
              <p:cNvSpPr/>
              <p:nvPr/>
            </p:nvSpPr>
            <p:spPr>
              <a:xfrm flipH="1">
                <a:off x="6310800" y="1614600"/>
                <a:ext cx="597960" cy="119916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Line 13"/>
              <p:cNvSpPr/>
              <p:nvPr/>
            </p:nvSpPr>
            <p:spPr>
              <a:xfrm>
                <a:off x="7866360" y="1614600"/>
                <a:ext cx="538200" cy="119916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4" name="Text Box 14"/>
            <p:cNvSpPr/>
            <p:nvPr/>
          </p:nvSpPr>
          <p:spPr>
            <a:xfrm>
              <a:off x="7770240" y="1262160"/>
              <a:ext cx="34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Text Box 15"/>
            <p:cNvSpPr/>
            <p:nvPr/>
          </p:nvSpPr>
          <p:spPr>
            <a:xfrm>
              <a:off x="8187120" y="2743200"/>
              <a:ext cx="34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16"/>
            <p:cNvSpPr/>
            <p:nvPr/>
          </p:nvSpPr>
          <p:spPr>
            <a:xfrm>
              <a:off x="6172200" y="2743200"/>
              <a:ext cx="3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Text Box 17"/>
            <p:cNvSpPr/>
            <p:nvPr/>
          </p:nvSpPr>
          <p:spPr>
            <a:xfrm>
              <a:off x="6658560" y="1262160"/>
              <a:ext cx="34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 Box 25">
            <a:hlinkClick r:id="" action="ppaction://hlinkshowjump?jump=nextslide"/>
            <a:hlinkClick r:id="rId1"/>
          </p:cNvPr>
          <p:cNvSpPr/>
          <p:nvPr/>
        </p:nvSpPr>
        <p:spPr>
          <a:xfrm>
            <a:off x="457200" y="2514600"/>
            <a:ext cx="838080" cy="398880"/>
          </a:xfrm>
          <a:prstGeom prst="rect">
            <a:avLst/>
          </a:prstGeom>
          <a:gradFill rotWithShape="0">
            <a:gsLst>
              <a:gs pos="0">
                <a:srgbClr val="2f7618"/>
              </a:gs>
              <a:gs pos="50000">
                <a:srgbClr val="66ff33"/>
              </a:gs>
              <a:gs pos="100000">
                <a:srgbClr val="2f7618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解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AutoShape 28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29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523880" y="11430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如图，是有梯形上底的一部分，已经量得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=1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=10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梯形另外两个角各是多少度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600200" y="2743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∥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梯形定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52388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+∠B=18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733920" y="3200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两直线平行，同旁内角互补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6172200" y="1262160"/>
            <a:ext cx="2361960" cy="1940760"/>
            <a:chOff x="6172200" y="1262160"/>
            <a:chExt cx="2361960" cy="1940760"/>
          </a:xfrm>
        </p:grpSpPr>
        <p:grpSp>
          <p:nvGrpSpPr>
            <p:cNvPr id="346" name="Group 7"/>
            <p:cNvGrpSpPr/>
            <p:nvPr/>
          </p:nvGrpSpPr>
          <p:grpSpPr>
            <a:xfrm>
              <a:off x="6310800" y="1614600"/>
              <a:ext cx="2153880" cy="1199160"/>
              <a:chOff x="6310800" y="1614600"/>
              <a:chExt cx="2153880" cy="1199160"/>
            </a:xfrm>
          </p:grpSpPr>
          <p:sp>
            <p:nvSpPr>
              <p:cNvPr id="347" name="Line 8"/>
              <p:cNvSpPr/>
              <p:nvPr/>
            </p:nvSpPr>
            <p:spPr>
              <a:xfrm>
                <a:off x="6909120" y="1614600"/>
                <a:ext cx="9572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Line 9"/>
              <p:cNvSpPr/>
              <p:nvPr/>
            </p:nvSpPr>
            <p:spPr>
              <a:xfrm>
                <a:off x="6311160" y="2813760"/>
                <a:ext cx="215352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Line 10"/>
              <p:cNvSpPr/>
              <p:nvPr/>
            </p:nvSpPr>
            <p:spPr>
              <a:xfrm flipH="1">
                <a:off x="6632280" y="1614600"/>
                <a:ext cx="276480" cy="5328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Line 11"/>
              <p:cNvSpPr/>
              <p:nvPr/>
            </p:nvSpPr>
            <p:spPr>
              <a:xfrm>
                <a:off x="7866360" y="1614600"/>
                <a:ext cx="298800" cy="66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AutoShape 12"/>
              <p:cNvCxnSpPr>
                <a:endCxn id="350" idx="0"/>
              </p:cNvCxnSpPr>
              <p:nvPr/>
            </p:nvCxnSpPr>
            <p:spPr>
              <a:xfrm>
                <a:off x="6669720" y="2147400"/>
                <a:ext cx="1495800" cy="150480"/>
              </a:xfrm>
              <a:prstGeom prst="curvedConnector5">
                <a:avLst>
                  <a:gd name="adj1" fmla="val 39985"/>
                  <a:gd name="adj2" fmla="val 111031"/>
                  <a:gd name="adj3" fmla="val 39985"/>
                </a:avLst>
              </a:prstGeom>
              <a:ln w="38160">
                <a:solidFill>
                  <a:srgbClr val="ff00ff"/>
                </a:solidFill>
                <a:miter/>
              </a:ln>
            </p:spPr>
          </p:cxnSp>
          <p:sp>
            <p:nvSpPr>
              <p:cNvPr id="352" name="Line 13"/>
              <p:cNvSpPr/>
              <p:nvPr/>
            </p:nvSpPr>
            <p:spPr>
              <a:xfrm flipH="1">
                <a:off x="6310800" y="1614600"/>
                <a:ext cx="597960" cy="119916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Line 14"/>
              <p:cNvSpPr/>
              <p:nvPr/>
            </p:nvSpPr>
            <p:spPr>
              <a:xfrm>
                <a:off x="7866360" y="1614600"/>
                <a:ext cx="538200" cy="119916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Text Box 15"/>
            <p:cNvSpPr/>
            <p:nvPr/>
          </p:nvSpPr>
          <p:spPr>
            <a:xfrm>
              <a:off x="7770240" y="1262160"/>
              <a:ext cx="34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6"/>
            <p:cNvSpPr/>
            <p:nvPr/>
          </p:nvSpPr>
          <p:spPr>
            <a:xfrm>
              <a:off x="8187120" y="2743200"/>
              <a:ext cx="34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 Box 17"/>
            <p:cNvSpPr/>
            <p:nvPr/>
          </p:nvSpPr>
          <p:spPr>
            <a:xfrm>
              <a:off x="6172200" y="2743200"/>
              <a:ext cx="3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Text Box 18"/>
            <p:cNvSpPr/>
            <p:nvPr/>
          </p:nvSpPr>
          <p:spPr>
            <a:xfrm>
              <a:off x="6658560" y="1262160"/>
              <a:ext cx="34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AutoShape 29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AutoShape 30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1828800" y="14032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平行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被直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所截，已知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=1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则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别是多少度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6">
            <a:hlinkClick r:id="rId1"/>
          </p:cNvPr>
          <p:cNvSpPr/>
          <p:nvPr/>
        </p:nvSpPr>
        <p:spPr>
          <a:xfrm>
            <a:off x="685800" y="1066680"/>
            <a:ext cx="83808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4114440" y="2438280"/>
            <a:ext cx="3580920" cy="2493360"/>
            <a:chOff x="4114440" y="2438280"/>
            <a:chExt cx="3580920" cy="2493360"/>
          </a:xfrm>
        </p:grpSpPr>
        <p:grpSp>
          <p:nvGrpSpPr>
            <p:cNvPr id="363" name="Group 8"/>
            <p:cNvGrpSpPr/>
            <p:nvPr/>
          </p:nvGrpSpPr>
          <p:grpSpPr>
            <a:xfrm>
              <a:off x="4114440" y="2742840"/>
              <a:ext cx="3021480" cy="1993680"/>
              <a:chOff x="4114440" y="2742840"/>
              <a:chExt cx="3021480" cy="1993680"/>
            </a:xfrm>
          </p:grpSpPr>
          <p:sp>
            <p:nvSpPr>
              <p:cNvPr id="364" name="Line 9"/>
              <p:cNvSpPr/>
              <p:nvPr/>
            </p:nvSpPr>
            <p:spPr>
              <a:xfrm>
                <a:off x="4786200" y="3321720"/>
                <a:ext cx="2349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Line 10"/>
              <p:cNvSpPr/>
              <p:nvPr/>
            </p:nvSpPr>
            <p:spPr>
              <a:xfrm flipH="1">
                <a:off x="4114440" y="3321720"/>
                <a:ext cx="671400" cy="132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Line 11"/>
              <p:cNvSpPr/>
              <p:nvPr/>
            </p:nvSpPr>
            <p:spPr>
              <a:xfrm flipH="1">
                <a:off x="5680800" y="2880000"/>
                <a:ext cx="1006920" cy="18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Text Box 12"/>
              <p:cNvSpPr/>
              <p:nvPr/>
            </p:nvSpPr>
            <p:spPr>
              <a:xfrm rot="13731000">
                <a:off x="4501080" y="3284280"/>
                <a:ext cx="61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Text Box 13"/>
              <p:cNvSpPr/>
              <p:nvPr/>
            </p:nvSpPr>
            <p:spPr>
              <a:xfrm rot="13731000">
                <a:off x="6181200" y="3282480"/>
                <a:ext cx="6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Text Box 14"/>
              <p:cNvSpPr/>
              <p:nvPr/>
            </p:nvSpPr>
            <p:spPr>
              <a:xfrm flipH="1" flipV="1" rot="13731000">
                <a:off x="6122880" y="2896920"/>
                <a:ext cx="6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Text Box 15"/>
              <p:cNvSpPr/>
              <p:nvPr/>
            </p:nvSpPr>
            <p:spPr>
              <a:xfrm flipV="1" rot="8695800">
                <a:off x="5712480" y="3195360"/>
                <a:ext cx="78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5681160" y="3322080"/>
              <a:ext cx="55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6464880" y="34106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5905440" y="2791440"/>
              <a:ext cx="5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Text Box 19"/>
            <p:cNvSpPr/>
            <p:nvPr/>
          </p:nvSpPr>
          <p:spPr>
            <a:xfrm>
              <a:off x="4673880" y="341064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Text Box 20"/>
            <p:cNvSpPr/>
            <p:nvPr/>
          </p:nvSpPr>
          <p:spPr>
            <a:xfrm>
              <a:off x="5793480" y="44719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21"/>
            <p:cNvSpPr/>
            <p:nvPr/>
          </p:nvSpPr>
          <p:spPr>
            <a:xfrm>
              <a:off x="6576840" y="243828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Text Box 22"/>
            <p:cNvSpPr/>
            <p:nvPr/>
          </p:nvSpPr>
          <p:spPr>
            <a:xfrm>
              <a:off x="4114800" y="4471920"/>
              <a:ext cx="5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23"/>
            <p:cNvSpPr/>
            <p:nvPr/>
          </p:nvSpPr>
          <p:spPr>
            <a:xfrm>
              <a:off x="4226760" y="2880000"/>
              <a:ext cx="5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Text Box 24"/>
            <p:cNvSpPr/>
            <p:nvPr/>
          </p:nvSpPr>
          <p:spPr>
            <a:xfrm>
              <a:off x="7136280" y="3056760"/>
              <a:ext cx="5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AutoShape 28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29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>
            <a:hlinkClick r:id="" action="ppaction://hlinkshowjump?jump=nextslide"/>
            <a:hlinkClick r:id="rId1"/>
          </p:cNvPr>
          <p:cNvSpPr/>
          <p:nvPr/>
        </p:nvSpPr>
        <p:spPr>
          <a:xfrm>
            <a:off x="609480" y="3552840"/>
            <a:ext cx="838440" cy="398880"/>
          </a:xfrm>
          <a:prstGeom prst="rect">
            <a:avLst/>
          </a:prstGeom>
          <a:gradFill rotWithShape="0">
            <a:gsLst>
              <a:gs pos="0">
                <a:srgbClr val="2f7618"/>
              </a:gs>
              <a:gs pos="50000">
                <a:srgbClr val="66ff33"/>
              </a:gs>
              <a:gs pos="100000">
                <a:srgbClr val="2f7618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解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1066680" y="1511280"/>
            <a:ext cx="6705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已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一点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一点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E=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=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D=4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平行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多少度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5791320" y="1981080"/>
            <a:ext cx="2743200" cy="1983600"/>
            <a:chOff x="5791320" y="1981080"/>
            <a:chExt cx="2743200" cy="1983600"/>
          </a:xfrm>
        </p:grpSpPr>
        <p:grpSp>
          <p:nvGrpSpPr>
            <p:cNvPr id="385" name="Group 5"/>
            <p:cNvGrpSpPr/>
            <p:nvPr/>
          </p:nvGrpSpPr>
          <p:grpSpPr>
            <a:xfrm>
              <a:off x="5867280" y="2361960"/>
              <a:ext cx="2532240" cy="1219320"/>
              <a:chOff x="5867280" y="2361960"/>
              <a:chExt cx="2532240" cy="1219320"/>
            </a:xfrm>
          </p:grpSpPr>
          <p:sp>
            <p:nvSpPr>
              <p:cNvPr id="386" name="Line 6"/>
              <p:cNvSpPr/>
              <p:nvPr/>
            </p:nvSpPr>
            <p:spPr>
              <a:xfrm flipH="1">
                <a:off x="5867280" y="2361960"/>
                <a:ext cx="703440" cy="121932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Line 7"/>
              <p:cNvSpPr/>
              <p:nvPr/>
            </p:nvSpPr>
            <p:spPr>
              <a:xfrm>
                <a:off x="6570720" y="2361960"/>
                <a:ext cx="1828800" cy="121932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Line 8"/>
              <p:cNvSpPr/>
              <p:nvPr/>
            </p:nvSpPr>
            <p:spPr>
              <a:xfrm>
                <a:off x="5884920" y="3581280"/>
                <a:ext cx="2514600" cy="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Line 9"/>
              <p:cNvSpPr/>
              <p:nvPr/>
            </p:nvSpPr>
            <p:spPr>
              <a:xfrm>
                <a:off x="6189480" y="3047760"/>
                <a:ext cx="1371600" cy="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10"/>
            <p:cNvSpPr/>
            <p:nvPr/>
          </p:nvSpPr>
          <p:spPr>
            <a:xfrm>
              <a:off x="762012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Text Box 11"/>
            <p:cNvSpPr/>
            <p:nvPr/>
          </p:nvSpPr>
          <p:spPr>
            <a:xfrm>
              <a:off x="5791320" y="2819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12"/>
            <p:cNvSpPr/>
            <p:nvPr/>
          </p:nvSpPr>
          <p:spPr>
            <a:xfrm>
              <a:off x="8153280" y="3504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Text Box 13"/>
            <p:cNvSpPr/>
            <p:nvPr/>
          </p:nvSpPr>
          <p:spPr>
            <a:xfrm>
              <a:off x="5791320" y="3504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Text Box 14"/>
            <p:cNvSpPr/>
            <p:nvPr/>
          </p:nvSpPr>
          <p:spPr>
            <a:xfrm>
              <a:off x="6324480" y="1981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Text Box 20">
            <a:hlinkClick r:id="rId2"/>
          </p:cNvPr>
          <p:cNvSpPr/>
          <p:nvPr/>
        </p:nvSpPr>
        <p:spPr>
          <a:xfrm>
            <a:off x="609480" y="1447920"/>
            <a:ext cx="83844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21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AutoShape 22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1295280" y="364320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∵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E=∠B=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∥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同位角相等，两直线平行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6">
            <a:hlinkClick r:id="" action="ppaction://hlinkshowjump?jump=nextslide"/>
            <a:hlinkClick r:id="rId1"/>
          </p:cNvPr>
          <p:cNvSpPr/>
          <p:nvPr/>
        </p:nvSpPr>
        <p:spPr>
          <a:xfrm>
            <a:off x="609480" y="3552840"/>
            <a:ext cx="838440" cy="398880"/>
          </a:xfrm>
          <a:prstGeom prst="rect">
            <a:avLst/>
          </a:prstGeom>
          <a:gradFill rotWithShape="0">
            <a:gsLst>
              <a:gs pos="0">
                <a:srgbClr val="2f7618"/>
              </a:gs>
              <a:gs pos="50000">
                <a:srgbClr val="66ff33"/>
              </a:gs>
              <a:gs pos="100000">
                <a:srgbClr val="2f7618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解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066680" y="1511280"/>
            <a:ext cx="6705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已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一点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一点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E=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=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D=4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平行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多少度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Group 8"/>
          <p:cNvGrpSpPr/>
          <p:nvPr/>
        </p:nvGrpSpPr>
        <p:grpSpPr>
          <a:xfrm>
            <a:off x="5791320" y="1981080"/>
            <a:ext cx="2743200" cy="1983600"/>
            <a:chOff x="5791320" y="1981080"/>
            <a:chExt cx="2743200" cy="1983600"/>
          </a:xfrm>
        </p:grpSpPr>
        <p:grpSp>
          <p:nvGrpSpPr>
            <p:cNvPr id="402" name="Group 9"/>
            <p:cNvGrpSpPr/>
            <p:nvPr/>
          </p:nvGrpSpPr>
          <p:grpSpPr>
            <a:xfrm>
              <a:off x="5867280" y="2361960"/>
              <a:ext cx="2532240" cy="1219320"/>
              <a:chOff x="5867280" y="2361960"/>
              <a:chExt cx="2532240" cy="1219320"/>
            </a:xfrm>
          </p:grpSpPr>
          <p:sp>
            <p:nvSpPr>
              <p:cNvPr id="403" name="Line 10"/>
              <p:cNvSpPr/>
              <p:nvPr/>
            </p:nvSpPr>
            <p:spPr>
              <a:xfrm flipH="1">
                <a:off x="5867280" y="2361960"/>
                <a:ext cx="703440" cy="121932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Line 11"/>
              <p:cNvSpPr/>
              <p:nvPr/>
            </p:nvSpPr>
            <p:spPr>
              <a:xfrm>
                <a:off x="6570720" y="2361960"/>
                <a:ext cx="1828800" cy="121932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Line 12"/>
              <p:cNvSpPr/>
              <p:nvPr/>
            </p:nvSpPr>
            <p:spPr>
              <a:xfrm>
                <a:off x="5884920" y="3581280"/>
                <a:ext cx="2514600" cy="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Line 13"/>
              <p:cNvSpPr/>
              <p:nvPr/>
            </p:nvSpPr>
            <p:spPr>
              <a:xfrm>
                <a:off x="6189480" y="3047760"/>
                <a:ext cx="1371600" cy="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7" name="Text Box 14"/>
            <p:cNvSpPr/>
            <p:nvPr/>
          </p:nvSpPr>
          <p:spPr>
            <a:xfrm>
              <a:off x="762012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5791320" y="2819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153280" y="3504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5791320" y="3504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6324480" y="1981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Text Box 21">
            <a:hlinkClick r:id="rId2"/>
          </p:cNvPr>
          <p:cNvSpPr/>
          <p:nvPr/>
        </p:nvSpPr>
        <p:spPr>
          <a:xfrm>
            <a:off x="609480" y="1447920"/>
            <a:ext cx="83844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AutoShape 22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AutoShape 23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295280" y="364320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∵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E=∠B=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∥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同位角相等，两直线平行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295280" y="493884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∥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已证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=∠AED=4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两直线平行，同位角相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7">
            <a:hlinkClick r:id="rId1"/>
          </p:cNvPr>
          <p:cNvSpPr/>
          <p:nvPr/>
        </p:nvSpPr>
        <p:spPr>
          <a:xfrm>
            <a:off x="609480" y="3552840"/>
            <a:ext cx="83844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解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1066680" y="1511280"/>
            <a:ext cx="6705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已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一点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一点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E=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=6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D=4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平行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多少度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" name="Group 9"/>
          <p:cNvGrpSpPr/>
          <p:nvPr/>
        </p:nvGrpSpPr>
        <p:grpSpPr>
          <a:xfrm>
            <a:off x="5791320" y="1981080"/>
            <a:ext cx="2743200" cy="1983600"/>
            <a:chOff x="5791320" y="1981080"/>
            <a:chExt cx="2743200" cy="1983600"/>
          </a:xfrm>
        </p:grpSpPr>
        <p:grpSp>
          <p:nvGrpSpPr>
            <p:cNvPr id="420" name="Group 10"/>
            <p:cNvGrpSpPr/>
            <p:nvPr/>
          </p:nvGrpSpPr>
          <p:grpSpPr>
            <a:xfrm>
              <a:off x="5867280" y="2361960"/>
              <a:ext cx="2532240" cy="1219320"/>
              <a:chOff x="5867280" y="2361960"/>
              <a:chExt cx="2532240" cy="1219320"/>
            </a:xfrm>
          </p:grpSpPr>
          <p:sp>
            <p:nvSpPr>
              <p:cNvPr id="421" name="Line 11"/>
              <p:cNvSpPr/>
              <p:nvPr/>
            </p:nvSpPr>
            <p:spPr>
              <a:xfrm flipH="1">
                <a:off x="5867280" y="2361960"/>
                <a:ext cx="703440" cy="121932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Line 12"/>
              <p:cNvSpPr/>
              <p:nvPr/>
            </p:nvSpPr>
            <p:spPr>
              <a:xfrm>
                <a:off x="6570720" y="2361960"/>
                <a:ext cx="1828800" cy="121932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Line 13"/>
              <p:cNvSpPr/>
              <p:nvPr/>
            </p:nvSpPr>
            <p:spPr>
              <a:xfrm>
                <a:off x="5884920" y="3581280"/>
                <a:ext cx="2514600" cy="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Line 14"/>
              <p:cNvSpPr/>
              <p:nvPr/>
            </p:nvSpPr>
            <p:spPr>
              <a:xfrm>
                <a:off x="6189480" y="3047760"/>
                <a:ext cx="1371600" cy="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5" name="Text Box 15"/>
            <p:cNvSpPr/>
            <p:nvPr/>
          </p:nvSpPr>
          <p:spPr>
            <a:xfrm>
              <a:off x="762012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5791320" y="2819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Text Box 17"/>
            <p:cNvSpPr/>
            <p:nvPr/>
          </p:nvSpPr>
          <p:spPr>
            <a:xfrm>
              <a:off x="8153280" y="3504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Text Box 18"/>
            <p:cNvSpPr/>
            <p:nvPr/>
          </p:nvSpPr>
          <p:spPr>
            <a:xfrm>
              <a:off x="5791320" y="3504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Text Box 19"/>
            <p:cNvSpPr/>
            <p:nvPr/>
          </p:nvSpPr>
          <p:spPr>
            <a:xfrm>
              <a:off x="6324480" y="1981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Text Box 22">
            <a:hlinkClick r:id="rId2"/>
          </p:cNvPr>
          <p:cNvSpPr/>
          <p:nvPr/>
        </p:nvSpPr>
        <p:spPr>
          <a:xfrm>
            <a:off x="609480" y="1447920"/>
            <a:ext cx="83844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23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24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AutoShape 2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utoShape 3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447920" y="1523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22860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平行线的第一个性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（公理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条平行线被第三条直线所截，同位角相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9">
            <a:hlinkClick r:id="rId1" action="ppaction://hlinksldjump"/>
          </p:cNvPr>
          <p:cNvSpPr/>
          <p:nvPr/>
        </p:nvSpPr>
        <p:spPr>
          <a:xfrm>
            <a:off x="914400" y="3505320"/>
            <a:ext cx="2362320" cy="398880"/>
          </a:xfrm>
          <a:prstGeom prst="rect">
            <a:avLst/>
          </a:prstGeom>
          <a:gradFill rotWithShape="0">
            <a:gsLst>
              <a:gs pos="0">
                <a:srgbClr val="2f7618"/>
              </a:gs>
              <a:gs pos="50000">
                <a:srgbClr val="66ff33"/>
              </a:gs>
              <a:gs pos="100000">
                <a:srgbClr val="2f7618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用数学式子表示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304920" y="1676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简记：两直线平，同位角相 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4419720" y="16002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4191120" y="327672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838188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8381880" y="3048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2"/>
          <p:cNvSpPr/>
          <p:nvPr/>
        </p:nvSpPr>
        <p:spPr>
          <a:xfrm flipH="1">
            <a:off x="5105520" y="838080"/>
            <a:ext cx="2286000" cy="320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7391520" y="457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7088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57931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67816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9"/>
          <p:cNvSpPr/>
          <p:nvPr/>
        </p:nvSpPr>
        <p:spPr>
          <a:xfrm flipH="1">
            <a:off x="5638680" y="32767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553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541008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3"/>
          <p:cNvSpPr/>
          <p:nvPr/>
        </p:nvSpPr>
        <p:spPr>
          <a:xfrm flipH="1">
            <a:off x="518076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6400800" y="1523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762120" y="3048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10666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∥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2362320" y="35812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2666880" y="441972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39"/>
          <p:cNvSpPr/>
          <p:nvPr/>
        </p:nvSpPr>
        <p:spPr>
          <a:xfrm flipH="1">
            <a:off x="990720" y="4952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=∠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2590920" y="4952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两直线平，同位角相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42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43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>
            <a:hlinkClick r:id="rId1"/>
          </p:cNvPr>
          <p:cNvSpPr/>
          <p:nvPr/>
        </p:nvSpPr>
        <p:spPr>
          <a:xfrm>
            <a:off x="609480" y="914400"/>
            <a:ext cx="76212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476360" y="1413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：已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∥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那么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什么关系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019920" y="2819520"/>
            <a:ext cx="2666880" cy="2371680"/>
            <a:chOff x="6019920" y="2819520"/>
            <a:chExt cx="2666880" cy="2371680"/>
          </a:xfrm>
        </p:grpSpPr>
        <p:pic>
          <p:nvPicPr>
            <p:cNvPr id="181" name="Picture 7" descr=""/>
            <p:cNvPicPr/>
            <p:nvPr/>
          </p:nvPicPr>
          <p:blipFill>
            <a:blip r:embed="rId2"/>
            <a:stretch/>
          </p:blipFill>
          <p:spPr>
            <a:xfrm>
              <a:off x="6019920" y="3124080"/>
              <a:ext cx="223200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8"/>
            <p:cNvSpPr/>
            <p:nvPr/>
          </p:nvSpPr>
          <p:spPr>
            <a:xfrm>
              <a:off x="73915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693432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68580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1532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82296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762012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AutoShape 21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22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1835280" y="3333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447920" y="13716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：已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∥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那么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什么关系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6019920" y="2819520"/>
            <a:ext cx="2666880" cy="2371680"/>
            <a:chOff x="6019920" y="2819520"/>
            <a:chExt cx="2666880" cy="2371680"/>
          </a:xfrm>
        </p:grpSpPr>
        <p:pic>
          <p:nvPicPr>
            <p:cNvPr id="193" name="Picture 4" descr=""/>
            <p:cNvPicPr/>
            <p:nvPr/>
          </p:nvPicPr>
          <p:blipFill>
            <a:blip r:embed="rId1"/>
            <a:stretch/>
          </p:blipFill>
          <p:spPr>
            <a:xfrm>
              <a:off x="6019920" y="3124080"/>
              <a:ext cx="223200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5"/>
            <p:cNvSpPr/>
            <p:nvPr/>
          </p:nvSpPr>
          <p:spPr>
            <a:xfrm>
              <a:off x="73915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>
              <a:off x="693432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68580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8"/>
            <p:cNvSpPr/>
            <p:nvPr/>
          </p:nvSpPr>
          <p:spPr>
            <a:xfrm>
              <a:off x="81532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Text Box 9"/>
            <p:cNvSpPr/>
            <p:nvPr/>
          </p:nvSpPr>
          <p:spPr>
            <a:xfrm>
              <a:off x="82296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10"/>
            <p:cNvSpPr/>
            <p:nvPr/>
          </p:nvSpPr>
          <p:spPr>
            <a:xfrm>
              <a:off x="762012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Text Box 11"/>
          <p:cNvSpPr/>
          <p:nvPr/>
        </p:nvSpPr>
        <p:spPr>
          <a:xfrm>
            <a:off x="13716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∥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447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=∠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447920" y="3429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又∵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=∠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289548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2895480" y="2514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两直线平行，同位角相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12408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对顶角相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304920" y="1981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证明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8">
            <a:hlinkClick r:id="rId2"/>
          </p:cNvPr>
          <p:cNvSpPr/>
          <p:nvPr/>
        </p:nvSpPr>
        <p:spPr>
          <a:xfrm>
            <a:off x="533520" y="1371600"/>
            <a:ext cx="76176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29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30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447920" y="13716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：已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∥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那么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什么关系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6019920" y="2819520"/>
            <a:ext cx="2666880" cy="2371680"/>
            <a:chOff x="6019920" y="2819520"/>
            <a:chExt cx="2666880" cy="2371680"/>
          </a:xfrm>
        </p:grpSpPr>
        <p:pic>
          <p:nvPicPr>
            <p:cNvPr id="212" name="Picture 4" descr=""/>
            <p:cNvPicPr/>
            <p:nvPr/>
          </p:nvPicPr>
          <p:blipFill>
            <a:blip r:embed="rId1"/>
            <a:stretch/>
          </p:blipFill>
          <p:spPr>
            <a:xfrm>
              <a:off x="6019920" y="3124080"/>
              <a:ext cx="223200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73915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Text Box 6"/>
            <p:cNvSpPr/>
            <p:nvPr/>
          </p:nvSpPr>
          <p:spPr>
            <a:xfrm>
              <a:off x="693432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Text Box 7"/>
            <p:cNvSpPr/>
            <p:nvPr/>
          </p:nvSpPr>
          <p:spPr>
            <a:xfrm>
              <a:off x="68580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81532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82296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Text Box 10"/>
            <p:cNvSpPr/>
            <p:nvPr/>
          </p:nvSpPr>
          <p:spPr>
            <a:xfrm>
              <a:off x="762012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Text Box 11"/>
          <p:cNvSpPr/>
          <p:nvPr/>
        </p:nvSpPr>
        <p:spPr>
          <a:xfrm>
            <a:off x="13716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∥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447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=∠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1447920" y="3429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又∵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=∠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289548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2895480" y="2514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两直线平行，同位角相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12408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对顶角相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1">
            <a:hlinkClick r:id="rId2"/>
          </p:cNvPr>
          <p:cNvSpPr/>
          <p:nvPr/>
        </p:nvSpPr>
        <p:spPr>
          <a:xfrm>
            <a:off x="609480" y="685800"/>
            <a:ext cx="76212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1752480" y="4038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=∠2     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等量代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28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29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2050920" y="260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447920" y="13716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：已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∥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那么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什么关系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6019920" y="2819520"/>
            <a:ext cx="2666880" cy="2371680"/>
            <a:chOff x="6019920" y="2819520"/>
            <a:chExt cx="2666880" cy="2371680"/>
          </a:xfrm>
        </p:grpSpPr>
        <p:pic>
          <p:nvPicPr>
            <p:cNvPr id="232" name="Picture 4" descr=""/>
            <p:cNvPicPr/>
            <p:nvPr/>
          </p:nvPicPr>
          <p:blipFill>
            <a:blip r:embed="rId1"/>
            <a:stretch/>
          </p:blipFill>
          <p:spPr>
            <a:xfrm>
              <a:off x="6019920" y="3124080"/>
              <a:ext cx="223200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5"/>
            <p:cNvSpPr/>
            <p:nvPr/>
          </p:nvSpPr>
          <p:spPr>
            <a:xfrm>
              <a:off x="73915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Text Box 6"/>
            <p:cNvSpPr/>
            <p:nvPr/>
          </p:nvSpPr>
          <p:spPr>
            <a:xfrm>
              <a:off x="693432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Text Box 7"/>
            <p:cNvSpPr/>
            <p:nvPr/>
          </p:nvSpPr>
          <p:spPr>
            <a:xfrm>
              <a:off x="68580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81532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82296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10"/>
            <p:cNvSpPr/>
            <p:nvPr/>
          </p:nvSpPr>
          <p:spPr>
            <a:xfrm>
              <a:off x="762012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Text Box 11"/>
          <p:cNvSpPr/>
          <p:nvPr/>
        </p:nvSpPr>
        <p:spPr>
          <a:xfrm>
            <a:off x="13716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∥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1447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=∠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1447920" y="3429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又∵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=∠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1752480" y="4038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=∠2     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等量代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289548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895480" y="2514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两直线平行，同位角相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312408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对顶角相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1066680" y="457200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平行线的性质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条平行线被第三条直线所截，内错角相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3">
            <a:hlinkClick r:id="rId2"/>
          </p:cNvPr>
          <p:cNvSpPr/>
          <p:nvPr/>
        </p:nvSpPr>
        <p:spPr>
          <a:xfrm>
            <a:off x="609480" y="1447920"/>
            <a:ext cx="76212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1066680" y="5638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简记：两直线平行，内错角相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30">
            <a:hlinkClick r:id="" action="ppaction://hlinkshowjump?jump=nextslide"/>
          </p:cNvPr>
          <p:cNvSpPr/>
          <p:nvPr/>
        </p:nvSpPr>
        <p:spPr>
          <a:xfrm>
            <a:off x="8077320" y="606744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31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IANGL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>
            <a:hlinkClick r:id="rId1"/>
          </p:cNvPr>
          <p:cNvSpPr/>
          <p:nvPr/>
        </p:nvSpPr>
        <p:spPr>
          <a:xfrm>
            <a:off x="609480" y="1447920"/>
            <a:ext cx="83844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600200" y="1371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：已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∥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那么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会有什么关系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27"/>
          <p:cNvSpPr/>
          <p:nvPr/>
        </p:nvSpPr>
        <p:spPr>
          <a:xfrm>
            <a:off x="1676520" y="365760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447920" y="5334120"/>
            <a:ext cx="419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2666880" y="2666880"/>
            <a:ext cx="175284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55627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3276720" y="365760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388800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403848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36"/>
          <p:cNvSpPr/>
          <p:nvPr/>
        </p:nvSpPr>
        <p:spPr>
          <a:xfrm>
            <a:off x="350532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4343400" y="1905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33"/>
                </a:solidFill>
                <a:latin typeface="Times New Roman"/>
              </a:rPr>
              <a:t>两条平行被第三条直线所截，得到的同旁内角互补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简记：两直线平行，同旁内角互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40"/>
          <p:cNvSpPr/>
          <p:nvPr/>
        </p:nvSpPr>
        <p:spPr>
          <a:xfrm>
            <a:off x="1371600" y="2057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平行线性质定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41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42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600200" y="1419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一条公路两次拐弯后，和原来的方向相同。也就是拐弯前后的两条路互相平行。第一次拐的角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第二次拐的角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多少度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5791320" y="2895480"/>
            <a:ext cx="2895120" cy="1526400"/>
            <a:chOff x="5791320" y="2895480"/>
            <a:chExt cx="2895120" cy="1526400"/>
          </a:xfrm>
        </p:grpSpPr>
        <p:grpSp>
          <p:nvGrpSpPr>
            <p:cNvPr id="268" name="Group 4"/>
            <p:cNvGrpSpPr/>
            <p:nvPr/>
          </p:nvGrpSpPr>
          <p:grpSpPr>
            <a:xfrm>
              <a:off x="5791320" y="2895480"/>
              <a:ext cx="2895120" cy="1447920"/>
              <a:chOff x="5791320" y="2895480"/>
              <a:chExt cx="2895120" cy="1447920"/>
            </a:xfrm>
          </p:grpSpPr>
          <p:sp>
            <p:nvSpPr>
              <p:cNvPr id="269" name="Line 5"/>
              <p:cNvSpPr/>
              <p:nvPr/>
            </p:nvSpPr>
            <p:spPr>
              <a:xfrm>
                <a:off x="7772400" y="2895480"/>
                <a:ext cx="837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6"/>
              <p:cNvSpPr/>
              <p:nvPr/>
            </p:nvSpPr>
            <p:spPr>
              <a:xfrm>
                <a:off x="7772400" y="3581280"/>
                <a:ext cx="837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7"/>
              <p:cNvSpPr/>
              <p:nvPr/>
            </p:nvSpPr>
            <p:spPr>
              <a:xfrm>
                <a:off x="5791320" y="3657600"/>
                <a:ext cx="838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Line 8"/>
              <p:cNvSpPr/>
              <p:nvPr/>
            </p:nvSpPr>
            <p:spPr>
              <a:xfrm>
                <a:off x="5791320" y="4343400"/>
                <a:ext cx="838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9"/>
              <p:cNvSpPr/>
              <p:nvPr/>
            </p:nvSpPr>
            <p:spPr>
              <a:xfrm flipH="1">
                <a:off x="6629400" y="3581280"/>
                <a:ext cx="1142640" cy="762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10"/>
              <p:cNvSpPr/>
              <p:nvPr/>
            </p:nvSpPr>
            <p:spPr>
              <a:xfrm flipH="1">
                <a:off x="6629400" y="2895480"/>
                <a:ext cx="1142640" cy="762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Line 11"/>
              <p:cNvSpPr/>
              <p:nvPr/>
            </p:nvSpPr>
            <p:spPr>
              <a:xfrm>
                <a:off x="7848360" y="3276360"/>
                <a:ext cx="838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Line 12"/>
              <p:cNvSpPr/>
              <p:nvPr/>
            </p:nvSpPr>
            <p:spPr>
              <a:xfrm>
                <a:off x="5867280" y="4038480"/>
                <a:ext cx="837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Line 13"/>
              <p:cNvSpPr/>
              <p:nvPr/>
            </p:nvSpPr>
            <p:spPr>
              <a:xfrm flipH="1">
                <a:off x="6705360" y="3276360"/>
                <a:ext cx="1142640" cy="762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Arc 14"/>
            <p:cNvSpPr/>
            <p:nvPr/>
          </p:nvSpPr>
          <p:spPr>
            <a:xfrm flipH="1">
              <a:off x="6475320" y="3809880"/>
              <a:ext cx="429840" cy="2286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fill="none" w="30634" h="21600">
                  <a:moveTo>
                    <a:pt x="-1" y="1979"/>
                  </a:moveTo>
                  <a:cubicBezTo>
                    <a:pt x="2833" y="675"/>
                    <a:pt x="5915" y="-1"/>
                    <a:pt x="9034" y="0"/>
                  </a:cubicBezTo>
                  <a:cubicBezTo>
                    <a:pt x="20963" y="0"/>
                    <a:pt x="30634" y="9670"/>
                    <a:pt x="30634" y="21600"/>
                  </a:cubicBezTo>
                </a:path>
                <a:path stroke="0" w="30634" h="21600">
                  <a:moveTo>
                    <a:pt x="-1" y="1979"/>
                  </a:moveTo>
                  <a:cubicBezTo>
                    <a:pt x="2833" y="675"/>
                    <a:pt x="5915" y="-1"/>
                    <a:pt x="9034" y="0"/>
                  </a:cubicBezTo>
                  <a:cubicBezTo>
                    <a:pt x="20963" y="0"/>
                    <a:pt x="30634" y="9670"/>
                    <a:pt x="30634" y="21600"/>
                  </a:cubicBezTo>
                  <a:lnTo>
                    <a:pt x="9034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Arc 15"/>
            <p:cNvSpPr/>
            <p:nvPr/>
          </p:nvSpPr>
          <p:spPr>
            <a:xfrm flipV="1">
              <a:off x="7619760" y="3276360"/>
              <a:ext cx="456840" cy="1526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fill="none" w="30634" h="21600">
                  <a:moveTo>
                    <a:pt x="-1" y="1979"/>
                  </a:moveTo>
                  <a:cubicBezTo>
                    <a:pt x="2833" y="675"/>
                    <a:pt x="5915" y="-1"/>
                    <a:pt x="9034" y="0"/>
                  </a:cubicBezTo>
                  <a:cubicBezTo>
                    <a:pt x="20963" y="0"/>
                    <a:pt x="30634" y="9670"/>
                    <a:pt x="30634" y="21600"/>
                  </a:cubicBezTo>
                </a:path>
                <a:path stroke="0" w="30634" h="21600">
                  <a:moveTo>
                    <a:pt x="-1" y="1979"/>
                  </a:moveTo>
                  <a:cubicBezTo>
                    <a:pt x="2833" y="675"/>
                    <a:pt x="5915" y="-1"/>
                    <a:pt x="9034" y="0"/>
                  </a:cubicBezTo>
                  <a:cubicBezTo>
                    <a:pt x="20963" y="0"/>
                    <a:pt x="30634" y="9670"/>
                    <a:pt x="30634" y="21600"/>
                  </a:cubicBezTo>
                  <a:lnTo>
                    <a:pt x="9034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6400800" y="39621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Text Box 17"/>
            <p:cNvSpPr/>
            <p:nvPr/>
          </p:nvSpPr>
          <p:spPr>
            <a:xfrm>
              <a:off x="7543800" y="2895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Text Box 21">
            <a:hlinkClick r:id="rId1"/>
          </p:cNvPr>
          <p:cNvSpPr/>
          <p:nvPr/>
        </p:nvSpPr>
        <p:spPr>
          <a:xfrm>
            <a:off x="609480" y="1523880"/>
            <a:ext cx="76212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练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AutoShape 27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AutoShape 28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600200" y="1419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一条公路两次拐弯后，和原来的方向相同。也就是拐弯前后的两条路互相平行。第一次拐的角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第二次拐的角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多少度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5791320" y="2895480"/>
            <a:ext cx="2895120" cy="1526400"/>
            <a:chOff x="5791320" y="2895480"/>
            <a:chExt cx="2895120" cy="1526400"/>
          </a:xfrm>
        </p:grpSpPr>
        <p:grpSp>
          <p:nvGrpSpPr>
            <p:cNvPr id="287" name="Group 4"/>
            <p:cNvGrpSpPr/>
            <p:nvPr/>
          </p:nvGrpSpPr>
          <p:grpSpPr>
            <a:xfrm>
              <a:off x="5791320" y="2895480"/>
              <a:ext cx="2895120" cy="1447920"/>
              <a:chOff x="5791320" y="2895480"/>
              <a:chExt cx="2895120" cy="1447920"/>
            </a:xfrm>
          </p:grpSpPr>
          <p:sp>
            <p:nvSpPr>
              <p:cNvPr id="288" name="Line 5"/>
              <p:cNvSpPr/>
              <p:nvPr/>
            </p:nvSpPr>
            <p:spPr>
              <a:xfrm>
                <a:off x="7772400" y="2895480"/>
                <a:ext cx="837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Line 6"/>
              <p:cNvSpPr/>
              <p:nvPr/>
            </p:nvSpPr>
            <p:spPr>
              <a:xfrm>
                <a:off x="7772400" y="3581280"/>
                <a:ext cx="837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Line 7"/>
              <p:cNvSpPr/>
              <p:nvPr/>
            </p:nvSpPr>
            <p:spPr>
              <a:xfrm>
                <a:off x="5791320" y="3657600"/>
                <a:ext cx="838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>
                <a:off x="5791320" y="4343400"/>
                <a:ext cx="838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9"/>
              <p:cNvSpPr/>
              <p:nvPr/>
            </p:nvSpPr>
            <p:spPr>
              <a:xfrm flipH="1">
                <a:off x="6629400" y="3581280"/>
                <a:ext cx="1142640" cy="762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Line 10"/>
              <p:cNvSpPr/>
              <p:nvPr/>
            </p:nvSpPr>
            <p:spPr>
              <a:xfrm flipH="1">
                <a:off x="6629400" y="2895480"/>
                <a:ext cx="1142640" cy="762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Line 11"/>
              <p:cNvSpPr/>
              <p:nvPr/>
            </p:nvSpPr>
            <p:spPr>
              <a:xfrm>
                <a:off x="7848360" y="3276360"/>
                <a:ext cx="838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Line 12"/>
              <p:cNvSpPr/>
              <p:nvPr/>
            </p:nvSpPr>
            <p:spPr>
              <a:xfrm>
                <a:off x="5867280" y="4038480"/>
                <a:ext cx="837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Line 13"/>
              <p:cNvSpPr/>
              <p:nvPr/>
            </p:nvSpPr>
            <p:spPr>
              <a:xfrm flipH="1">
                <a:off x="6705360" y="3276360"/>
                <a:ext cx="1142640" cy="762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7" name="Arc 14"/>
            <p:cNvSpPr/>
            <p:nvPr/>
          </p:nvSpPr>
          <p:spPr>
            <a:xfrm flipH="1">
              <a:off x="6475320" y="3809880"/>
              <a:ext cx="429840" cy="2286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fill="none" w="30634" h="21600">
                  <a:moveTo>
                    <a:pt x="-1" y="1979"/>
                  </a:moveTo>
                  <a:cubicBezTo>
                    <a:pt x="2833" y="675"/>
                    <a:pt x="5915" y="-1"/>
                    <a:pt x="9034" y="0"/>
                  </a:cubicBezTo>
                  <a:cubicBezTo>
                    <a:pt x="20963" y="0"/>
                    <a:pt x="30634" y="9670"/>
                    <a:pt x="30634" y="21600"/>
                  </a:cubicBezTo>
                </a:path>
                <a:path stroke="0" w="30634" h="21600">
                  <a:moveTo>
                    <a:pt x="-1" y="1979"/>
                  </a:moveTo>
                  <a:cubicBezTo>
                    <a:pt x="2833" y="675"/>
                    <a:pt x="5915" y="-1"/>
                    <a:pt x="9034" y="0"/>
                  </a:cubicBezTo>
                  <a:cubicBezTo>
                    <a:pt x="20963" y="0"/>
                    <a:pt x="30634" y="9670"/>
                    <a:pt x="30634" y="21600"/>
                  </a:cubicBezTo>
                  <a:lnTo>
                    <a:pt x="9034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Arc 15"/>
            <p:cNvSpPr/>
            <p:nvPr/>
          </p:nvSpPr>
          <p:spPr>
            <a:xfrm flipV="1">
              <a:off x="7619760" y="3276360"/>
              <a:ext cx="456840" cy="1526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fill="none" w="30634" h="21600">
                  <a:moveTo>
                    <a:pt x="-1" y="1979"/>
                  </a:moveTo>
                  <a:cubicBezTo>
                    <a:pt x="2833" y="675"/>
                    <a:pt x="5915" y="-1"/>
                    <a:pt x="9034" y="0"/>
                  </a:cubicBezTo>
                  <a:cubicBezTo>
                    <a:pt x="20963" y="0"/>
                    <a:pt x="30634" y="9670"/>
                    <a:pt x="30634" y="21600"/>
                  </a:cubicBezTo>
                </a:path>
                <a:path stroke="0" w="30634" h="21600">
                  <a:moveTo>
                    <a:pt x="-1" y="1979"/>
                  </a:moveTo>
                  <a:cubicBezTo>
                    <a:pt x="2833" y="675"/>
                    <a:pt x="5915" y="-1"/>
                    <a:pt x="9034" y="0"/>
                  </a:cubicBezTo>
                  <a:cubicBezTo>
                    <a:pt x="20963" y="0"/>
                    <a:pt x="30634" y="9670"/>
                    <a:pt x="30634" y="21600"/>
                  </a:cubicBezTo>
                  <a:lnTo>
                    <a:pt x="9034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Text Box 16"/>
            <p:cNvSpPr/>
            <p:nvPr/>
          </p:nvSpPr>
          <p:spPr>
            <a:xfrm>
              <a:off x="6400800" y="39621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17"/>
            <p:cNvSpPr/>
            <p:nvPr/>
          </p:nvSpPr>
          <p:spPr>
            <a:xfrm>
              <a:off x="7543800" y="2895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Text Box 18"/>
          <p:cNvSpPr/>
          <p:nvPr/>
        </p:nvSpPr>
        <p:spPr>
          <a:xfrm>
            <a:off x="838080" y="3200400"/>
            <a:ext cx="4724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答： 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=14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因为拐弯前后的两条路互相平行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两条平行线的内错角，根据两直线平行，内错角相等，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=∠B=14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1">
            <a:hlinkClick r:id="rId1"/>
          </p:cNvPr>
          <p:cNvSpPr/>
          <p:nvPr/>
        </p:nvSpPr>
        <p:spPr>
          <a:xfrm>
            <a:off x="609480" y="762120"/>
            <a:ext cx="1295640" cy="3988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隶书"/>
              </a:rPr>
              <a:t>解决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27">
            <a:hlinkClick r:id="" action="ppaction://hlinkshowjump?jump=nextslide"/>
          </p:cNvPr>
          <p:cNvSpPr/>
          <p:nvPr/>
        </p:nvSpPr>
        <p:spPr>
          <a:xfrm>
            <a:off x="8077320" y="6095880"/>
            <a:ext cx="761760" cy="40968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28">
            <a:hlinkClick r:id="" action="ppaction://hlinkshowjump?jump=previousslide"/>
          </p:cNvPr>
          <p:cNvSpPr/>
          <p:nvPr/>
        </p:nvSpPr>
        <p:spPr>
          <a:xfrm>
            <a:off x="6934320" y="60958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01:51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38Z</dcterms:modified>
  <cp:revision>26</cp:revision>
  <dc:subject>人教版七年级数学（下）全套课件</dc:subject>
  <dc:title>人教版七年级数学（下）全套课件</dc:title>
</cp:coreProperties>
</file>