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chimes.wav" ContentType="audio/x-wav"/>
  <Override PartName="/ppt/media/image8.png" ContentType="image/png"/>
  <Override PartName="/ppt/media/type.wav" ContentType="audio/x-wav"/>
  <Override PartName="/ppt/media/image5.png" ContentType="image/pn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64B-1C90-4817-A1E0-00A91EB7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A16-D8EB-4A96-ABEB-98CDC623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19D-393F-468D-A6D0-8C8C48AE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09E-753C-4609-A172-0BCE0313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02AD-A73A-41FB-A920-9BD54548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D278-E6A4-4D25-9708-81A76054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6B55-8DC1-4357-B89E-9EF50A15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9DF1-6F3E-48E0-9FC1-AD5912A9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3D65-39E7-45B1-A8D6-55B611DE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7C36-07E3-415C-A9E3-9AA9FA05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F1D3-478A-4312-9BAD-E5B0E96A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06D-01B3-47FF-97AA-B3DBF584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20B2-848F-4132-A4DC-00B95854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F60A-1245-46E6-8F95-D77E3431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5974-33C1-44D3-B267-3A09E6DB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725F-11FF-4033-A86C-53D2744F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2778-4B60-4263-A6D5-C7003445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7D0BD-A35E-42B8-B978-9EA0E2AE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659A3-F4CB-4536-AC7D-B389C927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690D-328C-4821-8956-6A498970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F47B4-353D-4A22-8991-06583BE7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6FF56-6062-4143-B9C5-84B781BB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769-4C59-47B2-983E-20562D33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0C30-28D5-4A5F-8B54-BD97136C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CC9CB-2E52-47DA-B577-00964A04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8F04C-9DBA-46BC-A69B-53DF4895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7CDE8-1E4B-4C61-9C22-A5746E88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3BB40-39B8-4BFC-8D3B-061FB8B6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317C0-260D-4DA3-9484-2346CBE2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0ED72-D542-4214-B7DA-8BCAC9D1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F518F-100C-4864-8565-C1A3EBDE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99362-AA44-40C4-83B8-AF0B9D2F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81862-214B-4B57-A5AD-D1DBF455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9C6-4AC6-4C72-9107-AA0E1546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DBADA-A232-459C-BB4E-2E1C2BE2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FE2A-B82E-4085-B367-2610619C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E84D8-45D4-4969-B935-6F455F65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95807-3DA3-4633-A924-73D44411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C05E2-3E75-42B3-B130-F3E85EA2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B0C33-788A-4735-A65B-0A879425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A0EDA-49F1-405E-9467-5AC2E5AA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11BEE-732D-42F6-B54A-F1CC1D84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1B30B-B044-4DC7-A9DD-A95E58E7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78B0A-7A4B-4033-988D-346D5256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708-8045-48AA-9572-2910F42D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822EC-FC60-47FB-93CB-3550C829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AF048-D376-49F3-885D-E90DB3E3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308B8-A61B-41F1-826D-C8FB8C5A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7B9A1-DEA2-4B53-832E-FC4D5AD5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BC90E-1921-4531-B201-6F38CDC1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3BCF8-FD1E-47E2-822F-620C8D7E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27452-5722-45B8-8459-0F6A150D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21A89-8E26-4254-90E4-5BB5CB93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5565D-56E1-400A-88F6-E94C4653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E3020-5E51-4C61-8CEA-851D7E85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A839-1E31-44AC-9A72-EBC08616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CD347-5A2F-4B2F-8CB2-C8935767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A7F78-0B80-4C1E-823A-9C237A35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93E1E-A404-4752-BB56-01AD949E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98B1B-9FA0-419D-BE47-BA241279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1A1AF-6F74-4176-A225-FAD8531D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8F1DB-DA4F-43C1-B336-F69DAF5B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D6543-E479-4718-B99F-C048E63F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6D372-EF50-43C1-B049-D27C0AF4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655D2-323F-47B3-908A-B58A22E7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09C94-E811-4C63-BF5E-0D33D1FE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4A4-8897-4C8A-B763-06A38124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5FBF8-A7A0-4D98-B143-F4C4E473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79A75-3C33-485A-AFD6-10578113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0A7C0-AE88-413C-846C-26D7AA14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7EE7-0DB8-4AAB-A6EE-140A43FA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9D3-D24C-4F86-981E-7E363263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>
                <a:gd name="textAreaLeft" fmla="*/ 0 w 2102760"/>
                <a:gd name="textAreaRight" fmla="*/ 2103120 w 210276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>
                  <a:gd name="textAreaLeft" fmla="*/ 0 w 163080"/>
                  <a:gd name="textAreaRight" fmla="*/ 163080 w 1630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A010-FB9E-46D9-9A3B-3E724ECE25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D094-01E6-4E8E-B862-2C378D7022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1014-7ECE-4101-BCB2-4BA382515A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6330-9BBF-4F05-B14E-776200AA0CD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1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>
                <a:gd name="textAreaLeft" fmla="*/ 0 w 1097640"/>
                <a:gd name="textAreaRight" fmla="*/ 1098000 w 10976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3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7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13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1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162A-C52A-47B9-AE6D-47C6522177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3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3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3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绿色圃中小学教育网</a:t>
            </a: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6C61-907D-4AF6-A52A-243D7245D37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WordArt 5"/>
          <p:cNvSpPr txBox="1"/>
          <p:nvPr/>
        </p:nvSpPr>
        <p:spPr>
          <a:xfrm>
            <a:off x="1143000" y="24382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实际问题与一元一次不等式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1026" descr="gifmb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sp>
        <p:nvSpPr>
          <p:cNvPr id="744" name="Text Box 1027"/>
          <p:cNvSpPr/>
          <p:nvPr/>
        </p:nvSpPr>
        <p:spPr>
          <a:xfrm>
            <a:off x="685800" y="6858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解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028"/>
          <p:cNvGrpSpPr/>
          <p:nvPr/>
        </p:nvGrpSpPr>
        <p:grpSpPr>
          <a:xfrm>
            <a:off x="1676520" y="762120"/>
            <a:ext cx="6705360" cy="2653560"/>
            <a:chOff x="1676520" y="762120"/>
            <a:chExt cx="6705360" cy="2653560"/>
          </a:xfrm>
        </p:grpSpPr>
        <p:sp>
          <p:nvSpPr>
            <p:cNvPr id="746" name="Text Box 1029"/>
            <p:cNvSpPr/>
            <p:nvPr/>
          </p:nvSpPr>
          <p:spPr>
            <a:xfrm>
              <a:off x="1676520" y="762120"/>
              <a:ext cx="6705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设他可以买</a:t>
              </a:r>
              <a:r>
                <a:rPr b="0" lang="en-US" sz="4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x</a:t>
              </a:r>
              <a:r>
                <a:rPr b="0" lang="zh-CN" sz="4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支钢笔</a:t>
              </a:r>
              <a:r>
                <a:rPr b="0" lang="en-US" sz="4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,</a:t>
              </a:r>
              <a:r>
                <a:rPr b="0" lang="zh-CN" sz="4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则笔记本为（</a:t>
              </a:r>
              <a:r>
                <a:rPr b="0" lang="en-US" sz="4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8-x)</a:t>
              </a:r>
              <a:r>
                <a:rPr b="0" lang="zh-CN" sz="4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个，由题意，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1030"/>
            <p:cNvSpPr/>
            <p:nvPr/>
          </p:nvSpPr>
          <p:spPr>
            <a:xfrm>
              <a:off x="1828440" y="2057040"/>
              <a:ext cx="4647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4.5x+3</a:t>
              </a:r>
              <a:r>
                <a:rPr b="0" lang="zh-CN" sz="4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（</a:t>
              </a:r>
              <a:r>
                <a:rPr b="0" lang="en-US" sz="4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8-x</a:t>
              </a:r>
              <a:r>
                <a:rPr b="0" lang="zh-CN" sz="4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）</a:t>
              </a:r>
              <a:r>
                <a:rPr b="0" lang="en-US" sz="4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≤</a:t>
              </a:r>
              <a:r>
                <a:rPr b="0" lang="en-US" sz="4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031"/>
            <p:cNvSpPr/>
            <p:nvPr/>
          </p:nvSpPr>
          <p:spPr>
            <a:xfrm>
              <a:off x="1904760" y="2590560"/>
              <a:ext cx="22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解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032"/>
            <p:cNvSpPr/>
            <p:nvPr/>
          </p:nvSpPr>
          <p:spPr>
            <a:xfrm>
              <a:off x="3504960" y="2590560"/>
              <a:ext cx="4647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x≤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Text Box 1033"/>
          <p:cNvSpPr/>
          <p:nvPr/>
        </p:nvSpPr>
        <p:spPr>
          <a:xfrm>
            <a:off x="1828800" y="40384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∴</a:t>
            </a: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x</a:t>
            </a: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可取</a:t>
            </a: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0</a:t>
            </a: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</a:t>
            </a: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1</a:t>
            </a: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</a:t>
            </a: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2</a:t>
            </a: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</a:t>
            </a: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</a:t>
            </a: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034"/>
          <p:cNvSpPr/>
          <p:nvPr/>
        </p:nvSpPr>
        <p:spPr>
          <a:xfrm>
            <a:off x="1447920" y="342900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∵</a:t>
            </a: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x</a:t>
            </a: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为整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035"/>
          <p:cNvSpPr/>
          <p:nvPr/>
        </p:nvSpPr>
        <p:spPr>
          <a:xfrm>
            <a:off x="1752480" y="4952880"/>
            <a:ext cx="541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∴</a:t>
            </a: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小兰有</a:t>
            </a: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5</a:t>
            </a: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种买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2" descr="gifmb0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5" name="WordArt 3"/>
          <p:cNvSpPr txBox="1"/>
          <p:nvPr/>
        </p:nvSpPr>
        <p:spPr>
          <a:xfrm>
            <a:off x="762120" y="609480"/>
            <a:ext cx="2971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我练　我进步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6" name="Text Box 4"/>
          <p:cNvSpPr/>
          <p:nvPr/>
        </p:nvSpPr>
        <p:spPr>
          <a:xfrm>
            <a:off x="685800" y="153684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　</a:t>
            </a:r>
            <a:r>
              <a:rPr b="0" lang="en-US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3</a:t>
            </a:r>
            <a:r>
              <a:rPr b="0" lang="zh-CN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、我班几个同学合影留念，每人交</a:t>
            </a:r>
            <a:r>
              <a:rPr b="0" lang="en-US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0.70</a:t>
            </a:r>
            <a:r>
              <a:rPr b="0" lang="zh-CN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元。已知一张彩色底片</a:t>
            </a:r>
            <a:r>
              <a:rPr b="0" lang="en-US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0.68</a:t>
            </a:r>
            <a:r>
              <a:rPr b="0" lang="zh-CN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元，扩印一张相片</a:t>
            </a:r>
            <a:r>
              <a:rPr b="0" lang="en-US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0.50</a:t>
            </a:r>
            <a:r>
              <a:rPr b="0" lang="zh-CN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元，每人分一张，在将收来的钱尽量用掉的前提下，这张相片上的同学最少有几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5"/>
          <p:cNvSpPr/>
          <p:nvPr/>
        </p:nvSpPr>
        <p:spPr>
          <a:xfrm>
            <a:off x="2209680" y="6095880"/>
            <a:ext cx="5105520" cy="762120"/>
          </a:xfrm>
          <a:custGeom>
            <a:avLst/>
            <a:gdLst>
              <a:gd name="textAreaLeft" fmla="*/ 49320 w 5105520"/>
              <a:gd name="textAreaRight" fmla="*/ 5056200 w 5105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44642" h="21600">
                <a:moveTo>
                  <a:pt x="0" y="0"/>
                </a:moveTo>
                <a:lnTo>
                  <a:pt x="144642" y="0"/>
                </a:lnTo>
                <a:lnTo>
                  <a:pt x="144642" y="21600"/>
                </a:lnTo>
                <a:lnTo>
                  <a:pt x="0" y="21600"/>
                </a:lnTo>
                <a:close/>
              </a:path>
              <a:path fill="lightenLess" w="144642" h="21600">
                <a:moveTo>
                  <a:pt x="0" y="0"/>
                </a:moveTo>
                <a:lnTo>
                  <a:pt x="144642" y="0"/>
                </a:lnTo>
                <a:lnTo>
                  <a:pt x="143243" y="1400"/>
                </a:lnTo>
                <a:lnTo>
                  <a:pt x="1400" y="1400"/>
                </a:lnTo>
                <a:close/>
              </a:path>
              <a:path fill="darken" w="144642" h="21600">
                <a:moveTo>
                  <a:pt x="144642" y="0"/>
                </a:moveTo>
                <a:lnTo>
                  <a:pt x="144642" y="21600"/>
                </a:lnTo>
                <a:lnTo>
                  <a:pt x="143243" y="20200"/>
                </a:lnTo>
                <a:lnTo>
                  <a:pt x="143243" y="1400"/>
                </a:lnTo>
                <a:close/>
              </a:path>
              <a:path fill="darkenLess" w="144642" h="21600">
                <a:moveTo>
                  <a:pt x="144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3243" y="20200"/>
                </a:lnTo>
                <a:close/>
              </a:path>
              <a:path fill="lighten" w="144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6">
            <a:hlinkClick r:id="rId2" action="ppaction://hlinksldjump"/>
          </p:cNvPr>
          <p:cNvSpPr/>
          <p:nvPr/>
        </p:nvSpPr>
        <p:spPr>
          <a:xfrm>
            <a:off x="6629400" y="61722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9" h="21600">
                <a:moveTo>
                  <a:pt x="14588" y="3794"/>
                </a:moveTo>
                <a:lnTo>
                  <a:pt x="28601" y="10800"/>
                </a:lnTo>
                <a:lnTo>
                  <a:pt x="14588" y="17806"/>
                </a:lnTo>
                <a:close/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1026" descr="gifmb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1" name="Text Box 1027"/>
          <p:cNvSpPr/>
          <p:nvPr/>
        </p:nvSpPr>
        <p:spPr>
          <a:xfrm>
            <a:off x="762120" y="6094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解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028"/>
          <p:cNvSpPr/>
          <p:nvPr/>
        </p:nvSpPr>
        <p:spPr>
          <a:xfrm>
            <a:off x="1981080" y="6094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设这张相片上的同学有</a:t>
            </a:r>
            <a:r>
              <a:rPr b="0" lang="en-US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x</a:t>
            </a: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人，根据题意，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029"/>
          <p:cNvSpPr/>
          <p:nvPr/>
        </p:nvSpPr>
        <p:spPr>
          <a:xfrm>
            <a:off x="1981080" y="16002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0.70x≥0.68+0.50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30"/>
          <p:cNvSpPr/>
          <p:nvPr/>
        </p:nvSpPr>
        <p:spPr>
          <a:xfrm>
            <a:off x="2057400" y="2209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解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031"/>
          <p:cNvSpPr/>
          <p:nvPr/>
        </p:nvSpPr>
        <p:spPr>
          <a:xfrm>
            <a:off x="2133720" y="2590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x≥3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032"/>
          <p:cNvSpPr/>
          <p:nvPr/>
        </p:nvSpPr>
        <p:spPr>
          <a:xfrm>
            <a:off x="2133720" y="30481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∵</a:t>
            </a:r>
            <a:r>
              <a:rPr b="0" lang="en-US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X</a:t>
            </a: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为整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33"/>
          <p:cNvSpPr/>
          <p:nvPr/>
        </p:nvSpPr>
        <p:spPr>
          <a:xfrm>
            <a:off x="2133720" y="365760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∴</a:t>
            </a:r>
            <a:r>
              <a:rPr b="0" lang="en-US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X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034"/>
          <p:cNvSpPr/>
          <p:nvPr/>
        </p:nvSpPr>
        <p:spPr>
          <a:xfrm>
            <a:off x="1828800" y="43434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答：这张相片上的同学最少有</a:t>
            </a:r>
            <a:r>
              <a:rPr b="0" lang="en-US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4</a:t>
            </a: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1035"/>
          <p:cNvSpPr/>
          <p:nvPr/>
        </p:nvSpPr>
        <p:spPr>
          <a:xfrm>
            <a:off x="2057400" y="6095880"/>
            <a:ext cx="5181480" cy="762120"/>
          </a:xfrm>
          <a:custGeom>
            <a:avLst/>
            <a:gdLst>
              <a:gd name="textAreaLeft" fmla="*/ 49320 w 5181480"/>
              <a:gd name="textAreaRight" fmla="*/ 5132160 w 5181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46794" h="21600">
                <a:moveTo>
                  <a:pt x="0" y="0"/>
                </a:moveTo>
                <a:lnTo>
                  <a:pt x="146794" y="0"/>
                </a:lnTo>
                <a:lnTo>
                  <a:pt x="146794" y="21600"/>
                </a:lnTo>
                <a:lnTo>
                  <a:pt x="0" y="21600"/>
                </a:lnTo>
                <a:close/>
              </a:path>
              <a:path fill="lightenLess" w="146794" h="21600">
                <a:moveTo>
                  <a:pt x="0" y="0"/>
                </a:moveTo>
                <a:lnTo>
                  <a:pt x="146794" y="0"/>
                </a:lnTo>
                <a:lnTo>
                  <a:pt x="145394" y="1400"/>
                </a:lnTo>
                <a:lnTo>
                  <a:pt x="1400" y="1400"/>
                </a:lnTo>
                <a:close/>
              </a:path>
              <a:path fill="darken" w="146794" h="21600">
                <a:moveTo>
                  <a:pt x="146794" y="0"/>
                </a:moveTo>
                <a:lnTo>
                  <a:pt x="146794" y="21600"/>
                </a:lnTo>
                <a:lnTo>
                  <a:pt x="145394" y="20200"/>
                </a:lnTo>
                <a:lnTo>
                  <a:pt x="145394" y="1400"/>
                </a:lnTo>
                <a:close/>
              </a:path>
              <a:path fill="darkenLess" w="146794" h="21600">
                <a:moveTo>
                  <a:pt x="146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394" y="20200"/>
                </a:lnTo>
                <a:close/>
              </a:path>
              <a:path fill="lighten" w="146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2"/>
          <p:cNvSpPr/>
          <p:nvPr/>
        </p:nvSpPr>
        <p:spPr>
          <a:xfrm>
            <a:off x="611280" y="549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一个人的头发大约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万根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万根，每根头发每天大约生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0.3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m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小颖的头发现在大约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长，那么大约经过多长时间，她的头发才能生长到不少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1026"/>
          <p:cNvSpPr/>
          <p:nvPr/>
        </p:nvSpPr>
        <p:spPr>
          <a:xfrm>
            <a:off x="250920" y="40464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某工人计划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天里加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0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个零件，最初三天中每天加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个，以后每天至少加工多少个零件才能在规定的时间内超额完成任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WordArt 2"/>
          <p:cNvSpPr txBox="1"/>
          <p:nvPr/>
        </p:nvSpPr>
        <p:spPr>
          <a:xfrm>
            <a:off x="396720" y="549360"/>
            <a:ext cx="3095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练习拓展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468360" y="1932120"/>
            <a:ext cx="8209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单位要制作一批宣传材料，甲广告公司提出：每份材料收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另收设计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乙广告公司提出：每份材料收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不收设计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什么情况下选择甲公司比较合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什么情况下选择乙公司比较合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什么情况下两公司的收费相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3" descr="米老鼠"/>
          <p:cNvPicPr/>
          <p:nvPr/>
        </p:nvPicPr>
        <p:blipFill>
          <a:blip r:embed="rId1"/>
          <a:stretch/>
        </p:blipFill>
        <p:spPr>
          <a:xfrm>
            <a:off x="7172280" y="457200"/>
            <a:ext cx="1971720" cy="1932120"/>
          </a:xfrm>
          <a:prstGeom prst="rect">
            <a:avLst/>
          </a:prstGeom>
          <a:ln w="0">
            <a:noFill/>
          </a:ln>
        </p:spPr>
      </p:pic>
      <p:sp>
        <p:nvSpPr>
          <p:cNvPr id="775" name="WordArt 4"/>
          <p:cNvSpPr txBox="1"/>
          <p:nvPr/>
        </p:nvSpPr>
        <p:spPr>
          <a:xfrm>
            <a:off x="826920" y="270828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d80090"/>
                  </a:solidFill>
                  <a:miter/>
                </a:ln>
                <a:solidFill>
                  <a:srgbClr val="d8009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请你说给大家听听</a:t>
            </a:r>
            <a:endParaRPr b="0" lang="en-US" sz="1800" spc="1" strike="noStrike">
              <a:ln w="9360">
                <a:solidFill>
                  <a:srgbClr val="d80090"/>
                </a:solidFill>
                <a:miter/>
              </a:ln>
              <a:solidFill>
                <a:srgbClr val="d8009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900000" y="141300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  <a:ea typeface="华文琥珀"/>
              </a:rPr>
              <a:t>这节课你有那些收获</a:t>
            </a:r>
            <a:r>
              <a:rPr b="1" lang="en-US" sz="4800" spc="-1" strike="noStrike">
                <a:solidFill>
                  <a:srgbClr val="cc0099"/>
                </a:solidFill>
                <a:latin typeface="Arial"/>
                <a:ea typeface="华文琥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1979640" y="400536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华文琥珀"/>
              </a:rPr>
              <a:t>还有哪些困惑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  <a:ea typeface="华文琥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页脚占位符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2" descr="111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0" name="WordArt 3"/>
          <p:cNvSpPr txBox="1"/>
          <p:nvPr/>
        </p:nvSpPr>
        <p:spPr>
          <a:xfrm>
            <a:off x="1752480" y="2050920"/>
            <a:ext cx="54104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再见</a:t>
            </a:r>
            <a:endParaRPr b="1" lang="en-US" sz="96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WordArt 4"/>
          <p:cNvSpPr txBox="1"/>
          <p:nvPr/>
        </p:nvSpPr>
        <p:spPr>
          <a:xfrm>
            <a:off x="1116000" y="981000"/>
            <a:ext cx="297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自主学习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971640" y="2492280"/>
            <a:ext cx="7777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等式的性质有哪些？它与等式的性质有何异同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解一元一次方程的步骤有哪些？解一元一次不等式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用一元一次不等式解应用题的关健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3"/>
          <p:cNvSpPr/>
          <p:nvPr/>
        </p:nvSpPr>
        <p:spPr>
          <a:xfrm>
            <a:off x="611280" y="476280"/>
            <a:ext cx="79930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问题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甲、乙两商店以同样价格出售同样的商品，并且又各自推出不同的优惠方案：在甲店累计购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商品后，再购买的商品按原价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收费；在乙店累计购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商品后，再购买的商品按原价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收费，顾客怎样选择商店购物能获得更大优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2870640" y="18900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80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甲商店优惠方案的起点为购物款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乙商店优惠方案的起点为购物款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类讨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如果累计购物不超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，则在两店购物花费有区别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如果累计购物超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而不超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，则在哪家商店购物花费小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如果累计购物超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，则在甲店购物花费小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设累计购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，如果在甲店购物花费小，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去括号，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移项合并，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系数化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Object 3"/>
              <p:cNvSpPr txBox="1"/>
              <p:nvPr/>
            </p:nvSpPr>
            <p:spPr>
              <a:xfrm>
                <a:off x="1905120" y="3733920"/>
                <a:ext cx="5472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1" name="Text Box 4"/>
          <p:cNvSpPr/>
          <p:nvPr/>
        </p:nvSpPr>
        <p:spPr>
          <a:xfrm>
            <a:off x="4114800" y="22860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3b2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4191120" y="53352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3b2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1614600" y="1773360"/>
            <a:ext cx="25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3b20"/>
                </a:solidFill>
                <a:latin typeface="Arial"/>
              </a:rPr>
              <a:t>（消费一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1143000" y="2590920"/>
            <a:ext cx="60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3b20"/>
                </a:solidFill>
                <a:latin typeface="Arial"/>
              </a:rPr>
              <a:t>（购买同样商品在乙店购物省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8"/>
              <p:cNvSpPr txBox="1"/>
              <p:nvPr/>
            </p:nvSpPr>
            <p:spPr>
              <a:xfrm>
                <a:off x="2319480" y="4343400"/>
                <a:ext cx="48862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9"/>
              <p:cNvSpPr txBox="1"/>
              <p:nvPr/>
            </p:nvSpPr>
            <p:spPr>
              <a:xfrm>
                <a:off x="3048120" y="5638680"/>
                <a:ext cx="11430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10"/>
              <p:cNvSpPr txBox="1"/>
              <p:nvPr/>
            </p:nvSpPr>
            <p:spPr>
              <a:xfrm>
                <a:off x="2438280" y="5029200"/>
                <a:ext cx="1600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WordArt 4"/>
          <p:cNvSpPr txBox="1"/>
          <p:nvPr/>
        </p:nvSpPr>
        <p:spPr>
          <a:xfrm>
            <a:off x="468360" y="260280"/>
            <a:ext cx="28796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当堂反馈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900000" y="1700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解下列不等式，并把它们的解集在数轴上表示出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6"/>
              <p:cNvSpPr txBox="1"/>
              <p:nvPr/>
            </p:nvSpPr>
            <p:spPr>
              <a:xfrm>
                <a:off x="1371600" y="2730600"/>
                <a:ext cx="6019920" cy="30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3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3"/>
          <p:cNvSpPr/>
          <p:nvPr/>
        </p:nvSpPr>
        <p:spPr>
          <a:xfrm>
            <a:off x="0" y="762120"/>
            <a:ext cx="75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　　小兰准备用</a:t>
            </a:r>
            <a:r>
              <a:rPr b="0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30</a:t>
            </a: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元买钢笔和笔记本，已知一支钢笔</a:t>
            </a:r>
            <a:r>
              <a:rPr b="0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4.5</a:t>
            </a: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元，一本笔记本</a:t>
            </a:r>
            <a:r>
              <a:rPr b="0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WordArt 4" descr=""/>
          <p:cNvPicPr/>
          <p:nvPr/>
        </p:nvPicPr>
        <p:blipFill>
          <a:blip r:embed="rId1"/>
          <a:stretch/>
        </p:blipFill>
        <p:spPr>
          <a:xfrm>
            <a:off x="-311040" y="-12600"/>
            <a:ext cx="2232000" cy="658800"/>
          </a:xfrm>
          <a:prstGeom prst="rect">
            <a:avLst/>
          </a:prstGeom>
          <a:ln w="0">
            <a:noFill/>
          </a:ln>
        </p:spPr>
      </p:pic>
      <p:sp>
        <p:nvSpPr>
          <p:cNvPr id="703" name="AutoShape 5">
            <a:hlinkClick r:id="" action="ppaction://hlinkshowjump?jump=nextslide"/>
          </p:cNvPr>
          <p:cNvSpPr/>
          <p:nvPr/>
        </p:nvSpPr>
        <p:spPr>
          <a:xfrm>
            <a:off x="72388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6" descr="f197"/>
          <p:cNvPicPr/>
          <p:nvPr/>
        </p:nvPicPr>
        <p:blipFill>
          <a:blip r:embed="rId2"/>
          <a:stretch/>
        </p:blipFill>
        <p:spPr>
          <a:xfrm>
            <a:off x="7467480" y="38088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7"/>
          <p:cNvSpPr/>
          <p:nvPr/>
        </p:nvSpPr>
        <p:spPr>
          <a:xfrm>
            <a:off x="380880" y="281952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</a:t>
            </a:r>
            <a:r>
              <a:rPr b="0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如果她买了</a:t>
            </a:r>
            <a:r>
              <a:rPr b="0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r>
              <a:rPr b="0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本笔记本，则她最多还可以买多少支钢笔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8"/>
          <p:cNvSpPr/>
          <p:nvPr/>
        </p:nvSpPr>
        <p:spPr>
          <a:xfrm>
            <a:off x="380880" y="441972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如果她钢笔和笔记本共买了</a:t>
            </a:r>
            <a:r>
              <a:rPr b="0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件，则她最多可以买多少支钢笔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9">
            <a:hlinkClick r:id="rId3" action="ppaction://hlinksldjump"/>
          </p:cNvPr>
          <p:cNvSpPr/>
          <p:nvPr/>
        </p:nvSpPr>
        <p:spPr>
          <a:xfrm>
            <a:off x="51814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2" descr="gifmb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sp>
        <p:nvSpPr>
          <p:cNvPr id="710" name="Text Box 3"/>
          <p:cNvSpPr/>
          <p:nvPr/>
        </p:nvSpPr>
        <p:spPr>
          <a:xfrm>
            <a:off x="609480" y="213372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1447920" y="21337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设他还可以买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支钢笔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由题意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1905120" y="28954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.5x+3 × 5≤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2362320" y="3733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解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1828800" y="4343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∵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整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1905120" y="49528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9"/>
          <p:cNvSpPr/>
          <p:nvPr/>
        </p:nvSpPr>
        <p:spPr>
          <a:xfrm>
            <a:off x="13716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：他最多还可以买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支钢笔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Object 5120"/>
              <p:cNvSpPr txBox="1"/>
              <p:nvPr/>
            </p:nvSpPr>
            <p:spPr>
              <a:xfrm>
                <a:off x="3581280" y="3352680"/>
                <a:ext cx="198144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8" name="AutoShape 11">
            <a:hlinkClick r:id="" action="ppaction://hlinkshowjump?jump=previousslide"/>
          </p:cNvPr>
          <p:cNvSpPr/>
          <p:nvPr/>
        </p:nvSpPr>
        <p:spPr>
          <a:xfrm>
            <a:off x="3048120" y="6172200"/>
            <a:ext cx="5638680" cy="685800"/>
          </a:xfrm>
          <a:custGeom>
            <a:avLst/>
            <a:gdLst>
              <a:gd name="textAreaLeft" fmla="*/ 44280 w 5638680"/>
              <a:gd name="textAreaRight" fmla="*/ 5594400 w 5638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7514" h="21600">
                <a:moveTo>
                  <a:pt x="0" y="0"/>
                </a:moveTo>
                <a:lnTo>
                  <a:pt x="177514" y="0"/>
                </a:lnTo>
                <a:lnTo>
                  <a:pt x="177514" y="21600"/>
                </a:lnTo>
                <a:lnTo>
                  <a:pt x="0" y="21600"/>
                </a:lnTo>
                <a:close/>
              </a:path>
              <a:path fill="lightenLess" w="177514" h="21600">
                <a:moveTo>
                  <a:pt x="0" y="0"/>
                </a:moveTo>
                <a:lnTo>
                  <a:pt x="177514" y="0"/>
                </a:lnTo>
                <a:lnTo>
                  <a:pt x="176114" y="1400"/>
                </a:lnTo>
                <a:lnTo>
                  <a:pt x="1400" y="1400"/>
                </a:lnTo>
                <a:close/>
              </a:path>
              <a:path fill="darken" w="177514" h="21600">
                <a:moveTo>
                  <a:pt x="177514" y="0"/>
                </a:moveTo>
                <a:lnTo>
                  <a:pt x="177514" y="21600"/>
                </a:lnTo>
                <a:lnTo>
                  <a:pt x="176114" y="20200"/>
                </a:lnTo>
                <a:lnTo>
                  <a:pt x="176114" y="1400"/>
                </a:lnTo>
                <a:close/>
              </a:path>
              <a:path fill="darkenLess" w="177514" h="21600">
                <a:moveTo>
                  <a:pt x="1775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6114" y="20200"/>
                </a:lnTo>
                <a:close/>
              </a:path>
              <a:path fill="lighten" w="1775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2"/>
          <p:cNvSpPr/>
          <p:nvPr/>
        </p:nvSpPr>
        <p:spPr>
          <a:xfrm>
            <a:off x="533520" y="8524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分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1981080" y="10666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钢笔费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4"/>
          <p:cNvSpPr/>
          <p:nvPr/>
        </p:nvSpPr>
        <p:spPr>
          <a:xfrm>
            <a:off x="4191120" y="10666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笔记本费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5"/>
          <p:cNvSpPr/>
          <p:nvPr/>
        </p:nvSpPr>
        <p:spPr>
          <a:xfrm>
            <a:off x="3733920" y="106668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6"/>
          <p:cNvSpPr/>
          <p:nvPr/>
        </p:nvSpPr>
        <p:spPr>
          <a:xfrm>
            <a:off x="72388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7"/>
          <p:cNvSpPr/>
          <p:nvPr/>
        </p:nvSpPr>
        <p:spPr>
          <a:xfrm>
            <a:off x="6400800" y="10666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1026" descr="gifmb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sp>
        <p:nvSpPr>
          <p:cNvPr id="727" name="Text Box 1027"/>
          <p:cNvSpPr/>
          <p:nvPr/>
        </p:nvSpPr>
        <p:spPr>
          <a:xfrm>
            <a:off x="685800" y="6858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解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028"/>
          <p:cNvSpPr/>
          <p:nvPr/>
        </p:nvSpPr>
        <p:spPr>
          <a:xfrm>
            <a:off x="1600200" y="68580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设他可以买</a:t>
            </a:r>
            <a:r>
              <a:rPr b="0" lang="en-US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x</a:t>
            </a: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支钢笔</a:t>
            </a:r>
            <a:r>
              <a:rPr b="0" lang="en-US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则笔记本为（</a:t>
            </a:r>
            <a:r>
              <a:rPr b="0" lang="en-US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8-x)</a:t>
            </a: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个，由题意，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029"/>
          <p:cNvSpPr/>
          <p:nvPr/>
        </p:nvSpPr>
        <p:spPr>
          <a:xfrm>
            <a:off x="2057400" y="19810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4.5x+3</a:t>
            </a: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（</a:t>
            </a:r>
            <a:r>
              <a:rPr b="0" lang="en-US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8-x</a:t>
            </a: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）</a:t>
            </a:r>
            <a:r>
              <a:rPr b="0" lang="en-US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≤</a:t>
            </a:r>
            <a:r>
              <a:rPr b="0" lang="en-US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030"/>
          <p:cNvSpPr/>
          <p:nvPr/>
        </p:nvSpPr>
        <p:spPr>
          <a:xfrm>
            <a:off x="1981080" y="28195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解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031"/>
          <p:cNvSpPr/>
          <p:nvPr/>
        </p:nvSpPr>
        <p:spPr>
          <a:xfrm>
            <a:off x="3733920" y="28195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x≤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032"/>
          <p:cNvSpPr/>
          <p:nvPr/>
        </p:nvSpPr>
        <p:spPr>
          <a:xfrm>
            <a:off x="1981080" y="35053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∴</a:t>
            </a:r>
            <a:r>
              <a:rPr b="0" lang="en-US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X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033"/>
          <p:cNvSpPr/>
          <p:nvPr/>
        </p:nvSpPr>
        <p:spPr>
          <a:xfrm>
            <a:off x="1600200" y="41148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答：他最多可以买</a:t>
            </a: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4</a:t>
            </a: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支钢笔</a:t>
            </a: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34"/>
          <p:cNvSpPr/>
          <p:nvPr/>
        </p:nvSpPr>
        <p:spPr>
          <a:xfrm>
            <a:off x="2743200" y="6248520"/>
            <a:ext cx="5181480" cy="609480"/>
          </a:xfrm>
          <a:custGeom>
            <a:avLst/>
            <a:gdLst>
              <a:gd name="textAreaLeft" fmla="*/ 39240 w 5181480"/>
              <a:gd name="textAreaRight" fmla="*/ 5142240 w 5181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83536" h="21600">
                <a:moveTo>
                  <a:pt x="0" y="0"/>
                </a:moveTo>
                <a:lnTo>
                  <a:pt x="183536" y="0"/>
                </a:lnTo>
                <a:lnTo>
                  <a:pt x="183536" y="21600"/>
                </a:lnTo>
                <a:lnTo>
                  <a:pt x="0" y="21600"/>
                </a:lnTo>
                <a:close/>
              </a:path>
              <a:path fill="lightenLess" w="183536" h="21600">
                <a:moveTo>
                  <a:pt x="0" y="0"/>
                </a:moveTo>
                <a:lnTo>
                  <a:pt x="183536" y="0"/>
                </a:lnTo>
                <a:lnTo>
                  <a:pt x="182136" y="1400"/>
                </a:lnTo>
                <a:lnTo>
                  <a:pt x="1400" y="1400"/>
                </a:lnTo>
                <a:close/>
              </a:path>
              <a:path fill="darken" w="183536" h="21600">
                <a:moveTo>
                  <a:pt x="183536" y="0"/>
                </a:moveTo>
                <a:lnTo>
                  <a:pt x="183536" y="21600"/>
                </a:lnTo>
                <a:lnTo>
                  <a:pt x="182136" y="20200"/>
                </a:lnTo>
                <a:lnTo>
                  <a:pt x="182136" y="1400"/>
                </a:lnTo>
                <a:close/>
              </a:path>
              <a:path fill="darkenLess" w="183536" h="21600">
                <a:moveTo>
                  <a:pt x="183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2136" y="20200"/>
                </a:lnTo>
                <a:close/>
              </a:path>
              <a:path fill="lighten" w="183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" descr="gifmb0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3"/>
          <p:cNvSpPr/>
          <p:nvPr/>
        </p:nvSpPr>
        <p:spPr>
          <a:xfrm>
            <a:off x="762120" y="1384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　　小兰准备用</a:t>
            </a: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30</a:t>
            </a: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元买钢笔和笔记本，已知一支钢笔</a:t>
            </a: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4.5</a:t>
            </a: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元，一本笔记本</a:t>
            </a:r>
            <a:r>
              <a:rPr b="0" lang="en-US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元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WordArt 4"/>
          <p:cNvSpPr txBox="1"/>
          <p:nvPr/>
        </p:nvSpPr>
        <p:spPr>
          <a:xfrm>
            <a:off x="762120" y="60948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问题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9" name="AutoShape 5"/>
          <p:cNvSpPr/>
          <p:nvPr/>
        </p:nvSpPr>
        <p:spPr>
          <a:xfrm>
            <a:off x="2514600" y="6248520"/>
            <a:ext cx="6629400" cy="609480"/>
          </a:xfrm>
          <a:custGeom>
            <a:avLst/>
            <a:gdLst>
              <a:gd name="textAreaLeft" fmla="*/ 39240 w 6629400"/>
              <a:gd name="textAreaRight" fmla="*/ 6590160 w 6629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4820" h="21600">
                <a:moveTo>
                  <a:pt x="0" y="0"/>
                </a:moveTo>
                <a:lnTo>
                  <a:pt x="234820" y="0"/>
                </a:lnTo>
                <a:lnTo>
                  <a:pt x="234820" y="21600"/>
                </a:lnTo>
                <a:lnTo>
                  <a:pt x="0" y="21600"/>
                </a:lnTo>
                <a:close/>
              </a:path>
              <a:path fill="lightenLess" w="234820" h="21600">
                <a:moveTo>
                  <a:pt x="0" y="0"/>
                </a:moveTo>
                <a:lnTo>
                  <a:pt x="234820" y="0"/>
                </a:lnTo>
                <a:lnTo>
                  <a:pt x="233420" y="1400"/>
                </a:lnTo>
                <a:lnTo>
                  <a:pt x="1400" y="1400"/>
                </a:lnTo>
                <a:close/>
              </a:path>
              <a:path fill="darken" w="234820" h="21600">
                <a:moveTo>
                  <a:pt x="234820" y="0"/>
                </a:moveTo>
                <a:lnTo>
                  <a:pt x="234820" y="21600"/>
                </a:lnTo>
                <a:lnTo>
                  <a:pt x="233420" y="20200"/>
                </a:lnTo>
                <a:lnTo>
                  <a:pt x="233420" y="1400"/>
                </a:lnTo>
                <a:close/>
              </a:path>
              <a:path fill="darkenLess" w="234820" h="21600">
                <a:moveTo>
                  <a:pt x="234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420" y="20200"/>
                </a:lnTo>
                <a:close/>
              </a:path>
              <a:path fill="lighten" w="234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6" descr="f197"/>
          <p:cNvPicPr/>
          <p:nvPr/>
        </p:nvPicPr>
        <p:blipFill>
          <a:blip r:embed="rId2"/>
          <a:stretch/>
        </p:blipFill>
        <p:spPr>
          <a:xfrm>
            <a:off x="7467480" y="38088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741" name="Text Box 7"/>
          <p:cNvSpPr/>
          <p:nvPr/>
        </p:nvSpPr>
        <p:spPr>
          <a:xfrm>
            <a:off x="914400" y="358128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如果她钢笔和笔记本共买了</a:t>
            </a:r>
            <a:r>
              <a:rPr b="0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件，则她有多少种购买方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4" dur="1" fill="hold"/>
                                  <p:tgtEl>
                                    <p:spTgt spid="7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24:37Z</dcterms:modified>
  <cp:revision>30</cp:revision>
  <dc:subject>人教版七年级数学（下）全套课件</dc:subject>
  <dc:title>人教版七年级数学（下）全套课件</dc:title>
</cp:coreProperties>
</file>