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67C-1058-4E2F-A783-FA5446C3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31C-9415-43D8-A911-896CA2B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6B5-21B3-4310-B406-232406D8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16C-16BA-432D-8C63-6AD14CB0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9E39-4C81-4A87-9B09-5D7A3553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EB0C-F159-4372-A8A7-22A489EB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A70-CBC6-4791-A4FA-F9DB87EB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03EA-DFAA-4CEA-A1D0-169CFBEA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8230-6A18-4410-9ADB-80EE72E3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09C5-A96B-4728-A62E-12D7C502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8288-08DC-44D7-9DFF-6002EC0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4BE-2B6D-4963-BEB9-55B392D9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B138-0D30-4DE8-BC2D-C298B66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9192-07E1-40F9-9773-3F8D622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F7E-0CF1-47BE-94DF-0228052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CDF8-0065-40D5-A132-93708471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8626-A726-4B4E-A0DC-C0EBC6CD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C78F0-3268-4FE9-A5A6-1989FFEC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B0BCA-18A7-4570-BFB3-7877059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0D685-5CFA-4641-91EA-330918BE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F33A9-3D1C-4080-9CDE-D7E9D70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8DD55-FEC7-4DAF-994E-09C10ADA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38F-D00E-4919-9E54-553D04C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FB225-D70B-470C-A1F7-1D241A1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7DC24-7B5B-4037-8E08-2929BEA2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546C7-6BF3-41EA-856E-B2A32A2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F42BD-3F5D-45BE-B0A0-483245E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4F48C-D556-477D-A61F-02264046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2440E-1A2C-45C1-BB58-0F3A14D8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E6DB4-3597-4BFE-846C-F9156A78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3944-8505-407B-9187-95A56D56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5899-2210-4152-B06E-E742752A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C8BA-5B1A-4E68-91B4-070C10CD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0F1-DD74-44E8-BC2B-B0E7DB87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BAF1-F385-4BCB-9436-B4327660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C893-AC0B-44E6-A5FC-90E00BA4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2C17-F02F-4A9A-9E38-24A0AA67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492E-A0E8-41B9-B866-EE35B2D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2FB4B-805E-4D0D-A943-5F395D3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B381-3972-4E3A-9FAE-34BD13C1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9830-951D-4DD8-997D-AB8BB04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67D1-EC84-45DD-B919-6E4A72BD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A6DB-09B6-43AF-80B2-FFFC8DA9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0144A-B205-4EB6-B7A1-1315F12A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810-C040-4B2A-9674-13807DF1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A826C-B368-4FAB-93F8-4595AFB2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46C5-9497-4431-8FF5-919BDF9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28D27-3F0E-4656-930B-B607E5C9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2936C-1E38-4D7F-828C-C6FEAD83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58A4-FD2A-435F-AB8A-0869CC3A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37CE-4018-47D0-9621-65B18128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880F-5646-4358-BB9B-6F6DE07F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0763-1B41-4AA1-8D10-D3D3276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6CE9-50CD-4546-A2D8-C550863A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5C3AD-D723-4680-B54E-CEBBC78A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1AD-439B-401A-8465-F37E965D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D8DD-4F13-4ACE-90C7-313DA0E7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E06B-E501-4299-A0D7-2A8AA2FE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2F62-D954-41EA-8DFE-C8FF431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F3DA-E568-4F70-9CCE-C1C1FE31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7F67-34AE-4C04-AC51-4A8AC14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73AB-6362-4339-AAA2-1A20DA1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63B6-3F5C-4C8E-8AF3-EE7B3254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3A7D-A779-41B0-AD0A-88CD5C7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5A4E7-26BE-4616-8D84-1A633D2F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34DA4-B8D7-4AB1-94A9-7AC87984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C60-07EB-4124-A46C-9BB2488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D01E-AA63-41C6-96AB-2C8D883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BF47B-59E5-4C20-91FC-1D4A2F86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8B512-87E5-4F3F-B28D-84D3E1B7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D47-BB22-4535-86D3-CB906971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179-07E7-4F88-8080-EC29261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B9B0-A5CD-45C0-811D-F6ED7FA9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75DC-C4A9-4B6C-9669-FC076A3633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585B-EFD1-4843-A4DC-12B75256F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E5F-A852-4964-A842-8451FA6B2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1F6-784F-4A96-9F63-9613D4DA42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E3EC-4FA3-4E94-B568-01AD83CCB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4"/>
          <p:cNvSpPr/>
          <p:nvPr/>
        </p:nvSpPr>
        <p:spPr>
          <a:xfrm>
            <a:off x="1550160" y="155736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.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3817080" y="151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5219640" y="105264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0066"/>
                </a:solidFill>
                <a:latin typeface="Arial"/>
                <a:ea typeface="隶书"/>
              </a:rPr>
              <a:t>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3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3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j0229389"/>
          <p:cNvPicPr/>
          <p:nvPr/>
        </p:nvPicPr>
        <p:blipFill>
          <a:blip r:embed="rId1"/>
          <a:stretch/>
        </p:blipFill>
        <p:spPr>
          <a:xfrm>
            <a:off x="7415280" y="5037120"/>
            <a:ext cx="1728720" cy="182088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324000" y="660240"/>
            <a:ext cx="8280360" cy="5328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华文细黑"/>
              </a:rPr>
              <a:t>       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细黑"/>
              </a:rPr>
              <a:t>在实数范围内，相反数、倒数、绝对值的意义和有理数范围内的相反数、倒数、绝对值的意义完全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-108000" y="2421000"/>
            <a:ext cx="9143280" cy="3677040"/>
            <a:chOff x="-108000" y="2421000"/>
            <a:chExt cx="9143280" cy="3677040"/>
          </a:xfrm>
        </p:grpSpPr>
        <p:grpSp>
          <p:nvGrpSpPr>
            <p:cNvPr id="475" name="Group 5"/>
            <p:cNvGrpSpPr/>
            <p:nvPr/>
          </p:nvGrpSpPr>
          <p:grpSpPr>
            <a:xfrm>
              <a:off x="-108000" y="2421000"/>
              <a:ext cx="2883240" cy="934920"/>
              <a:chOff x="-108000" y="2421000"/>
              <a:chExt cx="2883240" cy="934920"/>
            </a:xfrm>
          </p:grpSpPr>
          <p:sp>
            <p:nvSpPr>
              <p:cNvPr id="476" name="AutoShape 6"/>
              <p:cNvSpPr/>
              <p:nvPr/>
            </p:nvSpPr>
            <p:spPr>
              <a:xfrm>
                <a:off x="-108000" y="2421000"/>
                <a:ext cx="2883240" cy="934920"/>
              </a:xfrm>
              <a:prstGeom prst="irregularSeal2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WordArt 7"/>
              <p:cNvSpPr txBox="1"/>
              <p:nvPr/>
            </p:nvSpPr>
            <p:spPr>
              <a:xfrm>
                <a:off x="575640" y="2492280"/>
                <a:ext cx="113724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32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cc0066"/>
                      </a:solidFill>
                      <a:miter/>
                    </a:ln>
                    <a:solidFill>
                      <a:srgbClr val="cc0066"/>
                    </a:soli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宋体"/>
                  </a:rPr>
                  <a:t>想一想</a:t>
                </a:r>
                <a:endParaRPr b="0" lang="en-US" sz="1800" spc="1" strike="noStrike">
                  <a:ln w="9360">
                    <a:solidFill>
                      <a:srgbClr val="cc0066"/>
                    </a:solidFill>
                    <a:miter/>
                  </a:ln>
                  <a:solidFill>
                    <a:srgbClr val="cc0066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grpSp>
          <p:nvGrpSpPr>
            <p:cNvPr id="478" name="Group 8"/>
            <p:cNvGrpSpPr/>
            <p:nvPr/>
          </p:nvGrpSpPr>
          <p:grpSpPr>
            <a:xfrm>
              <a:off x="-108000" y="3573360"/>
              <a:ext cx="8877240" cy="1323000"/>
              <a:chOff x="-108000" y="3573360"/>
              <a:chExt cx="8877240" cy="1323000"/>
            </a:xfrm>
          </p:grpSpPr>
          <p:sp>
            <p:nvSpPr>
              <p:cNvPr id="479" name="Text Box 9"/>
              <p:cNvSpPr/>
              <p:nvPr/>
            </p:nvSpPr>
            <p:spPr>
              <a:xfrm>
                <a:off x="-108000" y="3573360"/>
                <a:ext cx="887724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99"/>
                    </a:solidFill>
                    <a:latin typeface="Arial"/>
                  </a:rPr>
                  <a:t>（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Arial"/>
                  </a:rPr>
                  <a:t>）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a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Arial"/>
                  </a:rPr>
                  <a:t>是一个实数，它的相反数为                  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3399"/>
                    </a:solidFill>
                    <a:latin typeface="Arial"/>
                  </a:rPr>
                  <a:t>                 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Arial"/>
                  </a:rPr>
                  <a:t>绝对值为                  ；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0"/>
              <p:cNvSpPr/>
              <p:nvPr/>
            </p:nvSpPr>
            <p:spPr>
              <a:xfrm>
                <a:off x="6492600" y="4076640"/>
                <a:ext cx="159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1"/>
              <p:cNvSpPr/>
              <p:nvPr/>
            </p:nvSpPr>
            <p:spPr>
              <a:xfrm>
                <a:off x="2926440" y="4797360"/>
                <a:ext cx="197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2"/>
            <p:cNvGrpSpPr/>
            <p:nvPr/>
          </p:nvGrpSpPr>
          <p:grpSpPr>
            <a:xfrm>
              <a:off x="-108000" y="5516640"/>
              <a:ext cx="9143280" cy="581400"/>
              <a:chOff x="-108000" y="5516640"/>
              <a:chExt cx="9143280" cy="581400"/>
            </a:xfrm>
          </p:grpSpPr>
          <p:sp>
            <p:nvSpPr>
              <p:cNvPr id="483" name="Text Box 13"/>
              <p:cNvSpPr/>
              <p:nvPr/>
            </p:nvSpPr>
            <p:spPr>
              <a:xfrm>
                <a:off x="-108000" y="5516640"/>
                <a:ext cx="91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Arial"/>
                  </a:rPr>
                  <a:t>（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Arial"/>
                  </a:rPr>
                  <a:t>）如果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a      0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Arial"/>
                  </a:rPr>
                  <a:t>，那么它的倒数为                  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.</a:t>
                </a: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4" name="Object 14"/>
                  <p:cNvSpPr txBox="1"/>
                  <p:nvPr/>
                </p:nvSpPr>
                <p:spPr>
                  <a:xfrm>
                    <a:off x="2156760" y="5541840"/>
                    <a:ext cx="550080" cy="52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485" name="Line 15"/>
              <p:cNvSpPr/>
              <p:nvPr/>
            </p:nvSpPr>
            <p:spPr>
              <a:xfrm>
                <a:off x="6454080" y="5950080"/>
                <a:ext cx="174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86" name="Object 16"/>
              <p:cNvSpPr txBox="1"/>
              <p:nvPr/>
            </p:nvSpPr>
            <p:spPr>
              <a:xfrm>
                <a:off x="6732720" y="3500280"/>
                <a:ext cx="100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7"/>
              <p:cNvSpPr txBox="1"/>
              <p:nvPr/>
            </p:nvSpPr>
            <p:spPr>
              <a:xfrm>
                <a:off x="3276720" y="4076640"/>
                <a:ext cx="7905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18"/>
              <p:cNvSpPr txBox="1"/>
              <p:nvPr/>
            </p:nvSpPr>
            <p:spPr>
              <a:xfrm>
                <a:off x="6804000" y="4724280"/>
                <a:ext cx="6476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3"/>
          <p:cNvSpPr/>
          <p:nvPr/>
        </p:nvSpPr>
        <p:spPr>
          <a:xfrm>
            <a:off x="1896120" y="4005360"/>
            <a:ext cx="55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３、绝对值等于     的数是　        ，         的平方 是     　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"/>
          <p:cNvGrpSpPr/>
          <p:nvPr/>
        </p:nvGrpSpPr>
        <p:grpSpPr>
          <a:xfrm>
            <a:off x="-25920" y="-243000"/>
            <a:ext cx="2691360" cy="1016280"/>
            <a:chOff x="-25920" y="-243000"/>
            <a:chExt cx="2691360" cy="1016280"/>
          </a:xfrm>
        </p:grpSpPr>
        <p:sp>
          <p:nvSpPr>
            <p:cNvPr id="491" name="Freeform 3"/>
            <p:cNvSpPr/>
            <p:nvPr/>
          </p:nvSpPr>
          <p:spPr>
            <a:xfrm>
              <a:off x="144360" y="161640"/>
              <a:ext cx="2521080" cy="36684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9999ff"/>
              </a:solidFill>
              <a:round/>
            </a:ln>
            <a:effectLst>
              <a:outerShdw dist="153753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4"/>
            <p:cNvGrpSpPr/>
            <p:nvPr/>
          </p:nvGrpSpPr>
          <p:grpSpPr>
            <a:xfrm>
              <a:off x="-25920" y="-243000"/>
              <a:ext cx="938160" cy="1016280"/>
              <a:chOff x="-25920" y="-243000"/>
              <a:chExt cx="938160" cy="1016280"/>
            </a:xfrm>
          </p:grpSpPr>
          <p:grpSp>
            <p:nvGrpSpPr>
              <p:cNvPr id="493" name="Group 5"/>
              <p:cNvGrpSpPr/>
              <p:nvPr/>
            </p:nvGrpSpPr>
            <p:grpSpPr>
              <a:xfrm>
                <a:off x="-25920" y="-243000"/>
                <a:ext cx="938160" cy="1016280"/>
                <a:chOff x="-25920" y="-243000"/>
                <a:chExt cx="938160" cy="1016280"/>
              </a:xfrm>
            </p:grpSpPr>
            <p:sp>
              <p:nvSpPr>
                <p:cNvPr id="494" name="Freeform 6"/>
                <p:cNvSpPr/>
                <p:nvPr/>
              </p:nvSpPr>
              <p:spPr>
                <a:xfrm rot="158400">
                  <a:off x="142200" y="-109440"/>
                  <a:ext cx="566280" cy="646200"/>
                </a:xfrm>
                <a:custGeom>
                  <a:avLst/>
                  <a:gdLst>
                    <a:gd name="textAreaLeft" fmla="*/ 0 w 566280"/>
                    <a:gd name="textAreaRight" fmla="*/ 566640 w 56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9999cc"/>
                    </a:gs>
                  </a:gsLst>
                  <a:lin ang="18900000"/>
                </a:gradFill>
                <a:ln w="38160">
                  <a:solidFill>
                    <a:srgbClr val="99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7"/>
                <p:cNvGrpSpPr/>
                <p:nvPr/>
              </p:nvGrpSpPr>
              <p:grpSpPr>
                <a:xfrm>
                  <a:off x="-25920" y="-243000"/>
                  <a:ext cx="938160" cy="1016280"/>
                  <a:chOff x="-25920" y="-243000"/>
                  <a:chExt cx="938160" cy="1016280"/>
                </a:xfrm>
              </p:grpSpPr>
              <p:sp>
                <p:nvSpPr>
                  <p:cNvPr id="496" name="Freeform 8"/>
                  <p:cNvSpPr/>
                  <p:nvPr/>
                </p:nvSpPr>
                <p:spPr>
                  <a:xfrm>
                    <a:off x="333000" y="-79560"/>
                    <a:ext cx="564840" cy="606240"/>
                  </a:xfrm>
                  <a:custGeom>
                    <a:avLst/>
                    <a:gdLst>
                      <a:gd name="textAreaLeft" fmla="*/ 0 w 564840"/>
                      <a:gd name="textAreaRight" fmla="*/ 565200 w 564840"/>
                      <a:gd name="textAreaTop" fmla="*/ 0 h 606240"/>
                      <a:gd name="textAreaBottom" fmla="*/ 606600 h 606240"/>
                    </a:gdLst>
                    <a:ahLst/>
                    <a:rect l="textAreaLeft" t="textAreaTop" r="textAreaRight" b="textAreaBottom"/>
                    <a:pathLst>
                      <a:path w="432" h="624">
                        <a:moveTo>
                          <a:pt x="0" y="624"/>
                        </a:moveTo>
                        <a:lnTo>
                          <a:pt x="96" y="624"/>
                        </a:lnTo>
                        <a:lnTo>
                          <a:pt x="432" y="0"/>
                        </a:lnTo>
                        <a:lnTo>
                          <a:pt x="288" y="48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99cc"/>
                      </a:gs>
                      <a:gs pos="50000">
                        <a:srgbClr val="cc3300"/>
                      </a:gs>
                      <a:gs pos="100000">
                        <a:srgbClr val="9999cc"/>
                      </a:gs>
                    </a:gsLst>
                    <a:lin ang="2700000"/>
                  </a:gradFill>
                  <a:ln w="381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9"/>
                  <p:cNvSpPr/>
                  <p:nvPr/>
                </p:nvSpPr>
                <p:spPr>
                  <a:xfrm rot="961200">
                    <a:off x="105480" y="-209520"/>
                    <a:ext cx="295200" cy="68436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684360"/>
                      <a:gd name="textAreaBottom" fmla="*/ 684720 h 684360"/>
                    </a:gdLst>
                    <a:ahLst/>
                    <a:rect l="textAreaLeft" t="textAreaTop" r="textAreaRight" b="textAreaBottom"/>
                    <a:pathLst>
                      <a:path w="480" h="720">
                        <a:moveTo>
                          <a:pt x="480" y="96"/>
                        </a:moveTo>
                        <a:lnTo>
                          <a:pt x="192" y="672"/>
                        </a:lnTo>
                        <a:lnTo>
                          <a:pt x="144" y="720"/>
                        </a:lnTo>
                        <a:lnTo>
                          <a:pt x="0" y="624"/>
                        </a:lnTo>
                        <a:lnTo>
                          <a:pt x="144" y="336"/>
                        </a:lnTo>
                        <a:lnTo>
                          <a:pt x="336" y="0"/>
                        </a:lnTo>
                        <a:lnTo>
                          <a:pt x="480" y="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cc66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Freeform 10"/>
                  <p:cNvSpPr/>
                  <p:nvPr/>
                </p:nvSpPr>
                <p:spPr>
                  <a:xfrm>
                    <a:off x="442440" y="-243000"/>
                    <a:ext cx="469800" cy="171360"/>
                  </a:xfrm>
                  <a:custGeom>
                    <a:avLst/>
                    <a:gdLst>
                      <a:gd name="textAreaLeft" fmla="*/ 0 w 469800"/>
                      <a:gd name="textAreaRight" fmla="*/ 470160 w 4698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336" h="240">
                        <a:moveTo>
                          <a:pt x="192" y="240"/>
                        </a:moveTo>
                        <a:lnTo>
                          <a:pt x="48" y="144"/>
                        </a:lnTo>
                        <a:lnTo>
                          <a:pt x="0" y="48"/>
                        </a:lnTo>
                        <a:lnTo>
                          <a:pt x="144" y="0"/>
                        </a:lnTo>
                        <a:lnTo>
                          <a:pt x="288" y="48"/>
                        </a:lnTo>
                        <a:lnTo>
                          <a:pt x="336" y="192"/>
                        </a:lnTo>
                        <a:lnTo>
                          <a:pt x="192" y="24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66"/>
                      </a:gs>
                      <a:gs pos="50000">
                        <a:srgbClr val="ff9933"/>
                      </a:gs>
                      <a:gs pos="100000">
                        <a:srgbClr val="ffcc66"/>
                      </a:gs>
                    </a:gsLst>
                    <a:lin ang="189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11"/>
                  <p:cNvSpPr/>
                  <p:nvPr/>
                </p:nvSpPr>
                <p:spPr>
                  <a:xfrm>
                    <a:off x="60120" y="320400"/>
                    <a:ext cx="375840" cy="390600"/>
                  </a:xfrm>
                  <a:custGeom>
                    <a:avLst/>
                    <a:gdLst>
                      <a:gd name="textAreaLeft" fmla="*/ 0 w 375840"/>
                      <a:gd name="textAreaRight" fmla="*/ 376200 w 375840"/>
                      <a:gd name="textAreaTop" fmla="*/ 0 h 390600"/>
                      <a:gd name="textAreaBottom" fmla="*/ 390960 h 390600"/>
                    </a:gdLst>
                    <a:ahLst/>
                    <a:rect l="textAreaLeft" t="textAreaTop" r="textAreaRight" b="textAreaBottom"/>
                    <a:pathLst>
                      <a:path w="384" h="384">
                        <a:moveTo>
                          <a:pt x="192" y="192"/>
                        </a:moveTo>
                        <a:lnTo>
                          <a:pt x="96" y="144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lnTo>
                          <a:pt x="0" y="384"/>
                        </a:lnTo>
                        <a:lnTo>
                          <a:pt x="384" y="192"/>
                        </a:lnTo>
                        <a:lnTo>
                          <a:pt x="192" y="19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9900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12"/>
                  <p:cNvSpPr/>
                  <p:nvPr/>
                </p:nvSpPr>
                <p:spPr>
                  <a:xfrm rot="1629000">
                    <a:off x="0" y="597960"/>
                    <a:ext cx="150480" cy="14904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969696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Oval 13"/>
              <p:cNvSpPr/>
              <p:nvPr/>
            </p:nvSpPr>
            <p:spPr>
              <a:xfrm>
                <a:off x="661680" y="-231480"/>
                <a:ext cx="140760" cy="6984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14"/>
            <p:cNvSpPr/>
            <p:nvPr/>
          </p:nvSpPr>
          <p:spPr>
            <a:xfrm>
              <a:off x="720720" y="161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15"/>
          <p:cNvSpPr/>
          <p:nvPr/>
        </p:nvSpPr>
        <p:spPr>
          <a:xfrm>
            <a:off x="395280" y="1052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二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16"/>
              <p:cNvSpPr txBox="1"/>
              <p:nvPr/>
            </p:nvSpPr>
            <p:spPr>
              <a:xfrm>
                <a:off x="826920" y="3170160"/>
                <a:ext cx="93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05" name="Group 17"/>
          <p:cNvGrpSpPr/>
          <p:nvPr/>
        </p:nvGrpSpPr>
        <p:grpSpPr>
          <a:xfrm>
            <a:off x="1138680" y="3197160"/>
            <a:ext cx="7140240" cy="520560"/>
            <a:chOff x="1138680" y="3197160"/>
            <a:chExt cx="7140240" cy="520560"/>
          </a:xfrm>
        </p:grpSpPr>
        <p:sp>
          <p:nvSpPr>
            <p:cNvPr id="506" name="Rectangle 18"/>
            <p:cNvSpPr/>
            <p:nvPr/>
          </p:nvSpPr>
          <p:spPr>
            <a:xfrm>
              <a:off x="1138680" y="3197160"/>
              <a:ext cx="646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</a:rPr>
                <a:t>２、          的相反数是　　　　，绝对值是　　　　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9"/>
            <p:cNvSpPr/>
            <p:nvPr/>
          </p:nvSpPr>
          <p:spPr>
            <a:xfrm>
              <a:off x="3670200" y="36288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0"/>
            <p:cNvSpPr/>
            <p:nvPr/>
          </p:nvSpPr>
          <p:spPr>
            <a:xfrm>
              <a:off x="6838920" y="36288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9" name="Object 21"/>
              <p:cNvSpPr txBox="1"/>
              <p:nvPr/>
            </p:nvSpPr>
            <p:spPr>
              <a:xfrm>
                <a:off x="5745240" y="4017960"/>
                <a:ext cx="793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24"/>
              <p:cNvSpPr txBox="1"/>
              <p:nvPr/>
            </p:nvSpPr>
            <p:spPr>
              <a:xfrm>
                <a:off x="2514600" y="3933720"/>
                <a:ext cx="595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1" name="Line 25"/>
          <p:cNvSpPr/>
          <p:nvPr/>
        </p:nvSpPr>
        <p:spPr>
          <a:xfrm>
            <a:off x="4284720" y="446724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6"/>
          <p:cNvSpPr/>
          <p:nvPr/>
        </p:nvSpPr>
        <p:spPr>
          <a:xfrm>
            <a:off x="8101080" y="44672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7"/>
          <p:cNvGrpSpPr/>
          <p:nvPr/>
        </p:nvGrpSpPr>
        <p:grpSpPr>
          <a:xfrm>
            <a:off x="1531800" y="4897440"/>
            <a:ext cx="4048200" cy="547560"/>
            <a:chOff x="1531800" y="4897440"/>
            <a:chExt cx="4048200" cy="547560"/>
          </a:xfrm>
        </p:grpSpPr>
        <p:sp>
          <p:nvSpPr>
            <p:cNvPr id="514" name="Rectangle 28"/>
            <p:cNvSpPr/>
            <p:nvPr/>
          </p:nvSpPr>
          <p:spPr>
            <a:xfrm>
              <a:off x="1531800" y="4897440"/>
              <a:ext cx="161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</a:rPr>
                <a:t>４、比较大小：－７　</a:t>
              </a:r>
              <a:r>
                <a:rPr b="1" lang="zh-CN" sz="1800" spc="-1" strike="noStrike">
                  <a:solidFill>
                    <a:srgbClr val="003366"/>
                  </a:solidFill>
                  <a:latin typeface="Arial"/>
                </a:rPr>
                <a:t>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9"/>
            <p:cNvSpPr/>
            <p:nvPr/>
          </p:nvSpPr>
          <p:spPr>
            <a:xfrm>
              <a:off x="3348000" y="532908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6" name="Object 30"/>
                <p:cNvSpPr txBox="1"/>
                <p:nvPr/>
              </p:nvSpPr>
              <p:spPr>
                <a:xfrm>
                  <a:off x="4572000" y="4897440"/>
                  <a:ext cx="100800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7" name="Rectangle 36"/>
          <p:cNvSpPr/>
          <p:nvPr/>
        </p:nvSpPr>
        <p:spPr>
          <a:xfrm>
            <a:off x="2391120" y="1666800"/>
            <a:ext cx="46504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１、正实数的绝对值是</a:t>
            </a:r>
            <a:r>
              <a:rPr b="1" lang="zh-CN" sz="2800" spc="-1" strike="noStrike" u="sng">
                <a:solidFill>
                  <a:srgbClr val="003366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，０的绝对值是 </a:t>
            </a:r>
            <a:r>
              <a:rPr b="1" lang="zh-CN" sz="2800" spc="-1" strike="noStrike" u="sng">
                <a:solidFill>
                  <a:srgbClr val="003366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负实数的绝对值是</a:t>
            </a:r>
            <a:r>
              <a:rPr b="1" lang="zh-CN" sz="2800" spc="-1" strike="noStrike" u="sng">
                <a:solidFill>
                  <a:srgbClr val="003366"/>
                </a:solidFill>
                <a:uFillTx/>
                <a:latin typeface="Arial"/>
              </a:rPr>
              <a:t>　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3997440" y="1773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它本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8245440" y="17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3851280" y="23954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它的相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49"/>
              <p:cNvSpPr txBox="1"/>
              <p:nvPr/>
            </p:nvSpPr>
            <p:spPr>
              <a:xfrm>
                <a:off x="3851280" y="3052800"/>
                <a:ext cx="620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50"/>
              <p:cNvSpPr txBox="1"/>
              <p:nvPr/>
            </p:nvSpPr>
            <p:spPr>
              <a:xfrm>
                <a:off x="7020000" y="2951280"/>
                <a:ext cx="6919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51"/>
              <p:cNvSpPr txBox="1"/>
              <p:nvPr/>
            </p:nvSpPr>
            <p:spPr>
              <a:xfrm>
                <a:off x="4282920" y="3873600"/>
                <a:ext cx="1081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52"/>
              <p:cNvSpPr txBox="1"/>
              <p:nvPr/>
            </p:nvSpPr>
            <p:spPr>
              <a:xfrm>
                <a:off x="8317080" y="3981600"/>
                <a:ext cx="428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5" name="Group 53"/>
          <p:cNvGrpSpPr/>
          <p:nvPr/>
        </p:nvGrpSpPr>
        <p:grpSpPr>
          <a:xfrm>
            <a:off x="3637080" y="4941720"/>
            <a:ext cx="287280" cy="287280"/>
            <a:chOff x="3637080" y="4941720"/>
            <a:chExt cx="287280" cy="287280"/>
          </a:xfrm>
        </p:grpSpPr>
        <p:sp>
          <p:nvSpPr>
            <p:cNvPr id="526" name="Line 54"/>
            <p:cNvSpPr/>
            <p:nvPr/>
          </p:nvSpPr>
          <p:spPr>
            <a:xfrm flipH="1">
              <a:off x="3637080" y="4941720"/>
              <a:ext cx="287280" cy="144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5"/>
            <p:cNvSpPr/>
            <p:nvPr/>
          </p:nvSpPr>
          <p:spPr>
            <a:xfrm>
              <a:off x="3637080" y="5085720"/>
              <a:ext cx="287280" cy="1432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56"/>
          <p:cNvSpPr/>
          <p:nvPr/>
        </p:nvSpPr>
        <p:spPr>
          <a:xfrm>
            <a:off x="1152360" y="5618160"/>
            <a:ext cx="6264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、一个数的绝对值是         ，则这个数是</a:t>
            </a:r>
            <a:r>
              <a:rPr b="1" lang="zh-CN" sz="2800" spc="-1" strike="noStrike" u="sng">
                <a:solidFill>
                  <a:srgbClr val="003366"/>
                </a:solidFill>
                <a:uFillTx/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57"/>
              <p:cNvSpPr txBox="1"/>
              <p:nvPr/>
            </p:nvSpPr>
            <p:spPr>
              <a:xfrm>
                <a:off x="3772080" y="5396040"/>
                <a:ext cx="5187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58"/>
              <p:cNvSpPr txBox="1"/>
              <p:nvPr/>
            </p:nvSpPr>
            <p:spPr>
              <a:xfrm>
                <a:off x="6991200" y="5013360"/>
                <a:ext cx="8654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3"/>
          <p:cNvSpPr/>
          <p:nvPr/>
        </p:nvSpPr>
        <p:spPr>
          <a:xfrm>
            <a:off x="144360" y="3500280"/>
            <a:ext cx="457200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整数有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有理数有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无理数有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实数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3"/>
          <p:cNvGrpSpPr/>
          <p:nvPr/>
        </p:nvGrpSpPr>
        <p:grpSpPr>
          <a:xfrm>
            <a:off x="-25920" y="-243000"/>
            <a:ext cx="2691360" cy="1016280"/>
            <a:chOff x="-25920" y="-243000"/>
            <a:chExt cx="2691360" cy="1016280"/>
          </a:xfrm>
        </p:grpSpPr>
        <p:sp>
          <p:nvSpPr>
            <p:cNvPr id="533" name="Freeform 4"/>
            <p:cNvSpPr/>
            <p:nvPr/>
          </p:nvSpPr>
          <p:spPr>
            <a:xfrm>
              <a:off x="144360" y="161640"/>
              <a:ext cx="2521080" cy="36684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9999ff"/>
              </a:solidFill>
              <a:round/>
            </a:ln>
            <a:effectLst>
              <a:outerShdw dist="153753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5"/>
            <p:cNvGrpSpPr/>
            <p:nvPr/>
          </p:nvGrpSpPr>
          <p:grpSpPr>
            <a:xfrm>
              <a:off x="-25920" y="-243000"/>
              <a:ext cx="938160" cy="1016280"/>
              <a:chOff x="-25920" y="-243000"/>
              <a:chExt cx="938160" cy="1016280"/>
            </a:xfrm>
          </p:grpSpPr>
          <p:grpSp>
            <p:nvGrpSpPr>
              <p:cNvPr id="535" name="Group 6"/>
              <p:cNvGrpSpPr/>
              <p:nvPr/>
            </p:nvGrpSpPr>
            <p:grpSpPr>
              <a:xfrm>
                <a:off x="-25920" y="-243000"/>
                <a:ext cx="938160" cy="1016280"/>
                <a:chOff x="-25920" y="-243000"/>
                <a:chExt cx="938160" cy="1016280"/>
              </a:xfrm>
            </p:grpSpPr>
            <p:sp>
              <p:nvSpPr>
                <p:cNvPr id="536" name="Freeform 7"/>
                <p:cNvSpPr/>
                <p:nvPr/>
              </p:nvSpPr>
              <p:spPr>
                <a:xfrm rot="158400">
                  <a:off x="142200" y="-109440"/>
                  <a:ext cx="566280" cy="646200"/>
                </a:xfrm>
                <a:custGeom>
                  <a:avLst/>
                  <a:gdLst>
                    <a:gd name="textAreaLeft" fmla="*/ 0 w 566280"/>
                    <a:gd name="textAreaRight" fmla="*/ 566640 w 56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9999cc"/>
                    </a:gs>
                  </a:gsLst>
                  <a:lin ang="18900000"/>
                </a:gradFill>
                <a:ln w="38160">
                  <a:solidFill>
                    <a:srgbClr val="99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8"/>
                <p:cNvGrpSpPr/>
                <p:nvPr/>
              </p:nvGrpSpPr>
              <p:grpSpPr>
                <a:xfrm>
                  <a:off x="-25920" y="-243000"/>
                  <a:ext cx="938160" cy="1016280"/>
                  <a:chOff x="-25920" y="-243000"/>
                  <a:chExt cx="938160" cy="1016280"/>
                </a:xfrm>
              </p:grpSpPr>
              <p:sp>
                <p:nvSpPr>
                  <p:cNvPr id="538" name="Freeform 9"/>
                  <p:cNvSpPr/>
                  <p:nvPr/>
                </p:nvSpPr>
                <p:spPr>
                  <a:xfrm>
                    <a:off x="333000" y="-79560"/>
                    <a:ext cx="564840" cy="606240"/>
                  </a:xfrm>
                  <a:custGeom>
                    <a:avLst/>
                    <a:gdLst>
                      <a:gd name="textAreaLeft" fmla="*/ 0 w 564840"/>
                      <a:gd name="textAreaRight" fmla="*/ 565200 w 564840"/>
                      <a:gd name="textAreaTop" fmla="*/ 0 h 606240"/>
                      <a:gd name="textAreaBottom" fmla="*/ 606600 h 606240"/>
                    </a:gdLst>
                    <a:ahLst/>
                    <a:rect l="textAreaLeft" t="textAreaTop" r="textAreaRight" b="textAreaBottom"/>
                    <a:pathLst>
                      <a:path w="432" h="624">
                        <a:moveTo>
                          <a:pt x="0" y="624"/>
                        </a:moveTo>
                        <a:lnTo>
                          <a:pt x="96" y="624"/>
                        </a:lnTo>
                        <a:lnTo>
                          <a:pt x="432" y="0"/>
                        </a:lnTo>
                        <a:lnTo>
                          <a:pt x="288" y="48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99cc"/>
                      </a:gs>
                      <a:gs pos="50000">
                        <a:srgbClr val="cc3300"/>
                      </a:gs>
                      <a:gs pos="100000">
                        <a:srgbClr val="9999cc"/>
                      </a:gs>
                    </a:gsLst>
                    <a:lin ang="2700000"/>
                  </a:gradFill>
                  <a:ln w="381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10"/>
                  <p:cNvSpPr/>
                  <p:nvPr/>
                </p:nvSpPr>
                <p:spPr>
                  <a:xfrm rot="961200">
                    <a:off x="105480" y="-209520"/>
                    <a:ext cx="295200" cy="68436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684360"/>
                      <a:gd name="textAreaBottom" fmla="*/ 684720 h 684360"/>
                    </a:gdLst>
                    <a:ahLst/>
                    <a:rect l="textAreaLeft" t="textAreaTop" r="textAreaRight" b="textAreaBottom"/>
                    <a:pathLst>
                      <a:path w="480" h="720">
                        <a:moveTo>
                          <a:pt x="480" y="96"/>
                        </a:moveTo>
                        <a:lnTo>
                          <a:pt x="192" y="672"/>
                        </a:lnTo>
                        <a:lnTo>
                          <a:pt x="144" y="720"/>
                        </a:lnTo>
                        <a:lnTo>
                          <a:pt x="0" y="624"/>
                        </a:lnTo>
                        <a:lnTo>
                          <a:pt x="144" y="336"/>
                        </a:lnTo>
                        <a:lnTo>
                          <a:pt x="336" y="0"/>
                        </a:lnTo>
                        <a:lnTo>
                          <a:pt x="480" y="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cc66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11"/>
                  <p:cNvSpPr/>
                  <p:nvPr/>
                </p:nvSpPr>
                <p:spPr>
                  <a:xfrm>
                    <a:off x="442440" y="-243000"/>
                    <a:ext cx="469800" cy="171360"/>
                  </a:xfrm>
                  <a:custGeom>
                    <a:avLst/>
                    <a:gdLst>
                      <a:gd name="textAreaLeft" fmla="*/ 0 w 469800"/>
                      <a:gd name="textAreaRight" fmla="*/ 470160 w 4698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336" h="240">
                        <a:moveTo>
                          <a:pt x="192" y="240"/>
                        </a:moveTo>
                        <a:lnTo>
                          <a:pt x="48" y="144"/>
                        </a:lnTo>
                        <a:lnTo>
                          <a:pt x="0" y="48"/>
                        </a:lnTo>
                        <a:lnTo>
                          <a:pt x="144" y="0"/>
                        </a:lnTo>
                        <a:lnTo>
                          <a:pt x="288" y="48"/>
                        </a:lnTo>
                        <a:lnTo>
                          <a:pt x="336" y="192"/>
                        </a:lnTo>
                        <a:lnTo>
                          <a:pt x="192" y="24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66"/>
                      </a:gs>
                      <a:gs pos="50000">
                        <a:srgbClr val="ff9933"/>
                      </a:gs>
                      <a:gs pos="100000">
                        <a:srgbClr val="ffcc66"/>
                      </a:gs>
                    </a:gsLst>
                    <a:lin ang="189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12"/>
                  <p:cNvSpPr/>
                  <p:nvPr/>
                </p:nvSpPr>
                <p:spPr>
                  <a:xfrm>
                    <a:off x="60120" y="320400"/>
                    <a:ext cx="375840" cy="390600"/>
                  </a:xfrm>
                  <a:custGeom>
                    <a:avLst/>
                    <a:gdLst>
                      <a:gd name="textAreaLeft" fmla="*/ 0 w 375840"/>
                      <a:gd name="textAreaRight" fmla="*/ 376200 w 375840"/>
                      <a:gd name="textAreaTop" fmla="*/ 0 h 390600"/>
                      <a:gd name="textAreaBottom" fmla="*/ 390960 h 390600"/>
                    </a:gdLst>
                    <a:ahLst/>
                    <a:rect l="textAreaLeft" t="textAreaTop" r="textAreaRight" b="textAreaBottom"/>
                    <a:pathLst>
                      <a:path w="384" h="384">
                        <a:moveTo>
                          <a:pt x="192" y="192"/>
                        </a:moveTo>
                        <a:lnTo>
                          <a:pt x="96" y="144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lnTo>
                          <a:pt x="0" y="384"/>
                        </a:lnTo>
                        <a:lnTo>
                          <a:pt x="384" y="192"/>
                        </a:lnTo>
                        <a:lnTo>
                          <a:pt x="192" y="19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9900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13"/>
                  <p:cNvSpPr/>
                  <p:nvPr/>
                </p:nvSpPr>
                <p:spPr>
                  <a:xfrm rot="1629000">
                    <a:off x="0" y="597960"/>
                    <a:ext cx="150480" cy="14904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969696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3" name="Oval 14"/>
              <p:cNvSpPr/>
              <p:nvPr/>
            </p:nvSpPr>
            <p:spPr>
              <a:xfrm>
                <a:off x="661680" y="-231480"/>
                <a:ext cx="140760" cy="6984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15"/>
            <p:cNvSpPr/>
            <p:nvPr/>
          </p:nvSpPr>
          <p:spPr>
            <a:xfrm>
              <a:off x="720720" y="161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Rectangle 16"/>
          <p:cNvSpPr/>
          <p:nvPr/>
        </p:nvSpPr>
        <p:spPr>
          <a:xfrm>
            <a:off x="395280" y="9079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二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179280" y="1550880"/>
            <a:ext cx="896472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6</a:t>
            </a: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、在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42"/>
              <p:cNvSpPr txBox="1"/>
              <p:nvPr/>
            </p:nvSpPr>
            <p:spPr>
              <a:xfrm>
                <a:off x="1835280" y="3414600"/>
                <a:ext cx="3338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43"/>
              <p:cNvSpPr txBox="1"/>
              <p:nvPr/>
            </p:nvSpPr>
            <p:spPr>
              <a:xfrm>
                <a:off x="1957320" y="1454040"/>
                <a:ext cx="6094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3</m:t>
                        </m:r>
                      </m:e>
                      <m:lim/>
                    </m:limUp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44"/>
              <p:cNvSpPr txBox="1"/>
              <p:nvPr/>
            </p:nvSpPr>
            <p:spPr>
              <a:xfrm>
                <a:off x="1619280" y="4076640"/>
                <a:ext cx="7273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3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45"/>
              <p:cNvSpPr txBox="1"/>
              <p:nvPr/>
            </p:nvSpPr>
            <p:spPr>
              <a:xfrm>
                <a:off x="1908000" y="4956120"/>
                <a:ext cx="1532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1" name="Line 46"/>
          <p:cNvSpPr/>
          <p:nvPr/>
        </p:nvSpPr>
        <p:spPr>
          <a:xfrm flipV="1">
            <a:off x="1474920" y="4049280"/>
            <a:ext cx="655308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7"/>
          <p:cNvSpPr/>
          <p:nvPr/>
        </p:nvSpPr>
        <p:spPr>
          <a:xfrm>
            <a:off x="1547640" y="4900680"/>
            <a:ext cx="66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8"/>
          <p:cNvSpPr/>
          <p:nvPr/>
        </p:nvSpPr>
        <p:spPr>
          <a:xfrm>
            <a:off x="1547640" y="5589720"/>
            <a:ext cx="66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9"/>
          <p:cNvSpPr/>
          <p:nvPr/>
        </p:nvSpPr>
        <p:spPr>
          <a:xfrm>
            <a:off x="1476360" y="6524640"/>
            <a:ext cx="69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50"/>
              <p:cNvSpPr txBox="1"/>
              <p:nvPr/>
            </p:nvSpPr>
            <p:spPr>
              <a:xfrm>
                <a:off x="1403280" y="5692680"/>
                <a:ext cx="7245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3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1"/>
              <p:cNvSpPr txBox="1"/>
              <p:nvPr/>
            </p:nvSpPr>
            <p:spPr>
              <a:xfrm>
                <a:off x="552600" y="2637000"/>
                <a:ext cx="34430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6"/>
          <p:cNvSpPr/>
          <p:nvPr/>
        </p:nvSpPr>
        <p:spPr>
          <a:xfrm>
            <a:off x="539640" y="476280"/>
            <a:ext cx="3276720" cy="20160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WordArt 7"/>
          <p:cNvSpPr txBox="1"/>
          <p:nvPr/>
        </p:nvSpPr>
        <p:spPr>
          <a:xfrm>
            <a:off x="1332000" y="1341360"/>
            <a:ext cx="137160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826920" y="3213000"/>
            <a:ext cx="63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行楷"/>
              </a:rPr>
              <a:t>有理数能不能将数轴排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BJ_04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3809880"/>
            <a:ext cx="4572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826920" y="692280"/>
            <a:ext cx="5253840" cy="3616920"/>
            <a:chOff x="826920" y="692280"/>
            <a:chExt cx="5253840" cy="3616920"/>
          </a:xfrm>
        </p:grpSpPr>
        <p:sp>
          <p:nvSpPr>
            <p:cNvPr id="562" name="WordArt 4"/>
            <p:cNvSpPr txBox="1"/>
            <p:nvPr/>
          </p:nvSpPr>
          <p:spPr>
            <a:xfrm>
              <a:off x="826920" y="692280"/>
              <a:ext cx="327672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知识小结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63" name="Rectangle 5"/>
            <p:cNvSpPr/>
            <p:nvPr/>
          </p:nvSpPr>
          <p:spPr>
            <a:xfrm>
              <a:off x="1951560" y="3240360"/>
              <a:ext cx="4129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               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通过今天的学习</a:t>
              </a:r>
              <a:r>
                <a:rPr b="1" lang="en-US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用你自己的话说说你的收获和体会</a:t>
              </a:r>
              <a:r>
                <a:rPr b="1" lang="en-US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50920" y="1380960"/>
            <a:ext cx="795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使用计算器计算，把下列有理数写成小数的形式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900000" y="2708280"/>
                <a:ext cx="65534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WordArt 8"/>
          <p:cNvSpPr txBox="1"/>
          <p:nvPr/>
        </p:nvSpPr>
        <p:spPr>
          <a:xfrm>
            <a:off x="539640" y="476280"/>
            <a:ext cx="12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探究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55640" y="907920"/>
                <a:ext cx="6624720" cy="24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lim>
                            <m:r>
                              <m:t xml:space="preserve">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limUpp>
                              <m:e>
                                <m:r>
                                  <m:t xml:space="preserve">2</m:t>
                                </m:r>
                              </m:e>
                              <m:lim/>
                            </m:limUp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limUpp>
                              <m:e>
                                <m:r>
                                  <m:t xml:space="preserve">5</m:t>
                                </m:r>
                              </m:e>
                              <m:lim/>
                            </m:limUpp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Text Box 8"/>
          <p:cNvSpPr/>
          <p:nvPr/>
        </p:nvSpPr>
        <p:spPr>
          <a:xfrm>
            <a:off x="179280" y="4221000"/>
            <a:ext cx="871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事实上，任何一个有理数都可以写成有限小数或无限循环小数</a:t>
            </a:r>
            <a:r>
              <a:rPr b="1" lang="en-US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250920" y="5013360"/>
            <a:ext cx="7993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反过来，任何有限小数或无限循环小数也都是有理数</a:t>
            </a:r>
            <a:r>
              <a:rPr b="1" lang="en-US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466560" y="1413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   </a:t>
            </a: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无限不循环的小数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-------- </a:t>
            </a:r>
            <a:r>
              <a:rPr b="1" lang="zh-CN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叫做无理数</a:t>
            </a:r>
            <a:r>
              <a:rPr b="1" lang="en-US" sz="2400" spc="-1" strike="noStrike">
                <a:solidFill>
                  <a:srgbClr val="003366"/>
                </a:solidFill>
                <a:latin typeface="华文细黑"/>
                <a:ea typeface="华文细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6"/>
          <p:cNvSpPr txBox="1"/>
          <p:nvPr/>
        </p:nvSpPr>
        <p:spPr>
          <a:xfrm>
            <a:off x="539640" y="333360"/>
            <a:ext cx="194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学习新知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755640" y="29973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华文细黑"/>
              </a:rPr>
              <a:t>(1) 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细黑"/>
              </a:rPr>
              <a:t>你能举出一些无理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10"/>
          <p:cNvSpPr txBox="1"/>
          <p:nvPr/>
        </p:nvSpPr>
        <p:spPr>
          <a:xfrm>
            <a:off x="539640" y="2205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latin typeface="宋体"/>
              </a:rPr>
              <a:t>试一试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99cc00"/>
              </a:solidFill>
              <a:latin typeface="宋体"/>
              <a:ea typeface="宋体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755640" y="386064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66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细黑"/>
              </a:rPr>
              <a:t>每个有理数都可以用数轴上的点表示，那么无理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细黑"/>
              </a:rPr>
              <a:t>   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细黑"/>
              </a:rPr>
              <a:t>是否也可以用数轴上的点来表示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755640" y="5084640"/>
            <a:ext cx="7920000" cy="1089000"/>
            <a:chOff x="755640" y="5084640"/>
            <a:chExt cx="7920000" cy="1089000"/>
          </a:xfrm>
        </p:grpSpPr>
        <p:sp>
          <p:nvSpPr>
            <p:cNvPr id="311" name="Text Box 12"/>
            <p:cNvSpPr/>
            <p:nvPr/>
          </p:nvSpPr>
          <p:spPr>
            <a:xfrm>
              <a:off x="755640" y="5157720"/>
              <a:ext cx="7920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buClr>
                  <a:srgbClr val="660066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细黑"/>
                </a:rPr>
                <a:t> 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  <a:ea typeface="华文细黑"/>
                </a:rPr>
                <a:t>你能在数轴上找到表示                 这样的无理数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Arial"/>
                  <a:ea typeface="华文细黑"/>
                </a:rPr>
                <a:t>     </a:t>
              </a:r>
              <a:r>
                <a:rPr b="1" lang="zh-CN" sz="2400" spc="-1" strike="noStrike">
                  <a:solidFill>
                    <a:srgbClr val="660066"/>
                  </a:solidFill>
                  <a:latin typeface="Arial"/>
                  <a:ea typeface="华文细黑"/>
                </a:rPr>
                <a:t>点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Object 13"/>
                <p:cNvSpPr txBox="1"/>
                <p:nvPr/>
              </p:nvSpPr>
              <p:spPr>
                <a:xfrm>
                  <a:off x="4572000" y="5084640"/>
                  <a:ext cx="10810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、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3"/>
          <p:cNvSpPr txBox="1"/>
          <p:nvPr/>
        </p:nvSpPr>
        <p:spPr>
          <a:xfrm>
            <a:off x="7164360" y="189000"/>
            <a:ext cx="15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1547640" y="692280"/>
                <a:ext cx="8445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Text Box 5"/>
          <p:cNvSpPr/>
          <p:nvPr/>
        </p:nvSpPr>
        <p:spPr>
          <a:xfrm>
            <a:off x="179280" y="115920"/>
            <a:ext cx="5688000" cy="5328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华文细黑"/>
              </a:rPr>
              <a:t>把下列各数分别填入相应的集合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324000" y="907920"/>
                <a:ext cx="720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2627280" y="907920"/>
                <a:ext cx="792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8"/>
              <p:cNvSpPr txBox="1"/>
              <p:nvPr/>
            </p:nvSpPr>
            <p:spPr>
              <a:xfrm>
                <a:off x="4037040" y="1052640"/>
                <a:ext cx="679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9"/>
              <p:cNvSpPr txBox="1"/>
              <p:nvPr/>
            </p:nvSpPr>
            <p:spPr>
              <a:xfrm>
                <a:off x="5330880" y="692280"/>
                <a:ext cx="10414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0"/>
              <p:cNvSpPr txBox="1"/>
              <p:nvPr/>
            </p:nvSpPr>
            <p:spPr>
              <a:xfrm>
                <a:off x="7021440" y="907920"/>
                <a:ext cx="79056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1"/>
              <p:cNvSpPr txBox="1"/>
              <p:nvPr/>
            </p:nvSpPr>
            <p:spPr>
              <a:xfrm>
                <a:off x="395280" y="1844640"/>
                <a:ext cx="862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2"/>
              <p:cNvSpPr txBox="1"/>
              <p:nvPr/>
            </p:nvSpPr>
            <p:spPr>
              <a:xfrm>
                <a:off x="5148360" y="2013120"/>
                <a:ext cx="1108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3"/>
              <p:cNvSpPr txBox="1"/>
              <p:nvPr/>
            </p:nvSpPr>
            <p:spPr>
              <a:xfrm>
                <a:off x="6948360" y="1989000"/>
                <a:ext cx="1108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4"/>
              <p:cNvSpPr txBox="1"/>
              <p:nvPr/>
            </p:nvSpPr>
            <p:spPr>
              <a:xfrm>
                <a:off x="2077920" y="1844640"/>
                <a:ext cx="6937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3780000" y="2060640"/>
                <a:ext cx="51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6"/>
              <p:cNvSpPr txBox="1"/>
              <p:nvPr/>
            </p:nvSpPr>
            <p:spPr>
              <a:xfrm>
                <a:off x="395280" y="3027240"/>
                <a:ext cx="2838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37737773</m:t>
                    </m:r>
                    <m:r>
                      <m:t xml:space="preserve">⋅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 Box 17"/>
          <p:cNvSpPr/>
          <p:nvPr/>
        </p:nvSpPr>
        <p:spPr>
          <a:xfrm>
            <a:off x="3276720" y="29973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相邻两个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之间的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的个数逐次加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8"/>
          <p:cNvSpPr/>
          <p:nvPr/>
        </p:nvSpPr>
        <p:spPr>
          <a:xfrm>
            <a:off x="169920" y="3660840"/>
            <a:ext cx="4067280" cy="22320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9"/>
          <p:cNvSpPr/>
          <p:nvPr/>
        </p:nvSpPr>
        <p:spPr>
          <a:xfrm>
            <a:off x="4716360" y="3645000"/>
            <a:ext cx="4248360" cy="23050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971640" y="6093000"/>
            <a:ext cx="2160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有理数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1"/>
          <p:cNvSpPr/>
          <p:nvPr/>
        </p:nvSpPr>
        <p:spPr>
          <a:xfrm>
            <a:off x="5651640" y="6093000"/>
            <a:ext cx="1873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 </a:t>
            </a:r>
            <a:r>
              <a:rPr b="0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无理数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2"/>
          <p:cNvGrpSpPr/>
          <p:nvPr/>
        </p:nvGrpSpPr>
        <p:grpSpPr>
          <a:xfrm>
            <a:off x="809640" y="3787920"/>
            <a:ext cx="2914200" cy="1875960"/>
            <a:chOff x="809640" y="3787920"/>
            <a:chExt cx="2914200" cy="1875960"/>
          </a:xfrm>
        </p:grpSpPr>
        <mc:AlternateContent>
          <mc:Choice xmlns:a14="http://schemas.microsoft.com/office/drawing/2010/main" Requires="a14">
            <p:sp>
              <p:nvSpPr>
                <p:cNvPr id="333" name="Object 23"/>
                <p:cNvSpPr txBox="1"/>
                <p:nvPr/>
              </p:nvSpPr>
              <p:spPr>
                <a:xfrm>
                  <a:off x="2735280" y="4057560"/>
                  <a:ext cx="98856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Object 24"/>
                <p:cNvSpPr txBox="1"/>
                <p:nvPr/>
              </p:nvSpPr>
              <p:spPr>
                <a:xfrm>
                  <a:off x="809640" y="3899160"/>
                  <a:ext cx="750960" cy="79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25"/>
                <p:cNvSpPr txBox="1"/>
                <p:nvPr/>
              </p:nvSpPr>
              <p:spPr>
                <a:xfrm>
                  <a:off x="1437840" y="3787920"/>
                  <a:ext cx="92916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Object 26"/>
                <p:cNvSpPr txBox="1"/>
                <p:nvPr/>
              </p:nvSpPr>
              <p:spPr>
                <a:xfrm>
                  <a:off x="927000" y="4823280"/>
                  <a:ext cx="619560" cy="84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Object 27"/>
                <p:cNvSpPr txBox="1"/>
                <p:nvPr/>
              </p:nvSpPr>
              <p:spPr>
                <a:xfrm>
                  <a:off x="1866240" y="5055840"/>
                  <a:ext cx="455400" cy="51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8" name="Object 28"/>
              <p:cNvSpPr txBox="1"/>
              <p:nvPr/>
            </p:nvSpPr>
            <p:spPr>
              <a:xfrm>
                <a:off x="2700360" y="5157720"/>
                <a:ext cx="809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9" name="Group 29"/>
          <p:cNvGrpSpPr/>
          <p:nvPr/>
        </p:nvGrpSpPr>
        <p:grpSpPr>
          <a:xfrm>
            <a:off x="4772160" y="3967200"/>
            <a:ext cx="3835080" cy="1299600"/>
            <a:chOff x="4772160" y="3967200"/>
            <a:chExt cx="3835080" cy="1299600"/>
          </a:xfrm>
        </p:grpSpPr>
        <mc:AlternateContent>
          <mc:Choice xmlns:a14="http://schemas.microsoft.com/office/drawing/2010/main" Requires="a14">
            <p:sp>
              <p:nvSpPr>
                <p:cNvPr id="340" name="Object 30"/>
                <p:cNvSpPr txBox="1"/>
                <p:nvPr/>
              </p:nvSpPr>
              <p:spPr>
                <a:xfrm>
                  <a:off x="4961160" y="4144320"/>
                  <a:ext cx="64656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Object 31"/>
                <p:cNvSpPr txBox="1"/>
                <p:nvPr/>
              </p:nvSpPr>
              <p:spPr>
                <a:xfrm>
                  <a:off x="5613840" y="4087440"/>
                  <a:ext cx="709200" cy="59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Object 32"/>
                <p:cNvSpPr txBox="1"/>
                <p:nvPr/>
              </p:nvSpPr>
              <p:spPr>
                <a:xfrm>
                  <a:off x="6354720" y="4154760"/>
                  <a:ext cx="611280" cy="47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Object 33"/>
                <p:cNvSpPr txBox="1"/>
                <p:nvPr/>
              </p:nvSpPr>
              <p:spPr>
                <a:xfrm>
                  <a:off x="6968880" y="3967200"/>
                  <a:ext cx="710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4" name="Object 34"/>
                <p:cNvSpPr txBox="1"/>
                <p:nvPr/>
              </p:nvSpPr>
              <p:spPr>
                <a:xfrm>
                  <a:off x="7684200" y="4001040"/>
                  <a:ext cx="772200" cy="82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Object 35"/>
                <p:cNvSpPr txBox="1"/>
                <p:nvPr/>
              </p:nvSpPr>
              <p:spPr>
                <a:xfrm>
                  <a:off x="4772160" y="4686480"/>
                  <a:ext cx="994320" cy="58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36"/>
                <p:cNvSpPr txBox="1"/>
                <p:nvPr/>
              </p:nvSpPr>
              <p:spPr>
                <a:xfrm>
                  <a:off x="6061320" y="4863600"/>
                  <a:ext cx="2545920" cy="3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37737773</m:t>
                      </m:r>
                      <m:r>
                        <m:t xml:space="preserve">⋅</m:t>
                      </m:r>
                      <m:r>
                        <m:t xml:space="preserve">⋅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Object 37"/>
              <p:cNvSpPr txBox="1"/>
              <p:nvPr/>
            </p:nvSpPr>
            <p:spPr>
              <a:xfrm>
                <a:off x="6516720" y="5516640"/>
                <a:ext cx="809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5"/>
          <p:cNvSpPr/>
          <p:nvPr/>
        </p:nvSpPr>
        <p:spPr>
          <a:xfrm>
            <a:off x="1547640" y="31417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华文细黑"/>
              </a:rPr>
              <a:t>有理数和无理数统称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细黑"/>
              </a:rPr>
              <a:t>实数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细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BJ_042"/>
          <p:cNvPicPr/>
          <p:nvPr/>
        </p:nvPicPr>
        <p:blipFill>
          <a:blip r:embed="rId1"/>
          <a:stretch/>
        </p:blipFill>
        <p:spPr>
          <a:xfrm>
            <a:off x="6084720" y="5087880"/>
            <a:ext cx="2916360" cy="177012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3"/>
          <p:cNvSpPr/>
          <p:nvPr/>
        </p:nvSpPr>
        <p:spPr>
          <a:xfrm>
            <a:off x="1403280" y="3860640"/>
            <a:ext cx="289080" cy="237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785880" y="1341360"/>
            <a:ext cx="5461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712800" y="4437000"/>
            <a:ext cx="5461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1619280" y="909720"/>
            <a:ext cx="144360" cy="1871640"/>
          </a:xfrm>
          <a:custGeom>
            <a:avLst/>
            <a:gdLst>
              <a:gd name="textAreaLeft" fmla="*/ 92160 w 144360"/>
              <a:gd name="textAreaRight" fmla="*/ 14436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835280" y="739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763640" y="234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3132000" y="333360"/>
            <a:ext cx="216000" cy="1413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6720 h 1413000"/>
              <a:gd name="textAreaBottom" fmla="*/ 1376280 h 14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3492360" y="260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3492360" y="13161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3348000" y="2467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华文细黑"/>
                <a:ea typeface="华文细黑"/>
              </a:rPr>
              <a:t>无限不循环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6"/>
          <p:cNvSpPr/>
          <p:nvPr/>
        </p:nvSpPr>
        <p:spPr>
          <a:xfrm>
            <a:off x="3276720" y="3573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7"/>
          <p:cNvSpPr/>
          <p:nvPr/>
        </p:nvSpPr>
        <p:spPr>
          <a:xfrm>
            <a:off x="3346560" y="5445000"/>
            <a:ext cx="288720" cy="1108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800 h 1108080"/>
              <a:gd name="textAreaBottom" fmla="*/ 1079280 h 11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1979640" y="3716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正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1979640" y="4724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    </a:t>
            </a:r>
            <a:r>
              <a:rPr b="1" lang="en-US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1979640" y="580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负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3778200" y="342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正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780000" y="414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正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3778200" y="5348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负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3851280" y="6093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细黑"/>
                <a:ea typeface="华文细黑"/>
              </a:rPr>
              <a:t>负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5"/>
          <p:cNvGrpSpPr/>
          <p:nvPr/>
        </p:nvGrpSpPr>
        <p:grpSpPr>
          <a:xfrm>
            <a:off x="6588000" y="1125360"/>
            <a:ext cx="2305080" cy="2671920"/>
            <a:chOff x="6588000" y="1125360"/>
            <a:chExt cx="2305080" cy="2671920"/>
          </a:xfrm>
        </p:grpSpPr>
        <p:pic>
          <p:nvPicPr>
            <p:cNvPr id="370" name="Picture 26" descr="米老鼠"/>
            <p:cNvPicPr/>
            <p:nvPr/>
          </p:nvPicPr>
          <p:blipFill>
            <a:blip r:embed="rId2"/>
            <a:stretch/>
          </p:blipFill>
          <p:spPr>
            <a:xfrm>
              <a:off x="7308720" y="2133360"/>
              <a:ext cx="150048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AutoShape 27"/>
            <p:cNvSpPr/>
            <p:nvPr/>
          </p:nvSpPr>
          <p:spPr>
            <a:xfrm>
              <a:off x="6588000" y="1125360"/>
              <a:ext cx="2305080" cy="432000"/>
            </a:xfrm>
            <a:prstGeom prst="wedgeRoundRectCallout">
              <a:avLst>
                <a:gd name="adj1" fmla="val 8814"/>
                <a:gd name="adj2" fmla="val 244486"/>
                <a:gd name="adj3" fmla="val 16667"/>
              </a:avLst>
            </a:prstGeom>
            <a:solidFill>
              <a:srgbClr val="cefec6"/>
            </a:solidFill>
            <a:ln w="9360">
              <a:solidFill>
                <a:srgbClr val="20c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66"/>
                  </a:solidFill>
                  <a:latin typeface="Arial"/>
                </a:rPr>
                <a:t>你学会了吗</a:t>
              </a:r>
              <a:r>
                <a:rPr b="1" lang="en-US" sz="2400" spc="-1" strike="noStrike">
                  <a:solidFill>
                    <a:srgbClr val="cc0066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2"/>
          <p:cNvSpPr txBox="1"/>
          <p:nvPr/>
        </p:nvSpPr>
        <p:spPr>
          <a:xfrm>
            <a:off x="250920" y="333360"/>
            <a:ext cx="123516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763640" y="333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下列各数填入相应的集合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468360" y="981000"/>
                <a:ext cx="766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1619280" y="9810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2484360" y="981000"/>
                <a:ext cx="647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3492360" y="1052640"/>
                <a:ext cx="430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8"/>
              <p:cNvSpPr txBox="1"/>
              <p:nvPr/>
            </p:nvSpPr>
            <p:spPr>
              <a:xfrm>
                <a:off x="4211640" y="907920"/>
                <a:ext cx="55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6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9"/>
              <p:cNvSpPr txBox="1"/>
              <p:nvPr/>
            </p:nvSpPr>
            <p:spPr>
              <a:xfrm>
                <a:off x="5076720" y="907920"/>
                <a:ext cx="647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0"/>
              <p:cNvSpPr txBox="1"/>
              <p:nvPr/>
            </p:nvSpPr>
            <p:spPr>
              <a:xfrm>
                <a:off x="6012000" y="1052640"/>
                <a:ext cx="307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1"/>
              <p:cNvSpPr txBox="1"/>
              <p:nvPr/>
            </p:nvSpPr>
            <p:spPr>
              <a:xfrm>
                <a:off x="6588000" y="1052640"/>
                <a:ext cx="46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2"/>
              <p:cNvSpPr txBox="1"/>
              <p:nvPr/>
            </p:nvSpPr>
            <p:spPr>
              <a:xfrm>
                <a:off x="7380360" y="1052640"/>
                <a:ext cx="288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3"/>
              <p:cNvSpPr txBox="1"/>
              <p:nvPr/>
            </p:nvSpPr>
            <p:spPr>
              <a:xfrm>
                <a:off x="8028000" y="1052640"/>
                <a:ext cx="728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Text Box 14"/>
          <p:cNvSpPr/>
          <p:nvPr/>
        </p:nvSpPr>
        <p:spPr>
          <a:xfrm>
            <a:off x="0" y="17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有理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5"/>
          <p:cNvSpPr/>
          <p:nvPr/>
        </p:nvSpPr>
        <p:spPr>
          <a:xfrm>
            <a:off x="2771640" y="170028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6"/>
              <p:cNvSpPr txBox="1"/>
              <p:nvPr/>
            </p:nvSpPr>
            <p:spPr>
              <a:xfrm>
                <a:off x="7524720" y="177336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Text Box 17"/>
          <p:cNvSpPr/>
          <p:nvPr/>
        </p:nvSpPr>
        <p:spPr>
          <a:xfrm>
            <a:off x="0" y="24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无理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8"/>
          <p:cNvSpPr/>
          <p:nvPr/>
        </p:nvSpPr>
        <p:spPr>
          <a:xfrm>
            <a:off x="2771640" y="242100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9"/>
              <p:cNvSpPr txBox="1"/>
              <p:nvPr/>
            </p:nvSpPr>
            <p:spPr>
              <a:xfrm>
                <a:off x="7524720" y="2492280"/>
                <a:ext cx="44928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 Box 20"/>
          <p:cNvSpPr/>
          <p:nvPr/>
        </p:nvSpPr>
        <p:spPr>
          <a:xfrm>
            <a:off x="0" y="3213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整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1"/>
          <p:cNvSpPr/>
          <p:nvPr/>
        </p:nvSpPr>
        <p:spPr>
          <a:xfrm>
            <a:off x="2771640" y="314172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2"/>
          <p:cNvSpPr/>
          <p:nvPr/>
        </p:nvSpPr>
        <p:spPr>
          <a:xfrm>
            <a:off x="2771640" y="393372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3"/>
          <p:cNvSpPr/>
          <p:nvPr/>
        </p:nvSpPr>
        <p:spPr>
          <a:xfrm>
            <a:off x="2771640" y="479736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4"/>
          <p:cNvSpPr/>
          <p:nvPr/>
        </p:nvSpPr>
        <p:spPr>
          <a:xfrm>
            <a:off x="2340000" y="5661000"/>
            <a:ext cx="680400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5"/>
              <p:cNvSpPr txBox="1"/>
              <p:nvPr/>
            </p:nvSpPr>
            <p:spPr>
              <a:xfrm>
                <a:off x="7524720" y="328464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26"/>
              <p:cNvSpPr txBox="1"/>
              <p:nvPr/>
            </p:nvSpPr>
            <p:spPr>
              <a:xfrm>
                <a:off x="7524720" y="400536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7"/>
              <p:cNvSpPr txBox="1"/>
              <p:nvPr/>
            </p:nvSpPr>
            <p:spPr>
              <a:xfrm>
                <a:off x="7524720" y="486900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8"/>
              <p:cNvSpPr txBox="1"/>
              <p:nvPr/>
            </p:nvSpPr>
            <p:spPr>
              <a:xfrm>
                <a:off x="8604360" y="573408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Text Box 29"/>
          <p:cNvSpPr/>
          <p:nvPr/>
        </p:nvSpPr>
        <p:spPr>
          <a:xfrm>
            <a:off x="0" y="3933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负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0"/>
          <p:cNvSpPr/>
          <p:nvPr/>
        </p:nvSpPr>
        <p:spPr>
          <a:xfrm>
            <a:off x="0" y="47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分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1"/>
          <p:cNvSpPr/>
          <p:nvPr/>
        </p:nvSpPr>
        <p:spPr>
          <a:xfrm>
            <a:off x="-108000" y="558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实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2"/>
          <p:cNvGrpSpPr/>
          <p:nvPr/>
        </p:nvGrpSpPr>
        <p:grpSpPr>
          <a:xfrm>
            <a:off x="3311640" y="2365200"/>
            <a:ext cx="2915640" cy="612720"/>
            <a:chOff x="3311640" y="2365200"/>
            <a:chExt cx="2915640" cy="612720"/>
          </a:xfrm>
        </p:grpSpPr>
        <mc:AlternateContent>
          <mc:Choice xmlns:a14="http://schemas.microsoft.com/office/drawing/2010/main" Requires="a14">
            <p:sp>
              <p:nvSpPr>
                <p:cNvPr id="403" name="Object 33"/>
                <p:cNvSpPr txBox="1"/>
                <p:nvPr/>
              </p:nvSpPr>
              <p:spPr>
                <a:xfrm>
                  <a:off x="3311640" y="2366640"/>
                  <a:ext cx="598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Object 34"/>
                <p:cNvSpPr txBox="1"/>
                <p:nvPr/>
              </p:nvSpPr>
              <p:spPr>
                <a:xfrm>
                  <a:off x="4557240" y="2452680"/>
                  <a:ext cx="45612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5" name="Object 35"/>
                <p:cNvSpPr txBox="1"/>
                <p:nvPr/>
              </p:nvSpPr>
              <p:spPr>
                <a:xfrm>
                  <a:off x="5742000" y="2365200"/>
                  <a:ext cx="485280" cy="58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6" name="Group 36"/>
          <p:cNvGrpSpPr/>
          <p:nvPr/>
        </p:nvGrpSpPr>
        <p:grpSpPr>
          <a:xfrm>
            <a:off x="3309840" y="3716280"/>
            <a:ext cx="1766520" cy="773280"/>
            <a:chOff x="3309840" y="3716280"/>
            <a:chExt cx="1766520" cy="773280"/>
          </a:xfrm>
        </p:grpSpPr>
        <mc:AlternateContent>
          <mc:Choice xmlns:a14="http://schemas.microsoft.com/office/drawing/2010/main" Requires="a14">
            <p:sp>
              <p:nvSpPr>
                <p:cNvPr id="407" name="Object 37"/>
                <p:cNvSpPr txBox="1"/>
                <p:nvPr/>
              </p:nvSpPr>
              <p:spPr>
                <a:xfrm>
                  <a:off x="3309840" y="3716280"/>
                  <a:ext cx="73836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Object 38"/>
                <p:cNvSpPr txBox="1"/>
                <p:nvPr/>
              </p:nvSpPr>
              <p:spPr>
                <a:xfrm>
                  <a:off x="4542480" y="3933720"/>
                  <a:ext cx="5338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Group 39"/>
          <p:cNvGrpSpPr/>
          <p:nvPr/>
        </p:nvGrpSpPr>
        <p:grpSpPr>
          <a:xfrm>
            <a:off x="3274920" y="3068640"/>
            <a:ext cx="2736720" cy="612720"/>
            <a:chOff x="3274920" y="3068640"/>
            <a:chExt cx="2736720" cy="612720"/>
          </a:xfrm>
        </p:grpSpPr>
        <mc:AlternateContent>
          <mc:Choice xmlns:a14="http://schemas.microsoft.com/office/drawing/2010/main" Requires="a14">
            <p:sp>
              <p:nvSpPr>
                <p:cNvPr id="410" name="Object 40"/>
                <p:cNvSpPr txBox="1"/>
                <p:nvPr/>
              </p:nvSpPr>
              <p:spPr>
                <a:xfrm>
                  <a:off x="3274920" y="3068640"/>
                  <a:ext cx="766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9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Object 41"/>
                <p:cNvSpPr txBox="1"/>
                <p:nvPr/>
              </p:nvSpPr>
              <p:spPr>
                <a:xfrm>
                  <a:off x="4354560" y="3068640"/>
                  <a:ext cx="647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2" name="Object 42"/>
                <p:cNvSpPr txBox="1"/>
                <p:nvPr/>
              </p:nvSpPr>
              <p:spPr>
                <a:xfrm>
                  <a:off x="5722920" y="3141720"/>
                  <a:ext cx="2887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Group 43"/>
          <p:cNvGrpSpPr/>
          <p:nvPr/>
        </p:nvGrpSpPr>
        <p:grpSpPr>
          <a:xfrm>
            <a:off x="2979720" y="1432080"/>
            <a:ext cx="4471920" cy="844560"/>
            <a:chOff x="2979720" y="1432080"/>
            <a:chExt cx="4471920" cy="844560"/>
          </a:xfrm>
        </p:grpSpPr>
        <mc:AlternateContent>
          <mc:Choice xmlns:a14="http://schemas.microsoft.com/office/drawing/2010/main" Requires="a14">
            <p:sp>
              <p:nvSpPr>
                <p:cNvPr id="414" name="Object 44"/>
                <p:cNvSpPr txBox="1"/>
                <p:nvPr/>
              </p:nvSpPr>
              <p:spPr>
                <a:xfrm>
                  <a:off x="2979720" y="1576440"/>
                  <a:ext cx="766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9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Object 45"/>
                <p:cNvSpPr txBox="1"/>
                <p:nvPr/>
              </p:nvSpPr>
              <p:spPr>
                <a:xfrm>
                  <a:off x="3914640" y="1576440"/>
                  <a:ext cx="647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46"/>
                <p:cNvSpPr txBox="1"/>
                <p:nvPr/>
              </p:nvSpPr>
              <p:spPr>
                <a:xfrm>
                  <a:off x="4779720" y="1432080"/>
                  <a:ext cx="5590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limUpp>
                        <m:e>
                          <m:r>
                            <m:t xml:space="preserve">6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47"/>
                <p:cNvSpPr txBox="1"/>
                <p:nvPr/>
              </p:nvSpPr>
              <p:spPr>
                <a:xfrm>
                  <a:off x="5427360" y="1503360"/>
                  <a:ext cx="648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Object 48"/>
                <p:cNvSpPr txBox="1"/>
                <p:nvPr/>
              </p:nvSpPr>
              <p:spPr>
                <a:xfrm>
                  <a:off x="6219720" y="1647720"/>
                  <a:ext cx="2887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49"/>
                <p:cNvSpPr txBox="1"/>
                <p:nvPr/>
              </p:nvSpPr>
              <p:spPr>
                <a:xfrm>
                  <a:off x="6723000" y="1647720"/>
                  <a:ext cx="7286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Group 50"/>
          <p:cNvGrpSpPr/>
          <p:nvPr/>
        </p:nvGrpSpPr>
        <p:grpSpPr>
          <a:xfrm>
            <a:off x="3340080" y="4600440"/>
            <a:ext cx="3032280" cy="773280"/>
            <a:chOff x="3340080" y="4600440"/>
            <a:chExt cx="3032280" cy="773280"/>
          </a:xfrm>
        </p:grpSpPr>
        <mc:AlternateContent>
          <mc:Choice xmlns:a14="http://schemas.microsoft.com/office/drawing/2010/main" Requires="a14">
            <p:sp>
              <p:nvSpPr>
                <p:cNvPr id="421" name="Object 51"/>
                <p:cNvSpPr txBox="1"/>
                <p:nvPr/>
              </p:nvSpPr>
              <p:spPr>
                <a:xfrm>
                  <a:off x="3340080" y="4600440"/>
                  <a:ext cx="5590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limUpp>
                        <m:e>
                          <m:r>
                            <m:t xml:space="preserve">6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Object 52"/>
                <p:cNvSpPr txBox="1"/>
                <p:nvPr/>
              </p:nvSpPr>
              <p:spPr>
                <a:xfrm>
                  <a:off x="4419720" y="4600440"/>
                  <a:ext cx="647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Object 53"/>
                <p:cNvSpPr txBox="1"/>
                <p:nvPr/>
              </p:nvSpPr>
              <p:spPr>
                <a:xfrm>
                  <a:off x="5643720" y="4743360"/>
                  <a:ext cx="7286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4" name="Group 54"/>
          <p:cNvGrpSpPr/>
          <p:nvPr/>
        </p:nvGrpSpPr>
        <p:grpSpPr>
          <a:xfrm>
            <a:off x="2411280" y="5373720"/>
            <a:ext cx="6129360" cy="772920"/>
            <a:chOff x="2411280" y="5373720"/>
            <a:chExt cx="6129360" cy="772920"/>
          </a:xfrm>
        </p:grpSpPr>
        <mc:AlternateContent>
          <mc:Choice xmlns:a14="http://schemas.microsoft.com/office/drawing/2010/main" Requires="a14">
            <p:sp>
              <p:nvSpPr>
                <p:cNvPr id="425" name="Object 55"/>
                <p:cNvSpPr txBox="1"/>
                <p:nvPr/>
              </p:nvSpPr>
              <p:spPr>
                <a:xfrm>
                  <a:off x="2411280" y="5516640"/>
                  <a:ext cx="766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9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Object 56"/>
                <p:cNvSpPr txBox="1"/>
                <p:nvPr/>
              </p:nvSpPr>
              <p:spPr>
                <a:xfrm>
                  <a:off x="3276720" y="5516640"/>
                  <a:ext cx="5760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57"/>
                <p:cNvSpPr txBox="1"/>
                <p:nvPr/>
              </p:nvSpPr>
              <p:spPr>
                <a:xfrm>
                  <a:off x="3924360" y="5516640"/>
                  <a:ext cx="647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Object 58"/>
                <p:cNvSpPr txBox="1"/>
                <p:nvPr/>
              </p:nvSpPr>
              <p:spPr>
                <a:xfrm>
                  <a:off x="4788000" y="5589720"/>
                  <a:ext cx="4302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59"/>
                <p:cNvSpPr txBox="1"/>
                <p:nvPr/>
              </p:nvSpPr>
              <p:spPr>
                <a:xfrm>
                  <a:off x="5292720" y="5373720"/>
                  <a:ext cx="558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limUpp>
                        <m:e>
                          <m:r>
                            <m:t xml:space="preserve">6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Object 60"/>
                <p:cNvSpPr txBox="1"/>
                <p:nvPr/>
              </p:nvSpPr>
              <p:spPr>
                <a:xfrm>
                  <a:off x="5940360" y="5373720"/>
                  <a:ext cx="6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Object 61"/>
                <p:cNvSpPr txBox="1"/>
                <p:nvPr/>
              </p:nvSpPr>
              <p:spPr>
                <a:xfrm>
                  <a:off x="6659640" y="5516640"/>
                  <a:ext cx="468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Object 62"/>
                <p:cNvSpPr txBox="1"/>
                <p:nvPr/>
              </p:nvSpPr>
              <p:spPr>
                <a:xfrm>
                  <a:off x="7308720" y="5589720"/>
                  <a:ext cx="2890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Object 63"/>
                <p:cNvSpPr txBox="1"/>
                <p:nvPr/>
              </p:nvSpPr>
              <p:spPr>
                <a:xfrm>
                  <a:off x="7812000" y="5589720"/>
                  <a:ext cx="72864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2"/>
          <p:cNvGrpSpPr/>
          <p:nvPr/>
        </p:nvGrpSpPr>
        <p:grpSpPr>
          <a:xfrm>
            <a:off x="-25920" y="0"/>
            <a:ext cx="2691360" cy="1016280"/>
            <a:chOff x="-25920" y="0"/>
            <a:chExt cx="2691360" cy="1016280"/>
          </a:xfrm>
        </p:grpSpPr>
        <p:sp>
          <p:nvSpPr>
            <p:cNvPr id="435" name="Freeform 3"/>
            <p:cNvSpPr/>
            <p:nvPr/>
          </p:nvSpPr>
          <p:spPr>
            <a:xfrm>
              <a:off x="144360" y="404640"/>
              <a:ext cx="2521080" cy="36684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9999ff"/>
              </a:solidFill>
              <a:round/>
            </a:ln>
            <a:effectLst>
              <a:outerShdw dist="153753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4"/>
            <p:cNvGrpSpPr/>
            <p:nvPr/>
          </p:nvGrpSpPr>
          <p:grpSpPr>
            <a:xfrm>
              <a:off x="-25920" y="0"/>
              <a:ext cx="938160" cy="1016280"/>
              <a:chOff x="-25920" y="0"/>
              <a:chExt cx="938160" cy="1016280"/>
            </a:xfrm>
          </p:grpSpPr>
          <p:grpSp>
            <p:nvGrpSpPr>
              <p:cNvPr id="437" name="Group 5"/>
              <p:cNvGrpSpPr/>
              <p:nvPr/>
            </p:nvGrpSpPr>
            <p:grpSpPr>
              <a:xfrm>
                <a:off x="-25920" y="0"/>
                <a:ext cx="938160" cy="1016280"/>
                <a:chOff x="-25920" y="0"/>
                <a:chExt cx="938160" cy="1016280"/>
              </a:xfrm>
            </p:grpSpPr>
            <p:sp>
              <p:nvSpPr>
                <p:cNvPr id="438" name="Freeform 6"/>
                <p:cNvSpPr/>
                <p:nvPr/>
              </p:nvSpPr>
              <p:spPr>
                <a:xfrm rot="158400">
                  <a:off x="142200" y="133200"/>
                  <a:ext cx="566280" cy="646200"/>
                </a:xfrm>
                <a:custGeom>
                  <a:avLst/>
                  <a:gdLst>
                    <a:gd name="textAreaLeft" fmla="*/ 0 w 566280"/>
                    <a:gd name="textAreaRight" fmla="*/ 566640 w 56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9999cc"/>
                    </a:gs>
                  </a:gsLst>
                  <a:lin ang="18900000"/>
                </a:gradFill>
                <a:ln w="38160">
                  <a:solidFill>
                    <a:srgbClr val="99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Group 7"/>
                <p:cNvGrpSpPr/>
                <p:nvPr/>
              </p:nvGrpSpPr>
              <p:grpSpPr>
                <a:xfrm>
                  <a:off x="-25920" y="0"/>
                  <a:ext cx="938160" cy="1016280"/>
                  <a:chOff x="-25920" y="0"/>
                  <a:chExt cx="938160" cy="1016280"/>
                </a:xfrm>
              </p:grpSpPr>
              <p:sp>
                <p:nvSpPr>
                  <p:cNvPr id="440" name="Freeform 8"/>
                  <p:cNvSpPr/>
                  <p:nvPr/>
                </p:nvSpPr>
                <p:spPr>
                  <a:xfrm>
                    <a:off x="333000" y="163440"/>
                    <a:ext cx="564840" cy="606240"/>
                  </a:xfrm>
                  <a:custGeom>
                    <a:avLst/>
                    <a:gdLst>
                      <a:gd name="textAreaLeft" fmla="*/ 0 w 564840"/>
                      <a:gd name="textAreaRight" fmla="*/ 565200 w 564840"/>
                      <a:gd name="textAreaTop" fmla="*/ 0 h 606240"/>
                      <a:gd name="textAreaBottom" fmla="*/ 606600 h 606240"/>
                    </a:gdLst>
                    <a:ahLst/>
                    <a:rect l="textAreaLeft" t="textAreaTop" r="textAreaRight" b="textAreaBottom"/>
                    <a:pathLst>
                      <a:path w="432" h="624">
                        <a:moveTo>
                          <a:pt x="0" y="624"/>
                        </a:moveTo>
                        <a:lnTo>
                          <a:pt x="96" y="624"/>
                        </a:lnTo>
                        <a:lnTo>
                          <a:pt x="432" y="0"/>
                        </a:lnTo>
                        <a:lnTo>
                          <a:pt x="288" y="48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99cc"/>
                      </a:gs>
                      <a:gs pos="50000">
                        <a:srgbClr val="cc3300"/>
                      </a:gs>
                      <a:gs pos="100000">
                        <a:srgbClr val="9999cc"/>
                      </a:gs>
                    </a:gsLst>
                    <a:lin ang="2700000"/>
                  </a:gradFill>
                  <a:ln w="381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9"/>
                  <p:cNvSpPr/>
                  <p:nvPr/>
                </p:nvSpPr>
                <p:spPr>
                  <a:xfrm rot="961200">
                    <a:off x="105480" y="33120"/>
                    <a:ext cx="295200" cy="68436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684360"/>
                      <a:gd name="textAreaBottom" fmla="*/ 684720 h 684360"/>
                    </a:gdLst>
                    <a:ahLst/>
                    <a:rect l="textAreaLeft" t="textAreaTop" r="textAreaRight" b="textAreaBottom"/>
                    <a:pathLst>
                      <a:path w="480" h="720">
                        <a:moveTo>
                          <a:pt x="480" y="96"/>
                        </a:moveTo>
                        <a:lnTo>
                          <a:pt x="192" y="672"/>
                        </a:lnTo>
                        <a:lnTo>
                          <a:pt x="144" y="720"/>
                        </a:lnTo>
                        <a:lnTo>
                          <a:pt x="0" y="624"/>
                        </a:lnTo>
                        <a:lnTo>
                          <a:pt x="144" y="336"/>
                        </a:lnTo>
                        <a:lnTo>
                          <a:pt x="336" y="0"/>
                        </a:lnTo>
                        <a:lnTo>
                          <a:pt x="480" y="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cc66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10"/>
                  <p:cNvSpPr/>
                  <p:nvPr/>
                </p:nvSpPr>
                <p:spPr>
                  <a:xfrm>
                    <a:off x="442440" y="0"/>
                    <a:ext cx="469800" cy="171360"/>
                  </a:xfrm>
                  <a:custGeom>
                    <a:avLst/>
                    <a:gdLst>
                      <a:gd name="textAreaLeft" fmla="*/ 0 w 469800"/>
                      <a:gd name="textAreaRight" fmla="*/ 470160 w 4698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336" h="240">
                        <a:moveTo>
                          <a:pt x="192" y="240"/>
                        </a:moveTo>
                        <a:lnTo>
                          <a:pt x="48" y="144"/>
                        </a:lnTo>
                        <a:lnTo>
                          <a:pt x="0" y="48"/>
                        </a:lnTo>
                        <a:lnTo>
                          <a:pt x="144" y="0"/>
                        </a:lnTo>
                        <a:lnTo>
                          <a:pt x="288" y="48"/>
                        </a:lnTo>
                        <a:lnTo>
                          <a:pt x="336" y="192"/>
                        </a:lnTo>
                        <a:lnTo>
                          <a:pt x="192" y="24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66"/>
                      </a:gs>
                      <a:gs pos="50000">
                        <a:srgbClr val="ff9933"/>
                      </a:gs>
                      <a:gs pos="100000">
                        <a:srgbClr val="ffcc66"/>
                      </a:gs>
                    </a:gsLst>
                    <a:lin ang="189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Freeform 11"/>
                  <p:cNvSpPr/>
                  <p:nvPr/>
                </p:nvSpPr>
                <p:spPr>
                  <a:xfrm>
                    <a:off x="60120" y="563400"/>
                    <a:ext cx="375840" cy="390600"/>
                  </a:xfrm>
                  <a:custGeom>
                    <a:avLst/>
                    <a:gdLst>
                      <a:gd name="textAreaLeft" fmla="*/ 0 w 375840"/>
                      <a:gd name="textAreaRight" fmla="*/ 376200 w 375840"/>
                      <a:gd name="textAreaTop" fmla="*/ 0 h 390600"/>
                      <a:gd name="textAreaBottom" fmla="*/ 390960 h 390600"/>
                    </a:gdLst>
                    <a:ahLst/>
                    <a:rect l="textAreaLeft" t="textAreaTop" r="textAreaRight" b="textAreaBottom"/>
                    <a:pathLst>
                      <a:path w="384" h="384">
                        <a:moveTo>
                          <a:pt x="192" y="192"/>
                        </a:moveTo>
                        <a:lnTo>
                          <a:pt x="96" y="144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lnTo>
                          <a:pt x="0" y="384"/>
                        </a:lnTo>
                        <a:lnTo>
                          <a:pt x="384" y="192"/>
                        </a:lnTo>
                        <a:lnTo>
                          <a:pt x="192" y="19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9900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12"/>
                  <p:cNvSpPr/>
                  <p:nvPr/>
                </p:nvSpPr>
                <p:spPr>
                  <a:xfrm rot="1629000">
                    <a:off x="0" y="840960"/>
                    <a:ext cx="150480" cy="14904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969696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5" name="Oval 13"/>
              <p:cNvSpPr/>
              <p:nvPr/>
            </p:nvSpPr>
            <p:spPr>
              <a:xfrm>
                <a:off x="661680" y="11160"/>
                <a:ext cx="140760" cy="6984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14"/>
            <p:cNvSpPr/>
            <p:nvPr/>
          </p:nvSpPr>
          <p:spPr>
            <a:xfrm>
              <a:off x="720720" y="404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Picture 15" descr="BJ_010"/>
          <p:cNvPicPr/>
          <p:nvPr/>
        </p:nvPicPr>
        <p:blipFill>
          <a:blip r:embed="rId1"/>
          <a:stretch/>
        </p:blipFill>
        <p:spPr>
          <a:xfrm>
            <a:off x="6516720" y="5445000"/>
            <a:ext cx="2627280" cy="1413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6"/>
          <p:cNvSpPr/>
          <p:nvPr/>
        </p:nvSpPr>
        <p:spPr>
          <a:xfrm>
            <a:off x="255600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1187280" y="112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数不是有理数就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1187280" y="1700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理数都是无限不循环小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9"/>
          <p:cNvSpPr/>
          <p:nvPr/>
        </p:nvSpPr>
        <p:spPr>
          <a:xfrm>
            <a:off x="1187280" y="2349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理数都是无限小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0"/>
          <p:cNvSpPr/>
          <p:nvPr/>
        </p:nvSpPr>
        <p:spPr>
          <a:xfrm>
            <a:off x="118728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根号的数都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1"/>
          <p:cNvSpPr/>
          <p:nvPr/>
        </p:nvSpPr>
        <p:spPr>
          <a:xfrm>
            <a:off x="1187280" y="3645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理数一定都带根号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2"/>
          <p:cNvSpPr/>
          <p:nvPr/>
        </p:nvSpPr>
        <p:spPr>
          <a:xfrm>
            <a:off x="1187280" y="4221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无理数之积不一定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3"/>
          <p:cNvSpPr/>
          <p:nvPr/>
        </p:nvSpPr>
        <p:spPr>
          <a:xfrm>
            <a:off x="1187280" y="4869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无理数之和一定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Text Box 26"/>
          <p:cNvSpPr/>
          <p:nvPr/>
        </p:nvSpPr>
        <p:spPr>
          <a:xfrm>
            <a:off x="5796000" y="2924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27"/>
          <p:cNvGrpSpPr/>
          <p:nvPr/>
        </p:nvGrpSpPr>
        <p:grpSpPr>
          <a:xfrm>
            <a:off x="6659640" y="1197000"/>
            <a:ext cx="431280" cy="288720"/>
            <a:chOff x="6659640" y="1197000"/>
            <a:chExt cx="431280" cy="288720"/>
          </a:xfrm>
        </p:grpSpPr>
        <p:sp>
          <p:nvSpPr>
            <p:cNvPr id="459" name="Line 28"/>
            <p:cNvSpPr/>
            <p:nvPr/>
          </p:nvSpPr>
          <p:spPr>
            <a:xfrm>
              <a:off x="6659640" y="1341360"/>
              <a:ext cx="14436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9"/>
            <p:cNvSpPr/>
            <p:nvPr/>
          </p:nvSpPr>
          <p:spPr>
            <a:xfrm flipV="1">
              <a:off x="6804000" y="1197000"/>
              <a:ext cx="28692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30"/>
          <p:cNvGrpSpPr/>
          <p:nvPr/>
        </p:nvGrpSpPr>
        <p:grpSpPr>
          <a:xfrm>
            <a:off x="6659640" y="1844640"/>
            <a:ext cx="431280" cy="288720"/>
            <a:chOff x="6659640" y="1844640"/>
            <a:chExt cx="431280" cy="288720"/>
          </a:xfrm>
        </p:grpSpPr>
        <p:sp>
          <p:nvSpPr>
            <p:cNvPr id="462" name="Line 31"/>
            <p:cNvSpPr/>
            <p:nvPr/>
          </p:nvSpPr>
          <p:spPr>
            <a:xfrm>
              <a:off x="6659640" y="1989000"/>
              <a:ext cx="14436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32"/>
            <p:cNvSpPr/>
            <p:nvPr/>
          </p:nvSpPr>
          <p:spPr>
            <a:xfrm flipV="1">
              <a:off x="6804000" y="1844640"/>
              <a:ext cx="28692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33"/>
          <p:cNvGrpSpPr/>
          <p:nvPr/>
        </p:nvGrpSpPr>
        <p:grpSpPr>
          <a:xfrm>
            <a:off x="5580000" y="2492280"/>
            <a:ext cx="432000" cy="288720"/>
            <a:chOff x="5580000" y="2492280"/>
            <a:chExt cx="432000" cy="288720"/>
          </a:xfrm>
        </p:grpSpPr>
        <p:sp>
          <p:nvSpPr>
            <p:cNvPr id="465" name="Line 34"/>
            <p:cNvSpPr/>
            <p:nvPr/>
          </p:nvSpPr>
          <p:spPr>
            <a:xfrm>
              <a:off x="5580000" y="2636640"/>
              <a:ext cx="14472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5"/>
            <p:cNvSpPr/>
            <p:nvPr/>
          </p:nvSpPr>
          <p:spPr>
            <a:xfrm flipV="1">
              <a:off x="5724720" y="2492280"/>
              <a:ext cx="28728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36"/>
          <p:cNvGrpSpPr/>
          <p:nvPr/>
        </p:nvGrpSpPr>
        <p:grpSpPr>
          <a:xfrm>
            <a:off x="7380360" y="4292640"/>
            <a:ext cx="431280" cy="288720"/>
            <a:chOff x="7380360" y="4292640"/>
            <a:chExt cx="431280" cy="288720"/>
          </a:xfrm>
        </p:grpSpPr>
        <p:sp>
          <p:nvSpPr>
            <p:cNvPr id="468" name="Line 37"/>
            <p:cNvSpPr/>
            <p:nvPr/>
          </p:nvSpPr>
          <p:spPr>
            <a:xfrm>
              <a:off x="7380360" y="4437000"/>
              <a:ext cx="14436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8"/>
            <p:cNvSpPr/>
            <p:nvPr/>
          </p:nvSpPr>
          <p:spPr>
            <a:xfrm flipV="1">
              <a:off x="7524720" y="4292640"/>
              <a:ext cx="28692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39"/>
          <p:cNvSpPr/>
          <p:nvPr/>
        </p:nvSpPr>
        <p:spPr>
          <a:xfrm>
            <a:off x="5435640" y="357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0"/>
          <p:cNvSpPr/>
          <p:nvPr/>
        </p:nvSpPr>
        <p:spPr>
          <a:xfrm>
            <a:off x="6804000" y="4797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1:31:0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19Z</dcterms:modified>
  <cp:revision>28</cp:revision>
  <dc:subject>人教版七年级数学（下）全套课件</dc:subject>
  <dc:title>人教版七年级数学（下）全套课件</dc:title>
</cp:coreProperties>
</file>