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A91-9DFF-42A1-B75D-02AB4D87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AF5-5978-41DA-8CC0-F4DB13CA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49C-6008-4017-A407-0C3E080A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2BD-B29F-448D-B95D-825B1A4A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AAF3-0A60-4EE9-8F9A-D685A4FC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6545-519E-43C7-B1D3-09650AEF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8606-A375-40A6-8E8F-832ACB5F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E103-5131-43B7-9DB4-E4449E9F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611F-AAA2-45FD-85A4-42384FAF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ABBB-21A2-4ECC-84BB-452C2BDF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6756-D60E-4AB7-BC5A-D5EA8DEE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70B-713E-4667-B1E3-C7508D8F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CE52-7067-4120-869C-3A6AFD5D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356F-C74F-4A20-B4BB-76AC00C3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C62B-83D8-4521-A7B6-1C5BD986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AD3D-F4D0-4D30-B354-E694C464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B878-39D2-4F1B-888D-E55DC87D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3E7-63D3-4F7F-B1DC-F5633904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74A-686E-423B-9855-A30DAC98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9D3-9679-4B2A-9994-2315F351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B41-589D-4DD8-8814-1C8E1909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C80-11EF-4DAB-986D-3AA0FE31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8BC-F581-4B4C-A004-7B6F609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A62-5D60-4F54-A327-7223AE51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4A5F-D9BE-4E16-B5C8-5F3E5A49D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5249-67A2-4D3A-99C6-3578A43F9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068640" y="444600"/>
            <a:ext cx="32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代入消元法解二元一次方程组的步骤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代入消元法解下列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258920" y="1989000"/>
            <a:ext cx="433440" cy="1224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763640" y="205956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x+5y=21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y= -11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992240" y="3716280"/>
            <a:ext cx="463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认真观察上个方程组中各个未知数的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什么特点并分组计论看还有没有其它的解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尝试一下能否求出它的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763640" y="549360"/>
            <a:ext cx="216000" cy="1177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0600 h 1177920"/>
              <a:gd name="textAreaBottom" fmla="*/ 1147320 h 117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835280" y="88560"/>
            <a:ext cx="388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x+5y=21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y= -11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35120" y="2297160"/>
            <a:ext cx="6645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;(3x+5y)+(2x-5y)=21+(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化简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;5x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方程的两边同时除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;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=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代入①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;2*2-5y =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方程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;y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方程组的解为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3132000" y="4653000"/>
            <a:ext cx="216000" cy="90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23840" y="1289160"/>
            <a:ext cx="7435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方程组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5y=7       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3y= -1     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：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①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得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x+3y)-(2x-5y)=-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化简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8y=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 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入①，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原方程组是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3348000" y="1268280"/>
            <a:ext cx="312840" cy="989280"/>
          </a:xfrm>
          <a:custGeom>
            <a:avLst/>
            <a:gdLst>
              <a:gd name="textAreaLeft" fmla="*/ 199800 w 312840"/>
              <a:gd name="textAreaRight" fmla="*/ 313200 w 312840"/>
              <a:gd name="textAreaTop" fmla="*/ 25560 h 989280"/>
              <a:gd name="textAreaBottom" fmla="*/ 963720 h 98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24360" y="4292640"/>
            <a:ext cx="239760" cy="988920"/>
          </a:xfrm>
          <a:custGeom>
            <a:avLst/>
            <a:gdLst>
              <a:gd name="textAreaLeft" fmla="*/ 153360 w 239760"/>
              <a:gd name="textAreaRight" fmla="*/ 240120 w 239760"/>
              <a:gd name="textAreaTop" fmla="*/ 25560 h 988920"/>
              <a:gd name="textAreaBottom" fmla="*/ 963360 h 98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867280" y="5734080"/>
            <a:ext cx="1225800" cy="57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816200" y="134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4360" y="1052640"/>
            <a:ext cx="72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方程组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+3y=12    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+4y=17    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：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3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x+9y=36       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x+8y==34      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代入①，    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以原方程组的解是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3059280" y="1197000"/>
            <a:ext cx="144360" cy="115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77040 h 1152360"/>
              <a:gd name="textAreaBottom" fmla="*/ 107532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7"/>
                  <a:pt x="10800" y="4613"/>
                </a:cubicBezTo>
                <a:lnTo>
                  <a:pt x="10800" y="6187"/>
                </a:lnTo>
                <a:cubicBezTo>
                  <a:pt x="10800" y="8494"/>
                  <a:pt x="5400" y="10800"/>
                  <a:pt x="0" y="10800"/>
                </a:cubicBezTo>
                <a:cubicBezTo>
                  <a:pt x="5400" y="10800"/>
                  <a:pt x="10800" y="13107"/>
                  <a:pt x="10800" y="15413"/>
                </a:cubicBezTo>
                <a:lnTo>
                  <a:pt x="10800" y="16987"/>
                </a:lnTo>
                <a:cubicBezTo>
                  <a:pt x="10800" y="1929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067280" y="4941720"/>
            <a:ext cx="168120" cy="836640"/>
          </a:xfrm>
          <a:custGeom>
            <a:avLst/>
            <a:gdLst>
              <a:gd name="textAreaLeft" fmla="*/ 107640 w 168120"/>
              <a:gd name="textAreaRight" fmla="*/ 168480 w 168120"/>
              <a:gd name="textAreaTop" fmla="*/ 21600 h 836640"/>
              <a:gd name="textAreaBottom" fmla="*/ 815040 h 83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867280" y="5516640"/>
            <a:ext cx="16574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89000"/>
            <a:ext cx="88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从上面的问题中我们可以得到什么启发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我们可以得到解方程组的基本思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对某些二元一次方程组可通过方程两边分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（减）消去其中一个未知数，得到一个一元一次方程，从而求出它的解，这就是本节课解方程组的基本思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解这种类型的方程组的主要步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观察求未知数的系数的绝对值是否相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若互为相反数就用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若相同，就用减，达到消元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;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这种通过两式相加（减）消去一个未知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这种解二元一次方程组的方法叫做加减消元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简称加减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539640" y="333000"/>
            <a:ext cx="90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896120" y="700560"/>
            <a:ext cx="3904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5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解二元一次方程组的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二元一次方程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一元一次方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求出方程的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708000" y="141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消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2916360" y="198900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 flipH="1">
            <a:off x="2987280" y="2492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2916360" y="2708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041280" y="220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5841720" y="2421000"/>
            <a:ext cx="10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元一次方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出另一个未知数的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395280" y="3500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2170800" y="3160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出方程组的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836640" y="4476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97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209040" y="543960"/>
            <a:ext cx="8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一练用加减消元法解下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116000" y="1773360"/>
            <a:ext cx="154080" cy="863640"/>
          </a:xfrm>
          <a:custGeom>
            <a:avLst/>
            <a:gdLst>
              <a:gd name="textAreaLeft" fmla="*/ 98640 w 154080"/>
              <a:gd name="textAreaRight" fmla="*/ 154440 w 154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5076720" y="1844640"/>
            <a:ext cx="211320" cy="673200"/>
          </a:xfrm>
          <a:custGeom>
            <a:avLst/>
            <a:gdLst>
              <a:gd name="textAreaLeft" fmla="*/ 135000 w 211320"/>
              <a:gd name="textAreaRight" fmla="*/ 211680 w 211320"/>
              <a:gd name="textAreaTop" fmla="*/ 17280 h 673200"/>
              <a:gd name="textAreaBottom" fmla="*/ 655920 h 67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5580000" y="3500280"/>
            <a:ext cx="71640" cy="773280"/>
          </a:xfrm>
          <a:custGeom>
            <a:avLst/>
            <a:gdLst>
              <a:gd name="textAreaLeft" fmla="*/ 45720 w 71640"/>
              <a:gd name="textAreaRight" fmla="*/ 72000 w 71640"/>
              <a:gd name="textAreaTop" fmla="*/ 20160 h 773280"/>
              <a:gd name="textAreaBottom" fmla="*/ 753120 h 77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547640" y="3645000"/>
            <a:ext cx="144720" cy="77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0160 h 774720"/>
              <a:gd name="textAreaBottom" fmla="*/ 754560 h 7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554840" y="1699920"/>
            <a:ext cx="53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7x-2y=-3       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x-5y=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9x+2y=-19                 6x+y= 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435320" y="3428640"/>
            <a:ext cx="541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s+3t=5         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x-6y=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s-t=-15                7x-4y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20920" y="1884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3635280" y="5445000"/>
            <a:ext cx="144144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5867280" y="5516640"/>
            <a:ext cx="865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07:29:11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07Z</dcterms:modified>
  <cp:revision>7</cp:revision>
  <dc:subject>人教版七年级数学（下）全套课件</dc:subject>
  <dc:title>人教版七年级数学（下）全套课件</dc:title>
</cp:coreProperties>
</file>