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type.wav" ContentType="audio/x-wav"/>
  <Override PartName="/ppt/media/chimes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CDD-1C5B-4ED9-BFB9-EA262C78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626-16DF-4750-9FAB-D11C7462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A23-F8B1-45F1-AEC3-BA0D731E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DBC-D022-4619-AFC7-8DFB8415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4243-C140-4DE3-9191-9A062EB4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E1FF-1E5B-4A90-8B5D-350D98E7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FA4C-ADEA-4449-A1C7-198EFB81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2DE9-0B72-4ED1-8F55-0221ECDD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D905-FE21-4218-8142-B2C7ED7A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1B2E-9B55-46B4-BCD6-B059A339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CB2B-B2AA-40F3-B56A-7CB5368B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23C-9424-466B-8AE2-EC70BC1B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1BFD-6F74-40C5-B479-7E9D31BA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40AA-5E2F-41E0-944C-56C7ACB5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B704-19A3-4C18-B18D-89E9F813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6ACF-50B2-4AC2-B0F5-F2F1A37B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3080-B983-491B-9A86-FB1EF13A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E0E06-60A7-4CC5-B144-C8103B14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EE173-ED60-469A-A60E-179EA90A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2E55-39B5-494A-96AC-5FBCC949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E170E-84D9-4546-8EFF-558B4F67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AE77-5C31-49EB-83B5-9A47A979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EC5-8E54-4970-94E3-440857CE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E952-2A27-4597-A039-A6B74392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E7F2E-9326-4205-A7C3-86707733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63206-6FD8-4C1A-9304-F6597B3B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9A5F3-ECE4-4925-BD0C-B88D7F69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92BE8-49BD-4590-9C26-E83295DF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E71E5-6172-4481-BB69-35B5F149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04498-A279-4A2B-AF9F-EEEA578B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708-A04E-44E6-9F0F-FCA71B2B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BB1-F58B-4E68-A95E-B3CD1F85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619-F3D0-4559-B25C-E238E1CD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E22-5698-4590-808E-52F4B884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329-3759-4496-905A-DEDD0F36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A5D-C977-41F9-9D3D-08AA7A36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30FC-B5BA-4A4C-B2A2-9034A5705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2CA7-B5DF-4ED1-BD04-C0A5691E6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4624-4D8C-40C3-8691-27AD09918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glas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五章 二元一次方程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加减法解二元一次方程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80880" y="5335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本节小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65040" y="1066680"/>
            <a:ext cx="861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加减法解二元一次方程组的思想：“二元”消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转化为“一元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58920" y="2057400"/>
            <a:ext cx="832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加减法解二元一次方程组的条件：某一未知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系数绝对值相等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03120" y="3105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加减法解二元一次方程组的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79200" y="3792600"/>
            <a:ext cx="723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作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必做题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24    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做题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25    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预习：下节课内容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04920" y="304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．复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9144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用代入法解二元一次方程组的基本思想是什么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1523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用代入法解下列方程组，并检验所得结果是否正确．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6003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2205000" y="2297160"/>
                <a:ext cx="3362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Rectangle 7"/>
          <p:cNvSpPr/>
          <p:nvPr/>
        </p:nvSpPr>
        <p:spPr>
          <a:xfrm>
            <a:off x="228600" y="33526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对于二元一次方程组，是否存在其他方法，也可以消去一个未知数，达到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二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目的呢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979640" y="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79440" y="18576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．新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4"/>
          <p:cNvGrpSpPr/>
          <p:nvPr/>
        </p:nvGrpSpPr>
        <p:grpSpPr>
          <a:xfrm>
            <a:off x="304920" y="730080"/>
            <a:ext cx="8839080" cy="947160"/>
            <a:chOff x="304920" y="730080"/>
            <a:chExt cx="8839080" cy="947160"/>
          </a:xfrm>
        </p:grpSpPr>
        <p:sp>
          <p:nvSpPr>
            <p:cNvPr id="134" name="Rectangle 4"/>
            <p:cNvSpPr/>
            <p:nvPr/>
          </p:nvSpPr>
          <p:spPr>
            <a:xfrm>
              <a:off x="304920" y="73008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第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）题的两个方程中，未知数  的系数有什么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点？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3"/>
                <p:cNvSpPr txBox="1"/>
                <p:nvPr/>
              </p:nvSpPr>
              <p:spPr>
                <a:xfrm>
                  <a:off x="5486400" y="762120"/>
                  <a:ext cx="403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Group 15"/>
          <p:cNvGrpSpPr/>
          <p:nvPr/>
        </p:nvGrpSpPr>
        <p:grpSpPr>
          <a:xfrm>
            <a:off x="533520" y="1676520"/>
            <a:ext cx="5467320" cy="3506760"/>
            <a:chOff x="533520" y="1676520"/>
            <a:chExt cx="5467320" cy="3506760"/>
          </a:xfrm>
        </p:grpSpPr>
        <p:sp>
          <p:nvSpPr>
            <p:cNvPr id="137" name="Rectangle 10"/>
            <p:cNvSpPr/>
            <p:nvPr/>
          </p:nvSpPr>
          <p:spPr>
            <a:xfrm>
              <a:off x="533520" y="1676520"/>
              <a:ext cx="5410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解：①＋②，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把             代入①，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∴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∴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Object 9"/>
                <p:cNvSpPr txBox="1"/>
                <p:nvPr/>
              </p:nvSpPr>
              <p:spPr>
                <a:xfrm>
                  <a:off x="3429000" y="1752480"/>
                  <a:ext cx="106668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Object 8"/>
                <p:cNvSpPr txBox="1"/>
                <p:nvPr/>
              </p:nvSpPr>
              <p:spPr>
                <a:xfrm>
                  <a:off x="1371600" y="2590920"/>
                  <a:ext cx="83808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Object 7"/>
                <p:cNvSpPr txBox="1"/>
                <p:nvPr/>
              </p:nvSpPr>
              <p:spPr>
                <a:xfrm>
                  <a:off x="4324320" y="2571840"/>
                  <a:ext cx="167652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1" name="Object 6"/>
                <p:cNvSpPr txBox="1"/>
                <p:nvPr/>
              </p:nvSpPr>
              <p:spPr>
                <a:xfrm>
                  <a:off x="1295280" y="3352680"/>
                  <a:ext cx="91440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Object 5"/>
                <p:cNvSpPr txBox="1"/>
                <p:nvPr/>
              </p:nvSpPr>
              <p:spPr>
                <a:xfrm>
                  <a:off x="1392120" y="4075200"/>
                  <a:ext cx="89532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3" name="Group 16"/>
          <p:cNvGrpSpPr/>
          <p:nvPr/>
        </p:nvGrpSpPr>
        <p:grpSpPr>
          <a:xfrm>
            <a:off x="343080" y="5235480"/>
            <a:ext cx="8762760" cy="520560"/>
            <a:chOff x="343080" y="5235480"/>
            <a:chExt cx="8762760" cy="520560"/>
          </a:xfrm>
        </p:grpSpPr>
        <p:sp>
          <p:nvSpPr>
            <p:cNvPr id="144" name="Rectangle 13"/>
            <p:cNvSpPr/>
            <p:nvPr/>
          </p:nvSpPr>
          <p:spPr>
            <a:xfrm>
              <a:off x="343080" y="5235480"/>
              <a:ext cx="87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试比较用这种方法得到的  、 值是否与用代入法得到的相同？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Object 12"/>
                <p:cNvSpPr txBox="1"/>
                <p:nvPr/>
              </p:nvSpPr>
              <p:spPr>
                <a:xfrm>
                  <a:off x="4343400" y="5295960"/>
                  <a:ext cx="3967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1"/>
                <p:cNvSpPr txBox="1"/>
                <p:nvPr/>
              </p:nvSpPr>
              <p:spPr>
                <a:xfrm>
                  <a:off x="4896000" y="5289480"/>
                  <a:ext cx="403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0"/>
          <p:cNvGrpSpPr/>
          <p:nvPr/>
        </p:nvGrpSpPr>
        <p:grpSpPr>
          <a:xfrm>
            <a:off x="395280" y="322200"/>
            <a:ext cx="8610480" cy="3506760"/>
            <a:chOff x="395280" y="322200"/>
            <a:chExt cx="8610480" cy="3506760"/>
          </a:xfrm>
        </p:grpSpPr>
        <p:sp>
          <p:nvSpPr>
            <p:cNvPr id="148" name="Rectangle 6"/>
            <p:cNvSpPr/>
            <p:nvPr/>
          </p:nvSpPr>
          <p:spPr>
            <a:xfrm>
              <a:off x="395280" y="322200"/>
              <a:ext cx="86104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问题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：上面方程组的两个方程中，因为  的系数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为相反数，所以我们把两个方程相加，就消去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．观察一下，　的系数有何特点？方程①和方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经过怎样的变化可以消去   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4"/>
                <p:cNvSpPr txBox="1"/>
                <p:nvPr/>
              </p:nvSpPr>
              <p:spPr>
                <a:xfrm>
                  <a:off x="6553080" y="380880"/>
                  <a:ext cx="403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Object 3"/>
                <p:cNvSpPr txBox="1"/>
                <p:nvPr/>
              </p:nvSpPr>
              <p:spPr>
                <a:xfrm>
                  <a:off x="4724280" y="2895480"/>
                  <a:ext cx="3970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Object 2"/>
                <p:cNvSpPr txBox="1"/>
                <p:nvPr/>
              </p:nvSpPr>
              <p:spPr>
                <a:xfrm>
                  <a:off x="2514600" y="2057400"/>
                  <a:ext cx="4636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Object 7"/>
                <p:cNvSpPr txBox="1"/>
                <p:nvPr/>
              </p:nvSpPr>
              <p:spPr>
                <a:xfrm>
                  <a:off x="7848720" y="1295280"/>
                  <a:ext cx="403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" name="Rectangle 8"/>
          <p:cNvSpPr/>
          <p:nvPr/>
        </p:nvSpPr>
        <p:spPr>
          <a:xfrm>
            <a:off x="-131760" y="350532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问题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①比较上面解二元一次方程组的方法，是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用代入法简单，还是用加减法简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②在什么条件下可以用加减法进行消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③什么条件下用加法、什么条件下用减法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6"/>
          <p:cNvGrpSpPr/>
          <p:nvPr/>
        </p:nvGrpSpPr>
        <p:grpSpPr>
          <a:xfrm>
            <a:off x="816120" y="358920"/>
            <a:ext cx="6400800" cy="1065960"/>
            <a:chOff x="816120" y="358920"/>
            <a:chExt cx="6400800" cy="1065960"/>
          </a:xfrm>
        </p:grpSpPr>
        <p:sp>
          <p:nvSpPr>
            <p:cNvPr id="155" name="Rectangle 3"/>
            <p:cNvSpPr/>
            <p:nvPr/>
          </p:nvSpPr>
          <p:spPr>
            <a:xfrm>
              <a:off x="816120" y="477720"/>
              <a:ext cx="640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解方程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Object 2"/>
                <p:cNvSpPr txBox="1"/>
                <p:nvPr/>
              </p:nvSpPr>
              <p:spPr>
                <a:xfrm>
                  <a:off x="3583080" y="358920"/>
                  <a:ext cx="223812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6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7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7" name="Group 15"/>
          <p:cNvGrpSpPr/>
          <p:nvPr/>
        </p:nvGrpSpPr>
        <p:grpSpPr>
          <a:xfrm>
            <a:off x="533520" y="1295280"/>
            <a:ext cx="8001000" cy="5278680"/>
            <a:chOff x="533520" y="1295280"/>
            <a:chExt cx="8001000" cy="5278680"/>
          </a:xfrm>
        </p:grpSpPr>
        <p:sp>
          <p:nvSpPr>
            <p:cNvPr id="158" name="Rectangle 13"/>
            <p:cNvSpPr/>
            <p:nvPr/>
          </p:nvSpPr>
          <p:spPr>
            <a:xfrm>
              <a:off x="533520" y="1295280"/>
              <a:ext cx="800100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解：①－②，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∴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把             代入②，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∴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∴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Object 12"/>
                <p:cNvSpPr txBox="1"/>
                <p:nvPr/>
              </p:nvSpPr>
              <p:spPr>
                <a:xfrm>
                  <a:off x="3429000" y="1371600"/>
                  <a:ext cx="144792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Object 11"/>
                <p:cNvSpPr txBox="1"/>
                <p:nvPr/>
              </p:nvSpPr>
              <p:spPr>
                <a:xfrm>
                  <a:off x="1371600" y="3048120"/>
                  <a:ext cx="9907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Object 10"/>
                <p:cNvSpPr txBox="1"/>
                <p:nvPr/>
              </p:nvSpPr>
              <p:spPr>
                <a:xfrm>
                  <a:off x="1752480" y="2133720"/>
                  <a:ext cx="10670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Object 9"/>
                <p:cNvSpPr txBox="1"/>
                <p:nvPr/>
              </p:nvSpPr>
              <p:spPr>
                <a:xfrm>
                  <a:off x="4267080" y="3048120"/>
                  <a:ext cx="205740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Object 8"/>
                <p:cNvSpPr txBox="1"/>
                <p:nvPr/>
              </p:nvSpPr>
              <p:spPr>
                <a:xfrm>
                  <a:off x="1447920" y="3962520"/>
                  <a:ext cx="182880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Object 7"/>
                <p:cNvSpPr txBox="1"/>
                <p:nvPr/>
              </p:nvSpPr>
              <p:spPr>
                <a:xfrm>
                  <a:off x="1371600" y="4572000"/>
                  <a:ext cx="7970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Object 6"/>
                <p:cNvSpPr txBox="1"/>
                <p:nvPr/>
              </p:nvSpPr>
              <p:spPr>
                <a:xfrm>
                  <a:off x="1295280" y="5278320"/>
                  <a:ext cx="103212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5560" y="93204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检验一下，所得结果是否正确？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3"/>
          <p:cNvGrpSpPr/>
          <p:nvPr/>
        </p:nvGrpSpPr>
        <p:grpSpPr>
          <a:xfrm>
            <a:off x="0" y="1447920"/>
            <a:ext cx="9144000" cy="947160"/>
            <a:chOff x="0" y="1447920"/>
            <a:chExt cx="9144000" cy="947160"/>
          </a:xfrm>
        </p:grpSpPr>
        <p:sp>
          <p:nvSpPr>
            <p:cNvPr id="168" name="Rectangle 4"/>
            <p:cNvSpPr/>
            <p:nvPr/>
          </p:nvSpPr>
          <p:spPr>
            <a:xfrm>
              <a:off x="0" y="144792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）用②－①可以消掉　吗？是用①－②，还是用②　　－①计算比较简单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3"/>
                <p:cNvSpPr txBox="1"/>
                <p:nvPr/>
              </p:nvSpPr>
              <p:spPr>
                <a:xfrm>
                  <a:off x="3886200" y="1447920"/>
                  <a:ext cx="5284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0" name="Group 12"/>
          <p:cNvGrpSpPr/>
          <p:nvPr/>
        </p:nvGrpSpPr>
        <p:grpSpPr>
          <a:xfrm>
            <a:off x="0" y="2514600"/>
            <a:ext cx="8763120" cy="533520"/>
            <a:chOff x="0" y="2514600"/>
            <a:chExt cx="8763120" cy="533520"/>
          </a:xfrm>
        </p:grpSpPr>
        <p:sp>
          <p:nvSpPr>
            <p:cNvPr id="171" name="Rectangle 8"/>
            <p:cNvSpPr/>
            <p:nvPr/>
          </p:nvSpPr>
          <p:spPr>
            <a:xfrm>
              <a:off x="0" y="2514600"/>
              <a:ext cx="87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）把      代入①，  的值是多少？是代入①计算   　简单还是代入②计算简单？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Object 7"/>
                <p:cNvSpPr txBox="1"/>
                <p:nvPr/>
              </p:nvSpPr>
              <p:spPr>
                <a:xfrm>
                  <a:off x="1333440" y="2552760"/>
                  <a:ext cx="10670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Object 6"/>
                <p:cNvSpPr txBox="1"/>
                <p:nvPr/>
              </p:nvSpPr>
              <p:spPr>
                <a:xfrm>
                  <a:off x="3733920" y="2514600"/>
                  <a:ext cx="4618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Rectangle 9"/>
          <p:cNvSpPr/>
          <p:nvPr/>
        </p:nvSpPr>
        <p:spPr>
          <a:xfrm>
            <a:off x="228600" y="4419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加减法解二元一次方程组的条件是某个未知数的系数绝对值相等．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28600" y="3657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总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0"/>
          <p:cNvGrpSpPr/>
          <p:nvPr/>
        </p:nvGrpSpPr>
        <p:grpSpPr>
          <a:xfrm>
            <a:off x="434880" y="673200"/>
            <a:ext cx="5639040" cy="1075680"/>
            <a:chOff x="434880" y="673200"/>
            <a:chExt cx="5639040" cy="1075680"/>
          </a:xfrm>
        </p:grpSpPr>
        <p:sp>
          <p:nvSpPr>
            <p:cNvPr id="177" name="Rectangle 3"/>
            <p:cNvSpPr/>
            <p:nvPr/>
          </p:nvSpPr>
          <p:spPr>
            <a:xfrm>
              <a:off x="434880" y="801720"/>
              <a:ext cx="5639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解方程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Object 2"/>
                <p:cNvSpPr txBox="1"/>
                <p:nvPr/>
              </p:nvSpPr>
              <p:spPr>
                <a:xfrm>
                  <a:off x="3305160" y="673200"/>
                  <a:ext cx="2301840" cy="78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9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9" name="Rectangle 4"/>
          <p:cNvSpPr/>
          <p:nvPr/>
        </p:nvSpPr>
        <p:spPr>
          <a:xfrm>
            <a:off x="204840" y="16970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上面的方程组是否符合用加减法消元的条件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85760" y="2286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如何转化可使某个未知数系数的绝对值相等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80880" y="2971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304920" y="4191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两个方程中，未知数系数的绝对值都不相等，可以在方程两边都乘以同一个适当的数，使两个方程中有一个未知数的系数绝对值相等，然后再加减消元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04920" y="3581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总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73040" y="457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加减法解二元一次方程组的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80880" y="10666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程组的两个方程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同一个未知数的系数既不互为相反数又不相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用适当的数去乘方程的两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一个未知数的系数互为相反数或相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22860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两个方程的两边分别相加或相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消去一个未知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到一个一元一次方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60360" y="323856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这个一元一次方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82680" y="38498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求出的未知数的值代入原方程组的任意一个方程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出另一个未知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而得到方程组的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340000" y="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304920" y="4572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变式训练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5"/>
          <p:cNvGrpSpPr/>
          <p:nvPr/>
        </p:nvGrpSpPr>
        <p:grpSpPr>
          <a:xfrm>
            <a:off x="0" y="838080"/>
            <a:ext cx="8839080" cy="1099440"/>
            <a:chOff x="0" y="838080"/>
            <a:chExt cx="8839080" cy="1099440"/>
          </a:xfrm>
        </p:grpSpPr>
        <p:sp>
          <p:nvSpPr>
            <p:cNvPr id="192" name="Rectangle 4"/>
            <p:cNvSpPr/>
            <p:nvPr/>
          </p:nvSpPr>
          <p:spPr>
            <a:xfrm>
              <a:off x="0" y="99036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）选择：二元一次方程组                      的解是（     ）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Object 3"/>
                <p:cNvSpPr txBox="1"/>
                <p:nvPr/>
              </p:nvSpPr>
              <p:spPr>
                <a:xfrm>
                  <a:off x="4800240" y="838080"/>
                  <a:ext cx="1676160" cy="95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" name="Group 16"/>
          <p:cNvGrpSpPr/>
          <p:nvPr/>
        </p:nvGrpSpPr>
        <p:grpSpPr>
          <a:xfrm>
            <a:off x="380880" y="1981080"/>
            <a:ext cx="8229600" cy="1328400"/>
            <a:chOff x="380880" y="1981080"/>
            <a:chExt cx="8229600" cy="1328400"/>
          </a:xfrm>
        </p:grpSpPr>
        <p:sp>
          <p:nvSpPr>
            <p:cNvPr id="195" name="Rectangle 10"/>
            <p:cNvSpPr/>
            <p:nvPr/>
          </p:nvSpPr>
          <p:spPr>
            <a:xfrm>
              <a:off x="380880" y="2362320"/>
              <a:ext cx="822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．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．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．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9"/>
                <p:cNvSpPr txBox="1"/>
                <p:nvPr/>
              </p:nvSpPr>
              <p:spPr>
                <a:xfrm>
                  <a:off x="1238400" y="2192400"/>
                  <a:ext cx="1066680" cy="96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Object 8"/>
                <p:cNvSpPr txBox="1"/>
                <p:nvPr/>
              </p:nvSpPr>
              <p:spPr>
                <a:xfrm>
                  <a:off x="2895480" y="2057400"/>
                  <a:ext cx="936720" cy="12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Object 7"/>
                <p:cNvSpPr txBox="1"/>
                <p:nvPr/>
              </p:nvSpPr>
              <p:spPr>
                <a:xfrm>
                  <a:off x="4495680" y="1982880"/>
                  <a:ext cx="112896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Object 6"/>
                <p:cNvSpPr txBox="1"/>
                <p:nvPr/>
              </p:nvSpPr>
              <p:spPr>
                <a:xfrm>
                  <a:off x="6629400" y="1981080"/>
                  <a:ext cx="112860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Rectangle 15"/>
          <p:cNvSpPr/>
          <p:nvPr/>
        </p:nvSpPr>
        <p:spPr>
          <a:xfrm>
            <a:off x="0" y="3581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已知                         ，求   、 的值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14"/>
              <p:cNvSpPr txBox="1"/>
              <p:nvPr/>
            </p:nvSpPr>
            <p:spPr>
              <a:xfrm>
                <a:off x="1676520" y="3505320"/>
                <a:ext cx="44956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3"/>
              <p:cNvSpPr txBox="1"/>
              <p:nvPr/>
            </p:nvSpPr>
            <p:spPr>
              <a:xfrm>
                <a:off x="6858000" y="3581280"/>
                <a:ext cx="528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2"/>
              <p:cNvSpPr txBox="1"/>
              <p:nvPr/>
            </p:nvSpPr>
            <p:spPr>
              <a:xfrm>
                <a:off x="7543800" y="358128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05:43:50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8:06Z</dcterms:modified>
  <cp:revision>81</cp:revision>
  <dc:subject>人教版七年级数学（下）全套课件</dc:subject>
  <dc:title>人教版七年级数学（下）全套课件</dc:title>
</cp:coreProperties>
</file>