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17.png" ContentType="image/png"/>
  <Override PartName="/ppt/media/image16.gif" ContentType="image/gif"/>
  <Override PartName="/ppt/media/image14.png" ContentType="image/png"/>
  <Override PartName="/ppt/media/image5.gif" ContentType="image/gif"/>
  <Override PartName="/ppt/media/image9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E25-BF2D-42B7-A1B5-83EC451E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CB5-E93F-4C64-9526-852D0B4D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E5-DE46-4AFD-9DA9-C77B4BD1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628-1A2D-478D-B646-CA0414FF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621-5255-4917-B972-1DD5CFC3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D9D-BE9F-4F39-A65A-20D4EA5F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0C3-7893-45FC-8416-0C97B372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75D-0C93-427D-A331-A5A53E3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D400-402F-4634-953C-3DCF8B7F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157-76B1-4C42-9B98-D2F0BAE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8070-E2A1-4DE1-BEFF-4F2C2607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218-10B1-42B7-BC2A-8490280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840D-87E9-4683-A7CE-CA1C4D9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202-ECD0-4913-B21D-CCF20D7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0AFB-1BCF-4AF7-B4BB-4A0780B5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FA3-CB4B-484E-9C88-D5A39DF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19B2-BF49-414A-BB87-49C9B88C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A70-C052-43F6-B19B-B4514B6A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186-0B6A-4115-A0AD-A46EF80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646-1EE6-433F-BD41-8F25AD8C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900-C7CD-472D-9030-CC74F12C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792-DC3B-40E2-9B0C-A498B7D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C5C-B78B-478F-8F1B-85DF557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4D8-1888-4818-90B0-87A2A94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5773-9575-4898-8F70-FF654F03D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BED6-9DD6-43AC-BFBF-D89C86C5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D14710_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523880" y="1523880"/>
            <a:ext cx="563904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九章  不等式与不等式组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9480" y="26668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.1.2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不等式的性质（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E:\课件图片素材\画框造型\FR_015.BMP"/>
          <p:cNvPicPr/>
          <p:nvPr/>
        </p:nvPicPr>
        <p:blipFill>
          <a:blip r:embed="rId1"/>
          <a:stretch/>
        </p:blipFill>
        <p:spPr>
          <a:xfrm>
            <a:off x="-152280" y="-293760"/>
            <a:ext cx="9296280" cy="71517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219320" y="137160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作业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371600" y="281952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隶书"/>
              </a:rPr>
              <a:t>P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134   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习题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9.1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：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990720" y="228600"/>
            <a:ext cx="3733200" cy="2057040"/>
            <a:chOff x="990720" y="228600"/>
            <a:chExt cx="3733200" cy="2057040"/>
          </a:xfrm>
        </p:grpSpPr>
        <p:pic>
          <p:nvPicPr>
            <p:cNvPr id="189" name="Picture 3" descr="gif1450"/>
            <p:cNvPicPr/>
            <p:nvPr/>
          </p:nvPicPr>
          <p:blipFill>
            <a:blip r:embed="rId1"/>
            <a:stretch/>
          </p:blipFill>
          <p:spPr>
            <a:xfrm>
              <a:off x="3033360" y="228600"/>
              <a:ext cx="1690560" cy="205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Group 4"/>
            <p:cNvGrpSpPr/>
            <p:nvPr/>
          </p:nvGrpSpPr>
          <p:grpSpPr>
            <a:xfrm>
              <a:off x="990720" y="316800"/>
              <a:ext cx="2364840" cy="1552680"/>
              <a:chOff x="990720" y="316800"/>
              <a:chExt cx="2364840" cy="1552680"/>
            </a:xfrm>
          </p:grpSpPr>
          <p:sp>
            <p:nvSpPr>
              <p:cNvPr id="191" name="AutoShape 5"/>
              <p:cNvSpPr/>
              <p:nvPr/>
            </p:nvSpPr>
            <p:spPr>
              <a:xfrm>
                <a:off x="990720" y="316800"/>
                <a:ext cx="2309760" cy="15526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6"/>
              <p:cNvSpPr/>
              <p:nvPr/>
            </p:nvSpPr>
            <p:spPr>
              <a:xfrm>
                <a:off x="1017720" y="381240"/>
                <a:ext cx="233784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7"/>
            <p:cNvSpPr/>
            <p:nvPr/>
          </p:nvSpPr>
          <p:spPr>
            <a:xfrm>
              <a:off x="1205280" y="734760"/>
              <a:ext cx="215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WordArt 8"/>
          <p:cNvSpPr txBox="1"/>
          <p:nvPr/>
        </p:nvSpPr>
        <p:spPr>
          <a:xfrm>
            <a:off x="1752480" y="2666880"/>
            <a:ext cx="5867640" cy="20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！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D14594_"/>
          <p:cNvPicPr/>
          <p:nvPr/>
        </p:nvPicPr>
        <p:blipFill>
          <a:blip r:embed="rId1"/>
          <a:stretch/>
        </p:blipFill>
        <p:spPr>
          <a:xfrm>
            <a:off x="76320" y="685800"/>
            <a:ext cx="906768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Q_011"/>
          <p:cNvPicPr/>
          <p:nvPr/>
        </p:nvPicPr>
        <p:blipFill>
          <a:blip r:embed="rId2"/>
          <a:stretch/>
        </p:blipFill>
        <p:spPr>
          <a:xfrm flipH="1" rot="10800000">
            <a:off x="7696080" y="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219320" y="1752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990720"/>
            <a:ext cx="92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676520" y="4572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6212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初 生 牛 犊 不 畏 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52280" y="990720"/>
            <a:ext cx="8991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颖种了一株树苗，开始时树苗高为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栽种后每周树苗长高约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，几周后树苗高超过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tree"/>
          <p:cNvPicPr/>
          <p:nvPr/>
        </p:nvPicPr>
        <p:blipFill>
          <a:blip r:embed="rId3"/>
          <a:stretch/>
        </p:blipFill>
        <p:spPr>
          <a:xfrm>
            <a:off x="1219320" y="4724280"/>
            <a:ext cx="307800" cy="13525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3"/>
          <p:cNvGrpSpPr/>
          <p:nvPr/>
        </p:nvGrpSpPr>
        <p:grpSpPr>
          <a:xfrm>
            <a:off x="1440" y="4724280"/>
            <a:ext cx="1598040" cy="1314360"/>
            <a:chOff x="1440" y="4724280"/>
            <a:chExt cx="1598040" cy="1314360"/>
          </a:xfrm>
        </p:grpSpPr>
        <p:grpSp>
          <p:nvGrpSpPr>
            <p:cNvPr id="94" name="Group 14"/>
            <p:cNvGrpSpPr/>
            <p:nvPr/>
          </p:nvGrpSpPr>
          <p:grpSpPr>
            <a:xfrm>
              <a:off x="762480" y="4724280"/>
              <a:ext cx="837000" cy="1314360"/>
              <a:chOff x="762480" y="4724280"/>
              <a:chExt cx="837000" cy="1314360"/>
            </a:xfrm>
          </p:grpSpPr>
          <p:sp>
            <p:nvSpPr>
              <p:cNvPr id="95" name="Line 15"/>
              <p:cNvSpPr/>
              <p:nvPr/>
            </p:nvSpPr>
            <p:spPr>
              <a:xfrm flipH="1">
                <a:off x="826920" y="4724280"/>
                <a:ext cx="77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 flipH="1">
                <a:off x="762480" y="6038640"/>
                <a:ext cx="77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1148760" y="4724280"/>
                <a:ext cx="0" cy="13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Text Box 18"/>
            <p:cNvSpPr/>
            <p:nvPr/>
          </p:nvSpPr>
          <p:spPr>
            <a:xfrm>
              <a:off x="1440" y="49557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40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Picture 19" descr="tree"/>
          <p:cNvPicPr/>
          <p:nvPr/>
        </p:nvPicPr>
        <p:blipFill>
          <a:blip r:embed="rId4"/>
          <a:stretch/>
        </p:blipFill>
        <p:spPr>
          <a:xfrm>
            <a:off x="2133720" y="3200400"/>
            <a:ext cx="682560" cy="28605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0"/>
          <p:cNvGrpSpPr/>
          <p:nvPr/>
        </p:nvGrpSpPr>
        <p:grpSpPr>
          <a:xfrm>
            <a:off x="2743200" y="3200400"/>
            <a:ext cx="1301040" cy="2819160"/>
            <a:chOff x="2743200" y="3200400"/>
            <a:chExt cx="1301040" cy="2819160"/>
          </a:xfrm>
        </p:grpSpPr>
        <p:grpSp>
          <p:nvGrpSpPr>
            <p:cNvPr id="101" name="Group 21"/>
            <p:cNvGrpSpPr/>
            <p:nvPr/>
          </p:nvGrpSpPr>
          <p:grpSpPr>
            <a:xfrm>
              <a:off x="2743200" y="3200400"/>
              <a:ext cx="585720" cy="2819160"/>
              <a:chOff x="2743200" y="3200400"/>
              <a:chExt cx="585720" cy="2819160"/>
            </a:xfrm>
          </p:grpSpPr>
          <p:sp>
            <p:nvSpPr>
              <p:cNvPr id="102" name="Line 22"/>
              <p:cNvSpPr/>
              <p:nvPr/>
            </p:nvSpPr>
            <p:spPr>
              <a:xfrm flipH="1">
                <a:off x="2743200" y="320040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 flipH="1">
                <a:off x="2788200" y="601956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3013560" y="3200400"/>
                <a:ext cx="0" cy="28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Rectangle 25"/>
            <p:cNvSpPr/>
            <p:nvPr/>
          </p:nvSpPr>
          <p:spPr>
            <a:xfrm>
              <a:off x="3057120" y="3502440"/>
              <a:ext cx="987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&gt;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1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Line 26"/>
          <p:cNvSpPr/>
          <p:nvPr/>
        </p:nvSpPr>
        <p:spPr>
          <a:xfrm>
            <a:off x="1600200" y="5486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3520" y="8380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观察下列不等式，你发现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-7&gt;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-7+7&gt;26+7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04920" y="0"/>
            <a:ext cx="4038120" cy="895320"/>
            <a:chOff x="304920" y="0"/>
            <a:chExt cx="4038120" cy="895320"/>
          </a:xfrm>
        </p:grpSpPr>
        <p:grpSp>
          <p:nvGrpSpPr>
            <p:cNvPr id="109" name="Group 6"/>
            <p:cNvGrpSpPr/>
            <p:nvPr/>
          </p:nvGrpSpPr>
          <p:grpSpPr>
            <a:xfrm>
              <a:off x="386280" y="0"/>
              <a:ext cx="3048840" cy="842400"/>
              <a:chOff x="386280" y="0"/>
              <a:chExt cx="3048840" cy="842400"/>
            </a:xfrm>
          </p:grpSpPr>
          <p:sp>
            <p:nvSpPr>
              <p:cNvPr id="110" name="Rectangle 7"/>
              <p:cNvSpPr/>
              <p:nvPr/>
            </p:nvSpPr>
            <p:spPr>
              <a:xfrm>
                <a:off x="386280" y="199800"/>
                <a:ext cx="2936160" cy="6426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   </a:t>
                </a: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知识探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2752920" y="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2" name="Picture 9" descr="rcvzpuuu[1]"/>
            <p:cNvPicPr/>
            <p:nvPr/>
          </p:nvPicPr>
          <p:blipFill>
            <a:blip r:embed="rId1"/>
            <a:stretch/>
          </p:blipFill>
          <p:spPr>
            <a:xfrm>
              <a:off x="3323520" y="76320"/>
              <a:ext cx="10195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5709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Rectangle 11"/>
          <p:cNvSpPr/>
          <p:nvPr/>
        </p:nvSpPr>
        <p:spPr>
          <a:xfrm>
            <a:off x="4952880" y="2286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言必有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据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763640" y="45813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&gt;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0"/>
          <p:cNvSpPr/>
          <p:nvPr/>
        </p:nvSpPr>
        <p:spPr>
          <a:xfrm>
            <a:off x="1371600" y="579132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1"/>
          <p:cNvSpPr/>
          <p:nvPr/>
        </p:nvSpPr>
        <p:spPr>
          <a:xfrm>
            <a:off x="5181480" y="5715000"/>
            <a:ext cx="14472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2"/>
          <p:cNvSpPr/>
          <p:nvPr/>
        </p:nvSpPr>
        <p:spPr>
          <a:xfrm flipV="1">
            <a:off x="5257800" y="5181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3"/>
          <p:cNvSpPr/>
          <p:nvPr/>
        </p:nvSpPr>
        <p:spPr>
          <a:xfrm>
            <a:off x="5257800" y="5181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4"/>
          <p:cNvSpPr/>
          <p:nvPr/>
        </p:nvSpPr>
        <p:spPr>
          <a:xfrm flipV="1">
            <a:off x="38862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5"/>
          <p:cNvSpPr/>
          <p:nvPr/>
        </p:nvSpPr>
        <p:spPr>
          <a:xfrm>
            <a:off x="3733920" y="5791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6"/>
          <p:cNvSpPr/>
          <p:nvPr/>
        </p:nvSpPr>
        <p:spPr>
          <a:xfrm>
            <a:off x="5029200" y="5867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7"/>
          <p:cNvSpPr/>
          <p:nvPr/>
        </p:nvSpPr>
        <p:spPr>
          <a:xfrm>
            <a:off x="16765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8"/>
          <p:cNvSpPr/>
          <p:nvPr/>
        </p:nvSpPr>
        <p:spPr>
          <a:xfrm>
            <a:off x="971640" y="27813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根据不等式 的性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不等式两边都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D14594_"/>
          <p:cNvPicPr/>
          <p:nvPr/>
        </p:nvPicPr>
        <p:blipFill>
          <a:blip r:embed="rId1"/>
          <a:stretch/>
        </p:blipFill>
        <p:spPr>
          <a:xfrm>
            <a:off x="76320" y="838080"/>
            <a:ext cx="9067680" cy="228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371600" y="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锋   芒   初   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1280" y="1133640"/>
            <a:ext cx="808020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利用不等式的性质解下列不等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并在数轴上表示解集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1)3X&lt;2X+1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2)X+5&gt;-1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3)4X&lt;3X-5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609480" y="0"/>
            <a:ext cx="6705360" cy="1514520"/>
            <a:chOff x="609480" y="0"/>
            <a:chExt cx="6705360" cy="1514520"/>
          </a:xfrm>
        </p:grpSpPr>
        <p:grpSp>
          <p:nvGrpSpPr>
            <p:cNvPr id="129" name="Group 3"/>
            <p:cNvGrpSpPr/>
            <p:nvPr/>
          </p:nvGrpSpPr>
          <p:grpSpPr>
            <a:xfrm>
              <a:off x="609480" y="380880"/>
              <a:ext cx="3855600" cy="781200"/>
              <a:chOff x="609480" y="380880"/>
              <a:chExt cx="3855600" cy="781200"/>
            </a:xfrm>
          </p:grpSpPr>
          <p:sp>
            <p:nvSpPr>
              <p:cNvPr id="130" name="Rectangle 4"/>
              <p:cNvSpPr/>
              <p:nvPr/>
            </p:nvSpPr>
            <p:spPr>
              <a:xfrm>
                <a:off x="609480" y="580680"/>
                <a:ext cx="385560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我是最棒的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5"/>
              <p:cNvSpPr/>
              <p:nvPr/>
            </p:nvSpPr>
            <p:spPr>
              <a:xfrm>
                <a:off x="370656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Picture 6" descr="C:\678.gif"/>
            <p:cNvPicPr/>
            <p:nvPr/>
          </p:nvPicPr>
          <p:blipFill>
            <a:blip r:embed="rId1"/>
            <a:stretch/>
          </p:blipFill>
          <p:spPr>
            <a:xfrm>
              <a:off x="4632840" y="0"/>
              <a:ext cx="268200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C:\WINDOWS\Profiles\rwy\Application Data\Microsoft\Media Catalog\gif003[1].gif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09480" y="685800"/>
              <a:ext cx="58680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8"/>
          <p:cNvSpPr/>
          <p:nvPr/>
        </p:nvSpPr>
        <p:spPr>
          <a:xfrm>
            <a:off x="1523880" y="2133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80880" y="1905120"/>
            <a:ext cx="7772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利用不等式的性质解下列不等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并在数轴上表示解集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1)      X&gt;50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2)   – 4X&gt;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1905120" y="4114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057400" y="33526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058840" y="41148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943600" y="304920"/>
            <a:ext cx="235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行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看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门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990720" y="304920"/>
            <a:ext cx="4114440" cy="1240920"/>
            <a:chOff x="990720" y="304920"/>
            <a:chExt cx="4114440" cy="1240920"/>
          </a:xfrm>
        </p:grpSpPr>
        <p:grpSp>
          <p:nvGrpSpPr>
            <p:cNvPr id="141" name="Group 4"/>
            <p:cNvGrpSpPr/>
            <p:nvPr/>
          </p:nvGrpSpPr>
          <p:grpSpPr>
            <a:xfrm>
              <a:off x="990720" y="304920"/>
              <a:ext cx="2133000" cy="1240920"/>
              <a:chOff x="990720" y="304920"/>
              <a:chExt cx="2133000" cy="124092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990720" y="314280"/>
                <a:ext cx="2084400" cy="1231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6"/>
              <p:cNvSpPr/>
              <p:nvPr/>
            </p:nvSpPr>
            <p:spPr>
              <a:xfrm>
                <a:off x="1014480" y="304920"/>
                <a:ext cx="210924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Text Box 7"/>
            <p:cNvSpPr/>
            <p:nvPr/>
          </p:nvSpPr>
          <p:spPr>
            <a:xfrm>
              <a:off x="1058040" y="609840"/>
              <a:ext cx="2151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Picture 8" descr="qz_1rejo[1]"/>
            <p:cNvPicPr/>
            <p:nvPr/>
          </p:nvPicPr>
          <p:blipFill>
            <a:blip r:embed="rId2"/>
            <a:stretch/>
          </p:blipFill>
          <p:spPr>
            <a:xfrm>
              <a:off x="3124080" y="349200"/>
              <a:ext cx="198108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9"/>
          <p:cNvSpPr/>
          <p:nvPr/>
        </p:nvSpPr>
        <p:spPr>
          <a:xfrm>
            <a:off x="1066680" y="609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14400" y="20574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利用不等式的性质解不等式与解方程有什么共同点和不同点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BD14594_"/>
          <p:cNvPicPr/>
          <p:nvPr/>
        </p:nvPicPr>
        <p:blipFill>
          <a:blip r:embed="rId1"/>
          <a:stretch/>
        </p:blipFill>
        <p:spPr>
          <a:xfrm>
            <a:off x="76320" y="838080"/>
            <a:ext cx="9067680" cy="2286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4"/>
          <p:cNvGrpSpPr/>
          <p:nvPr/>
        </p:nvGrpSpPr>
        <p:grpSpPr>
          <a:xfrm>
            <a:off x="2466720" y="-54360"/>
            <a:ext cx="4390920" cy="1774800"/>
            <a:chOff x="2466720" y="-54360"/>
            <a:chExt cx="4390920" cy="1774800"/>
          </a:xfrm>
        </p:grpSpPr>
        <p:sp>
          <p:nvSpPr>
            <p:cNvPr id="150" name="Freeform 15"/>
            <p:cNvSpPr/>
            <p:nvPr/>
          </p:nvSpPr>
          <p:spPr>
            <a:xfrm>
              <a:off x="2514600" y="838080"/>
              <a:ext cx="4343040" cy="609480"/>
            </a:xfrm>
            <a:custGeom>
              <a:avLst/>
              <a:gdLst>
                <a:gd name="textAreaLeft" fmla="*/ 0 w 4343040"/>
                <a:gd name="textAreaRight" fmla="*/ 4343400 w 434304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6"/>
            <p:cNvGrpSpPr/>
            <p:nvPr/>
          </p:nvGrpSpPr>
          <p:grpSpPr>
            <a:xfrm>
              <a:off x="2466720" y="-54360"/>
              <a:ext cx="4201920" cy="1774800"/>
              <a:chOff x="2466720" y="-54360"/>
              <a:chExt cx="4201920" cy="1774800"/>
            </a:xfrm>
          </p:grpSpPr>
          <p:sp>
            <p:nvSpPr>
              <p:cNvPr id="152" name="Freeform 17"/>
              <p:cNvSpPr/>
              <p:nvPr/>
            </p:nvSpPr>
            <p:spPr>
              <a:xfrm rot="158400">
                <a:off x="2703240" y="153360"/>
                <a:ext cx="1132920" cy="1143000"/>
              </a:xfrm>
              <a:custGeom>
                <a:avLst/>
                <a:gdLst>
                  <a:gd name="textAreaLeft" fmla="*/ 0 w 1132920"/>
                  <a:gd name="textAreaRight" fmla="*/ 1133280 w 113292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cc"/>
                  </a:gs>
                </a:gsLst>
                <a:lin ang="189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3080880" y="230040"/>
                <a:ext cx="1132920" cy="1066680"/>
              </a:xfrm>
              <a:custGeom>
                <a:avLst/>
                <a:gdLst>
                  <a:gd name="textAreaLeft" fmla="*/ 0 w 1132920"/>
                  <a:gd name="textAreaRight" fmla="*/ 1133280 w 11329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 rot="961200">
                <a:off x="2703240" y="0"/>
                <a:ext cx="566280" cy="1218960"/>
              </a:xfrm>
              <a:custGeom>
                <a:avLst/>
                <a:gdLst>
                  <a:gd name="textAreaLeft" fmla="*/ 0 w 566280"/>
                  <a:gd name="textAreaRight" fmla="*/ 566640 w 566280"/>
                  <a:gd name="textAreaTop" fmla="*/ 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3269520" y="1440"/>
                <a:ext cx="944280" cy="30492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2608560" y="915840"/>
                <a:ext cx="755640" cy="68580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 rot="1629000">
                <a:off x="2514240" y="1390680"/>
                <a:ext cx="288720" cy="279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3"/>
              <p:cNvSpPr/>
              <p:nvPr/>
            </p:nvSpPr>
            <p:spPr>
              <a:xfrm>
                <a:off x="3647520" y="77760"/>
                <a:ext cx="282960" cy="759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24"/>
              <p:cNvSpPr/>
              <p:nvPr/>
            </p:nvSpPr>
            <p:spPr>
              <a:xfrm>
                <a:off x="4119480" y="75960"/>
                <a:ext cx="254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25"/>
          <p:cNvSpPr/>
          <p:nvPr/>
        </p:nvSpPr>
        <p:spPr>
          <a:xfrm>
            <a:off x="1447920" y="297180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X+3&gt;- 1;             (2)6X&lt;5X-7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      X &lt;        ;     (4)-8X&gt;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22096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2209680" y="3429000"/>
            <a:ext cx="60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3886200" y="3581280"/>
            <a:ext cx="33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38862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04920" y="1523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利用不等式的性质解下列不等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并在数轴上表示解集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D14594_"/>
          <p:cNvPicPr/>
          <p:nvPr/>
        </p:nvPicPr>
        <p:blipFill>
          <a:blip r:embed="rId1"/>
          <a:stretch/>
        </p:blipFill>
        <p:spPr>
          <a:xfrm>
            <a:off x="76320" y="838080"/>
            <a:ext cx="9067680" cy="2286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4"/>
          <p:cNvGrpSpPr/>
          <p:nvPr/>
        </p:nvGrpSpPr>
        <p:grpSpPr>
          <a:xfrm>
            <a:off x="609480" y="0"/>
            <a:ext cx="3124080" cy="1297440"/>
            <a:chOff x="609480" y="0"/>
            <a:chExt cx="3124080" cy="1297440"/>
          </a:xfrm>
        </p:grpSpPr>
        <p:grpSp>
          <p:nvGrpSpPr>
            <p:cNvPr id="168" name="Group 5"/>
            <p:cNvGrpSpPr/>
            <p:nvPr/>
          </p:nvGrpSpPr>
          <p:grpSpPr>
            <a:xfrm>
              <a:off x="609480" y="0"/>
              <a:ext cx="2955240" cy="929880"/>
              <a:chOff x="609480" y="0"/>
              <a:chExt cx="2955240" cy="929880"/>
            </a:xfrm>
          </p:grpSpPr>
          <p:sp>
            <p:nvSpPr>
              <p:cNvPr id="169" name="AutoShape 6"/>
              <p:cNvSpPr/>
              <p:nvPr/>
            </p:nvSpPr>
            <p:spPr>
              <a:xfrm>
                <a:off x="609480" y="101880"/>
                <a:ext cx="288684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7"/>
              <p:cNvSpPr/>
              <p:nvPr/>
            </p:nvSpPr>
            <p:spPr>
              <a:xfrm>
                <a:off x="642600" y="0"/>
                <a:ext cx="292212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1" name="Picture 8" descr="D:\八年级教师\高铁牛\制作课件\素材库\GIF动画\标志\打开书.GIF"/>
            <p:cNvPicPr/>
            <p:nvPr/>
          </p:nvPicPr>
          <p:blipFill>
            <a:blip r:embed="rId3"/>
            <a:stretch/>
          </p:blipFill>
          <p:spPr>
            <a:xfrm>
              <a:off x="1791360" y="228600"/>
              <a:ext cx="6966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9"/>
            <p:cNvSpPr/>
            <p:nvPr/>
          </p:nvSpPr>
          <p:spPr>
            <a:xfrm>
              <a:off x="693360" y="228600"/>
              <a:ext cx="3040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Rectangle 10"/>
          <p:cNvSpPr/>
          <p:nvPr/>
        </p:nvSpPr>
        <p:spPr>
          <a:xfrm>
            <a:off x="5181480" y="228600"/>
            <a:ext cx="24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2061360" y="121932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本节课你的收获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BD14594_"/>
          <p:cNvPicPr/>
          <p:nvPr/>
        </p:nvPicPr>
        <p:blipFill>
          <a:blip r:embed="rId1"/>
          <a:stretch/>
        </p:blipFill>
        <p:spPr>
          <a:xfrm>
            <a:off x="76320" y="1143000"/>
            <a:ext cx="9067680" cy="2286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10"/>
          <p:cNvGrpSpPr/>
          <p:nvPr/>
        </p:nvGrpSpPr>
        <p:grpSpPr>
          <a:xfrm>
            <a:off x="6019920" y="0"/>
            <a:ext cx="2437920" cy="1299960"/>
            <a:chOff x="6019920" y="0"/>
            <a:chExt cx="2437920" cy="1299960"/>
          </a:xfrm>
        </p:grpSpPr>
        <p:pic>
          <p:nvPicPr>
            <p:cNvPr id="177" name="Picture 11" descr="C:\Program Files\Microsoft Office\Clipart\homeanim\AG00029_.gif"/>
            <p:cNvPicPr/>
            <p:nvPr/>
          </p:nvPicPr>
          <p:blipFill>
            <a:blip r:embed="rId2"/>
            <a:stretch/>
          </p:blipFill>
          <p:spPr>
            <a:xfrm>
              <a:off x="7069320" y="74520"/>
              <a:ext cx="1388520" cy="116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12"/>
            <p:cNvGrpSpPr/>
            <p:nvPr/>
          </p:nvGrpSpPr>
          <p:grpSpPr>
            <a:xfrm>
              <a:off x="6019920" y="0"/>
              <a:ext cx="1049400" cy="1299960"/>
              <a:chOff x="6019920" y="0"/>
              <a:chExt cx="1049400" cy="1299960"/>
            </a:xfrm>
          </p:grpSpPr>
          <p:sp>
            <p:nvSpPr>
              <p:cNvPr id="179" name="AutoShape 13"/>
              <p:cNvSpPr/>
              <p:nvPr/>
            </p:nvSpPr>
            <p:spPr>
              <a:xfrm>
                <a:off x="6019920" y="0"/>
                <a:ext cx="1025640" cy="12999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14"/>
              <p:cNvSpPr/>
              <p:nvPr/>
            </p:nvSpPr>
            <p:spPr>
              <a:xfrm>
                <a:off x="6030720" y="7200"/>
                <a:ext cx="10386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Text Box 15"/>
            <p:cNvSpPr/>
            <p:nvPr/>
          </p:nvSpPr>
          <p:spPr>
            <a:xfrm>
              <a:off x="6143400" y="155520"/>
              <a:ext cx="8640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6"/>
          <p:cNvSpPr/>
          <p:nvPr/>
        </p:nvSpPr>
        <p:spPr>
          <a:xfrm>
            <a:off x="228600" y="1522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前面遇到的问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457200" y="1324080"/>
            <a:ext cx="8686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颖种了一株树苗，开始时树苗高为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栽种后每周树苗长高约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厘米，大约几周后树苗高超过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1:38:57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04Z</dcterms:modified>
  <cp:revision>14</cp:revision>
  <dc:subject>人教版七年级数学（下）全套课件</dc:subject>
  <dc:title>人教版七年级数学（下）全套课件</dc:title>
</cp:coreProperties>
</file>