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819-99B8-4F5F-A7DD-BECC4B65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A18-8127-4FD2-93BB-B10C8B5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1F3-5C27-443F-94A5-C7CEA42A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49B-4D6D-45C6-BD8D-AB1A69A1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1F6-0FCD-4267-992F-E1109B2F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7868-E5AE-42E5-B977-AB42662C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AE7-B7B9-4B3A-8A55-912916A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4CBF-57C3-4989-950C-02FA5D3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7B6-4CA1-4490-9197-7AB43CC7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0D49-94AD-46B7-AF0F-1CDF81D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BE0-7674-4B8E-888F-22D324C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FAD-3BAF-4EE7-B3C6-86F42EDC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31D-5A70-4CA5-B5E2-D5537BF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6D3-1A2A-4398-9B00-9F873AF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724-A1A8-47C3-A903-6EAF8F69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DFF5-41EA-45A4-BEE5-741656BC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C9B5-22AE-4551-9360-AA611414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E1B4-E0E6-4F9B-838B-1AE7BE45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E5C-33A7-421E-8179-BB89048B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5F09-271B-4836-A0BE-28E8C62C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4733-1940-4BAD-91AE-E297915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E53C-6B5F-4A43-BFA1-8245931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2E3-4E01-4FAB-835C-E720B35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8931-352E-4861-81AD-3B4EEB8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775C-18F8-44E2-A769-7D580A4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48EF-4842-4D1F-93BC-5FE24A7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053F-19BA-4AEA-9014-90622D2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098A-27F3-4D73-A441-60FFD52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15DE-C1A0-44FD-A97E-1AE79D8A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1370-ED6D-49CA-8B1B-50ECD75D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2823-BC9D-4DD7-9372-4EFCDA17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6EBA-2876-4CE7-8A86-F628505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58A5-4826-4554-9DD3-9EE7642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1D0-A8F8-411F-AEE0-77081AC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D002-25ED-4198-B371-F46E59F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9FE9-4FD0-467C-831A-1C05D81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FA296-FA8D-43A1-AD63-6A01B0B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1F40-AC94-4639-A660-7859C28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E7F0-CD78-45EC-B7D9-FF961B6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C008-CF54-4E70-9217-FACD017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A92F-C4BE-4E59-90A4-2DF3360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3370C-6723-432F-9E64-387C10C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3F56-7D09-48AC-B0F2-6402A11F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6CFF-8B45-4E19-A291-25136ECC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B5F-1065-4913-A44B-20CB268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6950-F302-44F4-A130-6B277B37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2D97-5EE7-4962-9D36-A7AEEB2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A47F-9045-4B7F-A157-BF45D12A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B21C-F2B6-4CDD-8896-2D6FD16B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D10B-1488-45C0-BA6F-3BB4FCB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8E67D-79D3-4474-BBFD-8B465BA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A88E-73CF-4BD4-B496-908324A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316F-21FC-45C3-834E-68B96C3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5524-3E27-4C79-B8D7-8557496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85D2-3DA9-466B-8BC6-D41F645E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B4D-9140-4761-ADCA-76ABA50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C51A-5D54-41A3-A9E2-F17527D8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BF8-66D5-459E-9BFA-67C0644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9BA-A97A-46C4-9DCD-E5D0BE1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F6C-8CED-4FD1-837B-F001A7F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B3B0-C492-465E-8D29-63512A7EBC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3C21-E62D-45B0-A5A1-FE4698689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55F-AFD7-4285-8B2B-4964A1FAB5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22B-1685-4B35-9015-9B1E6CF5E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C01-5C72-4154-97DA-68C5E5988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同学们大家好"/>
          <p:cNvPicPr/>
          <p:nvPr/>
        </p:nvPicPr>
        <p:blipFill>
          <a:blip r:embed="rId1"/>
          <a:stretch/>
        </p:blipFill>
        <p:spPr>
          <a:xfrm>
            <a:off x="1042920" y="1341360"/>
            <a:ext cx="684072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3203640" y="292428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9.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不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908000" y="4653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1   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不等式及其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指出下列中哪些是一元一次不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3z-3≤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6a-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X≤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1332000" y="5229360"/>
                <a:ext cx="71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6"/>
          <p:cNvSpPr/>
          <p:nvPr/>
        </p:nvSpPr>
        <p:spPr>
          <a:xfrm>
            <a:off x="2195640" y="544500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"/>
              <p:cNvSpPr txBox="1"/>
              <p:nvPr/>
            </p:nvSpPr>
            <p:spPr>
              <a:xfrm>
                <a:off x="2987640" y="5084640"/>
                <a:ext cx="6523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Text Box 12"/>
          <p:cNvSpPr/>
          <p:nvPr/>
        </p:nvSpPr>
        <p:spPr>
          <a:xfrm>
            <a:off x="684360" y="5373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知识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本节课学习了哪些知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还有哪些不明白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知识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  用不等式表示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3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差是非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方形的长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宽是长的一半其和不小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方形长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-2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积超过边长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+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正方形的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华家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人人均住房面积不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，小林家的住房总面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米可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227640" y="415116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二选择题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数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中是不等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解的有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042920" y="299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.4           B.3        C.2          D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68360" y="3573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不等式表示“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２倍与－１的差大于２”，正确的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0" y="515772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 2a-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                           B     2a-(-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(-1)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                   D   .2(a+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565164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284328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下列各式是一元一次不等式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68360" y="1628640"/>
            <a:ext cx="80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755640" y="1413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      ≠ 2       B.2x    ≈    1      C.2x+&amp;≤x     D.  3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0"/>
              <p:cNvSpPr txBox="1"/>
              <p:nvPr/>
            </p:nvSpPr>
            <p:spPr>
              <a:xfrm>
                <a:off x="1187280" y="1341360"/>
                <a:ext cx="227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Text Box 24"/>
          <p:cNvSpPr/>
          <p:nvPr/>
        </p:nvSpPr>
        <p:spPr>
          <a:xfrm>
            <a:off x="755640" y="2637000"/>
            <a:ext cx="813744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   列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商场十月份计划销售电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台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黃金周期间，开展促销活动，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平均每天销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台，若这个商场本月要想超额完成计划，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平均每天至少销售多少台？设以后平均每天至少销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台则所列不等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7596360" y="76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四填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=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的个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解的个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非负整数的解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716360" y="1989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5651640" y="2637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076720" y="1557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940360" y="213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数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1403280" y="429264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33200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91636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356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01200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作业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   1 3 5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3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3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鑫"/>
          <p:cNvPicPr/>
          <p:nvPr/>
        </p:nvPicPr>
        <p:blipFill>
          <a:blip r:embed="rId1"/>
          <a:stretch/>
        </p:blipFill>
        <p:spPr>
          <a:xfrm>
            <a:off x="1258920" y="260280"/>
            <a:ext cx="5688000" cy="5235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200611419134289313"/>
          <p:cNvPicPr/>
          <p:nvPr/>
        </p:nvPicPr>
        <p:blipFill>
          <a:blip r:embed="rId2"/>
          <a:stretch/>
        </p:blipFill>
        <p:spPr>
          <a:xfrm>
            <a:off x="2916360" y="299736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20061172335677905"/>
          <p:cNvPicPr/>
          <p:nvPr/>
        </p:nvPicPr>
        <p:blipFill>
          <a:blip r:embed="rId3"/>
          <a:stretch/>
        </p:blipFill>
        <p:spPr>
          <a:xfrm>
            <a:off x="0" y="3213000"/>
            <a:ext cx="1390680" cy="1238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20061172335677905"/>
          <p:cNvPicPr/>
          <p:nvPr/>
        </p:nvPicPr>
        <p:blipFill>
          <a:blip r:embed="rId4"/>
          <a:stretch/>
        </p:blipFill>
        <p:spPr>
          <a:xfrm>
            <a:off x="7236000" y="3284640"/>
            <a:ext cx="1390320" cy="1238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20061026091539402"/>
          <p:cNvPicPr/>
          <p:nvPr/>
        </p:nvPicPr>
        <p:blipFill>
          <a:blip r:embed="rId5"/>
          <a:stretch/>
        </p:blipFill>
        <p:spPr>
          <a:xfrm>
            <a:off x="324000" y="6195960"/>
            <a:ext cx="853272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思考下列问题：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一辆匀速行驶的汽车在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距离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千米，要在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之前驶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地，车速应满足什么条件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755640" y="486900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20061026073567356"/>
          <p:cNvPicPr/>
          <p:nvPr/>
        </p:nvPicPr>
        <p:blipFill>
          <a:blip r:embed="rId1"/>
          <a:stretch/>
        </p:blipFill>
        <p:spPr>
          <a:xfrm>
            <a:off x="611280" y="4149720"/>
            <a:ext cx="6408720" cy="581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6948360" y="4292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68436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684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71643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68436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1042920" y="51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464328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635280" y="5075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99"/>
                </a:solidFill>
                <a:latin typeface="Arial"/>
              </a:rPr>
              <a:t>思考方法</a:t>
            </a:r>
            <a:br>
              <a:rPr sz="3400"/>
            </a:br>
            <a:r>
              <a:rPr b="0" lang="zh-CN" sz="3400" spc="-1" strike="noStrike">
                <a:solidFill>
                  <a:srgbClr val="ff3399"/>
                </a:solidFill>
                <a:latin typeface="Arial"/>
              </a:rPr>
              <a:t>从时间上看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：设车速是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千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的时间不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时间       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4788000" y="1700280"/>
                <a:ext cx="195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ectangle 4"/>
          <p:cNvSpPr/>
          <p:nvPr/>
        </p:nvSpPr>
        <p:spPr>
          <a:xfrm>
            <a:off x="5796000" y="765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05840" y="1628640"/>
                <a:ext cx="657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Text Box 9"/>
          <p:cNvSpPr/>
          <p:nvPr/>
        </p:nvSpPr>
        <p:spPr>
          <a:xfrm>
            <a:off x="2268360" y="256536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0"/>
              <p:cNvSpPr txBox="1"/>
              <p:nvPr/>
            </p:nvSpPr>
            <p:spPr>
              <a:xfrm>
                <a:off x="2556000" y="2492280"/>
                <a:ext cx="657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4140360" y="2421000"/>
                <a:ext cx="333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12"/>
          <p:cNvSpPr/>
          <p:nvPr/>
        </p:nvSpPr>
        <p:spPr>
          <a:xfrm>
            <a:off x="5435640" y="3645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46836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从路程上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5"/>
              <p:cNvSpPr txBox="1"/>
              <p:nvPr/>
            </p:nvSpPr>
            <p:spPr>
              <a:xfrm>
                <a:off x="4211640" y="3500280"/>
                <a:ext cx="817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Text Box 16"/>
          <p:cNvSpPr/>
          <p:nvPr/>
        </p:nvSpPr>
        <p:spPr>
          <a:xfrm>
            <a:off x="4932360" y="36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3276720" y="24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684360" y="4724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等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这样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号表示大小关系的式子叫做不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2916360" y="404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几种不等号形式和意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2"/>
              <p:cNvSpPr txBox="1"/>
              <p:nvPr/>
            </p:nvSpPr>
            <p:spPr>
              <a:xfrm>
                <a:off x="6591240" y="24969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4"/>
          <p:cNvSpPr/>
          <p:nvPr/>
        </p:nvSpPr>
        <p:spPr>
          <a:xfrm>
            <a:off x="2053080" y="162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429720" y="15699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867280" y="1700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438080" y="17146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24000" y="2276640"/>
            <a:ext cx="88200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练习一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下列文字问题用不等式表示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和小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差不小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 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和不大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半不小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四分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4932360" y="350028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932360" y="407664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4859280" y="4797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32360" y="5445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932360" y="609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788000" y="24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003640" y="3645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076720" y="4221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5 &lt;7-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5148360" y="501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2≥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003640" y="566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4 ≤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6732720" y="6237360"/>
                <a:ext cx="239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26"/>
          <p:cNvSpPr/>
          <p:nvPr/>
        </p:nvSpPr>
        <p:spPr>
          <a:xfrm>
            <a:off x="5580000" y="630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7"/>
              <p:cNvSpPr txBox="1"/>
              <p:nvPr/>
            </p:nvSpPr>
            <p:spPr>
              <a:xfrm>
                <a:off x="5508720" y="6165720"/>
                <a:ext cx="484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28"/>
          <p:cNvSpPr/>
          <p:nvPr/>
        </p:nvSpPr>
        <p:spPr>
          <a:xfrm flipH="1">
            <a:off x="5363640" y="6858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6084720" y="6381720"/>
            <a:ext cx="6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99"/>
                </a:solidFill>
                <a:latin typeface="Arial"/>
              </a:rPr>
              <a:t>问题</a:t>
            </a:r>
            <a:r>
              <a:rPr b="0" lang="en-US" sz="38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当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取什么数值时不等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2124000" y="1125360"/>
                <a:ext cx="45396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6"/>
          <p:cNvSpPr/>
          <p:nvPr/>
        </p:nvSpPr>
        <p:spPr>
          <a:xfrm>
            <a:off x="2556000" y="1557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900000" y="2349360"/>
            <a:ext cx="82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等式的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不等式成立的未知数的值叫做不等式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26920" y="566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不等式的解的个数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900000" y="3860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下列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6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4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0            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哪些是上面不等式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187280" y="49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2916360" y="4941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5292720" y="486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2050920" y="6308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数个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定义 不等式解的集合简称（解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不等式成立的未知数的值叫做不等式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684360" y="486900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125892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349236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971640" y="501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276720" y="50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203640" y="465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349236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3492360" y="414972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1128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点与虚点区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不等式的解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地一个含有未知数的不等式的所有的解组成这个不等式的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解不等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不等式的解集的过程叫做解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观察下列不等式看看有什么特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69231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X+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18y-3≤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  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+8≥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4"/>
              <p:cNvSpPr txBox="1"/>
              <p:nvPr/>
            </p:nvSpPr>
            <p:spPr>
              <a:xfrm>
                <a:off x="1692360" y="5300640"/>
                <a:ext cx="936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6"/>
          <p:cNvSpPr/>
          <p:nvPr/>
        </p:nvSpPr>
        <p:spPr>
          <a:xfrm>
            <a:off x="2771640" y="55897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3348000" y="5229360"/>
                <a:ext cx="936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9"/>
          <p:cNvSpPr/>
          <p:nvPr/>
        </p:nvSpPr>
        <p:spPr>
          <a:xfrm>
            <a:off x="826920" y="5516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一元一次不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含有一个未知数，未各数的次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不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叫做一元一次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1:03:13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02Z</dcterms:modified>
  <cp:revision>21</cp:revision>
  <dc:subject>人教版七年级数学（下）全套课件</dc:subject>
  <dc:title>人教版七年级数学（下）全套课件</dc:title>
</cp:coreProperties>
</file>