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1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whoosh.wav" ContentType="audio/x-wav"/>
  <Override PartName="/ppt/media/image5.png" ContentType="image/png"/>
  <Override PartName="/ppt/media/image8.jpeg" ContentType="image/jpeg"/>
  <Override PartName="/ppt/media/image13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55F2-D794-4F66-8517-A2B77FCF2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E1B3-A203-414C-A49E-6188C0220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F5EC-1A9D-49B1-A3D2-2CBBDE2AC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BF9C-5264-4767-8EEE-709235E3D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36175-857D-48F5-8A23-123584108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364EA-2166-4E97-91CD-A1793225E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BADC4-441C-4D2F-BEA2-D0569B12F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FE53E-34E8-411E-9A62-E7D997B30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8C916-783A-4C8F-8646-8D20A3A56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BA949-2108-4B21-AC91-235DFB6E3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7D8A3-2343-4DD0-AB43-F3EE4479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89BB-E32D-4187-ADC5-833C50A33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4DD33-9424-4883-AB36-EB49B5FB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D1D2C-E29F-4284-AB42-BBA04E65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6FA09-A023-4AED-BEB3-B1D66734A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034A0-A28A-4DD2-B324-6BE14F4F4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BB091-DE39-4B66-86AE-3356EB6C8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6ACF9-546D-4AE0-A856-EE884FB6C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1A307-AF04-4F2C-B8A3-848489D27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02EAD-A95F-4031-9C78-50476415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CEC91-F312-4FDE-933F-99F0D3209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68C03-4C2C-4013-90B0-0D436B4EE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7717-5656-42D9-B792-4081D8D47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70CCE-C00C-4801-AC72-05301E9BD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4833B-ECA5-44B2-AF3A-7D40C7A6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F188F-8880-45D5-9C6F-43B2E298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AD33A-012E-4AE8-B33E-B153AFBE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20563-DD75-4312-BBC4-70F5FB891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645D7-92C0-4A2D-AAAC-C16855CE3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EDD6F-6DB4-43E3-A519-A39CA2E2F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7BA4-231D-4E39-8750-07A3396F6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C837-8F18-430D-ADC2-DE5644C46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0F88-924E-4636-8B95-9F2A3745B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A530-C8D4-4295-9DFE-62FE1C12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E517-869C-4C1F-9646-8A68F93C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A199-1138-4EF8-8128-093F4C03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5C13D-FACD-46EE-9D39-235BF8D04F3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1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AutoShape 13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120F1-3D27-4CC0-914F-015381267E3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95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6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97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98" name="Group 1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99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0" name="AutoShape 13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6495E-B12C-434E-A08F-7301C4B1C91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kejianyuan.com/" TargetMode="External"/><Relationship Id="rId2" Type="http://schemas.openxmlformats.org/officeDocument/2006/relationships/image" Target="../media/image13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3"/>
          <p:cNvSpPr/>
          <p:nvPr/>
        </p:nvSpPr>
        <p:spPr>
          <a:xfrm>
            <a:off x="304920" y="3886200"/>
            <a:ext cx="883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         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如果只设一个求知数（设胜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场），这个问题可用一元一次方程  </a:t>
            </a:r>
            <a:r>
              <a:rPr b="0" lang="zh-CN" sz="3200" spc="-1" strike="noStrike" u="sng">
                <a:solidFill>
                  <a:srgbClr val="003366"/>
                </a:solidFill>
                <a:uFillTx/>
                <a:latin typeface="Times New Roman"/>
              </a:rPr>
              <a:t>                                     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，则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x= </a:t>
            </a:r>
            <a:r>
              <a:rPr b="0" lang="en-US" sz="3200" spc="-1" strike="noStrike" u="sng">
                <a:solidFill>
                  <a:srgbClr val="003366"/>
                </a:solidFill>
                <a:uFillTx/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，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y=</a:t>
            </a:r>
            <a:r>
              <a:rPr b="0" lang="en-US" sz="3200" spc="-1" strike="noStrike" u="sng">
                <a:solidFill>
                  <a:srgbClr val="003366"/>
                </a:solidFill>
                <a:uFillTx/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3" name="Picture 10" descr=""/>
          <p:cNvPicPr/>
          <p:nvPr/>
        </p:nvPicPr>
        <p:blipFill>
          <a:blip r:embed="rId1"/>
          <a:stretch/>
        </p:blipFill>
        <p:spPr>
          <a:xfrm>
            <a:off x="-228600" y="609480"/>
            <a:ext cx="9144000" cy="430056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8.2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消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304920" y="762120"/>
            <a:ext cx="8534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上节课直接设两个未知数（设胜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场，负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y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场），可列方程组                      得到方程组的解是                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41576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7"/>
              <p:cNvSpPr txBox="1"/>
              <p:nvPr/>
            </p:nvSpPr>
            <p:spPr>
              <a:xfrm>
                <a:off x="3886200" y="1752480"/>
                <a:ext cx="205740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8" name="Rectangle 12"/>
          <p:cNvSpPr/>
          <p:nvPr/>
        </p:nvSpPr>
        <p:spPr>
          <a:xfrm>
            <a:off x="43243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11"/>
              <p:cNvSpPr txBox="1"/>
              <p:nvPr/>
            </p:nvSpPr>
            <p:spPr>
              <a:xfrm>
                <a:off x="990720" y="2971800"/>
                <a:ext cx="114300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0" name="Text Box 14"/>
          <p:cNvSpPr/>
          <p:nvPr/>
        </p:nvSpPr>
        <p:spPr>
          <a:xfrm>
            <a:off x="5181480" y="434340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2x+(22-x)=40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991080" y="48006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18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Text Box 16"/>
          <p:cNvSpPr/>
          <p:nvPr/>
        </p:nvSpPr>
        <p:spPr>
          <a:xfrm>
            <a:off x="2896560" y="4800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2124000" y="595008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页脚占位符 4"/>
          <p:cNvSpPr/>
          <p:nvPr/>
        </p:nvSpPr>
        <p:spPr>
          <a:xfrm>
            <a:off x="2936880" y="652932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281952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观察与思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23623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想一想，上面的二元一次方程组和一元一次方程有什么关系呢？你能解释把二元一次方程组转化为一元一次方程吗？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609480" y="44197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从上面的转化你能总结出如何解二元一次方程组的方法吗？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3348000" y="26028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页脚占位符 4"/>
          <p:cNvSpPr/>
          <p:nvPr/>
        </p:nvSpPr>
        <p:spPr>
          <a:xfrm>
            <a:off x="2936880" y="652932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消元思想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762120" y="2362320"/>
            <a:ext cx="83818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16002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代入法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34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838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例题</a:t>
            </a:r>
            <a:endParaRPr b="1" lang="en-US" sz="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6019920" cy="1924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"/>
          <p:cNvPicPr/>
          <p:nvPr/>
        </p:nvPicPr>
        <p:blipFill>
          <a:blip r:embed="rId3"/>
          <a:stretch/>
        </p:blipFill>
        <p:spPr>
          <a:xfrm>
            <a:off x="0" y="4038480"/>
            <a:ext cx="9144000" cy="281952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6"/>
          <p:cNvSpPr/>
          <p:nvPr/>
        </p:nvSpPr>
        <p:spPr>
          <a:xfrm>
            <a:off x="685800" y="1981080"/>
            <a:ext cx="2971800" cy="1676520"/>
          </a:xfrm>
          <a:prstGeom prst="cloudCallout">
            <a:avLst>
              <a:gd name="adj1" fmla="val -51120"/>
              <a:gd name="adj2" fmla="val 68180"/>
            </a:avLst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还有其它解法吗？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AutoShape 7"/>
          <p:cNvSpPr/>
          <p:nvPr/>
        </p:nvSpPr>
        <p:spPr>
          <a:xfrm>
            <a:off x="5181480" y="1752480"/>
            <a:ext cx="3200400" cy="1524240"/>
          </a:xfrm>
          <a:prstGeom prst="cloudCallout">
            <a:avLst>
              <a:gd name="adj1" fmla="val -48810"/>
              <a:gd name="adj2" fmla="val 93023"/>
            </a:avLst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列方程组解应用题的关键是做什么？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56386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解二元一次方程组的步骤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5"/>
          <p:cNvSpPr/>
          <p:nvPr/>
        </p:nvSpPr>
        <p:spPr>
          <a:xfrm>
            <a:off x="3560760" y="6165720"/>
            <a:ext cx="184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练习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2"/>
          <a:stretch/>
        </p:blipFill>
        <p:spPr>
          <a:xfrm>
            <a:off x="0" y="228600"/>
            <a:ext cx="8686800" cy="20559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"/>
          <p:cNvPicPr/>
          <p:nvPr/>
        </p:nvPicPr>
        <p:blipFill>
          <a:blip r:embed="rId3"/>
          <a:stretch/>
        </p:blipFill>
        <p:spPr>
          <a:xfrm>
            <a:off x="0" y="3505320"/>
            <a:ext cx="853452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152640" cy="15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练习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AutoShape 1029"/>
          <p:cNvSpPr/>
          <p:nvPr/>
        </p:nvSpPr>
        <p:spPr>
          <a:xfrm>
            <a:off x="0" y="0"/>
            <a:ext cx="4038480" cy="1828800"/>
          </a:xfrm>
          <a:prstGeom prst="cloudCallout">
            <a:avLst>
              <a:gd name="adj1" fmla="val -46462"/>
              <a:gd name="adj2" fmla="val 875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别急，先找出两个等量关系再列方程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7" name="Picture 1030" descr=""/>
          <p:cNvPicPr/>
          <p:nvPr/>
        </p:nvPicPr>
        <p:blipFill>
          <a:blip r:embed="rId2"/>
          <a:stretch/>
        </p:blipFill>
        <p:spPr>
          <a:xfrm>
            <a:off x="0" y="2567160"/>
            <a:ext cx="9144000" cy="423828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1031"/>
          <p:cNvSpPr/>
          <p:nvPr/>
        </p:nvSpPr>
        <p:spPr>
          <a:xfrm>
            <a:off x="4419720" y="304920"/>
            <a:ext cx="4114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篮球队数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+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排球队数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=48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篮球人数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+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排球人数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=52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Rectangle 1033"/>
          <p:cNvSpPr/>
          <p:nvPr/>
        </p:nvSpPr>
        <p:spPr>
          <a:xfrm>
            <a:off x="447660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1032"/>
              <p:cNvSpPr txBox="1"/>
              <p:nvPr/>
            </p:nvSpPr>
            <p:spPr>
              <a:xfrm>
                <a:off x="4267080" y="380880"/>
                <a:ext cx="3492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/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1034"/>
              <p:cNvSpPr txBox="1"/>
              <p:nvPr/>
            </p:nvSpPr>
            <p:spPr>
              <a:xfrm>
                <a:off x="4267080" y="1600200"/>
                <a:ext cx="3492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/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2" name="Text Box 1035"/>
          <p:cNvSpPr/>
          <p:nvPr/>
        </p:nvSpPr>
        <p:spPr>
          <a:xfrm>
            <a:off x="4572000" y="1523880"/>
            <a:ext cx="4114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骑车时间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+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步行时间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=1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小时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骑车路程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+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步行路程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=20km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页脚占位符 4"/>
          <p:cNvSpPr/>
          <p:nvPr/>
        </p:nvSpPr>
        <p:spPr>
          <a:xfrm>
            <a:off x="2936880" y="652932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12952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小结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7720" y="259056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你知道本节的题目为什么叫消元的道理吗？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消元对解二元一次方程组有什么用吗？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你现在知道怎样消元吗？你觉得用代入法消元要注意什么？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6" name="图片 5" descr="kejianyua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6093000"/>
            <a:ext cx="23814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0T11:32:48Z</dcterms:created>
  <dc:creator>kejianyuan.com</dc:creator>
  <dc:description>kejianyuan.com</dc:description>
  <cp:keywords>kejianyuan.com</cp:keywords>
  <dc:language>en-US</dc:language>
  <cp:lastModifiedBy>jhfans</cp:lastModifiedBy>
  <dcterms:modified xsi:type="dcterms:W3CDTF">2014-09-10T16:31:08Z</dcterms:modified>
  <cp:revision>14</cp:revision>
  <dc:subject>人教版七年级数学（下）全套课件</dc:subject>
  <dc:title>人教版七年级数学（下）全套课件</dc:title>
</cp:coreProperties>
</file>