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793-AF96-4EF6-9D23-E215B6A2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C08-04C7-4D34-BE52-FC7D2DCC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370-E53F-4EDB-A3A1-772EAA0E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D91-7F17-4AA3-AA9C-F2BE1B38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BE3-4B26-4D15-A1F2-73C24F73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1D48-B070-49FA-BF60-620156D0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D462-5DFC-4CDE-B6E4-77161B0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39BF-B2B8-42B9-B515-78189CB3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6477-C5E6-49E3-82D3-F712D851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ED5C-9374-4A47-8225-995D50AC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7B92-30C1-4755-8A58-1EA43DE8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BE1-7371-494C-A6EF-134A0793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A52A-FB93-4134-A1C2-2271ABC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9421-451E-4CD5-AF1D-1A434B62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B16D-1D3D-4D56-A75C-763DF754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3240-FE0E-49ED-8B78-35CB8114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69DB-8300-4705-A97F-5ECD1A3D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11E7-A172-4C23-A968-E52BBC48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B32E-AFF2-4A4D-8DA6-4DEE2D8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8975-949D-41AB-8053-7014957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748D-77CA-4E39-8F4D-B09F040E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3B24-47FD-4688-B401-3D027AD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4B9-6BF3-41EE-9962-83BD1A85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AACA-5794-4D13-9F5A-A318D724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490B-AD11-4D4B-B5FB-0705DB8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F723-CDED-4F99-959A-751B527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4579-FF5E-4767-A9C5-77FA8A6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D7D2-6838-4249-8EB0-77792E5C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40EC-B18F-4463-B143-05A09B14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9031-2D84-44F6-BE82-8A42E882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D9F0-7DE1-456B-BEF0-52350E2C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532D-B674-4419-B6B0-218B4292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8968-DD02-4CD9-B5A6-84D763C6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C23-B54D-4DFD-982C-BF42DBB7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8203A-7F59-4C12-8BBA-84A5B326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906F-61F3-4046-96EC-2752E893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8964-4573-4947-B81E-E80A01D2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5FBC-99B8-4337-BB6E-EA8FF54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B512-93DA-408D-9335-029F4B75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2146-BD8E-4A6C-A5B4-7CE933D1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FB52-9229-493F-9C91-CE9290E1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A18C-3C93-4354-A916-E3518BB3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5B9C-7F2C-4336-A1E2-F150DFD5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ECD5D-E8D0-4ED5-A3FC-236D9480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238-5EFA-4F2E-8721-C18C7D06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3A5B5-35D2-4D40-9266-242552B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66AC6-29E6-4E4D-B614-3C108286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8E73-EB92-43F5-85AF-B94235E5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1D0A-2109-451A-B53F-033375BA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C9EE5-F02C-4955-9104-BAD03DEE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AB52-59E0-4291-AAFE-5642126D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5687-E7F0-4571-89CC-7358026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0602-B331-4694-8174-6ACC08D0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CD4FA-5304-49B7-B780-A6708C9A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7AACC-731B-450F-83D1-82B4E1BE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06A-5A6E-44E7-8609-E476019C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A92B9-FF64-4153-949C-FDEF7B39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1CD-F06E-4B60-8B18-8E2FF1E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FC0-F685-4FD5-8CA4-0A2BAFC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350-F87F-48A1-84CD-C214FFC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AD2A-DBCF-486E-9032-1E052EE70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8981-7D65-4279-8F7E-4782B8AE5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67C-97F3-46A9-9265-3D5B4B4D0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D7FB-0A57-458C-8560-98026C6FA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33A3-D4A9-46D0-833D-9DF19C2AF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WordArt 6" descr=""/>
          <p:cNvPicPr/>
          <p:nvPr/>
        </p:nvPicPr>
        <p:blipFill>
          <a:blip r:embed="rId1"/>
          <a:stretch/>
        </p:blipFill>
        <p:spPr>
          <a:xfrm>
            <a:off x="-1231920" y="-23760"/>
            <a:ext cx="9931320" cy="3316320"/>
          </a:xfrm>
          <a:prstGeom prst="rect">
            <a:avLst/>
          </a:prstGeom>
          <a:ln w="0">
            <a:noFill/>
          </a:ln>
        </p:spPr>
      </p:pic>
      <p:sp>
        <p:nvSpPr>
          <p:cNvPr id="208" name="WordArt 7"/>
          <p:cNvSpPr txBox="1"/>
          <p:nvPr/>
        </p:nvSpPr>
        <p:spPr>
          <a:xfrm>
            <a:off x="3059280" y="5373720"/>
            <a:ext cx="55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台州初级中学    裘建忠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209" name="图片 6" descr="kejianyuan.jpg"/>
          <p:cNvPicPr/>
          <p:nvPr/>
        </p:nvPicPr>
        <p:blipFill>
          <a:blip r:embed="rId4"/>
          <a:stretch/>
        </p:blipFill>
        <p:spPr>
          <a:xfrm>
            <a:off x="3419640" y="6165720"/>
            <a:ext cx="238104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74760" y="32868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你知道    有多大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1598760" y="328680"/>
            <a:ext cx="631800" cy="56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008000" y="1112760"/>
                <a:ext cx="23767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8"/>
              <p:cNvSpPr txBox="1"/>
              <p:nvPr/>
            </p:nvSpPr>
            <p:spPr>
              <a:xfrm>
                <a:off x="1008000" y="1825560"/>
                <a:ext cx="24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1</m:t>
                    </m:r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1"/>
              <p:cNvSpPr txBox="1"/>
              <p:nvPr/>
            </p:nvSpPr>
            <p:spPr>
              <a:xfrm>
                <a:off x="1008000" y="2604960"/>
                <a:ext cx="2521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4"/>
              <p:cNvSpPr txBox="1"/>
              <p:nvPr/>
            </p:nvSpPr>
            <p:spPr>
              <a:xfrm>
                <a:off x="1008000" y="3262320"/>
                <a:ext cx="280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7"/>
              <p:cNvSpPr txBox="1"/>
              <p:nvPr/>
            </p:nvSpPr>
            <p:spPr>
              <a:xfrm>
                <a:off x="1008000" y="3973680"/>
                <a:ext cx="2881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8"/>
              <p:cNvSpPr txBox="1"/>
              <p:nvPr/>
            </p:nvSpPr>
            <p:spPr>
              <a:xfrm>
                <a:off x="1008000" y="4629240"/>
                <a:ext cx="3024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1008000" y="5307120"/>
                <a:ext cx="3168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1008000" y="5950080"/>
                <a:ext cx="3348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0"/>
              <p:cNvSpPr txBox="1"/>
              <p:nvPr/>
            </p:nvSpPr>
            <p:spPr>
              <a:xfrm>
                <a:off x="3851280" y="765000"/>
                <a:ext cx="5076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21356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31"/>
          <p:cNvSpPr/>
          <p:nvPr/>
        </p:nvSpPr>
        <p:spPr>
          <a:xfrm>
            <a:off x="4643280" y="1844640"/>
            <a:ext cx="38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无限不循环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97920" y="224208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逼近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3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9752" y="10800"/>
                </a:moveTo>
                <a:lnTo>
                  <a:pt x="9247" y="17806"/>
                </a:lnTo>
                <a:lnTo>
                  <a:pt x="9247" y="3794"/>
                </a:lnTo>
                <a:close/>
              </a:path>
              <a:path fill="darken" w="32506" h="21600">
                <a:moveTo>
                  <a:pt x="21597" y="3794"/>
                </a:moveTo>
                <a:lnTo>
                  <a:pt x="21597" y="17806"/>
                </a:lnTo>
                <a:lnTo>
                  <a:pt x="23260" y="17806"/>
                </a:lnTo>
                <a:lnTo>
                  <a:pt x="232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54280" y="18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</a:rPr>
              <a:t>补充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6"/>
              <p:cNvSpPr txBox="1"/>
              <p:nvPr/>
            </p:nvSpPr>
            <p:spPr>
              <a:xfrm>
                <a:off x="395280" y="1114560"/>
                <a:ext cx="50403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rPr>
                            <m:lit/>
                            <m:nor/>
                          </m:rPr>
                          <m:t xml:space="preserve">的算术平方根是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　　　</m:t>
                            </m:r>
                          </m:e>
                        </m:bar>
                        <m:r>
                          <m:t xml:space="preserve">；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的算术平方根是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　　　</m:t>
                            </m:r>
                          </m:e>
                        </m:bar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8"/>
              <p:cNvSpPr txBox="1"/>
              <p:nvPr/>
            </p:nvSpPr>
            <p:spPr>
              <a:xfrm>
                <a:off x="395280" y="2820960"/>
                <a:ext cx="74898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算术平方根是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的数是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　　　</m:t>
                        </m:r>
                      </m:e>
                    </m:ba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1"/>
              <p:cNvSpPr txBox="1"/>
              <p:nvPr/>
            </p:nvSpPr>
            <p:spPr>
              <a:xfrm>
                <a:off x="395280" y="3990960"/>
                <a:ext cx="5940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的算术平方根是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　　　</m:t>
                        </m:r>
                      </m:e>
                    </m:ba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4"/>
              <p:cNvSpPr txBox="1"/>
              <p:nvPr/>
            </p:nvSpPr>
            <p:spPr>
              <a:xfrm>
                <a:off x="395280" y="5110200"/>
                <a:ext cx="7236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（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的算术平方根等于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　　　　</m:t>
                        </m:r>
                      </m:e>
                    </m:ba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AutoShape 17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9752" y="10800"/>
                </a:moveTo>
                <a:lnTo>
                  <a:pt x="9247" y="17806"/>
                </a:lnTo>
                <a:lnTo>
                  <a:pt x="9247" y="3794"/>
                </a:lnTo>
                <a:close/>
              </a:path>
              <a:path fill="darken" w="32506" h="21600">
                <a:moveTo>
                  <a:pt x="21597" y="3794"/>
                </a:moveTo>
                <a:lnTo>
                  <a:pt x="21597" y="17806"/>
                </a:lnTo>
                <a:lnTo>
                  <a:pt x="23260" y="17806"/>
                </a:lnTo>
                <a:lnTo>
                  <a:pt x="232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1823400" y="84312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思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4"/>
          <p:cNvGrpSpPr/>
          <p:nvPr/>
        </p:nvGrpSpPr>
        <p:grpSpPr>
          <a:xfrm>
            <a:off x="969120" y="1844640"/>
            <a:ext cx="6888240" cy="2475000"/>
            <a:chOff x="969120" y="1844640"/>
            <a:chExt cx="6888240" cy="2475000"/>
          </a:xfrm>
        </p:grpSpPr>
        <p:sp>
          <p:nvSpPr>
            <p:cNvPr id="322" name="Text Box 15"/>
            <p:cNvSpPr/>
            <p:nvPr/>
          </p:nvSpPr>
          <p:spPr>
            <a:xfrm>
              <a:off x="969120" y="1844640"/>
              <a:ext cx="6888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下列各式哪些有意义，哪些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有意义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-       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                 （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16"/>
                <p:cNvSpPr txBox="1"/>
                <p:nvPr/>
              </p:nvSpPr>
              <p:spPr>
                <a:xfrm>
                  <a:off x="2530440" y="3002040"/>
                  <a:ext cx="685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4" name="Object 17"/>
                <p:cNvSpPr txBox="1"/>
                <p:nvPr/>
              </p:nvSpPr>
              <p:spPr>
                <a:xfrm>
                  <a:off x="5572080" y="3002040"/>
                  <a:ext cx="9363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18"/>
                <p:cNvSpPr txBox="1"/>
                <p:nvPr/>
              </p:nvSpPr>
              <p:spPr>
                <a:xfrm>
                  <a:off x="2259000" y="3632400"/>
                  <a:ext cx="107928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24"/>
              <p:cNvSpPr txBox="1"/>
              <p:nvPr/>
            </p:nvSpPr>
            <p:spPr>
              <a:xfrm>
                <a:off x="5618160" y="3573360"/>
                <a:ext cx="1185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7" name="AutoShape 26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9752" y="10800"/>
                </a:moveTo>
                <a:lnTo>
                  <a:pt x="9247" y="17806"/>
                </a:lnTo>
                <a:lnTo>
                  <a:pt x="9247" y="3794"/>
                </a:lnTo>
                <a:close/>
              </a:path>
              <a:path fill="darken" w="32506" h="21600">
                <a:moveTo>
                  <a:pt x="21597" y="3794"/>
                </a:moveTo>
                <a:lnTo>
                  <a:pt x="21597" y="17806"/>
                </a:lnTo>
                <a:lnTo>
                  <a:pt x="23260" y="17806"/>
                </a:lnTo>
                <a:lnTo>
                  <a:pt x="232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5"/>
          <p:cNvSpPr/>
          <p:nvPr/>
        </p:nvSpPr>
        <p:spPr>
          <a:xfrm>
            <a:off x="108000" y="83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本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167   1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6"/>
          <p:cNvSpPr/>
          <p:nvPr/>
        </p:nvSpPr>
        <p:spPr>
          <a:xfrm>
            <a:off x="-4290480" y="1557360"/>
            <a:ext cx="1319076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课后思考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逼近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    的大小？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47"/>
              <p:cNvSpPr txBox="1"/>
              <p:nvPr/>
            </p:nvSpPr>
            <p:spPr>
              <a:xfrm>
                <a:off x="5292720" y="3213000"/>
                <a:ext cx="12002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"/>
          <p:cNvGrpSpPr/>
          <p:nvPr/>
        </p:nvGrpSpPr>
        <p:grpSpPr>
          <a:xfrm>
            <a:off x="312840" y="115920"/>
            <a:ext cx="11962800" cy="3385800"/>
            <a:chOff x="312840" y="115920"/>
            <a:chExt cx="11962800" cy="3385800"/>
          </a:xfrm>
        </p:grpSpPr>
        <p:sp>
          <p:nvSpPr>
            <p:cNvPr id="212" name="Text Box 5"/>
            <p:cNvSpPr/>
            <p:nvPr/>
          </p:nvSpPr>
          <p:spPr>
            <a:xfrm>
              <a:off x="2473200" y="115920"/>
              <a:ext cx="98024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ff"/>
                  </a:solidFill>
                  <a:latin typeface="隶书"/>
                </a:rPr>
                <a:t>问题：</a:t>
              </a:r>
              <a:r>
                <a:rPr b="0" lang="zh-CN" sz="3600" spc="-1" strike="noStrike">
                  <a:solidFill>
                    <a:srgbClr val="000000"/>
                  </a:solidFill>
                  <a:latin typeface="隶书"/>
                </a:rPr>
                <a:t>学校要举行美术作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</a:rPr>
                <a:t>比赛，小鸥很高兴，他想裁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</a:rPr>
                <a:t>一块面积为</a:t>
              </a:r>
              <a:r>
                <a:rPr b="0" lang="en-US" sz="3600" spc="-1" strike="noStrike">
                  <a:solidFill>
                    <a:srgbClr val="cc0000"/>
                  </a:solidFill>
                  <a:latin typeface="隶书"/>
                </a:rPr>
                <a:t>25</a:t>
              </a:r>
              <a:r>
                <a:rPr b="0" lang="en-US" sz="3600" spc="-1" strike="noStrike">
                  <a:solidFill>
                    <a:srgbClr val="000000"/>
                  </a:solidFill>
                  <a:latin typeface="隶书"/>
                </a:rPr>
                <a:t>dm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隶书"/>
                </a:rPr>
                <a:t>2</a:t>
              </a:r>
              <a:r>
                <a:rPr b="0" lang="zh-CN" sz="3600" spc="-1" strike="noStrike">
                  <a:solidFill>
                    <a:srgbClr val="000000"/>
                  </a:solidFill>
                  <a:latin typeface="隶书"/>
                </a:rPr>
                <a:t>的正方形画布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</a:rPr>
                <a:t>画上自己的得意之作参加比赛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</a:rPr>
                <a:t>这块正方形画布的边长应取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</a:rPr>
                <a:t>少？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6" descr="1"/>
            <p:cNvPicPr/>
            <p:nvPr/>
          </p:nvPicPr>
          <p:blipFill>
            <a:blip r:embed="rId1"/>
            <a:stretch/>
          </p:blipFill>
          <p:spPr>
            <a:xfrm>
              <a:off x="312840" y="474840"/>
              <a:ext cx="1920600" cy="1944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14" name=""/>
          <p:cNvGraphicFramePr/>
          <p:nvPr/>
        </p:nvGraphicFramePr>
        <p:xfrm>
          <a:off x="468360" y="3716280"/>
          <a:ext cx="8207280" cy="217656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368360"/>
                <a:gridCol w="1368360"/>
                <a:gridCol w="1368360"/>
                <a:gridCol w="136692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方形的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边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9"/>
          <p:cNvGrpSpPr/>
          <p:nvPr/>
        </p:nvGrpSpPr>
        <p:grpSpPr>
          <a:xfrm>
            <a:off x="1582920" y="189000"/>
            <a:ext cx="6662520" cy="3385800"/>
            <a:chOff x="1582920" y="189000"/>
            <a:chExt cx="6662520" cy="3385800"/>
          </a:xfrm>
        </p:grpSpPr>
        <p:grpSp>
          <p:nvGrpSpPr>
            <p:cNvPr id="217" name="Group 4"/>
            <p:cNvGrpSpPr/>
            <p:nvPr/>
          </p:nvGrpSpPr>
          <p:grpSpPr>
            <a:xfrm>
              <a:off x="1582920" y="189000"/>
              <a:ext cx="6573240" cy="3385800"/>
              <a:chOff x="1582920" y="189000"/>
              <a:chExt cx="6573240" cy="3385800"/>
            </a:xfrm>
          </p:grpSpPr>
          <p:sp>
            <p:nvSpPr>
              <p:cNvPr id="218" name="Text Box 5"/>
              <p:cNvSpPr/>
              <p:nvPr/>
            </p:nvSpPr>
            <p:spPr>
              <a:xfrm>
                <a:off x="1582920" y="189000"/>
                <a:ext cx="6573240" cy="33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一般地，如果一个</a:t>
                </a:r>
                <a:r>
                  <a:rPr b="0" lang="zh-CN" sz="36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正数</a:t>
                </a:r>
                <a:r>
                  <a:rPr b="0" lang="en-US" sz="36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x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的平方等于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,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即   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=a,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那么这个</a:t>
                </a:r>
                <a:r>
                  <a:rPr b="0" lang="zh-CN" sz="36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正数</a:t>
                </a:r>
                <a:r>
                  <a:rPr b="0" lang="en-US" sz="36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x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叫做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 u="sng">
                    <a:solidFill>
                      <a:srgbClr val="cc0000"/>
                    </a:solidFill>
                    <a:uFillTx/>
                    <a:latin typeface="Arial"/>
                  </a:rPr>
                  <a:t>算术平方根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。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的算术平方根记为     ，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读作“根号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”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叫做被开方数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9" name="Object 6"/>
                  <p:cNvSpPr txBox="1"/>
                  <p:nvPr/>
                </p:nvSpPr>
                <p:spPr>
                  <a:xfrm>
                    <a:off x="1924200" y="692280"/>
                    <a:ext cx="415800" cy="57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0" name="Object 7"/>
                <p:cNvSpPr txBox="1"/>
                <p:nvPr/>
              </p:nvSpPr>
              <p:spPr>
                <a:xfrm>
                  <a:off x="7596360" y="1334880"/>
                  <a:ext cx="649080" cy="5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1" name="Object 10"/>
              <p:cNvSpPr txBox="1"/>
              <p:nvPr/>
            </p:nvSpPr>
            <p:spPr>
              <a:xfrm>
                <a:off x="1476360" y="2565360"/>
                <a:ext cx="547200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即：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（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），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叫做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算术平方根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记作：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Rectangle 13"/>
          <p:cNvSpPr/>
          <p:nvPr/>
        </p:nvSpPr>
        <p:spPr>
          <a:xfrm>
            <a:off x="1137960" y="5086440"/>
            <a:ext cx="40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</a:rPr>
              <a:t>特殊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4"/>
              <p:cNvSpPr txBox="1"/>
              <p:nvPr/>
            </p:nvSpPr>
            <p:spPr>
              <a:xfrm>
                <a:off x="5867280" y="5056200"/>
                <a:ext cx="270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记作：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222840" y="708120"/>
            <a:ext cx="8438040" cy="1857240"/>
            <a:chOff x="222840" y="708120"/>
            <a:chExt cx="8438040" cy="1857240"/>
          </a:xfrm>
        </p:grpSpPr>
        <p:sp>
          <p:nvSpPr>
            <p:cNvPr id="226" name="Text Box 5"/>
            <p:cNvSpPr/>
            <p:nvPr/>
          </p:nvSpPr>
          <p:spPr>
            <a:xfrm>
              <a:off x="222840" y="708120"/>
              <a:ext cx="8438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求下列各数的算术平方根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00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        （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.00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Object 6"/>
                <p:cNvSpPr txBox="1"/>
                <p:nvPr/>
              </p:nvSpPr>
              <p:spPr>
                <a:xfrm>
                  <a:off x="4284720" y="1630440"/>
                  <a:ext cx="5428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8" name="Group 7"/>
          <p:cNvGrpSpPr/>
          <p:nvPr/>
        </p:nvGrpSpPr>
        <p:grpSpPr>
          <a:xfrm>
            <a:off x="631440" y="2565360"/>
            <a:ext cx="7679160" cy="947160"/>
            <a:chOff x="631440" y="2565360"/>
            <a:chExt cx="7679160" cy="947160"/>
          </a:xfrm>
        </p:grpSpPr>
        <p:sp>
          <p:nvSpPr>
            <p:cNvPr id="229" name="Text Box 8"/>
            <p:cNvSpPr/>
            <p:nvPr/>
          </p:nvSpPr>
          <p:spPr>
            <a:xfrm>
              <a:off x="762840" y="2565360"/>
              <a:ext cx="75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解：（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）因为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10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所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的算术平方根为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即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1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9"/>
                <p:cNvSpPr txBox="1"/>
                <p:nvPr/>
              </p:nvSpPr>
              <p:spPr>
                <a:xfrm>
                  <a:off x="2647800" y="2597040"/>
                  <a:ext cx="4316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Object 10"/>
                <p:cNvSpPr txBox="1"/>
                <p:nvPr/>
              </p:nvSpPr>
              <p:spPr>
                <a:xfrm>
                  <a:off x="631440" y="3071520"/>
                  <a:ext cx="64764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2" name="Object 11"/>
              <p:cNvSpPr txBox="1"/>
              <p:nvPr/>
            </p:nvSpPr>
            <p:spPr>
              <a:xfrm>
                <a:off x="4549680" y="3270240"/>
                <a:ext cx="1904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3" name="Group 12"/>
          <p:cNvGrpSpPr/>
          <p:nvPr/>
        </p:nvGrpSpPr>
        <p:grpSpPr>
          <a:xfrm>
            <a:off x="561960" y="3390840"/>
            <a:ext cx="7733520" cy="1982880"/>
            <a:chOff x="561960" y="3390840"/>
            <a:chExt cx="7733520" cy="1982880"/>
          </a:xfrm>
        </p:grpSpPr>
        <p:sp>
          <p:nvSpPr>
            <p:cNvPr id="234" name="Text Box 13"/>
            <p:cNvSpPr/>
            <p:nvPr/>
          </p:nvSpPr>
          <p:spPr>
            <a:xfrm>
              <a:off x="898560" y="3573360"/>
              <a:ext cx="7396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）因为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所以      的算术平方根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即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4"/>
                <p:cNvSpPr txBox="1"/>
                <p:nvPr/>
              </p:nvSpPr>
              <p:spPr>
                <a:xfrm>
                  <a:off x="5335560" y="3462120"/>
                  <a:ext cx="46008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Object 15"/>
                <p:cNvSpPr txBox="1"/>
                <p:nvPr/>
              </p:nvSpPr>
              <p:spPr>
                <a:xfrm>
                  <a:off x="2771640" y="3390840"/>
                  <a:ext cx="5922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7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Object 16"/>
                <p:cNvSpPr txBox="1"/>
                <p:nvPr/>
              </p:nvSpPr>
              <p:spPr>
                <a:xfrm>
                  <a:off x="3679560" y="3462120"/>
                  <a:ext cx="4604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Object 17"/>
                <p:cNvSpPr txBox="1"/>
                <p:nvPr/>
              </p:nvSpPr>
              <p:spPr>
                <a:xfrm>
                  <a:off x="561960" y="4182840"/>
                  <a:ext cx="48096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18"/>
                <p:cNvSpPr txBox="1"/>
                <p:nvPr/>
              </p:nvSpPr>
              <p:spPr>
                <a:xfrm>
                  <a:off x="1763640" y="4254480"/>
                  <a:ext cx="6649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4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Object 19"/>
                <p:cNvSpPr txBox="1"/>
                <p:nvPr/>
              </p:nvSpPr>
              <p:spPr>
                <a:xfrm>
                  <a:off x="2916000" y="4252680"/>
                  <a:ext cx="48096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1" name="Group 20"/>
          <p:cNvGrpSpPr/>
          <p:nvPr/>
        </p:nvGrpSpPr>
        <p:grpSpPr>
          <a:xfrm>
            <a:off x="792720" y="5157720"/>
            <a:ext cx="7857000" cy="968400"/>
            <a:chOff x="792720" y="5157720"/>
            <a:chExt cx="7857000" cy="968400"/>
          </a:xfrm>
        </p:grpSpPr>
        <p:sp>
          <p:nvSpPr>
            <p:cNvPr id="242" name="Text Box 21"/>
            <p:cNvSpPr/>
            <p:nvPr/>
          </p:nvSpPr>
          <p:spPr>
            <a:xfrm>
              <a:off x="792720" y="5157720"/>
              <a:ext cx="7857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）因为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0.0001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000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的算术平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根为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01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即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0.0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Object 22"/>
                <p:cNvSpPr txBox="1"/>
                <p:nvPr/>
              </p:nvSpPr>
              <p:spPr>
                <a:xfrm>
                  <a:off x="2587680" y="5189400"/>
                  <a:ext cx="86364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Object 23"/>
                <p:cNvSpPr txBox="1"/>
                <p:nvPr/>
              </p:nvSpPr>
              <p:spPr>
                <a:xfrm>
                  <a:off x="2803320" y="5580000"/>
                  <a:ext cx="136692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5" name="Rectangle 33"/>
          <p:cNvSpPr/>
          <p:nvPr/>
        </p:nvSpPr>
        <p:spPr>
          <a:xfrm>
            <a:off x="179280" y="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611280" y="333360"/>
                <a:ext cx="65516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：求下列各数的算术平方根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3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）（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5</m:t>
                        </m:r>
                        <m:r>
                          <m:t xml:space="preserve">）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250920" y="3035160"/>
                <a:ext cx="835344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练习：求下列各数的算术平方根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5</m:t>
                        </m:r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3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1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）（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5</m:t>
                        </m:r>
                        <m:r>
                          <m:t xml:space="preserve">）</m:t>
                        </m:r>
                        <m:r>
                          <m:t xml:space="preserve">6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468360" y="63360"/>
                <a:ext cx="2016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探究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250920" y="1301760"/>
                <a:ext cx="64087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表示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的算术平方根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250920" y="2405160"/>
                <a:ext cx="6553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双重非负性：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；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2"/>
              <p:cNvSpPr txBox="1"/>
              <p:nvPr/>
            </p:nvSpPr>
            <p:spPr>
              <a:xfrm>
                <a:off x="324000" y="4653000"/>
                <a:ext cx="7343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/>
                    </m:rad>
                    <m:r>
                      <m:rPr>
                        <m:lit/>
                        <m:nor/>
                      </m:rPr>
                      <m:t xml:space="preserve">是算术平方根的运算符号。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Group 15"/>
          <p:cNvGrpSpPr/>
          <p:nvPr/>
        </p:nvGrpSpPr>
        <p:grpSpPr>
          <a:xfrm>
            <a:off x="501480" y="3141720"/>
            <a:ext cx="8382240" cy="947160"/>
            <a:chOff x="501480" y="3141720"/>
            <a:chExt cx="8382240" cy="947160"/>
          </a:xfrm>
        </p:grpSpPr>
        <p:sp>
          <p:nvSpPr>
            <p:cNvPr id="255" name="Text Box 16"/>
            <p:cNvSpPr/>
            <p:nvPr/>
          </p:nvSpPr>
          <p:spPr>
            <a:xfrm>
              <a:off x="501480" y="3141720"/>
              <a:ext cx="83822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也就是说，非负数的“算术”平方根是非负数。负数不存在算术平方根，即当            时，      无意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7"/>
                <p:cNvSpPr txBox="1"/>
                <p:nvPr/>
              </p:nvSpPr>
              <p:spPr>
                <a:xfrm>
                  <a:off x="5302080" y="3522600"/>
                  <a:ext cx="99072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Object 18"/>
                <p:cNvSpPr txBox="1"/>
                <p:nvPr/>
              </p:nvSpPr>
              <p:spPr>
                <a:xfrm>
                  <a:off x="6978600" y="3549600"/>
                  <a:ext cx="533520" cy="50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47840" y="121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35120" y="9828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684360" y="492120"/>
            <a:ext cx="7062120" cy="1752480"/>
            <a:chOff x="684360" y="492120"/>
            <a:chExt cx="7062120" cy="1752480"/>
          </a:xfrm>
        </p:grpSpPr>
        <p:sp>
          <p:nvSpPr>
            <p:cNvPr id="262" name="WordArt 7"/>
            <p:cNvSpPr txBox="1"/>
            <p:nvPr/>
          </p:nvSpPr>
          <p:spPr>
            <a:xfrm>
              <a:off x="684360" y="492120"/>
              <a:ext cx="1685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宋体"/>
                </a:rPr>
                <a:t>试一试</a:t>
              </a:r>
              <a:endPara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299040" y="504720"/>
              <a:ext cx="4447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你能根据等式： 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144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说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44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的算术平方根是多少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并用等式表示出来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9"/>
                <p:cNvSpPr txBox="1"/>
                <p:nvPr/>
              </p:nvSpPr>
              <p:spPr>
                <a:xfrm>
                  <a:off x="5508720" y="563400"/>
                  <a:ext cx="503280" cy="45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5" name="Group 10"/>
          <p:cNvGrpSpPr/>
          <p:nvPr/>
        </p:nvGrpSpPr>
        <p:grpSpPr>
          <a:xfrm>
            <a:off x="611280" y="3084480"/>
            <a:ext cx="6638400" cy="2288520"/>
            <a:chOff x="611280" y="3084480"/>
            <a:chExt cx="6638400" cy="2288520"/>
          </a:xfrm>
        </p:grpSpPr>
        <p:sp>
          <p:nvSpPr>
            <p:cNvPr id="266" name="Text Box 11"/>
            <p:cNvSpPr/>
            <p:nvPr/>
          </p:nvSpPr>
          <p:spPr>
            <a:xfrm>
              <a:off x="3777120" y="3084480"/>
              <a:ext cx="3472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下列式子表示什么意思？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能求出它们的值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WordArt 12"/>
            <p:cNvSpPr txBox="1"/>
            <p:nvPr/>
          </p:nvSpPr>
          <p:spPr>
            <a:xfrm>
              <a:off x="611280" y="3241800"/>
              <a:ext cx="1685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宋体"/>
                </a:rPr>
                <a:t>想一想</a:t>
              </a:r>
              <a:endPara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13"/>
                <p:cNvSpPr txBox="1"/>
                <p:nvPr/>
              </p:nvSpPr>
              <p:spPr>
                <a:xfrm>
                  <a:off x="1762200" y="4465800"/>
                  <a:ext cx="107928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14"/>
                <p:cNvSpPr txBox="1"/>
                <p:nvPr/>
              </p:nvSpPr>
              <p:spPr>
                <a:xfrm>
                  <a:off x="3562200" y="4537080"/>
                  <a:ext cx="136836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15"/>
                <p:cNvSpPr txBox="1"/>
                <p:nvPr/>
              </p:nvSpPr>
              <p:spPr>
                <a:xfrm>
                  <a:off x="5722920" y="4610160"/>
                  <a:ext cx="72072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29880" y="44280"/>
            <a:ext cx="536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324000" y="3573360"/>
                <a:ext cx="6984720" cy="29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：求下列各式的值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3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4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5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6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　（</m:t>
                        </m:r>
                        <m:r>
                          <m:t xml:space="preserve">7</m:t>
                        </m:r>
                        <m:r>
                          <m:t xml:space="preserve">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（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4" name="Picture 7" descr="“对” 003"/>
          <p:cNvPicPr/>
          <p:nvPr/>
        </p:nvPicPr>
        <p:blipFill>
          <a:blip r:embed="rId1"/>
          <a:stretch/>
        </p:blipFill>
        <p:spPr>
          <a:xfrm>
            <a:off x="6515280" y="62064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“错” 003"/>
          <p:cNvPicPr/>
          <p:nvPr/>
        </p:nvPicPr>
        <p:blipFill>
          <a:blip r:embed="rId2"/>
          <a:stretch/>
        </p:blipFill>
        <p:spPr>
          <a:xfrm rot="21401400">
            <a:off x="6516360" y="126828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“错” 003"/>
          <p:cNvPicPr/>
          <p:nvPr/>
        </p:nvPicPr>
        <p:blipFill>
          <a:blip r:embed="rId3"/>
          <a:stretch/>
        </p:blipFill>
        <p:spPr>
          <a:xfrm>
            <a:off x="6659640" y="29973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“错” 003"/>
          <p:cNvPicPr/>
          <p:nvPr/>
        </p:nvPicPr>
        <p:blipFill>
          <a:blip r:embed="rId4"/>
          <a:stretch/>
        </p:blipFill>
        <p:spPr>
          <a:xfrm>
            <a:off x="6659640" y="234936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“对” 003"/>
          <p:cNvPicPr/>
          <p:nvPr/>
        </p:nvPicPr>
        <p:blipFill>
          <a:blip r:embed="rId5"/>
          <a:stretch/>
        </p:blipFill>
        <p:spPr>
          <a:xfrm>
            <a:off x="5724360" y="1773360"/>
            <a:ext cx="505080" cy="51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50920" y="32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探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样用两个面积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小正方形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一个面积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大正方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6227640" y="4221000"/>
            <a:ext cx="2808360" cy="2305080"/>
          </a:xfrm>
          <a:prstGeom prst="cloudCallout">
            <a:avLst>
              <a:gd name="adj1" fmla="val -47962"/>
              <a:gd name="adj2" fmla="val 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小正方形的对角线的长是多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1620720" y="1484280"/>
            <a:ext cx="2663640" cy="1008000"/>
            <a:chOff x="1620720" y="1484280"/>
            <a:chExt cx="2663640" cy="1008000"/>
          </a:xfrm>
        </p:grpSpPr>
        <p:sp>
          <p:nvSpPr>
            <p:cNvPr id="283" name="Rectangle 7"/>
            <p:cNvSpPr/>
            <p:nvPr/>
          </p:nvSpPr>
          <p:spPr>
            <a:xfrm>
              <a:off x="3276360" y="1484280"/>
              <a:ext cx="1008000" cy="1008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8"/>
            <p:cNvSpPr/>
            <p:nvPr/>
          </p:nvSpPr>
          <p:spPr>
            <a:xfrm>
              <a:off x="1620720" y="1484280"/>
              <a:ext cx="1008000" cy="1008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 flipV="1">
              <a:off x="1620720" y="1484280"/>
              <a:ext cx="1008000" cy="1008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0"/>
            <p:cNvSpPr/>
            <p:nvPr/>
          </p:nvSpPr>
          <p:spPr>
            <a:xfrm flipV="1">
              <a:off x="3276360" y="1484280"/>
              <a:ext cx="1008000" cy="1008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1"/>
          <p:cNvGrpSpPr/>
          <p:nvPr/>
        </p:nvGrpSpPr>
        <p:grpSpPr>
          <a:xfrm>
            <a:off x="5651640" y="1267920"/>
            <a:ext cx="1296720" cy="1296000"/>
            <a:chOff x="5651640" y="1267920"/>
            <a:chExt cx="1296720" cy="1296000"/>
          </a:xfrm>
        </p:grpSpPr>
        <p:sp>
          <p:nvSpPr>
            <p:cNvPr id="288" name="Rectangle 12"/>
            <p:cNvSpPr/>
            <p:nvPr/>
          </p:nvSpPr>
          <p:spPr>
            <a:xfrm>
              <a:off x="5651640" y="1268280"/>
              <a:ext cx="1295280" cy="129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 flipV="1">
              <a:off x="5651640" y="1267920"/>
              <a:ext cx="129672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5651640" y="1268280"/>
              <a:ext cx="129672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6"/>
          <p:cNvSpPr/>
          <p:nvPr/>
        </p:nvSpPr>
        <p:spPr>
          <a:xfrm>
            <a:off x="250920" y="242100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如图，把两个小正方形沿对角线剪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将所得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直角三角形拼在一起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得到一个面积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大正方形。你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大正方形的边长是多少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7"/>
          <p:cNvGrpSpPr/>
          <p:nvPr/>
        </p:nvGrpSpPr>
        <p:grpSpPr>
          <a:xfrm>
            <a:off x="539640" y="4564080"/>
            <a:ext cx="7920000" cy="3123000"/>
            <a:chOff x="539640" y="4564080"/>
            <a:chExt cx="7920000" cy="3123000"/>
          </a:xfrm>
        </p:grpSpPr>
        <p:sp>
          <p:nvSpPr>
            <p:cNvPr id="293" name="Rectangle 18"/>
            <p:cNvSpPr/>
            <p:nvPr/>
          </p:nvSpPr>
          <p:spPr>
            <a:xfrm>
              <a:off x="539640" y="4564080"/>
              <a:ext cx="7920000" cy="31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设大正方形的边长为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，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                             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=2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由算术平方根的意义可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                           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x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9"/>
                <p:cNvSpPr txBox="1"/>
                <p:nvPr/>
              </p:nvSpPr>
              <p:spPr>
                <a:xfrm>
                  <a:off x="4788000" y="6305400"/>
                  <a:ext cx="64764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20"/>
                <p:cNvSpPr txBox="1"/>
                <p:nvPr/>
              </p:nvSpPr>
              <p:spPr>
                <a:xfrm>
                  <a:off x="3995640" y="5022720"/>
                  <a:ext cx="56988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6" name="AutoShape 21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9752" y="10800"/>
                </a:moveTo>
                <a:lnTo>
                  <a:pt x="9247" y="17806"/>
                </a:lnTo>
                <a:lnTo>
                  <a:pt x="9247" y="3794"/>
                </a:lnTo>
                <a:close/>
              </a:path>
              <a:path fill="darken" w="32506" h="21600">
                <a:moveTo>
                  <a:pt x="21597" y="3794"/>
                </a:moveTo>
                <a:lnTo>
                  <a:pt x="21597" y="17806"/>
                </a:lnTo>
                <a:lnTo>
                  <a:pt x="23260" y="17806"/>
                </a:lnTo>
                <a:lnTo>
                  <a:pt x="232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7:09:17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30:27Z</dcterms:modified>
  <cp:revision>77</cp:revision>
  <dc:subject>人教版七年级数学（下）全套课件</dc:subject>
  <dc:title>人教版七年级数学（下）全套课件</dc:title>
</cp:coreProperties>
</file>