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F06-4B3F-4E79-9FBA-43D4A4C2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37A-4B34-4001-A235-98F981BF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52217-E9AE-499C-8327-6E42E343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9C32B-A7A2-438A-86C6-39B77296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00699-B8B6-442C-B938-17C0357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DD6C6-82C0-45D6-909E-1CE263AB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EABC-20D0-41BB-8523-5BEBE5D4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7C16F-B6EB-46BA-8803-68AF4B52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91D9B-2749-47C2-BE01-6A37CD6A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32ABB-9DBD-4C3A-882C-D539F914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3563C-95F6-46A0-B4A6-34765FEA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19B7F-DAA5-4F25-897C-1F9DC6AA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A27-416C-44D8-BAAC-1571E7D4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889ED-1E04-4872-81BE-3B900BE6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23B65-3FBD-4F6B-9414-584A900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833B2-E758-4D23-9D3F-53E220B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BF371-A65C-4989-8A1E-590C078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0C6C6-E0DF-4145-996F-CBCCD4D1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83E40-CA96-4374-8928-ECAF0C37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BE131-D105-4876-8E4E-817BE63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3A43E-41C8-40A2-A2CB-93FD52C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30751-2A40-49CA-A551-D69B2A1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76373-5F5F-44BF-ABFF-91107945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952-C422-46FB-94FB-F16B4EF1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A5A12-9670-4EFF-967A-08D37A13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6D61-5580-4BA2-B259-56B63A86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ED078-7762-451A-BEB4-A8B849CC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34F1C-2591-4372-91B2-3C5C760D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B3410-6A5A-44DA-9072-A758DF11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47A91-A0CA-4C1F-8C58-BBE4180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97CCE-BF4A-4DA6-9CC6-1E5AC524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91DAA-531F-46B5-BBC4-31ED312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EF82B-ED57-4901-9BBB-85D2E5E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C288-B54B-4A8D-B44E-2DDE7C1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F49-FAA4-46CE-9990-6CFC9997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A15E9-72EF-41C4-86E2-F2F10B54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04F93-6CCF-46CF-9548-FFC0453C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83B6-6FC8-4B65-B0E5-22EE1E53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595F-C55A-4D77-8112-8B62037D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7590-8EED-405F-9CDB-99E67CE7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9C8D-30C2-465D-9679-D018DB19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C454-1604-4A04-A36C-AF778F6B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DF3D-7D29-4D73-BF28-7CE4123F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EFFA-1E53-4455-B6DC-3BAC140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167-16BE-4518-939B-64DC9516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7ED8-2DF4-479B-913B-D16D8714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868F-0F57-4D76-87D5-3AD1A54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A5C2-D706-4B56-91F2-5D77CB3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1801-EAB5-44A2-BD39-610375AC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2C0A-DC0C-49AC-82BC-7E054869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82D3-039C-4500-B630-4576468D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CB0B-E363-4275-A3AF-FC7B34EC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48942-DC3E-45F5-8B24-CC9BC2F4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F35B-1973-4E27-B0A4-7CE7F05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D1F0F-2B99-4C48-825A-A56357F8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5DC-9C91-4F47-B6F8-ED92FF75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423E-8D20-467D-B3DB-872905DB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528F-C1CF-48CD-B0C3-67C3DA5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A2F9-C2B3-4C24-80EE-6788554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BFB7-BA82-4AF7-99A8-8AC2B69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1ED4-0A25-4C7F-931A-95029448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D3D7-ABEA-4D1D-9538-5C1DFA97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8333-88AC-48CC-9C95-1D2CF9BF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ED1C-A757-486C-98F9-5E172735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4F8B-CA8B-4E39-A4A7-78A3E67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552A0-4A9C-4181-AC47-8E7E6B3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972-41C3-409E-A537-C749C5B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8143-B898-4269-AEC2-1DBBFEFE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C407-771A-4EFD-9F9F-5F79D3EE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F311-39A6-4567-9D48-29F35BA6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5A7B-B238-4328-B456-F0C2B03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8587-A915-40D6-89CA-A7D7A84A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E46E-2CE2-4F97-9ABA-CC02C38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1495-D855-48EF-A12F-C1DAE91F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C374-3F6C-4C7D-8C1B-7CFD4096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48A8-2E96-4524-83CE-88A91DD0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4E1F-303C-4863-B604-9203B3D4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276-DD6C-4351-95BF-0D6397EF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517C-D537-46B4-AC22-7E51F96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39EA-0119-45DF-8F24-B4B86809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4873-051A-45CC-97AE-F6D0A4C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A34C-A0D9-4A42-B551-974B7016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C56F-0A87-4AEF-90DC-B66C8AA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7E72-AAB8-428F-BF6B-480B2E1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5318-DF55-4CE8-9415-F356571E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BB44-35B9-4647-AD4B-75C9725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7FAF-198D-4ECD-BBFD-A4B7FA60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9CEC-96E4-4F7B-A74E-E3C24165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B40-B1A0-4550-BB1A-B64AA80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4EDB-C7F8-469C-8A39-0F176294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D72B1-47C6-4715-8AA8-45025EA9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36BA-10C1-47E0-90A3-C21F1407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06510-72FB-44C3-98A7-9CBFE82E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A2FCB-A06A-4F9E-8981-B0FF4779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ABF7-945B-468B-A097-5C4C68F7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A2D1F-B418-4CC2-B1A7-0117D039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6EBE-B4DB-4DAE-9F51-B140C009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2D433-D5CA-4EE5-A465-973E8A2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C02C-86DF-41FC-A2FB-5C385C35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3C5-9ACA-4ED1-9DE7-B0BBF75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A267-9A83-4B2E-A53B-DDD96999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44162-477D-485E-8F0C-AF72416D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BF85-3F98-4633-9B3C-70D4FB90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A366D-FB8A-44E6-B413-EB399A7B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6487A-B227-41B4-AB71-AD21BB7D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D240-9586-47C2-956F-D33DF5F1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A649-5893-48BD-B919-9B85023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967D4-2282-453B-BD2C-91C3896E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D197E-4C27-42FF-9D31-6C717519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62C7-88EF-4A1A-853A-4223A5E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568-1879-4AB3-9A8C-8015D76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052B9-4762-44A7-9B22-CD5710A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C56BF-AFA0-47DA-B493-735042DB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FBE2-C055-415C-8817-644C981F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C7FE-A2C2-4E7E-96B9-24D5AD84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A5EC9-50B1-478A-A749-91A4C1B2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95486-A641-4574-A0E6-91DDF5AB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A482-900F-4163-8D44-62FCF3F0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5B3F-DEFF-4425-BFD2-49AF69A9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FC19F-D0AE-4FB5-9DBB-B4F2960C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13D99-2757-435C-B116-C9791D74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836-C3C2-46A9-A0F2-99B86B0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35668-609D-4257-8FB5-4651F6B3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3D202-39BF-4371-80CD-340EB14E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F66FD-599B-4CA3-8DD8-F3FD09A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4ABB3-F97C-4DB3-B5F5-5E619A0C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A0AB-6FEC-4CC4-A65D-408089F9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A1C1-9A84-4D76-BC23-E6678E68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9423E-5031-4CD9-91D6-E14C6656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E621D-2CAE-4A39-A7B4-2FA8265D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CDF96-AD7A-4653-8EB4-01488FAF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8A6EF-85FA-4D70-9E1D-E4FF6C8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9CEE-91C5-424D-85B1-5AFC69D03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083E-8853-4645-B2D4-9332C360E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1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C55-C4D7-42FA-AAA6-4B7A9912B5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85C-B04B-4020-B2D3-69BDBFDA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BB1D-AE58-4E5C-BC4A-9F4F0534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2DD-B8B9-4BA0-89D7-8FEB72FE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5C4-0041-4A95-AC18-8CB143D0A0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08D1-92B5-4F6E-8A46-EF61F5BD4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9E87-BEBD-4B31-8EC6-EF1F28CCF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D97A-6C99-4927-ADC5-569535D0E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4B4C-D691-4C74-991C-9A5A6B194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5" name="Picture 7" descr="000062"/>
          <p:cNvPicPr/>
          <p:nvPr/>
        </p:nvPicPr>
        <p:blipFill>
          <a:blip r:embed="rId1"/>
          <a:stretch/>
        </p:blipFill>
        <p:spPr>
          <a:xfrm>
            <a:off x="7451640" y="5445000"/>
            <a:ext cx="106704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WordArt 10"/>
          <p:cNvSpPr txBox="1"/>
          <p:nvPr/>
        </p:nvSpPr>
        <p:spPr>
          <a:xfrm>
            <a:off x="1692360" y="620640"/>
            <a:ext cx="5975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代入法解二元一次方程组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743480" y="131616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什么叫二元一次方程？二元一次方程组？二元一次方程组的解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208520" y="1963800"/>
            <a:ext cx="40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检验二元一次方程组的解的方法是怎样的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-14760" y="2606760"/>
            <a:ext cx="91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下列方程中是二元一次方程的有（     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.xy-7=1       B.2x-1=3y+1        C.4x-5y=3x-5y       D.2x+3x+4y=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142920" y="4473720"/>
            <a:ext cx="45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已知二元一次方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X+3Y+5=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表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             ⑵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用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表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632160" y="3692520"/>
            <a:ext cx="68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二元一次方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X-5Y=9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，当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=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时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值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3" name="Picture 11" descr="11"/>
          <p:cNvPicPr/>
          <p:nvPr/>
        </p:nvPicPr>
        <p:blipFill>
          <a:blip r:embed="rId1"/>
          <a:stretch/>
        </p:blipFill>
        <p:spPr>
          <a:xfrm>
            <a:off x="7945560" y="6208560"/>
            <a:ext cx="857160" cy="533520"/>
          </a:xfrm>
          <a:prstGeom prst="rect">
            <a:avLst/>
          </a:prstGeom>
          <a:ln w="0">
            <a:noFill/>
          </a:ln>
        </p:spPr>
      </p:pic>
      <p:sp>
        <p:nvSpPr>
          <p:cNvPr id="474" name="WordArt 12"/>
          <p:cNvSpPr txBox="1"/>
          <p:nvPr/>
        </p:nvSpPr>
        <p:spPr>
          <a:xfrm>
            <a:off x="108000" y="692280"/>
            <a:ext cx="273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、复习提问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5103720" y="248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5"/>
              <p:cNvSpPr txBox="1"/>
              <p:nvPr/>
            </p:nvSpPr>
            <p:spPr>
              <a:xfrm>
                <a:off x="7093080" y="3284640"/>
                <a:ext cx="792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17"/>
              <p:cNvSpPr txBox="1"/>
              <p:nvPr/>
            </p:nvSpPr>
            <p:spPr>
              <a:xfrm>
                <a:off x="395280" y="5300640"/>
                <a:ext cx="23763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9"/>
              <p:cNvSpPr txBox="1"/>
              <p:nvPr/>
            </p:nvSpPr>
            <p:spPr>
              <a:xfrm>
                <a:off x="4140360" y="5157720"/>
                <a:ext cx="2374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988200" y="301788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解：由①得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Y=17-X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923120" y="364500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把③代入②，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75520" y="4133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X+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7-X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=7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1478880" y="5141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X=2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1532880" y="564660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1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6077520" y="355752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把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X=12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代入方程③，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6157800" y="4292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Y=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4500720" y="3139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88" name="Group 36"/>
          <p:cNvGrpSpPr/>
          <p:nvPr/>
        </p:nvGrpSpPr>
        <p:grpSpPr>
          <a:xfrm>
            <a:off x="902160" y="566640"/>
            <a:ext cx="6619320" cy="1299600"/>
            <a:chOff x="902160" y="566640"/>
            <a:chExt cx="6619320" cy="1299600"/>
          </a:xfrm>
        </p:grpSpPr>
        <p:sp>
          <p:nvSpPr>
            <p:cNvPr id="489" name="Text Box 4"/>
            <p:cNvSpPr/>
            <p:nvPr/>
          </p:nvSpPr>
          <p:spPr>
            <a:xfrm>
              <a:off x="2696760" y="782640"/>
              <a:ext cx="43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判断           是不是二元一次方程组                           的解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Text Box 6"/>
            <p:cNvSpPr/>
            <p:nvPr/>
          </p:nvSpPr>
          <p:spPr>
            <a:xfrm>
              <a:off x="902160" y="14065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并说明判断方法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Object 20"/>
                <p:cNvSpPr txBox="1"/>
                <p:nvPr/>
              </p:nvSpPr>
              <p:spPr>
                <a:xfrm>
                  <a:off x="1566720" y="763560"/>
                  <a:ext cx="4129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Text Box 21"/>
            <p:cNvSpPr/>
            <p:nvPr/>
          </p:nvSpPr>
          <p:spPr>
            <a:xfrm>
              <a:off x="1694520" y="56664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=12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Text Box 22"/>
            <p:cNvSpPr/>
            <p:nvPr/>
          </p:nvSpPr>
          <p:spPr>
            <a:xfrm>
              <a:off x="1765800" y="99864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Y=5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Object 23"/>
                <p:cNvSpPr txBox="1"/>
                <p:nvPr/>
              </p:nvSpPr>
              <p:spPr>
                <a:xfrm>
                  <a:off x="5578560" y="657360"/>
                  <a:ext cx="577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Text Box 24"/>
            <p:cNvSpPr/>
            <p:nvPr/>
          </p:nvSpPr>
          <p:spPr>
            <a:xfrm>
              <a:off x="5869800" y="5954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+Y=17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Text Box 25"/>
            <p:cNvSpPr/>
            <p:nvPr/>
          </p:nvSpPr>
          <p:spPr>
            <a:xfrm>
              <a:off x="5902200" y="105264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5X+3Y=75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7" name="Group 35"/>
          <p:cNvGrpSpPr/>
          <p:nvPr/>
        </p:nvGrpSpPr>
        <p:grpSpPr>
          <a:xfrm>
            <a:off x="2019960" y="2035080"/>
            <a:ext cx="5764680" cy="1007640"/>
            <a:chOff x="2019960" y="2035080"/>
            <a:chExt cx="5764680" cy="1007640"/>
          </a:xfrm>
        </p:grpSpPr>
        <p:sp>
          <p:nvSpPr>
            <p:cNvPr id="498" name="Text Box 7"/>
            <p:cNvSpPr/>
            <p:nvPr/>
          </p:nvSpPr>
          <p:spPr>
            <a:xfrm>
              <a:off x="2019960" y="2222640"/>
              <a:ext cx="576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试问：若给出这个方程组                      ，那么怎么求出它的解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Object 26"/>
                <p:cNvSpPr txBox="1"/>
                <p:nvPr/>
              </p:nvSpPr>
              <p:spPr>
                <a:xfrm>
                  <a:off x="4025880" y="2095560"/>
                  <a:ext cx="69048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Text Box 27"/>
            <p:cNvSpPr/>
            <p:nvPr/>
          </p:nvSpPr>
          <p:spPr>
            <a:xfrm>
              <a:off x="4375800" y="2035080"/>
              <a:ext cx="15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+Y=17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Text Box 28"/>
            <p:cNvSpPr/>
            <p:nvPr/>
          </p:nvSpPr>
          <p:spPr>
            <a:xfrm>
              <a:off x="4323960" y="258300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5X+3Y=75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2" name="Group 37"/>
          <p:cNvGrpSpPr/>
          <p:nvPr/>
        </p:nvGrpSpPr>
        <p:grpSpPr>
          <a:xfrm>
            <a:off x="4352040" y="4925880"/>
            <a:ext cx="3690720" cy="1039680"/>
            <a:chOff x="4352040" y="4925880"/>
            <a:chExt cx="3690720" cy="1039680"/>
          </a:xfrm>
        </p:grpSpPr>
        <p:sp>
          <p:nvSpPr>
            <p:cNvPr id="503" name="Text Box 16"/>
            <p:cNvSpPr/>
            <p:nvPr/>
          </p:nvSpPr>
          <p:spPr>
            <a:xfrm>
              <a:off x="4352040" y="51562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Arial"/>
                </a:rPr>
                <a:t>所以原方程的解为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4" name="Object 29"/>
                <p:cNvSpPr txBox="1"/>
                <p:nvPr/>
              </p:nvSpPr>
              <p:spPr>
                <a:xfrm>
                  <a:off x="6684840" y="5084640"/>
                  <a:ext cx="5511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Text Box 30"/>
            <p:cNvSpPr/>
            <p:nvPr/>
          </p:nvSpPr>
          <p:spPr>
            <a:xfrm>
              <a:off x="7022160" y="4925880"/>
              <a:ext cx="102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Arial"/>
                </a:rPr>
                <a:t>X=12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Text Box 31"/>
            <p:cNvSpPr/>
            <p:nvPr/>
          </p:nvSpPr>
          <p:spPr>
            <a:xfrm>
              <a:off x="7022160" y="544500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Arial"/>
                </a:rPr>
                <a:t>Y=5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507" name="Picture 33" descr="14"/>
          <p:cNvPicPr/>
          <p:nvPr/>
        </p:nvPicPr>
        <p:blipFill>
          <a:blip r:embed="rId1"/>
          <a:stretch/>
        </p:blipFill>
        <p:spPr>
          <a:xfrm>
            <a:off x="0" y="403200"/>
            <a:ext cx="900000" cy="7192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4"/>
          <p:cNvSpPr/>
          <p:nvPr/>
        </p:nvSpPr>
        <p:spPr>
          <a:xfrm>
            <a:off x="975240" y="463860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X+51-3X=7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Rectangle 38"/>
          <p:cNvSpPr/>
          <p:nvPr/>
        </p:nvSpPr>
        <p:spPr>
          <a:xfrm>
            <a:off x="262728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994200" y="812880"/>
            <a:ext cx="1580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定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：将方程组中的一个方程的某个未知数用含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另一个未知数的代数式表示出来，代入另一个方程中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消去一个未知数，得到一元一次方程，最后求出方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组的解。这种方法叫做代入消元法，简称代入法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1912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68436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536400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534348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16" name="Group 16"/>
          <p:cNvGrpSpPr/>
          <p:nvPr/>
        </p:nvGrpSpPr>
        <p:grpSpPr>
          <a:xfrm>
            <a:off x="468360" y="3500280"/>
            <a:ext cx="7775640" cy="1540800"/>
            <a:chOff x="468360" y="3500280"/>
            <a:chExt cx="7775640" cy="1540800"/>
          </a:xfrm>
        </p:grpSpPr>
        <p:sp>
          <p:nvSpPr>
            <p:cNvPr id="517" name="Rectangle 11"/>
            <p:cNvSpPr/>
            <p:nvPr/>
          </p:nvSpPr>
          <p:spPr>
            <a:xfrm>
              <a:off x="468360" y="3500280"/>
              <a:ext cx="7775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二元一次方程组的解题思路是：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二元一次方程组                 一元一次方程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3203640" y="4581360"/>
              <a:ext cx="1297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Text Box 14"/>
            <p:cNvSpPr/>
            <p:nvPr/>
          </p:nvSpPr>
          <p:spPr>
            <a:xfrm>
              <a:off x="3541320" y="407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代入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Text Box 15"/>
            <p:cNvSpPr/>
            <p:nvPr/>
          </p:nvSpPr>
          <p:spPr>
            <a:xfrm>
              <a:off x="3541320" y="4581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消元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21" name="WordArt 17"/>
          <p:cNvSpPr txBox="1"/>
          <p:nvPr/>
        </p:nvSpPr>
        <p:spPr>
          <a:xfrm>
            <a:off x="395280" y="0"/>
            <a:ext cx="3313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新授内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4140360" y="404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1034640" y="115920"/>
            <a:ext cx="4230720" cy="1036080"/>
            <a:chOff x="1034640" y="115920"/>
            <a:chExt cx="4230720" cy="1036080"/>
          </a:xfrm>
        </p:grpSpPr>
        <p:sp>
          <p:nvSpPr>
            <p:cNvPr id="525" name="Text Box 5"/>
            <p:cNvSpPr/>
            <p:nvPr/>
          </p:nvSpPr>
          <p:spPr>
            <a:xfrm>
              <a:off x="1034640" y="423720"/>
              <a:ext cx="15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：解方程组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6"/>
                <p:cNvSpPr txBox="1"/>
                <p:nvPr/>
              </p:nvSpPr>
              <p:spPr>
                <a:xfrm>
                  <a:off x="2754360" y="241200"/>
                  <a:ext cx="689040" cy="90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27" name="Text Box 7"/>
            <p:cNvSpPr/>
            <p:nvPr/>
          </p:nvSpPr>
          <p:spPr>
            <a:xfrm>
              <a:off x="3049560" y="11592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X+10Y=14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Text Box 8"/>
            <p:cNvSpPr/>
            <p:nvPr/>
          </p:nvSpPr>
          <p:spPr>
            <a:xfrm>
              <a:off x="3049920" y="692280"/>
              <a:ext cx="22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0X+15Y=32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29" name="Text Box 9"/>
          <p:cNvSpPr/>
          <p:nvPr/>
        </p:nvSpPr>
        <p:spPr>
          <a:xfrm>
            <a:off x="1436760" y="1339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解：由方程①，得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406520" y="189216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X=14-10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31" name="Group 11"/>
          <p:cNvGrpSpPr/>
          <p:nvPr/>
        </p:nvGrpSpPr>
        <p:grpSpPr>
          <a:xfrm>
            <a:off x="1478160" y="2521080"/>
            <a:ext cx="1881000" cy="691920"/>
            <a:chOff x="1478160" y="2521080"/>
            <a:chExt cx="1881000" cy="691920"/>
          </a:xfrm>
        </p:grpSpPr>
        <p:grpSp>
          <p:nvGrpSpPr>
            <p:cNvPr id="532" name="Group 12"/>
            <p:cNvGrpSpPr/>
            <p:nvPr/>
          </p:nvGrpSpPr>
          <p:grpSpPr>
            <a:xfrm>
              <a:off x="1478160" y="2521080"/>
              <a:ext cx="1436400" cy="691920"/>
              <a:chOff x="1478160" y="2521080"/>
              <a:chExt cx="1436400" cy="691920"/>
            </a:xfrm>
          </p:grpSpPr>
          <p:sp>
            <p:nvSpPr>
              <p:cNvPr id="533" name="Text Box 13"/>
              <p:cNvSpPr/>
              <p:nvPr/>
            </p:nvSpPr>
            <p:spPr>
              <a:xfrm>
                <a:off x="1478160" y="25923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Arial"/>
                  </a:rPr>
                  <a:t>X=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4" name="Object 14"/>
                  <p:cNvSpPr txBox="1"/>
                  <p:nvPr/>
                </p:nvSpPr>
                <p:spPr>
                  <a:xfrm>
                    <a:off x="1908000" y="2521080"/>
                    <a:ext cx="1006560" cy="69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35" name="Text Box 15"/>
            <p:cNvSpPr/>
            <p:nvPr/>
          </p:nvSpPr>
          <p:spPr>
            <a:xfrm>
              <a:off x="2921040" y="26114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1982520" y="31161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将③代入②，得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37" name="Group 17"/>
          <p:cNvGrpSpPr/>
          <p:nvPr/>
        </p:nvGrpSpPr>
        <p:grpSpPr>
          <a:xfrm>
            <a:off x="539640" y="3541680"/>
            <a:ext cx="3219840" cy="895320"/>
            <a:chOff x="539640" y="3541680"/>
            <a:chExt cx="3219840" cy="895320"/>
          </a:xfrm>
        </p:grpSpPr>
        <mc:AlternateContent>
          <mc:Choice xmlns:a14="http://schemas.microsoft.com/office/drawing/2010/main" Requires="a14">
            <p:sp>
              <p:nvSpPr>
                <p:cNvPr id="538" name="Object 18"/>
                <p:cNvSpPr txBox="1"/>
                <p:nvPr/>
              </p:nvSpPr>
              <p:spPr>
                <a:xfrm>
                  <a:off x="539640" y="3541680"/>
                  <a:ext cx="1846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（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Y</m:t>
                          </m:r>
                          <m:r>
                            <m:t xml:space="preserve">）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9" name="Text Box 19"/>
            <p:cNvSpPr/>
            <p:nvPr/>
          </p:nvSpPr>
          <p:spPr>
            <a:xfrm>
              <a:off x="2342880" y="376380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+15Y=32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40" name="Text Box 20"/>
          <p:cNvSpPr/>
          <p:nvPr/>
        </p:nvSpPr>
        <p:spPr>
          <a:xfrm>
            <a:off x="1121040" y="44845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40-100Y+45Y=9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41" name="Group 21"/>
          <p:cNvGrpSpPr/>
          <p:nvPr/>
        </p:nvGrpSpPr>
        <p:grpSpPr>
          <a:xfrm>
            <a:off x="2208240" y="5013360"/>
            <a:ext cx="842760" cy="720720"/>
            <a:chOff x="2208240" y="5013360"/>
            <a:chExt cx="842760" cy="720720"/>
          </a:xfrm>
        </p:grpSpPr>
        <p:sp>
          <p:nvSpPr>
            <p:cNvPr id="542" name="Text Box 22"/>
            <p:cNvSpPr/>
            <p:nvPr/>
          </p:nvSpPr>
          <p:spPr>
            <a:xfrm>
              <a:off x="2208240" y="5132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Y=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Object 23"/>
                <p:cNvSpPr txBox="1"/>
                <p:nvPr/>
              </p:nvSpPr>
              <p:spPr>
                <a:xfrm>
                  <a:off x="2771640" y="5013360"/>
                  <a:ext cx="2793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4" name="Group 24"/>
          <p:cNvGrpSpPr/>
          <p:nvPr/>
        </p:nvGrpSpPr>
        <p:grpSpPr>
          <a:xfrm>
            <a:off x="5029920" y="1844640"/>
            <a:ext cx="2059200" cy="720720"/>
            <a:chOff x="5029920" y="1844640"/>
            <a:chExt cx="2059200" cy="720720"/>
          </a:xfrm>
        </p:grpSpPr>
        <p:sp>
          <p:nvSpPr>
            <p:cNvPr id="545" name="Text Box 25"/>
            <p:cNvSpPr/>
            <p:nvPr/>
          </p:nvSpPr>
          <p:spPr>
            <a:xfrm>
              <a:off x="5029920" y="200664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把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Y=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Object 26"/>
                <p:cNvSpPr txBox="1"/>
                <p:nvPr/>
              </p:nvSpPr>
              <p:spPr>
                <a:xfrm>
                  <a:off x="5805360" y="1844640"/>
                  <a:ext cx="2793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Text Box 27"/>
            <p:cNvSpPr/>
            <p:nvPr/>
          </p:nvSpPr>
          <p:spPr>
            <a:xfrm>
              <a:off x="6651000" y="1989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代入③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48" name="Group 28"/>
          <p:cNvGrpSpPr/>
          <p:nvPr/>
        </p:nvGrpSpPr>
        <p:grpSpPr>
          <a:xfrm>
            <a:off x="5189760" y="2482920"/>
            <a:ext cx="2045880" cy="1162080"/>
            <a:chOff x="5189760" y="2482920"/>
            <a:chExt cx="2045880" cy="1162080"/>
          </a:xfrm>
        </p:grpSpPr>
        <p:sp>
          <p:nvSpPr>
            <p:cNvPr id="549" name="Text Box 29"/>
            <p:cNvSpPr/>
            <p:nvPr/>
          </p:nvSpPr>
          <p:spPr>
            <a:xfrm>
              <a:off x="5189760" y="30574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=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Object 30"/>
                <p:cNvSpPr txBox="1"/>
                <p:nvPr/>
              </p:nvSpPr>
              <p:spPr>
                <a:xfrm>
                  <a:off x="5816520" y="2482920"/>
                  <a:ext cx="141912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1" name="Text Box 31"/>
          <p:cNvSpPr/>
          <p:nvPr/>
        </p:nvSpPr>
        <p:spPr>
          <a:xfrm>
            <a:off x="5221800" y="371628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52" name="Group 32"/>
          <p:cNvGrpSpPr/>
          <p:nvPr/>
        </p:nvGrpSpPr>
        <p:grpSpPr>
          <a:xfrm>
            <a:off x="5058000" y="4437000"/>
            <a:ext cx="3484440" cy="1152720"/>
            <a:chOff x="5058000" y="4437000"/>
            <a:chExt cx="3484440" cy="1152720"/>
          </a:xfrm>
        </p:grpSpPr>
        <p:sp>
          <p:nvSpPr>
            <p:cNvPr id="553" name="Text Box 33"/>
            <p:cNvSpPr/>
            <p:nvPr/>
          </p:nvSpPr>
          <p:spPr>
            <a:xfrm>
              <a:off x="5058000" y="46530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所以原方程组的解为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Object 34"/>
                <p:cNvSpPr txBox="1"/>
                <p:nvPr/>
              </p:nvSpPr>
              <p:spPr>
                <a:xfrm>
                  <a:off x="7308720" y="4581360"/>
                  <a:ext cx="4953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35"/>
            <p:cNvSpPr/>
            <p:nvPr/>
          </p:nvSpPr>
          <p:spPr>
            <a:xfrm>
              <a:off x="7598160" y="443700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=2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Text Box 36"/>
            <p:cNvSpPr/>
            <p:nvPr/>
          </p:nvSpPr>
          <p:spPr>
            <a:xfrm>
              <a:off x="7537680" y="49878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Y=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37"/>
                <p:cNvSpPr txBox="1"/>
                <p:nvPr/>
              </p:nvSpPr>
              <p:spPr>
                <a:xfrm>
                  <a:off x="8028000" y="4799160"/>
                  <a:ext cx="51444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2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228600" y="-27000"/>
            <a:ext cx="1581120" cy="825120"/>
          </a:xfrm>
          <a:prstGeom prst="rect">
            <a:avLst/>
          </a:prstGeom>
          <a:solidFill>
            <a:srgbClr val="38a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1e458"/>
                </a:solidFill>
                <a:latin typeface="华文楷体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e1e458"/>
                </a:solidFill>
                <a:latin typeface="华文楷体"/>
                <a:ea typeface="华文楷体"/>
              </a:rPr>
              <a:t>步骤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344760" y="1197000"/>
            <a:ext cx="3732120" cy="825480"/>
            <a:chOff x="3344760" y="1197000"/>
            <a:chExt cx="3732120" cy="825480"/>
          </a:xfrm>
        </p:grpSpPr>
        <p:sp>
          <p:nvSpPr>
            <p:cNvPr id="561" name="Text Box 5"/>
            <p:cNvSpPr/>
            <p:nvPr/>
          </p:nvSpPr>
          <p:spPr>
            <a:xfrm>
              <a:off x="3344760" y="119700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⑴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方程变形：将其中一个方程的某个未知数用含有另一个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未知数的代数式表示出来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3821040" y="1562040"/>
              <a:ext cx="325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=aY+b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或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Y=aX+b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3" name="Text Box 10"/>
          <p:cNvSpPr/>
          <p:nvPr/>
        </p:nvSpPr>
        <p:spPr>
          <a:xfrm>
            <a:off x="3846960" y="2492280"/>
            <a:ext cx="13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代入消元：将变形后的方程代入另一个方程中，消去一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未知数，化二元一次方程组为一元一次方程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64" name="Group 15"/>
          <p:cNvGrpSpPr/>
          <p:nvPr/>
        </p:nvGrpSpPr>
        <p:grpSpPr>
          <a:xfrm>
            <a:off x="3983040" y="4005360"/>
            <a:ext cx="4668480" cy="825480"/>
            <a:chOff x="3983040" y="4005360"/>
            <a:chExt cx="4668480" cy="825480"/>
          </a:xfrm>
        </p:grpSpPr>
        <p:sp>
          <p:nvSpPr>
            <p:cNvPr id="565" name="Text Box 11"/>
            <p:cNvSpPr/>
            <p:nvPr/>
          </p:nvSpPr>
          <p:spPr>
            <a:xfrm>
              <a:off x="3983040" y="4005360"/>
              <a:ext cx="112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⑶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方程求解：解出一元一次方程的解，再将其代入到原方程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或变形后的方程中求出另一个未知数的解，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6675480" y="431784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最后得出方程组的解</a:t>
              </a: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7" name="Text Box 13"/>
          <p:cNvSpPr/>
          <p:nvPr/>
        </p:nvSpPr>
        <p:spPr>
          <a:xfrm>
            <a:off x="1149120" y="55897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⑷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口算检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456840" y="42840"/>
            <a:ext cx="19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3.</a:t>
            </a:r>
            <a:r>
              <a:rPr b="0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巩固练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06680" y="1341360"/>
            <a:ext cx="9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方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X-3Y=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变形可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=____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=__________.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55872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669960" y="2371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解方程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9"/>
              <p:cNvSpPr txBox="1"/>
              <p:nvPr/>
            </p:nvSpPr>
            <p:spPr>
              <a:xfrm>
                <a:off x="1982880" y="2205000"/>
                <a:ext cx="7174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574" name="Text Box 10"/>
          <p:cNvSpPr/>
          <p:nvPr/>
        </p:nvSpPr>
        <p:spPr>
          <a:xfrm>
            <a:off x="2316600" y="21798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=X-3 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2295000" y="27558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X+3Y=6 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4073040" y="232416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应消去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可把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代入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487440" y="323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929520" y="3260880"/>
            <a:ext cx="49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方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=2X-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和方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X+2Y=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公共解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5"/>
              <p:cNvSpPr txBox="1"/>
              <p:nvPr/>
            </p:nvSpPr>
            <p:spPr>
              <a:xfrm>
                <a:off x="6188040" y="2997360"/>
                <a:ext cx="6890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580" name="Text Box 16"/>
          <p:cNvSpPr/>
          <p:nvPr/>
        </p:nvSpPr>
        <p:spPr>
          <a:xfrm>
            <a:off x="6616800" y="29242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=__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6591240" y="357336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Y=__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82" name="Group 31"/>
          <p:cNvGrpSpPr/>
          <p:nvPr/>
        </p:nvGrpSpPr>
        <p:grpSpPr>
          <a:xfrm>
            <a:off x="1253160" y="4941720"/>
            <a:ext cx="6157440" cy="1082160"/>
            <a:chOff x="1253160" y="4941720"/>
            <a:chExt cx="6157440" cy="1082160"/>
          </a:xfrm>
        </p:grpSpPr>
        <p:sp>
          <p:nvSpPr>
            <p:cNvPr id="583" name="Text Box 22"/>
            <p:cNvSpPr/>
            <p:nvPr/>
          </p:nvSpPr>
          <p:spPr>
            <a:xfrm>
              <a:off x="1253160" y="5276880"/>
              <a:ext cx="61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⑸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若          是方程组                      的解，求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k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和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m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的值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Object 23"/>
                <p:cNvSpPr txBox="1"/>
                <p:nvPr/>
              </p:nvSpPr>
              <p:spPr>
                <a:xfrm>
                  <a:off x="1260360" y="5184720"/>
                  <a:ext cx="5508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Text Box 24"/>
            <p:cNvSpPr/>
            <p:nvPr/>
          </p:nvSpPr>
          <p:spPr>
            <a:xfrm>
              <a:off x="1459080" y="498780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=2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6" name="Text Box 25"/>
            <p:cNvSpPr/>
            <p:nvPr/>
          </p:nvSpPr>
          <p:spPr>
            <a:xfrm>
              <a:off x="1459080" y="556416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Y=1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Object 26"/>
                <p:cNvSpPr txBox="1"/>
                <p:nvPr/>
              </p:nvSpPr>
              <p:spPr>
                <a:xfrm>
                  <a:off x="3203280" y="5013360"/>
                  <a:ext cx="76860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8" name="Text Box 27"/>
            <p:cNvSpPr/>
            <p:nvPr/>
          </p:nvSpPr>
          <p:spPr>
            <a:xfrm>
              <a:off x="3494880" y="4941720"/>
              <a:ext cx="14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kX-mY=1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9" name="Text Box 28"/>
            <p:cNvSpPr/>
            <p:nvPr/>
          </p:nvSpPr>
          <p:spPr>
            <a:xfrm>
              <a:off x="3494880" y="556416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mX+kY=8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90" name="Group 30"/>
          <p:cNvGrpSpPr/>
          <p:nvPr/>
        </p:nvGrpSpPr>
        <p:grpSpPr>
          <a:xfrm>
            <a:off x="589320" y="4168800"/>
            <a:ext cx="6911280" cy="662040"/>
            <a:chOff x="589320" y="4168800"/>
            <a:chExt cx="6911280" cy="662040"/>
          </a:xfrm>
        </p:grpSpPr>
        <p:sp>
          <p:nvSpPr>
            <p:cNvPr id="591" name="Text Box 19"/>
            <p:cNvSpPr/>
            <p:nvPr/>
          </p:nvSpPr>
          <p:spPr>
            <a:xfrm>
              <a:off x="589320" y="4321080"/>
              <a:ext cx="6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⑷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若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Object 20"/>
                <p:cNvSpPr txBox="1"/>
                <p:nvPr/>
              </p:nvSpPr>
              <p:spPr>
                <a:xfrm>
                  <a:off x="1331640" y="4316400"/>
                  <a:ext cx="165564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Text Box 21"/>
            <p:cNvSpPr/>
            <p:nvPr/>
          </p:nvSpPr>
          <p:spPr>
            <a:xfrm>
              <a:off x="3074760" y="4340160"/>
              <a:ext cx="442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2X-3Y+5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=0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求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和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Y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的值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4" name="Text Box 29"/>
            <p:cNvSpPr/>
            <p:nvPr/>
          </p:nvSpPr>
          <p:spPr>
            <a:xfrm>
              <a:off x="4770360" y="416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5" name="Object 34"/>
              <p:cNvSpPr txBox="1"/>
              <p:nvPr/>
            </p:nvSpPr>
            <p:spPr>
              <a:xfrm>
                <a:off x="4643280" y="836640"/>
                <a:ext cx="1368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35"/>
              <p:cNvSpPr txBox="1"/>
              <p:nvPr/>
            </p:nvSpPr>
            <p:spPr>
              <a:xfrm>
                <a:off x="7093080" y="836640"/>
                <a:ext cx="1295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7" name="Text Box 36"/>
          <p:cNvSpPr/>
          <p:nvPr/>
        </p:nvSpPr>
        <p:spPr>
          <a:xfrm>
            <a:off x="4842000" y="217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Text Box 37"/>
          <p:cNvSpPr/>
          <p:nvPr/>
        </p:nvSpPr>
        <p:spPr>
          <a:xfrm>
            <a:off x="6509520" y="21891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Text Box 38"/>
          <p:cNvSpPr/>
          <p:nvPr/>
        </p:nvSpPr>
        <p:spPr>
          <a:xfrm>
            <a:off x="8038080" y="21891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Text Box 39"/>
          <p:cNvSpPr/>
          <p:nvPr/>
        </p:nvSpPr>
        <p:spPr>
          <a:xfrm>
            <a:off x="7290000" y="282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Text Box 40"/>
          <p:cNvSpPr/>
          <p:nvPr/>
        </p:nvSpPr>
        <p:spPr>
          <a:xfrm>
            <a:off x="7237800" y="3486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516600" y="1341360"/>
            <a:ext cx="16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i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.</a:t>
            </a:r>
            <a:r>
              <a:rPr b="1" i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小结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5"/>
              <p:cNvSpPr txBox="1"/>
              <p:nvPr/>
            </p:nvSpPr>
            <p:spPr>
              <a:xfrm>
                <a:off x="3381480" y="46497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5" name="Text Box 6"/>
          <p:cNvSpPr/>
          <p:nvPr/>
        </p:nvSpPr>
        <p:spPr>
          <a:xfrm>
            <a:off x="3110400" y="2587680"/>
            <a:ext cx="317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解二元一次方程组的关键是“消元”即消去一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未知数使“二元”转化为“一元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343080" y="3332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1566000" y="386568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注意解题步骤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08" name="图片 7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6093000"/>
            <a:ext cx="23810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3:05:40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0:06Z</dcterms:modified>
  <cp:revision>11</cp:revision>
  <dc:subject>人教版七年级数学（下）全套课件</dc:subject>
  <dc:title>人教版七年级数学（下）全套课件</dc:title>
</cp:coreProperties>
</file>