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841-DF97-4F78-B5B9-98B6FD05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890-CA6D-4651-A2FB-3614BF29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BBF-BF7F-42CA-B4ED-AE79E4DF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8788-E5D6-4564-BD61-8595789C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F503-C16F-4D6E-81A6-E6447D7F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2DAD-7DF1-474D-B4D3-9EEA597B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582D-FC7E-4BDB-9346-76CFB169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C22E-D9A1-49E8-B824-8E803EB5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9436-473E-46E4-8C29-EA8E1959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DCB9-15ED-4F2F-AAEC-DFE4FEC0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E14E-2A30-426E-BD95-84C71724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50AC-6378-4490-B29B-80871DF8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A7F8-F927-4F6B-8D1D-D5D8E788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B7D1-4CE1-4155-8FB6-97E55E9C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F42C-AEDC-474C-A5C6-4502B3D0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BA13-98B8-44E3-BDC1-8B089F2B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AD52-8388-4625-A222-AC3D96D0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0DC5D-130B-45A9-BB3C-60986962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85DE7-2D67-4562-ACEA-C284AD1C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D53CB-11DC-42BE-B96D-CB61981A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FE09E-DBBE-4FA3-AA98-6180F780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730F1-CE0C-4E0E-9590-4E9B4D98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E43-0845-4472-8E5D-4FDF0A25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2C956-A627-4D85-816C-FF721C10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D1166-81CA-4461-B40B-2720983D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A893D-8862-471D-8D6C-BA68293A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0FC11-87B1-4E96-A145-E4640119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7763B-E5F3-4A84-B16F-214D859E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9D83A-6594-4A53-A56D-687F6FCD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B5520-32BB-4AB0-A649-A4A30F97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6235D-4C80-46B0-B674-A0E09519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26E61-D527-4DF7-976C-2B6B2467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8B6D9-A615-4843-AD81-5CC1F5FB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D416-9FB7-4339-961C-6DEE389C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F5E12-A6DA-4E46-A9FB-ACC95E1B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EEEFD-3CC1-4E5D-9FAE-E1A3CEDA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0691D-0F57-457E-8DBA-346DA2D2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D4147-57A0-4B54-8834-D582ACFF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02288-CBB1-4720-BDF7-66D31A35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8E441-5A97-4518-878C-6F5F6359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39839-D366-4D67-BCE2-148461D8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A03C4-F3FA-4944-9F13-5FF8A1AC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87462-CDE0-43D6-A577-A5D3DDBF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5F8B9-17A6-4EC2-ADE4-7B950066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F0BF-F6A5-4A2C-B584-80A53FB7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1FFD5-D85E-47D4-8C5F-39DB2A2E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06C5B-436B-4B0F-87C6-5466224C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97F16-82D0-4CC8-AC84-54318BB8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FECDC-CCD8-4E3C-A5EC-4AC2B0BF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B3C85-092D-466B-B31F-F3B360DB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3A85C-5D53-473D-8C08-A22B588B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FCAF6-370C-405B-9819-A1D56A60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13BE9-0F62-446E-9FE5-688CCB5D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D13D4-B7E5-4FEA-9B2B-63917D72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D7B99-4778-4138-8FEA-B06E3D89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946B-2148-498F-856E-453CD7B9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C8928-90B3-46FC-9714-E035BA34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9B93-B935-4351-9365-DD933300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68B-DCDC-45F9-8A65-667201E5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3A5-7937-49F7-BD61-B1D03911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B384-34B7-4F7C-AA95-29FBC4C6C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1EDF-AEC3-4AE8-A6CA-817440CD9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1C4A-78CF-4495-B656-0BFF6931E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B5A8-FE9C-4C83-8179-99C6B7D5B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7021-1DF7-4EF6-AA4D-7DAA537A3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2"/>
          <p:cNvSpPr txBox="1"/>
          <p:nvPr/>
        </p:nvSpPr>
        <p:spPr>
          <a:xfrm>
            <a:off x="1042920" y="1700280"/>
            <a:ext cx="6858000" cy="78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不等式及其解集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7" name="Picture 3" descr="055873"/>
          <p:cNvPicPr/>
          <p:nvPr/>
        </p:nvPicPr>
        <p:blipFill>
          <a:blip r:embed="rId1"/>
          <a:stretch/>
        </p:blipFill>
        <p:spPr>
          <a:xfrm rot="21154800">
            <a:off x="3995280" y="5373720"/>
            <a:ext cx="4762440" cy="6573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055873"/>
          <p:cNvPicPr/>
          <p:nvPr/>
        </p:nvPicPr>
        <p:blipFill>
          <a:blip r:embed="rId2"/>
          <a:stretch/>
        </p:blipFill>
        <p:spPr>
          <a:xfrm rot="19827000">
            <a:off x="3995280" y="4869000"/>
            <a:ext cx="4762440" cy="4413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>
            <a:off x="2268360" y="31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16"/>
          <p:cNvPicPr/>
          <p:nvPr/>
        </p:nvPicPr>
        <p:blipFill>
          <a:blip r:embed="rId3"/>
          <a:stretch/>
        </p:blipFill>
        <p:spPr>
          <a:xfrm>
            <a:off x="7524720" y="83664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16"/>
          <p:cNvPicPr/>
          <p:nvPr/>
        </p:nvPicPr>
        <p:blipFill>
          <a:blip r:embed="rId4"/>
          <a:stretch/>
        </p:blipFill>
        <p:spPr>
          <a:xfrm>
            <a:off x="7740720" y="98100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16"/>
          <p:cNvPicPr/>
          <p:nvPr/>
        </p:nvPicPr>
        <p:blipFill>
          <a:blip r:embed="rId5"/>
          <a:stretch/>
        </p:blipFill>
        <p:spPr>
          <a:xfrm>
            <a:off x="1258920" y="549360"/>
            <a:ext cx="873000" cy="873000"/>
          </a:xfrm>
          <a:prstGeom prst="rect">
            <a:avLst/>
          </a:prstGeom>
          <a:ln w="0">
            <a:noFill/>
          </a:ln>
        </p:spPr>
      </p:pic>
      <p:sp>
        <p:nvSpPr>
          <p:cNvPr id="214" name="WordArt 10"/>
          <p:cNvSpPr txBox="1"/>
          <p:nvPr/>
        </p:nvSpPr>
        <p:spPr>
          <a:xfrm rot="21244200">
            <a:off x="1914480" y="3211200"/>
            <a:ext cx="3932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b12d8b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张昭筠</a:t>
            </a:r>
            <a:endParaRPr b="0" lang="en-US" sz="1800" spc="1" strike="noStrike">
              <a:ln w="0">
                <a:noFill/>
              </a:ln>
              <a:solidFill>
                <a:srgbClr val="b12d8b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5" name="Picture 11" descr="055873"/>
          <p:cNvPicPr/>
          <p:nvPr/>
        </p:nvPicPr>
        <p:blipFill>
          <a:blip r:embed="rId6"/>
          <a:stretch/>
        </p:blipFill>
        <p:spPr>
          <a:xfrm rot="19442400">
            <a:off x="3850920" y="4581000"/>
            <a:ext cx="4762440" cy="6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Object 2"/>
          <p:cNvGraphicFramePr/>
          <p:nvPr/>
        </p:nvGraphicFramePr>
        <p:xfrm>
          <a:off x="34920" y="-27000"/>
          <a:ext cx="4824360" cy="31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-27000"/>
                    <a:ext cx="4824360" cy="31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Picture 3" descr="u=3359452496,1091696698&amp;gp=3"/>
          <p:cNvPicPr/>
          <p:nvPr/>
        </p:nvPicPr>
        <p:blipFill>
          <a:blip r:embed="rId3"/>
          <a:stretch/>
        </p:blipFill>
        <p:spPr>
          <a:xfrm>
            <a:off x="0" y="1557360"/>
            <a:ext cx="1476360" cy="11350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1619280" y="2637000"/>
            <a:ext cx="720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1547640" y="2708280"/>
            <a:ext cx="180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"/>
          <p:cNvSpPr/>
          <p:nvPr/>
        </p:nvSpPr>
        <p:spPr>
          <a:xfrm>
            <a:off x="1692360" y="1700280"/>
            <a:ext cx="1224000" cy="36036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998" h="272">
                <a:moveTo>
                  <a:pt x="0" y="0"/>
                </a:moveTo>
                <a:cubicBezTo>
                  <a:pt x="419" y="113"/>
                  <a:pt x="839" y="227"/>
                  <a:pt x="998" y="27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1633680" y="2549520"/>
            <a:ext cx="392040" cy="401760"/>
          </a:xfrm>
          <a:custGeom>
            <a:avLst/>
            <a:gdLst>
              <a:gd name="textAreaLeft" fmla="*/ 0 w 392040"/>
              <a:gd name="textAreaRight" fmla="*/ 392400 w 39204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247" h="253">
                <a:moveTo>
                  <a:pt x="17" y="202"/>
                </a:moveTo>
                <a:cubicBezTo>
                  <a:pt x="2" y="156"/>
                  <a:pt x="0" y="115"/>
                  <a:pt x="43" y="87"/>
                </a:cubicBezTo>
                <a:cubicBezTo>
                  <a:pt x="49" y="78"/>
                  <a:pt x="58" y="70"/>
                  <a:pt x="61" y="60"/>
                </a:cubicBezTo>
                <a:cubicBezTo>
                  <a:pt x="67" y="43"/>
                  <a:pt x="57" y="20"/>
                  <a:pt x="70" y="7"/>
                </a:cubicBezTo>
                <a:cubicBezTo>
                  <a:pt x="77" y="0"/>
                  <a:pt x="87" y="20"/>
                  <a:pt x="96" y="25"/>
                </a:cubicBezTo>
                <a:cubicBezTo>
                  <a:pt x="104" y="29"/>
                  <a:pt x="114" y="29"/>
                  <a:pt x="123" y="33"/>
                </a:cubicBezTo>
                <a:cubicBezTo>
                  <a:pt x="135" y="38"/>
                  <a:pt x="146" y="45"/>
                  <a:pt x="158" y="51"/>
                </a:cubicBezTo>
                <a:cubicBezTo>
                  <a:pt x="203" y="118"/>
                  <a:pt x="159" y="172"/>
                  <a:pt x="194" y="237"/>
                </a:cubicBezTo>
                <a:cubicBezTo>
                  <a:pt x="202" y="253"/>
                  <a:pt x="229" y="237"/>
                  <a:pt x="247" y="237"/>
                </a:cubicBezTo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8"/>
          <p:cNvSpPr/>
          <p:nvPr/>
        </p:nvSpPr>
        <p:spPr>
          <a:xfrm>
            <a:off x="2124000" y="2852640"/>
            <a:ext cx="252360" cy="101520"/>
          </a:xfrm>
          <a:custGeom>
            <a:avLst/>
            <a:gdLst>
              <a:gd name="textAreaLeft" fmla="*/ 0 w 252360"/>
              <a:gd name="textAreaRight" fmla="*/ 252720 w 2523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88" h="77">
                <a:moveTo>
                  <a:pt x="0" y="6"/>
                </a:moveTo>
                <a:cubicBezTo>
                  <a:pt x="88" y="28"/>
                  <a:pt x="71" y="0"/>
                  <a:pt x="71" y="77"/>
                </a:cubicBezTo>
              </a:path>
            </a:pathLst>
          </a:custGeom>
          <a:noFill/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9"/>
          <p:cNvSpPr/>
          <p:nvPr/>
        </p:nvSpPr>
        <p:spPr>
          <a:xfrm>
            <a:off x="2236680" y="1716120"/>
            <a:ext cx="217440" cy="127080"/>
          </a:xfrm>
          <a:custGeom>
            <a:avLst/>
            <a:gdLst>
              <a:gd name="textAreaLeft" fmla="*/ 0 w 217440"/>
              <a:gd name="textAreaRight" fmla="*/ 217800 w 217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37" h="80">
                <a:moveTo>
                  <a:pt x="18" y="0"/>
                </a:moveTo>
                <a:cubicBezTo>
                  <a:pt x="20" y="0"/>
                  <a:pt x="137" y="7"/>
                  <a:pt x="71" y="44"/>
                </a:cubicBezTo>
                <a:cubicBezTo>
                  <a:pt x="58" y="51"/>
                  <a:pt x="42" y="50"/>
                  <a:pt x="27" y="53"/>
                </a:cubicBezTo>
                <a:cubicBezTo>
                  <a:pt x="18" y="62"/>
                  <a:pt x="0" y="80"/>
                  <a:pt x="0" y="80"/>
                </a:cubicBezTo>
              </a:path>
            </a:pathLst>
          </a:custGeom>
          <a:solidFill>
            <a:srgbClr val="bfb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0"/>
          <p:cNvGrpSpPr/>
          <p:nvPr/>
        </p:nvGrpSpPr>
        <p:grpSpPr>
          <a:xfrm>
            <a:off x="1617840" y="1468440"/>
            <a:ext cx="1723680" cy="1485720"/>
            <a:chOff x="1617840" y="1468440"/>
            <a:chExt cx="1723680" cy="1485720"/>
          </a:xfrm>
        </p:grpSpPr>
        <p:sp>
          <p:nvSpPr>
            <p:cNvPr id="227" name="Freeform 11"/>
            <p:cNvSpPr/>
            <p:nvPr/>
          </p:nvSpPr>
          <p:spPr>
            <a:xfrm>
              <a:off x="1617840" y="2752560"/>
              <a:ext cx="266400" cy="1447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68" h="91">
                  <a:moveTo>
                    <a:pt x="0" y="91"/>
                  </a:moveTo>
                  <a:cubicBezTo>
                    <a:pt x="19" y="0"/>
                    <a:pt x="63" y="40"/>
                    <a:pt x="168" y="47"/>
                  </a:cubicBezTo>
                  <a:cubicBezTo>
                    <a:pt x="142" y="30"/>
                    <a:pt x="114" y="3"/>
                    <a:pt x="80" y="3"/>
                  </a:cubicBezTo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2151000" y="2743200"/>
              <a:ext cx="271440" cy="2109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71" h="133">
                  <a:moveTo>
                    <a:pt x="1" y="133"/>
                  </a:moveTo>
                  <a:cubicBezTo>
                    <a:pt x="12" y="101"/>
                    <a:pt x="0" y="62"/>
                    <a:pt x="19" y="35"/>
                  </a:cubicBezTo>
                  <a:cubicBezTo>
                    <a:pt x="35" y="12"/>
                    <a:pt x="72" y="18"/>
                    <a:pt x="98" y="9"/>
                  </a:cubicBezTo>
                  <a:cubicBezTo>
                    <a:pt x="107" y="6"/>
                    <a:pt x="125" y="0"/>
                    <a:pt x="125" y="0"/>
                  </a:cubicBezTo>
                  <a:cubicBezTo>
                    <a:pt x="128" y="21"/>
                    <a:pt x="125" y="43"/>
                    <a:pt x="134" y="62"/>
                  </a:cubicBezTo>
                  <a:cubicBezTo>
                    <a:pt x="138" y="70"/>
                    <a:pt x="154" y="65"/>
                    <a:pt x="160" y="71"/>
                  </a:cubicBezTo>
                  <a:cubicBezTo>
                    <a:pt x="171" y="82"/>
                    <a:pt x="169" y="101"/>
                    <a:pt x="169" y="115"/>
                  </a:cubicBezTo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2612880" y="2728800"/>
              <a:ext cx="206640" cy="225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30" h="142">
                  <a:moveTo>
                    <a:pt x="29" y="142"/>
                  </a:moveTo>
                  <a:cubicBezTo>
                    <a:pt x="59" y="121"/>
                    <a:pt x="82" y="115"/>
                    <a:pt x="109" y="89"/>
                  </a:cubicBezTo>
                  <a:cubicBezTo>
                    <a:pt x="116" y="66"/>
                    <a:pt x="130" y="30"/>
                    <a:pt x="109" y="9"/>
                  </a:cubicBezTo>
                  <a:cubicBezTo>
                    <a:pt x="100" y="0"/>
                    <a:pt x="85" y="15"/>
                    <a:pt x="73" y="18"/>
                  </a:cubicBezTo>
                  <a:cubicBezTo>
                    <a:pt x="57" y="29"/>
                    <a:pt x="0" y="45"/>
                    <a:pt x="2" y="71"/>
                  </a:cubicBezTo>
                  <a:cubicBezTo>
                    <a:pt x="4" y="96"/>
                    <a:pt x="20" y="118"/>
                    <a:pt x="29" y="142"/>
                  </a:cubicBez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3038400" y="2738520"/>
              <a:ext cx="276480" cy="15876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74" h="100">
                  <a:moveTo>
                    <a:pt x="0" y="92"/>
                  </a:moveTo>
                  <a:cubicBezTo>
                    <a:pt x="26" y="66"/>
                    <a:pt x="50" y="55"/>
                    <a:pt x="62" y="21"/>
                  </a:cubicBezTo>
                  <a:cubicBezTo>
                    <a:pt x="174" y="32"/>
                    <a:pt x="151" y="0"/>
                    <a:pt x="151" y="100"/>
                  </a:cubicBezTo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1996920" y="1628640"/>
              <a:ext cx="198720" cy="2145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79" h="112">
                  <a:moveTo>
                    <a:pt x="0" y="6"/>
                  </a:moveTo>
                  <a:cubicBezTo>
                    <a:pt x="3" y="21"/>
                    <a:pt x="1" y="38"/>
                    <a:pt x="9" y="50"/>
                  </a:cubicBezTo>
                  <a:cubicBezTo>
                    <a:pt x="48" y="107"/>
                    <a:pt x="26" y="0"/>
                    <a:pt x="71" y="68"/>
                  </a:cubicBezTo>
                  <a:cubicBezTo>
                    <a:pt x="79" y="80"/>
                    <a:pt x="71" y="97"/>
                    <a:pt x="71" y="112"/>
                  </a:cubicBezTo>
                </a:path>
              </a:pathLst>
            </a:custGeom>
            <a:solidFill>
              <a:srgbClr val="8d8fd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2433600" y="1468440"/>
              <a:ext cx="898560" cy="4446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566" h="280">
                  <a:moveTo>
                    <a:pt x="0" y="236"/>
                  </a:moveTo>
                  <a:cubicBezTo>
                    <a:pt x="22" y="170"/>
                    <a:pt x="10" y="200"/>
                    <a:pt x="35" y="147"/>
                  </a:cubicBezTo>
                  <a:cubicBezTo>
                    <a:pt x="189" y="169"/>
                    <a:pt x="9" y="165"/>
                    <a:pt x="106" y="67"/>
                  </a:cubicBezTo>
                  <a:cubicBezTo>
                    <a:pt x="123" y="50"/>
                    <a:pt x="153" y="73"/>
                    <a:pt x="177" y="76"/>
                  </a:cubicBezTo>
                  <a:cubicBezTo>
                    <a:pt x="203" y="0"/>
                    <a:pt x="183" y="13"/>
                    <a:pt x="115" y="23"/>
                  </a:cubicBezTo>
                  <a:cubicBezTo>
                    <a:pt x="130" y="26"/>
                    <a:pt x="149" y="21"/>
                    <a:pt x="160" y="32"/>
                  </a:cubicBezTo>
                  <a:cubicBezTo>
                    <a:pt x="168" y="40"/>
                    <a:pt x="134" y="84"/>
                    <a:pt x="133" y="85"/>
                  </a:cubicBezTo>
                  <a:cubicBezTo>
                    <a:pt x="107" y="164"/>
                    <a:pt x="161" y="136"/>
                    <a:pt x="239" y="130"/>
                  </a:cubicBezTo>
                  <a:cubicBezTo>
                    <a:pt x="251" y="127"/>
                    <a:pt x="286" y="127"/>
                    <a:pt x="275" y="121"/>
                  </a:cubicBezTo>
                  <a:cubicBezTo>
                    <a:pt x="268" y="117"/>
                    <a:pt x="167" y="132"/>
                    <a:pt x="213" y="85"/>
                  </a:cubicBezTo>
                  <a:cubicBezTo>
                    <a:pt x="219" y="78"/>
                    <a:pt x="230" y="79"/>
                    <a:pt x="239" y="76"/>
                  </a:cubicBezTo>
                  <a:cubicBezTo>
                    <a:pt x="302" y="97"/>
                    <a:pt x="276" y="84"/>
                    <a:pt x="319" y="112"/>
                  </a:cubicBezTo>
                  <a:cubicBezTo>
                    <a:pt x="308" y="154"/>
                    <a:pt x="298" y="191"/>
                    <a:pt x="275" y="227"/>
                  </a:cubicBezTo>
                  <a:cubicBezTo>
                    <a:pt x="277" y="233"/>
                    <a:pt x="290" y="280"/>
                    <a:pt x="301" y="280"/>
                  </a:cubicBezTo>
                  <a:cubicBezTo>
                    <a:pt x="312" y="280"/>
                    <a:pt x="310" y="260"/>
                    <a:pt x="319" y="254"/>
                  </a:cubicBezTo>
                  <a:cubicBezTo>
                    <a:pt x="329" y="247"/>
                    <a:pt x="343" y="248"/>
                    <a:pt x="355" y="245"/>
                  </a:cubicBezTo>
                  <a:cubicBezTo>
                    <a:pt x="358" y="240"/>
                    <a:pt x="383" y="192"/>
                    <a:pt x="399" y="200"/>
                  </a:cubicBezTo>
                  <a:cubicBezTo>
                    <a:pt x="410" y="206"/>
                    <a:pt x="397" y="231"/>
                    <a:pt x="408" y="236"/>
                  </a:cubicBezTo>
                  <a:cubicBezTo>
                    <a:pt x="454" y="257"/>
                    <a:pt x="514" y="229"/>
                    <a:pt x="558" y="254"/>
                  </a:cubicBezTo>
                  <a:cubicBezTo>
                    <a:pt x="566" y="258"/>
                    <a:pt x="558" y="271"/>
                    <a:pt x="558" y="280"/>
                  </a:cubicBezTo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2306520" y="1811160"/>
              <a:ext cx="1035000" cy="327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652" h="206">
                  <a:moveTo>
                    <a:pt x="647" y="206"/>
                  </a:moveTo>
                  <a:cubicBezTo>
                    <a:pt x="631" y="142"/>
                    <a:pt x="652" y="194"/>
                    <a:pt x="612" y="153"/>
                  </a:cubicBezTo>
                  <a:cubicBezTo>
                    <a:pt x="604" y="145"/>
                    <a:pt x="602" y="134"/>
                    <a:pt x="594" y="126"/>
                  </a:cubicBezTo>
                  <a:cubicBezTo>
                    <a:pt x="560" y="92"/>
                    <a:pt x="492" y="96"/>
                    <a:pt x="452" y="91"/>
                  </a:cubicBezTo>
                  <a:cubicBezTo>
                    <a:pt x="329" y="48"/>
                    <a:pt x="189" y="76"/>
                    <a:pt x="62" y="38"/>
                  </a:cubicBezTo>
                  <a:cubicBezTo>
                    <a:pt x="7" y="0"/>
                    <a:pt x="30" y="2"/>
                    <a:pt x="0" y="2"/>
                  </a:cubicBezTo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8"/>
          <p:cNvSpPr/>
          <p:nvPr/>
        </p:nvSpPr>
        <p:spPr>
          <a:xfrm>
            <a:off x="395280" y="3213000"/>
            <a:ext cx="8280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辆匀速行驶的汽车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距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，要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前驶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，车速应具备什么条件？若设车速为每小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，能用一个式子表示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611280" y="0"/>
            <a:ext cx="64764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64162E-006 L 0.47274 0.00185 E">
                                      <p:cBhvr>
                                        <p:cTn id="6" dur="5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不等式的定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用“＞”或“＜”表示大小关系的式子叫做不等式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用“≠”表示不等关系的式子也叫不等式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用“≥”或“≤”表示大小关系的式子叫做不等式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“≥”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读作“大于或等于”或“不小于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　 “≤”读作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"/>
          <p:cNvSpPr/>
          <p:nvPr/>
        </p:nvSpPr>
        <p:spPr>
          <a:xfrm>
            <a:off x="2340000" y="4581360"/>
            <a:ext cx="468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2411280" y="400536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小于或等于”或“不大于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900000" y="5157720"/>
            <a:ext cx="727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611280" y="189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1763640" y="0"/>
            <a:ext cx="1728720" cy="981000"/>
          </a:xfrm>
          <a:prstGeom prst="wedgeEllipseCallout">
            <a:avLst>
              <a:gd name="adj1" fmla="val -70291"/>
              <a:gd name="adj2" fmla="val 346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400" spc="-1" strike="noStrike">
                <a:solidFill>
                  <a:srgbClr val="99cc00"/>
                </a:solidFill>
                <a:latin typeface="Arial"/>
              </a:rPr>
              <a:t>下列式子中哪些是不等式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b=b+a        ②  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5   ③  x≠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+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          ⑤  2m≤n   ⑥  2x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⑦                          ⑧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  +3≥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801080" y="3573360"/>
            <a:ext cx="49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cc00cc"/>
                </a:solidFill>
                <a:latin typeface="Arial"/>
              </a:rPr>
              <a:t>不等式中可以含有未知数，也可以不含有未知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a1[1]"/>
          <p:cNvPicPr/>
          <p:nvPr/>
        </p:nvPicPr>
        <p:blipFill>
          <a:blip r:embed="rId1"/>
          <a:stretch/>
        </p:blipFill>
        <p:spPr>
          <a:xfrm>
            <a:off x="395280" y="476280"/>
            <a:ext cx="839880" cy="8650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7"/>
          <p:cNvSpPr/>
          <p:nvPr/>
        </p:nvSpPr>
        <p:spPr>
          <a:xfrm>
            <a:off x="1908000" y="26028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想一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468360" y="3933720"/>
            <a:ext cx="57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826920" y="5516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解：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、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、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、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、⑺、⑻是不等 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250920" y="4437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★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cc00cc"/>
                </a:solidFill>
                <a:latin typeface="Arial"/>
              </a:rPr>
              <a:t>含有一个未知数且未知数的次数是１的不等式叫做一元一次不等式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5"/>
              <p:cNvSpPr txBox="1"/>
              <p:nvPr/>
            </p:nvSpPr>
            <p:spPr>
              <a:xfrm>
                <a:off x="1332000" y="2708280"/>
                <a:ext cx="884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Text Box 17"/>
          <p:cNvSpPr/>
          <p:nvPr/>
        </p:nvSpPr>
        <p:spPr>
          <a:xfrm>
            <a:off x="414216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20060725165689"/>
          <p:cNvPicPr/>
          <p:nvPr/>
        </p:nvPicPr>
        <p:blipFill>
          <a:blip r:embed="rId1"/>
          <a:stretch/>
        </p:blipFill>
        <p:spPr>
          <a:xfrm>
            <a:off x="395280" y="260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46893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做一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不等式表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58560" y="2581200"/>
            <a:ext cx="87850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正数          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和小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差大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         ④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平方是非负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⑤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和不小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140360" y="476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相等使方程两边的未知数的值就是方程的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6408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★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把使不等式成立的未知数的值叫做不等式的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755640" y="2276640"/>
            <a:ext cx="6246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隶书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讨论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判断下列数中哪些是不等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的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4.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.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能找出这个不等式其它的解吗？它到底有多少个解？你中发现了什么规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" descr="16"/>
          <p:cNvPicPr/>
          <p:nvPr/>
        </p:nvPicPr>
        <p:blipFill>
          <a:blip r:embed="rId1"/>
          <a:stretch/>
        </p:blipFill>
        <p:spPr>
          <a:xfrm>
            <a:off x="468360" y="2421000"/>
            <a:ext cx="873000" cy="87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5" name="Object 12"/>
              <p:cNvSpPr txBox="1"/>
              <p:nvPr/>
            </p:nvSpPr>
            <p:spPr>
              <a:xfrm>
                <a:off x="4932360" y="2997360"/>
                <a:ext cx="5587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Text Box 22"/>
          <p:cNvSpPr/>
          <p:nvPr/>
        </p:nvSpPr>
        <p:spPr>
          <a:xfrm>
            <a:off x="971640" y="4724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★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一个不等式的解不只一个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有无数个解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826920" y="551664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★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把使不等式成立的未知数的值的集合叫做不等式的解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47640" y="620640"/>
            <a:ext cx="12240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68360" y="134136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表示不等式的解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08"/>
          <p:cNvPicPr/>
          <p:nvPr/>
        </p:nvPicPr>
        <p:blipFill>
          <a:blip r:embed="rId1"/>
          <a:stretch/>
        </p:blipFill>
        <p:spPr>
          <a:xfrm>
            <a:off x="324000" y="404640"/>
            <a:ext cx="1170000" cy="1222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1547640" y="227664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◆     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用式子即最简形式的不等式来表示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619280" y="2852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◆      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用数轴表示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47640" y="3500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第一步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: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画数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3635280" y="350028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第二步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: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定界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5796000" y="350028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第三步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;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定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1187280" y="436572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cc00cc"/>
                </a:solidFill>
                <a:latin typeface="Arial"/>
              </a:rPr>
              <a:t>＞” </a:t>
            </a:r>
            <a:r>
              <a:rPr b="0" lang="zh-CN" sz="1800" spc="-1" strike="noStrike">
                <a:solidFill>
                  <a:srgbClr val="cc00cc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cc00cc"/>
                </a:solidFill>
                <a:latin typeface="Arial"/>
              </a:rPr>
              <a:t>＜</a:t>
            </a:r>
            <a:r>
              <a:rPr b="0" lang="zh-CN" sz="1800" spc="-1" strike="noStrike">
                <a:solidFill>
                  <a:srgbClr val="cc00cc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cc00cc"/>
                </a:solidFill>
                <a:latin typeface="Arial"/>
              </a:rPr>
              <a:t>是空心；　“≥”　“≤”是实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1187280" y="508464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cc00cc"/>
                </a:solidFill>
                <a:latin typeface="Arial"/>
              </a:rPr>
              <a:t>＞”　 “≥”向右画；　 “＜”　 “≤” 向左画</a:t>
            </a:r>
            <a:r>
              <a:rPr b="0" lang="zh-CN" sz="1800" spc="-1" strike="noStrike">
                <a:solidFill>
                  <a:srgbClr val="cc00cc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320"/>
                            </p:stCondLst>
                            <p:childTnLst>
                              <p:par>
                                <p:cTn id="151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52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2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20"/>
                            </p:stCondLst>
                            <p:childTnLst>
                              <p:par>
                                <p:cTn id="165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66" dur="2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找出使不等式成立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值：                                                                     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+ 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数轴上表示下列不等式的解集：  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等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＜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多少个解？有多少个正整数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02:12:00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17:35Z</dcterms:modified>
  <cp:revision>33</cp:revision>
  <dc:subject>人教版七年级数学（下）全套课件</dc:subject>
  <dc:title>人教版七年级数学（下）全套课件</dc:title>
</cp:coreProperties>
</file>