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D6B-4D05-4F9A-B73A-6CE99D1F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E01-32C7-4D62-96BA-A1E536A5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52316-5930-47D6-AECC-4B9B9CF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50592-043F-4B3B-954F-EE6D2A59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EFE3F-A875-4DCF-92B5-4BDB231D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AC90-E0A9-4C67-B62E-5C091E5F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F8C12-B380-40B2-A126-92D3D15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EFE46-2D37-4FBE-B109-AF9314F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F0F9-E298-4A1B-BE7D-3681721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1C2C-CA14-4560-9446-3ECBDCD7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6EC0-0D17-484E-A8C9-F506D146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E597-1510-4DAF-A55C-E7DC6E75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686-F4D7-439D-8343-AF1B9E01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1238-F334-425F-B8A9-FC997AF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33B5D-D55F-4D72-8E73-E8B0ABB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C2C40-257A-4CA9-9432-1C6FAFC1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2B2C4-84F2-4869-A31A-64F0B46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5F26F-A8AD-48B2-8130-B5B360E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EFA05-5D29-4494-B0CC-8A88026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CC995-D7CE-407D-9581-72119C8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96F36-5AFC-4D08-90B4-0664637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5A735-D854-4BFD-8B93-DAFC69F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7B7DC-C525-4FB8-B5EB-1ECC4E1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654-E5E9-45E3-83FA-50AA9526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6A56B-CD43-4565-8DB1-1C486E64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C356-18BC-4C65-BB0B-A8754199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0E998-A98B-44D0-AB7C-900A9886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A8D2-2A50-4DDF-9984-854B236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20A3-C6A0-41CF-BBC3-E7FF2B2D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07184-09E9-4695-A7BC-92F994D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A1BA2-BC72-4E8F-8ADA-97B666D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C88D8-9BB7-4AC6-A101-E74AFF8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5F283-20BD-4950-A2B2-485F6E1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0C71F-B49A-458D-93D9-48E1B8C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0BE-A454-4843-B10C-23DBA741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CAE5-74CE-466C-8611-3D95042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D70BB-97F8-4316-85C8-515BF1D7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947E9-652E-4C09-BBE8-BDA36F8B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F650F-B331-4AC0-B4AB-1E79C249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2B8C0-DF0A-45A0-9720-2AA057C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13B06-5915-4C29-9E45-AC90051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0F125-B1F4-4B86-B203-FC0E519A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FD045-C6A4-4B4E-AA45-ADB7601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C294-57BA-4C8A-B5CB-CD9B2B57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BAB3-C313-4A3B-B043-AA525E9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8D9-6DE0-4D49-857E-EA7B7EF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B1169-B9D5-48D7-B8CF-42375BD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39FB6-2FCF-4849-97B2-71FBEA05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CD1C2-24E9-4085-9FA0-2AFC09B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ED4AA-1B5B-4F61-9A2D-26C1B6E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6B28E-1C24-4924-A5C3-E6E7C11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9C7AD-CF8A-4FAB-B4BB-0842EAFC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45C93-7A72-4DEE-84A8-994D5DC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8CA9B-D9E5-489B-91F9-012070E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3C578-EB6B-43E2-87EB-3DCE006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566AF-C695-4E18-89CD-72C06C9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B2D4-3BCC-4C08-B196-84095B1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D08BE-C458-40BC-B17C-91776E4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39079-8311-4B4E-BFB2-A6F19CB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0EA57-4D56-4B69-B6CA-7FC471DF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8C8FF-27F5-464A-A504-4F010E6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CC28F-2DB7-4A95-A876-13720F9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058C2-79CD-4CB2-ABAD-01D15CB2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CA0BC-7032-46EF-A8EB-D1151936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27991-EBD4-4AB4-99D4-94BA932A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B8C57-FC0D-49E4-BFA1-9764E91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AEA93-58EE-4768-A8CB-8CE97B0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D96-8BD1-4493-B53F-B8C2C3EB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6D99E-3782-4EA8-8304-3E377CA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9C3DB-D77E-4B1B-83B0-5D216B7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7CD8B-9C93-4728-AE04-1AED254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EF09A-B587-491A-A52E-4B1D585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EC1A6-4D7A-41CD-BB18-E0D9C92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B0187-AC1F-4BAF-A58C-55107E8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67D19-252E-4200-90E7-0DD80C39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C7E4D-E9D9-4D97-BF27-964AD3B1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454AE-383C-4C40-A580-85AD8B96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F6F3D-E223-4273-A368-BAD6CC3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C179-C5BA-453C-99F7-30F4E81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34E7C-CF51-403D-9A5C-7E139EA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7DAF2-4198-4E9F-9038-0083037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8B081-ED59-491B-99D4-1279D35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4EAC8-7216-4405-9596-C0A5A45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75FE0-0AF6-49B6-BFF5-9AAC938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CD1B2-5223-4745-BC2C-68B7D15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E9523-6D24-44A1-89F6-DCC93FA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AAAD9-8825-473C-898F-3590D11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31420-D06C-4D6E-9A61-7430053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945DC-B004-4882-8A3F-24A5032C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976E-F8E2-46EF-AFBE-C6E8E07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93AA0-6A2F-49D1-979D-D684EF9C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B070B-3E62-46C6-8E53-1A054E08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39BF8-8304-4905-AF37-7B94364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44B0C-8E3E-4CD1-83C2-FF1DD285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12BE5-E3B0-438B-9E0D-797E278D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F8975-4B21-4276-9DEC-8E69E2A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E88F9-462B-4BF7-B8BC-FAF5837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511DC-FD5E-487A-8B66-6828E89B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10941-1053-4FE6-A7A2-815B850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CDDB9-A762-47AF-A891-BA2F533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BBB-876B-4866-88B0-CB6E36B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39B52-F0BE-4D4B-BB08-71143E70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29843-FF66-4A06-9C08-D6DE6710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3C825-CDF7-4FB9-9753-BF1387E4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625AC-6A49-4FF8-AE49-13AB3DBA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ACC5D-17CB-4CDD-B472-FA310E80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9DCF1-921C-4CBA-9990-F029E97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155A2-FD14-4933-BA1A-757DC06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C3348-FBB1-4705-B990-F726C33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3E3D1-AF25-4BC0-8210-C9A916E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EF6A6-625A-4227-BB0A-1AE2B592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4AB-8099-4F33-B531-8B80B9F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10E5-43B1-49FE-8DA1-394C0CC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2B4E2-F559-45C9-9381-1B0282A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3F0C9-D062-4E56-9C2E-C5A6104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C9631-0F51-44E1-AF80-135C94A4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1BB61-31D3-4192-A3E6-C3A08ACF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69594-7536-419C-99B8-92471F07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A5B51-0976-465E-B56C-6E051B29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FE55B-6180-401F-B1B6-F931785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02276-92DC-4384-9C80-A6EE488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85DDD-537A-484C-97A3-A95D88B3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28D97-628F-45D0-808E-DF53EA0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B064-0010-4A9B-89DF-2F1DF6F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39115-0985-4FB8-BEF9-AF0D18F5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BA83E-5150-4EEC-A8AD-108DEF3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B8D2B-130A-4656-87C1-23A3E64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95664-4E83-488A-8E41-E37453B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75CBD-F032-40EB-A8FE-3BB6BA21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3FC9D-EB9E-48D0-BE17-665C9448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38B18-6A93-4CB8-974C-F33B3A30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1F89-59C5-4FC1-8139-FFB1D52F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BF7-8410-40FC-A06C-209795D4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EA08-A9D1-473A-A35E-EBA39B66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5214-8BF9-4AA4-9495-34FF2BB3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C6F1-452B-4022-B34D-F598415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F28A-280B-4CA2-8424-F1A87D44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9F89-8648-4C84-83C7-7EC324A8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308C-0B75-4CBD-99C3-B308E6EC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C4E-CE9A-4843-9745-E61978B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5850-66FE-4AC3-9382-49D6ABD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BAA0-1D83-41DD-9111-60AFF6D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2A1E-06FC-4880-8BE5-4A17579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4480-76A2-44C6-9FD4-C5343D0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123A-FC63-467B-9424-2E4E697D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B4ED-8365-425F-A5CE-779263CF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BCDC-5A93-42CB-AAD2-483943A5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7516-ADF9-4930-A1DF-14CE1CD9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20A0-546F-4422-B271-E40A2F8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EF4A-ACA7-4344-B1EC-223963A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1CC-4CF0-4C5B-9CDC-01CE64E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93FA-AB28-45EF-928D-F61D31E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B3D4-CC96-41AD-8723-7C05C9E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206D-DB02-40EA-A00F-5223B635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6B98-6886-494E-8743-92F5694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7135-46CE-4F9A-8E83-55A1ED8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2EAD-A714-4F04-BF1F-C5EB7D6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A9B0-B185-44D6-85A0-BFF8E5E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1D4B-E7E4-4500-A70D-1C7C0C89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9B44-F296-42D6-A7D9-727B07A2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58A7-9D94-4744-B71C-4AB98278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9C-D88B-4356-BCEA-2BF695C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2908-BFD2-4718-BC8B-1E500CB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21B9-BA47-4985-A767-D42AD35A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30C3-62BB-45A3-80CE-A604E51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3452-33FA-4654-860F-76BE877F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1EAD-524A-4A14-A3F8-A63DE0B8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D052-4DAE-49D5-9DE8-F5799A1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0ECF-1196-42A3-B621-D39855F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A5C9-81AF-41F0-914D-38EA527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E20A-5CB7-4C0A-9931-B3A62214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8735-CA1D-4A4C-8E6F-06EE6B17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C06-2595-439E-8DFE-2D4F9B3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3701-BAA4-4C46-A872-78B691CD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2A7C-8386-4931-97E8-65D85121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185F-7B4F-445A-855C-A1EACCE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DAA97-075E-4EE7-B91F-3568FF48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698E-CA7B-4781-9E1E-D5BC560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952A7-5912-4744-A2E1-55DF19A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5759-C8BC-4C0C-8549-3ED8A5D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9E425-039B-403C-889F-FA6910C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5430-FBB9-4430-8FCD-C7AE035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B832-0036-4C5E-84DF-B3A9B1B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4BE-C5A9-4A0F-B538-4BFE7E2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9351-7A03-4255-9918-D55AC22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4885-A9C1-46A0-BFBE-6F9648F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B92C-798F-40BC-BDD4-2BD200D3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F998F-8A6B-4B29-B333-C6DD6125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38AA-186E-4D38-9A2B-4EBFB1D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C6B8-DFB0-4BB7-B8C2-3FC597C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2038-BBC2-4FDC-9F56-06CCE00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1F63-19A8-4FAA-94A2-80AC27B8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1B84D-7D24-483F-8180-7DCBED26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6AD0-B9A2-43BA-A404-81FD053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C46-8F9C-4701-8F13-1FB7C84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45E9-7AFF-4068-B32F-751F55E6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B8D2-5F2A-41E3-88BB-00034FB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767F-7E3F-43DD-8401-600F371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E518-5000-4622-A65C-C8E62F70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0A33-6BB0-46A4-8CF3-CFC86259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8812-1D10-4546-AE61-EBAEE87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C58C-6D41-4EAD-9424-D71E102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36B08-8D25-464C-B302-955D4E1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66C5-8AEB-4A61-A8F0-7AF2C2D7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29D3-E65F-4694-8E82-FBB5BA3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378-F163-40F6-BEEA-EBDC5FD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3F28-8BAB-4805-8D8B-66F02496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98D7-34EC-4A3C-968D-7ED5A8F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E4C7D-EC03-41B5-8C7A-30A084E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6865-C291-435B-A7F7-01033AF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366F-4775-498B-BB45-77C1E7C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B7DF-554E-4AAF-8D55-811C60E6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B319-8720-4ACE-8BF0-EFB7E74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43F7D-7C7B-4B47-9475-4D9F1729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BC538-C1FF-4B8A-B3CA-046AF41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E59D6-3B1D-4465-9F69-6AEEF18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DB51-B714-43E6-A9DD-9289162F7D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0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6EE7-EE0C-4CDA-9EC9-44E8BB62D1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4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FF3-AD6A-4BF2-9E10-2BC9FF4B00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9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164-477E-4B4E-8D96-2FCD0ACF72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4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B527-1AFA-44DE-9936-26EA643C34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F73-996B-4932-8BFE-31C3CD79BE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0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43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4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B61-0971-474B-AA04-7F2F4117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4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4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4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958-4186-469D-B91F-E0305864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0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404-E6DB-4173-9D40-8FBE1CD698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5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25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26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5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5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5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BB3-641C-4AF4-AE41-5D0AEFAB0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94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8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22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6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50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64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8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80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29E-7910-4787-B027-69164BB1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0074-EECC-4518-AA7E-B8CB5E16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79E1-3F9E-45D7-B7C0-DE604C671E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8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9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9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0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1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1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1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1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7F10-AB28-43BE-8581-39D2C40A22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08BE-2F64-465B-9CC6-3EEB359E7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5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661-E502-48E5-9F68-037C2C68F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0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7EE-24D7-4021-9D69-1364A37E98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5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730-EEAF-47DB-88F2-8E8DFDAA0E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ina-139.com/minlu/jltlj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WordArt 5"/>
          <p:cNvSpPr txBox="1"/>
          <p:nvPr/>
        </p:nvSpPr>
        <p:spPr>
          <a:xfrm>
            <a:off x="2268360" y="620640"/>
            <a:ext cx="424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镶嵌</a:t>
            </a:r>
            <a:endParaRPr b="0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3276720" y="4437000"/>
            <a:ext cx="55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05.10.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72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一种足球由黑白相间的牛皮缝制而成，黑皮是正五边形白皮是正六边形，黑皮共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块，则白皮有（            ）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8" name="Picture 43" descr="足球"/>
          <p:cNvPicPr/>
          <p:nvPr/>
        </p:nvPicPr>
        <p:blipFill>
          <a:blip r:embed="rId1"/>
          <a:stretch/>
        </p:blipFill>
        <p:spPr>
          <a:xfrm>
            <a:off x="6084720" y="3716280"/>
            <a:ext cx="2519640" cy="2346480"/>
          </a:xfrm>
          <a:prstGeom prst="rect">
            <a:avLst/>
          </a:prstGeom>
          <a:ln w="0">
            <a:noFill/>
          </a:ln>
        </p:spPr>
      </p:pic>
      <p:sp>
        <p:nvSpPr>
          <p:cNvPr id="1409" name="WordArt 47"/>
          <p:cNvSpPr txBox="1"/>
          <p:nvPr/>
        </p:nvSpPr>
        <p:spPr>
          <a:xfrm>
            <a:off x="684360" y="476280"/>
            <a:ext cx="30956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动动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WordArt 4"/>
          <p:cNvSpPr txBox="1"/>
          <p:nvPr/>
        </p:nvSpPr>
        <p:spPr>
          <a:xfrm>
            <a:off x="900000" y="765000"/>
            <a:ext cx="3880080" cy="9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动手做一做</a:t>
            </a:r>
            <a:endParaRPr b="0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12" name="Text Box 5"/>
          <p:cNvSpPr/>
          <p:nvPr/>
        </p:nvSpPr>
        <p:spPr>
          <a:xfrm>
            <a:off x="826920" y="270828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703dff"/>
                </a:solidFill>
                <a:latin typeface="Arial"/>
              </a:rPr>
              <a:t>、搜集一些平面镶嵌图案，并用硬纸做出其中的一、二个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703dff"/>
                </a:solidFill>
                <a:latin typeface="Arial"/>
              </a:rPr>
              <a:t>、设计一、二个地板的平面镶嵌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2" descr="ART_2797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ef66"/>
            </a:solidFill>
            <a:miter/>
          </a:ln>
        </p:spPr>
      </p:pic>
      <p:sp>
        <p:nvSpPr>
          <p:cNvPr id="1415" name="Text Box 4"/>
          <p:cNvSpPr/>
          <p:nvPr/>
        </p:nvSpPr>
        <p:spPr>
          <a:xfrm>
            <a:off x="2627280" y="112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200"/>
                </a:solidFill>
                <a:latin typeface="Arial"/>
              </a:rPr>
              <a:t>这节课你有哪些收获？都学了哪些知识，还有哪些不明白的问题，互相交流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9" name="Picture 7" descr="-2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503600" y="46080"/>
            <a:ext cx="18011520" cy="11277720"/>
          </a:xfrm>
          <a:prstGeom prst="rect">
            <a:avLst/>
          </a:prstGeom>
          <a:ln w="0">
            <a:noFill/>
          </a:ln>
        </p:spPr>
      </p:pic>
      <p:sp>
        <p:nvSpPr>
          <p:cNvPr id="1420" name="Text Box 8"/>
          <p:cNvSpPr/>
          <p:nvPr/>
        </p:nvSpPr>
        <p:spPr>
          <a:xfrm>
            <a:off x="3132000" y="263700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-116"/>
          <p:cNvPicPr/>
          <p:nvPr/>
        </p:nvPicPr>
        <p:blipFill>
          <a:blip r:embed="rId1"/>
          <a:stretch/>
        </p:blipFill>
        <p:spPr>
          <a:xfrm>
            <a:off x="155520" y="44280"/>
            <a:ext cx="4200480" cy="312912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7" descr="-212"/>
          <p:cNvPicPr/>
          <p:nvPr/>
        </p:nvPicPr>
        <p:blipFill>
          <a:blip r:embed="rId2"/>
          <a:stretch/>
        </p:blipFill>
        <p:spPr>
          <a:xfrm>
            <a:off x="125280" y="3284640"/>
            <a:ext cx="4159440" cy="36478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9" descr="-213"/>
          <p:cNvPicPr/>
          <p:nvPr/>
        </p:nvPicPr>
        <p:blipFill>
          <a:blip r:embed="rId3"/>
          <a:stretch/>
        </p:blipFill>
        <p:spPr>
          <a:xfrm>
            <a:off x="4788000" y="0"/>
            <a:ext cx="4032000" cy="31305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1" descr="JLTLJ4"/>
          <p:cNvPicPr/>
          <p:nvPr/>
        </p:nvPicPr>
        <p:blipFill>
          <a:blip r:embed="rId4"/>
          <a:stretch/>
        </p:blipFill>
        <p:spPr>
          <a:xfrm>
            <a:off x="4932360" y="3357720"/>
            <a:ext cx="4211640" cy="361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Picture 7" descr="u=2423558074,1400127590&amp;gp=0[1]"/>
          <p:cNvPicPr/>
          <p:nvPr/>
        </p:nvPicPr>
        <p:blipFill>
          <a:blip r:embed="rId1"/>
          <a:stretch/>
        </p:blipFill>
        <p:spPr>
          <a:xfrm>
            <a:off x="4417920" y="790560"/>
            <a:ext cx="2749680" cy="207504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10" descr="u=1991528427,2778260903&amp;gp=0[1]"/>
          <p:cNvPicPr/>
          <p:nvPr/>
        </p:nvPicPr>
        <p:blipFill>
          <a:blip r:embed="rId2"/>
          <a:stretch/>
        </p:blipFill>
        <p:spPr>
          <a:xfrm>
            <a:off x="971640" y="3068640"/>
            <a:ext cx="2865240" cy="22068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13" descr="u=2343148119,4000629207&amp;gp=2[1]"/>
          <p:cNvPicPr/>
          <p:nvPr/>
        </p:nvPicPr>
        <p:blipFill>
          <a:blip r:embed="rId3"/>
          <a:stretch/>
        </p:blipFill>
        <p:spPr>
          <a:xfrm>
            <a:off x="4456080" y="3139920"/>
            <a:ext cx="2746440" cy="2116440"/>
          </a:xfrm>
          <a:prstGeom prst="rect">
            <a:avLst/>
          </a:prstGeom>
          <a:ln w="0">
            <a:noFill/>
          </a:ln>
        </p:spPr>
      </p:pic>
      <p:sp>
        <p:nvSpPr>
          <p:cNvPr id="1322" name="WordArt 17"/>
          <p:cNvSpPr txBox="1"/>
          <p:nvPr/>
        </p:nvSpPr>
        <p:spPr>
          <a:xfrm>
            <a:off x="1258920" y="0"/>
            <a:ext cx="2743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生活中的数学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Text Box 19"/>
          <p:cNvSpPr/>
          <p:nvPr/>
        </p:nvSpPr>
        <p:spPr>
          <a:xfrm>
            <a:off x="1092240" y="52768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用形状相同或不同的平面图形，把地面无缝隙、不重叠地全部覆盖，在几何里叫做平面镶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25" descr="u=4133474897,2125421500&amp;gp=2[1]"/>
          <p:cNvPicPr/>
          <p:nvPr/>
        </p:nvPicPr>
        <p:blipFill>
          <a:blip r:embed="rId4"/>
          <a:stretch/>
        </p:blipFill>
        <p:spPr>
          <a:xfrm>
            <a:off x="971640" y="692280"/>
            <a:ext cx="3024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Picture 4" descr="张慧荣1"/>
          <p:cNvPicPr/>
          <p:nvPr/>
        </p:nvPicPr>
        <p:blipFill>
          <a:blip r:embed="rId1"/>
          <a:stretch/>
        </p:blipFill>
        <p:spPr>
          <a:xfrm>
            <a:off x="0" y="2565360"/>
            <a:ext cx="4284720" cy="172728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7" descr="张慧荣2"/>
          <p:cNvPicPr/>
          <p:nvPr/>
        </p:nvPicPr>
        <p:blipFill>
          <a:blip r:embed="rId2"/>
          <a:stretch/>
        </p:blipFill>
        <p:spPr>
          <a:xfrm>
            <a:off x="250920" y="260280"/>
            <a:ext cx="3816360" cy="180036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10" descr="张慧荣3"/>
          <p:cNvPicPr/>
          <p:nvPr/>
        </p:nvPicPr>
        <p:blipFill>
          <a:blip r:embed="rId3"/>
          <a:stretch/>
        </p:blipFill>
        <p:spPr>
          <a:xfrm>
            <a:off x="2843280" y="4869000"/>
            <a:ext cx="39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13" descr="张慧荣4"/>
          <p:cNvPicPr/>
          <p:nvPr/>
        </p:nvPicPr>
        <p:blipFill>
          <a:blip r:embed="rId4"/>
          <a:stretch/>
        </p:blipFill>
        <p:spPr>
          <a:xfrm>
            <a:off x="4932360" y="2565360"/>
            <a:ext cx="3311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16" descr="张慧荣5"/>
          <p:cNvPicPr/>
          <p:nvPr/>
        </p:nvPicPr>
        <p:blipFill>
          <a:blip r:embed="rId5"/>
          <a:stretch/>
        </p:blipFill>
        <p:spPr>
          <a:xfrm>
            <a:off x="4788000" y="333360"/>
            <a:ext cx="3456000" cy="1800360"/>
          </a:xfrm>
          <a:prstGeom prst="rect">
            <a:avLst/>
          </a:prstGeom>
          <a:ln w="0">
            <a:noFill/>
          </a:ln>
        </p:spPr>
      </p:pic>
      <p:sp>
        <p:nvSpPr>
          <p:cNvPr id="1331" name="Rectangle 17"/>
          <p:cNvSpPr/>
          <p:nvPr/>
        </p:nvSpPr>
        <p:spPr>
          <a:xfrm>
            <a:off x="248436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16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4"/>
          <p:cNvSpPr/>
          <p:nvPr/>
        </p:nvSpPr>
        <p:spPr>
          <a:xfrm>
            <a:off x="2454120" y="3786120"/>
            <a:ext cx="1368720" cy="1184400"/>
          </a:xfrm>
          <a:prstGeom prst="triangle">
            <a:avLst>
              <a:gd name="adj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6"/>
          <p:cNvSpPr/>
          <p:nvPr/>
        </p:nvSpPr>
        <p:spPr>
          <a:xfrm>
            <a:off x="1763640" y="494172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7"/>
          <p:cNvSpPr/>
          <p:nvPr/>
        </p:nvSpPr>
        <p:spPr>
          <a:xfrm>
            <a:off x="1073160" y="375912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9"/>
          <p:cNvSpPr/>
          <p:nvPr/>
        </p:nvSpPr>
        <p:spPr>
          <a:xfrm rot="3601200">
            <a:off x="1250640" y="4660920"/>
            <a:ext cx="1368360" cy="11840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0"/>
          <p:cNvSpPr/>
          <p:nvPr/>
        </p:nvSpPr>
        <p:spPr>
          <a:xfrm rot="10800000">
            <a:off x="1763280" y="378936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1"/>
          <p:cNvSpPr/>
          <p:nvPr/>
        </p:nvSpPr>
        <p:spPr>
          <a:xfrm rot="3601200">
            <a:off x="2641320" y="4676760"/>
            <a:ext cx="1368360" cy="11840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2"/>
          <p:cNvSpPr/>
          <p:nvPr/>
        </p:nvSpPr>
        <p:spPr>
          <a:xfrm>
            <a:off x="5796000" y="5083200"/>
            <a:ext cx="1008000" cy="1008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3"/>
          <p:cNvSpPr/>
          <p:nvPr/>
        </p:nvSpPr>
        <p:spPr>
          <a:xfrm>
            <a:off x="6804000" y="5084640"/>
            <a:ext cx="1008000" cy="1008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"/>
          <p:cNvSpPr/>
          <p:nvPr/>
        </p:nvSpPr>
        <p:spPr>
          <a:xfrm>
            <a:off x="5789520" y="4076640"/>
            <a:ext cx="1008000" cy="100800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5"/>
          <p:cNvSpPr/>
          <p:nvPr/>
        </p:nvSpPr>
        <p:spPr>
          <a:xfrm>
            <a:off x="6791400" y="4081320"/>
            <a:ext cx="1008000" cy="1008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16"/>
          <p:cNvSpPr txBox="1"/>
          <p:nvPr/>
        </p:nvSpPr>
        <p:spPr>
          <a:xfrm>
            <a:off x="539640" y="40464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一种正多边形镶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395280" y="1125360"/>
            <a:ext cx="81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同一种正多边形进行镶嵌，需要满足什么条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边数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正多边形可以进行这样的镶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只有哪几种正多边形可以进行这样的镶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4"/>
          <p:cNvSpPr/>
          <p:nvPr/>
        </p:nvSpPr>
        <p:spPr>
          <a:xfrm>
            <a:off x="774720" y="2232000"/>
            <a:ext cx="1512720" cy="14382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6"/>
          <p:cNvSpPr/>
          <p:nvPr/>
        </p:nvSpPr>
        <p:spPr>
          <a:xfrm rot="6444600">
            <a:off x="1595520" y="1285200"/>
            <a:ext cx="1513080" cy="1438200"/>
          </a:xfrm>
          <a:prstGeom prst="pentag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AutoShape 7"/>
          <p:cNvSpPr/>
          <p:nvPr/>
        </p:nvSpPr>
        <p:spPr>
          <a:xfrm>
            <a:off x="2287440" y="2227320"/>
            <a:ext cx="1513080" cy="1438200"/>
          </a:xfrm>
          <a:prstGeom prst="pentag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8"/>
          <p:cNvSpPr/>
          <p:nvPr/>
        </p:nvSpPr>
        <p:spPr>
          <a:xfrm>
            <a:off x="5749920" y="2819520"/>
            <a:ext cx="1224000" cy="1058760"/>
          </a:xfrm>
          <a:prstGeom prst="hexagon">
            <a:avLst>
              <a:gd name="adj" fmla="val 28902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AutoShape 9"/>
          <p:cNvSpPr/>
          <p:nvPr/>
        </p:nvSpPr>
        <p:spPr>
          <a:xfrm>
            <a:off x="5745240" y="1751040"/>
            <a:ext cx="1224000" cy="1058760"/>
          </a:xfrm>
          <a:prstGeom prst="hexagon">
            <a:avLst>
              <a:gd name="adj" fmla="val 28902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utoShape 10"/>
          <p:cNvSpPr/>
          <p:nvPr/>
        </p:nvSpPr>
        <p:spPr>
          <a:xfrm>
            <a:off x="4826160" y="2276640"/>
            <a:ext cx="1223640" cy="1058760"/>
          </a:xfrm>
          <a:prstGeom prst="hexagon">
            <a:avLst>
              <a:gd name="adj" fmla="val 28893"/>
              <a:gd name="vf" fmla="val 11547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12"/>
          <p:cNvSpPr/>
          <p:nvPr/>
        </p:nvSpPr>
        <p:spPr>
          <a:xfrm>
            <a:off x="6657840" y="2279520"/>
            <a:ext cx="1224000" cy="1059120"/>
          </a:xfrm>
          <a:prstGeom prst="hexagon">
            <a:avLst>
              <a:gd name="adj" fmla="val 28892"/>
              <a:gd name="vf" fmla="val 11547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WordArt 13"/>
          <p:cNvSpPr txBox="1"/>
          <p:nvPr/>
        </p:nvSpPr>
        <p:spPr>
          <a:xfrm>
            <a:off x="539640" y="40464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一种正多边形镶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WordArt 4"/>
          <p:cNvSpPr txBox="1"/>
          <p:nvPr/>
        </p:nvSpPr>
        <p:spPr>
          <a:xfrm>
            <a:off x="539640" y="40464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两种正多边形镶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356" name="Text Box 49"/>
          <p:cNvSpPr/>
          <p:nvPr/>
        </p:nvSpPr>
        <p:spPr>
          <a:xfrm>
            <a:off x="611280" y="1700280"/>
            <a:ext cx="727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三角形与正四边形能否进行镶嵌，若能，画出镶嵌的示意图，你能画出几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三角形，正六边形能否进行镶嵌，若能有几种情况，画出镶嵌示意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六边形能否与边数多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正多边形进行镶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怎样确定两种正多边形能否进行镶嵌，举例说明你的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50"/>
          <p:cNvSpPr/>
          <p:nvPr/>
        </p:nvSpPr>
        <p:spPr>
          <a:xfrm>
            <a:off x="4819680" y="26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WordArt 5"/>
          <p:cNvSpPr txBox="1"/>
          <p:nvPr/>
        </p:nvSpPr>
        <p:spPr>
          <a:xfrm>
            <a:off x="539640" y="40464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两种正多边形镶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360" name="AutoShape 6"/>
          <p:cNvSpPr/>
          <p:nvPr/>
        </p:nvSpPr>
        <p:spPr>
          <a:xfrm>
            <a:off x="1784520" y="1322280"/>
            <a:ext cx="93636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9"/>
          <p:cNvSpPr/>
          <p:nvPr/>
        </p:nvSpPr>
        <p:spPr>
          <a:xfrm>
            <a:off x="1784520" y="2133720"/>
            <a:ext cx="920520" cy="920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11"/>
          <p:cNvSpPr/>
          <p:nvPr/>
        </p:nvSpPr>
        <p:spPr>
          <a:xfrm rot="19801800">
            <a:off x="6314760" y="1990440"/>
            <a:ext cx="93672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2"/>
          <p:cNvSpPr/>
          <p:nvPr/>
        </p:nvSpPr>
        <p:spPr>
          <a:xfrm>
            <a:off x="2708280" y="1311120"/>
            <a:ext cx="93672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3"/>
          <p:cNvSpPr/>
          <p:nvPr/>
        </p:nvSpPr>
        <p:spPr>
          <a:xfrm rot="10800000">
            <a:off x="2243160" y="1334880"/>
            <a:ext cx="93672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4"/>
          <p:cNvSpPr/>
          <p:nvPr/>
        </p:nvSpPr>
        <p:spPr>
          <a:xfrm>
            <a:off x="2700360" y="2133720"/>
            <a:ext cx="920880" cy="920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5"/>
          <p:cNvSpPr/>
          <p:nvPr/>
        </p:nvSpPr>
        <p:spPr>
          <a:xfrm>
            <a:off x="5651640" y="2060640"/>
            <a:ext cx="920520" cy="920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7"/>
          <p:cNvSpPr/>
          <p:nvPr/>
        </p:nvSpPr>
        <p:spPr>
          <a:xfrm rot="17949000">
            <a:off x="6746760" y="1418760"/>
            <a:ext cx="920880" cy="92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AutoShape 20"/>
          <p:cNvSpPr/>
          <p:nvPr/>
        </p:nvSpPr>
        <p:spPr>
          <a:xfrm rot="18098400">
            <a:off x="5981400" y="1066680"/>
            <a:ext cx="93672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22"/>
          <p:cNvSpPr/>
          <p:nvPr/>
        </p:nvSpPr>
        <p:spPr>
          <a:xfrm>
            <a:off x="5626080" y="1247760"/>
            <a:ext cx="936720" cy="809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2395440" y="3227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26"/>
          <p:cNvSpPr/>
          <p:nvPr/>
        </p:nvSpPr>
        <p:spPr>
          <a:xfrm>
            <a:off x="5927760" y="3254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1654200" y="4395960"/>
            <a:ext cx="1295280" cy="112068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2627280" y="4951440"/>
            <a:ext cx="647640" cy="560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29"/>
          <p:cNvSpPr/>
          <p:nvPr/>
        </p:nvSpPr>
        <p:spPr>
          <a:xfrm>
            <a:off x="2960640" y="4395960"/>
            <a:ext cx="647640" cy="560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30"/>
          <p:cNvSpPr/>
          <p:nvPr/>
        </p:nvSpPr>
        <p:spPr>
          <a:xfrm rot="18074400">
            <a:off x="2875680" y="4799520"/>
            <a:ext cx="647640" cy="560520"/>
          </a:xfrm>
          <a:prstGeom prst="triangle">
            <a:avLst>
              <a:gd name="adj" fmla="val 462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31"/>
          <p:cNvSpPr/>
          <p:nvPr/>
        </p:nvSpPr>
        <p:spPr>
          <a:xfrm rot="18074400">
            <a:off x="2550240" y="4246920"/>
            <a:ext cx="647640" cy="560520"/>
          </a:xfrm>
          <a:prstGeom prst="triangle">
            <a:avLst>
              <a:gd name="adj" fmla="val 4489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32"/>
          <p:cNvSpPr/>
          <p:nvPr/>
        </p:nvSpPr>
        <p:spPr>
          <a:xfrm>
            <a:off x="1870200" y="58262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33"/>
          <p:cNvSpPr/>
          <p:nvPr/>
        </p:nvSpPr>
        <p:spPr>
          <a:xfrm>
            <a:off x="5369040" y="3863880"/>
            <a:ext cx="1295280" cy="1121040"/>
          </a:xfrm>
          <a:prstGeom prst="hexagon">
            <a:avLst>
              <a:gd name="adj" fmla="val 28886"/>
              <a:gd name="vf" fmla="val 1154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34"/>
          <p:cNvSpPr/>
          <p:nvPr/>
        </p:nvSpPr>
        <p:spPr>
          <a:xfrm>
            <a:off x="5369040" y="4995720"/>
            <a:ext cx="1295280" cy="1121040"/>
          </a:xfrm>
          <a:prstGeom prst="hexagon">
            <a:avLst>
              <a:gd name="adj" fmla="val 28886"/>
              <a:gd name="vf" fmla="val 1154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35"/>
          <p:cNvSpPr/>
          <p:nvPr/>
        </p:nvSpPr>
        <p:spPr>
          <a:xfrm rot="18074400">
            <a:off x="6268320" y="4823280"/>
            <a:ext cx="647640" cy="560520"/>
          </a:xfrm>
          <a:prstGeom prst="triangle">
            <a:avLst>
              <a:gd name="adj" fmla="val 462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36"/>
          <p:cNvSpPr/>
          <p:nvPr/>
        </p:nvSpPr>
        <p:spPr>
          <a:xfrm>
            <a:off x="6332400" y="4419720"/>
            <a:ext cx="648000" cy="560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37"/>
          <p:cNvSpPr/>
          <p:nvPr/>
        </p:nvSpPr>
        <p:spPr>
          <a:xfrm>
            <a:off x="6084720" y="630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38"/>
          <p:cNvSpPr/>
          <p:nvPr/>
        </p:nvSpPr>
        <p:spPr>
          <a:xfrm>
            <a:off x="6665760" y="3860640"/>
            <a:ext cx="1295640" cy="1121040"/>
          </a:xfrm>
          <a:prstGeom prst="hexagon">
            <a:avLst>
              <a:gd name="adj" fmla="val 28894"/>
              <a:gd name="vf" fmla="val 1154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39"/>
          <p:cNvSpPr/>
          <p:nvPr/>
        </p:nvSpPr>
        <p:spPr>
          <a:xfrm>
            <a:off x="6659640" y="4976640"/>
            <a:ext cx="1295280" cy="1121040"/>
          </a:xfrm>
          <a:prstGeom prst="hexagon">
            <a:avLst>
              <a:gd name="adj" fmla="val 28886"/>
              <a:gd name="vf" fmla="val 1154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Object 4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10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7" descr="SCHL_021"/>
          <p:cNvPicPr/>
          <p:nvPr/>
        </p:nvPicPr>
        <p:blipFill>
          <a:blip r:embed="rId2"/>
          <a:stretch/>
        </p:blipFill>
        <p:spPr>
          <a:xfrm>
            <a:off x="0" y="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1388" name="Text Box 55"/>
          <p:cNvSpPr/>
          <p:nvPr/>
        </p:nvSpPr>
        <p:spPr>
          <a:xfrm>
            <a:off x="2272320" y="0"/>
            <a:ext cx="667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56"/>
          <p:cNvSpPr/>
          <p:nvPr/>
        </p:nvSpPr>
        <p:spPr>
          <a:xfrm>
            <a:off x="324000" y="1341360"/>
            <a:ext cx="76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若限用一种正多边形镶嵌，不可能是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三角形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方形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五边形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六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用两种正多边形镶嵌不能与正三角形匹配的正多边形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方形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六边形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十二边形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正十七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明明家若想用边长相同的两种正多边形水泥砖铺地面，若其中一种为正六边形的水泥砖，请你帮助选择，你会再选择哪一种正多边形的水泥砖，试着画出 示意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58"/>
          <p:cNvSpPr/>
          <p:nvPr/>
        </p:nvSpPr>
        <p:spPr>
          <a:xfrm>
            <a:off x="3835440" y="3789000"/>
            <a:ext cx="11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安徽）我们常见到的如图那样的地面，它们分别是全用正方形或全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六边形形状的材料铺成的这样形状的材料能铺成平整、无空隙的地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129"/>
          <p:cNvSpPr/>
          <p:nvPr/>
        </p:nvSpPr>
        <p:spPr>
          <a:xfrm>
            <a:off x="7929720" y="4732200"/>
            <a:ext cx="271440" cy="235080"/>
          </a:xfrm>
          <a:prstGeom prst="hexagon">
            <a:avLst>
              <a:gd name="adj" fmla="val 28867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130"/>
          <p:cNvSpPr/>
          <p:nvPr/>
        </p:nvSpPr>
        <p:spPr>
          <a:xfrm>
            <a:off x="7923240" y="4978440"/>
            <a:ext cx="272880" cy="235080"/>
          </a:xfrm>
          <a:prstGeom prst="hexagon">
            <a:avLst>
              <a:gd name="adj" fmla="val 2902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131"/>
          <p:cNvSpPr/>
          <p:nvPr/>
        </p:nvSpPr>
        <p:spPr>
          <a:xfrm>
            <a:off x="8134200" y="4856040"/>
            <a:ext cx="273240" cy="236520"/>
          </a:xfrm>
          <a:prstGeom prst="hexagon">
            <a:avLst>
              <a:gd name="adj" fmla="val 28881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32"/>
          <p:cNvSpPr/>
          <p:nvPr/>
        </p:nvSpPr>
        <p:spPr>
          <a:xfrm>
            <a:off x="8139240" y="5076720"/>
            <a:ext cx="271440" cy="236520"/>
          </a:xfrm>
          <a:prstGeom prst="hexagon">
            <a:avLst>
              <a:gd name="adj" fmla="val 28691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AutoShape 133"/>
          <p:cNvSpPr/>
          <p:nvPr/>
        </p:nvSpPr>
        <p:spPr>
          <a:xfrm>
            <a:off x="8354880" y="4956120"/>
            <a:ext cx="273240" cy="235080"/>
          </a:xfrm>
          <a:prstGeom prst="hexagon">
            <a:avLst>
              <a:gd name="adj" fmla="val 2905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34"/>
          <p:cNvSpPr/>
          <p:nvPr/>
        </p:nvSpPr>
        <p:spPr>
          <a:xfrm>
            <a:off x="8344080" y="5191200"/>
            <a:ext cx="272880" cy="23472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135"/>
          <p:cNvSpPr/>
          <p:nvPr/>
        </p:nvSpPr>
        <p:spPr>
          <a:xfrm>
            <a:off x="7927920" y="5192640"/>
            <a:ext cx="271440" cy="235080"/>
          </a:xfrm>
          <a:prstGeom prst="hexagon">
            <a:avLst>
              <a:gd name="adj" fmla="val 28867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136"/>
          <p:cNvSpPr/>
          <p:nvPr/>
        </p:nvSpPr>
        <p:spPr>
          <a:xfrm>
            <a:off x="8344080" y="4724280"/>
            <a:ext cx="272880" cy="235080"/>
          </a:xfrm>
          <a:prstGeom prst="hexagon">
            <a:avLst>
              <a:gd name="adj" fmla="val 29020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324000" y="4437000"/>
          <a:ext cx="6696000" cy="146376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现在，问；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、像上面那样铺地面，能否全用正五边形的材料，为什么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、你能不能另外想出一个用一种多边形（不一定是正多边形）的材料铺地的方案？把你想到的方案画成草图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、请你再画出一个用两种不同的正多边形铺地的草图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0" name="Rectangle 150"/>
          <p:cNvSpPr/>
          <p:nvPr/>
        </p:nvSpPr>
        <p:spPr>
          <a:xfrm>
            <a:off x="7308720" y="5157720"/>
            <a:ext cx="2890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52"/>
          <p:cNvGrpSpPr/>
          <p:nvPr/>
        </p:nvGrpSpPr>
        <p:grpSpPr>
          <a:xfrm>
            <a:off x="7020000" y="4869000"/>
            <a:ext cx="577800" cy="577800"/>
            <a:chOff x="7020000" y="4869000"/>
            <a:chExt cx="577800" cy="577800"/>
          </a:xfrm>
        </p:grpSpPr>
        <p:sp>
          <p:nvSpPr>
            <p:cNvPr id="1402" name="Rectangle 148"/>
            <p:cNvSpPr/>
            <p:nvPr/>
          </p:nvSpPr>
          <p:spPr>
            <a:xfrm>
              <a:off x="7020000" y="5157720"/>
              <a:ext cx="288720" cy="28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149"/>
            <p:cNvSpPr/>
            <p:nvPr/>
          </p:nvSpPr>
          <p:spPr>
            <a:xfrm>
              <a:off x="7020000" y="4869000"/>
              <a:ext cx="288720" cy="28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151"/>
            <p:cNvSpPr/>
            <p:nvPr/>
          </p:nvSpPr>
          <p:spPr>
            <a:xfrm>
              <a:off x="7308720" y="4869000"/>
              <a:ext cx="289080" cy="28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48:09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33Z</dcterms:modified>
  <cp:revision>49</cp:revision>
  <dc:subject>人教版七年级数学（下）全套课件</dc:subject>
  <dc:title>人教版七年级数学（下）全套课件</dc:title>
</cp:coreProperties>
</file>