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A89A-9056-4AF2-B3F2-3FAEEB775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6F7A-39B1-4787-B73E-D367558F1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让持不同意见的学生辩论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219-26B2-46AE-9C2B-9F6FE8CE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560-35B7-4788-838D-DFA0433F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958-974A-48DC-B582-4C267FF3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556-0E08-4624-9A6A-FC61549F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8280-65E7-4FFB-B497-D3744EFB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4C44-22DB-4024-ABA9-90B5429B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9F9B-BB7E-4553-81D7-5EC09A5A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08AB-161F-46D4-9FF5-E28B6239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FB45-D599-4BA6-83B9-D0452130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0FC4-EC00-468C-813E-0B91B28A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125A-B019-4290-9F40-F74EAA3F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46F-D15D-48F2-9680-419BD0E3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7168-B107-4FE4-A3FC-732BC221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CFBB-0A35-42AD-BD00-1F189198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C56E-9ABA-460C-8455-C0075E11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691A-B677-40BD-B1D8-FA1CAB10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9A7F-8A98-41B8-BCA9-94C843B3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0AC4-0283-471C-A9D7-0258ACD5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0816-F7A5-483A-AA21-D535582E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3CCD-A133-4105-99F3-7054E4CE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9D2B-5A23-4CA9-9B77-1C1BBDF6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F468-7725-42ED-A8B7-84C95945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5AB1-DB12-4B90-B9F0-3310CF68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8E51-2AF8-4F24-A23B-AD1014A1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E37E-C904-468F-B6E8-E62F1BA96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竹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竹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2938-1647-47FA-BEB8-17134B791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巴乌与葫芦丝-远方的客人请你留下来.wma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2484360" y="1413000"/>
            <a:ext cx="66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隶书"/>
              </a:rPr>
              <a:t>平行线的性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292720" y="2924280"/>
            <a:ext cx="36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泰顺八中    唐必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-168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2700360" y="57340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2465280" y="1530360"/>
            <a:ext cx="47527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  <a:ea typeface="隶书"/>
              </a:rPr>
              <a:t>“</a:t>
            </a:r>
            <a:r>
              <a:rPr b="0" lang="zh-CN" sz="4400" spc="-1" strike="noStrike">
                <a:solidFill>
                  <a:srgbClr val="a50021"/>
                </a:solidFill>
                <a:latin typeface="Arial"/>
                <a:ea typeface="隶书"/>
              </a:rPr>
              <a:t>同位角相等”这句话对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如果你认为是正确的请说明理由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如果你认为不正确，请举出一个例子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50920" y="517680"/>
            <a:ext cx="806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请你想一想，议一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24000" y="-83196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想一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议一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精品萨克斯 - 回家.mp3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树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谈收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18"/>
          <p:cNvSpPr txBox="1"/>
          <p:nvPr/>
        </p:nvSpPr>
        <p:spPr>
          <a:xfrm>
            <a:off x="900000" y="765000"/>
            <a:ext cx="754380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0">
                  <a:noFill/>
                </a:ln>
                <a:solidFill>
                  <a:srgbClr val="66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你有问题没解决吗？</a:t>
            </a:r>
            <a:endParaRPr b="0" lang="en-US" sz="6600" spc="1" strike="noStrike">
              <a:ln w="0">
                <a:noFill/>
              </a:ln>
              <a:solidFill>
                <a:srgbClr val="66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2.0)">
                                      <p:cBhvr>
                                        <p:cTn id="85" dur="1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BJ_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WordArt 6"/>
          <p:cNvSpPr txBox="1"/>
          <p:nvPr/>
        </p:nvSpPr>
        <p:spPr>
          <a:xfrm>
            <a:off x="608040" y="981000"/>
            <a:ext cx="7924680" cy="8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solidFill>
                  <a:srgbClr val="66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请跟你的同桌谈谈你的收获！</a:t>
            </a:r>
            <a:endParaRPr b="0" lang="en-US" sz="4800" spc="1" strike="noStrike">
              <a:ln w="0">
                <a:noFill/>
              </a:ln>
              <a:solidFill>
                <a:srgbClr val="66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母校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WordArt 5"/>
          <p:cNvSpPr txBox="1"/>
          <p:nvPr/>
        </p:nvSpPr>
        <p:spPr>
          <a:xfrm>
            <a:off x="1835280" y="1700280"/>
            <a:ext cx="475272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再见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再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900000" y="1263600"/>
            <a:ext cx="79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1)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用直尺和三角尺画出两条平行线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a∥b,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再画一条截线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使之与直线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a,b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相交，并标出所形成的八个角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39640" y="37296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我们一起来动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起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2049480" y="5157720"/>
            <a:ext cx="55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2)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测量上面八个角的大小，记录下来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1"/>
          <p:cNvGrpSpPr/>
          <p:nvPr/>
        </p:nvGrpSpPr>
        <p:grpSpPr>
          <a:xfrm>
            <a:off x="2033640" y="3141720"/>
            <a:ext cx="5099040" cy="1815840"/>
            <a:chOff x="2033640" y="3141720"/>
            <a:chExt cx="5099040" cy="1815840"/>
          </a:xfrm>
        </p:grpSpPr>
        <p:grpSp>
          <p:nvGrpSpPr>
            <p:cNvPr id="103" name="Group 7"/>
            <p:cNvGrpSpPr/>
            <p:nvPr/>
          </p:nvGrpSpPr>
          <p:grpSpPr>
            <a:xfrm>
              <a:off x="2484360" y="3429000"/>
              <a:ext cx="4648320" cy="1295280"/>
              <a:chOff x="2484360" y="3429000"/>
              <a:chExt cx="4648320" cy="1295280"/>
            </a:xfrm>
          </p:grpSpPr>
          <p:sp>
            <p:nvSpPr>
              <p:cNvPr id="104" name="Line 8"/>
              <p:cNvSpPr/>
              <p:nvPr/>
            </p:nvSpPr>
            <p:spPr>
              <a:xfrm>
                <a:off x="2484360" y="3429000"/>
                <a:ext cx="457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9"/>
              <p:cNvSpPr/>
              <p:nvPr/>
            </p:nvSpPr>
            <p:spPr>
              <a:xfrm>
                <a:off x="2527200" y="4724280"/>
                <a:ext cx="460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18"/>
            <p:cNvSpPr/>
            <p:nvPr/>
          </p:nvSpPr>
          <p:spPr>
            <a:xfrm>
              <a:off x="2033640" y="3141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9"/>
            <p:cNvSpPr/>
            <p:nvPr/>
          </p:nvSpPr>
          <p:spPr>
            <a:xfrm>
              <a:off x="2126160" y="44370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2"/>
          <p:cNvGrpSpPr/>
          <p:nvPr/>
        </p:nvGrpSpPr>
        <p:grpSpPr>
          <a:xfrm>
            <a:off x="3349800" y="2708280"/>
            <a:ext cx="1582560" cy="2519280"/>
            <a:chOff x="3349800" y="2708280"/>
            <a:chExt cx="1582560" cy="2519280"/>
          </a:xfrm>
        </p:grpSpPr>
        <p:sp>
          <p:nvSpPr>
            <p:cNvPr id="109" name="Line 10"/>
            <p:cNvSpPr/>
            <p:nvPr/>
          </p:nvSpPr>
          <p:spPr>
            <a:xfrm>
              <a:off x="3780000" y="3068640"/>
              <a:ext cx="1152360" cy="21589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0"/>
            <p:cNvSpPr/>
            <p:nvPr/>
          </p:nvSpPr>
          <p:spPr>
            <a:xfrm>
              <a:off x="3349800" y="2708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24"/>
          <p:cNvSpPr/>
          <p:nvPr/>
        </p:nvSpPr>
        <p:spPr>
          <a:xfrm>
            <a:off x="2247840" y="5823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隶书"/>
                <a:ea typeface="隶书"/>
              </a:rPr>
              <a:t>从中你能发现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4572000" y="260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105264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隶书"/>
                <a:ea typeface="隶书"/>
              </a:rPr>
              <a:t>    </a:t>
            </a:r>
            <a:r>
              <a:rPr b="0" lang="zh-CN" sz="4400" spc="-1" strike="noStrike">
                <a:solidFill>
                  <a:srgbClr val="009999"/>
                </a:solidFill>
                <a:latin typeface="隶书"/>
                <a:ea typeface="隶书"/>
              </a:rPr>
              <a:t>两条平行线被第三条直线所截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隶书"/>
                <a:ea typeface="隶书"/>
              </a:rPr>
              <a:t>  </a:t>
            </a:r>
            <a:r>
              <a:rPr b="0" lang="zh-CN" sz="4400" spc="-1" strike="noStrike">
                <a:solidFill>
                  <a:srgbClr val="009999"/>
                </a:solidFill>
                <a:latin typeface="隶书"/>
                <a:ea typeface="隶书"/>
              </a:rPr>
              <a:t>同位角相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隶书"/>
                <a:ea typeface="隶书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简单地说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4400" spc="-1" strike="noStrike">
                <a:solidFill>
                  <a:srgbClr val="a50021"/>
                </a:solidFill>
                <a:latin typeface="隶书"/>
                <a:ea typeface="隶书"/>
              </a:rPr>
              <a:t>两直线平行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隶书"/>
                <a:ea typeface="隶书"/>
              </a:rPr>
              <a:t>                </a:t>
            </a:r>
            <a:r>
              <a:rPr b="0" lang="zh-CN" sz="4400" spc="-1" strike="noStrike">
                <a:solidFill>
                  <a:srgbClr val="a50021"/>
                </a:solidFill>
                <a:latin typeface="隶书"/>
                <a:ea typeface="隶书"/>
              </a:rPr>
              <a:t>同位角相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40"/>
          <p:cNvGrpSpPr/>
          <p:nvPr/>
        </p:nvGrpSpPr>
        <p:grpSpPr>
          <a:xfrm>
            <a:off x="-20880" y="4005360"/>
            <a:ext cx="8793000" cy="2519280"/>
            <a:chOff x="-20880" y="4005360"/>
            <a:chExt cx="8793000" cy="2519280"/>
          </a:xfrm>
        </p:grpSpPr>
        <p:grpSp>
          <p:nvGrpSpPr>
            <p:cNvPr id="116" name="Group 37"/>
            <p:cNvGrpSpPr/>
            <p:nvPr/>
          </p:nvGrpSpPr>
          <p:grpSpPr>
            <a:xfrm>
              <a:off x="-20880" y="4005360"/>
              <a:ext cx="4879080" cy="2519280"/>
              <a:chOff x="-20880" y="4005360"/>
              <a:chExt cx="4879080" cy="2519280"/>
            </a:xfrm>
          </p:grpSpPr>
          <p:grpSp>
            <p:nvGrpSpPr>
              <p:cNvPr id="117" name="Group 36"/>
              <p:cNvGrpSpPr/>
              <p:nvPr/>
            </p:nvGrpSpPr>
            <p:grpSpPr>
              <a:xfrm>
                <a:off x="-20880" y="4005360"/>
                <a:ext cx="4879080" cy="2519280"/>
                <a:chOff x="-20880" y="4005360"/>
                <a:chExt cx="4879080" cy="2519280"/>
              </a:xfrm>
            </p:grpSpPr>
            <p:sp>
              <p:nvSpPr>
                <p:cNvPr id="118" name="Arc 10"/>
                <p:cNvSpPr/>
                <p:nvPr/>
              </p:nvSpPr>
              <p:spPr>
                <a:xfrm>
                  <a:off x="1692360" y="4508280"/>
                  <a:ext cx="142920" cy="382320"/>
                </a:xfrm>
                <a:custGeom>
                  <a:avLst/>
                  <a:gdLst>
                    <a:gd name="textAreaLeft" fmla="*/ 0 w 142920"/>
                    <a:gd name="textAreaRight" fmla="*/ 143280 w 142920"/>
                    <a:gd name="textAreaTop" fmla="*/ 0 h 382320"/>
                    <a:gd name="textAreaBottom" fmla="*/ 382680 h 382320"/>
                  </a:gdLst>
                  <a:ahLst/>
                  <a:rect l="textAreaLeft" t="textAreaTop" r="textAreaRight" b="textAreaBottom"/>
                  <a:pathLst>
                    <a:path fill="none" w="26130" h="43200">
                      <a:moveTo>
                        <a:pt x="4529" y="0"/>
                      </a:moveTo>
                      <a:cubicBezTo>
                        <a:pt x="16459" y="0"/>
                        <a:pt x="26130" y="9670"/>
                        <a:pt x="26130" y="21600"/>
                      </a:cubicBezTo>
                      <a:cubicBezTo>
                        <a:pt x="26130" y="-32007"/>
                        <a:pt x="16459" y="-22336"/>
                        <a:pt x="4530" y="-22336"/>
                      </a:cubicBezTo>
                      <a:cubicBezTo>
                        <a:pt x="3007" y="-22336"/>
                        <a:pt x="1488" y="-22498"/>
                        <a:pt x="0" y="-22817"/>
                      </a:cubicBezTo>
                    </a:path>
                    <a:path stroke="0" w="26130" h="43200">
                      <a:moveTo>
                        <a:pt x="4529" y="0"/>
                      </a:moveTo>
                      <a:cubicBezTo>
                        <a:pt x="16459" y="0"/>
                        <a:pt x="26130" y="9670"/>
                        <a:pt x="26130" y="21600"/>
                      </a:cubicBezTo>
                      <a:cubicBezTo>
                        <a:pt x="26130" y="-32007"/>
                        <a:pt x="16459" y="-22336"/>
                        <a:pt x="4530" y="-22336"/>
                      </a:cubicBezTo>
                      <a:cubicBezTo>
                        <a:pt x="3007" y="-22336"/>
                        <a:pt x="1488" y="-22498"/>
                        <a:pt x="0" y="-22817"/>
                      </a:cubicBezTo>
                      <a:lnTo>
                        <a:pt x="4530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Arc 12"/>
                <p:cNvSpPr/>
                <p:nvPr/>
              </p:nvSpPr>
              <p:spPr>
                <a:xfrm>
                  <a:off x="2411280" y="5854680"/>
                  <a:ext cx="142920" cy="381960"/>
                </a:xfrm>
                <a:custGeom>
                  <a:avLst/>
                  <a:gdLst>
                    <a:gd name="textAreaLeft" fmla="*/ 0 w 142920"/>
                    <a:gd name="textAreaRight" fmla="*/ 143280 w 142920"/>
                    <a:gd name="textAreaTop" fmla="*/ 0 h 381960"/>
                    <a:gd name="textAreaBottom" fmla="*/ 382320 h 381960"/>
                  </a:gdLst>
                  <a:ahLst/>
                  <a:rect l="textAreaLeft" t="textAreaTop" r="textAreaRight" b="textAreaBottom"/>
                  <a:pathLst>
                    <a:path fill="none" w="26130" h="43200">
                      <a:moveTo>
                        <a:pt x="4529" y="0"/>
                      </a:moveTo>
                      <a:cubicBezTo>
                        <a:pt x="16459" y="0"/>
                        <a:pt x="26130" y="9670"/>
                        <a:pt x="26130" y="21600"/>
                      </a:cubicBezTo>
                      <a:cubicBezTo>
                        <a:pt x="26130" y="-32007"/>
                        <a:pt x="16459" y="-22336"/>
                        <a:pt x="4530" y="-22336"/>
                      </a:cubicBezTo>
                      <a:cubicBezTo>
                        <a:pt x="3007" y="-22336"/>
                        <a:pt x="1488" y="-22498"/>
                        <a:pt x="0" y="-22817"/>
                      </a:cubicBezTo>
                    </a:path>
                    <a:path stroke="0" w="26130" h="43200">
                      <a:moveTo>
                        <a:pt x="4529" y="0"/>
                      </a:moveTo>
                      <a:cubicBezTo>
                        <a:pt x="16459" y="0"/>
                        <a:pt x="26130" y="9670"/>
                        <a:pt x="26130" y="21600"/>
                      </a:cubicBezTo>
                      <a:cubicBezTo>
                        <a:pt x="26130" y="-32007"/>
                        <a:pt x="16459" y="-22336"/>
                        <a:pt x="4530" y="-22336"/>
                      </a:cubicBezTo>
                      <a:cubicBezTo>
                        <a:pt x="3007" y="-22336"/>
                        <a:pt x="1488" y="-22498"/>
                        <a:pt x="0" y="-22817"/>
                      </a:cubicBezTo>
                      <a:lnTo>
                        <a:pt x="4530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" name="Group 5"/>
                <p:cNvGrpSpPr/>
                <p:nvPr/>
              </p:nvGrpSpPr>
              <p:grpSpPr>
                <a:xfrm>
                  <a:off x="412920" y="4508280"/>
                  <a:ext cx="4031640" cy="1295280"/>
                  <a:chOff x="412920" y="4508280"/>
                  <a:chExt cx="4031640" cy="1295280"/>
                </a:xfrm>
              </p:grpSpPr>
              <p:sp>
                <p:nvSpPr>
                  <p:cNvPr id="121" name="Line 6"/>
                  <p:cNvSpPr/>
                  <p:nvPr/>
                </p:nvSpPr>
                <p:spPr>
                  <a:xfrm>
                    <a:off x="412920" y="4508280"/>
                    <a:ext cx="39657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7"/>
                  <p:cNvSpPr/>
                  <p:nvPr/>
                </p:nvSpPr>
                <p:spPr>
                  <a:xfrm>
                    <a:off x="450000" y="5803560"/>
                    <a:ext cx="399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Line 8"/>
                <p:cNvSpPr/>
                <p:nvPr/>
              </p:nvSpPr>
              <p:spPr>
                <a:xfrm>
                  <a:off x="1131840" y="4005360"/>
                  <a:ext cx="1368360" cy="251928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Text Box 13"/>
                <p:cNvSpPr/>
                <p:nvPr/>
              </p:nvSpPr>
              <p:spPr>
                <a:xfrm>
                  <a:off x="10800" y="4135320"/>
                  <a:ext cx="455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隶书"/>
                      <a:ea typeface="隶书"/>
                    </a:rPr>
                    <a:t>A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Text Box 14"/>
                <p:cNvSpPr/>
                <p:nvPr/>
              </p:nvSpPr>
              <p:spPr>
                <a:xfrm>
                  <a:off x="4258800" y="4154400"/>
                  <a:ext cx="455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隶书"/>
                      <a:ea typeface="隶书"/>
                    </a:rPr>
                    <a:t>B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Text Box 15"/>
                <p:cNvSpPr/>
                <p:nvPr/>
              </p:nvSpPr>
              <p:spPr>
                <a:xfrm>
                  <a:off x="-20880" y="5445000"/>
                  <a:ext cx="455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隶书"/>
                      <a:ea typeface="隶书"/>
                    </a:rPr>
                    <a:t>C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Text Box 16"/>
                <p:cNvSpPr/>
                <p:nvPr/>
              </p:nvSpPr>
              <p:spPr>
                <a:xfrm>
                  <a:off x="4403160" y="5430600"/>
                  <a:ext cx="455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隶书"/>
                      <a:ea typeface="隶书"/>
                    </a:rPr>
                    <a:t>D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" name="Text Box 18"/>
              <p:cNvSpPr/>
              <p:nvPr/>
            </p:nvSpPr>
            <p:spPr>
              <a:xfrm>
                <a:off x="1819080" y="450828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9"/>
              <p:cNvSpPr/>
              <p:nvPr/>
            </p:nvSpPr>
            <p:spPr>
              <a:xfrm>
                <a:off x="2539800" y="580536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38"/>
            <p:cNvGrpSpPr/>
            <p:nvPr/>
          </p:nvGrpSpPr>
          <p:grpSpPr>
            <a:xfrm>
              <a:off x="4910760" y="4365720"/>
              <a:ext cx="3861360" cy="1392480"/>
              <a:chOff x="4910760" y="4365720"/>
              <a:chExt cx="3861360" cy="1392480"/>
            </a:xfrm>
          </p:grpSpPr>
          <p:sp>
            <p:nvSpPr>
              <p:cNvPr id="131" name="Rectangle 20"/>
              <p:cNvSpPr/>
              <p:nvPr/>
            </p:nvSpPr>
            <p:spPr>
              <a:xfrm>
                <a:off x="4910760" y="4365720"/>
                <a:ext cx="247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如图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AB//C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1"/>
              <p:cNvSpPr/>
              <p:nvPr/>
            </p:nvSpPr>
            <p:spPr>
              <a:xfrm>
                <a:off x="6153120" y="5176800"/>
                <a:ext cx="2619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⇒ </a:t>
                </a:r>
                <a:r>
                  <a:rPr b="1" lang="en-US" sz="3200" spc="-1" strike="noStrike">
                    <a:solidFill>
                      <a:srgbClr val="a50021"/>
                    </a:solidFill>
                    <a:latin typeface="隶书"/>
                    <a:ea typeface="隶书"/>
                  </a:rPr>
                  <a:t>∠</a:t>
                </a:r>
                <a:r>
                  <a:rPr b="1" lang="en-US" sz="3200" spc="-1" strike="noStrike">
                    <a:solidFill>
                      <a:srgbClr val="a50021"/>
                    </a:solidFill>
                    <a:latin typeface="隶书"/>
                    <a:ea typeface="隶书"/>
                  </a:rPr>
                  <a:t>1 = ∠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归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1"/>
          <p:cNvSpPr/>
          <p:nvPr/>
        </p:nvSpPr>
        <p:spPr>
          <a:xfrm>
            <a:off x="2411280" y="260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68360" y="62064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请你来说一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6920" y="16477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判定定理和性质定理有什么区别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681120" y="4005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同位角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2768760" y="4005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两直线平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6"/>
          <p:cNvSpPr/>
          <p:nvPr/>
        </p:nvSpPr>
        <p:spPr>
          <a:xfrm>
            <a:off x="4929120" y="4005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两直线平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7"/>
          <p:cNvSpPr/>
          <p:nvPr/>
        </p:nvSpPr>
        <p:spPr>
          <a:xfrm>
            <a:off x="7016760" y="4005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同位角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32"/>
          <p:cNvGrpSpPr/>
          <p:nvPr/>
        </p:nvGrpSpPr>
        <p:grpSpPr>
          <a:xfrm>
            <a:off x="250920" y="2276640"/>
            <a:ext cx="8642160" cy="2592360"/>
            <a:chOff x="250920" y="2276640"/>
            <a:chExt cx="8642160" cy="2592360"/>
          </a:xfrm>
        </p:grpSpPr>
        <p:sp>
          <p:nvSpPr>
            <p:cNvPr id="143" name="Text Box 14"/>
            <p:cNvSpPr/>
            <p:nvPr/>
          </p:nvSpPr>
          <p:spPr>
            <a:xfrm>
              <a:off x="755640" y="3116160"/>
              <a:ext cx="339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条件                   结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5"/>
            <p:cNvSpPr/>
            <p:nvPr/>
          </p:nvSpPr>
          <p:spPr>
            <a:xfrm>
              <a:off x="5062680" y="3116160"/>
              <a:ext cx="339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条件                   结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31"/>
            <p:cNvGrpSpPr/>
            <p:nvPr/>
          </p:nvGrpSpPr>
          <p:grpSpPr>
            <a:xfrm>
              <a:off x="250920" y="2276640"/>
              <a:ext cx="8642160" cy="2592360"/>
              <a:chOff x="250920" y="2276640"/>
              <a:chExt cx="8642160" cy="2592360"/>
            </a:xfrm>
          </p:grpSpPr>
          <p:sp>
            <p:nvSpPr>
              <p:cNvPr id="146" name="Text Box 9"/>
              <p:cNvSpPr/>
              <p:nvPr/>
            </p:nvSpPr>
            <p:spPr>
              <a:xfrm>
                <a:off x="1915200" y="2349360"/>
                <a:ext cx="127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判定定理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11"/>
              <p:cNvSpPr/>
              <p:nvPr/>
            </p:nvSpPr>
            <p:spPr>
              <a:xfrm>
                <a:off x="5947560" y="2276640"/>
                <a:ext cx="127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性质定理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Group 30"/>
              <p:cNvGrpSpPr/>
              <p:nvPr/>
            </p:nvGrpSpPr>
            <p:grpSpPr>
              <a:xfrm>
                <a:off x="250920" y="2421000"/>
                <a:ext cx="8642160" cy="2448000"/>
                <a:chOff x="250920" y="2421000"/>
                <a:chExt cx="8642160" cy="2448000"/>
              </a:xfrm>
            </p:grpSpPr>
            <p:sp>
              <p:nvSpPr>
                <p:cNvPr id="149" name="Line 13"/>
                <p:cNvSpPr/>
                <p:nvPr/>
              </p:nvSpPr>
              <p:spPr>
                <a:xfrm flipV="1">
                  <a:off x="250920" y="3644640"/>
                  <a:ext cx="8642160" cy="1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16"/>
                <p:cNvSpPr/>
                <p:nvPr/>
              </p:nvSpPr>
              <p:spPr>
                <a:xfrm flipH="1">
                  <a:off x="2340000" y="2924280"/>
                  <a:ext cx="7920" cy="19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8"/>
                <p:cNvSpPr/>
                <p:nvPr/>
              </p:nvSpPr>
              <p:spPr>
                <a:xfrm>
                  <a:off x="250920" y="2421000"/>
                  <a:ext cx="8642160" cy="244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9"/>
                <p:cNvSpPr/>
                <p:nvPr/>
              </p:nvSpPr>
              <p:spPr>
                <a:xfrm>
                  <a:off x="4500720" y="2421000"/>
                  <a:ext cx="0" cy="244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20"/>
                <p:cNvSpPr/>
                <p:nvPr/>
              </p:nvSpPr>
              <p:spPr>
                <a:xfrm>
                  <a:off x="6588000" y="2924280"/>
                  <a:ext cx="0" cy="19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28"/>
                <p:cNvSpPr/>
                <p:nvPr/>
              </p:nvSpPr>
              <p:spPr>
                <a:xfrm>
                  <a:off x="250920" y="2924280"/>
                  <a:ext cx="864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3219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由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”定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2703960" y="1746360"/>
            <a:ext cx="3746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由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”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位置关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（平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定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角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”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数量关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（相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1341000" y="39402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由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”定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2683440" y="4581360"/>
            <a:ext cx="3746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由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角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”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数量关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（相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定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”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位置关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（平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847080" y="4446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性质定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920160" y="3213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判定定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95280" y="549360"/>
            <a:ext cx="398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请你做一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755640" y="1413000"/>
            <a:ext cx="838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如图梯子的各条横档互相平行，</a:t>
            </a:r>
            <a:br>
              <a:rPr sz="4400"/>
            </a:br>
            <a:r>
              <a:rPr b="1" lang="zh-CN" sz="4400" spc="-1" strike="noStrike">
                <a:solidFill>
                  <a:srgbClr val="0000cc"/>
                </a:solidFill>
                <a:latin typeface="隶书"/>
                <a:ea typeface="隶书"/>
              </a:rPr>
              <a:t>∠</a:t>
            </a:r>
            <a:r>
              <a:rPr b="1" lang="en-US" sz="4400" spc="-1" strike="noStrike">
                <a:solidFill>
                  <a:srgbClr val="0000cc"/>
                </a:solidFill>
                <a:latin typeface="隶书"/>
                <a:ea typeface="隶书"/>
              </a:rPr>
              <a:t>1=100°</a:t>
            </a:r>
            <a:r>
              <a:rPr b="1" lang="zh-CN" sz="4400" spc="-1" strike="noStrike">
                <a:solidFill>
                  <a:srgbClr val="0000cc"/>
                </a:solidFill>
                <a:latin typeface="隶书"/>
                <a:ea typeface="隶书"/>
              </a:rPr>
              <a:t>求∠</a:t>
            </a:r>
            <a:r>
              <a:rPr b="1" lang="en-US" sz="4400" spc="-1" strike="noStrike">
                <a:solidFill>
                  <a:srgbClr val="0000cc"/>
                </a:solidFill>
                <a:latin typeface="隶书"/>
                <a:ea typeface="隶书"/>
              </a:rPr>
              <a:t>2</a:t>
            </a:r>
            <a:r>
              <a:rPr b="0" lang="en-US" sz="4400" spc="-1" strike="noStrike">
                <a:solidFill>
                  <a:srgbClr val="000099"/>
                </a:solidFill>
                <a:latin typeface="隶书"/>
                <a:ea typeface="隶书"/>
              </a:rPr>
              <a:t> </a:t>
            </a:r>
            <a:r>
              <a:rPr b="0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的度数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6"/>
          <p:cNvGrpSpPr/>
          <p:nvPr/>
        </p:nvGrpSpPr>
        <p:grpSpPr>
          <a:xfrm>
            <a:off x="5866920" y="3068640"/>
            <a:ext cx="2465280" cy="3311640"/>
            <a:chOff x="5866920" y="3068640"/>
            <a:chExt cx="2465280" cy="3311640"/>
          </a:xfrm>
        </p:grpSpPr>
        <p:grpSp>
          <p:nvGrpSpPr>
            <p:cNvPr id="168" name="Group 18"/>
            <p:cNvGrpSpPr/>
            <p:nvPr/>
          </p:nvGrpSpPr>
          <p:grpSpPr>
            <a:xfrm>
              <a:off x="6316200" y="3068640"/>
              <a:ext cx="1656000" cy="3311640"/>
              <a:chOff x="6316200" y="3068640"/>
              <a:chExt cx="1656000" cy="3311640"/>
            </a:xfrm>
          </p:grpSpPr>
          <p:grpSp>
            <p:nvGrpSpPr>
              <p:cNvPr id="169" name="Group 14"/>
              <p:cNvGrpSpPr/>
              <p:nvPr/>
            </p:nvGrpSpPr>
            <p:grpSpPr>
              <a:xfrm>
                <a:off x="6316200" y="3068640"/>
                <a:ext cx="1656000" cy="3311640"/>
                <a:chOff x="6316200" y="3068640"/>
                <a:chExt cx="1656000" cy="3311640"/>
              </a:xfrm>
            </p:grpSpPr>
            <p:sp>
              <p:nvSpPr>
                <p:cNvPr id="170" name="Line 7"/>
                <p:cNvSpPr/>
                <p:nvPr/>
              </p:nvSpPr>
              <p:spPr>
                <a:xfrm flipH="1">
                  <a:off x="6316200" y="3068640"/>
                  <a:ext cx="215640" cy="3311640"/>
                </a:xfrm>
                <a:prstGeom prst="line">
                  <a:avLst/>
                </a:prstGeom>
                <a:ln w="7632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Line 8"/>
                <p:cNvSpPr/>
                <p:nvPr/>
              </p:nvSpPr>
              <p:spPr>
                <a:xfrm>
                  <a:off x="7397640" y="3068640"/>
                  <a:ext cx="574560" cy="3311640"/>
                </a:xfrm>
                <a:prstGeom prst="line">
                  <a:avLst/>
                </a:prstGeom>
                <a:ln w="7632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9"/>
                <p:cNvSpPr/>
                <p:nvPr/>
              </p:nvSpPr>
              <p:spPr>
                <a:xfrm>
                  <a:off x="6532200" y="3571920"/>
                  <a:ext cx="936720" cy="0"/>
                </a:xfrm>
                <a:prstGeom prst="line">
                  <a:avLst/>
                </a:prstGeom>
                <a:ln w="7632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Line 10"/>
                <p:cNvSpPr/>
                <p:nvPr/>
              </p:nvSpPr>
              <p:spPr>
                <a:xfrm>
                  <a:off x="6460920" y="4148280"/>
                  <a:ext cx="1079640" cy="0"/>
                </a:xfrm>
                <a:prstGeom prst="line">
                  <a:avLst/>
                </a:prstGeom>
                <a:ln w="7632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11"/>
                <p:cNvSpPr/>
                <p:nvPr/>
              </p:nvSpPr>
              <p:spPr>
                <a:xfrm>
                  <a:off x="6387840" y="4724640"/>
                  <a:ext cx="1297080" cy="0"/>
                </a:xfrm>
                <a:prstGeom prst="line">
                  <a:avLst/>
                </a:prstGeom>
                <a:ln w="7632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12"/>
                <p:cNvSpPr/>
                <p:nvPr/>
              </p:nvSpPr>
              <p:spPr>
                <a:xfrm>
                  <a:off x="6387840" y="5300640"/>
                  <a:ext cx="1368360" cy="0"/>
                </a:xfrm>
                <a:prstGeom prst="line">
                  <a:avLst/>
                </a:prstGeom>
                <a:ln w="7632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13"/>
                <p:cNvSpPr/>
                <p:nvPr/>
              </p:nvSpPr>
              <p:spPr>
                <a:xfrm>
                  <a:off x="6316560" y="5877000"/>
                  <a:ext cx="1584360" cy="0"/>
                </a:xfrm>
                <a:prstGeom prst="line">
                  <a:avLst/>
                </a:prstGeom>
                <a:ln w="7632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Arc 15"/>
              <p:cNvSpPr/>
              <p:nvPr/>
            </p:nvSpPr>
            <p:spPr>
              <a:xfrm>
                <a:off x="6387840" y="5156280"/>
                <a:ext cx="144360" cy="2890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289080"/>
                  <a:gd name="textAreaBottom" fmla="*/ 289080 h 289080"/>
                </a:gdLst>
                <a:ahLst/>
                <a:rect l="textAreaLeft" t="textAreaTop" r="textAreaRight" b="textAreaBottom"/>
                <a:pathLst>
                  <a:path fill="none" w="26130" h="43200">
                    <a:moveTo>
                      <a:pt x="4529" y="0"/>
                    </a:moveTo>
                    <a:cubicBezTo>
                      <a:pt x="16459" y="0"/>
                      <a:pt x="26130" y="9670"/>
                      <a:pt x="26130" y="21600"/>
                    </a:cubicBezTo>
                    <a:cubicBezTo>
                      <a:pt x="26130" y="-32007"/>
                      <a:pt x="16459" y="-22336"/>
                      <a:pt x="4530" y="-22336"/>
                    </a:cubicBezTo>
                    <a:cubicBezTo>
                      <a:pt x="3007" y="-22336"/>
                      <a:pt x="1488" y="-22498"/>
                      <a:pt x="0" y="-22817"/>
                    </a:cubicBezTo>
                  </a:path>
                  <a:path stroke="0" w="26130" h="43200">
                    <a:moveTo>
                      <a:pt x="4529" y="0"/>
                    </a:moveTo>
                    <a:cubicBezTo>
                      <a:pt x="16459" y="0"/>
                      <a:pt x="26130" y="9670"/>
                      <a:pt x="26130" y="21600"/>
                    </a:cubicBezTo>
                    <a:cubicBezTo>
                      <a:pt x="26130" y="-32007"/>
                      <a:pt x="16459" y="-22336"/>
                      <a:pt x="4530" y="-22336"/>
                    </a:cubicBezTo>
                    <a:cubicBezTo>
                      <a:pt x="3007" y="-22336"/>
                      <a:pt x="1488" y="-22498"/>
                      <a:pt x="0" y="-22817"/>
                    </a:cubicBezTo>
                    <a:lnTo>
                      <a:pt x="4530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Arc 17"/>
              <p:cNvSpPr/>
              <p:nvPr/>
            </p:nvSpPr>
            <p:spPr>
              <a:xfrm>
                <a:off x="6387840" y="5877000"/>
                <a:ext cx="144360" cy="21600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fill="none" w="33118" h="42647">
                    <a:moveTo>
                      <a:pt x="16374" y="0"/>
                    </a:moveTo>
                    <a:cubicBezTo>
                      <a:pt x="26175" y="2261"/>
                      <a:pt x="-32418" y="10988"/>
                      <a:pt x="-32418" y="21047"/>
                    </a:cubicBezTo>
                    <a:cubicBezTo>
                      <a:pt x="-32418" y="-32560"/>
                      <a:pt x="23447" y="-22889"/>
                      <a:pt x="11518" y="-22889"/>
                    </a:cubicBezTo>
                    <a:cubicBezTo>
                      <a:pt x="7441" y="-22889"/>
                      <a:pt x="3448" y="-24043"/>
                      <a:pt x="0" y="-26217"/>
                    </a:cubicBezTo>
                  </a:path>
                  <a:path stroke="0" w="33118" h="42647">
                    <a:moveTo>
                      <a:pt x="16374" y="0"/>
                    </a:moveTo>
                    <a:cubicBezTo>
                      <a:pt x="26175" y="2261"/>
                      <a:pt x="-32418" y="10988"/>
                      <a:pt x="-32418" y="21047"/>
                    </a:cubicBezTo>
                    <a:cubicBezTo>
                      <a:pt x="-32418" y="-32560"/>
                      <a:pt x="23447" y="-22889"/>
                      <a:pt x="11518" y="-22889"/>
                    </a:cubicBezTo>
                    <a:cubicBezTo>
                      <a:pt x="7441" y="-22889"/>
                      <a:pt x="3448" y="-24043"/>
                      <a:pt x="0" y="-26217"/>
                    </a:cubicBezTo>
                    <a:lnTo>
                      <a:pt x="11518" y="21047"/>
                    </a:lnTo>
                    <a:close/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 Box 19"/>
            <p:cNvSpPr/>
            <p:nvPr/>
          </p:nvSpPr>
          <p:spPr>
            <a:xfrm>
              <a:off x="6501600" y="5856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0"/>
            <p:cNvSpPr/>
            <p:nvPr/>
          </p:nvSpPr>
          <p:spPr>
            <a:xfrm>
              <a:off x="6499440" y="4940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1"/>
            <p:cNvSpPr/>
            <p:nvPr/>
          </p:nvSpPr>
          <p:spPr>
            <a:xfrm>
              <a:off x="6501600" y="5281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22"/>
            <p:cNvSpPr/>
            <p:nvPr/>
          </p:nvSpPr>
          <p:spPr>
            <a:xfrm>
              <a:off x="5866920" y="5032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23"/>
            <p:cNvSpPr/>
            <p:nvPr/>
          </p:nvSpPr>
          <p:spPr>
            <a:xfrm>
              <a:off x="7864920" y="4997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4"/>
            <p:cNvSpPr/>
            <p:nvPr/>
          </p:nvSpPr>
          <p:spPr>
            <a:xfrm>
              <a:off x="5869440" y="56088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5"/>
            <p:cNvSpPr/>
            <p:nvPr/>
          </p:nvSpPr>
          <p:spPr>
            <a:xfrm>
              <a:off x="7938000" y="5573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做一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5"/>
          <p:cNvGrpSpPr/>
          <p:nvPr/>
        </p:nvGrpSpPr>
        <p:grpSpPr>
          <a:xfrm>
            <a:off x="4500720" y="2287440"/>
            <a:ext cx="4806360" cy="2438280"/>
            <a:chOff x="4500720" y="2287440"/>
            <a:chExt cx="4806360" cy="2438280"/>
          </a:xfrm>
        </p:grpSpPr>
        <p:grpSp>
          <p:nvGrpSpPr>
            <p:cNvPr id="189" name="Group 19"/>
            <p:cNvGrpSpPr/>
            <p:nvPr/>
          </p:nvGrpSpPr>
          <p:grpSpPr>
            <a:xfrm>
              <a:off x="4500720" y="2287440"/>
              <a:ext cx="4806360" cy="2438280"/>
              <a:chOff x="4500720" y="2287440"/>
              <a:chExt cx="4806360" cy="2438280"/>
            </a:xfrm>
          </p:grpSpPr>
          <p:sp>
            <p:nvSpPr>
              <p:cNvPr id="190" name="Text Box 5"/>
              <p:cNvSpPr/>
              <p:nvPr/>
            </p:nvSpPr>
            <p:spPr>
              <a:xfrm>
                <a:off x="7088040" y="287316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" name="Group 7"/>
              <p:cNvGrpSpPr/>
              <p:nvPr/>
            </p:nvGrpSpPr>
            <p:grpSpPr>
              <a:xfrm>
                <a:off x="4957560" y="2529000"/>
                <a:ext cx="3276360" cy="1218960"/>
                <a:chOff x="4957560" y="2529000"/>
                <a:chExt cx="3276360" cy="1218960"/>
              </a:xfrm>
            </p:grpSpPr>
            <p:sp>
              <p:nvSpPr>
                <p:cNvPr id="192" name="Line 8"/>
                <p:cNvSpPr/>
                <p:nvPr/>
              </p:nvSpPr>
              <p:spPr>
                <a:xfrm>
                  <a:off x="4957560" y="3747960"/>
                  <a:ext cx="327636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9"/>
                <p:cNvSpPr/>
                <p:nvPr/>
              </p:nvSpPr>
              <p:spPr>
                <a:xfrm flipV="1">
                  <a:off x="4957560" y="2529000"/>
                  <a:ext cx="1523880" cy="12189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Group 10"/>
              <p:cNvGrpSpPr/>
              <p:nvPr/>
            </p:nvGrpSpPr>
            <p:grpSpPr>
              <a:xfrm>
                <a:off x="5533920" y="3247560"/>
                <a:ext cx="3276000" cy="1219680"/>
                <a:chOff x="5533920" y="3247560"/>
                <a:chExt cx="3276000" cy="1219680"/>
              </a:xfrm>
            </p:grpSpPr>
            <p:sp>
              <p:nvSpPr>
                <p:cNvPr id="195" name="Line 11"/>
                <p:cNvSpPr/>
                <p:nvPr/>
              </p:nvSpPr>
              <p:spPr>
                <a:xfrm>
                  <a:off x="5533920" y="4467240"/>
                  <a:ext cx="32760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12"/>
                <p:cNvSpPr/>
                <p:nvPr/>
              </p:nvSpPr>
              <p:spPr>
                <a:xfrm flipV="1">
                  <a:off x="5533920" y="3247560"/>
                  <a:ext cx="1523520" cy="12193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Text Box 13"/>
              <p:cNvSpPr/>
              <p:nvPr/>
            </p:nvSpPr>
            <p:spPr>
              <a:xfrm>
                <a:off x="4500720" y="34434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14"/>
              <p:cNvSpPr/>
              <p:nvPr/>
            </p:nvSpPr>
            <p:spPr>
              <a:xfrm>
                <a:off x="8270640" y="346536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15"/>
              <p:cNvSpPr/>
              <p:nvPr/>
            </p:nvSpPr>
            <p:spPr>
              <a:xfrm>
                <a:off x="5033880" y="420516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16"/>
              <p:cNvSpPr/>
              <p:nvPr/>
            </p:nvSpPr>
            <p:spPr>
              <a:xfrm>
                <a:off x="8773920" y="418464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17"/>
              <p:cNvSpPr/>
              <p:nvPr/>
            </p:nvSpPr>
            <p:spPr>
              <a:xfrm>
                <a:off x="6511680" y="22874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18"/>
              <p:cNvSpPr/>
              <p:nvPr/>
            </p:nvSpPr>
            <p:spPr>
              <a:xfrm>
                <a:off x="6397560" y="375264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rc 20"/>
            <p:cNvSpPr/>
            <p:nvPr/>
          </p:nvSpPr>
          <p:spPr>
            <a:xfrm>
              <a:off x="6607080" y="3582720"/>
              <a:ext cx="215640" cy="4316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fill="none" w="17836" h="21047">
                  <a:moveTo>
                    <a:pt x="4856" y="0"/>
                  </a:moveTo>
                  <a:cubicBezTo>
                    <a:pt x="10142" y="1219"/>
                    <a:pt x="14776" y="4384"/>
                    <a:pt x="17836" y="8863"/>
                  </a:cubicBezTo>
                </a:path>
                <a:path stroke="0" w="17836" h="21047">
                  <a:moveTo>
                    <a:pt x="4856" y="0"/>
                  </a:moveTo>
                  <a:cubicBezTo>
                    <a:pt x="10142" y="1219"/>
                    <a:pt x="14776" y="4384"/>
                    <a:pt x="17836" y="8863"/>
                  </a:cubicBezTo>
                  <a:lnTo>
                    <a:pt x="0" y="21047"/>
                  </a:lnTo>
                  <a:close/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1"/>
            <p:cNvSpPr/>
            <p:nvPr/>
          </p:nvSpPr>
          <p:spPr>
            <a:xfrm>
              <a:off x="6810120" y="33494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22"/>
          <p:cNvSpPr/>
          <p:nvPr/>
        </p:nvSpPr>
        <p:spPr>
          <a:xfrm>
            <a:off x="324000" y="404640"/>
            <a:ext cx="513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请你练一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4"/>
          <p:cNvSpPr/>
          <p:nvPr/>
        </p:nvSpPr>
        <p:spPr>
          <a:xfrm>
            <a:off x="790920" y="1125360"/>
            <a:ext cx="64587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如图，已知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AE//CF</a:t>
            </a: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，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AB//CD</a:t>
            </a: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∠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A</a:t>
            </a: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＝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40</a:t>
            </a:r>
            <a:r>
              <a:rPr b="1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，求∠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C</a:t>
            </a: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的度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41"/>
          <p:cNvGrpSpPr/>
          <p:nvPr/>
        </p:nvGrpSpPr>
        <p:grpSpPr>
          <a:xfrm>
            <a:off x="34920" y="2706840"/>
            <a:ext cx="6760440" cy="3892320"/>
            <a:chOff x="34920" y="2706840"/>
            <a:chExt cx="6760440" cy="3892320"/>
          </a:xfrm>
        </p:grpSpPr>
        <p:sp>
          <p:nvSpPr>
            <p:cNvPr id="208" name="Text Box 26"/>
            <p:cNvSpPr/>
            <p:nvPr/>
          </p:nvSpPr>
          <p:spPr>
            <a:xfrm>
              <a:off x="34920" y="2706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解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7"/>
            <p:cNvSpPr/>
            <p:nvPr/>
          </p:nvSpPr>
          <p:spPr>
            <a:xfrm>
              <a:off x="943560" y="2838600"/>
              <a:ext cx="252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∵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E//CF(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已知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8"/>
            <p:cNvSpPr/>
            <p:nvPr/>
          </p:nvSpPr>
          <p:spPr>
            <a:xfrm>
              <a:off x="923040" y="3343320"/>
              <a:ext cx="182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∴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=∠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1"/>
            <p:cNvSpPr/>
            <p:nvPr/>
          </p:nvSpPr>
          <p:spPr>
            <a:xfrm>
              <a:off x="1304280" y="3702240"/>
              <a:ext cx="299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两直线平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同位角相等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2"/>
            <p:cNvSpPr/>
            <p:nvPr/>
          </p:nvSpPr>
          <p:spPr>
            <a:xfrm>
              <a:off x="635760" y="414972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又∵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B//CD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已知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3"/>
            <p:cNvSpPr/>
            <p:nvPr/>
          </p:nvSpPr>
          <p:spPr>
            <a:xfrm>
              <a:off x="921600" y="4653000"/>
              <a:ext cx="182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∴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=∠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34"/>
            <p:cNvSpPr/>
            <p:nvPr/>
          </p:nvSpPr>
          <p:spPr>
            <a:xfrm>
              <a:off x="3363120" y="4638960"/>
              <a:ext cx="343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两直线平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同位角相等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36"/>
            <p:cNvSpPr/>
            <p:nvPr/>
          </p:nvSpPr>
          <p:spPr>
            <a:xfrm>
              <a:off x="923400" y="5143680"/>
              <a:ext cx="188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∴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=∠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37"/>
            <p:cNvSpPr/>
            <p:nvPr/>
          </p:nvSpPr>
          <p:spPr>
            <a:xfrm>
              <a:off x="3263040" y="5086440"/>
              <a:ext cx="144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等量代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38"/>
            <p:cNvSpPr/>
            <p:nvPr/>
          </p:nvSpPr>
          <p:spPr>
            <a:xfrm>
              <a:off x="915120" y="5575320"/>
              <a:ext cx="197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∵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39"/>
            <p:cNvSpPr/>
            <p:nvPr/>
          </p:nvSpPr>
          <p:spPr>
            <a:xfrm>
              <a:off x="915120" y="6078600"/>
              <a:ext cx="197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∴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∠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942840" y="1341360"/>
            <a:ext cx="7950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如图，已知∠</a:t>
            </a: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1= ∠2.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若直线</a:t>
            </a: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b⊥m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则直线</a:t>
            </a: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a⊥m.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请说明理由</a:t>
            </a: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230480" y="4046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请你来探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2"/>
          <p:cNvGrpSpPr/>
          <p:nvPr/>
        </p:nvGrpSpPr>
        <p:grpSpPr>
          <a:xfrm>
            <a:off x="4813200" y="2565360"/>
            <a:ext cx="4438800" cy="4200480"/>
            <a:chOff x="4813200" y="2565360"/>
            <a:chExt cx="4438800" cy="4200480"/>
          </a:xfrm>
        </p:grpSpPr>
        <p:grpSp>
          <p:nvGrpSpPr>
            <p:cNvPr id="224" name="Group 27"/>
            <p:cNvGrpSpPr/>
            <p:nvPr/>
          </p:nvGrpSpPr>
          <p:grpSpPr>
            <a:xfrm>
              <a:off x="4813200" y="2565360"/>
              <a:ext cx="4438800" cy="4200480"/>
              <a:chOff x="4813200" y="2565360"/>
              <a:chExt cx="4438800" cy="4200480"/>
            </a:xfrm>
          </p:grpSpPr>
          <p:grpSp>
            <p:nvGrpSpPr>
              <p:cNvPr id="225" name="Group 9"/>
              <p:cNvGrpSpPr/>
              <p:nvPr/>
            </p:nvGrpSpPr>
            <p:grpSpPr>
              <a:xfrm>
                <a:off x="4813200" y="2565360"/>
                <a:ext cx="4438800" cy="4200480"/>
                <a:chOff x="4813200" y="2565360"/>
                <a:chExt cx="4438800" cy="4200480"/>
              </a:xfrm>
            </p:grpSpPr>
            <p:sp>
              <p:nvSpPr>
                <p:cNvPr id="226" name="AutoShape 8"/>
                <p:cNvSpPr/>
                <p:nvPr/>
              </p:nvSpPr>
              <p:spPr>
                <a:xfrm>
                  <a:off x="4813200" y="2565360"/>
                  <a:ext cx="4438800" cy="420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10"/>
                <p:cNvSpPr/>
                <p:nvPr/>
              </p:nvSpPr>
              <p:spPr>
                <a:xfrm>
                  <a:off x="5043600" y="3924360"/>
                  <a:ext cx="3537000" cy="1440"/>
                </a:xfrm>
                <a:prstGeom prst="line">
                  <a:avLst/>
                </a:prstGeom>
                <a:ln w="52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Rectangle 11"/>
                <p:cNvSpPr/>
                <p:nvPr/>
              </p:nvSpPr>
              <p:spPr>
                <a:xfrm>
                  <a:off x="8704080" y="3571920"/>
                  <a:ext cx="234000" cy="50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3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Line 12"/>
                <p:cNvSpPr/>
                <p:nvPr/>
              </p:nvSpPr>
              <p:spPr>
                <a:xfrm>
                  <a:off x="5025960" y="5495760"/>
                  <a:ext cx="3537000" cy="1800"/>
                </a:xfrm>
                <a:prstGeom prst="line">
                  <a:avLst/>
                </a:prstGeom>
                <a:ln w="52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Rectangle 13"/>
                <p:cNvSpPr/>
                <p:nvPr/>
              </p:nvSpPr>
              <p:spPr>
                <a:xfrm>
                  <a:off x="8704080" y="5583240"/>
                  <a:ext cx="256680" cy="50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3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14"/>
                <p:cNvSpPr/>
                <p:nvPr/>
              </p:nvSpPr>
              <p:spPr>
                <a:xfrm>
                  <a:off x="8013600" y="3165480"/>
                  <a:ext cx="1800" cy="3211560"/>
                </a:xfrm>
                <a:prstGeom prst="line">
                  <a:avLst/>
                </a:prstGeom>
                <a:ln w="52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15"/>
                <p:cNvSpPr/>
                <p:nvPr/>
              </p:nvSpPr>
              <p:spPr>
                <a:xfrm>
                  <a:off x="8154720" y="3076560"/>
                  <a:ext cx="374040" cy="50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3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6"/>
                <p:cNvSpPr/>
                <p:nvPr/>
              </p:nvSpPr>
              <p:spPr>
                <a:xfrm>
                  <a:off x="5715000" y="2954160"/>
                  <a:ext cx="973080" cy="3600720"/>
                </a:xfrm>
                <a:prstGeom prst="line">
                  <a:avLst/>
                </a:prstGeom>
                <a:ln w="52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17"/>
                <p:cNvSpPr/>
                <p:nvPr/>
              </p:nvSpPr>
              <p:spPr>
                <a:xfrm>
                  <a:off x="5856120" y="2741400"/>
                  <a:ext cx="256680" cy="50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3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Arc 19"/>
              <p:cNvSpPr/>
              <p:nvPr/>
            </p:nvSpPr>
            <p:spPr>
              <a:xfrm flipH="1">
                <a:off x="5758920" y="3695760"/>
                <a:ext cx="144360" cy="217440"/>
              </a:xfrm>
              <a:custGeom>
                <a:avLst/>
                <a:gdLst>
                  <a:gd name="textAreaLeft" fmla="*/ 0 w 144360"/>
                  <a:gd name="textAreaRight" fmla="*/ 144360 w 14436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fill="none" w="21600" h="2475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2655"/>
                      <a:pt x="21522" y="23710"/>
                      <a:pt x="21368" y="24755"/>
                    </a:cubicBezTo>
                  </a:path>
                  <a:path stroke="0" w="21600" h="2475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2655"/>
                      <a:pt x="21522" y="23710"/>
                      <a:pt x="21368" y="24755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Arc 20"/>
              <p:cNvSpPr/>
              <p:nvPr/>
            </p:nvSpPr>
            <p:spPr>
              <a:xfrm flipH="1">
                <a:off x="6192720" y="5281560"/>
                <a:ext cx="144720" cy="217440"/>
              </a:xfrm>
              <a:custGeom>
                <a:avLst/>
                <a:gdLst>
                  <a:gd name="textAreaLeft" fmla="*/ 360 w 144720"/>
                  <a:gd name="textAreaRight" fmla="*/ 145440 w 14472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fill="none" w="21600" h="2475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2655"/>
                      <a:pt x="21522" y="23710"/>
                      <a:pt x="21368" y="24755"/>
                    </a:cubicBezTo>
                  </a:path>
                  <a:path stroke="0" w="21600" h="2475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2655"/>
                      <a:pt x="21522" y="23710"/>
                      <a:pt x="21368" y="24755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Arc 24"/>
              <p:cNvSpPr/>
              <p:nvPr/>
            </p:nvSpPr>
            <p:spPr>
              <a:xfrm flipH="1">
                <a:off x="7776360" y="5281560"/>
                <a:ext cx="212760" cy="217440"/>
              </a:xfrm>
              <a:custGeom>
                <a:avLst/>
                <a:gdLst>
                  <a:gd name="textAreaLeft" fmla="*/ -360 w 212760"/>
                  <a:gd name="textAreaRight" fmla="*/ 212760 w 21276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fill="none" w="31776" h="24755">
                    <a:moveTo>
                      <a:pt x="0" y="2547"/>
                    </a:moveTo>
                    <a:cubicBezTo>
                      <a:pt x="3131" y="874"/>
                      <a:pt x="6626" y="-1"/>
                      <a:pt x="10176" y="0"/>
                    </a:cubicBezTo>
                    <a:cubicBezTo>
                      <a:pt x="22105" y="0"/>
                      <a:pt x="31776" y="9670"/>
                      <a:pt x="31776" y="21600"/>
                    </a:cubicBezTo>
                    <a:cubicBezTo>
                      <a:pt x="31776" y="22655"/>
                      <a:pt x="31698" y="23710"/>
                      <a:pt x="31544" y="24755"/>
                    </a:cubicBezTo>
                  </a:path>
                  <a:path stroke="0" w="31776" h="24755">
                    <a:moveTo>
                      <a:pt x="0" y="2547"/>
                    </a:moveTo>
                    <a:cubicBezTo>
                      <a:pt x="3131" y="874"/>
                      <a:pt x="6626" y="-1"/>
                      <a:pt x="10176" y="0"/>
                    </a:cubicBezTo>
                    <a:cubicBezTo>
                      <a:pt x="22105" y="0"/>
                      <a:pt x="31776" y="9670"/>
                      <a:pt x="31776" y="21600"/>
                    </a:cubicBezTo>
                    <a:cubicBezTo>
                      <a:pt x="31776" y="22655"/>
                      <a:pt x="31698" y="23710"/>
                      <a:pt x="31544" y="24755"/>
                    </a:cubicBezTo>
                    <a:lnTo>
                      <a:pt x="10176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rc 25"/>
              <p:cNvSpPr/>
              <p:nvPr/>
            </p:nvSpPr>
            <p:spPr>
              <a:xfrm flipH="1">
                <a:off x="7774920" y="3697200"/>
                <a:ext cx="220680" cy="217440"/>
              </a:xfrm>
              <a:custGeom>
                <a:avLst/>
                <a:gdLst>
                  <a:gd name="textAreaLeft" fmla="*/ -360 w 220680"/>
                  <a:gd name="textAreaRight" fmla="*/ 220680 w 22068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fill="none" w="32921" h="24755">
                    <a:moveTo>
                      <a:pt x="0" y="3204"/>
                    </a:moveTo>
                    <a:cubicBezTo>
                      <a:pt x="3404" y="1109"/>
                      <a:pt x="7323" y="-1"/>
                      <a:pt x="11321" y="0"/>
                    </a:cubicBezTo>
                    <a:cubicBezTo>
                      <a:pt x="23250" y="0"/>
                      <a:pt x="32921" y="9670"/>
                      <a:pt x="32921" y="21600"/>
                    </a:cubicBezTo>
                    <a:cubicBezTo>
                      <a:pt x="32921" y="22655"/>
                      <a:pt x="32843" y="23710"/>
                      <a:pt x="32689" y="24755"/>
                    </a:cubicBezTo>
                  </a:path>
                  <a:path stroke="0" w="32921" h="24755">
                    <a:moveTo>
                      <a:pt x="0" y="3204"/>
                    </a:moveTo>
                    <a:cubicBezTo>
                      <a:pt x="3404" y="1109"/>
                      <a:pt x="7323" y="-1"/>
                      <a:pt x="11321" y="0"/>
                    </a:cubicBezTo>
                    <a:cubicBezTo>
                      <a:pt x="23250" y="0"/>
                      <a:pt x="32921" y="9670"/>
                      <a:pt x="32921" y="21600"/>
                    </a:cubicBezTo>
                    <a:cubicBezTo>
                      <a:pt x="32921" y="22655"/>
                      <a:pt x="32843" y="23710"/>
                      <a:pt x="32689" y="24755"/>
                    </a:cubicBezTo>
                    <a:lnTo>
                      <a:pt x="11321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xt Box 28"/>
            <p:cNvSpPr/>
            <p:nvPr/>
          </p:nvSpPr>
          <p:spPr>
            <a:xfrm>
              <a:off x="5293080" y="3414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9"/>
            <p:cNvSpPr/>
            <p:nvPr/>
          </p:nvSpPr>
          <p:spPr>
            <a:xfrm>
              <a:off x="5760000" y="4941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30"/>
            <p:cNvSpPr/>
            <p:nvPr/>
          </p:nvSpPr>
          <p:spPr>
            <a:xfrm>
              <a:off x="7453080" y="3341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31"/>
            <p:cNvSpPr/>
            <p:nvPr/>
          </p:nvSpPr>
          <p:spPr>
            <a:xfrm>
              <a:off x="7453080" y="4925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探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5003640" y="380880"/>
            <a:ext cx="3886200" cy="4343040"/>
            <a:chOff x="5003640" y="380880"/>
            <a:chExt cx="3886200" cy="4343040"/>
          </a:xfrm>
        </p:grpSpPr>
        <p:sp>
          <p:nvSpPr>
            <p:cNvPr id="246" name="Arc 5"/>
            <p:cNvSpPr/>
            <p:nvPr/>
          </p:nvSpPr>
          <p:spPr>
            <a:xfrm>
              <a:off x="5994360" y="3124080"/>
              <a:ext cx="304920" cy="38088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6"/>
            <p:cNvGrpSpPr/>
            <p:nvPr/>
          </p:nvGrpSpPr>
          <p:grpSpPr>
            <a:xfrm>
              <a:off x="5003640" y="380880"/>
              <a:ext cx="3886200" cy="4343040"/>
              <a:chOff x="5003640" y="380880"/>
              <a:chExt cx="3886200" cy="4343040"/>
            </a:xfrm>
          </p:grpSpPr>
          <p:sp>
            <p:nvSpPr>
              <p:cNvPr id="248" name="Text Box 7"/>
              <p:cNvSpPr/>
              <p:nvPr/>
            </p:nvSpPr>
            <p:spPr>
              <a:xfrm>
                <a:off x="6451560" y="38088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8"/>
              <p:cNvSpPr/>
              <p:nvPr/>
            </p:nvSpPr>
            <p:spPr>
              <a:xfrm>
                <a:off x="7061040" y="45684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" name="Group 9"/>
              <p:cNvGrpSpPr/>
              <p:nvPr/>
            </p:nvGrpSpPr>
            <p:grpSpPr>
              <a:xfrm>
                <a:off x="5003640" y="852120"/>
                <a:ext cx="3886200" cy="3871800"/>
                <a:chOff x="5003640" y="852120"/>
                <a:chExt cx="3886200" cy="3871800"/>
              </a:xfrm>
            </p:grpSpPr>
            <p:sp>
              <p:nvSpPr>
                <p:cNvPr id="251" name="Text Box 10"/>
                <p:cNvSpPr/>
                <p:nvPr/>
              </p:nvSpPr>
              <p:spPr>
                <a:xfrm>
                  <a:off x="5003640" y="1447200"/>
                  <a:ext cx="4572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Text Box 11"/>
                <p:cNvSpPr/>
                <p:nvPr/>
              </p:nvSpPr>
              <p:spPr>
                <a:xfrm>
                  <a:off x="5079960" y="3214080"/>
                  <a:ext cx="762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Text Box 12"/>
                <p:cNvSpPr/>
                <p:nvPr/>
              </p:nvSpPr>
              <p:spPr>
                <a:xfrm>
                  <a:off x="5842080" y="159984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4" name="Group 13"/>
                <p:cNvGrpSpPr/>
                <p:nvPr/>
              </p:nvGrpSpPr>
              <p:grpSpPr>
                <a:xfrm>
                  <a:off x="5460840" y="990000"/>
                  <a:ext cx="3429000" cy="3733920"/>
                  <a:chOff x="5460840" y="990000"/>
                  <a:chExt cx="3429000" cy="3733920"/>
                </a:xfrm>
              </p:grpSpPr>
              <p:sp>
                <p:nvSpPr>
                  <p:cNvPr id="255" name="Line 14"/>
                  <p:cNvSpPr/>
                  <p:nvPr/>
                </p:nvSpPr>
                <p:spPr>
                  <a:xfrm>
                    <a:off x="5537160" y="1599840"/>
                    <a:ext cx="2666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15"/>
                  <p:cNvSpPr/>
                  <p:nvPr/>
                </p:nvSpPr>
                <p:spPr>
                  <a:xfrm>
                    <a:off x="5460840" y="3504600"/>
                    <a:ext cx="3429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16"/>
                  <p:cNvSpPr/>
                  <p:nvPr/>
                </p:nvSpPr>
                <p:spPr>
                  <a:xfrm flipH="1">
                    <a:off x="5613120" y="990000"/>
                    <a:ext cx="1066680" cy="3200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Line 17"/>
                  <p:cNvSpPr/>
                  <p:nvPr/>
                </p:nvSpPr>
                <p:spPr>
                  <a:xfrm>
                    <a:off x="7213680" y="1142640"/>
                    <a:ext cx="1371600" cy="3581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Arc 18"/>
                  <p:cNvSpPr/>
                  <p:nvPr/>
                </p:nvSpPr>
                <p:spPr>
                  <a:xfrm>
                    <a:off x="7289640" y="1294920"/>
                    <a:ext cx="381240" cy="304920"/>
                  </a:xfrm>
                  <a:custGeom>
                    <a:avLst/>
                    <a:gdLst>
                      <a:gd name="textAreaLeft" fmla="*/ 0 w 381240"/>
                      <a:gd name="textAreaRight" fmla="*/ 381600 w 381240"/>
                      <a:gd name="textAreaTop" fmla="*/ 0 h 304920"/>
                      <a:gd name="textAreaBottom" fmla="*/ 305280 h 30492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Arc 19"/>
                  <p:cNvSpPr/>
                  <p:nvPr/>
                </p:nvSpPr>
                <p:spPr>
                  <a:xfrm>
                    <a:off x="7975440" y="3200040"/>
                    <a:ext cx="381240" cy="304560"/>
                  </a:xfrm>
                  <a:custGeom>
                    <a:avLst/>
                    <a:gdLst>
                      <a:gd name="textAreaLeft" fmla="*/ 0 w 381240"/>
                      <a:gd name="textAreaRight" fmla="*/ 381600 w 381240"/>
                      <a:gd name="textAreaTop" fmla="*/ 0 h 304560"/>
                      <a:gd name="textAreaBottom" fmla="*/ 304920 h 3045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Arc 20"/>
                  <p:cNvSpPr/>
                  <p:nvPr/>
                </p:nvSpPr>
                <p:spPr>
                  <a:xfrm flipH="1" flipV="1">
                    <a:off x="6145920" y="1599120"/>
                    <a:ext cx="228600" cy="228600"/>
                  </a:xfrm>
                  <a:custGeom>
                    <a:avLst/>
                    <a:gdLst>
                      <a:gd name="textAreaLeft" fmla="*/ -360 w 228600"/>
                      <a:gd name="textAreaRight" fmla="*/ 228600 w 228600"/>
                      <a:gd name="textAreaTop" fmla="*/ -360 h 228600"/>
                      <a:gd name="textAreaBottom" fmla="*/ 228600 h 22860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Text Box 21"/>
                  <p:cNvSpPr/>
                  <p:nvPr/>
                </p:nvSpPr>
                <p:spPr>
                  <a:xfrm>
                    <a:off x="6222960" y="2895120"/>
                    <a:ext cx="533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Text Box 22"/>
                <p:cNvSpPr/>
                <p:nvPr/>
              </p:nvSpPr>
              <p:spPr>
                <a:xfrm>
                  <a:off x="8204040" y="290952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Text Box 23"/>
                <p:cNvSpPr/>
                <p:nvPr/>
              </p:nvSpPr>
              <p:spPr>
                <a:xfrm>
                  <a:off x="7365960" y="8521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5" name="Rectangle 25"/>
          <p:cNvSpPr/>
          <p:nvPr/>
        </p:nvSpPr>
        <p:spPr>
          <a:xfrm>
            <a:off x="719280" y="1413000"/>
            <a:ext cx="471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如图所示 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∠</a:t>
            </a: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3=∠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求证 ： ∠</a:t>
            </a: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1=∠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6"/>
          <p:cNvSpPr/>
          <p:nvPr/>
        </p:nvSpPr>
        <p:spPr>
          <a:xfrm>
            <a:off x="395280" y="44460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请你来完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完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00:25:27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17:10Z</dcterms:modified>
  <cp:revision>27</cp:revision>
  <dc:subject>人教版七年级数学（下）全套课件</dc:subject>
  <dc:title>人教版七年级数学（下）全套课件</dc:title>
</cp:coreProperties>
</file>