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8C0-D4C3-46C6-A34B-FA0A3044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623-FC4E-4583-A9D6-03297569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74B03-1867-43A2-827C-FEE53153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71BCC-2548-411F-B23C-A21D06CA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FDED-1545-407D-9EA7-86988359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9487-CADF-454B-A3DF-3E1C15D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DDCB4-2924-4EDD-B9FB-7B66E954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BDC13-2FF3-41FB-96C7-648B42C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86BB6-2472-4B4B-BBF8-DED5C0AB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D7F91-925D-4D6A-A7A4-5DB00669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7A74A-8234-49BD-A56F-D0774F1B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B99-A14A-42F6-AE93-6752870A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A60-F851-4A30-BB35-71EC9D2C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5A38-E5D3-4600-8C07-04498DCC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30C4-2595-470F-8ECC-4AFA52C5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0707-28B4-43C8-9498-B0055DC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0348-966A-4F51-901F-18A6A689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42A-4188-49F7-9F8E-5C1FCCF8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B348-869D-4DA0-B814-A8F7C32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2C68-0231-4786-92A4-FAFC44D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2BF-9191-4D3E-B729-D31A9216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873B-C6C9-47AE-A042-6F5DC7C6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A0CE-BAAE-47ED-9EF5-3CE3BC5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5FB9-2F9D-44A9-A8C5-8300B31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EFF-5C4A-49E7-863B-89F1AA7F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BD8-C7A3-4076-A4BB-CCE2D370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70E4-D94E-48F2-8126-BBEE562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B46E-EF25-4ED7-B3C6-92EEAA23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A165-EE22-4E84-A2C2-03CF3468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D3A0-CD5F-47E3-AB1C-D38732D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F0AA-8CDB-407E-B6FB-8B17AD1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D59-032D-4C76-9339-956DC894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BF2C-4431-47D3-BBC5-C6512F2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99B4-0B98-42A3-891D-42AFA2E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90F7-1DB2-47CA-BF07-0DB7321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95A7-F68D-4B31-A353-DE787FA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4760-7DB2-4C2C-984D-561918B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1495-A458-4AC9-8091-0DB8401C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BF2F-5BD3-4713-971F-54434C28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E6CF-F7B6-43A4-B4E9-36D353F9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54AA-6000-49B7-BAFC-DA74320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8734-6D02-4B0A-BA53-DA942EA5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E2B-0A06-40EB-9619-F4783835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F263-DBD4-43AB-B638-FDB2A1E9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093D-2F8C-4231-93C7-F1E5C0D2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AB1F-03D4-4FD3-AB73-E07BBA52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48D2-EAAA-4EE2-AD44-ED79B56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D678-40D6-4044-B9FB-AA245386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38B9-6913-4E01-9048-1DB2BAF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D0B8-3E68-4DEC-B5F8-DE19E33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C81A-C033-4CDD-8514-945EFE58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AF4E-9E12-4F43-B401-1588B9A3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1AB1-9E85-4016-952D-2EF81159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1AD-BB57-4924-B296-B35EA2C5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B09A-1FA0-4F2A-90F1-27CE948E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3737-DCA8-44B8-88AC-2A21100F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6CFC-EB5A-4B9A-BDA2-14FC951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0866-A403-4489-8002-B6F33D7F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2E7B0-7DBB-44BD-A3E2-2AEEBB06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FD6F-F145-424D-9D29-496E8BD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556A8-088D-4569-AF2B-D51A5D7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3BB8-DF19-4B0B-8C70-03E07199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CD4B-0F50-404B-AF3B-3D015C29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5E9A-ACE1-4ED6-A1D4-87C3B63C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F7B-E9DF-4D93-85DB-63EE58F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35D7F-903D-4129-AC38-375C68B7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E425-CFD9-4370-9A71-3A76552A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06F4-E94B-41A6-8947-39BDAC9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A6FA6-2003-4382-8089-EB80C436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00993-57FC-4432-8E52-19752AA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EC25-E443-46B9-BA82-1C87984C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DFD4-683E-4940-ADB7-5984550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69EB-B998-4262-9EEF-0C9DE32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0935-374B-49C4-9170-467B1A0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CFB2F-F51B-4699-8102-0BDFBF9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D89-BE14-4CAC-816B-F2E9FA13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44711-6B01-4354-9A17-7685636E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CC73-C463-440A-BD86-D6DE3E57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452F4-403C-4794-B73D-B57F6000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40DB-3E1F-4079-81F4-9B6EB34F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08A8-DF8A-45E9-B65C-666FD805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4056-00B0-4D3C-AA4A-679A2CF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BBA3-E4D9-46BA-8C07-B574F1BE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4665B-A309-44C9-A82A-51BD61EB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227F0-574A-4564-B26F-4DD7AA7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09E2-DCF1-40DC-9B40-07D03F06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1E6-BFBD-44C5-AFF2-3102738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0EE9-DFE8-4850-B38A-72953C0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3D1B-98A4-4C21-B054-6C7F525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81F9-89E2-40EE-9D18-2E5024D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C25C2-9C98-4DBB-A2D4-C2263C8A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CC9D4-1B48-4924-B954-918D5613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ABCB-242B-41CA-9D45-5617B1C1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8673D-6589-4768-ADA4-D297710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BBFF-9E41-4644-8B50-094FC0F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2F012-EE2F-488A-BE3B-F5A76867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6A08-6087-4694-83C4-BFADDA6F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F66-6E36-4136-94AA-B98EC46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213F-82E5-4EBD-A6A8-D83A28B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CBF3C-AD17-4F78-B0BD-0588716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A0E0-B765-452D-9E49-FD75A2D6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C53B-6607-47F2-BD4D-BC77F2B2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CB92-479B-4176-AB0D-7AE7911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88A09-5B72-4C91-B7F0-0497AA8D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D8A5A-A110-4835-BD3E-BCB1984D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E2F7E-4C59-432B-84BF-FA152E94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4C852-C503-456B-B4CF-5A46756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2558E-EFA7-48DA-97D6-2470D1B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D2FE-811F-4C33-A062-AEB49431B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3D01-D9DE-4708-8173-C96567AD4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4F31-8B92-41FB-81C9-7F46B88E9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E4F-6324-45AF-A175-3A08AB254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526-BB29-4832-AFB6-1D62112C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8B81-756C-42D3-8D3A-F50D5AA68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502C-0B61-4057-92DA-1527A399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C986-A8E1-496E-866D-7877B12D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F9E2-8810-4805-85CB-7D00878BA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隶书"/>
                <a:ea typeface="隶书"/>
              </a:rPr>
              <a:t>平行线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5356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J.WAV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-953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-360" y="380520"/>
            <a:ext cx="8839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我是这样思考的：</a:t>
            </a:r>
            <a:br>
              <a:rPr sz="4000"/>
            </a:br>
            <a:r>
              <a:rPr b="0" lang="zh-CN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）</a:t>
            </a:r>
            <a:r>
              <a:rPr b="0" lang="en-US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AB//DE   &lt;1=&lt;3 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                  &lt;2=&lt;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） </a:t>
            </a:r>
            <a:r>
              <a:rPr b="0" lang="en-US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2=&lt;4   BC//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   </a:t>
            </a:r>
            <a:r>
              <a:rPr b="0" lang="zh-CN" sz="3600" spc="-1" strike="noStrike">
                <a:solidFill>
                  <a:srgbClr val="9900cc"/>
                </a:solidFill>
                <a:latin typeface="汉仪黑咪体简"/>
                <a:ea typeface="汉仪黑咪体简"/>
              </a:rPr>
              <a:t>你能说明每一步的理由吗？你是如何思考的？与同伴进行交流</a:t>
            </a:r>
            <a:r>
              <a:rPr b="0" lang="en-US" sz="3600" spc="-1" strike="noStrike">
                <a:solidFill>
                  <a:srgbClr val="9900cc"/>
                </a:solidFill>
                <a:latin typeface="汉仪黑咪体简"/>
                <a:ea typeface="汉仪黑咪体简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              C      D         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 B  2           3  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1066680" y="4114440"/>
            <a:ext cx="6019920" cy="1905480"/>
            <a:chOff x="1066680" y="4114440"/>
            <a:chExt cx="6019920" cy="1905480"/>
          </a:xfrm>
        </p:grpSpPr>
        <p:sp>
          <p:nvSpPr>
            <p:cNvPr id="420" name="AutoShape 6"/>
            <p:cNvSpPr/>
            <p:nvPr/>
          </p:nvSpPr>
          <p:spPr>
            <a:xfrm>
              <a:off x="1066680" y="5562720"/>
              <a:ext cx="6019920" cy="457200"/>
            </a:xfrm>
            <a:prstGeom prst="parallelogram">
              <a:avLst>
                <a:gd name="adj" fmla="val 32917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286000" y="4114800"/>
              <a:ext cx="99072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2286000" y="5715000"/>
              <a:ext cx="2971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 flipV="1">
              <a:off x="3276720" y="4114440"/>
              <a:ext cx="106668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038480" y="5715000"/>
              <a:ext cx="2133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1"/>
            <p:cNvSpPr/>
            <p:nvPr/>
          </p:nvSpPr>
          <p:spPr>
            <a:xfrm>
              <a:off x="4419720" y="4191120"/>
              <a:ext cx="761760" cy="152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2"/>
            <p:cNvSpPr/>
            <p:nvPr/>
          </p:nvSpPr>
          <p:spPr>
            <a:xfrm flipV="1">
              <a:off x="5181480" y="4190760"/>
              <a:ext cx="990720" cy="152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rc 13"/>
            <p:cNvSpPr/>
            <p:nvPr/>
          </p:nvSpPr>
          <p:spPr>
            <a:xfrm flipH="1">
              <a:off x="3047400" y="5410080"/>
              <a:ext cx="75960" cy="30492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Arc 14"/>
            <p:cNvSpPr/>
            <p:nvPr/>
          </p:nvSpPr>
          <p:spPr>
            <a:xfrm>
              <a:off x="3429000" y="5486400"/>
              <a:ext cx="76320" cy="22860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Arc 15"/>
            <p:cNvSpPr/>
            <p:nvPr/>
          </p:nvSpPr>
          <p:spPr>
            <a:xfrm flipH="1">
              <a:off x="4952880" y="5410080"/>
              <a:ext cx="76320" cy="30492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Arc 16"/>
            <p:cNvSpPr/>
            <p:nvPr/>
          </p:nvSpPr>
          <p:spPr>
            <a:xfrm>
              <a:off x="5334120" y="5410080"/>
              <a:ext cx="152280" cy="304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8"/>
          <p:cNvSpPr/>
          <p:nvPr/>
        </p:nvSpPr>
        <p:spPr>
          <a:xfrm>
            <a:off x="3962520" y="1143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038480" y="1676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3505320" y="22860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1">
            <a:hlinkClick r:id="" action="ppaction://hlinkshowjump?jump=previousslide"/>
          </p:cNvPr>
          <p:cNvSpPr/>
          <p:nvPr/>
        </p:nvSpPr>
        <p:spPr>
          <a:xfrm>
            <a:off x="7924680" y="56386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如图   </a:t>
            </a:r>
            <a:r>
              <a:rPr b="1" lang="en-US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AB//CD</a:t>
            </a:r>
            <a:r>
              <a:rPr b="1" lang="zh-CN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，     </a:t>
            </a:r>
            <a:r>
              <a:rPr b="1" lang="en-US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AC//BD.</a:t>
            </a:r>
            <a:r>
              <a:rPr b="1" lang="zh-CN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分别找出与</a:t>
            </a:r>
            <a:r>
              <a:rPr b="1" lang="en-US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</a:t>
            </a:r>
            <a:r>
              <a:rPr b="1" lang="zh-CN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相等或互补的角</a:t>
            </a:r>
            <a:r>
              <a:rPr b="1" lang="en-US" sz="48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5800" y="8229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   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                      D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D:\张书宏\123\A-1-091.JPG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77940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9"/>
          <p:cNvGrpSpPr/>
          <p:nvPr/>
        </p:nvGrpSpPr>
        <p:grpSpPr>
          <a:xfrm>
            <a:off x="2057400" y="2514600"/>
            <a:ext cx="5562360" cy="3657600"/>
            <a:chOff x="2057400" y="2514600"/>
            <a:chExt cx="5562360" cy="3657600"/>
          </a:xfrm>
        </p:grpSpPr>
        <p:sp>
          <p:nvSpPr>
            <p:cNvPr id="441" name="Line 14"/>
            <p:cNvSpPr/>
            <p:nvPr/>
          </p:nvSpPr>
          <p:spPr>
            <a:xfrm flipV="1">
              <a:off x="2057400" y="3276000"/>
              <a:ext cx="548640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5"/>
            <p:cNvSpPr/>
            <p:nvPr/>
          </p:nvSpPr>
          <p:spPr>
            <a:xfrm flipV="1">
              <a:off x="2209680" y="4572000"/>
              <a:ext cx="54100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6"/>
            <p:cNvSpPr/>
            <p:nvPr/>
          </p:nvSpPr>
          <p:spPr>
            <a:xfrm>
              <a:off x="2743200" y="2819160"/>
              <a:ext cx="2438280" cy="335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7"/>
            <p:cNvSpPr/>
            <p:nvPr/>
          </p:nvSpPr>
          <p:spPr>
            <a:xfrm>
              <a:off x="4952880" y="2514600"/>
              <a:ext cx="2514600" cy="3047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Arc 18"/>
            <p:cNvSpPr/>
            <p:nvPr/>
          </p:nvSpPr>
          <p:spPr>
            <a:xfrm>
              <a:off x="4190760" y="48006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-686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8240" y="22860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黑咪体简"/>
                <a:ea typeface="汉仪黑咪体简"/>
              </a:rPr>
              <a:t>与</a:t>
            </a: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</a:t>
            </a:r>
            <a:r>
              <a:rPr b="1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相等的角有： </a:t>
            </a: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 &lt;3 &lt;5 &lt;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               </a:t>
            </a: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9 &lt;11 &lt;13 &lt;15</a:t>
            </a:r>
            <a:r>
              <a:rPr b="1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黑咪体简"/>
                <a:ea typeface="汉仪黑咪体简"/>
              </a:rPr>
              <a:t>与</a:t>
            </a: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</a:t>
            </a:r>
            <a:r>
              <a:rPr b="1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互补的角有：</a:t>
            </a: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2 &lt;4 &lt;6 &lt;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0 &lt;12 &lt;14 &lt;16</a:t>
            </a:r>
            <a:r>
              <a:rPr b="1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汉仪黑咪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     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   13                11      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   14                          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1                 8       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   2                   7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1752480" y="2895480"/>
            <a:ext cx="5562360" cy="3657600"/>
            <a:chOff x="1752480" y="2895480"/>
            <a:chExt cx="5562360" cy="3657600"/>
          </a:xfrm>
        </p:grpSpPr>
        <p:sp>
          <p:nvSpPr>
            <p:cNvPr id="451" name="Line 6"/>
            <p:cNvSpPr/>
            <p:nvPr/>
          </p:nvSpPr>
          <p:spPr>
            <a:xfrm flipV="1">
              <a:off x="1752480" y="3656880"/>
              <a:ext cx="548640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7"/>
            <p:cNvSpPr/>
            <p:nvPr/>
          </p:nvSpPr>
          <p:spPr>
            <a:xfrm flipV="1">
              <a:off x="1904760" y="4952880"/>
              <a:ext cx="54100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>
              <a:off x="2438280" y="3200040"/>
              <a:ext cx="2438280" cy="335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>
              <a:off x="4647960" y="2895480"/>
              <a:ext cx="2514600" cy="3047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Arc 10"/>
            <p:cNvSpPr/>
            <p:nvPr/>
          </p:nvSpPr>
          <p:spPr>
            <a:xfrm>
              <a:off x="3885840" y="518148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Oval 11"/>
          <p:cNvSpPr/>
          <p:nvPr/>
        </p:nvSpPr>
        <p:spPr>
          <a:xfrm>
            <a:off x="2971800" y="4114800"/>
            <a:ext cx="53352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12"/>
          <p:cNvSpPr/>
          <p:nvPr/>
        </p:nvSpPr>
        <p:spPr>
          <a:xfrm>
            <a:off x="5257800" y="3733920"/>
            <a:ext cx="53352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13"/>
          <p:cNvSpPr/>
          <p:nvPr/>
        </p:nvSpPr>
        <p:spPr>
          <a:xfrm>
            <a:off x="3809880" y="5257800"/>
            <a:ext cx="5335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6095880" y="4952880"/>
            <a:ext cx="53352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5440" y="129492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66"/>
              </a:buClr>
              <a:buFont typeface="汉仪彩云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汉仪彩云体简"/>
                <a:ea typeface="汉仪彩云体简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66"/>
              </a:buClr>
              <a:buFont typeface="汉仪彩云体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汉仪彩云体简"/>
                <a:ea typeface="汉仪彩云体简"/>
              </a:rPr>
              <a:t>习题</a:t>
            </a:r>
            <a:r>
              <a:rPr b="0" lang="en-US" sz="9600" spc="-1" strike="noStrike">
                <a:solidFill>
                  <a:srgbClr val="ff0066"/>
                </a:solidFill>
                <a:latin typeface="汉仪彩云体简"/>
                <a:ea typeface="汉仪彩云体简"/>
              </a:rPr>
              <a:t>2.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58200" cy="62485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2987640" y="476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如图  直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直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平行，测量同位角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的大小，它们有什么关系？图中还有其他的同位角吗？它们的大小有什么关系？      见课本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5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381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4267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图中有几对内错角？它们的大小有什么关系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图中有几对同旁内角？它们的大小有什么关系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95288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-68580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09520" y="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图中有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对内错角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4=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，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3=&lt;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038120" y="22856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因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经测量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1= &lt;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又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1= &lt;4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所以   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4=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同理 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3=&lt;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tretch/>
        </p:blipFill>
        <p:spPr>
          <a:xfrm>
            <a:off x="304920" y="55440"/>
            <a:ext cx="4190760" cy="62121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7"/>
          <p:cNvSpPr/>
          <p:nvPr/>
        </p:nvSpPr>
        <p:spPr>
          <a:xfrm>
            <a:off x="2916360" y="162864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420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05320" y="914040"/>
            <a:ext cx="541008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图中有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对同旁内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3 + &lt;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5=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4 +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</a:t>
            </a:r>
            <a:r>
              <a:rPr b="1" lang="en-US" sz="4800" spc="-1" strike="noStrike">
                <a:solidFill>
                  <a:srgbClr val="3333cc"/>
                </a:solidFill>
                <a:latin typeface="黑体"/>
                <a:ea typeface="黑体"/>
              </a:rPr>
              <a:t>6=18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4495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Times New Roman"/>
                <a:ea typeface="隶书"/>
              </a:rPr>
              <a:t>换另一组平行线试试，你能得到相同的</a:t>
            </a:r>
            <a:r>
              <a:rPr b="1" lang="zh-CN" sz="9600" spc="-1" strike="noStrike">
                <a:solidFill>
                  <a:srgbClr val="9900ff"/>
                </a:solidFill>
                <a:latin typeface="Times New Roman"/>
                <a:ea typeface="隶书"/>
              </a:rPr>
              <a:t>结论</a:t>
            </a:r>
            <a:r>
              <a:rPr b="1" lang="zh-CN" sz="8000" spc="-1" strike="noStrike">
                <a:solidFill>
                  <a:srgbClr val="9900ff"/>
                </a:solidFill>
                <a:latin typeface="Times New Roman"/>
                <a:ea typeface="隶书"/>
              </a:rPr>
              <a:t>吗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55087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两条平行直线被第三条直线所截，同位角相等，内错角相等。同旁内角互补。简记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228600" y="3200400"/>
            <a:ext cx="8610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黑体"/>
                <a:ea typeface="黑体"/>
              </a:rPr>
              <a:t>两直线平行，同位角相等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黑体"/>
                <a:ea typeface="黑体"/>
              </a:rPr>
              <a:t>两直线平行，内错角相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黑体"/>
                <a:ea typeface="黑体"/>
              </a:rPr>
              <a:t>两直线平行，同旁内角互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做一做</a:t>
            </a: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：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如图 一束平行光线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AB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DE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设向一个水平镜面后被反射，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此时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= &lt;2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， 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3= &lt;4.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） 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1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， 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3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的大小有什么关系？ 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2 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&lt;4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呢？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）反射光线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BC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EF</a:t>
            </a:r>
            <a:r>
              <a:rPr b="0" lang="zh-CN" sz="4000" spc="-1" strike="noStrike">
                <a:solidFill>
                  <a:srgbClr val="0000ff"/>
                </a:solidFill>
                <a:latin typeface="汉仪黑咪体简"/>
                <a:ea typeface="汉仪黑咪体简"/>
              </a:rPr>
              <a:t>也平行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          C     D        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 B 2          3 E 4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18"/>
          <p:cNvGrpSpPr/>
          <p:nvPr/>
        </p:nvGrpSpPr>
        <p:grpSpPr>
          <a:xfrm>
            <a:off x="1981080" y="4191120"/>
            <a:ext cx="6019920" cy="1904400"/>
            <a:chOff x="1981080" y="4191120"/>
            <a:chExt cx="6019920" cy="1904400"/>
          </a:xfrm>
        </p:grpSpPr>
        <p:sp>
          <p:nvSpPr>
            <p:cNvPr id="404" name="AutoShape 5"/>
            <p:cNvSpPr/>
            <p:nvPr/>
          </p:nvSpPr>
          <p:spPr>
            <a:xfrm>
              <a:off x="1981080" y="5638680"/>
              <a:ext cx="6019920" cy="456840"/>
            </a:xfrm>
            <a:prstGeom prst="parallelogram">
              <a:avLst>
                <a:gd name="adj" fmla="val 32943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3200400" y="4191120"/>
              <a:ext cx="990720" cy="159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3200400" y="5790960"/>
              <a:ext cx="2971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4191120" y="4191120"/>
              <a:ext cx="1066680" cy="159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4952880" y="5790960"/>
              <a:ext cx="2133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5334120" y="4267080"/>
              <a:ext cx="761760" cy="15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 flipV="1">
              <a:off x="6095880" y="4267080"/>
              <a:ext cx="990720" cy="15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rc 14"/>
            <p:cNvSpPr/>
            <p:nvPr/>
          </p:nvSpPr>
          <p:spPr>
            <a:xfrm flipH="1">
              <a:off x="3961800" y="5486040"/>
              <a:ext cx="75960" cy="30456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Arc 15"/>
            <p:cNvSpPr/>
            <p:nvPr/>
          </p:nvSpPr>
          <p:spPr>
            <a:xfrm>
              <a:off x="4343400" y="5562360"/>
              <a:ext cx="76320" cy="22824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Arc 16"/>
            <p:cNvSpPr/>
            <p:nvPr/>
          </p:nvSpPr>
          <p:spPr>
            <a:xfrm flipH="1">
              <a:off x="5867280" y="5486040"/>
              <a:ext cx="76320" cy="30456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rc 17"/>
            <p:cNvSpPr/>
            <p:nvPr/>
          </p:nvSpPr>
          <p:spPr>
            <a:xfrm>
              <a:off x="6248520" y="5486040"/>
              <a:ext cx="152280" cy="304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3:57:0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07Z</dcterms:modified>
  <cp:revision>21</cp:revision>
  <dc:subject>人教版七年级数学（下）全套课件</dc:subject>
  <dc:title>人教版七年级数学（下）全套课件</dc:title>
</cp:coreProperties>
</file>