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041-B6C1-4D09-8E3D-4CCB0404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CAE-4878-4DC5-BEF9-6E995D3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387-889B-440D-910A-FBCD9A64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DFC-9E04-40DB-940D-A52FA539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AB99-9481-4FE2-8FB4-F4E87A9B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E94-CFC9-4460-A956-998C2B8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C456-D5EB-436F-BFF2-CDA0E32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2024-1337-4A2D-B582-0948995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5AD4-8159-4360-A70A-F169EBF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9DB6-4A2A-4ABA-8D44-8069F9C1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43F-3D1E-4EC1-BC46-E7DE425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DB9-BED8-4C36-B4F9-B371C95A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F9A-5B5C-479D-B3BC-3747BA5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4146-B1A4-47ED-97A9-EAFFE6E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896C-8DC3-46B9-A662-FA0E430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417-AFF3-4CAE-ABDD-A05CB46F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A15-776F-47BD-8317-16401CE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301C-823B-44CE-A6F9-FBA86A65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BFF0-B0AA-45BB-83AF-77A93A64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5788-7B04-42F4-B747-B9D827EC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B951-4B6B-47A5-9BDB-022006C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C9FB-4B62-4009-9C36-9DDAAA4D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C4B-C535-4041-8884-3EDE37D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71DD-ED0B-4ED9-8B75-EF6BFCD3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2188-FCBA-4FC9-AE27-D2CF1CD5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15CE-1028-42C3-B406-C9A5CD94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34AB-7F3C-475C-B398-DA47019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E398-8CD8-4084-B401-6E809DC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F390-453E-4C9E-88B5-E868C82B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9B49-AF88-408E-ADC4-FC2F22B5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1DAC-995A-4B3A-88FC-0C31BE50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882D-4356-4C69-87FF-1EFB9453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7737-56E2-4B02-BA1E-1892D2B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503-BB60-4B15-B5D4-2FCAD51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2848-B366-4D8E-87F7-3007142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0C11-BC43-4197-A09C-DB9B60B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369F-BCEC-4534-B33B-3CA4069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E8BF-C775-494A-9A84-2B3FC47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8AB1-FD2B-4F0D-B681-73495D8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9221-0D24-44C7-912F-89D203D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3DD1-FA89-475A-ACF1-943999CC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92E7-3661-4C8C-9B77-EA1D996F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03AA-FAC4-4BE6-96D0-08444316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056F-96CA-400F-8A9E-AFB1899B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18B-1210-45C3-B8D7-6D949C91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9CD2-75A8-4B4C-827D-3ED61E2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AEF7-8363-431E-8C74-B3505F5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F5C8-752B-455C-8D32-DC864A7E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A4DC-AE1B-4283-8366-DAE8E82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0657-997B-45A6-98A7-E3061F9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5702-9BF8-4762-8A02-C9A3290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E52F-3331-481A-9355-F1CDC35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C6D60-64B9-49B0-9359-3E84819E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ADD26-5DEF-4746-84F5-CCA55FC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D32B-6E2D-4952-A09B-8B81D1CE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DD8-E8D3-443B-9A75-5CA567A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60E8-CBFA-448B-A716-9EC1A36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3EF-3229-49F7-8F51-41EA0FB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185-2F3D-41A7-A9DC-0D2718F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1EB-25D0-4895-9520-A9EF273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F8EC-4E52-4A40-898B-00E0F2546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B82-9F78-4291-9E07-D7E5D681E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208-C2B6-4EF4-85C2-4452B584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7B3-5888-4263-97A9-D1CAC5DA2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477-C57B-4618-8923-D28A13969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再探实际问题与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二元一次方程组</a:t>
            </a:r>
            <a:br>
              <a:rPr sz="5400"/>
            </a:b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（第二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一艘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载重量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容积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9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要装运生铁和棉花两种物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铁每吨的体积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.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方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棉花每吨的体积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方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铁和棉花各装多少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充分利用船的载重量和容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两种药水，一种浓度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另一种浓度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要配制浓度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药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00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每种各需多少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48243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课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11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3276720" y="2924280"/>
            <a:ext cx="5040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课啦，再见！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Picture 4" descr="cat3再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050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at3再见"/>
          <p:cNvPicPr/>
          <p:nvPr/>
        </p:nvPicPr>
        <p:blipFill>
          <a:blip r:embed="rId4"/>
          <a:stretch/>
        </p:blipFill>
        <p:spPr>
          <a:xfrm>
            <a:off x="1116000" y="4941720"/>
            <a:ext cx="1871640" cy="1521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at3再见"/>
          <p:cNvPicPr/>
          <p:nvPr/>
        </p:nvPicPr>
        <p:blipFill>
          <a:blip r:embed="rId5"/>
          <a:stretch/>
        </p:blipFill>
        <p:spPr>
          <a:xfrm>
            <a:off x="755640" y="3429000"/>
            <a:ext cx="15127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2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一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种枕木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，甲种枕木的总重量比乙种枕木的总重量轻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吨，如果每根枕木甲种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，乙种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，两种枕木各多少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蔬菜批发站有一批青菜分给两个学校的食堂，甲校食堂分得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比乙校食堂分得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少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甲校食堂分得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与乙校食堂分得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的和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7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甲、乙两校食堂各分得青菜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686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以往的统计资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甲、乙两种作物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位面积产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现要在一块长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宽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长方形土地上种植这两种作物，怎样把这块地分为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两个长方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使甲、乙两种作物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产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结果取整数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826920" y="260280"/>
            <a:ext cx="22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1187280" y="4292640"/>
            <a:ext cx="5184720" cy="2566800"/>
            <a:chOff x="1187280" y="4292640"/>
            <a:chExt cx="5184720" cy="2566800"/>
          </a:xfrm>
        </p:grpSpPr>
        <p:sp>
          <p:nvSpPr>
            <p:cNvPr id="214" name="Rectangle 7"/>
            <p:cNvSpPr/>
            <p:nvPr/>
          </p:nvSpPr>
          <p:spPr>
            <a:xfrm>
              <a:off x="2626920" y="4292640"/>
              <a:ext cx="3745080" cy="20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2268360" y="4292640"/>
              <a:ext cx="215640" cy="2016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2560 h 2016000"/>
                <a:gd name="textAreaBottom" fmla="*/ 19634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 flipH="1" rot="16200000">
              <a:off x="4319280" y="4616280"/>
              <a:ext cx="287280" cy="367200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1187280" y="5084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4571640" y="64911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1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“甲、乙两种作物的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单位面积产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“甲、乙两种作物的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总产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比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本题中有哪些相等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684360" y="2421000"/>
            <a:ext cx="5758920" cy="1069560"/>
            <a:chOff x="684360" y="2421000"/>
            <a:chExt cx="5758920" cy="1069560"/>
          </a:xfrm>
        </p:grpSpPr>
        <p:sp>
          <p:nvSpPr>
            <p:cNvPr id="224" name="Text Box 8"/>
            <p:cNvSpPr/>
            <p:nvPr/>
          </p:nvSpPr>
          <p:spPr>
            <a:xfrm>
              <a:off x="1023120" y="2847960"/>
              <a:ext cx="542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100xa) 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y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·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5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3∶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0"/>
            <p:cNvGrpSpPr/>
            <p:nvPr/>
          </p:nvGrpSpPr>
          <p:grpSpPr>
            <a:xfrm>
              <a:off x="684360" y="2421000"/>
              <a:ext cx="2980800" cy="639000"/>
              <a:chOff x="684360" y="2421000"/>
              <a:chExt cx="2980800" cy="639000"/>
            </a:xfrm>
          </p:grpSpPr>
          <p:sp>
            <p:nvSpPr>
              <p:cNvPr id="226" name="AutoShape 11"/>
              <p:cNvSpPr/>
              <p:nvPr/>
            </p:nvSpPr>
            <p:spPr>
              <a:xfrm>
                <a:off x="684360" y="2474280"/>
                <a:ext cx="270360" cy="585720"/>
              </a:xfrm>
              <a:custGeom>
                <a:avLst/>
                <a:gdLst>
                  <a:gd name="textAreaLeft" fmla="*/ 172800 w 270360"/>
                  <a:gd name="textAreaRight" fmla="*/ 270720 w 270360"/>
                  <a:gd name="textAreaTop" fmla="*/ 15120 h 585720"/>
                  <a:gd name="textAreaBottom" fmla="*/ 570600 h 58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2"/>
              <p:cNvSpPr/>
              <p:nvPr/>
            </p:nvSpPr>
            <p:spPr>
              <a:xfrm>
                <a:off x="1090440" y="2421000"/>
                <a:ext cx="257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X+y=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40"/>
          <p:cNvGrpSpPr/>
          <p:nvPr/>
        </p:nvGrpSpPr>
        <p:grpSpPr>
          <a:xfrm>
            <a:off x="468360" y="4005360"/>
            <a:ext cx="5184720" cy="1051920"/>
            <a:chOff x="468360" y="4005360"/>
            <a:chExt cx="5184720" cy="1051920"/>
          </a:xfrm>
        </p:grpSpPr>
        <p:sp>
          <p:nvSpPr>
            <p:cNvPr id="229" name="Text Box 14"/>
            <p:cNvSpPr/>
            <p:nvPr/>
          </p:nvSpPr>
          <p:spPr>
            <a:xfrm>
              <a:off x="468360" y="4292640"/>
              <a:ext cx="51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解得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21"/>
            <p:cNvGrpSpPr/>
            <p:nvPr/>
          </p:nvGrpSpPr>
          <p:grpSpPr>
            <a:xfrm>
              <a:off x="1476360" y="4005360"/>
              <a:ext cx="1871280" cy="1051920"/>
              <a:chOff x="1476360" y="4005360"/>
              <a:chExt cx="1871280" cy="1051920"/>
            </a:xfrm>
          </p:grpSpPr>
          <p:grpSp>
            <p:nvGrpSpPr>
              <p:cNvPr id="231" name="Group 20"/>
              <p:cNvGrpSpPr/>
              <p:nvPr/>
            </p:nvGrpSpPr>
            <p:grpSpPr>
              <a:xfrm>
                <a:off x="1476360" y="4005360"/>
                <a:ext cx="1871280" cy="772560"/>
                <a:chOff x="1476360" y="4005360"/>
                <a:chExt cx="1871280" cy="772560"/>
              </a:xfrm>
            </p:grpSpPr>
            <p:sp>
              <p:nvSpPr>
                <p:cNvPr id="232" name="AutoShape 15"/>
                <p:cNvSpPr/>
                <p:nvPr/>
              </p:nvSpPr>
              <p:spPr>
                <a:xfrm>
                  <a:off x="1476360" y="4150080"/>
                  <a:ext cx="138960" cy="627840"/>
                </a:xfrm>
                <a:custGeom>
                  <a:avLst/>
                  <a:gdLst>
                    <a:gd name="textAreaLeft" fmla="*/ 88920 w 138960"/>
                    <a:gd name="textAreaRight" fmla="*/ 139320 w 138960"/>
                    <a:gd name="textAreaTop" fmla="*/ 16200 h 627840"/>
                    <a:gd name="textAreaBottom" fmla="*/ 611640 h 62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6"/>
                <p:cNvSpPr/>
                <p:nvPr/>
              </p:nvSpPr>
              <p:spPr>
                <a:xfrm>
                  <a:off x="1685520" y="4005360"/>
                  <a:ext cx="16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x=10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Text Box 19"/>
              <p:cNvSpPr/>
              <p:nvPr/>
            </p:nvSpPr>
            <p:spPr>
              <a:xfrm>
                <a:off x="1685520" y="4536720"/>
                <a:ext cx="152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y=9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39"/>
          <p:cNvGrpSpPr/>
          <p:nvPr/>
        </p:nvGrpSpPr>
        <p:grpSpPr>
          <a:xfrm>
            <a:off x="684360" y="765000"/>
            <a:ext cx="7343640" cy="6094440"/>
            <a:chOff x="684360" y="765000"/>
            <a:chExt cx="7343640" cy="6094440"/>
          </a:xfrm>
        </p:grpSpPr>
        <p:grpSp>
          <p:nvGrpSpPr>
            <p:cNvPr id="236" name="Group 22"/>
            <p:cNvGrpSpPr/>
            <p:nvPr/>
          </p:nvGrpSpPr>
          <p:grpSpPr>
            <a:xfrm>
              <a:off x="2771640" y="4292640"/>
              <a:ext cx="5184720" cy="2566800"/>
              <a:chOff x="2771640" y="4292640"/>
              <a:chExt cx="5184720" cy="2566800"/>
            </a:xfrm>
          </p:grpSpPr>
          <p:sp>
            <p:nvSpPr>
              <p:cNvPr id="237" name="Rectangle 23"/>
              <p:cNvSpPr/>
              <p:nvPr/>
            </p:nvSpPr>
            <p:spPr>
              <a:xfrm>
                <a:off x="4211280" y="4292640"/>
                <a:ext cx="3745080" cy="20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4"/>
              <p:cNvSpPr/>
              <p:nvPr/>
            </p:nvSpPr>
            <p:spPr>
              <a:xfrm>
                <a:off x="3852720" y="4292640"/>
                <a:ext cx="215640" cy="20160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52560 h 2016000"/>
                  <a:gd name="textAreaBottom" fmla="*/ 1963440 h 20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25"/>
              <p:cNvSpPr/>
              <p:nvPr/>
            </p:nvSpPr>
            <p:spPr>
              <a:xfrm flipH="1" rot="16200000">
                <a:off x="5903640" y="4616280"/>
                <a:ext cx="287280" cy="3672000"/>
              </a:xfrm>
              <a:custGeom>
                <a:avLst/>
                <a:gdLst>
                  <a:gd name="textAreaLeft" fmla="*/ 0 w 287280"/>
                  <a:gd name="textAreaRight" fmla="*/ 103680 w 287280"/>
                  <a:gd name="textAreaTop" fmla="*/ 95760 h 3672000"/>
                  <a:gd name="textAreaBottom" fmla="*/ 3576240 h 367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6"/>
              <p:cNvSpPr/>
              <p:nvPr/>
            </p:nvSpPr>
            <p:spPr>
              <a:xfrm>
                <a:off x="2771640" y="508464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27"/>
              <p:cNvSpPr/>
              <p:nvPr/>
            </p:nvSpPr>
            <p:spPr>
              <a:xfrm>
                <a:off x="6156000" y="649116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Line 29"/>
            <p:cNvSpPr/>
            <p:nvPr/>
          </p:nvSpPr>
          <p:spPr>
            <a:xfrm flipV="1">
              <a:off x="7956720" y="3933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6300720" y="3933360"/>
              <a:ext cx="0" cy="23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"/>
            <p:cNvSpPr/>
            <p:nvPr/>
          </p:nvSpPr>
          <p:spPr>
            <a:xfrm>
              <a:off x="684360" y="765000"/>
              <a:ext cx="73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种种植方案为：甲、乙两种作物的种植区域分别为图中所示的长方形，设其中一段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米，另一段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米 ，根据问题中的长度、产量的数量关系，列方程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8"/>
            <p:cNvSpPr/>
            <p:nvPr/>
          </p:nvSpPr>
          <p:spPr>
            <a:xfrm flipV="1">
              <a:off x="4211640" y="3933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1"/>
            <p:cNvSpPr/>
            <p:nvPr/>
          </p:nvSpPr>
          <p:spPr>
            <a:xfrm>
              <a:off x="5580000" y="4076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 flipH="1">
              <a:off x="4211640" y="4076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3"/>
            <p:cNvSpPr/>
            <p:nvPr/>
          </p:nvSpPr>
          <p:spPr>
            <a:xfrm>
              <a:off x="5076720" y="38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7453440" y="4076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 flipH="1">
              <a:off x="6300360" y="4076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7"/>
            <p:cNvSpPr/>
            <p:nvPr/>
          </p:nvSpPr>
          <p:spPr>
            <a:xfrm>
              <a:off x="6948360" y="3789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41"/>
          <p:cNvSpPr/>
          <p:nvPr/>
        </p:nvSpPr>
        <p:spPr>
          <a:xfrm>
            <a:off x="2700360" y="26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农场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职工耕种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顷土地，计划种植水稻、棉花和蔬菜，已知种植植物每公顷所需的劳动力人数及投入的资金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4360" y="2421000"/>
          <a:ext cx="7920000" cy="1950840"/>
        </p:xfrm>
        <a:graphic>
          <a:graphicData uri="http://schemas.openxmlformats.org/drawingml/2006/table">
            <a:tbl>
              <a:tblPr/>
              <a:tblGrid>
                <a:gridCol w="2016000"/>
                <a:gridCol w="3095640"/>
                <a:gridCol w="28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农作物品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公顷所需劳动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公顷投入资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水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万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棉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8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万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蔬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r>
                        <a:rPr b="1" i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万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40"/>
          <p:cNvSpPr/>
          <p:nvPr/>
        </p:nvSpPr>
        <p:spPr>
          <a:xfrm>
            <a:off x="684360" y="450864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农场计划在设备上投入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，应该怎样安排这三种作物的种植面积，才能使所有职工都有工作，而且投入的资金正好够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41"/>
          <p:cNvSpPr txBox="1"/>
          <p:nvPr/>
        </p:nvSpPr>
        <p:spPr>
          <a:xfrm>
            <a:off x="179280" y="18900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题中有几个已知量？题中求什么？分别安排多少公顷种水稻、棉花和蔬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0"/>
          <p:cNvGrpSpPr/>
          <p:nvPr/>
        </p:nvGrpSpPr>
        <p:grpSpPr>
          <a:xfrm>
            <a:off x="0" y="1700280"/>
            <a:ext cx="9144000" cy="4041720"/>
            <a:chOff x="0" y="1700280"/>
            <a:chExt cx="9144000" cy="4041720"/>
          </a:xfrm>
        </p:grpSpPr>
        <p:grpSp>
          <p:nvGrpSpPr>
            <p:cNvPr id="261" name="Group 19"/>
            <p:cNvGrpSpPr/>
            <p:nvPr/>
          </p:nvGrpSpPr>
          <p:grpSpPr>
            <a:xfrm>
              <a:off x="0" y="1700280"/>
              <a:ext cx="9144000" cy="3269160"/>
              <a:chOff x="0" y="1700280"/>
              <a:chExt cx="9144000" cy="3269160"/>
            </a:xfrm>
          </p:grpSpPr>
          <p:sp>
            <p:nvSpPr>
              <p:cNvPr id="262" name="Text Box 4"/>
              <p:cNvSpPr/>
              <p:nvPr/>
            </p:nvSpPr>
            <p:spPr>
              <a:xfrm>
                <a:off x="0" y="1700280"/>
                <a:ext cx="914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解：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Arial"/>
                  </a:rPr>
                  <a:t>设安排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Arial"/>
                  </a:rPr>
                  <a:t>公顷种水稻、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y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Arial"/>
                  </a:rPr>
                  <a:t>公顷种棉花、则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(51-x-y)</a:t>
                </a:r>
                <a:r>
                  <a:rPr b="1" lang="zh-CN" sz="2400" spc="-1" strike="noStrike">
                    <a:solidFill>
                      <a:srgbClr val="cc0000"/>
                    </a:solidFill>
                    <a:latin typeface="Arial"/>
                  </a:rPr>
                  <a:t>公顷种蔬菜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9"/>
              <p:cNvGrpSpPr/>
              <p:nvPr/>
            </p:nvGrpSpPr>
            <p:grpSpPr>
              <a:xfrm>
                <a:off x="1763640" y="2421000"/>
                <a:ext cx="4537080" cy="1168200"/>
                <a:chOff x="1763640" y="2421000"/>
                <a:chExt cx="4537080" cy="1168200"/>
              </a:xfrm>
            </p:grpSpPr>
            <p:grpSp>
              <p:nvGrpSpPr>
                <p:cNvPr id="264" name="Group 8"/>
                <p:cNvGrpSpPr/>
                <p:nvPr/>
              </p:nvGrpSpPr>
              <p:grpSpPr>
                <a:xfrm>
                  <a:off x="1763640" y="2421000"/>
                  <a:ext cx="4537080" cy="936720"/>
                  <a:chOff x="1763640" y="2421000"/>
                  <a:chExt cx="4537080" cy="936720"/>
                </a:xfrm>
              </p:grpSpPr>
              <p:sp>
                <p:nvSpPr>
                  <p:cNvPr id="265" name="AutoShape 5"/>
                  <p:cNvSpPr/>
                  <p:nvPr/>
                </p:nvSpPr>
                <p:spPr>
                  <a:xfrm>
                    <a:off x="1763640" y="2565360"/>
                    <a:ext cx="73080" cy="792360"/>
                  </a:xfrm>
                  <a:custGeom>
                    <a:avLst/>
                    <a:gdLst>
                      <a:gd name="textAreaLeft" fmla="*/ 46800 w 73080"/>
                      <a:gd name="textAreaRight" fmla="*/ 73440 w 73080"/>
                      <a:gd name="textAreaTop" fmla="*/ 20520 h 792360"/>
                      <a:gd name="textAreaBottom" fmla="*/ 771840 h 792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Text Box 6"/>
                  <p:cNvSpPr/>
                  <p:nvPr/>
                </p:nvSpPr>
                <p:spPr>
                  <a:xfrm>
                    <a:off x="1908000" y="2421000"/>
                    <a:ext cx="4392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4x+8y+5(51-x-y)=3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Text Box 7"/>
                <p:cNvSpPr/>
                <p:nvPr/>
              </p:nvSpPr>
              <p:spPr>
                <a:xfrm>
                  <a:off x="1835280" y="3068640"/>
                  <a:ext cx="439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X+y+2(51-x-y)=6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7"/>
              <p:cNvGrpSpPr/>
              <p:nvPr/>
            </p:nvGrpSpPr>
            <p:grpSpPr>
              <a:xfrm>
                <a:off x="755640" y="3933720"/>
                <a:ext cx="2808360" cy="1035720"/>
                <a:chOff x="755640" y="3933720"/>
                <a:chExt cx="2808360" cy="1035720"/>
              </a:xfrm>
            </p:grpSpPr>
            <p:grpSp>
              <p:nvGrpSpPr>
                <p:cNvPr id="269" name="Group 15"/>
                <p:cNvGrpSpPr/>
                <p:nvPr/>
              </p:nvGrpSpPr>
              <p:grpSpPr>
                <a:xfrm>
                  <a:off x="2050920" y="3933720"/>
                  <a:ext cx="1513080" cy="1035720"/>
                  <a:chOff x="2050920" y="3933720"/>
                  <a:chExt cx="1513080" cy="1035720"/>
                </a:xfrm>
              </p:grpSpPr>
              <p:grpSp>
                <p:nvGrpSpPr>
                  <p:cNvPr id="270" name="Group 14"/>
                  <p:cNvGrpSpPr/>
                  <p:nvPr/>
                </p:nvGrpSpPr>
                <p:grpSpPr>
                  <a:xfrm>
                    <a:off x="2050920" y="3933720"/>
                    <a:ext cx="1441440" cy="865080"/>
                    <a:chOff x="2050920" y="3933720"/>
                    <a:chExt cx="1441440" cy="865080"/>
                  </a:xfrm>
                </p:grpSpPr>
                <p:sp>
                  <p:nvSpPr>
                    <p:cNvPr id="271" name="AutoShape 11"/>
                    <p:cNvSpPr/>
                    <p:nvPr/>
                  </p:nvSpPr>
                  <p:spPr>
                    <a:xfrm>
                      <a:off x="2050920" y="4078080"/>
                      <a:ext cx="71640" cy="720720"/>
                    </a:xfrm>
                    <a:custGeom>
                      <a:avLst/>
                      <a:gdLst>
                        <a:gd name="textAreaLeft" fmla="*/ 45720 w 71640"/>
                        <a:gd name="textAreaRight" fmla="*/ 72000 w 71640"/>
                        <a:gd name="textAreaTop" fmla="*/ 18720 h 720720"/>
                        <a:gd name="textAreaBottom" fmla="*/ 702000 h 7207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Text Box 12"/>
                    <p:cNvSpPr/>
                    <p:nvPr/>
                  </p:nvSpPr>
                  <p:spPr>
                    <a:xfrm>
                      <a:off x="2195640" y="3933720"/>
                      <a:ext cx="1296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Text Box 13"/>
                  <p:cNvSpPr/>
                  <p:nvPr/>
                </p:nvSpPr>
                <p:spPr>
                  <a:xfrm>
                    <a:off x="2195640" y="4509720"/>
                    <a:ext cx="136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Y=2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Text Box 16"/>
                <p:cNvSpPr/>
                <p:nvPr/>
              </p:nvSpPr>
              <p:spPr>
                <a:xfrm>
                  <a:off x="755640" y="436572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得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8"/>
            <p:cNvSpPr/>
            <p:nvPr/>
          </p:nvSpPr>
          <p:spPr>
            <a:xfrm>
              <a:off x="755640" y="5373720"/>
              <a:ext cx="63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：安排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公顷种水稻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公顷种棉花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公顷种蔬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390320" y="1558080"/>
            <a:ext cx="618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大小两种货车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大车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小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可以运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.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大车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一次可以运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大车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辆小车一次可以运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少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117160" y="44366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f2d0d"/>
                </a:solidFill>
                <a:latin typeface="Arial"/>
              </a:rPr>
              <a:t>分析：要解决这个问题的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关键</a:t>
            </a:r>
            <a:r>
              <a:rPr b="1" lang="zh-CN" sz="3600" spc="-1" strike="noStrike">
                <a:solidFill>
                  <a:srgbClr val="cf2d0d"/>
                </a:solidFill>
                <a:latin typeface="Arial"/>
              </a:rPr>
              <a:t>是求每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f2d0d"/>
                </a:solidFill>
                <a:latin typeface="Arial"/>
              </a:rPr>
              <a:t>大车和每辆小车一次可运货多少吨</a:t>
            </a:r>
            <a:r>
              <a:rPr b="1" lang="en-US" sz="3600" spc="-1" strike="noStrike">
                <a:solidFill>
                  <a:srgbClr val="cf2d0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4500720" y="0"/>
            <a:ext cx="3960720" cy="1511280"/>
            <a:chOff x="4500720" y="0"/>
            <a:chExt cx="3960720" cy="1511280"/>
          </a:xfrm>
        </p:grpSpPr>
        <p:sp>
          <p:nvSpPr>
            <p:cNvPr id="280" name="AutoShape 6"/>
            <p:cNvSpPr/>
            <p:nvPr/>
          </p:nvSpPr>
          <p:spPr>
            <a:xfrm>
              <a:off x="4500720" y="0"/>
              <a:ext cx="3960720" cy="1511280"/>
            </a:xfrm>
            <a:prstGeom prst="cloudCallout">
              <a:avLst>
                <a:gd name="adj1" fmla="val -41824"/>
                <a:gd name="adj2" fmla="val 65231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5931360" y="144360"/>
              <a:ext cx="164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c4a12"/>
                  </a:solidFill>
                  <a:latin typeface="Arial"/>
                  <a:ea typeface="方正舒体"/>
                </a:rPr>
                <a:t>解决此题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c4a12"/>
                  </a:solidFill>
                  <a:latin typeface="Arial"/>
                  <a:ea typeface="方正舒体"/>
                </a:rPr>
                <a:t>关键是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WordArt 8"/>
          <p:cNvSpPr txBox="1"/>
          <p:nvPr/>
        </p:nvSpPr>
        <p:spPr>
          <a:xfrm>
            <a:off x="324000" y="62064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学校的篮球比足球数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倍少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个，篮球数与足球数的比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∶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，求这两种球各是多少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中国古代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孙子算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记载了一道广为人知的题目：“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百马，一百瓦，大马一拖三，小马三拖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”问多少大马，多少小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468360" y="260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15:40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6:59Z</dcterms:modified>
  <cp:revision>18</cp:revision>
  <dc:subject>人教版七年级数学（下）全套课件</dc:subject>
  <dc:title>人教版七年级数学（下）全套课件</dc:title>
</cp:coreProperties>
</file>