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9.wmf" ContentType="image/x-wmf"/>
  <Override PartName="/ppt/media/image8.wmf" ContentType="image/x-wmf"/>
  <Override PartName="/ppt/media/image13.png" ContentType="image/png"/>
  <Override PartName="/ppt/media/image5.png" ContentType="image/png"/>
  <Override PartName="/ppt/media/image12.gif" ContentType="image/gif"/>
  <Override PartName="/ppt/media/drumroll.wav" ContentType="audio/x-wav"/>
  <Override PartName="/ppt/media/image7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5.gif" ContentType="image/gif"/>
  <Override PartName="/ppt/media/image1.png" ContentType="image/png"/>
  <Override PartName="/ppt/media/image17.wmf" ContentType="image/x-wmf"/>
  <Override PartName="/ppt/media/image14.gif" ContentType="image/gif"/>
  <Override PartName="/ppt/media/image16.wmf" ContentType="image/x-wmf"/>
  <Override PartName="/ppt/media/image3.gif" ContentType="image/gif"/>
  <Override PartName="/ppt/media/image6.wmf" ContentType="image/x-wmf"/>
  <Override PartName="/ppt/media/image11.wmf" ContentType="image/x-wmf"/>
  <Override PartName="/ppt/media/image4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97332-0A3E-4944-A300-FE86F17D8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E7308-FAE4-40C5-9592-978554A8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368F8-CA03-4AAF-AABE-78F88DF4C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78C6E-E3C0-492B-A41D-7FB9E6F42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2119D-C24D-4CE3-9EDF-6BBC28897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9297-AB10-482E-B421-900C37FC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632B-EEE6-41A0-A0A8-8861160D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4F3E-9CEA-43CB-878C-8E7689F7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F629-D8F6-4E09-9015-0144CE63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909F8-2A1E-4B70-806D-B84865C8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63C3-5D67-4AD9-A2F0-526ACA0F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21DF6-6570-4B6C-8A01-DCA3CA08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A68E-9364-490B-8B2A-F200742B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5546-AACA-4846-90F6-C14FAABA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C216F-2113-417C-B577-FE17B444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2862-7CFE-4E4F-91AF-74240030B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10E70-0C45-4F7E-8EC0-63170B5D7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867170-DB9F-45ED-A3FD-54CF1CACF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FA8991-1620-454C-A2F5-73A350FB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50C632-6062-4B0F-AFD9-0148F49A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078813-16E9-4F6F-9887-7CAC8B84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6D38CD-9F1C-4EA1-B004-014CAF93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FF209-A064-47D8-8163-365052C3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06CA14-6C8C-4211-A472-D3DDEDC2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453ED1-157E-4FB4-9598-B5A27495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276F08-B874-4A25-8DFC-AB5CCD27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CEF528-3522-4951-ABCE-47DBADDD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86C2C0-A30E-49B4-9C04-D396B321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627B2A-30A9-42B5-A4A0-41FFB0606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3D88D9-5845-4EB5-8324-A5DC85155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704E9-A83F-4D57-AB06-64966C2D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DC421-9D6B-445B-9310-009694A5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8F3D0-490B-4C06-B09A-8B77FB53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CB278-BEA3-492B-9D6C-DE5E680F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3E012-34BF-457A-90E2-D9D95523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D521E-35FB-4DC6-B256-D8280C95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222A-585E-4613-B019-D9C1E8F8D2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9B52-4482-4FB9-A333-DCC3CEE001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7A7E-11CB-472B-94B6-2650B2FB34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9.wmf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WordArt 4" descr=""/>
          <p:cNvPicPr/>
          <p:nvPr/>
        </p:nvPicPr>
        <p:blipFill>
          <a:blip r:embed="rId1"/>
          <a:stretch/>
        </p:blipFill>
        <p:spPr>
          <a:xfrm>
            <a:off x="1596960" y="828720"/>
            <a:ext cx="6535800" cy="976320"/>
          </a:xfrm>
          <a:prstGeom prst="rect">
            <a:avLst/>
          </a:prstGeom>
          <a:ln w="0">
            <a:noFill/>
          </a:ln>
        </p:spPr>
      </p:pic>
      <p:sp>
        <p:nvSpPr>
          <p:cNvPr id="159" name="WordArt 5"/>
          <p:cNvSpPr txBox="1"/>
          <p:nvPr/>
        </p:nvSpPr>
        <p:spPr>
          <a:xfrm>
            <a:off x="2268360" y="5788080"/>
            <a:ext cx="4572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新海实验中学　　吴雪英</a:t>
            </a:r>
            <a:endParaRPr b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2"/>
          <p:cNvGrpSpPr/>
          <p:nvPr/>
        </p:nvGrpSpPr>
        <p:grpSpPr>
          <a:xfrm>
            <a:off x="539640" y="0"/>
            <a:ext cx="6095880" cy="1514520"/>
            <a:chOff x="539640" y="0"/>
            <a:chExt cx="6095880" cy="1514520"/>
          </a:xfrm>
        </p:grpSpPr>
        <p:grpSp>
          <p:nvGrpSpPr>
            <p:cNvPr id="259" name="Group 3"/>
            <p:cNvGrpSpPr/>
            <p:nvPr/>
          </p:nvGrpSpPr>
          <p:grpSpPr>
            <a:xfrm>
              <a:off x="539640" y="380880"/>
              <a:ext cx="3505320" cy="781200"/>
              <a:chOff x="539640" y="380880"/>
              <a:chExt cx="3505320" cy="781200"/>
            </a:xfrm>
          </p:grpSpPr>
          <p:sp>
            <p:nvSpPr>
              <p:cNvPr id="260" name="Rectangle 4"/>
              <p:cNvSpPr/>
              <p:nvPr/>
            </p:nvSpPr>
            <p:spPr>
              <a:xfrm>
                <a:off x="539640" y="580680"/>
                <a:ext cx="3505320" cy="58140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  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想一想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,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做一做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5"/>
              <p:cNvSpPr/>
              <p:nvPr/>
            </p:nvSpPr>
            <p:spPr>
              <a:xfrm>
                <a:off x="3357720" y="380880"/>
                <a:ext cx="6822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  <a:ea typeface="BatangChe"/>
                  </a:rPr>
                  <a:t>☞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62" name="Picture 6" descr="678"/>
            <p:cNvPicPr/>
            <p:nvPr/>
          </p:nvPicPr>
          <p:blipFill>
            <a:blip r:embed="rId1"/>
            <a:stretch/>
          </p:blipFill>
          <p:spPr>
            <a:xfrm>
              <a:off x="4197240" y="0"/>
              <a:ext cx="2438280" cy="151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7" descr="gif003[1]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539640" y="685800"/>
              <a:ext cx="53352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4" name="Text Box 8"/>
          <p:cNvSpPr/>
          <p:nvPr/>
        </p:nvSpPr>
        <p:spPr>
          <a:xfrm>
            <a:off x="250920" y="1557360"/>
            <a:ext cx="878508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某零件制造车间有工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名，已知每名工人每天可制造甲种零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或乙种零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，且每制造一个甲种零件可获利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，每制造一个乙种零件可获利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。在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名工人中，车间每天安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名工人制造甲种零件，其余工人制造乙种零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请写出此车间每天所获利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元）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之间的函数关系式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若要使车间每天所获利润不低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，你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至少要派多少名工人去制造乙种零件才合适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1403280" y="328464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课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34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习题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1.8   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WordArt 3"/>
          <p:cNvSpPr txBox="1"/>
          <p:nvPr/>
        </p:nvSpPr>
        <p:spPr>
          <a:xfrm>
            <a:off x="1403280" y="981000"/>
            <a:ext cx="2952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作业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268" name="Picture 4" descr="16"/>
          <p:cNvPicPr/>
          <p:nvPr/>
        </p:nvPicPr>
        <p:blipFill>
          <a:blip r:embed="rId1"/>
          <a:stretch/>
        </p:blipFill>
        <p:spPr>
          <a:xfrm>
            <a:off x="1476360" y="6138720"/>
            <a:ext cx="6191280" cy="7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971640" y="1773360"/>
            <a:ext cx="7129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十七世纪法国数学家笛卡尔有一次生病卧床，他看见屋顶上的一只蜘蛛顺着左右爬行，笛卡尔看到蜘蛛的“表演”猛的灵机一动。他想，可以把蜘蛛看成一个点，它可以上、下、左、右运动，能不能知道蜘蛛的位置用一组数确定下来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在蜘蛛爬行的启示下，笛卡尔创建了直角坐标系，在坐标系下几何图形（形）和方程（数）建立联系，笛卡尔坐标系起到了桥梁和纽带的作用。而我们可以把图形化成方程来研究，也可以用图象来研究方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这节课我们就来研究二元一次方程（数）与一次函数（形）的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WordArt 3" descr=""/>
          <p:cNvPicPr/>
          <p:nvPr/>
        </p:nvPicPr>
        <p:blipFill>
          <a:blip r:embed="rId1"/>
          <a:stretch/>
        </p:blipFill>
        <p:spPr>
          <a:xfrm>
            <a:off x="1249200" y="609480"/>
            <a:ext cx="4956480" cy="5540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6"/>
          <p:cNvPicPr/>
          <p:nvPr/>
        </p:nvPicPr>
        <p:blipFill>
          <a:blip r:embed="rId2"/>
          <a:stretch/>
        </p:blipFill>
        <p:spPr>
          <a:xfrm>
            <a:off x="6732720" y="404640"/>
            <a:ext cx="1685880" cy="1428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3"/>
          <p:cNvPicPr/>
          <p:nvPr/>
        </p:nvPicPr>
        <p:blipFill>
          <a:blip r:embed="rId3"/>
          <a:stretch/>
        </p:blipFill>
        <p:spPr>
          <a:xfrm>
            <a:off x="324000" y="1773360"/>
            <a:ext cx="826920" cy="826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3"/>
          <p:cNvPicPr/>
          <p:nvPr/>
        </p:nvPicPr>
        <p:blipFill>
          <a:blip r:embed="rId4"/>
          <a:stretch/>
        </p:blipFill>
        <p:spPr>
          <a:xfrm>
            <a:off x="250920" y="3716280"/>
            <a:ext cx="826920" cy="827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3"/>
          <p:cNvPicPr/>
          <p:nvPr/>
        </p:nvPicPr>
        <p:blipFill>
          <a:blip r:embed="rId5"/>
          <a:stretch/>
        </p:blipFill>
        <p:spPr>
          <a:xfrm>
            <a:off x="324000" y="5661000"/>
            <a:ext cx="826920" cy="8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222 -0.33056 C 0.2316 -0.33888 0.23559 -0.34097 0.24219 -0.35137 C 0.24844 -0.36108 0.25052 -0.36801 0.26007 -0.37217 C 0.27205 -0.36894 0.27378 -0.36501 0.28438 -0.36015 C 0.28715 -0.35483 0.2967 -0.33704 0.3 -0.33357 C 0.3059 -0.32733 0.32326 -0.32594 0.32882 -0.32478 C 0.3408 -0.30074 0.33142 -0.28341 0.32448 -0.2626 C 0.32257 -0.25682 0.32153 -0.25081 0.31997 -0.2448 C 0.31927 -0.2418 0.31771 -0.23602 0.31771 -0.23602 C 0.31632 -0.21244 0.32118 -0.19626 0.30451 -0.18863 C 0.29931 -0.17846 0.29444 -0.17176 0.28663 -0.16505 C 0.27639 -0.14425 0.28212 -0.15118 0.27118 -0.14124 C 0.26701 -0.14194 0.25226 -0.14425 0.2467 -0.14725 C 0.24427 -0.14864 0.24253 -0.15188 0.23993 -0.15303 C 0.23576 -0.15488 0.23108 -0.15465 0.22674 -0.15604 C 0.22222 -0.15765 0.21337 -0.16205 0.21337 -0.16205 C 0.20156 -0.1773 0.18698 -0.19071 0.17118 -0.19741 C 0.16458 -0.20342 0.15781 -0.20643 0.15104 -0.21221 C 0.14965 -0.21521 0.1467 -0.21776 0.1467 -0.22122 C 0.1467 -0.23024 0.15365 -0.23116 0.15781 -0.23301 C 0.15851 -0.23602 0.15885 -0.23902 0.16007 -0.2418 C 0.16267 -0.24804 0.16892 -0.2596 0.16892 -0.2596 C 0.17205 -0.27254 0.17465 -0.28549 0.17778 -0.2982 C 0.18038 -0.34351 0.17344 -0.34489 0.20451 -0.33958 C 0.20885 -0.3375 0.21337 -0.33565 0.21771 -0.33357 C 0.225 -0.33033 0.22691 -0.33056 0.22222 -0.33056 Z">
                                      <p:cBhvr>
                                        <p:cTn id="11" dur="5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1042920" y="1268280"/>
            <a:ext cx="7705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(1)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函数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y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=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+1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上的任意一点的坐标是否满足方程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－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y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=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－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(2)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以方程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－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y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=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－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的解为坐标的点在不在函数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y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=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+1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的图象上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(3)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方程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－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y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=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－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与函数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y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=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+1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有何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以方程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－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y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=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－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的解为坐标的点组成的图象与一次函数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y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=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+1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的图象相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3"/>
          <p:cNvPicPr/>
          <p:nvPr/>
        </p:nvPicPr>
        <p:blipFill>
          <a:blip r:embed="rId1"/>
          <a:stretch/>
        </p:blipFill>
        <p:spPr>
          <a:xfrm>
            <a:off x="108000" y="242100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3"/>
          <p:cNvPicPr/>
          <p:nvPr/>
        </p:nvPicPr>
        <p:blipFill>
          <a:blip r:embed="rId2"/>
          <a:stretch/>
        </p:blipFill>
        <p:spPr>
          <a:xfrm>
            <a:off x="108000" y="1413000"/>
            <a:ext cx="539640" cy="539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3"/>
          <p:cNvPicPr/>
          <p:nvPr/>
        </p:nvPicPr>
        <p:blipFill>
          <a:blip r:embed="rId3"/>
          <a:stretch/>
        </p:blipFill>
        <p:spPr>
          <a:xfrm>
            <a:off x="73080" y="350028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3"/>
          <p:cNvPicPr/>
          <p:nvPr/>
        </p:nvPicPr>
        <p:blipFill>
          <a:blip r:embed="rId4"/>
          <a:stretch/>
        </p:blipFill>
        <p:spPr>
          <a:xfrm>
            <a:off x="73080" y="490536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173" name="WordArt 7" descr=""/>
          <p:cNvPicPr/>
          <p:nvPr/>
        </p:nvPicPr>
        <p:blipFill>
          <a:blip r:embed="rId5"/>
          <a:stretch/>
        </p:blipFill>
        <p:spPr>
          <a:xfrm>
            <a:off x="1030320" y="438120"/>
            <a:ext cx="5273640" cy="5065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8"/>
          <p:cNvSpPr/>
          <p:nvPr/>
        </p:nvSpPr>
        <p:spPr>
          <a:xfrm>
            <a:off x="4356000" y="90792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WordArt 2"/>
          <p:cNvSpPr txBox="1"/>
          <p:nvPr/>
        </p:nvSpPr>
        <p:spPr>
          <a:xfrm>
            <a:off x="1042920" y="836640"/>
            <a:ext cx="13716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做一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258920" y="148428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在同一坐标系下画出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+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=4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的图象，他们的交点坐标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4"/>
              <p:cNvSpPr txBox="1"/>
              <p:nvPr/>
            </p:nvSpPr>
            <p:spPr>
              <a:xfrm>
                <a:off x="2771640" y="2852640"/>
                <a:ext cx="115272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9" name="Text Box 5"/>
          <p:cNvSpPr/>
          <p:nvPr/>
        </p:nvSpPr>
        <p:spPr>
          <a:xfrm>
            <a:off x="971640" y="422100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结论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  函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+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=4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的交点坐标就是有两个函数表达式组成的方程组             的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6"/>
              <p:cNvSpPr txBox="1"/>
              <p:nvPr/>
            </p:nvSpPr>
            <p:spPr>
              <a:xfrm>
                <a:off x="5724360" y="4581360"/>
                <a:ext cx="12956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1" name="Text Box 7"/>
          <p:cNvSpPr/>
          <p:nvPr/>
        </p:nvSpPr>
        <p:spPr>
          <a:xfrm>
            <a:off x="1258920" y="29242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方程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4067280" y="292428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的解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6156360" y="19018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1,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11"/>
          <p:cNvGraphicFramePr/>
          <p:nvPr/>
        </p:nvGraphicFramePr>
        <p:xfrm>
          <a:off x="6215040" y="2708280"/>
          <a:ext cx="8892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15040" y="2708280"/>
                    <a:ext cx="8892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Rectangle 12"/>
          <p:cNvSpPr/>
          <p:nvPr/>
        </p:nvSpPr>
        <p:spPr>
          <a:xfrm>
            <a:off x="2916360" y="54936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"/>
          <p:cNvSpPr/>
          <p:nvPr/>
        </p:nvSpPr>
        <p:spPr>
          <a:xfrm>
            <a:off x="539640" y="1125360"/>
            <a:ext cx="208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方程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611280" y="1844640"/>
            <a:ext cx="122400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由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4"/>
              <p:cNvSpPr txBox="1"/>
              <p:nvPr/>
            </p:nvSpPr>
            <p:spPr>
              <a:xfrm>
                <a:off x="1692360" y="1916280"/>
                <a:ext cx="181764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Text Box 5"/>
          <p:cNvSpPr/>
          <p:nvPr/>
        </p:nvSpPr>
        <p:spPr>
          <a:xfrm>
            <a:off x="3348000" y="184788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6"/>
              <p:cNvSpPr txBox="1"/>
              <p:nvPr/>
            </p:nvSpPr>
            <p:spPr>
              <a:xfrm>
                <a:off x="4067280" y="1671480"/>
                <a:ext cx="1511280" cy="7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Text Box 7"/>
          <p:cNvSpPr/>
          <p:nvPr/>
        </p:nvSpPr>
        <p:spPr>
          <a:xfrm>
            <a:off x="4859280" y="2708280"/>
            <a:ext cx="428472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同一直角坐标系内作出一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                          的图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图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8"/>
              <p:cNvSpPr txBox="1"/>
              <p:nvPr/>
            </p:nvSpPr>
            <p:spPr>
              <a:xfrm>
                <a:off x="5443560" y="3083040"/>
                <a:ext cx="22240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9"/>
              <p:cNvSpPr txBox="1"/>
              <p:nvPr/>
            </p:nvSpPr>
            <p:spPr>
              <a:xfrm>
                <a:off x="5003640" y="3871800"/>
                <a:ext cx="1582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10"/>
              <p:cNvSpPr txBox="1"/>
              <p:nvPr/>
            </p:nvSpPr>
            <p:spPr>
              <a:xfrm>
                <a:off x="2195640" y="907920"/>
                <a:ext cx="165564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11"/>
              <p:cNvSpPr txBox="1"/>
              <p:nvPr/>
            </p:nvSpPr>
            <p:spPr>
              <a:xfrm>
                <a:off x="6553080" y="4819680"/>
                <a:ext cx="21956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99" name="Object 12"/>
          <p:cNvGraphicFramePr/>
          <p:nvPr/>
        </p:nvGraphicFramePr>
        <p:xfrm>
          <a:off x="5884920" y="5830920"/>
          <a:ext cx="2000160" cy="91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84920" y="5830920"/>
                    <a:ext cx="20001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WordArt 13"/>
          <p:cNvSpPr txBox="1"/>
          <p:nvPr/>
        </p:nvSpPr>
        <p:spPr>
          <a:xfrm>
            <a:off x="468360" y="476280"/>
            <a:ext cx="50418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方程与函数关系的应用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1230480" y="233352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由                     可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15"/>
              <p:cNvSpPr txBox="1"/>
              <p:nvPr/>
            </p:nvSpPr>
            <p:spPr>
              <a:xfrm>
                <a:off x="1706400" y="2374920"/>
                <a:ext cx="17132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Text Box 16"/>
          <p:cNvSpPr/>
          <p:nvPr/>
        </p:nvSpPr>
        <p:spPr>
          <a:xfrm>
            <a:off x="4975200" y="5030640"/>
            <a:ext cx="7561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所以方程组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解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17"/>
              <p:cNvSpPr txBox="1"/>
              <p:nvPr/>
            </p:nvSpPr>
            <p:spPr>
              <a:xfrm>
                <a:off x="3995640" y="2349360"/>
                <a:ext cx="1690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Text Box 18"/>
          <p:cNvSpPr/>
          <p:nvPr/>
        </p:nvSpPr>
        <p:spPr>
          <a:xfrm>
            <a:off x="5164200" y="4319640"/>
            <a:ext cx="352224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得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交点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4" descr=""/>
          <p:cNvPicPr/>
          <p:nvPr/>
        </p:nvPicPr>
        <p:blipFill>
          <a:blip r:embed="rId3"/>
          <a:stretch/>
        </p:blipFill>
        <p:spPr>
          <a:xfrm>
            <a:off x="468360" y="2852640"/>
            <a:ext cx="3762360" cy="3762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5" descr=""/>
          <p:cNvPicPr/>
          <p:nvPr/>
        </p:nvPicPr>
        <p:blipFill>
          <a:blip r:embed="rId4"/>
          <a:stretch/>
        </p:blipFill>
        <p:spPr>
          <a:xfrm>
            <a:off x="466560" y="2852640"/>
            <a:ext cx="4019760" cy="3781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7" descr=""/>
          <p:cNvPicPr/>
          <p:nvPr/>
        </p:nvPicPr>
        <p:blipFill>
          <a:blip r:embed="rId5"/>
          <a:stretch/>
        </p:blipFill>
        <p:spPr>
          <a:xfrm>
            <a:off x="468360" y="2781360"/>
            <a:ext cx="3867120" cy="3800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8" descr=""/>
          <p:cNvPicPr/>
          <p:nvPr/>
        </p:nvPicPr>
        <p:blipFill>
          <a:blip r:embed="rId6"/>
          <a:stretch/>
        </p:blipFill>
        <p:spPr>
          <a:xfrm>
            <a:off x="468360" y="2781360"/>
            <a:ext cx="3848040" cy="37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971640" y="1989000"/>
            <a:ext cx="7921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、把两个方程都化成函数表达式的形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、画出两个函数的图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、画出交点坐标，交点坐标即为方程组的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WordArt 3"/>
          <p:cNvSpPr txBox="1"/>
          <p:nvPr/>
        </p:nvSpPr>
        <p:spPr>
          <a:xfrm>
            <a:off x="1677960" y="404640"/>
            <a:ext cx="5486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让我们来总结一下做题步骤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14" name="Picture 4" descr="16"/>
          <p:cNvPicPr/>
          <p:nvPr/>
        </p:nvPicPr>
        <p:blipFill>
          <a:blip r:embed="rId1"/>
          <a:stretch/>
        </p:blipFill>
        <p:spPr>
          <a:xfrm>
            <a:off x="468360" y="5734080"/>
            <a:ext cx="7632720" cy="7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539640" y="220500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本节课我们通过操作和思考，揭示了二元一次方程和函数图象之间的对应关系，从而引入二元一次方程组的图象解法，同时也建立了“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-----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二元一次方程与“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-----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一次函数图象之间的对应关系 ，这就是数形结合的思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WordArt 3" descr=""/>
          <p:cNvPicPr/>
          <p:nvPr/>
        </p:nvPicPr>
        <p:blipFill>
          <a:blip r:embed="rId1"/>
          <a:stretch/>
        </p:blipFill>
        <p:spPr>
          <a:xfrm>
            <a:off x="457200" y="469800"/>
            <a:ext cx="3511440" cy="1627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3"/>
          <p:cNvPicPr/>
          <p:nvPr/>
        </p:nvPicPr>
        <p:blipFill>
          <a:blip r:embed="rId2"/>
          <a:stretch/>
        </p:blipFill>
        <p:spPr>
          <a:xfrm>
            <a:off x="8170920" y="5884920"/>
            <a:ext cx="973080" cy="97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539640" y="0"/>
            <a:ext cx="6095880" cy="1514520"/>
            <a:chOff x="539640" y="0"/>
            <a:chExt cx="6095880" cy="1514520"/>
          </a:xfrm>
        </p:grpSpPr>
        <p:grpSp>
          <p:nvGrpSpPr>
            <p:cNvPr id="221" name="Group 5"/>
            <p:cNvGrpSpPr/>
            <p:nvPr/>
          </p:nvGrpSpPr>
          <p:grpSpPr>
            <a:xfrm>
              <a:off x="539640" y="380880"/>
              <a:ext cx="3505320" cy="781200"/>
              <a:chOff x="539640" y="380880"/>
              <a:chExt cx="3505320" cy="781200"/>
            </a:xfrm>
          </p:grpSpPr>
          <p:sp>
            <p:nvSpPr>
              <p:cNvPr id="222" name="Rectangle 6"/>
              <p:cNvSpPr/>
              <p:nvPr/>
            </p:nvSpPr>
            <p:spPr>
              <a:xfrm>
                <a:off x="539640" y="580680"/>
                <a:ext cx="3505320" cy="58140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  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想一想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,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做一做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Rectangle 7"/>
              <p:cNvSpPr/>
              <p:nvPr/>
            </p:nvSpPr>
            <p:spPr>
              <a:xfrm>
                <a:off x="3357720" y="380880"/>
                <a:ext cx="6822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  <a:ea typeface="BatangChe"/>
                  </a:rPr>
                  <a:t>☞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4" name="Picture 8" descr="678"/>
            <p:cNvPicPr/>
            <p:nvPr/>
          </p:nvPicPr>
          <p:blipFill>
            <a:blip r:embed="rId1"/>
            <a:stretch/>
          </p:blipFill>
          <p:spPr>
            <a:xfrm>
              <a:off x="4197240" y="0"/>
              <a:ext cx="2438280" cy="151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9" descr="gif003[1]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539640" y="685800"/>
              <a:ext cx="53352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Text Box 18"/>
          <p:cNvSpPr/>
          <p:nvPr/>
        </p:nvSpPr>
        <p:spPr>
          <a:xfrm>
            <a:off x="611280" y="17002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已知直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20"/>
          <p:cNvGraphicFramePr/>
          <p:nvPr/>
        </p:nvGraphicFramePr>
        <p:xfrm>
          <a:off x="2700360" y="1704960"/>
          <a:ext cx="1716120" cy="5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1704960"/>
                    <a:ext cx="171612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21"/>
          <p:cNvGraphicFramePr/>
          <p:nvPr/>
        </p:nvGraphicFramePr>
        <p:xfrm>
          <a:off x="4960800" y="1700280"/>
          <a:ext cx="1716120" cy="57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0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60800" y="1700280"/>
                    <a:ext cx="17161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Text Box 22"/>
          <p:cNvSpPr/>
          <p:nvPr/>
        </p:nvSpPr>
        <p:spPr>
          <a:xfrm>
            <a:off x="4427640" y="168588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3"/>
          <p:cNvSpPr/>
          <p:nvPr/>
        </p:nvSpPr>
        <p:spPr>
          <a:xfrm>
            <a:off x="1258920" y="2276640"/>
            <a:ext cx="72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求两条直线的交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坐标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4"/>
          <p:cNvSpPr/>
          <p:nvPr/>
        </p:nvSpPr>
        <p:spPr>
          <a:xfrm>
            <a:off x="1258920" y="292428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设直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Object 26"/>
          <p:cNvGraphicFramePr/>
          <p:nvPr/>
        </p:nvGraphicFramePr>
        <p:xfrm>
          <a:off x="3348000" y="2924280"/>
          <a:ext cx="414360" cy="573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5" name="Object 2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48000" y="2924280"/>
                    <a:ext cx="41436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Text Box 27"/>
          <p:cNvSpPr/>
          <p:nvPr/>
        </p:nvSpPr>
        <p:spPr>
          <a:xfrm>
            <a:off x="3635280" y="29242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Object 29"/>
          <p:cNvGraphicFramePr/>
          <p:nvPr/>
        </p:nvGraphicFramePr>
        <p:xfrm>
          <a:off x="4140360" y="2913120"/>
          <a:ext cx="446040" cy="573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8" name="Object 2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2913120"/>
                    <a:ext cx="44604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Text Box 31"/>
          <p:cNvSpPr/>
          <p:nvPr/>
        </p:nvSpPr>
        <p:spPr>
          <a:xfrm>
            <a:off x="4543560" y="2938320"/>
            <a:ext cx="41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别交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2"/>
          <p:cNvSpPr/>
          <p:nvPr/>
        </p:nvSpPr>
        <p:spPr>
          <a:xfrm>
            <a:off x="2195640" y="3630600"/>
            <a:ext cx="73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轴于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求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面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2"/>
          <p:cNvGrpSpPr/>
          <p:nvPr/>
        </p:nvGrpSpPr>
        <p:grpSpPr>
          <a:xfrm>
            <a:off x="539640" y="0"/>
            <a:ext cx="6095880" cy="1514520"/>
            <a:chOff x="539640" y="0"/>
            <a:chExt cx="6095880" cy="1514520"/>
          </a:xfrm>
        </p:grpSpPr>
        <p:grpSp>
          <p:nvGrpSpPr>
            <p:cNvPr id="243" name="Group 3"/>
            <p:cNvGrpSpPr/>
            <p:nvPr/>
          </p:nvGrpSpPr>
          <p:grpSpPr>
            <a:xfrm>
              <a:off x="539640" y="380880"/>
              <a:ext cx="3505320" cy="781200"/>
              <a:chOff x="539640" y="380880"/>
              <a:chExt cx="3505320" cy="781200"/>
            </a:xfrm>
          </p:grpSpPr>
          <p:sp>
            <p:nvSpPr>
              <p:cNvPr id="244" name="Rectangle 4"/>
              <p:cNvSpPr/>
              <p:nvPr/>
            </p:nvSpPr>
            <p:spPr>
              <a:xfrm>
                <a:off x="539640" y="580680"/>
                <a:ext cx="3505320" cy="58140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  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想一想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,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做一做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Rectangle 5"/>
              <p:cNvSpPr/>
              <p:nvPr/>
            </p:nvSpPr>
            <p:spPr>
              <a:xfrm>
                <a:off x="3357720" y="380880"/>
                <a:ext cx="6822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  <a:ea typeface="BatangChe"/>
                  </a:rPr>
                  <a:t>☞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46" name="Picture 6" descr="678"/>
            <p:cNvPicPr/>
            <p:nvPr/>
          </p:nvPicPr>
          <p:blipFill>
            <a:blip r:embed="rId1"/>
            <a:stretch/>
          </p:blipFill>
          <p:spPr>
            <a:xfrm>
              <a:off x="4197240" y="0"/>
              <a:ext cx="2438280" cy="151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7" descr="gif003[1]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539640" y="685800"/>
              <a:ext cx="53352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8" name="Text Box 8"/>
          <p:cNvSpPr/>
          <p:nvPr/>
        </p:nvSpPr>
        <p:spPr>
          <a:xfrm>
            <a:off x="611280" y="170028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已知反比例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1"/>
          <p:cNvSpPr/>
          <p:nvPr/>
        </p:nvSpPr>
        <p:spPr>
          <a:xfrm>
            <a:off x="4716360" y="170028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一次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1185840" y="2276640"/>
            <a:ext cx="72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中一次函数的图象经过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5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1258920" y="292428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试求反比例函数的解析式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8"/>
          <p:cNvSpPr/>
          <p:nvPr/>
        </p:nvSpPr>
        <p:spPr>
          <a:xfrm>
            <a:off x="1258920" y="3645000"/>
            <a:ext cx="734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若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第一象限，且同时在上述两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的图象上，求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坐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Object 19"/>
          <p:cNvGraphicFramePr/>
          <p:nvPr/>
        </p:nvGraphicFramePr>
        <p:xfrm>
          <a:off x="3780000" y="1434960"/>
          <a:ext cx="985680" cy="9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1434960"/>
                    <a:ext cx="985680" cy="9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21"/>
          <p:cNvGraphicFramePr/>
          <p:nvPr/>
        </p:nvGraphicFramePr>
        <p:xfrm>
          <a:off x="6602400" y="1725480"/>
          <a:ext cx="1554120" cy="5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02400" y="1725480"/>
                    <a:ext cx="15541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2T13:10:35Z</dcterms:created>
  <dc:creator>kejianyuan.com</dc:creator>
  <dc:description>kejianyuan.com</dc:description>
  <cp:keywords>kejianyuan.com</cp:keywords>
  <dc:language>en-US</dc:language>
  <cp:lastModifiedBy>jhfans</cp:lastModifiedBy>
  <dcterms:modified xsi:type="dcterms:W3CDTF">2014-09-10T16:16:57Z</dcterms:modified>
  <cp:revision>5</cp:revision>
  <dc:subject>人教版七年级数学（下）全套课件</dc:subject>
  <dc:title>人教版七年级数学（下）全套课件</dc:title>
</cp:coreProperties>
</file>