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BB6-4B2E-465F-B76A-87E8D64F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58B-AEAD-4F17-82F4-A2B547B7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BDE-C63C-414A-9889-6AE6E52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308-43C5-48EC-8920-86749908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AC87-B893-43D1-9F83-95ECD51A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C1EE-3987-47CB-B523-ED19751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183-78A3-495E-A1F3-11A974D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7E9E-71BA-4A4F-B8E7-D6A7138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31A7-5E83-47B5-B7E8-FEE9AE3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8DED-58BB-4B11-B2CD-1391C62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BBAF-FC7F-4052-97F5-18EF2EC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CB2-83EA-4DDB-AE89-4E740F8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B87F-CF3E-4ACD-A2A8-6B1E062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2F9-E574-411D-9DF3-DEFA10D0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8BB-33C7-4AF8-9844-22B1629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72A-5C04-4772-86C8-B796ED3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B7E-6026-4FA7-9696-89511523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CE92-7A9E-4247-AB8B-562AD7F3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AF8A-DCC3-4AAC-9D35-C05B6C2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30B2-2DA5-4FF1-9998-F0E8EC95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D2FD-7EED-4273-B7E1-A3539D34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5342-7E3E-4E9F-A615-0ED882C8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006-CAF0-499A-BA93-02A260A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A47E-5336-4C54-9A77-0820F82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628D-C3A5-4050-9E36-7EE8E35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20E4-C13C-4314-B43A-0E45934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3501-0EAE-46E5-A417-E23790B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0213-736F-4E85-9778-14EE751A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43E8-B4F6-49E6-A3B9-7540A610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B0C1-F819-41D7-8F5E-424DD1A2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955-B049-4158-831E-6AD2DBE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706-F395-49C2-989E-F75D970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99-79A8-4610-8E92-C533E9A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9F8-60B2-4BC6-9816-E8B88EC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473-8756-475A-8B71-3438487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578-8BF5-481E-9CBD-6FE41CD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716-BA34-499C-B2E1-C3D4799A5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6D4C-7449-453B-A4CE-09089268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3E9-F641-43E1-9EB5-A22CCEA1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五章 二元一次方程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元一次方程组的解法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总结复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9144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下面两个二元一次方程组的解法有什么区别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请自编两道二元一次方程组的应用题，分别体现以上两种解法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6003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52280" y="43434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解决以上问题的过程中，你对运用二元一次方程组解应用题有什么认识（主要谈解法思路）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41004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4024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6"/>
              <p:cNvSpPr txBox="1"/>
              <p:nvPr/>
            </p:nvSpPr>
            <p:spPr>
              <a:xfrm>
                <a:off x="838080" y="1523880"/>
                <a:ext cx="28958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Rectangle 49"/>
          <p:cNvSpPr/>
          <p:nvPr/>
        </p:nvSpPr>
        <p:spPr>
          <a:xfrm>
            <a:off x="3995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8"/>
              <p:cNvSpPr txBox="1"/>
              <p:nvPr/>
            </p:nvSpPr>
            <p:spPr>
              <a:xfrm>
                <a:off x="4038480" y="1600200"/>
                <a:ext cx="2819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79440" y="185760"/>
            <a:ext cx="24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．问题引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04920" y="762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问题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甲、乙、丙三数的和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甲数比乙数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甲数的两倍与丙数的和比乙数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求这三个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304920" y="1828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题目中有几个未知数？含有几个相等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根据题意列出几个方程？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生活动：回答问题、设未知数、列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7767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228600" y="3276720"/>
            <a:ext cx="5867280" cy="1984320"/>
            <a:chOff x="228600" y="3276720"/>
            <a:chExt cx="5867280" cy="1984320"/>
          </a:xfrm>
        </p:grpSpPr>
        <mc:AlternateContent>
          <mc:Choice xmlns:a14="http://schemas.microsoft.com/office/drawing/2010/main" Requires="a14">
            <p:sp>
              <p:nvSpPr>
                <p:cNvPr id="140" name="Object 19"/>
                <p:cNvSpPr txBox="1"/>
                <p:nvPr/>
              </p:nvSpPr>
              <p:spPr>
                <a:xfrm>
                  <a:off x="1676160" y="3276720"/>
                  <a:ext cx="4419720" cy="19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6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Rectangle 21"/>
            <p:cNvSpPr/>
            <p:nvPr/>
          </p:nvSpPr>
          <p:spPr>
            <a:xfrm>
              <a:off x="228600" y="3886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列式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22"/>
          <p:cNvSpPr/>
          <p:nvPr/>
        </p:nvSpPr>
        <p:spPr>
          <a:xfrm>
            <a:off x="324000" y="5300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面方程组具有什么特点（给它起个名）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是怎么列出这个方程的？要列出这样的方程问题提供几个相等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5"/>
          <p:cNvGrpSpPr/>
          <p:nvPr/>
        </p:nvGrpSpPr>
        <p:grpSpPr>
          <a:xfrm>
            <a:off x="457200" y="0"/>
            <a:ext cx="7848360" cy="1984320"/>
            <a:chOff x="457200" y="0"/>
            <a:chExt cx="7848360" cy="1984320"/>
          </a:xfrm>
        </p:grpSpPr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1752480" y="0"/>
                  <a:ext cx="4419720" cy="19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6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Rectangle 13"/>
            <p:cNvSpPr/>
            <p:nvPr/>
          </p:nvSpPr>
          <p:spPr>
            <a:xfrm>
              <a:off x="457200" y="761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方程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>
              <a:off x="6172200" y="76176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求解方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16"/>
          <p:cNvSpPr/>
          <p:nvPr/>
        </p:nvSpPr>
        <p:spPr>
          <a:xfrm>
            <a:off x="304920" y="21337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元一次方程组我们是通过转化为一元一次方程组解决的，这对你解决上面方程组有什么启发？（需要通过分析、思考形成解题思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533520" y="3657600"/>
            <a:ext cx="7772040" cy="480960"/>
            <a:chOff x="533520" y="3657600"/>
            <a:chExt cx="7772040" cy="480960"/>
          </a:xfrm>
        </p:grpSpPr>
        <p:sp>
          <p:nvSpPr>
            <p:cNvPr id="149" name="Text Box 18"/>
            <p:cNvSpPr/>
            <p:nvPr/>
          </p:nvSpPr>
          <p:spPr>
            <a:xfrm>
              <a:off x="533520" y="3657600"/>
              <a:ext cx="148032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上面方程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2013840" y="39103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2754000" y="3657600"/>
              <a:ext cx="240552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一个二元一次方程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5159880" y="39103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2"/>
            <p:cNvSpPr/>
            <p:nvPr/>
          </p:nvSpPr>
          <p:spPr>
            <a:xfrm>
              <a:off x="5900040" y="3657600"/>
              <a:ext cx="240552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对应的一元一次方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457200" y="4343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给出两种或更多解法，并对解法进行分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457200" y="4952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自编几道类似方程组，互相测试解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380880" y="5638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三元一次方程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含有三个未知数，每个方程的未知项的系数都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并且一共有三个方程的方程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6"/>
          <p:cNvSpPr/>
          <p:nvPr/>
        </p:nvSpPr>
        <p:spPr>
          <a:xfrm>
            <a:off x="152280" y="304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下面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37479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7"/>
              <p:cNvSpPr txBox="1"/>
              <p:nvPr/>
            </p:nvSpPr>
            <p:spPr>
              <a:xfrm>
                <a:off x="380880" y="1219320"/>
                <a:ext cx="365760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Rectangle 20"/>
          <p:cNvSpPr/>
          <p:nvPr/>
        </p:nvSpPr>
        <p:spPr>
          <a:xfrm>
            <a:off x="38149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9"/>
              <p:cNvSpPr txBox="1"/>
              <p:nvPr/>
            </p:nvSpPr>
            <p:spPr>
              <a:xfrm>
                <a:off x="4572000" y="1219320"/>
                <a:ext cx="342900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Rectangle 22"/>
          <p:cNvSpPr/>
          <p:nvPr/>
        </p:nvSpPr>
        <p:spPr>
          <a:xfrm>
            <a:off x="36957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1"/>
              <p:cNvSpPr txBox="1"/>
              <p:nvPr/>
            </p:nvSpPr>
            <p:spPr>
              <a:xfrm>
                <a:off x="457200" y="3733920"/>
                <a:ext cx="35812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Rectangle 24"/>
          <p:cNvSpPr/>
          <p:nvPr/>
        </p:nvSpPr>
        <p:spPr>
          <a:xfrm>
            <a:off x="37339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3"/>
              <p:cNvSpPr txBox="1"/>
              <p:nvPr/>
            </p:nvSpPr>
            <p:spPr>
              <a:xfrm>
                <a:off x="4495680" y="3581280"/>
                <a:ext cx="373392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4033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838080" y="1066680"/>
            <a:ext cx="5562720" cy="3173400"/>
            <a:chOff x="838080" y="1066680"/>
            <a:chExt cx="5562720" cy="3173400"/>
          </a:xfrm>
        </p:grpSpPr>
        <p:sp>
          <p:nvSpPr>
            <p:cNvPr id="168" name="Text Box 10"/>
            <p:cNvSpPr/>
            <p:nvPr/>
          </p:nvSpPr>
          <p:spPr>
            <a:xfrm>
              <a:off x="838080" y="228600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4"/>
                <p:cNvSpPr txBox="1"/>
                <p:nvPr/>
              </p:nvSpPr>
              <p:spPr>
                <a:xfrm>
                  <a:off x="2666880" y="1066680"/>
                  <a:ext cx="3733920" cy="31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6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0" name="Text Box 16"/>
          <p:cNvSpPr/>
          <p:nvPr/>
        </p:nvSpPr>
        <p:spPr>
          <a:xfrm>
            <a:off x="0" y="152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思考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838080" y="4800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重在化难为易的思考过程分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2860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解三元一次方程组的基本方法是代入法和加减法，其中加减法比较常用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04920" y="22860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三元一次方程组的基本思想是消元，关键也是消元，我们一定要根据方程组的特点，选准消元对象，定好消元方案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04920" y="3886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解完后要代入原方程组的三个方程中进行检验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3520" y="685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5:43:50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6:54Z</dcterms:modified>
  <cp:revision>84</cp:revision>
  <dc:subject>人教版七年级数学（下）全套课件</dc:subject>
  <dc:title>人教版七年级数学（下）全套课件</dc:title>
</cp:coreProperties>
</file>