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504-2C97-44C2-8530-0A73ECBB8D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054-0FE5-4E05-9603-456D5A3EF3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kjzhan.com/mp3/1x/57123.html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5" descr="S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80" name="副标题 2"/>
          <p:cNvSpPr/>
          <p:nvPr/>
        </p:nvSpPr>
        <p:spPr>
          <a:xfrm>
            <a:off x="2013120" y="1633680"/>
            <a:ext cx="53812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部编人教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年级下册语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标题 1"/>
          <p:cNvSpPr/>
          <p:nvPr/>
        </p:nvSpPr>
        <p:spPr>
          <a:xfrm>
            <a:off x="2070000" y="843120"/>
            <a:ext cx="53816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识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青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3"/>
          <p:cNvSpPr/>
          <p:nvPr/>
        </p:nvSpPr>
        <p:spPr>
          <a:xfrm>
            <a:off x="2843280" y="1598760"/>
            <a:ext cx="403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4"/>
          <p:cNvGrpSpPr/>
          <p:nvPr/>
        </p:nvGrpSpPr>
        <p:grpSpPr>
          <a:xfrm>
            <a:off x="4340160" y="1203480"/>
            <a:ext cx="1887480" cy="1969920"/>
            <a:chOff x="4340160" y="1203480"/>
            <a:chExt cx="1887480" cy="1969920"/>
          </a:xfrm>
        </p:grpSpPr>
        <p:pic>
          <p:nvPicPr>
            <p:cNvPr id="160" name="图片 2" descr=""/>
            <p:cNvPicPr/>
            <p:nvPr/>
          </p:nvPicPr>
          <p:blipFill>
            <a:blip r:embed="rId1"/>
            <a:stretch/>
          </p:blipFill>
          <p:spPr>
            <a:xfrm>
              <a:off x="4340160" y="12859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4"/>
            <p:cNvSpPr/>
            <p:nvPr/>
          </p:nvSpPr>
          <p:spPr>
            <a:xfrm>
              <a:off x="4365360" y="12034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气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2" name="Picture 13" descr="001pijjnzy6IwaIqNcw7c&amp;690"/>
          <p:cNvPicPr/>
          <p:nvPr/>
        </p:nvPicPr>
        <p:blipFill>
          <a:blip r:embed="rId2"/>
          <a:stretch/>
        </p:blipFill>
        <p:spPr>
          <a:xfrm>
            <a:off x="324000" y="2454120"/>
            <a:ext cx="2923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2146320" y="1924200"/>
            <a:ext cx="4513320" cy="11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认真完成课后的生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7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165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166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整体感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8" name="Picture 8" descr="F:\外部文件\状元矢量无对联.png"/>
            <p:cNvPicPr/>
            <p:nvPr/>
          </p:nvPicPr>
          <p:blipFill>
            <a:blip r:embed="rId2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TextBox 1"/>
          <p:cNvSpPr/>
          <p:nvPr/>
        </p:nvSpPr>
        <p:spPr>
          <a:xfrm>
            <a:off x="689040" y="22352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河 水    清    清    天 气 晴，小   小   青   蛙 大 眼  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684360" y="3176640"/>
            <a:ext cx="80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保 护禾  苗  吃   害   虫，做 了 不 少   好  事  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684360" y="1851120"/>
            <a:ext cx="79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é shu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īnɡ qīnɡ tiān qì qínɡ xiǎo xiǎo qīnɡ wā dà yǎn jin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650880" y="2712960"/>
            <a:ext cx="77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ǎo hù hé miáo chī hài chónɡ zuò le bù shǎo hǎo shì qin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3989880" y="1276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听朗读，有感情地朗读课文，读准字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684360" y="4095720"/>
            <a:ext cx="8124840" cy="5205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请  你爱 护 小   青   蛙，好   让  禾   苗  不  生   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3880" y="3679920"/>
            <a:ext cx="81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ǐnɡ nǐ ài hù xiǎo qīnɡ wā   hǎo rànɡ hé miáo bù shēn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ìn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图片 14" descr="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9080" y="714240"/>
            <a:ext cx="45720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4" descr="http://sns.wmw.cn/attachment/201205/21/19271_1337603175k13k.jpg"/>
          <p:cNvPicPr/>
          <p:nvPr/>
        </p:nvPicPr>
        <p:blipFill>
          <a:blip r:embed="rId1"/>
          <a:srcRect l="0" t="0" r="0" b="3714"/>
          <a:stretch/>
        </p:blipFill>
        <p:spPr>
          <a:xfrm>
            <a:off x="5859360" y="801720"/>
            <a:ext cx="3138480" cy="216864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6"/>
          <p:cNvGrpSpPr/>
          <p:nvPr/>
        </p:nvGrpSpPr>
        <p:grpSpPr>
          <a:xfrm>
            <a:off x="1763640" y="1111320"/>
            <a:ext cx="5977080" cy="1679040"/>
            <a:chOff x="1763640" y="1111320"/>
            <a:chExt cx="5977080" cy="1679040"/>
          </a:xfrm>
        </p:grpSpPr>
        <p:grpSp>
          <p:nvGrpSpPr>
            <p:cNvPr id="179" name="组合 4"/>
            <p:cNvGrpSpPr/>
            <p:nvPr/>
          </p:nvGrpSpPr>
          <p:grpSpPr>
            <a:xfrm>
              <a:off x="1763640" y="1111320"/>
              <a:ext cx="5626800" cy="904680"/>
              <a:chOff x="1763640" y="1111320"/>
              <a:chExt cx="5626800" cy="904680"/>
            </a:xfrm>
          </p:grpSpPr>
          <p:sp>
            <p:nvSpPr>
              <p:cNvPr id="180" name="TextBox 1"/>
              <p:cNvSpPr/>
              <p:nvPr/>
            </p:nvSpPr>
            <p:spPr>
              <a:xfrm>
                <a:off x="1770480" y="1495440"/>
                <a:ext cx="561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Calibri"/>
                  </a:rPr>
                  <a:t>河 水    清    清    天 气 晴，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Box 23"/>
              <p:cNvSpPr/>
              <p:nvPr/>
            </p:nvSpPr>
            <p:spPr>
              <a:xfrm>
                <a:off x="1763640" y="1111320"/>
                <a:ext cx="562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hé shuǐ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qīnɡ qīnɡ tiān qì qínɡ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2" name="组合 5"/>
            <p:cNvGrpSpPr/>
            <p:nvPr/>
          </p:nvGrpSpPr>
          <p:grpSpPr>
            <a:xfrm>
              <a:off x="1900080" y="1885680"/>
              <a:ext cx="5840640" cy="904680"/>
              <a:chOff x="1900080" y="1885680"/>
              <a:chExt cx="5840640" cy="904680"/>
            </a:xfrm>
          </p:grpSpPr>
          <p:sp>
            <p:nvSpPr>
              <p:cNvPr id="183" name="TextBox 1"/>
              <p:cNvSpPr/>
              <p:nvPr/>
            </p:nvSpPr>
            <p:spPr>
              <a:xfrm>
                <a:off x="1906560" y="2269800"/>
                <a:ext cx="583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Calibri"/>
                  </a:rPr>
                  <a:t>小   小   青   蛙 大 眼  睛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TextBox 27"/>
              <p:cNvSpPr/>
              <p:nvPr/>
            </p:nvSpPr>
            <p:spPr>
              <a:xfrm>
                <a:off x="1900080" y="1885680"/>
                <a:ext cx="548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xiǎo xiǎo qīnɡ wā dà yǎn jinɡ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组合 6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186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187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文解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9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Box 2"/>
          <p:cNvSpPr/>
          <p:nvPr/>
        </p:nvSpPr>
        <p:spPr>
          <a:xfrm>
            <a:off x="2330280" y="297036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朋友们，你们看这句话中有哪几个字长得很像啊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2987640" y="1494000"/>
            <a:ext cx="520560" cy="5238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31"/>
          <p:cNvSpPr/>
          <p:nvPr/>
        </p:nvSpPr>
        <p:spPr>
          <a:xfrm>
            <a:off x="5219640" y="1460520"/>
            <a:ext cx="520920" cy="5238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32"/>
          <p:cNvSpPr/>
          <p:nvPr/>
        </p:nvSpPr>
        <p:spPr>
          <a:xfrm>
            <a:off x="3139920" y="2268360"/>
            <a:ext cx="520920" cy="524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椭圆 33"/>
          <p:cNvSpPr/>
          <p:nvPr/>
        </p:nvSpPr>
        <p:spPr>
          <a:xfrm>
            <a:off x="5173560" y="2268360"/>
            <a:ext cx="520920" cy="524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12"/>
          <p:cNvGrpSpPr/>
          <p:nvPr/>
        </p:nvGrpSpPr>
        <p:grpSpPr>
          <a:xfrm>
            <a:off x="826920" y="3608280"/>
            <a:ext cx="1598760" cy="1150920"/>
            <a:chOff x="826920" y="3608280"/>
            <a:chExt cx="1598760" cy="1150920"/>
          </a:xfrm>
        </p:grpSpPr>
        <p:sp>
          <p:nvSpPr>
            <p:cNvPr id="196" name="七角星 11"/>
            <p:cNvSpPr/>
            <p:nvPr/>
          </p:nvSpPr>
          <p:spPr>
            <a:xfrm>
              <a:off x="826920" y="3608280"/>
              <a:ext cx="1598760" cy="1150920"/>
            </a:xfrm>
            <a:custGeom>
              <a:avLst/>
              <a:gdLst>
                <a:gd name="textAreaLeft" fmla="*/ 355680 w 1598760"/>
                <a:gd name="textAreaRight" fmla="*/ 1243080 w 1598760"/>
                <a:gd name="textAreaTop" fmla="*/ 227880 h 1150920"/>
                <a:gd name="textAreaBottom" fmla="*/ 866880 h 1150920"/>
              </a:gdLst>
              <a:ahLst/>
              <a:rect l="textAreaLeft" t="textAreaTop" r="textAreaRight" b="textAreaBottom"/>
              <a:pathLst>
                <a:path w="1597974" h="1152128">
                  <a:moveTo>
                    <a:pt x="-4" y="740941"/>
                  </a:moveTo>
                  <a:lnTo>
                    <a:pt x="246069" y="512748"/>
                  </a:lnTo>
                  <a:lnTo>
                    <a:pt x="158248" y="228194"/>
                  </a:lnTo>
                  <a:lnTo>
                    <a:pt x="552918" y="228194"/>
                  </a:lnTo>
                  <a:lnTo>
                    <a:pt x="798987" y="0"/>
                  </a:lnTo>
                  <a:lnTo>
                    <a:pt x="1045056" y="228194"/>
                  </a:lnTo>
                  <a:lnTo>
                    <a:pt x="1439726" y="228194"/>
                  </a:lnTo>
                  <a:lnTo>
                    <a:pt x="1351905" y="512748"/>
                  </a:lnTo>
                  <a:lnTo>
                    <a:pt x="1597978" y="740941"/>
                  </a:lnTo>
                  <a:lnTo>
                    <a:pt x="1242391" y="867579"/>
                  </a:lnTo>
                  <a:lnTo>
                    <a:pt x="1154568" y="1152134"/>
                  </a:lnTo>
                  <a:lnTo>
                    <a:pt x="798987" y="1025494"/>
                  </a:lnTo>
                  <a:lnTo>
                    <a:pt x="443406" y="1152134"/>
                  </a:lnTo>
                  <a:lnTo>
                    <a:pt x="355583" y="867579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10"/>
            <p:cNvSpPr/>
            <p:nvPr/>
          </p:nvSpPr>
          <p:spPr>
            <a:xfrm>
              <a:off x="1356840" y="37684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清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38"/>
          <p:cNvGrpSpPr/>
          <p:nvPr/>
        </p:nvGrpSpPr>
        <p:grpSpPr>
          <a:xfrm>
            <a:off x="2519280" y="3608280"/>
            <a:ext cx="1598760" cy="1150920"/>
            <a:chOff x="2519280" y="3608280"/>
            <a:chExt cx="1598760" cy="1150920"/>
          </a:xfrm>
        </p:grpSpPr>
        <p:sp>
          <p:nvSpPr>
            <p:cNvPr id="199" name="七角星 39"/>
            <p:cNvSpPr/>
            <p:nvPr/>
          </p:nvSpPr>
          <p:spPr>
            <a:xfrm>
              <a:off x="2519280" y="3608280"/>
              <a:ext cx="1598760" cy="1150920"/>
            </a:xfrm>
            <a:custGeom>
              <a:avLst/>
              <a:gdLst>
                <a:gd name="textAreaLeft" fmla="*/ 355680 w 1598760"/>
                <a:gd name="textAreaRight" fmla="*/ 1243080 w 1598760"/>
                <a:gd name="textAreaTop" fmla="*/ 227880 h 1150920"/>
                <a:gd name="textAreaBottom" fmla="*/ 866880 h 1150920"/>
              </a:gdLst>
              <a:ahLst/>
              <a:rect l="textAreaLeft" t="textAreaTop" r="textAreaRight" b="textAreaBottom"/>
              <a:pathLst>
                <a:path w="1597974" h="1152128">
                  <a:moveTo>
                    <a:pt x="-4" y="740941"/>
                  </a:moveTo>
                  <a:lnTo>
                    <a:pt x="246069" y="512748"/>
                  </a:lnTo>
                  <a:lnTo>
                    <a:pt x="158248" y="228194"/>
                  </a:lnTo>
                  <a:lnTo>
                    <a:pt x="552918" y="228194"/>
                  </a:lnTo>
                  <a:lnTo>
                    <a:pt x="798987" y="0"/>
                  </a:lnTo>
                  <a:lnTo>
                    <a:pt x="1045056" y="228194"/>
                  </a:lnTo>
                  <a:lnTo>
                    <a:pt x="1439726" y="228194"/>
                  </a:lnTo>
                  <a:lnTo>
                    <a:pt x="1351905" y="512748"/>
                  </a:lnTo>
                  <a:lnTo>
                    <a:pt x="1597978" y="740941"/>
                  </a:lnTo>
                  <a:lnTo>
                    <a:pt x="1242391" y="867579"/>
                  </a:lnTo>
                  <a:lnTo>
                    <a:pt x="1154568" y="1152134"/>
                  </a:lnTo>
                  <a:lnTo>
                    <a:pt x="798987" y="1025494"/>
                  </a:lnTo>
                  <a:lnTo>
                    <a:pt x="443406" y="1152134"/>
                  </a:lnTo>
                  <a:lnTo>
                    <a:pt x="355583" y="867579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40"/>
            <p:cNvSpPr/>
            <p:nvPr/>
          </p:nvSpPr>
          <p:spPr>
            <a:xfrm>
              <a:off x="3049200" y="37684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晴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41"/>
          <p:cNvGrpSpPr/>
          <p:nvPr/>
        </p:nvGrpSpPr>
        <p:grpSpPr>
          <a:xfrm>
            <a:off x="4281480" y="3608280"/>
            <a:ext cx="1596960" cy="1150920"/>
            <a:chOff x="4281480" y="3608280"/>
            <a:chExt cx="1596960" cy="1150920"/>
          </a:xfrm>
        </p:grpSpPr>
        <p:sp>
          <p:nvSpPr>
            <p:cNvPr id="202" name="七角星 42"/>
            <p:cNvSpPr/>
            <p:nvPr/>
          </p:nvSpPr>
          <p:spPr>
            <a:xfrm>
              <a:off x="4281480" y="3608280"/>
              <a:ext cx="1596960" cy="1150920"/>
            </a:xfrm>
            <a:custGeom>
              <a:avLst/>
              <a:gdLst>
                <a:gd name="textAreaLeft" fmla="*/ 355320 w 1596960"/>
                <a:gd name="textAreaRight" fmla="*/ 1241640 w 1596960"/>
                <a:gd name="textAreaTop" fmla="*/ 227880 h 1150920"/>
                <a:gd name="textAreaBottom" fmla="*/ 866880 h 1150920"/>
              </a:gdLst>
              <a:ahLst/>
              <a:rect l="textAreaLeft" t="textAreaTop" r="textAreaRight" b="textAreaBottom"/>
              <a:pathLst>
                <a:path w="1597974" h="1152128">
                  <a:moveTo>
                    <a:pt x="-4" y="740941"/>
                  </a:moveTo>
                  <a:lnTo>
                    <a:pt x="246069" y="512748"/>
                  </a:lnTo>
                  <a:lnTo>
                    <a:pt x="158248" y="228194"/>
                  </a:lnTo>
                  <a:lnTo>
                    <a:pt x="552918" y="228194"/>
                  </a:lnTo>
                  <a:lnTo>
                    <a:pt x="798987" y="0"/>
                  </a:lnTo>
                  <a:lnTo>
                    <a:pt x="1045056" y="228194"/>
                  </a:lnTo>
                  <a:lnTo>
                    <a:pt x="1439726" y="228194"/>
                  </a:lnTo>
                  <a:lnTo>
                    <a:pt x="1351905" y="512748"/>
                  </a:lnTo>
                  <a:lnTo>
                    <a:pt x="1597978" y="740941"/>
                  </a:lnTo>
                  <a:lnTo>
                    <a:pt x="1242391" y="867579"/>
                  </a:lnTo>
                  <a:lnTo>
                    <a:pt x="1154568" y="1152134"/>
                  </a:lnTo>
                  <a:lnTo>
                    <a:pt x="798987" y="1025494"/>
                  </a:lnTo>
                  <a:lnTo>
                    <a:pt x="443406" y="1152134"/>
                  </a:lnTo>
                  <a:lnTo>
                    <a:pt x="355583" y="867579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43"/>
            <p:cNvSpPr/>
            <p:nvPr/>
          </p:nvSpPr>
          <p:spPr>
            <a:xfrm>
              <a:off x="4811400" y="37684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青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44"/>
          <p:cNvGrpSpPr/>
          <p:nvPr/>
        </p:nvGrpSpPr>
        <p:grpSpPr>
          <a:xfrm>
            <a:off x="6012000" y="3608280"/>
            <a:ext cx="1598400" cy="1266840"/>
            <a:chOff x="6012000" y="3608280"/>
            <a:chExt cx="1598400" cy="1266840"/>
          </a:xfrm>
        </p:grpSpPr>
        <p:sp>
          <p:nvSpPr>
            <p:cNvPr id="205" name="七角星 45"/>
            <p:cNvSpPr/>
            <p:nvPr/>
          </p:nvSpPr>
          <p:spPr>
            <a:xfrm>
              <a:off x="6012000" y="3608280"/>
              <a:ext cx="1598400" cy="1266840"/>
            </a:xfrm>
            <a:custGeom>
              <a:avLst/>
              <a:gdLst>
                <a:gd name="textAreaLeft" fmla="*/ 355680 w 1598400"/>
                <a:gd name="textAreaRight" fmla="*/ 1242720 w 1598400"/>
                <a:gd name="textAreaTop" fmla="*/ 250920 h 1266840"/>
                <a:gd name="textAreaBottom" fmla="*/ 954000 h 1266840"/>
              </a:gdLst>
              <a:ahLst/>
              <a:rect l="textAreaLeft" t="textAreaTop" r="textAreaRight" b="textAreaBottom"/>
              <a:pathLst>
                <a:path w="1597974" h="1268063">
                  <a:moveTo>
                    <a:pt x="-4" y="815500"/>
                  </a:moveTo>
                  <a:lnTo>
                    <a:pt x="246069" y="564344"/>
                  </a:lnTo>
                  <a:lnTo>
                    <a:pt x="158248" y="251156"/>
                  </a:lnTo>
                  <a:lnTo>
                    <a:pt x="552918" y="251157"/>
                  </a:lnTo>
                  <a:lnTo>
                    <a:pt x="798987" y="0"/>
                  </a:lnTo>
                  <a:lnTo>
                    <a:pt x="1045056" y="251157"/>
                  </a:lnTo>
                  <a:lnTo>
                    <a:pt x="1439726" y="251156"/>
                  </a:lnTo>
                  <a:lnTo>
                    <a:pt x="1351905" y="564344"/>
                  </a:lnTo>
                  <a:lnTo>
                    <a:pt x="1597978" y="815500"/>
                  </a:lnTo>
                  <a:lnTo>
                    <a:pt x="1242391" y="954881"/>
                  </a:lnTo>
                  <a:lnTo>
                    <a:pt x="1154568" y="1268070"/>
                  </a:lnTo>
                  <a:lnTo>
                    <a:pt x="798987" y="1128687"/>
                  </a:lnTo>
                  <a:lnTo>
                    <a:pt x="443406" y="1268070"/>
                  </a:lnTo>
                  <a:lnTo>
                    <a:pt x="355583" y="954881"/>
                  </a:lnTo>
                  <a:close/>
                </a:path>
              </a:pathLst>
            </a:cu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46"/>
            <p:cNvSpPr/>
            <p:nvPr/>
          </p:nvSpPr>
          <p:spPr>
            <a:xfrm>
              <a:off x="6541560" y="37684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睛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Administrator\桌面\人一语大课堂（下）\人一语大课堂正文\续88.tif"/>
          <p:cNvPicPr/>
          <p:nvPr/>
        </p:nvPicPr>
        <p:blipFill>
          <a:blip r:embed="rId1"/>
          <a:stretch/>
        </p:blipFill>
        <p:spPr>
          <a:xfrm>
            <a:off x="36360" y="1262160"/>
            <a:ext cx="3273480" cy="332892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7"/>
          <p:cNvGrpSpPr/>
          <p:nvPr/>
        </p:nvGrpSpPr>
        <p:grpSpPr>
          <a:xfrm>
            <a:off x="3290760" y="700200"/>
            <a:ext cx="4068720" cy="1524960"/>
            <a:chOff x="3290760" y="700200"/>
            <a:chExt cx="4068720" cy="1524960"/>
          </a:xfrm>
        </p:grpSpPr>
        <p:grpSp>
          <p:nvGrpSpPr>
            <p:cNvPr id="209" name="组合 1"/>
            <p:cNvGrpSpPr/>
            <p:nvPr/>
          </p:nvGrpSpPr>
          <p:grpSpPr>
            <a:xfrm>
              <a:off x="3290760" y="700200"/>
              <a:ext cx="4061160" cy="807840"/>
              <a:chOff x="3290760" y="700200"/>
              <a:chExt cx="4061160" cy="807840"/>
            </a:xfrm>
          </p:grpSpPr>
          <p:sp>
            <p:nvSpPr>
              <p:cNvPr id="210" name="TextBox 9"/>
              <p:cNvSpPr/>
              <p:nvPr/>
            </p:nvSpPr>
            <p:spPr>
              <a:xfrm>
                <a:off x="3349440" y="987480"/>
                <a:ext cx="40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Calibri"/>
                  </a:rPr>
                  <a:t>保 护禾  苗  吃   害   虫，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TextBox 3"/>
              <p:cNvSpPr/>
              <p:nvPr/>
            </p:nvSpPr>
            <p:spPr>
              <a:xfrm>
                <a:off x="3290760" y="700200"/>
                <a:ext cx="399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bǎo hù hé miáo chī hài chónɡ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组合 6"/>
            <p:cNvGrpSpPr/>
            <p:nvPr/>
          </p:nvGrpSpPr>
          <p:grpSpPr>
            <a:xfrm>
              <a:off x="3353760" y="1387080"/>
              <a:ext cx="4005720" cy="838080"/>
              <a:chOff x="3353760" y="1387080"/>
              <a:chExt cx="4005720" cy="838080"/>
            </a:xfrm>
          </p:grpSpPr>
          <p:sp>
            <p:nvSpPr>
              <p:cNvPr id="213" name="TextBox 9"/>
              <p:cNvSpPr/>
              <p:nvPr/>
            </p:nvSpPr>
            <p:spPr>
              <a:xfrm>
                <a:off x="3356640" y="1704600"/>
                <a:ext cx="400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Calibri"/>
                  </a:rPr>
                  <a:t>做 了 不 少   好  事  情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TextBox 5"/>
              <p:cNvSpPr/>
              <p:nvPr/>
            </p:nvSpPr>
            <p:spPr>
              <a:xfrm>
                <a:off x="3353760" y="1387080"/>
                <a:ext cx="392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zuò le bù shǎo hǎo shì qinɡ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5" name="直接连接符 9"/>
          <p:cNvSpPr/>
          <p:nvPr/>
        </p:nvSpPr>
        <p:spPr>
          <a:xfrm>
            <a:off x="3475080" y="1492200"/>
            <a:ext cx="7095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3357720" y="2284560"/>
            <a:ext cx="546228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保护：尽力照顾，使不受损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4002120" y="2932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蛙做了什么好事情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组合 16"/>
          <p:cNvGrpSpPr/>
          <p:nvPr/>
        </p:nvGrpSpPr>
        <p:grpSpPr>
          <a:xfrm>
            <a:off x="155520" y="3608280"/>
            <a:ext cx="2709360" cy="1543320"/>
            <a:chOff x="155520" y="3608280"/>
            <a:chExt cx="2709360" cy="1543320"/>
          </a:xfrm>
        </p:grpSpPr>
        <p:sp>
          <p:nvSpPr>
            <p:cNvPr id="219" name="TextBox 15"/>
            <p:cNvSpPr/>
            <p:nvPr/>
          </p:nvSpPr>
          <p:spPr>
            <a:xfrm>
              <a:off x="1830600" y="3890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保护禾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Picture 5" descr="http://p2.so.qhmsg.com/t01194756aa30545262.jpg"/>
            <p:cNvPicPr/>
            <p:nvPr/>
          </p:nvPicPr>
          <p:blipFill>
            <a:blip r:embed="rId2"/>
            <a:stretch/>
          </p:blipFill>
          <p:spPr>
            <a:xfrm>
              <a:off x="155520" y="3608280"/>
              <a:ext cx="1599840" cy="154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组合 17"/>
          <p:cNvGrpSpPr/>
          <p:nvPr/>
        </p:nvGrpSpPr>
        <p:grpSpPr>
          <a:xfrm>
            <a:off x="6705720" y="3597120"/>
            <a:ext cx="2438280" cy="1565280"/>
            <a:chOff x="6705720" y="3597120"/>
            <a:chExt cx="2438280" cy="1565280"/>
          </a:xfrm>
        </p:grpSpPr>
        <p:pic>
          <p:nvPicPr>
            <p:cNvPr id="222" name="Picture 7" descr="http://r3.ykimg.com/054104085243E8556A0A456666BB564D"/>
            <p:cNvPicPr/>
            <p:nvPr/>
          </p:nvPicPr>
          <p:blipFill>
            <a:blip r:embed="rId3"/>
            <a:srcRect l="24652" t="0" r="0" b="0"/>
            <a:stretch/>
          </p:blipFill>
          <p:spPr>
            <a:xfrm>
              <a:off x="7029000" y="3597120"/>
              <a:ext cx="211500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21"/>
            <p:cNvSpPr/>
            <p:nvPr/>
          </p:nvSpPr>
          <p:spPr>
            <a:xfrm>
              <a:off x="6705720" y="40255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吃害虫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流程图: 资料带 18"/>
          <p:cNvSpPr/>
          <p:nvPr/>
        </p:nvSpPr>
        <p:spPr>
          <a:xfrm>
            <a:off x="3241800" y="3648240"/>
            <a:ext cx="3247920" cy="1152360"/>
          </a:xfrm>
          <a:prstGeom prst="flowChartPunchedTape">
            <a:avLst/>
          </a:prstGeom>
          <a:solidFill>
            <a:srgbClr val="ccff99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保护庄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7"/>
          <p:cNvGrpSpPr/>
          <p:nvPr/>
        </p:nvGrpSpPr>
        <p:grpSpPr>
          <a:xfrm>
            <a:off x="204840" y="84240"/>
            <a:ext cx="2927160" cy="1003320"/>
            <a:chOff x="204840" y="84240"/>
            <a:chExt cx="2927160" cy="1003320"/>
          </a:xfrm>
        </p:grpSpPr>
        <p:grpSp>
          <p:nvGrpSpPr>
            <p:cNvPr id="226" name="组合 3"/>
            <p:cNvGrpSpPr/>
            <p:nvPr/>
          </p:nvGrpSpPr>
          <p:grpSpPr>
            <a:xfrm>
              <a:off x="911160" y="483840"/>
              <a:ext cx="2220840" cy="545040"/>
              <a:chOff x="911160" y="483840"/>
              <a:chExt cx="2220840" cy="545040"/>
            </a:xfrm>
          </p:grpSpPr>
          <p:pic>
            <p:nvPicPr>
              <p:cNvPr id="227" name="图片 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4000" y="526680"/>
                <a:ext cx="208800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文本框 2"/>
              <p:cNvSpPr/>
              <p:nvPr/>
            </p:nvSpPr>
            <p:spPr>
              <a:xfrm>
                <a:off x="91116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整体感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9" name="Picture 8" descr="F:\外部文件\状元矢量无对联.png"/>
            <p:cNvPicPr/>
            <p:nvPr/>
          </p:nvPicPr>
          <p:blipFill>
            <a:blip r:embed="rId5"/>
            <a:stretch/>
          </p:blipFill>
          <p:spPr>
            <a:xfrm>
              <a:off x="20484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7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231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23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整体感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4" name="Picture 8" descr="F:\外部文件\状元矢量无对联.png"/>
            <p:cNvPicPr/>
            <p:nvPr/>
          </p:nvPicPr>
          <p:blipFill>
            <a:blip r:embed="rId2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15"/>
          <p:cNvGrpSpPr/>
          <p:nvPr/>
        </p:nvGrpSpPr>
        <p:grpSpPr>
          <a:xfrm>
            <a:off x="1187280" y="1563840"/>
            <a:ext cx="5000760" cy="2265480"/>
            <a:chOff x="1187280" y="1563840"/>
            <a:chExt cx="5000760" cy="2265480"/>
          </a:xfrm>
        </p:grpSpPr>
        <p:sp>
          <p:nvSpPr>
            <p:cNvPr id="236" name="TextBox 9"/>
            <p:cNvSpPr/>
            <p:nvPr/>
          </p:nvSpPr>
          <p:spPr>
            <a:xfrm>
              <a:off x="1220760" y="2028960"/>
              <a:ext cx="4967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保 护禾  苗  吃   害   虫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做 了 不 少   好  事  情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Box 11"/>
            <p:cNvSpPr/>
            <p:nvPr/>
          </p:nvSpPr>
          <p:spPr>
            <a:xfrm>
              <a:off x="1187280" y="1563840"/>
              <a:ext cx="45687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bǎo hù hé miáo chī hài chónɡ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zuò le bù shǎo hǎo shì qin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AutoShape 18"/>
          <p:cNvSpPr/>
          <p:nvPr/>
        </p:nvSpPr>
        <p:spPr>
          <a:xfrm>
            <a:off x="4859280" y="627120"/>
            <a:ext cx="3889440" cy="2663640"/>
          </a:xfrm>
          <a:prstGeom prst="irregularSeal1">
            <a:avLst/>
          </a:prstGeom>
          <a:noFill/>
          <a:ln w="15840">
            <a:solidFill>
              <a:srgbClr val="00ff00"/>
            </a:solidFill>
            <a:miter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你还知道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哪些益虫？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5508720" y="3435480"/>
            <a:ext cx="324000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猫头鹰、蜻蜓、啄木鸟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11"/>
          <p:cNvGrpSpPr/>
          <p:nvPr/>
        </p:nvGrpSpPr>
        <p:grpSpPr>
          <a:xfrm>
            <a:off x="971640" y="1635120"/>
            <a:ext cx="5472000" cy="2260800"/>
            <a:chOff x="971640" y="1635120"/>
            <a:chExt cx="5472000" cy="2260800"/>
          </a:xfrm>
        </p:grpSpPr>
        <p:sp>
          <p:nvSpPr>
            <p:cNvPr id="241" name="TextBox 9"/>
            <p:cNvSpPr/>
            <p:nvPr/>
          </p:nvSpPr>
          <p:spPr>
            <a:xfrm>
              <a:off x="971640" y="2095560"/>
              <a:ext cx="5472000" cy="18003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请  你 爱 护 小   青   蛙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好   让  禾   苗  不  生   病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13"/>
            <p:cNvSpPr/>
            <p:nvPr/>
          </p:nvSpPr>
          <p:spPr>
            <a:xfrm>
              <a:off x="971640" y="1635120"/>
              <a:ext cx="4740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qǐnɡ nǐ ài hù xiǎo qīnɡ wā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hǎo rànɡ hé miáo bù shē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bìn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7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244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245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整体感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47" name="Picture 8" descr="F:\外部文件\状元矢量无对联.png"/>
            <p:cNvPicPr/>
            <p:nvPr/>
          </p:nvPicPr>
          <p:blipFill>
            <a:blip r:embed="rId2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AutoShape 12"/>
          <p:cNvSpPr/>
          <p:nvPr/>
        </p:nvSpPr>
        <p:spPr>
          <a:xfrm>
            <a:off x="5146560" y="1058760"/>
            <a:ext cx="3889440" cy="2664000"/>
          </a:xfrm>
          <a:prstGeom prst="irregularSeal1">
            <a:avLst/>
          </a:prstGeom>
          <a:noFill/>
          <a:ln w="15840">
            <a:solidFill>
              <a:srgbClr val="00ff00"/>
            </a:solidFill>
            <a:miter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我们应该怎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对待小青蛙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2"/>
          <p:cNvGrpSpPr/>
          <p:nvPr/>
        </p:nvGrpSpPr>
        <p:grpSpPr>
          <a:xfrm>
            <a:off x="2050920" y="336600"/>
            <a:ext cx="5437440" cy="4182120"/>
            <a:chOff x="2050920" y="336600"/>
            <a:chExt cx="5437440" cy="4182120"/>
          </a:xfrm>
        </p:grpSpPr>
        <p:sp>
          <p:nvSpPr>
            <p:cNvPr id="250" name="矩形 1"/>
            <p:cNvSpPr/>
            <p:nvPr/>
          </p:nvSpPr>
          <p:spPr>
            <a:xfrm>
              <a:off x="2914560" y="841320"/>
              <a:ext cx="4573800" cy="3677400"/>
            </a:xfrm>
            <a:prstGeom prst="rect">
              <a:avLst/>
            </a:prstGeom>
            <a:noFill/>
            <a:ln w="540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小青蛙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河水清清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天气晴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小小青蛙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大眼睛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保护禾苗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吃害虫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做了不少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好事情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请你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爱护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小青蛙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好让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禾苗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不生病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1" name="Picture 2" descr="http://img.wdjimg.com/mms/icon/v1/5/1f/eb893e5fa41a7c74705a3d5b9f1db1f5_256_256.png"/>
            <p:cNvPicPr/>
            <p:nvPr/>
          </p:nvPicPr>
          <p:blipFill>
            <a:blip r:embed="rId1"/>
            <a:stretch/>
          </p:blipFill>
          <p:spPr>
            <a:xfrm>
              <a:off x="2050920" y="336600"/>
              <a:ext cx="1376640" cy="137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Picture 4" descr="http://pic2.ooopic.com/13/75/97/45b1OOOPIC34.jpg"/>
          <p:cNvPicPr/>
          <p:nvPr/>
        </p:nvPicPr>
        <p:blipFill>
          <a:blip r:embed="rId2"/>
          <a:srcRect l="0" t="18264" r="0" b="0"/>
          <a:stretch/>
        </p:blipFill>
        <p:spPr>
          <a:xfrm>
            <a:off x="-11160" y="3751200"/>
            <a:ext cx="2590920" cy="1409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1200240" y="1989720"/>
            <a:ext cx="8506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7"/>
          <p:cNvGrpSpPr/>
          <p:nvPr/>
        </p:nvGrpSpPr>
        <p:grpSpPr>
          <a:xfrm>
            <a:off x="2340000" y="500040"/>
            <a:ext cx="4680000" cy="1484640"/>
            <a:chOff x="2340000" y="500040"/>
            <a:chExt cx="4680000" cy="1484640"/>
          </a:xfrm>
        </p:grpSpPr>
        <p:grpSp>
          <p:nvGrpSpPr>
            <p:cNvPr id="255" name="组合 6"/>
            <p:cNvGrpSpPr/>
            <p:nvPr/>
          </p:nvGrpSpPr>
          <p:grpSpPr>
            <a:xfrm>
              <a:off x="2381760" y="500040"/>
              <a:ext cx="4435560" cy="807840"/>
              <a:chOff x="2381760" y="500040"/>
              <a:chExt cx="4435560" cy="807840"/>
            </a:xfrm>
          </p:grpSpPr>
          <p:sp>
            <p:nvSpPr>
              <p:cNvPr id="256" name="TextBox 9"/>
              <p:cNvSpPr/>
              <p:nvPr/>
            </p:nvSpPr>
            <p:spPr>
              <a:xfrm>
                <a:off x="2399760" y="787320"/>
                <a:ext cx="4324680" cy="520560"/>
              </a:xfrm>
              <a:prstGeom prst="rect">
                <a:avLst/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Calibri"/>
                  </a:rPr>
                  <a:t>请  你  爱   护  小   青   蛙，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TextBox 2"/>
              <p:cNvSpPr/>
              <p:nvPr/>
            </p:nvSpPr>
            <p:spPr>
              <a:xfrm>
                <a:off x="2381760" y="500040"/>
                <a:ext cx="443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qǐnɡ nǐ  ài  hù xiǎo qīnɡ  w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8" name="组合 5"/>
            <p:cNvGrpSpPr/>
            <p:nvPr/>
          </p:nvGrpSpPr>
          <p:grpSpPr>
            <a:xfrm>
              <a:off x="2340000" y="1138680"/>
              <a:ext cx="4680000" cy="846000"/>
              <a:chOff x="2340000" y="1138680"/>
              <a:chExt cx="4680000" cy="846000"/>
            </a:xfrm>
          </p:grpSpPr>
          <p:sp>
            <p:nvSpPr>
              <p:cNvPr id="259" name="TextBox 9"/>
              <p:cNvSpPr/>
              <p:nvPr/>
            </p:nvSpPr>
            <p:spPr>
              <a:xfrm>
                <a:off x="2400120" y="1464120"/>
                <a:ext cx="4421520" cy="520560"/>
              </a:xfrm>
              <a:prstGeom prst="rect">
                <a:avLst/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Calibri"/>
                  </a:rPr>
                  <a:t>好   让  禾 苗  不  生    病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Box 4"/>
              <p:cNvSpPr/>
              <p:nvPr/>
            </p:nvSpPr>
            <p:spPr>
              <a:xfrm>
                <a:off x="2340000" y="1138680"/>
                <a:ext cx="468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hǎo rànɡ hé miáo bù shēnɡ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bìnɡ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61" name="Picture 2" descr="http://www.anhuiqq.cn/file/image/pic/1a3694858738n392454489c21.jpg"/>
          <p:cNvPicPr/>
          <p:nvPr/>
        </p:nvPicPr>
        <p:blipFill>
          <a:blip r:embed="rId1"/>
          <a:stretch/>
        </p:blipFill>
        <p:spPr>
          <a:xfrm>
            <a:off x="0" y="2797200"/>
            <a:ext cx="2260440" cy="2346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2980080" y="21780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首儿歌告诉我们什么道理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rcRect l="0" t="0" r="0" b="10480"/>
          <a:stretch/>
        </p:blipFill>
        <p:spPr>
          <a:xfrm>
            <a:off x="3276720" y="3363840"/>
            <a:ext cx="3908160" cy="16128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9"/>
          <p:cNvSpPr/>
          <p:nvPr/>
        </p:nvSpPr>
        <p:spPr>
          <a:xfrm>
            <a:off x="3007800" y="2835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黑体"/>
                <a:ea typeface="黑体"/>
              </a:rPr>
              <a:t>保护青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rcRect l="0" t="6587" r="0" b="0"/>
          <a:stretch/>
        </p:blipFill>
        <p:spPr>
          <a:xfrm>
            <a:off x="755640" y="195120"/>
            <a:ext cx="7272360" cy="47325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2484360" y="1395360"/>
            <a:ext cx="475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你喜欢青蛙吗？青蛙为我们做了这么多好事，让我们一起保护青蛙，爱护小动物吧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"/>
          <p:cNvPicPr/>
          <p:nvPr/>
        </p:nvPicPr>
        <p:blipFill>
          <a:blip r:embed="rId1"/>
          <a:stretch/>
        </p:blipFill>
        <p:spPr>
          <a:xfrm>
            <a:off x="2268360" y="2716200"/>
            <a:ext cx="3743640" cy="219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042920" y="1635120"/>
            <a:ext cx="7705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绿衣小英雄，田里捉害虫，冬天它休息，夏天勤劳动。”孩子们，猜猜看，它是谁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2771640" y="411120"/>
            <a:ext cx="3024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猜一猜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771640" y="4162320"/>
            <a:ext cx="266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"/>
              </a:rPr>
              <a:t>青            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6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268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269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拓展延伸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71" name="Picture 8" descr="F:\外部文件\状元矢量无对联.png"/>
            <p:cNvPicPr/>
            <p:nvPr/>
          </p:nvPicPr>
          <p:blipFill>
            <a:blip r:embed="rId2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TextBox 1"/>
          <p:cNvSpPr/>
          <p:nvPr/>
        </p:nvSpPr>
        <p:spPr>
          <a:xfrm>
            <a:off x="1389240" y="1531800"/>
            <a:ext cx="6624360" cy="2865960"/>
          </a:xfrm>
          <a:prstGeom prst="rect">
            <a:avLst/>
          </a:prstGeom>
          <a:noFill/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青”字变化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有水方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清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日出天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晴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有言去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有心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情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意浓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有目是眼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睛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有虫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蜻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蜓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换偏旁识字，你我都能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7" descr="C:\Documents and Settings\Administrator\桌面\人一语大课堂（下）\人一语大课堂正文\知识荟萃.tif"/>
          <p:cNvPicPr/>
          <p:nvPr/>
        </p:nvPicPr>
        <p:blipFill>
          <a:blip r:embed="rId3"/>
          <a:stretch/>
        </p:blipFill>
        <p:spPr>
          <a:xfrm>
            <a:off x="3564000" y="728640"/>
            <a:ext cx="22194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6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275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276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后作业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78" name="Picture 8" descr="F:\外部文件\状元矢量无对联.png"/>
            <p:cNvPicPr/>
            <p:nvPr/>
          </p:nvPicPr>
          <p:blipFill>
            <a:blip r:embed="rId2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TextBox 1"/>
          <p:cNvSpPr/>
          <p:nvPr/>
        </p:nvSpPr>
        <p:spPr>
          <a:xfrm>
            <a:off x="755640" y="1347840"/>
            <a:ext cx="8224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把今天的课文朗读给爸爸妈妈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你还知道哪些小动物需要保护吗？和你的小伙伴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一起说一说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7"/>
          <p:cNvSpPr/>
          <p:nvPr/>
        </p:nvSpPr>
        <p:spPr>
          <a:xfrm>
            <a:off x="4422600" y="2422440"/>
            <a:ext cx="29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11" descr="u=55615028,2018732485&amp;fm=26&amp;gp=0"/>
          <p:cNvPicPr/>
          <p:nvPr/>
        </p:nvPicPr>
        <p:blipFill>
          <a:blip r:embed="rId1"/>
          <a:stretch/>
        </p:blipFill>
        <p:spPr>
          <a:xfrm>
            <a:off x="36360" y="5076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C:\Documents and Settings\Administrator\桌面\人一语大课堂（下）\人一语大课堂正文\续88.tif"/>
          <p:cNvPicPr/>
          <p:nvPr/>
        </p:nvPicPr>
        <p:blipFill>
          <a:blip r:embed="rId1"/>
          <a:stretch/>
        </p:blipFill>
        <p:spPr>
          <a:xfrm>
            <a:off x="3486240" y="2639880"/>
            <a:ext cx="3682800" cy="234000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1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89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90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知识备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2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2"/>
          <p:cNvSpPr/>
          <p:nvPr/>
        </p:nvSpPr>
        <p:spPr>
          <a:xfrm>
            <a:off x="674640" y="1203480"/>
            <a:ext cx="800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青蛙是怎样捕捉害虫的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青蛙的舌根长在口腔的前面，舌尖向后，舌尖前端分叉，上面有许多黏液。只要有小飞虫从身边飞过，它就张开大嘴快速地伸出长长的舌头把害虫卷进嘴里吃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自读课文   学习生字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200240"/>
            <a:ext cx="8686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借助拼音读全文，读准每个字的读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如果遇到不认识的字，可以借助拼音多读几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读完后，请你们把圈画出的生字、词读三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"/>
          <p:cNvGrpSpPr/>
          <p:nvPr/>
        </p:nvGrpSpPr>
        <p:grpSpPr>
          <a:xfrm>
            <a:off x="395280" y="1754280"/>
            <a:ext cx="1887480" cy="1969920"/>
            <a:chOff x="395280" y="1754280"/>
            <a:chExt cx="1887480" cy="1969920"/>
          </a:xfrm>
        </p:grpSpPr>
        <p:pic>
          <p:nvPicPr>
            <p:cNvPr id="97" name="图片 2" descr=""/>
            <p:cNvPicPr/>
            <p:nvPr/>
          </p:nvPicPr>
          <p:blipFill>
            <a:blip r:embed="rId1"/>
            <a:stretch/>
          </p:blipFill>
          <p:spPr>
            <a:xfrm>
              <a:off x="395280" y="1836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4"/>
            <p:cNvSpPr/>
            <p:nvPr/>
          </p:nvSpPr>
          <p:spPr>
            <a:xfrm>
              <a:off x="420480" y="17542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清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矩形 4"/>
          <p:cNvSpPr/>
          <p:nvPr/>
        </p:nvSpPr>
        <p:spPr>
          <a:xfrm>
            <a:off x="588240" y="1019160"/>
            <a:ext cx="15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qī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2627280" y="1747800"/>
            <a:ext cx="1887480" cy="1970280"/>
            <a:chOff x="2627280" y="1747800"/>
            <a:chExt cx="1887480" cy="1970280"/>
          </a:xfrm>
        </p:grpSpPr>
        <p:pic>
          <p:nvPicPr>
            <p:cNvPr id="101" name="图片 2" descr=""/>
            <p:cNvPicPr/>
            <p:nvPr/>
          </p:nvPicPr>
          <p:blipFill>
            <a:blip r:embed="rId2"/>
            <a:stretch/>
          </p:blipFill>
          <p:spPr>
            <a:xfrm>
              <a:off x="2627280" y="183024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4"/>
            <p:cNvSpPr/>
            <p:nvPr/>
          </p:nvSpPr>
          <p:spPr>
            <a:xfrm>
              <a:off x="2652480" y="17478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晴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矩形 4"/>
          <p:cNvSpPr/>
          <p:nvPr/>
        </p:nvSpPr>
        <p:spPr>
          <a:xfrm>
            <a:off x="2796480" y="1022400"/>
            <a:ext cx="15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qí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5130720" y="1089000"/>
            <a:ext cx="12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yǎ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4"/>
          <p:cNvGrpSpPr/>
          <p:nvPr/>
        </p:nvGrpSpPr>
        <p:grpSpPr>
          <a:xfrm>
            <a:off x="4844880" y="1757520"/>
            <a:ext cx="1887840" cy="1969920"/>
            <a:chOff x="4844880" y="1757520"/>
            <a:chExt cx="1887840" cy="1969920"/>
          </a:xfrm>
        </p:grpSpPr>
        <p:pic>
          <p:nvPicPr>
            <p:cNvPr id="106" name="图片 2" descr=""/>
            <p:cNvPicPr/>
            <p:nvPr/>
          </p:nvPicPr>
          <p:blipFill>
            <a:blip r:embed="rId3"/>
            <a:stretch/>
          </p:blipFill>
          <p:spPr>
            <a:xfrm>
              <a:off x="4844880" y="1839960"/>
              <a:ext cx="188784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4"/>
            <p:cNvSpPr/>
            <p:nvPr/>
          </p:nvSpPr>
          <p:spPr>
            <a:xfrm>
              <a:off x="4870080" y="1757520"/>
              <a:ext cx="18388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眼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13"/>
          <p:cNvSpPr/>
          <p:nvPr/>
        </p:nvSpPr>
        <p:spPr>
          <a:xfrm>
            <a:off x="7400160" y="1081080"/>
            <a:ext cx="12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jī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4"/>
          <p:cNvGrpSpPr/>
          <p:nvPr/>
        </p:nvGrpSpPr>
        <p:grpSpPr>
          <a:xfrm>
            <a:off x="7005600" y="1757520"/>
            <a:ext cx="1887480" cy="1969920"/>
            <a:chOff x="7005600" y="1757520"/>
            <a:chExt cx="1887480" cy="1969920"/>
          </a:xfrm>
        </p:grpSpPr>
        <p:pic>
          <p:nvPicPr>
            <p:cNvPr id="110" name="图片 2" descr=""/>
            <p:cNvPicPr/>
            <p:nvPr/>
          </p:nvPicPr>
          <p:blipFill>
            <a:blip r:embed="rId4"/>
            <a:stretch/>
          </p:blipFill>
          <p:spPr>
            <a:xfrm>
              <a:off x="7005600" y="183996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4"/>
            <p:cNvSpPr/>
            <p:nvPr/>
          </p:nvSpPr>
          <p:spPr>
            <a:xfrm>
              <a:off x="7030800" y="175752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睛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4"/>
          <p:cNvGrpSpPr/>
          <p:nvPr/>
        </p:nvGrpSpPr>
        <p:grpSpPr>
          <a:xfrm>
            <a:off x="395280" y="1754280"/>
            <a:ext cx="1887480" cy="1969920"/>
            <a:chOff x="395280" y="1754280"/>
            <a:chExt cx="1887480" cy="1969920"/>
          </a:xfrm>
        </p:grpSpPr>
        <p:pic>
          <p:nvPicPr>
            <p:cNvPr id="113" name="图片 2" descr=""/>
            <p:cNvPicPr/>
            <p:nvPr/>
          </p:nvPicPr>
          <p:blipFill>
            <a:blip r:embed="rId1"/>
            <a:stretch/>
          </p:blipFill>
          <p:spPr>
            <a:xfrm>
              <a:off x="395280" y="1836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4"/>
            <p:cNvSpPr/>
            <p:nvPr/>
          </p:nvSpPr>
          <p:spPr>
            <a:xfrm>
              <a:off x="420480" y="17542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保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组合 4"/>
          <p:cNvGrpSpPr/>
          <p:nvPr/>
        </p:nvGrpSpPr>
        <p:grpSpPr>
          <a:xfrm>
            <a:off x="2627280" y="1747800"/>
            <a:ext cx="1887480" cy="1970280"/>
            <a:chOff x="2627280" y="1747800"/>
            <a:chExt cx="1887480" cy="1970280"/>
          </a:xfrm>
        </p:grpSpPr>
        <p:pic>
          <p:nvPicPr>
            <p:cNvPr id="116" name="图片 2" descr=""/>
            <p:cNvPicPr/>
            <p:nvPr/>
          </p:nvPicPr>
          <p:blipFill>
            <a:blip r:embed="rId2"/>
            <a:stretch/>
          </p:blipFill>
          <p:spPr>
            <a:xfrm>
              <a:off x="2627280" y="183024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4"/>
            <p:cNvSpPr/>
            <p:nvPr/>
          </p:nvSpPr>
          <p:spPr>
            <a:xfrm>
              <a:off x="2652480" y="17478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护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4"/>
          <p:cNvGrpSpPr/>
          <p:nvPr/>
        </p:nvGrpSpPr>
        <p:grpSpPr>
          <a:xfrm>
            <a:off x="4844880" y="1757520"/>
            <a:ext cx="1887840" cy="1969920"/>
            <a:chOff x="4844880" y="1757520"/>
            <a:chExt cx="1887840" cy="1969920"/>
          </a:xfrm>
        </p:grpSpPr>
        <p:pic>
          <p:nvPicPr>
            <p:cNvPr id="119" name="图片 2" descr=""/>
            <p:cNvPicPr/>
            <p:nvPr/>
          </p:nvPicPr>
          <p:blipFill>
            <a:blip r:embed="rId3"/>
            <a:stretch/>
          </p:blipFill>
          <p:spPr>
            <a:xfrm>
              <a:off x="4844880" y="1839960"/>
              <a:ext cx="188784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4"/>
            <p:cNvSpPr/>
            <p:nvPr/>
          </p:nvSpPr>
          <p:spPr>
            <a:xfrm>
              <a:off x="4870080" y="1757520"/>
              <a:ext cx="18388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害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4"/>
          <p:cNvGrpSpPr/>
          <p:nvPr/>
        </p:nvGrpSpPr>
        <p:grpSpPr>
          <a:xfrm>
            <a:off x="7005600" y="1757520"/>
            <a:ext cx="1887480" cy="1969920"/>
            <a:chOff x="7005600" y="1757520"/>
            <a:chExt cx="1887480" cy="1969920"/>
          </a:xfrm>
        </p:grpSpPr>
        <p:pic>
          <p:nvPicPr>
            <p:cNvPr id="122" name="图片 2" descr=""/>
            <p:cNvPicPr/>
            <p:nvPr/>
          </p:nvPicPr>
          <p:blipFill>
            <a:blip r:embed="rId4"/>
            <a:stretch/>
          </p:blipFill>
          <p:spPr>
            <a:xfrm>
              <a:off x="7005600" y="183996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4"/>
            <p:cNvSpPr/>
            <p:nvPr/>
          </p:nvSpPr>
          <p:spPr>
            <a:xfrm>
              <a:off x="7030800" y="175752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事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矩形 2"/>
          <p:cNvSpPr/>
          <p:nvPr/>
        </p:nvSpPr>
        <p:spPr>
          <a:xfrm>
            <a:off x="754200" y="98748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bǎo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3165120" y="105876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h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258880" y="1058760"/>
            <a:ext cx="10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hà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7595640" y="10587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shì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4"/>
          <p:cNvGrpSpPr/>
          <p:nvPr/>
        </p:nvGrpSpPr>
        <p:grpSpPr>
          <a:xfrm>
            <a:off x="395280" y="1754280"/>
            <a:ext cx="1887480" cy="1969920"/>
            <a:chOff x="395280" y="1754280"/>
            <a:chExt cx="1887480" cy="1969920"/>
          </a:xfrm>
        </p:grpSpPr>
        <p:pic>
          <p:nvPicPr>
            <p:cNvPr id="129" name="图片 2" descr=""/>
            <p:cNvPicPr/>
            <p:nvPr/>
          </p:nvPicPr>
          <p:blipFill>
            <a:blip r:embed="rId1"/>
            <a:stretch/>
          </p:blipFill>
          <p:spPr>
            <a:xfrm>
              <a:off x="395280" y="1836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4"/>
            <p:cNvSpPr/>
            <p:nvPr/>
          </p:nvSpPr>
          <p:spPr>
            <a:xfrm>
              <a:off x="420480" y="17542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情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4"/>
          <p:cNvGrpSpPr/>
          <p:nvPr/>
        </p:nvGrpSpPr>
        <p:grpSpPr>
          <a:xfrm>
            <a:off x="2627280" y="1747800"/>
            <a:ext cx="1887480" cy="1970280"/>
            <a:chOff x="2627280" y="1747800"/>
            <a:chExt cx="1887480" cy="1970280"/>
          </a:xfrm>
        </p:grpSpPr>
        <p:pic>
          <p:nvPicPr>
            <p:cNvPr id="132" name="图片 2" descr=""/>
            <p:cNvPicPr/>
            <p:nvPr/>
          </p:nvPicPr>
          <p:blipFill>
            <a:blip r:embed="rId2"/>
            <a:stretch/>
          </p:blipFill>
          <p:spPr>
            <a:xfrm>
              <a:off x="2627280" y="183024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4"/>
            <p:cNvSpPr/>
            <p:nvPr/>
          </p:nvSpPr>
          <p:spPr>
            <a:xfrm>
              <a:off x="2652480" y="17478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请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4"/>
          <p:cNvGrpSpPr/>
          <p:nvPr/>
        </p:nvGrpSpPr>
        <p:grpSpPr>
          <a:xfrm>
            <a:off x="4844880" y="1757520"/>
            <a:ext cx="1887840" cy="1969920"/>
            <a:chOff x="4844880" y="1757520"/>
            <a:chExt cx="1887840" cy="1969920"/>
          </a:xfrm>
        </p:grpSpPr>
        <p:pic>
          <p:nvPicPr>
            <p:cNvPr id="135" name="图片 2" descr=""/>
            <p:cNvPicPr/>
            <p:nvPr/>
          </p:nvPicPr>
          <p:blipFill>
            <a:blip r:embed="rId3"/>
            <a:stretch/>
          </p:blipFill>
          <p:spPr>
            <a:xfrm>
              <a:off x="4844880" y="1839960"/>
              <a:ext cx="188784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4"/>
            <p:cNvSpPr/>
            <p:nvPr/>
          </p:nvSpPr>
          <p:spPr>
            <a:xfrm>
              <a:off x="4870080" y="1757520"/>
              <a:ext cx="18388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让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4"/>
          <p:cNvGrpSpPr/>
          <p:nvPr/>
        </p:nvGrpSpPr>
        <p:grpSpPr>
          <a:xfrm>
            <a:off x="7005600" y="1757520"/>
            <a:ext cx="1887480" cy="1969920"/>
            <a:chOff x="7005600" y="1757520"/>
            <a:chExt cx="1887480" cy="1969920"/>
          </a:xfrm>
        </p:grpSpPr>
        <p:pic>
          <p:nvPicPr>
            <p:cNvPr id="138" name="图片 2" descr=""/>
            <p:cNvPicPr/>
            <p:nvPr/>
          </p:nvPicPr>
          <p:blipFill>
            <a:blip r:embed="rId4"/>
            <a:stretch/>
          </p:blipFill>
          <p:spPr>
            <a:xfrm>
              <a:off x="7005600" y="183996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4"/>
            <p:cNvSpPr/>
            <p:nvPr/>
          </p:nvSpPr>
          <p:spPr>
            <a:xfrm>
              <a:off x="7030800" y="175752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病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2"/>
          <p:cNvSpPr/>
          <p:nvPr/>
        </p:nvSpPr>
        <p:spPr>
          <a:xfrm>
            <a:off x="5116680" y="1058760"/>
            <a:ext cx="15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rànɡ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7237440" y="105876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bì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623160" y="987480"/>
            <a:ext cx="15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qí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2782080" y="987480"/>
            <a:ext cx="15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qǐ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1193760"/>
            <a:ext cx="640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清  晴  眼  睛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保  护  害  事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情  请  让  病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2"/>
          <p:cNvGrpSpPr/>
          <p:nvPr/>
        </p:nvGrpSpPr>
        <p:grpSpPr>
          <a:xfrm>
            <a:off x="2004840" y="484200"/>
            <a:ext cx="4835520" cy="2195640"/>
            <a:chOff x="2004840" y="484200"/>
            <a:chExt cx="4835520" cy="2195640"/>
          </a:xfrm>
        </p:grpSpPr>
        <p:pic>
          <p:nvPicPr>
            <p:cNvPr id="146" name="Picture 19" descr=""/>
            <p:cNvPicPr/>
            <p:nvPr/>
          </p:nvPicPr>
          <p:blipFill>
            <a:blip r:embed="rId1"/>
            <a:stretch/>
          </p:blipFill>
          <p:spPr>
            <a:xfrm>
              <a:off x="5303880" y="798120"/>
              <a:ext cx="1536480" cy="17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8" descr=""/>
            <p:cNvPicPr/>
            <p:nvPr/>
          </p:nvPicPr>
          <p:blipFill>
            <a:blip r:embed="rId2"/>
            <a:stretch/>
          </p:blipFill>
          <p:spPr>
            <a:xfrm>
              <a:off x="2004840" y="484200"/>
              <a:ext cx="3743640" cy="21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组合 1"/>
          <p:cNvGrpSpPr/>
          <p:nvPr/>
        </p:nvGrpSpPr>
        <p:grpSpPr>
          <a:xfrm>
            <a:off x="1387440" y="2374920"/>
            <a:ext cx="6927840" cy="2193840"/>
            <a:chOff x="1387440" y="2374920"/>
            <a:chExt cx="6927840" cy="2193840"/>
          </a:xfrm>
        </p:grpSpPr>
        <p:pic>
          <p:nvPicPr>
            <p:cNvPr id="149" name="Picture 18" descr=""/>
            <p:cNvPicPr/>
            <p:nvPr/>
          </p:nvPicPr>
          <p:blipFill>
            <a:blip r:embed="rId3"/>
            <a:stretch/>
          </p:blipFill>
          <p:spPr>
            <a:xfrm>
              <a:off x="4572000" y="2374920"/>
              <a:ext cx="374328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8" descr=""/>
            <p:cNvPicPr/>
            <p:nvPr/>
          </p:nvPicPr>
          <p:blipFill>
            <a:blip r:embed="rId4"/>
            <a:stretch/>
          </p:blipFill>
          <p:spPr>
            <a:xfrm>
              <a:off x="1387440" y="2374920"/>
              <a:ext cx="3743280" cy="219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18" descr=""/>
          <p:cNvPicPr/>
          <p:nvPr/>
        </p:nvPicPr>
        <p:blipFill>
          <a:blip r:embed="rId5"/>
          <a:stretch/>
        </p:blipFill>
        <p:spPr>
          <a:xfrm>
            <a:off x="1941480" y="484200"/>
            <a:ext cx="3743280" cy="2195640"/>
          </a:xfrm>
          <a:prstGeom prst="rect">
            <a:avLst/>
          </a:prstGeom>
          <a:ln w="0">
            <a:noFill/>
          </a:ln>
        </p:spPr>
      </p:pic>
      <p:sp>
        <p:nvSpPr>
          <p:cNvPr id="152" name="矩形 2"/>
          <p:cNvSpPr/>
          <p:nvPr/>
        </p:nvSpPr>
        <p:spPr>
          <a:xfrm>
            <a:off x="2613240" y="1933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4192920" y="1927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5"/>
          <p:cNvSpPr/>
          <p:nvPr/>
        </p:nvSpPr>
        <p:spPr>
          <a:xfrm>
            <a:off x="5816880" y="1919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8"/>
          <p:cNvSpPr/>
          <p:nvPr/>
        </p:nvSpPr>
        <p:spPr>
          <a:xfrm>
            <a:off x="2022840" y="3797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9"/>
          <p:cNvSpPr/>
          <p:nvPr/>
        </p:nvSpPr>
        <p:spPr>
          <a:xfrm>
            <a:off x="373896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5251680" y="3797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1"/>
          <p:cNvSpPr/>
          <p:nvPr/>
        </p:nvSpPr>
        <p:spPr>
          <a:xfrm>
            <a:off x="6826680" y="3797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creator>
  <dc:description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description>
  <cp:keywords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cp:keywords>
  <dc:language>en-US</dc:language>
  <cp:lastModifiedBy>Administrator</cp:lastModifiedBy>
  <dcterms:modified xsi:type="dcterms:W3CDTF">2020-02-03T02:13:36Z</dcterms:modified>
  <cp:revision>303</cp:revision>
  <dc:subject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subject>
  <dc:title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title>
</cp:coreProperties>
</file>