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6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2.gif" ContentType="image/gif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 Black"/>
              </a:rPr>
              <a:t>Click to move the slide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CD97-05D9-4C34-AD88-E5B02BE097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3B24-918D-47FF-A090-6F7C2191C7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ADA3-E25D-44BD-BDB3-D314E2FE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EBD7-4018-443B-ACCE-D00B6EAD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6E256-7871-4306-9E27-D0E0BD9F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9AFDE-90BE-4275-BF97-3CE978DD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260AD-55FB-46D0-A09E-5BE73FED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B1136-1989-4A88-98C8-0EB7102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3AB10-BEE4-4D59-A23F-E13A6CCD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7654D-398E-4DBA-822C-58D17FB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704E9-A5CA-450B-8A70-9F530DE6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00F82-F47B-456F-B71B-BDCA9F38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EE9FA-375A-4E26-9230-F842010D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526A8-C67D-4913-A2D0-D2CBFB36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1B62-2F04-4F05-A2D3-AEBB24CF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59471-021E-4DE0-B028-B864A9E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3AECE-530B-402A-B446-C460EA5B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83E10-CBC3-4EDE-9210-EB108DD4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5C367-A456-4C15-A4FC-7BD94525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0A5C3-8990-4A6A-8BA9-2F316619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6482E-BDEB-4F39-B333-537F514B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FC6F1-33CF-445F-9962-8E6CD5F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184E4-F93D-4D09-A99E-2FBD13E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86FFA-4563-4D16-A87E-6F5D46EE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5A767-81DA-40AB-AEC5-1BC4CCCD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962A-F70D-4426-A72B-B14404FE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57F47-1F41-4543-A53D-DB28C639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155F1-535B-4BA9-89E7-FDF45B68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2F277-3188-4F79-BCE1-05D55B19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8A6A4-FDCA-49D3-AD7D-4F9BB9BF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86138-FB45-4676-BAB6-D0A49386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5D0E8-84B6-4587-9CFC-0FDE69F5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5B0BC-B197-4EDB-8668-1D2DD5C4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BDDDC-A941-4CAD-803B-5C7B79E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90D05-B3AF-4DC9-9DB3-15E0FFDF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24A5E-672B-4D15-88DE-353E022B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F511-9ECA-4176-8324-4DC53B73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5C339-5483-48A6-A1A9-FC213007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45F5F-B93F-4A1A-8F06-D609D3C9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B60D3-C197-47B1-B820-D2BC358B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89D00-B7A9-4551-9E1E-58C10E4F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5DA9E-172C-480C-9514-8696F48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60C46-2778-42D0-B117-59113E24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1F644-F308-49E5-9082-F9E141CE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BD5EE-7251-437E-8348-CA63B542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AFDA5-AA97-4C6D-B9CC-11E81310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74D53-A9D2-4EF5-9FDE-EF44C93F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8DC5-B536-47B9-834D-3C5EDBB1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7711A-C518-4AA6-B85B-6DDD60E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0068A-BFD1-4A78-B26E-AADF411B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A5A9F-AB1F-4A3C-8683-E781BD0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E0164-F4F7-42AF-9CA4-8F9840CD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9324E-4F48-4337-AC36-71D1BA8F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D83E6-16B7-421E-9F50-6035CBA0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77854-A918-435B-B5CF-65E4C5F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1FE1C-1BB5-4510-AC80-C8A50E9F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51E60-48A6-4770-804A-092CB844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46B38-7399-42F7-8CE3-E183D46A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F141-4215-491A-BDAF-5CB47A8A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3DA0B-948E-4FAB-9C69-8CC26C4A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DF6B2-5699-4F2D-9813-41CFE19C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FC59B-5712-499B-A801-6EFF128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438AD-A03C-46E0-9AF0-FD565A98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B0BAF-85F8-494F-96F4-3216BFF5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C6E30-B2B3-43CC-9C4B-A8EC36CA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1AA4C-A195-4B00-BDA6-5DFE430A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4FD08-9AD8-4C68-9ADD-CFCCC73D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C00A0-CB17-4514-B44C-4628132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2A837-273D-4DFB-B085-120F313D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B6A6-59F5-4904-8460-B9EDAF83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643A8-E8F0-4156-A4B2-584AF891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CC597-8A6D-44D8-9E32-AE4663A8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3AAA8-366F-4824-8A8F-EC4D2FAB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9373D-7ECD-4BB8-941F-385EACE6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56B23-C6D2-4D94-AEC8-92A41BFE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3F102-1ED3-4C99-9E98-522C3B8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8145D-C97C-4FB8-AA4E-2832D5CA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7C5F3-3E6E-4E58-B637-B32CED1B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AD08C-478A-4124-8E76-7A2A310C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12A3F-06B9-400C-BF66-CBDB0B2F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73AF-77A3-451F-9239-68DA2E90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8B338C-EA90-497E-B972-5CB5F9C2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E0567-0DA3-48E7-8BC1-5117B598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487E5-C2EF-4F29-A32B-7711A5D5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01A9A-6D0A-4C05-829D-1D8BC194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957C2-7744-4CC7-9412-6DEA9C5F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1D03F-B284-4E06-BF03-0B8F23C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99BE4-9CA0-4FA0-B1AC-B81EDCEA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0137F-017B-43E4-AC8E-C405F93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2F21D-3C93-4736-B71E-D0932D75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9EA14-6BE4-47D4-84BF-C905A804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4A2C-8D7C-4644-AF60-E1F8863F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F7780-811D-46EF-8DF1-9B163ADD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086F7-2E83-4E2A-815F-BC082D5C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AF471-32D7-488D-B9ED-1E7D488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A6E90-B161-456F-A78F-91E7A7F7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9E96D-D2B2-46FB-8CF9-67542F6C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90C04-F1B9-4D9A-A2D1-0167D1A0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D0D22-BB3E-4BD1-98D0-1B7DE2ED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1ECDB-039B-4F1A-8C59-EB5DC82E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30247C-8BE1-4A6E-A36F-4F1B05A0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693EF-7B8D-4830-A9EE-5FAE566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93CE-647A-401B-9742-2638BEF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F28F6-62D4-44EB-89D5-9564274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2D0C2-43C4-420E-A081-8DC67E7B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A188A-BA5E-44B8-ABCE-EC96F8EA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36117-71F8-4246-8667-9B301C86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948DB-2C3F-4434-A503-0966CADD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2CC4E-15C5-4E72-91A8-6B10543C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CC3B8-1F57-4260-A623-3711FF80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7B28A-C0FD-4DE5-A030-A8ADD163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71816-E882-4DFE-92CA-C834A3EB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0DC75-286F-41FF-AC00-053DB47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2F4C-408B-475A-9380-472811B3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C9EF-D666-448F-866F-54D8DCB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FB189-1E3D-4907-BC9D-523D70A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874F8-8ECE-4F55-AC5F-EB18A18B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ED898-31A1-4E65-AA8C-4A8AC35E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6E196-78E0-419D-9310-19F9F94D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336E9-8591-4883-A882-A50CEC6C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D7518-F584-4A3D-8F50-1291D844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72515-3A3C-4BEC-8108-D0C7E621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E3B13-873D-4FBD-8E69-7124B38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A360E-6CFC-4BBF-8FB1-495BF4F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349FA-2E0B-481F-B4C3-72F44203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4705-9E36-4BF6-93CD-FADF4EF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C6235-23A4-40C1-AEB8-E4240E56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23E30-0974-416B-9494-AA53C1EE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7CBD2-00D9-4C88-AEAB-9A66A586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B499A-B071-4B49-AB06-1AC7049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368D6-A99C-43CD-B88B-6F308F5F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9F9BA-6F81-4768-9162-826C357E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73ADD-8A50-4D58-A6BF-7F310E68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7EFAA-463D-42C0-96DD-4FCBA68E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7A152-1C29-4D80-9E47-DB30DE92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2F3447-2FC6-4E7F-9682-0C84800E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A5DC-6344-42E7-BDCE-EB85DAEE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676B9-C2DD-436E-935F-FFAEC43A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4A142-92B0-4C2A-A22C-BBA28342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5BBAC2-6696-4DA8-BB83-A634CF99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8A2F2B-D924-4C84-B6F7-AF21AA0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38D32-0237-449E-8075-6FD445DC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F82C2-9D90-4BE9-A66C-2243562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2702E3-EAA0-4210-8F64-68A25930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B6E61-44E2-4155-9228-1E8AD909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0892B-DDF6-4B80-9A23-8F6C3862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04700-BD6A-4DEE-A8F9-47A01E30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7DA3-86BB-4A57-ABE1-9E448EDF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8E9674-CB34-44CE-93E4-FD00D98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D380B-40D6-4FF7-9DBD-D5C8D366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3C6B7B-033C-4DCE-91EA-BD477B23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711F0C-70FE-4C5D-AE15-96A046A9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A4EDA-5B75-475F-A350-189EE60C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182DAA-C116-47CD-90C0-791B68BF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8A797-CD24-4E39-947B-8E4347D2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22678-165B-47D8-9CE6-8FA432F4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98B44-3CF5-467E-AC9D-B579E737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FF3C0B-AAE1-4E62-86CF-299D4DA2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4F75-0055-4627-B50F-0793CDEC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F6A03-5935-490E-B89E-9DE1E8CE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B0DFC-80FD-41AC-862A-AEE8C96D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D1CCB-E449-4F7D-85F3-3ACA2B9A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3FB1E-94CD-4732-859D-BE7563AA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38998F-8443-4A23-B792-A27BB2D8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821754-41BF-4695-9CDC-22A48736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2869CC-95C9-4D9E-9987-6A4C1E25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56BC87-1FB8-428A-9DE0-BBC2A2E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BAA960-4BDE-44A4-9F4D-316DBBE0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DD6DE-5FB7-4AA9-9A49-D30610AA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4494-1087-4B70-908C-B29ED57A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7CA796-8F44-4940-8A3F-EA77F2AE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BD1A4-7057-4820-A574-E149EAB7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3F9F1B-16D4-42B6-9DFF-A716F9B9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24B348-1F5A-4492-B300-6CD54205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B60DC-2F87-40A8-940E-BF89CD59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5A650-7875-4CEB-A145-197F33D7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F71E43-6802-4B12-8A3B-7239F91B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ED4279-6EBC-447E-AE16-94D0FC16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59335C-7EFA-427A-B904-13072443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49F0B6-43B9-4CF5-B2AF-08B18E5B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5692-70F2-4E81-A83C-010B6688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BF96BB-64FF-4C6C-B950-8BF66E91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7E0876-5119-4341-AAC7-6F8E4D66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2AA09E-7D93-4C93-BA6C-DC62F478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40DA80-8667-4360-BD76-4617415E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82477-9979-4029-8366-313EE76C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950B0-4364-424E-8CAD-C97DF8C0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708152-0671-4368-80BB-2193B053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9E8AED-61AD-4011-BFA6-376BE327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A9F784-C4BE-4CCF-AF39-759FF205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87773B-D2B8-4655-B6D0-A4319523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D861-38DF-4757-956D-C889EBFD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1745CA-229E-4562-8679-AB84EC6F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A9D5F4-5A5E-45EE-A237-0FFA8AE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87964C-17AD-4967-B1A7-A3CFE08E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9920FD-583C-41AD-B2A0-26AFD89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48E449-45DA-42EB-A14A-49D34EE7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9F912-6D2B-4FF2-A02B-BCFA43D1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174006-533B-4D4B-AA62-6A5B3219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752A18-E2CF-4945-A481-968F8329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AA88A7-A034-4B19-BD92-60D3B07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86CB32-3372-470C-B978-7D678D6D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5432-BFC9-4921-973D-79AC8571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C70C29-9391-43F4-9CE6-FF68B790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664AD9-F27F-4639-B12F-90CC4F3A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9C34E6-BD02-4B7A-9720-959F6D48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E08D99-8D6B-40AE-BFD8-D454E76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834CF1-0C34-4084-901A-50BD50E3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0F7A6A-2D99-45BC-A532-B3A4FE1B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CA15EA-1FB1-4340-B845-528FF3E9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1D8072-3907-481B-9909-952D7921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1D87AF-7919-4034-B229-EC041120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7F6616-D5F1-4B6D-A5A4-03E3D97B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EB3E-ED23-4DBE-83B0-44A0C87A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F4DEAC-5255-4E05-89C5-9F6A71C9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E48DAB-AE0D-404C-8874-F2E6C4D1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3B2466-13FA-4F74-9A48-DCEE56AA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613022-3766-438B-A119-A5503CFD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57259C-1807-4602-B3A9-586796FA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A833C3-BBCB-4993-B799-57C731A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21EA33-6BD6-44A3-8A30-4000D8E7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BCC168-5B9D-460C-B595-296A67DD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695928-B9FE-4388-B0CC-B669E6EB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A33D02-AC15-4291-A695-D173EE76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B1EA-6365-4746-853C-02C7865E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3DB0-F7C3-48FB-8FD9-445BAA1A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D3E3D6-19BB-44F4-B1BB-25E53CA8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4A4A5A-52D7-497D-9304-7AC9555D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88025B-D507-4FF9-B4E7-0CDD30B9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9D85D7-544C-4818-8831-49D12756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D078CD-7F0B-4EC1-BC31-06997F1E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141B33-A607-4E56-A1A3-6C7E29C4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62E02B-6D75-4FA8-9E29-5BF70CCA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D7A751-D0F4-4CD0-938F-E8791C8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0A479B-5CB0-4D19-957E-5E976D1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94BC01-35B3-4E13-9059-A91410C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504F-3067-441B-965E-76C21CA8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DB7790-30CE-4B84-9585-C8D919CB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9A299B-5C90-4113-8E68-36D5590E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93F972-12F3-4C36-A9F7-39D8DCB7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7CDC66-EBE1-4416-8071-801E99DC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686F8E-FC01-4757-8E99-937CAB55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40FABF-8245-4BAC-A496-1AE2BF8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1613F0-DED1-41AB-A12A-24B44B49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049606-7C22-4904-BD16-A289E77C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089E12-8FE5-4713-8C85-CE5709DE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A6B00D-500C-4AC5-86BC-6EDFDDBC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19E1-E7E3-462D-8959-DCC02084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3FFEB4-E889-4EA9-8B95-98A9F7AB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FCDABB-22DF-46A5-9994-D35C131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BEED56-5972-4ED0-BE94-8A458937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22B657-981D-4655-B753-9391AA53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36B0E2-035A-4546-A604-DF640933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14F34E-EDD0-4FE0-A5AD-F50CCD1A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CB3E8D-B758-4A65-B2A6-D16EAD6E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AA4B92-E57C-49A1-8519-C058DAD9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198BEB-4A72-4E27-9E8D-94F19EEB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0D663F-01E4-4BD2-A403-D5261AF6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DEFD-E650-4BCC-93AD-BA8D52C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0AAE88-1317-4ADC-A161-A1A6EFD0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931A6F-15B7-413B-B5F5-70BB910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94ABF1-180B-4DFA-B7BF-80A5D1A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C41E91-D640-4326-8E8E-D626292A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D8F3CF-E346-49CC-A135-DCF68756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505929-D8DF-44B7-84CB-474EFFAE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3E505D-68B3-4995-8558-8C845D67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377B29-D503-42AE-A3DD-F2261505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B09833-706B-4B75-AE7E-059042AE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8895CA-41BC-4946-AAEA-D2D5ED9F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13A4-E9C4-48B9-AE8A-DD79BE18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61DCEF-F8FC-41AE-82A4-C6595902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AC4C89-C011-4BF5-9C54-88CBD623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3BD3FF-4A54-403B-B5A1-DCE39DA5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79E8BE-2A19-4851-A01A-C0A6218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4FEB47-CAF7-46D8-B79A-B2EA0738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6AB527-6E49-43AF-944C-D82BF5F4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EAC8BF-CB2C-4CC1-8162-DEF4E405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4A5239-8A63-4612-9F49-70CCFBD2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E5D855-AA18-4F27-B9A0-1D121F8D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E4494E-E17B-4BC4-B666-7B3964AF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915D-ECDD-4524-ACCA-83EA589E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0DC309-D081-43C4-8798-55116D2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FFBB8E-B225-4FCD-A680-0CAE8AEA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F97E7E-6E67-4C8E-895E-73A44775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D4C9AD-571E-4A0E-8ED8-34885451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4FA3C6-F193-4E0B-84C1-67281C64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D3CFB4-BB18-49E9-B2DC-9A351CF2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8025CA-B067-45D4-A658-72076595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AD2685-E94B-497C-950C-373C5093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766DD2-9A08-420F-883C-4F46C921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0AD8A8-2751-4647-AD07-0DABC628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DECB-8F39-4E42-9286-D610A820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32C842-5197-4723-B8E2-F58BCD1D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BA52-A605-4E1B-A0F4-07AC8EB9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852F-456C-4BD5-9F88-278F83BC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938A0-3286-4D58-8C7B-D92CDD19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F9BA-8D07-4E7B-9870-DDC1E17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6CE5-619F-4248-9F84-D8BFC97E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07A8-9154-4FB8-A6CF-DC039A5A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260F-257D-4C5A-A34E-8FD1C1F1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BF50-DD90-4B97-AB4F-05904DC6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3FB92-DAE0-4832-BC55-41516001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0EE73-A244-4C96-B4D6-B9CCF3C4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1F22-89B8-48AC-956D-5B16E1CC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CACA-CFD4-4764-B877-9883C3D4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E573-88CB-4C1E-B9C7-5D968A00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38026-DAF1-41DF-B1AA-621465BD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15E5-CECC-4533-8708-48FF9688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5463-779A-427F-A81B-58EFD62A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AC1E-A0D8-4EF9-9E58-86DB98CD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84C7F-4797-47C2-B388-B81FAC3E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8553B-CEB0-4826-9C15-8A9266E1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BA91-1817-4CF4-B165-84059A72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04107-F285-4BB7-892F-90A1747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CB52-73D7-4773-9DDA-7940B7DE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8519-C499-4055-8896-E8319B4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2998-0D10-48E3-8CA9-3B96EC24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7B0F6-FE8D-4FE8-852D-53B1DEA5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C5B6-0531-4878-806C-D4DBB1FC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A13F8-CC80-404E-810D-ECBDF1AC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8B865-31CC-42D3-AF41-698B7727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C4551-977E-46DF-8CA2-67C83A01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E8C3A-99E6-4AC5-85E9-B170CA3E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098A-B847-4DE6-985E-38A624F6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B1D20-DAA3-41CA-894F-F799DD87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90ED-5230-424A-88A4-958AF6F4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A923-7AD2-4D60-9BF0-54B3A3A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71B04-DFB7-4C51-9A34-96D4DF67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D9044-D3BB-45D8-8CAB-74D295A3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D9B9-E086-49A3-8C3A-27F50E26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77E11-2AB9-41CA-AFB0-927B1DBF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5966D-E556-4625-ADF9-4A3DC3F3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5E3CF-EBFB-4288-9AB9-698339E0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50896-5431-414C-9107-AEB65703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F1F7B-70C9-49EE-956F-A8ADEE9B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B49C-4F9A-47B1-A89C-EB98B0BD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5F6F9-595A-4DB0-9EF3-2B6EFD64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67D23-A88D-4BCF-AD1E-F9838B67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1BACB-71B5-425D-AF26-44A43B00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3662B-92BC-4FA2-8781-7E8669F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BBA6-FC3C-439D-A57A-E9D07B1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1D56-1FD6-4049-8DF5-70F48C0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FF2A-9EC9-4F06-A128-C0214CAF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53009-880C-47C0-B9B7-A750F8D2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C3A4-27C9-45A5-B5C2-C0B7F188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F66F-8D31-4191-A2ED-1227C04B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DEA7E-EC58-4777-A090-D66F5108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65AF4-BCA2-441A-9FBB-EE3BE133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42A50-20FD-476D-91EF-EF5DFA90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46607-67A9-455F-8849-AC43FE0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06EBF-7E73-4E83-B16D-21FD8974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77FB-C61D-4659-B2E3-D7230C70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1ECF7-9A09-419D-AAB7-AD7DC33F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F8812-98C4-4E85-B2DA-6129EE5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20AAA-5F5B-4542-9BDF-4F9B5A5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A2925-D426-4CAA-93F8-7771DB40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B8D3E-02C4-44EA-B854-60B5FBF7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A441-A81D-40F2-94B1-E22EA9EF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CCE4A-7293-4CA3-934F-5B966DAC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04483-1433-4176-8144-F579A220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98653-2F1A-4E7F-8036-C690FDFB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3F92B-7E84-48D1-ACD9-C793FE2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CA0F-B2F5-4F14-A7E4-094A42A2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8F23-B108-4AF1-9ACC-B609605C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1AFA-64A1-4C13-9459-07036F3D4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A19A-0B0B-4CD8-B1A4-E37359AE4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CAB1-5064-40DC-AED6-D7CEB418C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3B68-8F44-483F-B19A-51908E5C4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ED9-6E03-4E27-84D9-C74B678A9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3772-918A-413E-85EF-0E0E21519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D0C1-27EB-4D10-9443-61B2C19F2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B428-EB8B-46D9-91EB-908BB9A0A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0C7-A5EE-4DFF-A225-E29FF7E0B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D0D6-B3E5-4406-8EFC-B59F6EC4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F2BC-1342-4ECC-AB47-4A8AB7883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BC42-DE34-4085-814E-4E9E62B20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8CA9-6682-46A0-B8EC-C8B518FA1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281E-BF7E-478A-906D-A103B793A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737A-C6DF-4AAA-9DD4-ACD46F6F3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B712-4504-40BA-8EE6-2C2AC4410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1DCF-DEB9-4278-B841-9CA69757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6CC5-5353-40B9-9ED9-E47D147BE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0E93-7F4C-45DD-B413-457626187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8A0F-AC08-4B4C-8F59-6D105CA99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1" marL="444600" indent="-4446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EE3D-D167-49D2-9C11-82ADF5D6ED84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B142-9246-4D05-8FCA-5D05C4404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87FD-94EB-46D1-A71E-375DA3B5A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D513-73CB-46B8-A91C-1B1526D41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"/>
          <p:cNvPicPr/>
          <p:nvPr/>
        </p:nvPicPr>
        <p:blipFill>
          <a:blip r:embed="rId3"/>
          <a:stretch/>
        </p:blipFill>
        <p:spPr>
          <a:xfrm>
            <a:off x="2165400" y="3584520"/>
            <a:ext cx="6211800" cy="439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1" marL="444600" indent="-4446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04B1-C658-4E0E-8550-71F019285677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63B6-F4B7-4B5F-B332-84C4E702E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DE33-4C80-48EA-9843-587991ADD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3E64-E7CF-470F-B1F3-06B3D3227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2" descr="6"/>
          <p:cNvPicPr/>
          <p:nvPr/>
        </p:nvPicPr>
        <p:blipFill>
          <a:blip r:embed="rId1"/>
          <a:stretch/>
        </p:blipFill>
        <p:spPr>
          <a:xfrm>
            <a:off x="0" y="324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257" name="PlaceHolder 1"/>
          <p:cNvSpPr>
            <a:spLocks noGrp="1"/>
          </p:cNvSpPr>
          <p:nvPr>
            <p:ph/>
          </p:nvPr>
        </p:nvSpPr>
        <p:spPr>
          <a:xfrm>
            <a:off x="1143000" y="2174760"/>
            <a:ext cx="64771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宋体"/>
                <a:ea typeface="宋体"/>
              </a:rPr>
              <a:t>《三字经》《百家姓》《弟子规》《千字文》《论语》</a:t>
            </a:r>
            <a:r>
              <a:rPr b="1" lang="en-US" sz="4800" spc="-1" strike="noStrike">
                <a:solidFill>
                  <a:srgbClr val="7030a0"/>
                </a:solidFill>
                <a:latin typeface="宋体"/>
                <a:ea typeface="宋体"/>
              </a:rPr>
              <a:t>……</a:t>
            </a:r>
            <a:endParaRPr b="0" lang="en-US" sz="48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58" name="TextBox 5"/>
          <p:cNvSpPr/>
          <p:nvPr/>
        </p:nvSpPr>
        <p:spPr>
          <a:xfrm>
            <a:off x="352440" y="106668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中国经典诗文有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4"/>
          <p:cNvSpPr/>
          <p:nvPr/>
        </p:nvSpPr>
        <p:spPr>
          <a:xfrm>
            <a:off x="2050920" y="1197000"/>
            <a:ext cx="487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黑体"/>
              </a:rPr>
              <a:t>李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1" name="Text Box 6"/>
          <p:cNvSpPr/>
          <p:nvPr/>
        </p:nvSpPr>
        <p:spPr>
          <a:xfrm>
            <a:off x="2268360" y="60948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lĭ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2" name="Text Box 7"/>
          <p:cNvSpPr/>
          <p:nvPr/>
        </p:nvSpPr>
        <p:spPr>
          <a:xfrm>
            <a:off x="990720" y="2349360"/>
            <a:ext cx="8153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你姓什么？我姓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李</a:t>
            </a:r>
            <a:r>
              <a:rPr b="1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什么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李</a:t>
            </a:r>
            <a:r>
              <a:rPr b="1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？  木子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李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3" name="Text Box 5"/>
          <p:cNvSpPr/>
          <p:nvPr/>
        </p:nvSpPr>
        <p:spPr>
          <a:xfrm>
            <a:off x="4788000" y="333360"/>
            <a:ext cx="4716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8143f"/>
                </a:solidFill>
                <a:latin typeface="楷体"/>
                <a:ea typeface="楷体"/>
              </a:rPr>
              <a:t>李子 李树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8143f"/>
                </a:solidFill>
                <a:latin typeface="楷体"/>
                <a:ea typeface="楷体"/>
              </a:rPr>
              <a:t>桃李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4"/>
          <p:cNvSpPr/>
          <p:nvPr/>
        </p:nvSpPr>
        <p:spPr>
          <a:xfrm>
            <a:off x="1835280" y="1741320"/>
            <a:ext cx="397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楷体"/>
              </a:rPr>
              <a:t>张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5" name="Rectangle 8"/>
          <p:cNvSpPr/>
          <p:nvPr/>
        </p:nvSpPr>
        <p:spPr>
          <a:xfrm>
            <a:off x="1306440" y="2879640"/>
            <a:ext cx="751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"/>
              </a:rPr>
              <a:t>他姓什么？他姓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张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"/>
              </a:rPr>
              <a:t>什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张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"/>
              </a:rPr>
              <a:t>？弓长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张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6" name="Text Box 19"/>
          <p:cNvSpPr/>
          <p:nvPr/>
        </p:nvSpPr>
        <p:spPr>
          <a:xfrm>
            <a:off x="1665360" y="1008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h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7" name="Picture 12" descr="12"/>
          <p:cNvPicPr/>
          <p:nvPr/>
        </p:nvPicPr>
        <p:blipFill>
          <a:blip r:embed="rId1"/>
          <a:stretch/>
        </p:blipFill>
        <p:spPr>
          <a:xfrm>
            <a:off x="6588000" y="260280"/>
            <a:ext cx="2151360" cy="2997360"/>
          </a:xfrm>
          <a:prstGeom prst="rect">
            <a:avLst/>
          </a:prstGeom>
          <a:ln w="0">
            <a:noFill/>
          </a:ln>
        </p:spPr>
      </p:pic>
      <p:sp>
        <p:nvSpPr>
          <p:cNvPr id="1298" name="Text Box 4"/>
          <p:cNvSpPr/>
          <p:nvPr/>
        </p:nvSpPr>
        <p:spPr>
          <a:xfrm>
            <a:off x="2205000" y="141912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张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457200" y="441972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张开    张大        东张西望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纸张    张灯结彩    张牙舞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0" name="Text Box 6"/>
          <p:cNvSpPr/>
          <p:nvPr/>
        </p:nvSpPr>
        <p:spPr>
          <a:xfrm>
            <a:off x="762120" y="309888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我姓张，弓长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张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1" name="Text Box 7"/>
          <p:cNvSpPr/>
          <p:nvPr/>
        </p:nvSpPr>
        <p:spPr>
          <a:xfrm>
            <a:off x="5724360" y="580536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2" name="Text Box 8"/>
          <p:cNvSpPr/>
          <p:nvPr/>
        </p:nvSpPr>
        <p:spPr>
          <a:xfrm>
            <a:off x="3067200" y="266688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3" name="Text Box 9"/>
          <p:cNvSpPr/>
          <p:nvPr/>
        </p:nvSpPr>
        <p:spPr>
          <a:xfrm>
            <a:off x="900000" y="981000"/>
            <a:ext cx="9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4" name="Text Box 10"/>
          <p:cNvSpPr/>
          <p:nvPr/>
        </p:nvSpPr>
        <p:spPr>
          <a:xfrm>
            <a:off x="2133720" y="9144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h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5" name="Picture 11" descr="xm0001"/>
          <p:cNvPicPr/>
          <p:nvPr/>
        </p:nvPicPr>
        <p:blipFill>
          <a:blip r:embed="rId2"/>
          <a:stretch/>
        </p:blipFill>
        <p:spPr>
          <a:xfrm rot="20448600">
            <a:off x="4952520" y="304920"/>
            <a:ext cx="1870200" cy="19429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5" descr="13"/>
          <p:cNvPicPr/>
          <p:nvPr/>
        </p:nvPicPr>
        <p:blipFill>
          <a:blip r:embed="rId3"/>
          <a:stretch/>
        </p:blipFill>
        <p:spPr>
          <a:xfrm>
            <a:off x="6804000" y="228600"/>
            <a:ext cx="1763640" cy="13240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14"/>
          <p:cNvPicPr/>
          <p:nvPr/>
        </p:nvPicPr>
        <p:blipFill>
          <a:blip r:embed="rId4"/>
          <a:stretch/>
        </p:blipFill>
        <p:spPr>
          <a:xfrm>
            <a:off x="6732720" y="669960"/>
            <a:ext cx="1655640" cy="14112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15"/>
          <p:cNvPicPr/>
          <p:nvPr/>
        </p:nvPicPr>
        <p:blipFill>
          <a:blip r:embed="rId5"/>
          <a:stretch/>
        </p:blipFill>
        <p:spPr>
          <a:xfrm>
            <a:off x="6713640" y="614520"/>
            <a:ext cx="170316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4"/>
          <p:cNvSpPr/>
          <p:nvPr/>
        </p:nvSpPr>
        <p:spPr>
          <a:xfrm>
            <a:off x="5435640" y="76680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东吴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0" name="Text Box 5"/>
          <p:cNvSpPr/>
          <p:nvPr/>
        </p:nvSpPr>
        <p:spPr>
          <a:xfrm>
            <a:off x="5724360" y="2205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1" name="Text Box 6"/>
          <p:cNvSpPr/>
          <p:nvPr/>
        </p:nvSpPr>
        <p:spPr>
          <a:xfrm>
            <a:off x="1981080" y="609480"/>
            <a:ext cx="10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2" name="Text Box 7"/>
          <p:cNvSpPr/>
          <p:nvPr/>
        </p:nvSpPr>
        <p:spPr>
          <a:xfrm>
            <a:off x="1042920" y="278136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古</a:t>
            </a:r>
            <a:r>
              <a:rPr b="1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月胡。口天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吴</a:t>
            </a:r>
            <a:r>
              <a:rPr b="1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3" name="Text Box 6"/>
          <p:cNvSpPr/>
          <p:nvPr/>
        </p:nvSpPr>
        <p:spPr>
          <a:xfrm>
            <a:off x="1116000" y="2295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幼圆"/>
                <a:ea typeface="幼圆"/>
              </a:rPr>
              <a:t>ɡ</a:t>
            </a:r>
            <a:r>
              <a:rPr b="1" lang="en-US" sz="4000" spc="-1" strike="noStrike">
                <a:solidFill>
                  <a:srgbClr val="b8143f"/>
                </a:solidFill>
                <a:latin typeface="幼圆"/>
                <a:ea typeface="幼圆"/>
              </a:rPr>
              <a:t>ǔ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826920" y="4005360"/>
            <a:ext cx="1908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古诗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古今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Text Box 5"/>
          <p:cNvSpPr/>
          <p:nvPr/>
        </p:nvSpPr>
        <p:spPr>
          <a:xfrm>
            <a:off x="2987640" y="27813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6" name="Text Box 6"/>
          <p:cNvSpPr/>
          <p:nvPr/>
        </p:nvSpPr>
        <p:spPr>
          <a:xfrm>
            <a:off x="6156360" y="2852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x</a:t>
            </a:r>
            <a:r>
              <a:rPr b="1" lang="en-US" sz="4400" spc="-1" strike="noStrike">
                <a:solidFill>
                  <a:srgbClr val="ffffff"/>
                </a:solidFill>
                <a:latin typeface="Abadi MT Condensed Light"/>
                <a:ea typeface="黑体"/>
              </a:rPr>
              <a:t>ǔ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1440000" y="3500280"/>
            <a:ext cx="69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双人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徐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，言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8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296280" cy="693576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6"/>
          <p:cNvSpPr/>
          <p:nvPr/>
        </p:nvSpPr>
        <p:spPr>
          <a:xfrm>
            <a:off x="2665080" y="1905120"/>
            <a:ext cx="372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你姓什么？我姓</a:t>
            </a:r>
            <a:r>
              <a:rPr b="1" lang="zh-CN" sz="4800" spc="-1" strike="noStrike">
                <a:solidFill>
                  <a:srgbClr val="ff0000"/>
                </a:solidFill>
                <a:latin typeface="Garamond"/>
              </a:rPr>
              <a:t>方</a:t>
            </a: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什么</a:t>
            </a:r>
            <a:r>
              <a:rPr b="1" lang="zh-CN" sz="4800" spc="-1" strike="noStrike">
                <a:solidFill>
                  <a:srgbClr val="ff0000"/>
                </a:solidFill>
                <a:latin typeface="Garamond"/>
              </a:rPr>
              <a:t>方</a:t>
            </a: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？  方向的</a:t>
            </a:r>
            <a:r>
              <a:rPr b="1" lang="zh-CN" sz="4800" spc="-1" strike="noStrike">
                <a:solidFill>
                  <a:srgbClr val="ff0000"/>
                </a:solidFill>
                <a:latin typeface="Garamond"/>
              </a:rPr>
              <a:t>方</a:t>
            </a: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296280" cy="6935760"/>
          </a:xfrm>
          <a:prstGeom prst="rect">
            <a:avLst/>
          </a:prstGeom>
          <a:ln w="0">
            <a:noFill/>
          </a:ln>
        </p:spPr>
      </p:pic>
      <p:sp>
        <p:nvSpPr>
          <p:cNvPr id="1323" name="Text Box 5"/>
          <p:cNvSpPr/>
          <p:nvPr/>
        </p:nvSpPr>
        <p:spPr>
          <a:xfrm>
            <a:off x="2238480" y="2104920"/>
            <a:ext cx="37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WordArt 6"/>
          <p:cNvSpPr txBox="1"/>
          <p:nvPr/>
        </p:nvSpPr>
        <p:spPr>
          <a:xfrm>
            <a:off x="1600200" y="990720"/>
            <a:ext cx="59436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外拓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5" name="WordArt 7"/>
          <p:cNvSpPr txBox="1"/>
          <p:nvPr/>
        </p:nvSpPr>
        <p:spPr>
          <a:xfrm>
            <a:off x="1028880" y="3276720"/>
            <a:ext cx="708660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你还知道哪些姓氏？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6" name="AutoShape 8">
            <a:hlinkClick r:id="" action="ppaction://hlinkshowjump?jump=firstslide"/>
          </p:cNvPr>
          <p:cNvSpPr/>
          <p:nvPr/>
        </p:nvSpPr>
        <p:spPr>
          <a:xfrm>
            <a:off x="6477120" y="6324480"/>
            <a:ext cx="863640" cy="505080"/>
          </a:xfrm>
          <a:prstGeom prst="leftArrow">
            <a:avLst>
              <a:gd name="adj1" fmla="val 50000"/>
              <a:gd name="adj2" fmla="val 42748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矩形 1" descr=""/>
          <p:cNvPicPr/>
          <p:nvPr/>
        </p:nvPicPr>
        <p:blipFill>
          <a:blip r:embed="rId1"/>
          <a:stretch/>
        </p:blipFill>
        <p:spPr>
          <a:xfrm>
            <a:off x="-457200" y="1219320"/>
            <a:ext cx="103568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Text Box 5"/>
          <p:cNvSpPr/>
          <p:nvPr/>
        </p:nvSpPr>
        <p:spPr>
          <a:xfrm>
            <a:off x="5508720" y="2205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许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9" name="Rectangle 7"/>
          <p:cNvSpPr/>
          <p:nvPr/>
        </p:nvSpPr>
        <p:spPr>
          <a:xfrm>
            <a:off x="1440000" y="3500280"/>
            <a:ext cx="69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中国姓氏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很多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Text Box 3"/>
          <p:cNvSpPr/>
          <p:nvPr/>
        </p:nvSpPr>
        <p:spPr>
          <a:xfrm>
            <a:off x="2340000" y="404640"/>
            <a:ext cx="5459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赵国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完璧归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1" name="Rectangle 7"/>
          <p:cNvSpPr/>
          <p:nvPr/>
        </p:nvSpPr>
        <p:spPr>
          <a:xfrm>
            <a:off x="0" y="2997360"/>
            <a:ext cx="761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赵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钱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孙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李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2" name="Text Box 5"/>
          <p:cNvSpPr/>
          <p:nvPr/>
        </p:nvSpPr>
        <p:spPr>
          <a:xfrm>
            <a:off x="0" y="22766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华文细黑"/>
                <a:ea typeface="华文细黑"/>
              </a:rPr>
              <a:t>zhà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3" name="Text Box 5"/>
          <p:cNvSpPr/>
          <p:nvPr/>
        </p:nvSpPr>
        <p:spPr>
          <a:xfrm>
            <a:off x="1692360" y="2205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华文细黑"/>
                <a:ea typeface="华文细黑"/>
              </a:rPr>
              <a:t>qiá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4" name="Text Box 13"/>
          <p:cNvSpPr/>
          <p:nvPr/>
        </p:nvSpPr>
        <p:spPr>
          <a:xfrm>
            <a:off x="3492360" y="2205000"/>
            <a:ext cx="15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华文细黑"/>
                <a:ea typeface="华文细黑"/>
              </a:rPr>
              <a:t>sū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5" name="Text Box 7"/>
          <p:cNvSpPr/>
          <p:nvPr/>
        </p:nvSpPr>
        <p:spPr>
          <a:xfrm>
            <a:off x="0" y="333360"/>
            <a:ext cx="223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幼圆"/>
                <a:ea typeface="幼圆"/>
              </a:rPr>
              <a:t>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幼圆"/>
                <a:ea typeface="幼圆"/>
              </a:rPr>
              <a:t>走字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6" name="Picture 8" descr=""/>
          <p:cNvPicPr/>
          <p:nvPr/>
        </p:nvPicPr>
        <p:blipFill>
          <a:blip r:embed="rId1"/>
          <a:stretch/>
        </p:blipFill>
        <p:spPr>
          <a:xfrm>
            <a:off x="1835280" y="3933720"/>
            <a:ext cx="723600" cy="1224000"/>
          </a:xfrm>
          <a:prstGeom prst="rect">
            <a:avLst/>
          </a:prstGeom>
          <a:ln w="0">
            <a:noFill/>
          </a:ln>
        </p:spPr>
      </p:pic>
      <p:sp>
        <p:nvSpPr>
          <p:cNvPr id="1337" name="Text Box 9"/>
          <p:cNvSpPr/>
          <p:nvPr/>
        </p:nvSpPr>
        <p:spPr>
          <a:xfrm>
            <a:off x="2987640" y="4076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幼圆"/>
                <a:ea typeface="幼圆"/>
              </a:rPr>
              <a:t>金字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8" name="Text Box 3"/>
          <p:cNvSpPr/>
          <p:nvPr/>
        </p:nvSpPr>
        <p:spPr>
          <a:xfrm>
            <a:off x="5003640" y="4035600"/>
            <a:ext cx="545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金钱 花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9" name="Text Box 3"/>
          <p:cNvSpPr/>
          <p:nvPr/>
        </p:nvSpPr>
        <p:spPr>
          <a:xfrm>
            <a:off x="3132000" y="1341360"/>
            <a:ext cx="5459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孙子 孙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1042920" y="2276640"/>
            <a:ext cx="69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周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吴、郑、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王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1" name="Text Box 5"/>
          <p:cNvSpPr/>
          <p:nvPr/>
        </p:nvSpPr>
        <p:spPr>
          <a:xfrm>
            <a:off x="826920" y="1700280"/>
            <a:ext cx="167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华文细黑"/>
                <a:ea typeface="华文细黑"/>
              </a:rPr>
              <a:t>zhōu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2" name="Text Box 5"/>
          <p:cNvSpPr/>
          <p:nvPr/>
        </p:nvSpPr>
        <p:spPr>
          <a:xfrm>
            <a:off x="5846760" y="170028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华文细黑"/>
                <a:ea typeface="华文细黑"/>
              </a:rPr>
              <a:t>wánɡ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3" name="Text Box 5"/>
          <p:cNvSpPr/>
          <p:nvPr/>
        </p:nvSpPr>
        <p:spPr>
          <a:xfrm>
            <a:off x="3635280" y="1700280"/>
            <a:ext cx="167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华文细黑"/>
                <a:ea typeface="华文细黑"/>
              </a:rPr>
              <a:t>zhènɡ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4" name="Text Box 3"/>
          <p:cNvSpPr/>
          <p:nvPr/>
        </p:nvSpPr>
        <p:spPr>
          <a:xfrm>
            <a:off x="755640" y="3645000"/>
            <a:ext cx="1655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四周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周边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5" name="Text Box 3"/>
          <p:cNvSpPr/>
          <p:nvPr/>
        </p:nvSpPr>
        <p:spPr>
          <a:xfrm>
            <a:off x="5867280" y="3645000"/>
            <a:ext cx="223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王子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国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Picture 2" descr="6"/>
          <p:cNvPicPr/>
          <p:nvPr/>
        </p:nvPicPr>
        <p:blipFill>
          <a:blip r:embed="rId1"/>
          <a:stretch/>
        </p:blipFill>
        <p:spPr>
          <a:xfrm>
            <a:off x="3240" y="0"/>
            <a:ext cx="9142200" cy="6858000"/>
          </a:xfrm>
          <a:prstGeom prst="rect">
            <a:avLst/>
          </a:prstGeom>
          <a:ln w="0">
            <a:noFill/>
          </a:ln>
        </p:spPr>
      </p:pic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《百家姓》</a:t>
            </a: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963b2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赵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钱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孙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李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周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吴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郑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王</a:t>
            </a: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963b2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冯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陈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褚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卫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蒋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沈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韩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杨</a:t>
            </a: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963b2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朱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秦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尤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许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何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吕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施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张</a:t>
            </a: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963b2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孔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曹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严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华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金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魏   陶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姜……</a:t>
            </a: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矩形 2"/>
          <p:cNvSpPr/>
          <p:nvPr/>
        </p:nvSpPr>
        <p:spPr>
          <a:xfrm>
            <a:off x="824040" y="5335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Garamond"/>
              </a:rPr>
              <a:t>诸葛、东方，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Garamond"/>
              </a:rPr>
              <a:t>上官，欧阳</a:t>
            </a: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……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7" name="TextBox 3"/>
          <p:cNvSpPr/>
          <p:nvPr/>
        </p:nvSpPr>
        <p:spPr>
          <a:xfrm>
            <a:off x="4752000" y="3386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由两个及以上的汉字组成的姓氏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8" name="矩形 4" descr=""/>
          <p:cNvPicPr/>
          <p:nvPr/>
        </p:nvPicPr>
        <p:blipFill>
          <a:blip r:embed="rId1"/>
          <a:stretch/>
        </p:blipFill>
        <p:spPr>
          <a:xfrm>
            <a:off x="96840" y="1968480"/>
            <a:ext cx="2890800" cy="1933560"/>
          </a:xfrm>
          <a:prstGeom prst="rect">
            <a:avLst/>
          </a:prstGeom>
          <a:ln w="0">
            <a:noFill/>
          </a:ln>
        </p:spPr>
      </p:pic>
      <p:sp>
        <p:nvSpPr>
          <p:cNvPr id="1349" name="矩形 5"/>
          <p:cNvSpPr/>
          <p:nvPr/>
        </p:nvSpPr>
        <p:spPr>
          <a:xfrm>
            <a:off x="485640" y="4521240"/>
            <a:ext cx="80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我国现存的复姓有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个：太史、端木、司马、独孤、南宫、皇甫、闻人、夏侯、濮阳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5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 Box 2"/>
          <p:cNvSpPr/>
          <p:nvPr/>
        </p:nvSpPr>
        <p:spPr>
          <a:xfrm>
            <a:off x="2057400" y="1981080"/>
            <a:ext cx="510552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你姓什么？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我姓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什么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？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1" name="Text Box 3"/>
          <p:cNvSpPr/>
          <p:nvPr/>
        </p:nvSpPr>
        <p:spPr>
          <a:xfrm>
            <a:off x="2195640" y="836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说一说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2" name="Picture 6" descr="3"/>
          <p:cNvPicPr/>
          <p:nvPr/>
        </p:nvPicPr>
        <p:blipFill>
          <a:blip r:embed="rId1"/>
          <a:srcRect l="15315" t="14314" r="14214" b="17017"/>
          <a:stretch/>
        </p:blipFill>
        <p:spPr>
          <a:xfrm>
            <a:off x="380880" y="380880"/>
            <a:ext cx="17528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353" name="Group 7"/>
          <p:cNvGrpSpPr/>
          <p:nvPr/>
        </p:nvGrpSpPr>
        <p:grpSpPr>
          <a:xfrm>
            <a:off x="6803640" y="260280"/>
            <a:ext cx="2339640" cy="1622520"/>
            <a:chOff x="6803640" y="260280"/>
            <a:chExt cx="2339640" cy="1622520"/>
          </a:xfrm>
        </p:grpSpPr>
        <p:sp>
          <p:nvSpPr>
            <p:cNvPr id="1354" name="AutoShape 8"/>
            <p:cNvSpPr/>
            <p:nvPr/>
          </p:nvSpPr>
          <p:spPr>
            <a:xfrm flipH="1">
              <a:off x="6803280" y="260280"/>
              <a:ext cx="2339640" cy="1622520"/>
            </a:xfrm>
            <a:prstGeom prst="flowChartMagneticTap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5" name="Text Box 9"/>
            <p:cNvSpPr/>
            <p:nvPr/>
          </p:nvSpPr>
          <p:spPr>
            <a:xfrm flipH="1">
              <a:off x="7021800" y="728640"/>
              <a:ext cx="1891800" cy="703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b8143f"/>
                  </a:solidFill>
                  <a:latin typeface="黑体"/>
                  <a:ea typeface="黑体"/>
                </a:rPr>
                <a:t>好棒呀</a:t>
              </a:r>
              <a:r>
                <a:rPr b="1" lang="en-US" sz="4000" spc="-1" strike="noStrike">
                  <a:solidFill>
                    <a:srgbClr val="b8143f"/>
                  </a:solidFill>
                  <a:latin typeface="黑体"/>
                  <a:ea typeface="黑体"/>
                </a:rPr>
                <a:t>!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56" name="Text Box 10"/>
          <p:cNvSpPr/>
          <p:nvPr/>
        </p:nvSpPr>
        <p:spPr>
          <a:xfrm>
            <a:off x="457200" y="26668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8143f"/>
                </a:solidFill>
                <a:latin typeface="幼圆"/>
                <a:ea typeface="幼圆"/>
              </a:rPr>
              <a:t>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7" name="Text Box 11"/>
          <p:cNvSpPr/>
          <p:nvPr/>
        </p:nvSpPr>
        <p:spPr>
          <a:xfrm>
            <a:off x="1066680" y="32767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8143f"/>
                </a:solidFill>
                <a:latin typeface="幼圆"/>
                <a:ea typeface="幼圆"/>
              </a:rPr>
              <a:t>黄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8" name="Text Box 12"/>
          <p:cNvSpPr/>
          <p:nvPr/>
        </p:nvSpPr>
        <p:spPr>
          <a:xfrm>
            <a:off x="457200" y="46324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8143f"/>
                </a:solidFill>
                <a:latin typeface="幼圆"/>
                <a:ea typeface="幼圆"/>
              </a:rPr>
              <a:t>曹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9" name="Text Box 13"/>
          <p:cNvSpPr/>
          <p:nvPr/>
        </p:nvSpPr>
        <p:spPr>
          <a:xfrm>
            <a:off x="1066680" y="516564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8143f"/>
                </a:solidFill>
                <a:latin typeface="幼圆"/>
                <a:ea typeface="幼圆"/>
              </a:rPr>
              <a:t>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0" name="Text Box 14"/>
          <p:cNvSpPr/>
          <p:nvPr/>
        </p:nvSpPr>
        <p:spPr>
          <a:xfrm>
            <a:off x="6781680" y="26668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8143f"/>
                </a:solidFill>
                <a:latin typeface="幼圆"/>
                <a:ea typeface="幼圆"/>
              </a:rPr>
              <a:t>杨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1" name="Text Box 15"/>
          <p:cNvSpPr/>
          <p:nvPr/>
        </p:nvSpPr>
        <p:spPr>
          <a:xfrm>
            <a:off x="7391520" y="3276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8143f"/>
                </a:solidFill>
                <a:latin typeface="幼圆"/>
                <a:ea typeface="幼圆"/>
              </a:rPr>
              <a:t>林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2" name="Text Box 16"/>
          <p:cNvSpPr/>
          <p:nvPr/>
        </p:nvSpPr>
        <p:spPr>
          <a:xfrm>
            <a:off x="6781680" y="455616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8143f"/>
                </a:solidFill>
                <a:latin typeface="幼圆"/>
                <a:ea typeface="幼圆"/>
              </a:rPr>
              <a:t>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 Box 4"/>
          <p:cNvSpPr/>
          <p:nvPr/>
        </p:nvSpPr>
        <p:spPr>
          <a:xfrm>
            <a:off x="2268360" y="213372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司马光，姓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司马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。诸葛亮，姓什么？诸葛亮，姓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诸葛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4" name="Text Box 5"/>
          <p:cNvSpPr/>
          <p:nvPr/>
        </p:nvSpPr>
        <p:spPr>
          <a:xfrm>
            <a:off x="2195640" y="836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读句子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5" name="Text Box 6"/>
          <p:cNvSpPr/>
          <p:nvPr/>
        </p:nvSpPr>
        <p:spPr>
          <a:xfrm>
            <a:off x="2627280" y="5084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公孙、欧阳、西门、东方</a:t>
            </a:r>
            <a:r>
              <a:rPr b="1" lang="en-US" sz="4000" spc="-1" strike="noStrike">
                <a:solidFill>
                  <a:srgbClr val="9900ff"/>
                </a:solidFill>
                <a:latin typeface="宋体"/>
                <a:ea typeface="黑体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6" name="Text Box 7"/>
          <p:cNvSpPr/>
          <p:nvPr/>
        </p:nvSpPr>
        <p:spPr>
          <a:xfrm>
            <a:off x="838080" y="50846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复姓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7" name="Picture 11" descr="3"/>
          <p:cNvPicPr/>
          <p:nvPr/>
        </p:nvPicPr>
        <p:blipFill>
          <a:blip r:embed="rId1"/>
          <a:stretch/>
        </p:blipFill>
        <p:spPr>
          <a:xfrm>
            <a:off x="0" y="0"/>
            <a:ext cx="24861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368" name="Group 17"/>
          <p:cNvGrpSpPr/>
          <p:nvPr/>
        </p:nvGrpSpPr>
        <p:grpSpPr>
          <a:xfrm>
            <a:off x="6803640" y="260280"/>
            <a:ext cx="2339640" cy="1622520"/>
            <a:chOff x="6803640" y="260280"/>
            <a:chExt cx="2339640" cy="1622520"/>
          </a:xfrm>
        </p:grpSpPr>
        <p:sp>
          <p:nvSpPr>
            <p:cNvPr id="1369" name="AutoShape 15"/>
            <p:cNvSpPr/>
            <p:nvPr/>
          </p:nvSpPr>
          <p:spPr>
            <a:xfrm flipH="1">
              <a:off x="6803280" y="260280"/>
              <a:ext cx="2339640" cy="1622520"/>
            </a:xfrm>
            <a:prstGeom prst="flowChartMagneticTap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0" name="Text Box 16"/>
            <p:cNvSpPr/>
            <p:nvPr/>
          </p:nvSpPr>
          <p:spPr>
            <a:xfrm flipH="1">
              <a:off x="7021800" y="728640"/>
              <a:ext cx="1891800" cy="703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b8143f"/>
                  </a:solidFill>
                  <a:latin typeface="黑体"/>
                  <a:ea typeface="黑体"/>
                </a:rPr>
                <a:t>好棒呀</a:t>
              </a:r>
              <a:r>
                <a:rPr b="1" lang="en-US" sz="4000" spc="-1" strike="noStrike">
                  <a:solidFill>
                    <a:srgbClr val="b8143f"/>
                  </a:solidFill>
                  <a:latin typeface="黑体"/>
                  <a:ea typeface="黑体"/>
                </a:rPr>
                <a:t>!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 Box 4"/>
          <p:cNvSpPr/>
          <p:nvPr/>
        </p:nvSpPr>
        <p:spPr>
          <a:xfrm>
            <a:off x="1752480" y="917640"/>
            <a:ext cx="7391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你姓什么？我姓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李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什么李？木子李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他姓什么？他姓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张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。</a:t>
            </a:r>
            <a:r>
              <a:rPr b="1" lang="en-US" sz="3200" spc="-1" strike="noStrike">
                <a:solidFill>
                  <a:srgbClr val="041fe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什么张？弓长张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古月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胡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，口天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吴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。</a:t>
            </a:r>
            <a:r>
              <a:rPr b="1" lang="en-US" sz="3200" spc="-1" strike="noStrike">
                <a:solidFill>
                  <a:srgbClr val="041fe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双口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吕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，言午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许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中国姓氏有很多，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赵、钱、孙、李、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周、吴、郑、王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诸葛、东方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上官，欧阳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2" name="矩形 3" descr=""/>
          <p:cNvPicPr/>
          <p:nvPr/>
        </p:nvPicPr>
        <p:blipFill>
          <a:blip r:embed="rId1"/>
          <a:stretch/>
        </p:blipFill>
        <p:spPr>
          <a:xfrm>
            <a:off x="2193840" y="-231840"/>
            <a:ext cx="30798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Picture 11" descr="04"/>
          <p:cNvPicPr/>
          <p:nvPr/>
        </p:nvPicPr>
        <p:blipFill>
          <a:blip r:embed="rId1"/>
          <a:stretch/>
        </p:blipFill>
        <p:spPr>
          <a:xfrm rot="21175800">
            <a:off x="3962160" y="4343400"/>
            <a:ext cx="4284720" cy="19130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7" descr="04"/>
          <p:cNvPicPr/>
          <p:nvPr/>
        </p:nvPicPr>
        <p:blipFill>
          <a:blip r:embed="rId2"/>
          <a:stretch/>
        </p:blipFill>
        <p:spPr>
          <a:xfrm rot="21175800">
            <a:off x="5544720" y="380520"/>
            <a:ext cx="3598920" cy="16066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10" descr="04"/>
          <p:cNvPicPr/>
          <p:nvPr/>
        </p:nvPicPr>
        <p:blipFill>
          <a:blip r:embed="rId3"/>
          <a:stretch/>
        </p:blipFill>
        <p:spPr>
          <a:xfrm rot="21175800">
            <a:off x="1904760" y="2743200"/>
            <a:ext cx="4284720" cy="1913040"/>
          </a:xfrm>
          <a:prstGeom prst="rect">
            <a:avLst/>
          </a:prstGeom>
          <a:ln w="0">
            <a:noFill/>
          </a:ln>
        </p:spPr>
      </p:pic>
      <p:sp>
        <p:nvSpPr>
          <p:cNvPr id="1376" name="Text Box 3"/>
          <p:cNvSpPr/>
          <p:nvPr/>
        </p:nvSpPr>
        <p:spPr>
          <a:xfrm>
            <a:off x="2014560" y="10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你的名字是谁起的，有什么意思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7" name="Picture 4" descr="01"/>
          <p:cNvPicPr/>
          <p:nvPr/>
        </p:nvPicPr>
        <p:blipFill>
          <a:blip r:embed="rId4"/>
          <a:stretch/>
        </p:blipFill>
        <p:spPr>
          <a:xfrm>
            <a:off x="0" y="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378" name="Text Box 5"/>
          <p:cNvSpPr/>
          <p:nvPr/>
        </p:nvSpPr>
        <p:spPr>
          <a:xfrm>
            <a:off x="2195640" y="0"/>
            <a:ext cx="280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说一说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9" name="Picture 6" descr="04"/>
          <p:cNvPicPr/>
          <p:nvPr/>
        </p:nvPicPr>
        <p:blipFill>
          <a:blip r:embed="rId5"/>
          <a:stretch/>
        </p:blipFill>
        <p:spPr>
          <a:xfrm>
            <a:off x="2050920" y="404640"/>
            <a:ext cx="3059280" cy="143208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8" descr="04"/>
          <p:cNvPicPr/>
          <p:nvPr/>
        </p:nvPicPr>
        <p:blipFill>
          <a:blip r:embed="rId6"/>
          <a:stretch/>
        </p:blipFill>
        <p:spPr>
          <a:xfrm rot="20982600">
            <a:off x="0" y="333360"/>
            <a:ext cx="4497480" cy="2104920"/>
          </a:xfrm>
          <a:prstGeom prst="rect">
            <a:avLst/>
          </a:prstGeom>
          <a:ln w="0">
            <a:noFill/>
          </a:ln>
        </p:spPr>
      </p:pic>
      <p:sp>
        <p:nvSpPr>
          <p:cNvPr id="1381" name="Text Box 9"/>
          <p:cNvSpPr/>
          <p:nvPr/>
        </p:nvSpPr>
        <p:spPr>
          <a:xfrm>
            <a:off x="304920" y="1828800"/>
            <a:ext cx="8839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蒋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林燕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蒋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雨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周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李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周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政屹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陆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琪娜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嘉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谢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振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严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子淳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王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依琳 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胡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浩峰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峻玮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杨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钰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虞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圣佳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陈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怡霏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李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辰熙 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徐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一超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黄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俊毅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王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薪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严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垚熠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欣诺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陈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昕娈  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淇云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谢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艳阳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煕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潘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冠名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蒋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凌昊 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娄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嘉鑫  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徐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嘉康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蒋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欣妍 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徐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湘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蒋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林浩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张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弘燕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柘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思琦   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娄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鹏 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叶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晴杨      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蒲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欣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张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静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2" name=""/>
          <p:cNvGraphicFramePr/>
          <p:nvPr/>
        </p:nvGraphicFramePr>
        <p:xfrm>
          <a:off x="3936960" y="3300480"/>
          <a:ext cx="1270080" cy="2588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虞圣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Picture 2" descr=""/>
          <p:cNvPicPr/>
          <p:nvPr/>
        </p:nvPicPr>
        <p:blipFill>
          <a:blip r:embed="rId1"/>
          <a:stretch/>
        </p:blipFill>
        <p:spPr>
          <a:xfrm>
            <a:off x="80964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384" name="TextBox 1"/>
          <p:cNvSpPr/>
          <p:nvPr/>
        </p:nvSpPr>
        <p:spPr>
          <a:xfrm>
            <a:off x="6107400" y="1846440"/>
            <a:ext cx="1186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百姓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同姓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大姓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5" name="TextBox 21"/>
          <p:cNvSpPr/>
          <p:nvPr/>
        </p:nvSpPr>
        <p:spPr>
          <a:xfrm>
            <a:off x="3124080" y="752400"/>
            <a:ext cx="2254320" cy="6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我 会 写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6" name="Group 55"/>
          <p:cNvGrpSpPr/>
          <p:nvPr/>
        </p:nvGrpSpPr>
        <p:grpSpPr>
          <a:xfrm>
            <a:off x="2763720" y="120600"/>
            <a:ext cx="2976480" cy="1725480"/>
            <a:chOff x="2763720" y="120600"/>
            <a:chExt cx="2976480" cy="1725480"/>
          </a:xfrm>
        </p:grpSpPr>
        <p:pic>
          <p:nvPicPr>
            <p:cNvPr id="1387" name="Picture 54" descr="图片25副本"/>
            <p:cNvPicPr/>
            <p:nvPr/>
          </p:nvPicPr>
          <p:blipFill>
            <a:blip r:embed="rId2"/>
            <a:stretch/>
          </p:blipFill>
          <p:spPr>
            <a:xfrm>
              <a:off x="2763720" y="120600"/>
              <a:ext cx="297648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TextBox 21"/>
            <p:cNvSpPr/>
            <p:nvPr/>
          </p:nvSpPr>
          <p:spPr>
            <a:xfrm>
              <a:off x="3151080" y="752400"/>
              <a:ext cx="2253600" cy="671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我 会 写</a:t>
              </a:r>
              <a:endParaRPr b="0" lang="en-US" sz="3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TextBox 1"/>
          <p:cNvSpPr/>
          <p:nvPr/>
        </p:nvSpPr>
        <p:spPr>
          <a:xfrm>
            <a:off x="6110640" y="1846440"/>
            <a:ext cx="1186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什么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没什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0" name="TextBox 21"/>
          <p:cNvSpPr/>
          <p:nvPr/>
        </p:nvSpPr>
        <p:spPr>
          <a:xfrm>
            <a:off x="3124080" y="752400"/>
            <a:ext cx="2254320" cy="6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我 会 写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1" name="Group 55"/>
          <p:cNvGrpSpPr/>
          <p:nvPr/>
        </p:nvGrpSpPr>
        <p:grpSpPr>
          <a:xfrm>
            <a:off x="2763720" y="120600"/>
            <a:ext cx="2976480" cy="1725480"/>
            <a:chOff x="2763720" y="120600"/>
            <a:chExt cx="2976480" cy="1725480"/>
          </a:xfrm>
        </p:grpSpPr>
        <p:pic>
          <p:nvPicPr>
            <p:cNvPr id="1392" name="Picture 54" descr="图片25副本"/>
            <p:cNvPicPr/>
            <p:nvPr/>
          </p:nvPicPr>
          <p:blipFill>
            <a:blip r:embed="rId1"/>
            <a:stretch/>
          </p:blipFill>
          <p:spPr>
            <a:xfrm>
              <a:off x="2763720" y="120600"/>
              <a:ext cx="297648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3" name="TextBox 21"/>
            <p:cNvSpPr/>
            <p:nvPr/>
          </p:nvSpPr>
          <p:spPr>
            <a:xfrm>
              <a:off x="3151080" y="752400"/>
              <a:ext cx="2253600" cy="671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我 会 写</a:t>
              </a:r>
              <a:endParaRPr b="0" lang="en-US" sz="3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394" name="Picture 2" descr=""/>
          <p:cNvPicPr/>
          <p:nvPr/>
        </p:nvPicPr>
        <p:blipFill>
          <a:blip r:embed="rId2"/>
          <a:stretch/>
        </p:blipFill>
        <p:spPr>
          <a:xfrm>
            <a:off x="762120" y="1963800"/>
            <a:ext cx="3516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TextBox 1"/>
          <p:cNvSpPr/>
          <p:nvPr/>
        </p:nvSpPr>
        <p:spPr>
          <a:xfrm>
            <a:off x="6110640" y="2133720"/>
            <a:ext cx="1186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什么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多么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是么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6" name="TextBox 21"/>
          <p:cNvSpPr/>
          <p:nvPr/>
        </p:nvSpPr>
        <p:spPr>
          <a:xfrm>
            <a:off x="3124080" y="752400"/>
            <a:ext cx="2254320" cy="6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我 会 写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7" name="Group 55"/>
          <p:cNvGrpSpPr/>
          <p:nvPr/>
        </p:nvGrpSpPr>
        <p:grpSpPr>
          <a:xfrm>
            <a:off x="2763720" y="120600"/>
            <a:ext cx="2976480" cy="1725480"/>
            <a:chOff x="2763720" y="120600"/>
            <a:chExt cx="2976480" cy="1725480"/>
          </a:xfrm>
        </p:grpSpPr>
        <p:pic>
          <p:nvPicPr>
            <p:cNvPr id="1398" name="Picture 54" descr="图片25副本"/>
            <p:cNvPicPr/>
            <p:nvPr/>
          </p:nvPicPr>
          <p:blipFill>
            <a:blip r:embed="rId1"/>
            <a:stretch/>
          </p:blipFill>
          <p:spPr>
            <a:xfrm>
              <a:off x="2763720" y="120600"/>
              <a:ext cx="297648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9" name="TextBox 21"/>
            <p:cNvSpPr/>
            <p:nvPr/>
          </p:nvSpPr>
          <p:spPr>
            <a:xfrm>
              <a:off x="3151080" y="752400"/>
              <a:ext cx="2253600" cy="671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我 会 写</a:t>
              </a:r>
              <a:endParaRPr b="0" lang="en-US" sz="3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400" name="Picture 2" descr=""/>
          <p:cNvPicPr/>
          <p:nvPr/>
        </p:nvPicPr>
        <p:blipFill>
          <a:blip r:embed="rId2"/>
          <a:stretch/>
        </p:blipFill>
        <p:spPr>
          <a:xfrm>
            <a:off x="914400" y="1963800"/>
            <a:ext cx="39225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TextBox 1"/>
          <p:cNvSpPr/>
          <p:nvPr/>
        </p:nvSpPr>
        <p:spPr>
          <a:xfrm>
            <a:off x="6110640" y="1846440"/>
            <a:ext cx="1186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一双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双方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双关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2" name="TextBox 21"/>
          <p:cNvSpPr/>
          <p:nvPr/>
        </p:nvSpPr>
        <p:spPr>
          <a:xfrm>
            <a:off x="3124080" y="752400"/>
            <a:ext cx="2254320" cy="6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我 会 写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3" name="Group 55"/>
          <p:cNvGrpSpPr/>
          <p:nvPr/>
        </p:nvGrpSpPr>
        <p:grpSpPr>
          <a:xfrm>
            <a:off x="2763720" y="120600"/>
            <a:ext cx="2976480" cy="1725480"/>
            <a:chOff x="2763720" y="120600"/>
            <a:chExt cx="2976480" cy="1725480"/>
          </a:xfrm>
        </p:grpSpPr>
        <p:pic>
          <p:nvPicPr>
            <p:cNvPr id="1404" name="Picture 54" descr="图片25副本"/>
            <p:cNvPicPr/>
            <p:nvPr/>
          </p:nvPicPr>
          <p:blipFill>
            <a:blip r:embed="rId1"/>
            <a:stretch/>
          </p:blipFill>
          <p:spPr>
            <a:xfrm>
              <a:off x="2763720" y="120600"/>
              <a:ext cx="297648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5" name="TextBox 21"/>
            <p:cNvSpPr/>
            <p:nvPr/>
          </p:nvSpPr>
          <p:spPr>
            <a:xfrm>
              <a:off x="3151080" y="752400"/>
              <a:ext cx="2253600" cy="671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我 会 写</a:t>
              </a:r>
              <a:endParaRPr b="0" lang="en-US" sz="3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406" name="Picture 2" descr=""/>
          <p:cNvPicPr/>
          <p:nvPr/>
        </p:nvPicPr>
        <p:blipFill>
          <a:blip r:embed="rId2"/>
          <a:stretch/>
        </p:blipFill>
        <p:spPr>
          <a:xfrm>
            <a:off x="990720" y="1879560"/>
            <a:ext cx="4122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TextBox 1"/>
          <p:cNvSpPr/>
          <p:nvPr/>
        </p:nvSpPr>
        <p:spPr>
          <a:xfrm>
            <a:off x="6110640" y="1846440"/>
            <a:ext cx="1186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国土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中国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王国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8" name="TextBox 21"/>
          <p:cNvSpPr/>
          <p:nvPr/>
        </p:nvSpPr>
        <p:spPr>
          <a:xfrm>
            <a:off x="3124080" y="752400"/>
            <a:ext cx="2254320" cy="6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我 会 写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9" name="Group 55"/>
          <p:cNvGrpSpPr/>
          <p:nvPr/>
        </p:nvGrpSpPr>
        <p:grpSpPr>
          <a:xfrm>
            <a:off x="2763720" y="120600"/>
            <a:ext cx="2976480" cy="1725480"/>
            <a:chOff x="2763720" y="120600"/>
            <a:chExt cx="2976480" cy="1725480"/>
          </a:xfrm>
        </p:grpSpPr>
        <p:pic>
          <p:nvPicPr>
            <p:cNvPr id="1410" name="Picture 54" descr="图片25副本"/>
            <p:cNvPicPr/>
            <p:nvPr/>
          </p:nvPicPr>
          <p:blipFill>
            <a:blip r:embed="rId1"/>
            <a:stretch/>
          </p:blipFill>
          <p:spPr>
            <a:xfrm>
              <a:off x="2763720" y="120600"/>
              <a:ext cx="297648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1" name="TextBox 21"/>
            <p:cNvSpPr/>
            <p:nvPr/>
          </p:nvSpPr>
          <p:spPr>
            <a:xfrm>
              <a:off x="3151080" y="752400"/>
              <a:ext cx="2253600" cy="671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我 会 写</a:t>
              </a:r>
              <a:endParaRPr b="0" lang="en-US" sz="3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412" name="Picture 2" descr=""/>
          <p:cNvPicPr/>
          <p:nvPr/>
        </p:nvPicPr>
        <p:blipFill>
          <a:blip r:embed="rId2"/>
          <a:stretch/>
        </p:blipFill>
        <p:spPr>
          <a:xfrm>
            <a:off x="1020600" y="1793880"/>
            <a:ext cx="4260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5" descr="Pict0014"/>
          <p:cNvPicPr/>
          <p:nvPr/>
        </p:nvPicPr>
        <p:blipFill>
          <a:blip r:embed="rId1">
            <a:lum bright="12000"/>
          </a:blip>
          <a:srcRect l="0" t="0" r="0" b="495"/>
          <a:stretch/>
        </p:blipFill>
        <p:spPr>
          <a:xfrm>
            <a:off x="1763640" y="2514600"/>
            <a:ext cx="6019920" cy="4343400"/>
          </a:xfrm>
          <a:prstGeom prst="rect">
            <a:avLst/>
          </a:prstGeom>
          <a:ln w="0">
            <a:noFill/>
          </a:ln>
        </p:spPr>
      </p:pic>
      <p:sp>
        <p:nvSpPr>
          <p:cNvPr id="1262" name="Text Box 3"/>
          <p:cNvSpPr/>
          <p:nvPr/>
        </p:nvSpPr>
        <p:spPr>
          <a:xfrm>
            <a:off x="684360" y="981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8143f"/>
                </a:solidFill>
                <a:latin typeface="楷体"/>
                <a:ea typeface="楷体"/>
              </a:rPr>
              <a:t>2.</a:t>
            </a:r>
            <a:r>
              <a:rPr b="1" lang="zh-CN" sz="7200" spc="-1" strike="noStrike">
                <a:solidFill>
                  <a:srgbClr val="b8143f"/>
                </a:solidFill>
                <a:latin typeface="楷体"/>
                <a:ea typeface="楷体"/>
              </a:rPr>
              <a:t>姓  氏  歌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1403280" y="18900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143f"/>
                </a:solidFill>
                <a:latin typeface="宋体"/>
              </a:rPr>
              <a:t>xìnɡ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3419640" y="18900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143f"/>
                </a:solidFill>
                <a:latin typeface="宋体"/>
              </a:rPr>
              <a:t>shì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108000" y="2708280"/>
            <a:ext cx="4716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"/>
                <a:ea typeface="楷体"/>
              </a:rPr>
              <a:t>姓名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"/>
                <a:ea typeface="楷体"/>
              </a:rPr>
              <a:t>百家姓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7093080" y="1052640"/>
            <a:ext cx="4716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"/>
                <a:ea typeface="楷体"/>
              </a:rPr>
              <a:t>姓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"/>
                <a:ea typeface="楷体"/>
              </a:rPr>
              <a:t>氏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Box 1"/>
          <p:cNvSpPr/>
          <p:nvPr/>
        </p:nvSpPr>
        <p:spPr>
          <a:xfrm>
            <a:off x="6110640" y="1846440"/>
            <a:ext cx="1186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天王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王子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大王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4" name="TextBox 21"/>
          <p:cNvSpPr/>
          <p:nvPr/>
        </p:nvSpPr>
        <p:spPr>
          <a:xfrm>
            <a:off x="3124080" y="752400"/>
            <a:ext cx="2254320" cy="6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我 会 写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15" name="Group 55"/>
          <p:cNvGrpSpPr/>
          <p:nvPr/>
        </p:nvGrpSpPr>
        <p:grpSpPr>
          <a:xfrm>
            <a:off x="2763720" y="120600"/>
            <a:ext cx="2976480" cy="1725480"/>
            <a:chOff x="2763720" y="120600"/>
            <a:chExt cx="2976480" cy="1725480"/>
          </a:xfrm>
        </p:grpSpPr>
        <p:pic>
          <p:nvPicPr>
            <p:cNvPr id="1416" name="Picture 54" descr="图片25副本"/>
            <p:cNvPicPr/>
            <p:nvPr/>
          </p:nvPicPr>
          <p:blipFill>
            <a:blip r:embed="rId1"/>
            <a:stretch/>
          </p:blipFill>
          <p:spPr>
            <a:xfrm>
              <a:off x="2763720" y="120600"/>
              <a:ext cx="297648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7" name="TextBox 21"/>
            <p:cNvSpPr/>
            <p:nvPr/>
          </p:nvSpPr>
          <p:spPr>
            <a:xfrm>
              <a:off x="3151080" y="752400"/>
              <a:ext cx="2253600" cy="671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我 会 写</a:t>
              </a:r>
              <a:endParaRPr b="0" lang="en-US" sz="3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418" name="Picture 2" descr=""/>
          <p:cNvPicPr/>
          <p:nvPr/>
        </p:nvPicPr>
        <p:blipFill>
          <a:blip r:embed="rId2"/>
          <a:stretch/>
        </p:blipFill>
        <p:spPr>
          <a:xfrm>
            <a:off x="838080" y="18464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TextBox 1"/>
          <p:cNvSpPr/>
          <p:nvPr/>
        </p:nvSpPr>
        <p:spPr>
          <a:xfrm>
            <a:off x="6110640" y="1846440"/>
            <a:ext cx="1186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大方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多方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</a:rPr>
              <a:t>东方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0" name="TextBox 21"/>
          <p:cNvSpPr/>
          <p:nvPr/>
        </p:nvSpPr>
        <p:spPr>
          <a:xfrm>
            <a:off x="3124080" y="752400"/>
            <a:ext cx="2254320" cy="6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我 会 写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21" name="Group 55"/>
          <p:cNvGrpSpPr/>
          <p:nvPr/>
        </p:nvGrpSpPr>
        <p:grpSpPr>
          <a:xfrm>
            <a:off x="2763720" y="120600"/>
            <a:ext cx="2976480" cy="1725480"/>
            <a:chOff x="2763720" y="120600"/>
            <a:chExt cx="2976480" cy="1725480"/>
          </a:xfrm>
        </p:grpSpPr>
        <p:pic>
          <p:nvPicPr>
            <p:cNvPr id="1422" name="Picture 54" descr="图片25副本"/>
            <p:cNvPicPr/>
            <p:nvPr/>
          </p:nvPicPr>
          <p:blipFill>
            <a:blip r:embed="rId1"/>
            <a:stretch/>
          </p:blipFill>
          <p:spPr>
            <a:xfrm>
              <a:off x="2763720" y="120600"/>
              <a:ext cx="297648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3" name="TextBox 21"/>
            <p:cNvSpPr/>
            <p:nvPr/>
          </p:nvSpPr>
          <p:spPr>
            <a:xfrm>
              <a:off x="3151080" y="752400"/>
              <a:ext cx="2253600" cy="671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我 会 写</a:t>
              </a:r>
              <a:endParaRPr b="0" lang="en-US" sz="3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424" name="Picture 2" descr=""/>
          <p:cNvPicPr/>
          <p:nvPr/>
        </p:nvPicPr>
        <p:blipFill>
          <a:blip r:embed="rId2"/>
          <a:stretch/>
        </p:blipFill>
        <p:spPr>
          <a:xfrm>
            <a:off x="1066680" y="1851120"/>
            <a:ext cx="378792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Picture 5" descr="7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6" name="WordArt 4"/>
          <p:cNvSpPr txBox="1"/>
          <p:nvPr/>
        </p:nvSpPr>
        <p:spPr>
          <a:xfrm>
            <a:off x="1676520" y="2971800"/>
            <a:ext cx="609588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谢谢大家！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66360" y="2742840"/>
            <a:ext cx="824868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 Black"/>
              </a:rPr>
              <a:t>  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 Black"/>
              </a:rPr>
              <a:t>姓氏歌</a:t>
            </a:r>
            <a:endParaRPr b="1" lang="en-US" sz="60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68" name="WordArt 4"/>
          <p:cNvSpPr txBox="1"/>
          <p:nvPr/>
        </p:nvSpPr>
        <p:spPr>
          <a:xfrm>
            <a:off x="392040" y="49320"/>
            <a:ext cx="852336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听老师读课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1117440" y="838080"/>
            <a:ext cx="7391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你姓什么？我姓李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什么李？木子李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他姓什么？他姓张。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什么张？弓长张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古月胡，口天吴。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双人徐，言午许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中国姓氏有许多，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赵、钱、孙、李、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周、吴、郑、王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诸葛、东方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上官，欧阳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b8e2e"/>
                </a:solidFill>
                <a:latin typeface="Arial"/>
              </a:rPr>
              <a:t>自读要求：</a:t>
            </a: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  <a:p>
            <a:pPr marL="44460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b8e2e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8b8e2e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8b8e2e"/>
                </a:solidFill>
                <a:latin typeface="Arial"/>
              </a:rPr>
              <a:t>、一读：自由大声地朗读课文，遇到生字和不都不准的生字，多拼读几遍。</a:t>
            </a: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  <a:p>
            <a:pPr marL="44460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b8e2e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8b8e2e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8b8e2e"/>
                </a:solidFill>
                <a:latin typeface="Arial"/>
              </a:rPr>
              <a:t>、二读：边读边想：儿歌中共有几节？你从中读懂了什么？</a:t>
            </a: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1fec"/>
                </a:solidFill>
                <a:latin typeface="Arial"/>
              </a:rPr>
              <a:t>想一想儿歌中写了哪些姓氏？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1fec"/>
                </a:solidFill>
                <a:latin typeface="Arial"/>
              </a:rPr>
              <a:t>请在课文中用“</a:t>
            </a:r>
            <a:r>
              <a:rPr b="1" lang="en-US" sz="2000" spc="-1" strike="noStrike">
                <a:solidFill>
                  <a:srgbClr val="041fec"/>
                </a:solidFill>
                <a:latin typeface="Arial"/>
              </a:rPr>
              <a:t>——”</a:t>
            </a:r>
            <a:r>
              <a:rPr b="1" lang="zh-CN" sz="2000" spc="-1" strike="noStrike">
                <a:solidFill>
                  <a:srgbClr val="041fec"/>
                </a:solidFill>
                <a:latin typeface="Arial"/>
              </a:rPr>
              <a:t>画出来！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66360" y="2742840"/>
            <a:ext cx="824868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 Black"/>
              </a:rPr>
              <a:t>  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 Black"/>
              </a:rPr>
              <a:t>姓氏歌</a:t>
            </a:r>
            <a:endParaRPr b="1" lang="en-US" sz="60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73" name="WordArt 4"/>
          <p:cNvSpPr txBox="1"/>
          <p:nvPr/>
        </p:nvSpPr>
        <p:spPr>
          <a:xfrm>
            <a:off x="392040" y="49320"/>
            <a:ext cx="852336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听老师读课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4" name="Text Box 4"/>
          <p:cNvSpPr/>
          <p:nvPr/>
        </p:nvSpPr>
        <p:spPr>
          <a:xfrm>
            <a:off x="1117440" y="838080"/>
            <a:ext cx="7391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你姓什么？我姓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李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什么李？木子李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他姓什么？他姓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张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。</a:t>
            </a:r>
            <a:r>
              <a:rPr b="1" lang="en-US" sz="3200" spc="-1" strike="noStrike">
                <a:solidFill>
                  <a:srgbClr val="041fe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什么张？弓长张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古月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胡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，口天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吴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。</a:t>
            </a:r>
            <a:r>
              <a:rPr b="1" lang="en-US" sz="3200" spc="-1" strike="noStrike">
                <a:solidFill>
                  <a:srgbClr val="041fe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双人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徐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，言午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许</a:t>
            </a: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1fec"/>
                </a:solidFill>
                <a:latin typeface="Garamond"/>
              </a:rPr>
              <a:t>中国姓氏有许多，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赵、钱、孙、李、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周、吴、郑、王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诸葛、东方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上官，欧阳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5" name="WordArt 5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2595600" cy="125568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3"/>
          <p:cNvSpPr/>
          <p:nvPr/>
        </p:nvSpPr>
        <p:spPr>
          <a:xfrm>
            <a:off x="1075680" y="1413000"/>
            <a:ext cx="261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143f"/>
                </a:solidFill>
                <a:latin typeface="楷体"/>
                <a:ea typeface="楷体"/>
              </a:rPr>
              <a:t>你姓什么？我姓李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143f"/>
                </a:solidFill>
                <a:latin typeface="楷体"/>
                <a:ea typeface="楷体"/>
              </a:rPr>
              <a:t>什么李？木子李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143f"/>
                </a:solidFill>
                <a:latin typeface="楷体"/>
                <a:ea typeface="楷体"/>
              </a:rPr>
              <a:t>他姓什么？他姓张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143f"/>
                </a:solidFill>
                <a:latin typeface="楷体"/>
                <a:ea typeface="楷体"/>
              </a:rPr>
              <a:t>什么张？弓长张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143f"/>
                </a:solidFill>
                <a:latin typeface="楷体"/>
                <a:ea typeface="楷体"/>
              </a:rPr>
              <a:t>古月胡，口天吴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143f"/>
                </a:solidFill>
                <a:latin typeface="楷体"/>
                <a:ea typeface="楷体"/>
              </a:rPr>
              <a:t>双人徐，言午许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5003640" y="2565360"/>
            <a:ext cx="3889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把字拆开的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方式介绍姓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姓氏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723960" y="146052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木 子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李 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弓 长 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古 月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胡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口 天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双 人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徐 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言 午 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543960" cy="7086600"/>
          </a:xfrm>
          <a:prstGeom prst="rect">
            <a:avLst/>
          </a:prstGeom>
          <a:ln w="0">
            <a:noFill/>
          </a:ln>
        </p:spPr>
      </p:pic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586764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姓氏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91600" y="1979280"/>
            <a:ext cx="74898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口 天（  ）     木 子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言 午（  ）     弓 长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双 人（  ）     言 午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11"/>
          <p:cNvSpPr/>
          <p:nvPr/>
        </p:nvSpPr>
        <p:spPr>
          <a:xfrm>
            <a:off x="2827440" y="19573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吴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5" name="Text Box 12"/>
          <p:cNvSpPr/>
          <p:nvPr/>
        </p:nvSpPr>
        <p:spPr>
          <a:xfrm>
            <a:off x="6877080" y="1979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李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6" name="Text Box 14"/>
          <p:cNvSpPr/>
          <p:nvPr/>
        </p:nvSpPr>
        <p:spPr>
          <a:xfrm>
            <a:off x="2827440" y="2692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7" name="Text Box 16"/>
          <p:cNvSpPr/>
          <p:nvPr/>
        </p:nvSpPr>
        <p:spPr>
          <a:xfrm>
            <a:off x="6877080" y="2736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张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8" name="Text Box 19"/>
          <p:cNvSpPr/>
          <p:nvPr/>
        </p:nvSpPr>
        <p:spPr>
          <a:xfrm>
            <a:off x="2827440" y="34686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徐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Text Box 20"/>
          <p:cNvSpPr/>
          <p:nvPr/>
        </p:nvSpPr>
        <p:spPr>
          <a:xfrm>
            <a:off x="6878520" y="34704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5:00:26Z</dcterms:created>
  <dc:creator>Administrator</dc:creator>
  <dc:description/>
  <dc:language>en-US</dc:language>
  <cp:lastModifiedBy>jifang</cp:lastModifiedBy>
  <dcterms:modified xsi:type="dcterms:W3CDTF">2017-02-16T06:47:4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