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59.wmf" ContentType="image/x-wmf"/>
  <Override PartName="/ppt/media/image58.jpeg" ContentType="image/jpeg"/>
  <Override PartName="/ppt/media/image30.wmf" ContentType="image/x-wmf"/>
  <Override PartName="/ppt/media/image56.jpeg" ContentType="image/jpeg"/>
  <Override PartName="/ppt/media/image28.png" ContentType="image/png"/>
  <Override PartName="/ppt/media/image38.jpeg" ContentType="image/jpeg"/>
  <Override PartName="/ppt/media/image33.wmf" ContentType="image/x-wmf"/>
  <Override PartName="/ppt/media/image7.jpeg" ContentType="image/jpeg"/>
  <Override PartName="/ppt/media/image4.png" ContentType="image/png"/>
  <Override PartName="/ppt/media/image29.jpeg" ContentType="image/jpeg"/>
  <Override PartName="/ppt/media/image12.jpeg" ContentType="image/jpeg"/>
  <Override PartName="/ppt/media/image27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41.jpeg" ContentType="image/jpeg"/>
  <Override PartName="/ppt/media/image64.wmf" ContentType="image/x-wmf"/>
  <Override PartName="/ppt/media/image11.jpeg" ContentType="image/jpeg"/>
  <Override PartName="/ppt/media/image23.jpeg" ContentType="image/jpeg"/>
  <Override PartName="/ppt/media/image15.jpeg" ContentType="image/jpeg"/>
  <Override PartName="/ppt/media/image63.wmf" ContentType="image/x-wmf"/>
  <Override PartName="/ppt/media/image2.png" ContentType="image/png"/>
  <Override PartName="/ppt/media/image25.jpeg" ContentType="image/jpeg"/>
  <Override PartName="/ppt/media/image62.png" ContentType="image/png"/>
  <Override PartName="/ppt/media/image35.wmf" ContentType="image/x-wmf"/>
  <Override PartName="/ppt/media/image16.jpeg" ContentType="image/jpeg"/>
  <Override PartName="/ppt/media/image52.wmf" ContentType="image/x-wmf"/>
  <Override PartName="/ppt/media/image24.jpeg" ContentType="image/jpeg"/>
  <Override PartName="/ppt/media/image22.png" ContentType="image/png"/>
  <Override PartName="/ppt/media/image19.jpeg" ContentType="image/jpeg"/>
  <Override PartName="/ppt/media/image21.jpeg" ContentType="image/jpeg"/>
  <Override PartName="/ppt/media/image32.wmf" ContentType="image/x-wmf"/>
  <Override PartName="/ppt/media/image31.wmf" ContentType="image/x-wmf"/>
  <Override PartName="/ppt/media/image61.jpeg" ContentType="image/jpeg"/>
  <Override PartName="/ppt/media/image17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20.wmf" ContentType="image/x-wmf"/>
  <Override PartName="/ppt/media/image14.jpeg" ContentType="image/jpeg"/>
  <Override PartName="/ppt/media/image57.wmf" ContentType="image/x-wmf"/>
  <Override PartName="/ppt/media/image5.jpeg" ContentType="image/jpeg"/>
  <Override PartName="/ppt/media/image6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9.png" ContentType="image/png"/>
  <Override PartName="/ppt/media/image34.wmf" ContentType="image/x-wmf"/>
  <Override PartName="/ppt/media/image10.png" ContentType="image/png"/>
  <Override PartName="/ppt/media/image36.jpeg" ContentType="image/jpeg"/>
  <Override PartName="/ppt/media/image18.png" ContentType="image/png"/>
  <Override PartName="/ppt/media/image40.wmf" ContentType="image/x-wmf"/>
  <Override PartName="/ppt/media/image42.png" ContentType="image/png"/>
  <Override PartName="/ppt/media/image44.jpeg" ContentType="image/jpeg"/>
  <Override PartName="/ppt/media/image46.wmf" ContentType="image/x-wmf"/>
  <Override PartName="/ppt/media/image47.jpeg" ContentType="image/jpeg"/>
  <Override PartName="/ppt/media/image45.jpeg" ContentType="image/jpeg"/>
  <Override PartName="/ppt/media/image48.png" ContentType="image/png"/>
  <Override PartName="/ppt/media/image51.wmf" ContentType="image/x-wmf"/>
  <Override PartName="/ppt/media/image49.jpeg" ContentType="image/jpeg"/>
  <Override PartName="/ppt/media/image50.jpeg" ContentType="image/jpeg"/>
  <Override PartName="/ppt/media/image53.jpeg" ContentType="image/jpeg"/>
  <Override PartName="/ppt/media/image55.jpeg" ContentType="image/jpeg"/>
  <Override PartName="/ppt/media/image4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261-939A-4DB1-ACC4-CDBB1BCD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32A-1CA6-4497-B2C7-4FEA4B36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C5F2A-E677-420F-9B64-5D474FD0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B3BA5-F987-48A8-B745-26F1D7C4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56F8D-617D-457A-B183-8A14E4A8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19307-DCFE-4BB6-8340-A70F977A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417A5-66AD-4FCE-80F1-B962A7FD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D90BA-2D03-4F9E-A59F-E8C5E74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B411C-49FC-477E-9714-26AA8949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F092E-5981-4266-BC03-726643F0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E2BE1-DBFC-49BC-B777-04F49916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AEDF6-147D-4779-933A-0EAF9D0E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EC8-7640-4A82-902F-1D133E21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3E4F5-7DC7-43B0-A7D9-1A42C272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617C7-16CB-463E-B72F-BD8F2C0E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314AE-C073-4ABD-A20C-B4A3C196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D434F-F4AC-4487-8D59-4DA50965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1612D-F53A-4D3B-B42F-9E5FF605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D108E-500E-46CD-85B8-D3CAFD1C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B151C-FA69-4DA6-9ECF-21B17C49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3C74B-CFD0-433C-A76E-01054AB7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74B65-50C3-49ED-B09D-D00A0AD2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44D69-A15E-44DF-9A14-3517BCBB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623-AA56-4CC3-A4BE-B27B0AE1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2CEE3-DE2A-4F2A-BFAA-AFD0D778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36A4B-8BDC-40A3-863E-0AAC21A3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D614B-99FA-4ED8-AEA0-3230C810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3AFA4-A51B-45F1-9B8B-3D59CA3C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064F0-F587-44AB-A8F8-FA394A94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F46F3-EB8D-4539-B3B1-D98CDC1B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D06DB-2488-4C92-BFBC-06855096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1B502-8FB5-4936-B6C4-25BA2D5A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89A50-A130-4F48-846F-47F2AE3A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D63A0-C6B8-40F9-BC1F-2068669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4F6D-7766-4010-89E6-B61D4EF4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DD7EC-966A-44BA-80CB-6FDC5918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B3B62-E8C1-4E12-9037-21C23CDE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8BDAD-939C-4CC2-8570-A659DC18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AF75-F9F2-4AC4-B15D-0C8875C8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9E3C-84CF-48D4-8873-705864EB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281D-535F-4087-947B-4438DBB7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3579-4805-4DE1-AB6E-5564DDB3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EE52-7595-415E-965D-17FF2C31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919A-689C-477D-8218-3C3B14A3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962-0075-435A-AB0A-13EFC3DE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39F4-D7B4-483E-86DD-61DA3F16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1BF1-2612-4734-90A0-621D86A7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0B3A-F3EE-4721-A1A2-02B5460D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EC27-DC7B-488F-B133-1335BBE4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7BD2-D85B-4172-B1DF-F1B66612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4F422-EC0B-4C5A-8385-83C19B5C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ECCD-8E93-46ED-8D5C-06C0111E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FAE4-1A37-4C8F-8165-5BBBF5EB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9349A-5DA5-42CC-9BB6-811ED57D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F728-81F6-406E-929F-F258722F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C43-1426-4CF2-AC0D-272AC5EF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BDDE7-06AE-45B5-8DB4-7D97B148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9E85-3981-41E8-8A39-5D33B78D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1DDF3-026D-4A8D-B3CF-764FE176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1AF5-9307-45FF-BCEA-32C2B91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67EF-7086-4A5D-AE8E-30001BAD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A511-8254-44F4-B6C9-0E5C0B77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5A6C-4FA5-4053-8FED-357E63C3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8067F-B43E-449E-BFEF-A0484A58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32528-FB34-4F11-AEB2-7BB78E6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ABD88-5841-419D-BE27-6234AB75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470-4894-45C2-AB36-9EF7B0B5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A99A2-254F-4C22-85E3-4D0C4E55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B1C6-91F5-471F-A349-58E85576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BD190-7C04-4600-972B-859FB6A1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D9E9-FEE1-4377-A29B-373CE48C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C3999-694B-481C-A414-EB85FBF8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FCCEC-DA74-47A7-9D71-E21028C3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86B22-9361-49FF-8C5B-7FD2DC30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CB633-E7B2-4586-814A-E1D277A7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C011F-4AD3-424E-965D-0FCAD529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C1A74-2D53-46FE-806A-2F46A5F7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172-FC26-446C-8528-B722A54C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9841D-2C80-4E49-B990-1081BF87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73D4B-F123-427D-8D32-33628FAB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E865E-7AA2-488C-830E-0E30C41C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1772F-FDDE-43CD-9344-24C67DE4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43E95-C9B7-4452-BB3A-2ED6F181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FE43F-D9BD-48C1-9F03-13AC0A7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7D714-13CF-44E3-AA45-02C48C2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323B9-A169-4B86-B3D2-1453E4BC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9B043-18C4-4102-99DC-745B63AA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5437-A3CC-40D2-A760-34F6F09E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0FA-B877-4AA1-9E5A-C21A80C7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AA6C-B56D-4EAE-86E3-D3ABF65E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32C05-06A4-4D4E-9446-A192B334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722E7-637D-4EDE-AA42-4B37A800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9429-856E-488A-A068-8CEAE8FC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43B2B-6871-4EC1-B63B-DF2A9D45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2000B-6101-4349-A5C2-B36CFADB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919B2-E5BA-4CA8-99A7-0C968320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F218E-4C70-4D9E-A18E-B631B425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D6FF0-8E03-4B3E-A248-6E3A00C1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EACEC-C691-4284-92E7-AB58427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AAC-4D53-4E06-AC1D-690B9887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F476F-0D68-4263-BB63-5634BB21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179B1-B1F5-4504-BAF5-226D3AFF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A4FC4-E0E5-4A50-88B7-E82AEC74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66D9A-B367-4074-A842-F0445832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30A40-667D-4200-BD82-623CD1DF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CE336-332A-41ED-ADD3-905C0866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4CF11-3CA3-457C-B2D2-DA8C018F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71BD1-6AD2-45BE-ABE4-F631E913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9BC9B-2552-4979-90F1-4473030A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53A93-8B44-4B32-9ECD-318D1859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2EF-D83B-49CD-B681-2C45F794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C5D9-F265-4F66-83CE-2EDCED23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D6AE5-26D2-48B7-8E5C-B062B6A3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89765-ABFC-4770-84B3-D9D06AE2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5A681-6B56-45C2-8D89-9B30FD7A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4968F-CE9E-4F9D-A7F3-C11BC5FB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42E08-08DA-4AC2-9FE5-5C1212D9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DBEBF-1863-4BF8-820A-D9D20460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D4076-E19D-4EB9-91AD-A3BC7565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59E26-931C-4CA2-84E6-FD39F539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E0932-B54D-409B-AE7E-15B04641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7B8-B046-4AA5-A50C-ADD14C6E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6DBB3-E042-4D36-A445-DA8E7AF1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7B7D9-51BB-4F5C-854A-8668C770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0AD66-687B-4FA5-818F-0509ABAB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756EC-49AD-4833-8B04-C1D65F90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75B3B-BB6F-47FC-BB84-09725784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CD2FB-B294-4CC8-BB3D-56CE3C13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03DDD-3CEA-4502-9B77-2CBC08E5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63751-D9AA-498C-8884-1ABA050B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51B71-6FC6-45D7-B1F5-2F1F3C34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7042E-81B7-40AF-AC02-0992EB19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363B-561C-4F80-94B4-5B79BB5C3A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7AD3-F761-4AE1-AD8D-2AECBC6649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103F-CE17-4C2E-BCFD-F48684EB5C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F259-2B33-448B-BC06-99F074DBEE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D6C0-B66D-42BC-99AC-27967F0B20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B3BE-D339-4E90-AB19-0514BAB028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9DE4-B184-465E-ADCB-09758E7C1E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027B-962B-4A5C-8197-EE1A48F94F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EF75-D92A-477D-AD7F-F2D3E84AAA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BE4E-4352-48A5-B720-0B85D37E59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3165-3A57-4226-A94E-2F0F490628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12641" descr=""/>
          <p:cNvPicPr/>
          <p:nvPr/>
        </p:nvPicPr>
        <p:blipFill>
          <a:blip r:embed="rId1"/>
          <a:stretch/>
        </p:blipFill>
        <p:spPr>
          <a:xfrm>
            <a:off x="1812960" y="1630440"/>
            <a:ext cx="57150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图片 121857" descr=""/>
          <p:cNvPicPr/>
          <p:nvPr/>
        </p:nvPicPr>
        <p:blipFill>
          <a:blip r:embed="rId1"/>
          <a:srcRect l="0" t="0" r="0" b="29149"/>
          <a:stretch/>
        </p:blipFill>
        <p:spPr>
          <a:xfrm>
            <a:off x="1058760" y="2298600"/>
            <a:ext cx="7027920" cy="96516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121858" descr=""/>
          <p:cNvPicPr/>
          <p:nvPr/>
        </p:nvPicPr>
        <p:blipFill>
          <a:blip r:embed="rId2"/>
          <a:srcRect l="0" t="65856" r="0" b="0"/>
          <a:stretch/>
        </p:blipFill>
        <p:spPr>
          <a:xfrm>
            <a:off x="1058760" y="3195720"/>
            <a:ext cx="7027920" cy="46512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21859" descr="思考"/>
          <p:cNvPicPr/>
          <p:nvPr/>
        </p:nvPicPr>
        <p:blipFill>
          <a:blip r:embed="rId3"/>
          <a:stretch/>
        </p:blipFill>
        <p:spPr>
          <a:xfrm>
            <a:off x="1085760" y="2116080"/>
            <a:ext cx="638280" cy="5144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21860" descr="5"/>
          <p:cNvPicPr/>
          <p:nvPr/>
        </p:nvPicPr>
        <p:blipFill>
          <a:blip r:embed="rId4"/>
          <a:srcRect l="0" t="0" r="0" b="227"/>
          <a:stretch/>
        </p:blipFill>
        <p:spPr>
          <a:xfrm>
            <a:off x="974880" y="3195720"/>
            <a:ext cx="9144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图片 122881" descr=""/>
          <p:cNvPicPr/>
          <p:nvPr/>
        </p:nvPicPr>
        <p:blipFill>
          <a:blip r:embed="rId1"/>
          <a:stretch/>
        </p:blipFill>
        <p:spPr>
          <a:xfrm>
            <a:off x="762120" y="2324160"/>
            <a:ext cx="7621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123905"/>
          <p:cNvSpPr/>
          <p:nvPr/>
        </p:nvSpPr>
        <p:spPr>
          <a:xfrm>
            <a:off x="660240" y="882720"/>
            <a:ext cx="779472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容器静止或匀速运动时封闭气体压强的计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取等压面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根据同种液体在同一水平液面处压强相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连通器内灵活选取等压面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由两侧压强相等列方程求解压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例如，图中同一液面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,D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处压强相等，则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+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123906" descr=""/>
          <p:cNvPicPr/>
          <p:nvPr/>
        </p:nvPicPr>
        <p:blipFill>
          <a:blip r:embed="rId1"/>
          <a:stretch/>
        </p:blipFill>
        <p:spPr>
          <a:xfrm>
            <a:off x="3571920" y="3616200"/>
            <a:ext cx="193356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124929"/>
          <p:cNvSpPr/>
          <p:nvPr/>
        </p:nvSpPr>
        <p:spPr>
          <a:xfrm>
            <a:off x="662040" y="2476440"/>
            <a:ext cx="779472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力平衡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与封闭气体接触的液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或活塞、汽缸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为研究对象进行受力分析，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200" spc="-1" strike="noStrike" baseline="-25000">
                <a:solidFill>
                  <a:srgbClr val="000000"/>
                </a:solidFill>
                <a:latin typeface="宋体"/>
              </a:rPr>
              <a:t>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列式求气体压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文本框 125953"/>
          <p:cNvSpPr/>
          <p:nvPr/>
        </p:nvSpPr>
        <p:spPr>
          <a:xfrm>
            <a:off x="662040" y="2476440"/>
            <a:ext cx="7794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考虑与气体接触的液柱所产生的附加压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=ρgh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特别注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表示液面间竖直高度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一定是液柱长度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125954" descr="特别提醒"/>
          <p:cNvPicPr/>
          <p:nvPr/>
        </p:nvPicPr>
        <p:blipFill>
          <a:blip r:embed="rId1"/>
          <a:srcRect l="0" t="0" r="0" b="-84"/>
          <a:stretch/>
        </p:blipFill>
        <p:spPr>
          <a:xfrm>
            <a:off x="706320" y="2639880"/>
            <a:ext cx="16542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文本框 126977"/>
          <p:cNvSpPr/>
          <p:nvPr/>
        </p:nvSpPr>
        <p:spPr>
          <a:xfrm>
            <a:off x="677880" y="1019160"/>
            <a:ext cx="779472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容器加速运动时封闭气体压强的计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容器加速运动时，通常选与气体相关联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液柱、汽缸或活塞为研究对象，并对其进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受力分析，然后由牛顿第二定律列方程，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出封闭气体的压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竖直放置的玻璃管向上加速运动时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对液柱受力分析有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S-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-mg=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图片 126978" descr=""/>
          <p:cNvPicPr/>
          <p:nvPr/>
        </p:nvPicPr>
        <p:blipFill>
          <a:blip r:embed="rId1"/>
          <a:stretch/>
        </p:blipFill>
        <p:spPr>
          <a:xfrm>
            <a:off x="6197760" y="1297080"/>
            <a:ext cx="2199960" cy="263844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126979" descr=""/>
          <p:cNvPicPr/>
          <p:nvPr/>
        </p:nvPicPr>
        <p:blipFill>
          <a:blip r:embed="rId2"/>
          <a:stretch/>
        </p:blipFill>
        <p:spPr>
          <a:xfrm>
            <a:off x="1100160" y="5064120"/>
            <a:ext cx="190512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文本框 128001"/>
          <p:cNvSpPr/>
          <p:nvPr/>
        </p:nvSpPr>
        <p:spPr>
          <a:xfrm>
            <a:off x="627120" y="2073240"/>
            <a:ext cx="7794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系统加速运动时，选封闭气体的物体如液柱、汽缸或活塞等为研究对象，由牛顿第二定律，求出封闭气体的压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压强关系的实质反映了力的关系，力的关系由物体的状态来决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128002" descr="特别提醒"/>
          <p:cNvPicPr/>
          <p:nvPr/>
        </p:nvPicPr>
        <p:blipFill>
          <a:blip r:embed="rId1"/>
          <a:srcRect l="0" t="0" r="0" b="-84"/>
          <a:stretch/>
        </p:blipFill>
        <p:spPr>
          <a:xfrm>
            <a:off x="811080" y="2287440"/>
            <a:ext cx="16542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129025"/>
          <p:cNvSpPr/>
          <p:nvPr/>
        </p:nvSpPr>
        <p:spPr>
          <a:xfrm>
            <a:off x="723960" y="1459080"/>
            <a:ext cx="779472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【典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】有一段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长的水银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均匀玻璃管中封住一定质量的气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若开口向上将玻璃管放置在倾角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光滑斜面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下滑过程中被封闭气体的压强为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大气压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6 cmHg)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76 cmHg                B.82 cmH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88 cmHg                D.70 cmH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文本框 130049"/>
          <p:cNvSpPr/>
          <p:nvPr/>
        </p:nvSpPr>
        <p:spPr>
          <a:xfrm>
            <a:off x="677880" y="1752480"/>
            <a:ext cx="779472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标准解答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银柱所处的状态不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衡状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不能用平衡条件来处理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银柱的受力分析如图所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玻璃管和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银柱组成系统的加速度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gsin30°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水银柱由牛顿第二定律得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+Mgsin30°-pS=Ma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130050" descr=""/>
          <p:cNvPicPr/>
          <p:nvPr/>
        </p:nvPicPr>
        <p:blipFill>
          <a:blip r:embed="rId1"/>
          <a:stretch/>
        </p:blipFill>
        <p:spPr>
          <a:xfrm>
            <a:off x="5964120" y="2562120"/>
            <a:ext cx="22194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文本框 131073"/>
          <p:cNvSpPr/>
          <p:nvPr/>
        </p:nvSpPr>
        <p:spPr>
          <a:xfrm>
            <a:off x="674640" y="1741320"/>
            <a:ext cx="777420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规律方法】  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封闭气体压强的求解技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自身重力产生的压强很小，一般忽略不计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压强是联系气体和受力分析的桥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液体产生的压强也可以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Hg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用液柱高度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，等式两边单位统一即可，没有必要换算成国际单位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131074" descr="变式训练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032600" y="4932360"/>
            <a:ext cx="12495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图片 113665" descr="目标定位"/>
          <p:cNvPicPr/>
          <p:nvPr/>
        </p:nvPicPr>
        <p:blipFill>
          <a:blip r:embed="rId1"/>
          <a:srcRect l="0" t="0" r="41" b="125"/>
          <a:stretch/>
        </p:blipFill>
        <p:spPr>
          <a:xfrm>
            <a:off x="790560" y="1046160"/>
            <a:ext cx="2495520" cy="81432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113666" descr=""/>
          <p:cNvPicPr/>
          <p:nvPr/>
        </p:nvPicPr>
        <p:blipFill>
          <a:blip r:embed="rId2"/>
          <a:stretch/>
        </p:blipFill>
        <p:spPr>
          <a:xfrm>
            <a:off x="974880" y="1887480"/>
            <a:ext cx="6922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文本框 132097"/>
          <p:cNvSpPr/>
          <p:nvPr/>
        </p:nvSpPr>
        <p:spPr>
          <a:xfrm>
            <a:off x="733320" y="579600"/>
            <a:ext cx="7948800" cy="58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【变式训练】如图所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横截面积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圆柱形容器竖直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置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圆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上表面是水平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表面是倾斜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且下表面与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面的夹角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θ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圆板的质量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计一切摩擦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大气压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则被圆板封闭在容器中的气体的压强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+Mgcosθ/S          B.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S+Mgcosθ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+Mgcos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θ/S         D.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+Mg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32098" descr=""/>
          <p:cNvPicPr/>
          <p:nvPr/>
        </p:nvPicPr>
        <p:blipFill>
          <a:blip r:embed="rId1"/>
          <a:stretch/>
        </p:blipFill>
        <p:spPr>
          <a:xfrm>
            <a:off x="3166920" y="2649600"/>
            <a:ext cx="260064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133121"/>
          <p:cNvSpPr/>
          <p:nvPr/>
        </p:nvSpPr>
        <p:spPr>
          <a:xfrm>
            <a:off x="733320" y="892080"/>
            <a:ext cx="7651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圆板为研究对象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所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直方向受力平衡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′cosθ=p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+M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′=S/cos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/cosθ)cosθ=p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+M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Mg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此题应选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图片 133122" descr=""/>
          <p:cNvPicPr/>
          <p:nvPr/>
        </p:nvPicPr>
        <p:blipFill>
          <a:blip r:embed="rId1"/>
          <a:stretch/>
        </p:blipFill>
        <p:spPr>
          <a:xfrm>
            <a:off x="3867120" y="1660680"/>
            <a:ext cx="26002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34145" descr=""/>
          <p:cNvPicPr/>
          <p:nvPr/>
        </p:nvPicPr>
        <p:blipFill>
          <a:blip r:embed="rId1"/>
          <a:stretch/>
        </p:blipFill>
        <p:spPr>
          <a:xfrm>
            <a:off x="657360" y="2314440"/>
            <a:ext cx="7831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文本框 135169"/>
          <p:cNvSpPr/>
          <p:nvPr/>
        </p:nvSpPr>
        <p:spPr>
          <a:xfrm>
            <a:off x="660240" y="1952640"/>
            <a:ext cx="779472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立条件：玻意耳定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实验定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只有在气体质量一定、温度不变的条件下才成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常量的意义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常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该常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与气体的种类、质量、温度有关，对一定质量的气体，温度越高，该常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越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文本框 136193"/>
          <p:cNvSpPr/>
          <p:nvPr/>
        </p:nvSpPr>
        <p:spPr>
          <a:xfrm>
            <a:off x="658800" y="1658880"/>
            <a:ext cx="779472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应用玻意耳定律的思路与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取一定质量的气体为研究对象，确定研究对象的始末两个状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表示或计算出初态压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体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；末态压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体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对未知量用字母表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根据玻意耳定律列方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并代入数值求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时要检验结果是否符合实际，对不符合实际的结果删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文本框 137217"/>
          <p:cNvSpPr/>
          <p:nvPr/>
        </p:nvSpPr>
        <p:spPr>
          <a:xfrm>
            <a:off x="660240" y="2266920"/>
            <a:ext cx="7794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开口的玻璃管，用水银封闭一部分气体时，气体体积增大，特别是给出玻璃管总长度时，更要分析计算的气体长度加上水银柱的长度是否超出玻璃管的总长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超出，说明水银会流出，要重新计算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图片 137218" descr="特别提醒"/>
          <p:cNvPicPr/>
          <p:nvPr/>
        </p:nvPicPr>
        <p:blipFill>
          <a:blip r:embed="rId1"/>
          <a:srcRect l="0" t="0" r="0" b="-84"/>
          <a:stretch/>
        </p:blipFill>
        <p:spPr>
          <a:xfrm>
            <a:off x="609480" y="2425680"/>
            <a:ext cx="16542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文本框 138241"/>
          <p:cNvSpPr/>
          <p:nvPr/>
        </p:nvSpPr>
        <p:spPr>
          <a:xfrm>
            <a:off x="627120" y="1309680"/>
            <a:ext cx="7794720" cy="43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【典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011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新课标全国卷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，一上端开口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端封闭的细长玻璃管，下部有长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66 cm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水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柱，中间封有长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6.6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空气柱，上部有长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4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水银柱，此时水银面恰好与管口平齐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已知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气压强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76 cmHg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果使玻璃管绕底端在竖直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面内缓慢地转动一周，求在开口向下和转回到原来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置时管中空气柱的长度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封入的气体可视为理想气体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转动过程中没有发生漏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138242" descr=""/>
          <p:cNvPicPr/>
          <p:nvPr/>
        </p:nvPicPr>
        <p:blipFill>
          <a:blip r:embed="rId1"/>
          <a:stretch/>
        </p:blipFill>
        <p:spPr>
          <a:xfrm>
            <a:off x="7437600" y="1619280"/>
            <a:ext cx="920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文本框 139265"/>
          <p:cNvSpPr/>
          <p:nvPr/>
        </p:nvSpPr>
        <p:spPr>
          <a:xfrm>
            <a:off x="627120" y="2235240"/>
            <a:ext cx="7794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题指导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答本题时可选取封闭气体为研究对象，注意玻璃管转动过程中开口向上、向下两位置封闭气体压强的求解，并在这两个位置应用玻意耳定律列出方程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图片 139266" descr="独具"/>
          <p:cNvPicPr/>
          <p:nvPr/>
        </p:nvPicPr>
        <p:blipFill>
          <a:blip r:embed="rId1"/>
          <a:srcRect l="0" t="0" r="86" b="88"/>
          <a:stretch/>
        </p:blipFill>
        <p:spPr>
          <a:xfrm>
            <a:off x="800280" y="2397240"/>
            <a:ext cx="7934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文本框 140289"/>
          <p:cNvSpPr/>
          <p:nvPr/>
        </p:nvSpPr>
        <p:spPr>
          <a:xfrm>
            <a:off x="627120" y="1211400"/>
            <a:ext cx="779472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标准解答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玻璃管开口向上时，空气柱的压强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ρ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中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ρ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表示水银的密度和重力加速度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玻璃管开口向下时，原来上部的水银有一部分会流出，封闭端会有部分真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此时开口端剩下的水银柱长度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ρ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ρgx                              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中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管内空气柱的压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玻意耳定律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S                                        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文本框 141313"/>
          <p:cNvSpPr/>
          <p:nvPr/>
        </p:nvSpPr>
        <p:spPr>
          <a:xfrm>
            <a:off x="681120" y="922320"/>
            <a:ext cx="7794720" cy="58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中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此时空气柱的长度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玻璃管的横截面积，由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②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和题干条件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=12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开始转动一周后，设空气柱的压强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ρgx                                        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玻意耳定律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′S                                       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中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′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此时空气柱的长度，解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′=9.2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 cm    9.2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图片 114689" descr="图片2"/>
          <p:cNvPicPr/>
          <p:nvPr/>
        </p:nvPicPr>
        <p:blipFill>
          <a:blip r:embed="rId1"/>
          <a:stretch/>
        </p:blipFill>
        <p:spPr>
          <a:xfrm>
            <a:off x="1098720" y="1533600"/>
            <a:ext cx="2679480" cy="87624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114690" descr=""/>
          <p:cNvPicPr/>
          <p:nvPr/>
        </p:nvPicPr>
        <p:blipFill>
          <a:blip r:embed="rId2"/>
          <a:stretch/>
        </p:blipFill>
        <p:spPr>
          <a:xfrm>
            <a:off x="1166760" y="2495520"/>
            <a:ext cx="681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文本框 142337"/>
          <p:cNvSpPr/>
          <p:nvPr/>
        </p:nvSpPr>
        <p:spPr>
          <a:xfrm>
            <a:off x="660240" y="1797120"/>
            <a:ext cx="7794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规律方法】  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玻意耳定律解题的技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玻意耳定律求解时，要明确研究对象，确认温度不变，根据题目的已知条件和求解的问题，分别找出初、末状态的参量，正确确定压强是解题的关键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142338" descr="变式备选"/>
          <p:cNvPicPr/>
          <p:nvPr/>
        </p:nvPicPr>
        <p:blipFill>
          <a:blip r:embed="rId1"/>
          <a:stretch/>
        </p:blipFill>
        <p:spPr>
          <a:xfrm>
            <a:off x="6745320" y="4967280"/>
            <a:ext cx="1249200" cy="113832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42339" descr="变式训练"/>
          <p:cNvPicPr/>
          <p:nvPr/>
        </p:nvPicPr>
        <p:blipFill>
          <a:blip r:embed="rId2"/>
          <a:stretch/>
        </p:blipFill>
        <p:spPr>
          <a:xfrm>
            <a:off x="1271520" y="4856040"/>
            <a:ext cx="12495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文本框 143361"/>
          <p:cNvSpPr/>
          <p:nvPr/>
        </p:nvSpPr>
        <p:spPr>
          <a:xfrm>
            <a:off x="660240" y="1271520"/>
            <a:ext cx="80186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【变式训练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011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桂林高二检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示，一定质量的理想气体被活塞封闭在可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热的汽缸内，活塞相对于底部的高度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可沿汽缸无摩擦地滑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取一小盒沙子缓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地倒在活塞的上表面上，沙子倒完时，活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降了   再取相同质量的一小盒沙子缓慢地倒在活塞的上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面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外界大气的压强和温度始终保持不变，求此次沙子倒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活塞距汽缸底部的高度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143362" descr=""/>
          <p:cNvPicPr/>
          <p:nvPr/>
        </p:nvPicPr>
        <p:blipFill>
          <a:blip r:embed="rId1"/>
          <a:stretch/>
        </p:blipFill>
        <p:spPr>
          <a:xfrm>
            <a:off x="6230880" y="1549440"/>
            <a:ext cx="2067120" cy="236232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143363" descr=""/>
          <p:cNvPicPr/>
          <p:nvPr/>
        </p:nvPicPr>
        <p:blipFill>
          <a:blip r:embed="rId2"/>
          <a:stretch/>
        </p:blipFill>
        <p:spPr>
          <a:xfrm>
            <a:off x="1689120" y="3848040"/>
            <a:ext cx="27936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文本框 144385"/>
          <p:cNvSpPr/>
          <p:nvPr/>
        </p:nvSpPr>
        <p:spPr>
          <a:xfrm>
            <a:off x="604800" y="520560"/>
            <a:ext cx="7900920" cy="69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大气和活塞对气体的总压强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加一小盒沙子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产生的压强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汽缸横截面积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状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Ⅰ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h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状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Ⅱ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p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状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Ⅲ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p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h′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玻意耳定律得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S=(p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pt-BR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p)h′S                                   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立①②式解得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沙子倒完时活塞距汽缸底部的高度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图片 144386" descr=""/>
          <p:cNvPicPr/>
          <p:nvPr/>
        </p:nvPicPr>
        <p:blipFill>
          <a:blip r:embed="rId1"/>
          <a:stretch/>
        </p:blipFill>
        <p:spPr>
          <a:xfrm>
            <a:off x="2832120" y="4624560"/>
            <a:ext cx="851040" cy="609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144387" descr=""/>
          <p:cNvPicPr/>
          <p:nvPr/>
        </p:nvPicPr>
        <p:blipFill>
          <a:blip r:embed="rId2"/>
          <a:stretch/>
        </p:blipFill>
        <p:spPr>
          <a:xfrm>
            <a:off x="5813280" y="515952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44388" descr=""/>
          <p:cNvPicPr/>
          <p:nvPr/>
        </p:nvPicPr>
        <p:blipFill>
          <a:blip r:embed="rId3"/>
          <a:stretch/>
        </p:blipFill>
        <p:spPr>
          <a:xfrm>
            <a:off x="1465200" y="5605560"/>
            <a:ext cx="368280" cy="60948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144389" descr=""/>
          <p:cNvPicPr/>
          <p:nvPr/>
        </p:nvPicPr>
        <p:blipFill>
          <a:blip r:embed="rId4"/>
          <a:stretch/>
        </p:blipFill>
        <p:spPr>
          <a:xfrm>
            <a:off x="2890800" y="2143080"/>
            <a:ext cx="1625760" cy="609480"/>
          </a:xfrm>
          <a:prstGeom prst="rect">
            <a:avLst/>
          </a:prstGeom>
          <a:ln w="0">
            <a:noFill/>
          </a:ln>
        </p:spPr>
      </p:pic>
      <p:pic>
        <p:nvPicPr>
          <p:cNvPr id="533" name="图片 144390" descr=""/>
          <p:cNvPicPr/>
          <p:nvPr/>
        </p:nvPicPr>
        <p:blipFill>
          <a:blip r:embed="rId5"/>
          <a:stretch/>
        </p:blipFill>
        <p:spPr>
          <a:xfrm>
            <a:off x="684360" y="3586320"/>
            <a:ext cx="255240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文本框 145409"/>
          <p:cNvSpPr/>
          <p:nvPr/>
        </p:nvSpPr>
        <p:spPr>
          <a:xfrm>
            <a:off x="660240" y="2127240"/>
            <a:ext cx="77947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【变式备选】如图为一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0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粗细均匀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玻璃管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开口向上竖直放置，管内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长的水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柱封闭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0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长的空气柱，今若将管口向下竖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设外界大气压强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5 cmHg)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求空气柱长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变为多少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图片 145410" descr=""/>
          <p:cNvPicPr/>
          <p:nvPr/>
        </p:nvPicPr>
        <p:blipFill>
          <a:blip r:embed="rId1"/>
          <a:stretch/>
        </p:blipFill>
        <p:spPr>
          <a:xfrm>
            <a:off x="7397640" y="2182680"/>
            <a:ext cx="628920" cy="228600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145411" descr="独具"/>
          <p:cNvPicPr/>
          <p:nvPr/>
        </p:nvPicPr>
        <p:blipFill>
          <a:blip r:embed="rId2"/>
          <a:srcRect l="0" t="0" r="86" b="88"/>
          <a:stretch/>
        </p:blipFill>
        <p:spPr>
          <a:xfrm>
            <a:off x="750960" y="2311560"/>
            <a:ext cx="793800" cy="3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文本框 146433"/>
          <p:cNvSpPr/>
          <p:nvPr/>
        </p:nvSpPr>
        <p:spPr>
          <a:xfrm>
            <a:off x="642960" y="1073160"/>
            <a:ext cx="779472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封闭气体为研究对象，假设水银柱长度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不变，设管的横截面积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开口向下时空气柱长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75 cmHg+20 cmHg=95 cmHg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50S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末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75 cmHg-20 cmHg=55 cmHg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由玻意耳定律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×50S=55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得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86.4 cm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0 cm=106.4 cm&gt;100 c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符合实际，说明管口向下竖直放置时有水银溢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文本框 147457"/>
          <p:cNvSpPr/>
          <p:nvPr/>
        </p:nvSpPr>
        <p:spPr>
          <a:xfrm>
            <a:off x="660240" y="1643040"/>
            <a:ext cx="779472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设剩余水银长度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75-x)cmHg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100-x)S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×50S=(75-x)(100-x)S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得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57.5 cm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舍去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7.5 c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气柱长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 cm-17.5 cm=82.5 c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2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图片 148481" descr=""/>
          <p:cNvPicPr/>
          <p:nvPr/>
        </p:nvPicPr>
        <p:blipFill>
          <a:blip r:embed="rId1"/>
          <a:stretch/>
        </p:blipFill>
        <p:spPr>
          <a:xfrm>
            <a:off x="743040" y="2309760"/>
            <a:ext cx="76597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149505"/>
          <p:cNvSpPr/>
          <p:nvPr/>
        </p:nvSpPr>
        <p:spPr>
          <a:xfrm>
            <a:off x="649440" y="615960"/>
            <a:ext cx="7794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对两种等温变化图象的理解和应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图片 149506" descr=""/>
          <p:cNvPicPr/>
          <p:nvPr/>
        </p:nvPicPr>
        <p:blipFill>
          <a:blip r:embed="rId1"/>
          <a:stretch/>
        </p:blipFill>
        <p:spPr>
          <a:xfrm>
            <a:off x="752400" y="1297080"/>
            <a:ext cx="7640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50529" descr=""/>
          <p:cNvPicPr/>
          <p:nvPr/>
        </p:nvPicPr>
        <p:blipFill>
          <a:blip r:embed="rId1"/>
          <a:stretch/>
        </p:blipFill>
        <p:spPr>
          <a:xfrm>
            <a:off x="1338120" y="711360"/>
            <a:ext cx="641520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文本框 151553"/>
          <p:cNvSpPr/>
          <p:nvPr/>
        </p:nvSpPr>
        <p:spPr>
          <a:xfrm>
            <a:off x="660240" y="1585800"/>
            <a:ext cx="798516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象上的一点代表气体的一个状态，每一点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气体的一个确定的状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温度不同，一定质量的同一气体的等温线不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一气体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温线比较，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-V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中，双曲线顶点离坐标原点远的等温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的温度高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    图中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斜率大的等温线对应的温度高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问题时一定注意区分是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-V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线还是     图线，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好各自的图线形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图片 151554" descr=""/>
          <p:cNvPicPr/>
          <p:nvPr/>
        </p:nvPicPr>
        <p:blipFill>
          <a:blip r:embed="rId1"/>
          <a:stretch/>
        </p:blipFill>
        <p:spPr>
          <a:xfrm>
            <a:off x="2863800" y="3656160"/>
            <a:ext cx="622440" cy="60948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151555" descr="特别提醒"/>
          <p:cNvPicPr/>
          <p:nvPr/>
        </p:nvPicPr>
        <p:blipFill>
          <a:blip r:embed="rId2"/>
          <a:srcRect l="0" t="0" r="0" b="-84"/>
          <a:stretch/>
        </p:blipFill>
        <p:spPr>
          <a:xfrm>
            <a:off x="627120" y="1744560"/>
            <a:ext cx="1654200" cy="40968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51556" descr=""/>
          <p:cNvPicPr/>
          <p:nvPr/>
        </p:nvPicPr>
        <p:blipFill>
          <a:blip r:embed="rId3"/>
          <a:stretch/>
        </p:blipFill>
        <p:spPr>
          <a:xfrm>
            <a:off x="6000840" y="4152960"/>
            <a:ext cx="622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115713" descr=""/>
          <p:cNvPicPr/>
          <p:nvPr/>
        </p:nvPicPr>
        <p:blipFill>
          <a:blip r:embed="rId1"/>
          <a:stretch/>
        </p:blipFill>
        <p:spPr>
          <a:xfrm>
            <a:off x="628560" y="1733400"/>
            <a:ext cx="7888320" cy="3391200"/>
          </a:xfrm>
          <a:prstGeom prst="rect">
            <a:avLst/>
          </a:prstGeom>
          <a:ln w="0">
            <a:noFill/>
          </a:ln>
        </p:spPr>
      </p:pic>
      <p:sp>
        <p:nvSpPr>
          <p:cNvPr id="457" name="矩形 115714"/>
          <p:cNvSpPr/>
          <p:nvPr/>
        </p:nvSpPr>
        <p:spPr>
          <a:xfrm>
            <a:off x="6551640" y="2244600"/>
            <a:ext cx="609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15715"/>
          <p:cNvSpPr/>
          <p:nvPr/>
        </p:nvSpPr>
        <p:spPr>
          <a:xfrm>
            <a:off x="7329600" y="2259000"/>
            <a:ext cx="623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15716"/>
          <p:cNvSpPr/>
          <p:nvPr/>
        </p:nvSpPr>
        <p:spPr>
          <a:xfrm>
            <a:off x="8091360" y="2244600"/>
            <a:ext cx="331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15717"/>
          <p:cNvSpPr/>
          <p:nvPr/>
        </p:nvSpPr>
        <p:spPr>
          <a:xfrm>
            <a:off x="1122480" y="2687760"/>
            <a:ext cx="3459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15718"/>
          <p:cNvSpPr/>
          <p:nvPr/>
        </p:nvSpPr>
        <p:spPr>
          <a:xfrm>
            <a:off x="4489560" y="3782880"/>
            <a:ext cx="914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15719"/>
          <p:cNvSpPr/>
          <p:nvPr/>
        </p:nvSpPr>
        <p:spPr>
          <a:xfrm>
            <a:off x="5846760" y="4489560"/>
            <a:ext cx="9288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文本框 152577"/>
          <p:cNvSpPr/>
          <p:nvPr/>
        </p:nvSpPr>
        <p:spPr>
          <a:xfrm>
            <a:off x="660240" y="1306440"/>
            <a:ext cx="77947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【典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】如图所示，是一定质量的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种气体状态变化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-V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象，气体由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变化到状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过程中，气体分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均速率的变化情况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直保持不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直增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先减小后增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先增大后减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152578" descr=""/>
          <p:cNvPicPr/>
          <p:nvPr/>
        </p:nvPicPr>
        <p:blipFill>
          <a:blip r:embed="rId1"/>
          <a:stretch/>
        </p:blipFill>
        <p:spPr>
          <a:xfrm>
            <a:off x="5821200" y="1546200"/>
            <a:ext cx="257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文本框 153601"/>
          <p:cNvSpPr/>
          <p:nvPr/>
        </p:nvSpPr>
        <p:spPr>
          <a:xfrm>
            <a:off x="660240" y="2179800"/>
            <a:ext cx="7794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题指导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答此题应把握以下两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图片 153602" descr="独具"/>
          <p:cNvPicPr/>
          <p:nvPr/>
        </p:nvPicPr>
        <p:blipFill>
          <a:blip r:embed="rId1"/>
          <a:srcRect l="0" t="0" r="86" b="88"/>
          <a:stretch/>
        </p:blipFill>
        <p:spPr>
          <a:xfrm>
            <a:off x="995400" y="2324160"/>
            <a:ext cx="793800" cy="3920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53603" descr=""/>
          <p:cNvPicPr/>
          <p:nvPr/>
        </p:nvPicPr>
        <p:blipFill>
          <a:blip r:embed="rId2"/>
          <a:stretch/>
        </p:blipFill>
        <p:spPr>
          <a:xfrm>
            <a:off x="1644480" y="3139920"/>
            <a:ext cx="6232680" cy="151128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53604" descr="关键点--竖"/>
          <p:cNvPicPr/>
          <p:nvPr/>
        </p:nvPicPr>
        <p:blipFill>
          <a:blip r:embed="rId3"/>
          <a:stretch/>
        </p:blipFill>
        <p:spPr>
          <a:xfrm>
            <a:off x="903240" y="3147840"/>
            <a:ext cx="37008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文本框 154625"/>
          <p:cNvSpPr/>
          <p:nvPr/>
        </p:nvSpPr>
        <p:spPr>
          <a:xfrm>
            <a:off x="660240" y="1952640"/>
            <a:ext cx="779472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标准解答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图象可知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状态的温度相等，在同一等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上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离原点越远的等温线温度越高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从状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状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温度应先升高后降低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平均速率先增大后减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图片 154626" descr=""/>
          <p:cNvPicPr/>
          <p:nvPr/>
        </p:nvPicPr>
        <p:blipFill>
          <a:blip r:embed="rId1"/>
          <a:stretch/>
        </p:blipFill>
        <p:spPr>
          <a:xfrm>
            <a:off x="6033960" y="2182680"/>
            <a:ext cx="2286000" cy="207648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154627" descr="变式训练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10280" y="4724280"/>
            <a:ext cx="12495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55649"/>
          <p:cNvSpPr/>
          <p:nvPr/>
        </p:nvSpPr>
        <p:spPr>
          <a:xfrm>
            <a:off x="666720" y="1022400"/>
            <a:ext cx="79408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【变式训练】如图所示为一定质量的气体在不同温度下的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条      图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由图可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质量的气体在发生等温变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，其压强与体积成正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质量的气体在发生等温变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，其     图线的延长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经过坐标原点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图片 155650" descr=""/>
          <p:cNvPicPr/>
          <p:nvPr/>
        </p:nvPicPr>
        <p:blipFill>
          <a:blip r:embed="rId1"/>
          <a:stretch/>
        </p:blipFill>
        <p:spPr>
          <a:xfrm>
            <a:off x="5518080" y="2060640"/>
            <a:ext cx="2629080" cy="251460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155651" descr=""/>
          <p:cNvPicPr/>
          <p:nvPr/>
        </p:nvPicPr>
        <p:blipFill>
          <a:blip r:embed="rId2"/>
          <a:stretch/>
        </p:blipFill>
        <p:spPr>
          <a:xfrm>
            <a:off x="1117440" y="1582560"/>
            <a:ext cx="622440" cy="60984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55652" descr=""/>
          <p:cNvPicPr/>
          <p:nvPr/>
        </p:nvPicPr>
        <p:blipFill>
          <a:blip r:embed="rId3"/>
          <a:stretch/>
        </p:blipFill>
        <p:spPr>
          <a:xfrm>
            <a:off x="1619280" y="3567240"/>
            <a:ext cx="6224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文本框 156673"/>
          <p:cNvSpPr/>
          <p:nvPr/>
        </p:nvSpPr>
        <p:spPr>
          <a:xfrm>
            <a:off x="654120" y="1622520"/>
            <a:ext cx="797220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图是一定质量的气体在发生等温变化时的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线，由图线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∝  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成反比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；由题图可以看出，     图线的延长线是过坐标原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；根据       图线斜率的物理意义可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错误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156674" descr=""/>
          <p:cNvPicPr/>
          <p:nvPr/>
        </p:nvPicPr>
        <p:blipFill>
          <a:blip r:embed="rId1"/>
          <a:stretch/>
        </p:blipFill>
        <p:spPr>
          <a:xfrm>
            <a:off x="896760" y="2158920"/>
            <a:ext cx="665280" cy="65088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156675" descr=""/>
          <p:cNvPicPr/>
          <p:nvPr/>
        </p:nvPicPr>
        <p:blipFill>
          <a:blip r:embed="rId2"/>
          <a:stretch/>
        </p:blipFill>
        <p:spPr>
          <a:xfrm>
            <a:off x="3544920" y="2792520"/>
            <a:ext cx="660240" cy="64764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56676" descr=""/>
          <p:cNvPicPr/>
          <p:nvPr/>
        </p:nvPicPr>
        <p:blipFill>
          <a:blip r:embed="rId3"/>
          <a:stretch/>
        </p:blipFill>
        <p:spPr>
          <a:xfrm>
            <a:off x="3289320" y="3462480"/>
            <a:ext cx="687240" cy="67284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56677" descr=""/>
          <p:cNvPicPr/>
          <p:nvPr/>
        </p:nvPicPr>
        <p:blipFill>
          <a:blip r:embed="rId4"/>
          <a:stretch/>
        </p:blipFill>
        <p:spPr>
          <a:xfrm>
            <a:off x="4125960" y="2193840"/>
            <a:ext cx="26676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文本框 157697"/>
          <p:cNvSpPr/>
          <p:nvPr/>
        </p:nvSpPr>
        <p:spPr>
          <a:xfrm>
            <a:off x="733320" y="2544840"/>
            <a:ext cx="76755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【典例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011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安庆高二检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来喷洒农药的压缩喷雾器的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构如图所示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容积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5 L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装入药液后，药液上方空气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5 L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关闭阀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用打气筒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每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打进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P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空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50 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求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157698" descr=""/>
          <p:cNvPicPr/>
          <p:nvPr/>
        </p:nvPicPr>
        <p:blipFill>
          <a:blip r:embed="rId1"/>
          <a:stretch/>
        </p:blipFill>
        <p:spPr>
          <a:xfrm>
            <a:off x="5164200" y="2743200"/>
            <a:ext cx="2924280" cy="254304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57699" descr="999"/>
          <p:cNvPicPr/>
          <p:nvPr/>
        </p:nvPicPr>
        <p:blipFill>
          <a:blip r:embed="rId2"/>
          <a:stretch/>
        </p:blipFill>
        <p:spPr>
          <a:xfrm>
            <a:off x="752400" y="965160"/>
            <a:ext cx="2273400" cy="57636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157700" descr=""/>
          <p:cNvPicPr/>
          <p:nvPr/>
        </p:nvPicPr>
        <p:blipFill>
          <a:blip r:embed="rId3"/>
          <a:stretch/>
        </p:blipFill>
        <p:spPr>
          <a:xfrm>
            <a:off x="1519200" y="1719360"/>
            <a:ext cx="62118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文本框 158721"/>
          <p:cNvSpPr/>
          <p:nvPr/>
        </p:nvSpPr>
        <p:spPr>
          <a:xfrm>
            <a:off x="716040" y="2217600"/>
            <a:ext cx="76755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要使药液上方气体的压强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×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Pa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应打几次打气筒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中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×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P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空气后，打开阀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可喷洒药液，直到不能喷洒时，喷雾器剩余多少体积的药液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忽略喷管中药液产生的压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文本框 159745"/>
          <p:cNvSpPr/>
          <p:nvPr/>
        </p:nvSpPr>
        <p:spPr>
          <a:xfrm>
            <a:off x="733320" y="1252440"/>
            <a:ext cx="7675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题指导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图片 159746" descr=""/>
          <p:cNvPicPr/>
          <p:nvPr/>
        </p:nvPicPr>
        <p:blipFill>
          <a:blip r:embed="rId1"/>
          <a:stretch/>
        </p:blipFill>
        <p:spPr>
          <a:xfrm>
            <a:off x="981000" y="1871640"/>
            <a:ext cx="718344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文本框 160769"/>
          <p:cNvSpPr/>
          <p:nvPr/>
        </p:nvSpPr>
        <p:spPr>
          <a:xfrm>
            <a:off x="766800" y="1908000"/>
            <a:ext cx="7675560" cy="25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标准解答】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原来药液上方空气体积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每次打入空气的体积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打几次后压强由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原有空气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打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全部气体为研究对象，由玻意耳定律得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V+n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图片 160770" descr=""/>
          <p:cNvPicPr/>
          <p:nvPr/>
        </p:nvPicPr>
        <p:blipFill>
          <a:blip r:embed="rId1"/>
          <a:stretch/>
        </p:blipFill>
        <p:spPr>
          <a:xfrm>
            <a:off x="1244520" y="4037040"/>
            <a:ext cx="478800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文本框 161793"/>
          <p:cNvSpPr/>
          <p:nvPr/>
        </p:nvSpPr>
        <p:spPr>
          <a:xfrm>
            <a:off x="733320" y="1741320"/>
            <a:ext cx="795024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阀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直到药液不能喷洒，忽略喷管中药液产生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压强，则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容器内的气体压强应等于外界大气压强，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为研究对象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容器中剩余药液的体积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5 L-6 L=1.5 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18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  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1.5 L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图片 161794" descr=""/>
          <p:cNvPicPr/>
          <p:nvPr/>
        </p:nvPicPr>
        <p:blipFill>
          <a:blip r:embed="rId1"/>
          <a:stretch/>
        </p:blipFill>
        <p:spPr>
          <a:xfrm>
            <a:off x="816120" y="3286080"/>
            <a:ext cx="316224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116737" descr=""/>
          <p:cNvPicPr/>
          <p:nvPr/>
        </p:nvPicPr>
        <p:blipFill>
          <a:blip r:embed="rId1"/>
          <a:stretch/>
        </p:blipFill>
        <p:spPr>
          <a:xfrm>
            <a:off x="749160" y="1238400"/>
            <a:ext cx="7647120" cy="4381200"/>
          </a:xfrm>
          <a:prstGeom prst="rect">
            <a:avLst/>
          </a:prstGeom>
          <a:ln w="0">
            <a:noFill/>
          </a:ln>
        </p:spPr>
      </p:pic>
      <p:sp>
        <p:nvSpPr>
          <p:cNvPr id="464" name="矩形 116738"/>
          <p:cNvSpPr/>
          <p:nvPr/>
        </p:nvSpPr>
        <p:spPr>
          <a:xfrm>
            <a:off x="4114800" y="1857240"/>
            <a:ext cx="914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16739"/>
          <p:cNvSpPr/>
          <p:nvPr/>
        </p:nvSpPr>
        <p:spPr>
          <a:xfrm>
            <a:off x="3684600" y="2411280"/>
            <a:ext cx="901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16740"/>
          <p:cNvSpPr/>
          <p:nvPr/>
        </p:nvSpPr>
        <p:spPr>
          <a:xfrm>
            <a:off x="6275520" y="2425680"/>
            <a:ext cx="1566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16741"/>
          <p:cNvSpPr/>
          <p:nvPr/>
        </p:nvSpPr>
        <p:spPr>
          <a:xfrm>
            <a:off x="4862520" y="2881440"/>
            <a:ext cx="762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16742"/>
          <p:cNvSpPr/>
          <p:nvPr/>
        </p:nvSpPr>
        <p:spPr>
          <a:xfrm>
            <a:off x="5624640" y="3879720"/>
            <a:ext cx="180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16743"/>
          <p:cNvSpPr/>
          <p:nvPr/>
        </p:nvSpPr>
        <p:spPr>
          <a:xfrm>
            <a:off x="4281480" y="4656240"/>
            <a:ext cx="1536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16744"/>
          <p:cNvSpPr/>
          <p:nvPr/>
        </p:nvSpPr>
        <p:spPr>
          <a:xfrm>
            <a:off x="4308480" y="5084640"/>
            <a:ext cx="652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文本框 162817"/>
          <p:cNvSpPr/>
          <p:nvPr/>
        </p:nvSpPr>
        <p:spPr>
          <a:xfrm>
            <a:off x="671400" y="2082960"/>
            <a:ext cx="7750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、选择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(2011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嘉定高二检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描述气体状态的参量是指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质量、温度、密度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温度、体积、压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质量、压强、温度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密度、压强、温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状态参量是指温度、压强和体积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文本框 163841"/>
          <p:cNvSpPr/>
          <p:nvPr/>
        </p:nvSpPr>
        <p:spPr>
          <a:xfrm>
            <a:off x="689040" y="763560"/>
            <a:ext cx="795816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(2010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广东高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所示，某种自动洗衣机进水时，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洗衣缸相连的细管中会封闭一定质量的空气，通过压力传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器感知管中的空气压力，从而控制进水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设温度不变，洗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缸内水位升高，则细管中被封闭的空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体积不变，压强变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体积变小，压强变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163842" descr=""/>
          <p:cNvPicPr/>
          <p:nvPr/>
        </p:nvPicPr>
        <p:blipFill>
          <a:blip r:embed="rId1"/>
          <a:stretch/>
        </p:blipFill>
        <p:spPr>
          <a:xfrm>
            <a:off x="3078000" y="2849400"/>
            <a:ext cx="2953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文本框 164865"/>
          <p:cNvSpPr/>
          <p:nvPr/>
        </p:nvSpPr>
        <p:spPr>
          <a:xfrm>
            <a:off x="704880" y="2048040"/>
            <a:ext cx="7750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体积不变，压强变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体积变小，压强变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图可知空气被封闭在细管内，水面升高时，气体体积一定减小，根据玻意耳定律，气体压强就增大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正确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文本框 165889"/>
          <p:cNvSpPr/>
          <p:nvPr/>
        </p:nvSpPr>
        <p:spPr>
          <a:xfrm>
            <a:off x="689040" y="1461960"/>
            <a:ext cx="7750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(2011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大连高二检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端封闭的玻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管倒插入水银槽中，管竖直放置时，管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水银面比管外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上端空气柱长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所示，已知大气压强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H cmHg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下列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法正确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此时封闭气体的压强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L+h) cmH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此时封闭气体的压强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H-h) cmH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165890" descr=""/>
          <p:cNvPicPr/>
          <p:nvPr/>
        </p:nvPicPr>
        <p:blipFill>
          <a:blip r:embed="rId1"/>
          <a:stretch/>
        </p:blipFill>
        <p:spPr>
          <a:xfrm>
            <a:off x="6172200" y="1639800"/>
            <a:ext cx="2114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文本框 166913"/>
          <p:cNvSpPr/>
          <p:nvPr/>
        </p:nvSpPr>
        <p:spPr>
          <a:xfrm>
            <a:off x="671400" y="2220840"/>
            <a:ext cx="775044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此时封闭气体的压强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H+h) cmH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此时封闭气体的压强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H-L) cmH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等压面法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管外水银面为等压面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气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气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气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H-h)cmHg,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正确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文本框 167937"/>
          <p:cNvSpPr/>
          <p:nvPr/>
        </p:nvSpPr>
        <p:spPr>
          <a:xfrm>
            <a:off x="689040" y="763560"/>
            <a:ext cx="7750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所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活塞的质量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缸套的质量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通过弹簧吊在天花板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汽缸内封有一定质量的气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缸套和活塞间无摩擦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活塞面积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大气压强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则封闭气体的压强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p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+mg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p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+(M+m)g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p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-Mg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p=mg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图片 167938" descr=""/>
          <p:cNvPicPr/>
          <p:nvPr/>
        </p:nvPicPr>
        <p:blipFill>
          <a:blip r:embed="rId1"/>
          <a:stretch/>
        </p:blipFill>
        <p:spPr>
          <a:xfrm>
            <a:off x="3327480" y="2392200"/>
            <a:ext cx="2905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文本框 168961"/>
          <p:cNvSpPr/>
          <p:nvPr/>
        </p:nvSpPr>
        <p:spPr>
          <a:xfrm>
            <a:off x="689040" y="2282760"/>
            <a:ext cx="775008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汽缸缸套进行受力分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所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平衡条件可得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=Mg+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正确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图片 168962" descr=""/>
          <p:cNvPicPr/>
          <p:nvPr/>
        </p:nvPicPr>
        <p:blipFill>
          <a:blip r:embed="rId1"/>
          <a:stretch/>
        </p:blipFill>
        <p:spPr>
          <a:xfrm>
            <a:off x="7059600" y="2467080"/>
            <a:ext cx="647640" cy="204768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68963" descr=""/>
          <p:cNvPicPr/>
          <p:nvPr/>
        </p:nvPicPr>
        <p:blipFill>
          <a:blip r:embed="rId2"/>
          <a:stretch/>
        </p:blipFill>
        <p:spPr>
          <a:xfrm>
            <a:off x="1457280" y="336240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文本框 169985"/>
          <p:cNvSpPr/>
          <p:nvPr/>
        </p:nvSpPr>
        <p:spPr>
          <a:xfrm>
            <a:off x="689040" y="1619280"/>
            <a:ext cx="77500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各种卡通形状的氢气球，受到孩子们的喜欢，特别是年幼的小孩，小孩一不小心松手，氢气球会飞向天空，上升到一定高度会胀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因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球内氢气温度升高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球内氢气压强增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球外空气压强减小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以上说法均不正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球上升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高空处空气稀薄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外气体的压强减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内气体要膨胀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一定程度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球就会胀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文本框 171009"/>
          <p:cNvSpPr/>
          <p:nvPr/>
        </p:nvSpPr>
        <p:spPr>
          <a:xfrm>
            <a:off x="689040" y="1461960"/>
            <a:ext cx="775008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所示，两端开口的均匀玻璃管竖直插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水银槽中，管中有一段水银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封闭一定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气体，这时管下端开口处内、外水银面高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差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若保持环境温度不变，当外界压强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大时，下列分析正确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变长   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变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上升   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171010" descr=""/>
          <p:cNvPicPr/>
          <p:nvPr/>
        </p:nvPicPr>
        <p:blipFill>
          <a:blip r:embed="rId1"/>
          <a:stretch/>
        </p:blipFill>
        <p:spPr>
          <a:xfrm>
            <a:off x="6654960" y="1641600"/>
            <a:ext cx="139032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文本框 172033"/>
          <p:cNvSpPr/>
          <p:nvPr/>
        </p:nvSpPr>
        <p:spPr>
          <a:xfrm>
            <a:off x="673200" y="2359080"/>
            <a:ext cx="775008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封闭气体的压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随着大气压强的增大，被封闭气体压强也增大，由玻意耳定律知气体的体积减小，空气柱长度变短，但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度不变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液柱下降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正确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117761" descr=""/>
          <p:cNvPicPr/>
          <p:nvPr/>
        </p:nvPicPr>
        <p:blipFill>
          <a:blip r:embed="rId1"/>
          <a:srcRect l="0" t="0" r="0" b="62028"/>
          <a:stretch/>
        </p:blipFill>
        <p:spPr>
          <a:xfrm>
            <a:off x="1042920" y="2095560"/>
            <a:ext cx="7059600" cy="1012680"/>
          </a:xfrm>
          <a:prstGeom prst="rect">
            <a:avLst/>
          </a:prstGeom>
          <a:ln w="0">
            <a:noFill/>
          </a:ln>
        </p:spPr>
      </p:pic>
      <p:pic>
        <p:nvPicPr>
          <p:cNvPr id="472" name="图片 117762" descr=""/>
          <p:cNvPicPr/>
          <p:nvPr/>
        </p:nvPicPr>
        <p:blipFill>
          <a:blip r:embed="rId2"/>
          <a:srcRect l="0" t="38634" r="0" b="0"/>
          <a:stretch/>
        </p:blipFill>
        <p:spPr>
          <a:xfrm>
            <a:off x="1042920" y="3125880"/>
            <a:ext cx="7059600" cy="1636560"/>
          </a:xfrm>
          <a:prstGeom prst="rect">
            <a:avLst/>
          </a:prstGeom>
          <a:ln w="0">
            <a:noFill/>
          </a:ln>
        </p:spPr>
      </p:pic>
      <p:pic>
        <p:nvPicPr>
          <p:cNvPr id="473" name="图片 117763" descr="思考"/>
          <p:cNvPicPr/>
          <p:nvPr/>
        </p:nvPicPr>
        <p:blipFill>
          <a:blip r:embed="rId3"/>
          <a:stretch/>
        </p:blipFill>
        <p:spPr>
          <a:xfrm>
            <a:off x="1015920" y="2030400"/>
            <a:ext cx="638280" cy="514440"/>
          </a:xfrm>
          <a:prstGeom prst="rect">
            <a:avLst/>
          </a:prstGeom>
          <a:ln w="0">
            <a:noFill/>
          </a:ln>
        </p:spPr>
      </p:pic>
      <p:pic>
        <p:nvPicPr>
          <p:cNvPr id="474" name="图片 117764" descr="5"/>
          <p:cNvPicPr/>
          <p:nvPr/>
        </p:nvPicPr>
        <p:blipFill>
          <a:blip r:embed="rId4"/>
          <a:srcRect l="0" t="0" r="0" b="227"/>
          <a:stretch/>
        </p:blipFill>
        <p:spPr>
          <a:xfrm>
            <a:off x="941400" y="3057480"/>
            <a:ext cx="9144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文本框 173057"/>
          <p:cNvSpPr/>
          <p:nvPr/>
        </p:nvSpPr>
        <p:spPr>
          <a:xfrm>
            <a:off x="689040" y="1084320"/>
            <a:ext cx="7750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个开口玻璃瓶内有空气，现将瓶口向下按入水中，在水面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 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深处恰能保持静止不动，下列说法中正确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将瓶稍向下按，放手后又回到原来位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将瓶稍向下按，放手后加速下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将瓶稍向上提，放手后又回到原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将瓶稍向上提，放手后加速上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保持静止不动，受力平衡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g=ρgV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由玻意耳定律，将瓶下按后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大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小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g&gt;ρgV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放手后加速下沉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样道理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也正确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文本框 174081"/>
          <p:cNvSpPr/>
          <p:nvPr/>
        </p:nvSpPr>
        <p:spPr>
          <a:xfrm>
            <a:off x="677880" y="1015920"/>
            <a:ext cx="79740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.(2010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江苏高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为了将空气装入气瓶内，现将一定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空气等温压缩，空气可视为理想气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列图象能正确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示该过程中空气的压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体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关系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做等温变化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遵守玻意耳定律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V=C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正比，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图片 174082" descr=""/>
          <p:cNvPicPr/>
          <p:nvPr/>
        </p:nvPicPr>
        <p:blipFill>
          <a:blip r:embed="rId1"/>
          <a:stretch/>
        </p:blipFill>
        <p:spPr>
          <a:xfrm>
            <a:off x="1062000" y="5059440"/>
            <a:ext cx="266760" cy="60948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74083" descr=""/>
          <p:cNvPicPr/>
          <p:nvPr/>
        </p:nvPicPr>
        <p:blipFill>
          <a:blip r:embed="rId2"/>
          <a:stretch/>
        </p:blipFill>
        <p:spPr>
          <a:xfrm>
            <a:off x="933480" y="2693880"/>
            <a:ext cx="62229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文本框 175105"/>
          <p:cNvSpPr/>
          <p:nvPr/>
        </p:nvSpPr>
        <p:spPr>
          <a:xfrm>
            <a:off x="689040" y="1828800"/>
            <a:ext cx="775008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二、非选择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粗细均匀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形管，右端封闭有一段空气柱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两管内水银面高度差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封闭端空气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长度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 c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如图所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问向左管内再注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多少水银可使两管水银面等高？已知外界大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压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76 cmHg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注入水银过程中温度保持不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175106" descr=""/>
          <p:cNvPicPr/>
          <p:nvPr/>
        </p:nvPicPr>
        <p:blipFill>
          <a:blip r:embed="rId1"/>
          <a:stretch/>
        </p:blipFill>
        <p:spPr>
          <a:xfrm>
            <a:off x="6634080" y="2548080"/>
            <a:ext cx="17715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文本框 176129"/>
          <p:cNvSpPr/>
          <p:nvPr/>
        </p:nvSpPr>
        <p:spPr>
          <a:xfrm>
            <a:off x="660240" y="1909800"/>
            <a:ext cx="792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右管中被封闭气体为研究对象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在初状态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76-19) cmHg=57 cmHg,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=40S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末状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6 cmHg,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由玻意耳定律得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7×40 S=76×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 cm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注入的水银柱长度应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+2(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=39 c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文本框 177153"/>
          <p:cNvSpPr/>
          <p:nvPr/>
        </p:nvSpPr>
        <p:spPr>
          <a:xfrm>
            <a:off x="660240" y="509760"/>
            <a:ext cx="784872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.(2011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海南高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，容积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容器内充有压缩空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容器与水银压强计相连，压强计左右两管下部由软胶管相连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气阀关闭时，两管中水银面等高，左管中水银面上方到气阀之间空气的体积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打开气阀，左管中水银下降；缓慢地向上提右管，使左管中水银面回到原来高度，此时右管与左管中水银面的高度差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h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已知水银的密度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大气压强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重力加速度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g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；空气可视为理想气体，其温度不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求气阀打开前容器中压缩空气的压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图片 177154" descr=""/>
          <p:cNvPicPr/>
          <p:nvPr/>
        </p:nvPicPr>
        <p:blipFill>
          <a:blip r:embed="rId1"/>
          <a:stretch/>
        </p:blipFill>
        <p:spPr>
          <a:xfrm>
            <a:off x="2494080" y="4387680"/>
            <a:ext cx="34416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文本框 178177"/>
          <p:cNvSpPr/>
          <p:nvPr/>
        </p:nvSpPr>
        <p:spPr>
          <a:xfrm>
            <a:off x="677880" y="1657440"/>
            <a:ext cx="7750080" cy="35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解析】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阀打开前，左管内气体的压强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阀打开后稳定时的压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ρgh                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等温变化，则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        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立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式解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图片 178178" descr=""/>
          <p:cNvPicPr/>
          <p:nvPr/>
        </p:nvPicPr>
        <p:blipFill>
          <a:blip r:embed="rId1"/>
          <a:stretch/>
        </p:blipFill>
        <p:spPr>
          <a:xfrm>
            <a:off x="3116160" y="3584520"/>
            <a:ext cx="2362320" cy="72396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78179" descr=""/>
          <p:cNvPicPr/>
          <p:nvPr/>
        </p:nvPicPr>
        <p:blipFill>
          <a:blip r:embed="rId2"/>
          <a:stretch/>
        </p:blipFill>
        <p:spPr>
          <a:xfrm>
            <a:off x="1584360" y="4344840"/>
            <a:ext cx="19051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图片 118785" descr=""/>
          <p:cNvPicPr/>
          <p:nvPr/>
        </p:nvPicPr>
        <p:blipFill>
          <a:blip r:embed="rId1"/>
          <a:stretch/>
        </p:blipFill>
        <p:spPr>
          <a:xfrm>
            <a:off x="771480" y="2252520"/>
            <a:ext cx="7602480" cy="2352960"/>
          </a:xfrm>
          <a:prstGeom prst="rect">
            <a:avLst/>
          </a:prstGeom>
          <a:ln w="0">
            <a:noFill/>
          </a:ln>
        </p:spPr>
      </p:pic>
      <p:sp>
        <p:nvSpPr>
          <p:cNvPr id="476" name="矩形 118786"/>
          <p:cNvSpPr/>
          <p:nvPr/>
        </p:nvSpPr>
        <p:spPr>
          <a:xfrm>
            <a:off x="5043600" y="2771640"/>
            <a:ext cx="6220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18787"/>
          <p:cNvSpPr/>
          <p:nvPr/>
        </p:nvSpPr>
        <p:spPr>
          <a:xfrm>
            <a:off x="2314440" y="3270240"/>
            <a:ext cx="581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18788"/>
          <p:cNvSpPr/>
          <p:nvPr/>
        </p:nvSpPr>
        <p:spPr>
          <a:xfrm>
            <a:off x="3078000" y="3672000"/>
            <a:ext cx="15764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18789"/>
          <p:cNvSpPr/>
          <p:nvPr/>
        </p:nvSpPr>
        <p:spPr>
          <a:xfrm>
            <a:off x="2743200" y="4129200"/>
            <a:ext cx="58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118790"/>
          <p:cNvSpPr/>
          <p:nvPr/>
        </p:nvSpPr>
        <p:spPr>
          <a:xfrm>
            <a:off x="4087800" y="4170240"/>
            <a:ext cx="609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图片 119809" descr=""/>
          <p:cNvPicPr/>
          <p:nvPr/>
        </p:nvPicPr>
        <p:blipFill>
          <a:blip r:embed="rId1"/>
          <a:stretch/>
        </p:blipFill>
        <p:spPr>
          <a:xfrm>
            <a:off x="915840" y="2496960"/>
            <a:ext cx="7047000" cy="140040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119810" descr="点拨"/>
          <p:cNvPicPr/>
          <p:nvPr/>
        </p:nvPicPr>
        <p:blipFill>
          <a:blip r:embed="rId2"/>
          <a:stretch/>
        </p:blipFill>
        <p:spPr>
          <a:xfrm>
            <a:off x="1123920" y="2487600"/>
            <a:ext cx="8031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20833" descr=""/>
          <p:cNvPicPr/>
          <p:nvPr/>
        </p:nvPicPr>
        <p:blipFill>
          <a:blip r:embed="rId1"/>
          <a:stretch/>
        </p:blipFill>
        <p:spPr>
          <a:xfrm>
            <a:off x="719280" y="905040"/>
            <a:ext cx="7707240" cy="5047920"/>
          </a:xfrm>
          <a:prstGeom prst="rect">
            <a:avLst/>
          </a:prstGeom>
          <a:ln w="0">
            <a:noFill/>
          </a:ln>
        </p:spPr>
      </p:pic>
      <p:sp>
        <p:nvSpPr>
          <p:cNvPr id="484" name="矩形 120834"/>
          <p:cNvSpPr/>
          <p:nvPr/>
        </p:nvSpPr>
        <p:spPr>
          <a:xfrm>
            <a:off x="7675560" y="1413000"/>
            <a:ext cx="706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120835"/>
          <p:cNvSpPr/>
          <p:nvPr/>
        </p:nvSpPr>
        <p:spPr>
          <a:xfrm>
            <a:off x="5319720" y="1898640"/>
            <a:ext cx="95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120836"/>
          <p:cNvSpPr/>
          <p:nvPr/>
        </p:nvSpPr>
        <p:spPr>
          <a:xfrm>
            <a:off x="6165720" y="2327400"/>
            <a:ext cx="60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20-01-06T01:43:39Z</dcterms:modified>
  <cp:revision>15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