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1C3-0ACC-41B5-B27C-DB3789E4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710B-5D93-459A-9416-AADBAEB2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71C71-CD53-44EF-9D18-C8236FD6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CEB5E-957A-4C2F-8878-17EA7ADD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21E5C-C496-4ACD-8244-26A4A49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F0C97-F73B-4BD8-A4DA-B1A170D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43843-9007-4440-9331-A542353D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E8650-49FF-4C24-B5AB-1FF63AD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139FE-5382-489E-910E-4EB8940A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00949-BEA4-42A3-90C7-4198CABC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4540-4CFC-4B28-BE21-33BF51BCD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3C4-9ADF-4FC3-B0C9-C3461AE6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D01-B1BA-40E7-80FE-53C049A1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305B-32F2-4E52-A913-EA22BF20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6D5C-43B9-4FC5-93BB-EF67677A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0D32-ED71-4C28-8A9C-B70EC368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CC8-85F8-491B-8654-93EDBFCF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71EE-C1B9-432D-8153-6384917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D2E9-2028-482A-ADBE-7F93DCC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145D-473B-4925-BE35-CA3B5081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9D5-A636-48E7-BFA1-46A6872A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CC00-2E71-4EEF-8B8D-47688C14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0DB3-63D5-411A-A917-54E0BCE4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FAC-B13C-4BB3-B924-F84E1D44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5A36-BDDB-4A6F-B574-919BCA14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FAA2-1B81-4FB6-AE73-B13557D5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2CD1-C02A-43C2-8590-8E3DAEC9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F2EA-ADB8-406C-A125-25F688E6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06A4-0708-4EA8-9A2B-8008DBCB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58B3-2368-4B98-8F59-B29CB921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F7EBD-8965-4DBC-AED2-32E5969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7CB-214F-492C-807D-0BEDBB20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22AE0-AAC6-45DC-809C-3427C53E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400C-2B1F-4F74-910D-642897FB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0EED-7E73-4AEA-856A-C315F87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6F16-B99D-4DC2-92F3-A5FD041B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677F-26C3-4EB8-821A-6C20463B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641C4-5941-4E47-8798-18230E38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B962-9C45-4D6C-8A5F-2F7EC0CB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6B325-466E-464B-8576-B72048A1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C30D5-DA98-41E3-BAC4-04D9EE47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CDE50-EFA2-4DC9-A678-C6EDD7DC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EE6-7F2B-49B5-8F80-82104395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D121A-42C3-42DF-AF9F-45F6B13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222B-CBE9-49B0-857C-DD6F4873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DB57-B8BD-4981-B173-A67407B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DF3C3-21CF-4EDC-B70D-140A66EF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6A410-3BE0-413F-889A-D70A8454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63270-C77B-47EC-8D86-1030FFC0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23F2-B90A-4113-9EAD-F6CBF8EE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D9EF9-709C-44BA-9667-4DC643AD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B6ED-08C5-4FB6-8A3A-57B675D0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27641-889A-40CA-808A-3CF76222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A4B-E78D-4F52-A14E-6D8A4E0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731C1-69E9-4FCC-8B24-E97679B0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518E-B542-49EB-9ABA-CA873DF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9FF8E-1C77-4E37-8DB4-1238E955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8AFB-1E65-4535-8888-49FE4058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81BD1-1FE1-4DC6-B618-894C1C5A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133A1-E64C-4458-B8EE-F117D2BB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6B1A9-7649-462E-A535-1CA8F1D9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03571-FB70-4434-BE34-2BA39F57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C6E93-7B67-4534-AF9F-0B4BCE9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0906-5B4E-448D-A932-54F5FD46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5E4-D27E-4E6F-B7EB-3CC55551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29C2-E6A2-46AF-AFC6-7F1EE5F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7598D-FABC-4D0D-87DD-DEB38FAA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E615-DF55-410D-83D6-C2C58A6B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C20C6-B6C0-4D8A-9B85-52F9F267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F07C-709E-4D2D-802B-4D686962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9761A-18EB-4D39-92D5-E6D533F8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E6372-5AAD-4748-B0DE-3AE8EA7B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B0B97-6D74-4F7C-9AD8-5BCC045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F0F63-2581-4FA9-A7A4-4796F1B7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71C37-3BB0-4C16-BD41-58BD9D70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393-F415-405C-99E1-38F65A1F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7B11B-7A1C-4B92-9D91-3766B93D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880B0-73D9-41E6-8158-5F65CDD3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D0562-1296-4FEE-A059-572023495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73499-17E1-4FBD-B41B-56890552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C725D-CDFB-412C-ACC2-3B06F7F2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B7B4-1B83-44B7-A203-568245F3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AFC0-A685-445A-A7CE-718A7537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F38C-15C7-46E4-8FC6-66DE56F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3785D-80E4-487A-BB86-D16EE20B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E0B61-7A5F-4CEA-9A9D-F76640C9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B04-F614-46C7-895F-28EA919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5931-139D-4D19-9044-4ED05CA8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1ED01-29C3-43DC-BF1E-B765409B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9B223-F697-47BE-8F35-393F1FA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DFD9-7FDB-4650-9EBE-9A5E7DE2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215FD-7CBF-473C-BE0C-B4D78488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54E6C-92F3-493F-88F4-68FC16CE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3EF9F-7B04-4DB7-8424-415CEA98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E750F-35E5-48D7-929E-D99292A9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9D907-30FE-47EB-94B0-7EF3514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D32AA-550B-4876-A97F-898F3E73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72E-5AAA-4DAC-A7C5-04F9EDD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A809D-D37D-4544-9CB1-67FCD620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76EC2-E070-4415-AA8B-A0E2F86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3A9AF-84C6-49D3-BE32-C9BFF587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0305-B8D2-4DAC-9C57-B317CE67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9E3EE-527B-4B3E-855C-6705C8BA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EDF4C-8F5C-434F-8457-361E6F96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99D82-C0D1-4894-868B-7758822A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AF1BF-C16B-4A37-97E8-D6E73FFF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A587C-0950-461A-9E3F-950BE0A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834BAD-2915-43C7-B63A-0445D42F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5B0-65C2-4A13-B039-D22D7EF0DF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C262-5E29-40CF-ABA0-D0BB1EF31CA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54A6-3573-4295-AE3D-446764C03E5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A267-01D0-4BA2-B766-F78B856F7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B49-7296-4420-9F1C-CE05086F0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0DEA-5F32-493D-86CB-E19607242C5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5B09-7525-4698-993A-50ED7447B7C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D93-EA14-4EE1-AA2C-E64D05395D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B009-5397-4182-BB7F-D6DBBA7C84ED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36" descr="问09"/>
          <p:cNvPicPr/>
          <p:nvPr/>
        </p:nvPicPr>
        <p:blipFill>
          <a:blip r:embed="rId2"/>
          <a:stretch/>
        </p:blipFill>
        <p:spPr>
          <a:xfrm>
            <a:off x="3421080" y="3429000"/>
            <a:ext cx="790560" cy="7207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 rot="4828800">
            <a:off x="1980720" y="2563920"/>
            <a:ext cx="1150920" cy="576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57340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Arial"/>
              </a:rPr>
              <a:t>江阴市峭岐中学   盛龙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280" y="404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c"/>
                </a:solidFill>
                <a:latin typeface="Arial"/>
                <a:ea typeface="华文行楷"/>
              </a:rPr>
              <a:t>初二数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95280" y="549360"/>
            <a:ext cx="828036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ffff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2.1 </a:t>
            </a:r>
            <a:r>
              <a:rPr b="1" lang="zh-CN" sz="2400" spc="1" strike="noStrike">
                <a:ln w="15840">
                  <a:solidFill>
                    <a:srgbClr val="ffff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平方根与立方根</a:t>
            </a:r>
            <a:endParaRPr b="1" lang="en-US" sz="2400" spc="1" strike="noStrike">
              <a:ln w="15840">
                <a:solidFill>
                  <a:srgbClr val="ffffff"/>
                </a:solidFill>
                <a:prstDash val="dash"/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9" name=""/>
          <p:cNvSpPr/>
          <p:nvPr/>
        </p:nvSpPr>
        <p:spPr>
          <a:xfrm>
            <a:off x="826920" y="1341360"/>
            <a:ext cx="22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08000" y="3213000"/>
            <a:ext cx="22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20000" y="41497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ff00"/>
                </a:solidFill>
                <a:latin typeface="宋体"/>
              </a:rPr>
              <a:t>之三</a:t>
            </a:r>
            <a:r>
              <a:rPr b="1" lang="en-US" sz="4400" spc="-1" strike="noStrike">
                <a:solidFill>
                  <a:srgbClr val="00ff00"/>
                </a:solidFill>
                <a:latin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 txBox="1"/>
          <p:nvPr/>
        </p:nvSpPr>
        <p:spPr>
          <a:xfrm>
            <a:off x="539640" y="47628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布置作业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4" name=""/>
          <p:cNvSpPr/>
          <p:nvPr/>
        </p:nvSpPr>
        <p:spPr>
          <a:xfrm>
            <a:off x="3059280" y="2637000"/>
            <a:ext cx="39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Arial Black"/>
                <a:ea typeface="华文行楷"/>
              </a:rPr>
              <a:t>再 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6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68360" y="119700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方根的概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42920" y="1773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如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≥0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就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的平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95640" y="2349360"/>
            <a:ext cx="4176720" cy="593280"/>
            <a:chOff x="2195640" y="2349360"/>
            <a:chExt cx="4176720" cy="593280"/>
          </a:xfrm>
        </p:grpSpPr>
        <p:sp>
          <p:nvSpPr>
            <p:cNvPr id="475" name=""/>
            <p:cNvSpPr/>
            <p:nvPr/>
          </p:nvSpPr>
          <p:spPr>
            <a:xfrm>
              <a:off x="2195640" y="234936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通常记作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=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±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4427640" y="2422080"/>
              <a:ext cx="1224000" cy="520560"/>
              <a:chOff x="4427640" y="2422080"/>
              <a:chExt cx="1224000" cy="520560"/>
            </a:xfrm>
          </p:grpSpPr>
          <p:sp>
            <p:nvSpPr>
              <p:cNvPr id="477" name=""/>
              <p:cNvSpPr/>
              <p:nvPr/>
            </p:nvSpPr>
            <p:spPr>
              <a:xfrm>
                <a:off x="4427640" y="242208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59280" y="2566800"/>
                <a:ext cx="289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"/>
          <p:cNvSpPr txBox="1"/>
          <p:nvPr/>
        </p:nvSpPr>
        <p:spPr>
          <a:xfrm>
            <a:off x="324000" y="40464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58008d"/>
                  </a:outerShdw>
                </a:effectLst>
                <a:latin typeface="华文彩云"/>
              </a:rPr>
              <a:t>知识回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58008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80" name=""/>
          <p:cNvSpPr/>
          <p:nvPr/>
        </p:nvSpPr>
        <p:spPr>
          <a:xfrm>
            <a:off x="539640" y="2852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方根的情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98560" y="3429000"/>
            <a:ext cx="468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一个正数的平方根有两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35640" y="342900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它们是互为相反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3933720"/>
            <a:ext cx="43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平方根只有一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73440" y="3933720"/>
            <a:ext cx="309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就是它本身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0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00000" y="4437000"/>
            <a:ext cx="43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负数没有平方根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9640" y="4941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类比问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63640" y="5445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如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4000" y="5445000"/>
            <a:ext cx="36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就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的立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84720" y="54450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也称三次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258920" y="3500280"/>
            <a:ext cx="3024000" cy="642600"/>
            <a:chOff x="1258920" y="3500280"/>
            <a:chExt cx="3024000" cy="642600"/>
          </a:xfrm>
        </p:grpSpPr>
        <p:sp>
          <p:nvSpPr>
            <p:cNvPr id="491" name=""/>
            <p:cNvSpPr/>
            <p:nvPr/>
          </p:nvSpPr>
          <p:spPr>
            <a:xfrm>
              <a:off x="1258920" y="3500280"/>
              <a:ext cx="30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bc"/>
                  </a:solidFill>
                  <a:latin typeface="Times New Roman"/>
                </a:rPr>
                <a:t>记作</a:t>
              </a:r>
              <a:r>
                <a:rPr b="1" lang="en-US" sz="3600" spc="-1" strike="noStrike">
                  <a:solidFill>
                    <a:srgbClr val="0000bc"/>
                  </a:solidFill>
                  <a:latin typeface="Times New Roman"/>
                </a:rPr>
                <a:t>: 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338200" y="3500280"/>
              <a:ext cx="1223640" cy="642600"/>
              <a:chOff x="2338200" y="3500280"/>
              <a:chExt cx="1223640" cy="642600"/>
            </a:xfrm>
          </p:grpSpPr>
          <p:sp>
            <p:nvSpPr>
              <p:cNvPr id="493" name=""/>
              <p:cNvSpPr/>
              <p:nvPr/>
            </p:nvSpPr>
            <p:spPr>
              <a:xfrm>
                <a:off x="2338200" y="3500280"/>
                <a:ext cx="122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14200" y="3643200"/>
                <a:ext cx="28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 txBox="1"/>
          <p:nvPr/>
        </p:nvSpPr>
        <p:spPr>
          <a:xfrm>
            <a:off x="324000" y="62064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58008d"/>
                  </a:outerShdw>
                </a:effectLst>
                <a:latin typeface="华文彩云"/>
              </a:rPr>
              <a:t>新知概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58008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96" name=""/>
          <p:cNvSpPr/>
          <p:nvPr/>
        </p:nvSpPr>
        <p:spPr>
          <a:xfrm>
            <a:off x="2627280" y="335772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19640" y="3500280"/>
            <a:ext cx="482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,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读作：</a:t>
            </a: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次</a:t>
            </a: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根号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76360" y="1557360"/>
            <a:ext cx="69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一个数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立方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等于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5280" y="2205000"/>
            <a:ext cx="80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么这个数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叫做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立方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42920" y="2924280"/>
            <a:ext cx="669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即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: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bc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立方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1280" y="436572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这里的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表示开根的次数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4941720"/>
            <a:ext cx="734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平方根是省写根次数的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两次以上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26920" y="544500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次数不能省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3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3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95280" y="333360"/>
            <a:ext cx="1511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84360" y="105264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列各数的立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16000" y="162864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4                    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7                    ⑶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            ⑸ 3                       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6877080" y="1484280"/>
            <a:ext cx="576360" cy="863280"/>
            <a:chOff x="6877080" y="1484280"/>
            <a:chExt cx="576360" cy="863280"/>
          </a:xfrm>
        </p:grpSpPr>
        <p:sp>
          <p:nvSpPr>
            <p:cNvPr id="508" name=""/>
            <p:cNvSpPr/>
            <p:nvPr/>
          </p:nvSpPr>
          <p:spPr>
            <a:xfrm>
              <a:off x="6877080" y="1484280"/>
              <a:ext cx="57636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48720" y="19159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77080" y="1842840"/>
              <a:ext cx="576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427640" y="2205000"/>
            <a:ext cx="504720" cy="863280"/>
            <a:chOff x="4427640" y="2205000"/>
            <a:chExt cx="504720" cy="863280"/>
          </a:xfrm>
        </p:grpSpPr>
        <p:sp>
          <p:nvSpPr>
            <p:cNvPr id="512" name=""/>
            <p:cNvSpPr/>
            <p:nvPr/>
          </p:nvSpPr>
          <p:spPr>
            <a:xfrm>
              <a:off x="4427640" y="256356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27640" y="2205000"/>
              <a:ext cx="504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52560" y="2636640"/>
              <a:ext cx="2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898560" y="306864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79640" y="3068640"/>
            <a:ext cx="2014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∵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b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=64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3716280"/>
            <a:ext cx="790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427640" y="2852640"/>
            <a:ext cx="1944360" cy="647640"/>
            <a:chOff x="4427640" y="2852640"/>
            <a:chExt cx="1944360" cy="647640"/>
          </a:xfrm>
        </p:grpSpPr>
        <p:sp>
          <p:nvSpPr>
            <p:cNvPr id="519" name=""/>
            <p:cNvSpPr/>
            <p:nvPr/>
          </p:nvSpPr>
          <p:spPr>
            <a:xfrm>
              <a:off x="4427640" y="3068640"/>
              <a:ext cx="1944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∴√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64  = 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46560" y="3139920"/>
              <a:ext cx="50472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30560" y="2852640"/>
              <a:ext cx="360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356000" y="3716280"/>
            <a:ext cx="79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12000" y="3716280"/>
            <a:ext cx="79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84360" y="3571920"/>
            <a:ext cx="7559640" cy="648720"/>
            <a:chOff x="684360" y="3571920"/>
            <a:chExt cx="7559640" cy="648720"/>
          </a:xfrm>
        </p:grpSpPr>
        <p:sp>
          <p:nvSpPr>
            <p:cNvPr id="525" name=""/>
            <p:cNvSpPr/>
            <p:nvPr/>
          </p:nvSpPr>
          <p:spPr>
            <a:xfrm>
              <a:off x="684360" y="3644640"/>
              <a:ext cx="12952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口答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1547640" y="3571920"/>
              <a:ext cx="1944720" cy="647640"/>
              <a:chOff x="1547640" y="3571920"/>
              <a:chExt cx="1944720" cy="647640"/>
            </a:xfrm>
          </p:grpSpPr>
          <p:sp>
            <p:nvSpPr>
              <p:cNvPr id="527" name=""/>
              <p:cNvSpPr/>
              <p:nvPr/>
            </p:nvSpPr>
            <p:spPr>
              <a:xfrm>
                <a:off x="1547640" y="3787920"/>
                <a:ext cx="194472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64  =</a:t>
                </a:r>
                <a:r>
                  <a:rPr b="1" lang="en-US" sz="2800" spc="-1" strike="noStrike">
                    <a:solidFill>
                      <a:srgbClr val="0000b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906560" y="3859200"/>
                <a:ext cx="5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90560" y="3571920"/>
                <a:ext cx="360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3421080" y="3571920"/>
              <a:ext cx="1944720" cy="647640"/>
              <a:chOff x="3421080" y="3571920"/>
              <a:chExt cx="1944720" cy="647640"/>
            </a:xfrm>
          </p:grpSpPr>
          <p:sp>
            <p:nvSpPr>
              <p:cNvPr id="531" name=""/>
              <p:cNvSpPr/>
              <p:nvPr/>
            </p:nvSpPr>
            <p:spPr>
              <a:xfrm>
                <a:off x="3421080" y="3787920"/>
                <a:ext cx="194472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7  =</a:t>
                </a:r>
                <a:r>
                  <a:rPr b="1" lang="en-US" sz="2800" spc="-1" strike="noStrike">
                    <a:solidFill>
                      <a:srgbClr val="0000b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780000" y="3859200"/>
                <a:ext cx="5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64000" y="3571920"/>
                <a:ext cx="360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5219640" y="3571920"/>
              <a:ext cx="1224000" cy="647640"/>
              <a:chOff x="5219640" y="3571920"/>
              <a:chExt cx="1224000" cy="647640"/>
            </a:xfrm>
          </p:grpSpPr>
          <p:sp>
            <p:nvSpPr>
              <p:cNvPr id="535" name=""/>
              <p:cNvSpPr/>
              <p:nvPr/>
            </p:nvSpPr>
            <p:spPr>
              <a:xfrm>
                <a:off x="5219640" y="3787920"/>
                <a:ext cx="122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  =</a:t>
                </a:r>
                <a:r>
                  <a:rPr b="1" lang="en-US" sz="2800" spc="-1" strike="noStrike">
                    <a:solidFill>
                      <a:srgbClr val="0000b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578560" y="3859200"/>
                <a:ext cx="361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362560" y="3571920"/>
                <a:ext cx="360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7020000" y="3571920"/>
              <a:ext cx="1224000" cy="647640"/>
              <a:chOff x="7020000" y="3571920"/>
              <a:chExt cx="1224000" cy="647640"/>
            </a:xfrm>
          </p:grpSpPr>
          <p:sp>
            <p:nvSpPr>
              <p:cNvPr id="539" name=""/>
              <p:cNvSpPr/>
              <p:nvPr/>
            </p:nvSpPr>
            <p:spPr>
              <a:xfrm>
                <a:off x="7020000" y="3787920"/>
                <a:ext cx="122400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  =</a:t>
                </a:r>
                <a:r>
                  <a:rPr b="1" lang="en-US" sz="2800" spc="-1" strike="noStrike">
                    <a:solidFill>
                      <a:srgbClr val="0000bc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378560" y="3859200"/>
                <a:ext cx="4334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162920" y="3571920"/>
                <a:ext cx="360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2" name=""/>
          <p:cNvSpPr/>
          <p:nvPr/>
        </p:nvSpPr>
        <p:spPr>
          <a:xfrm>
            <a:off x="8028000" y="3645000"/>
            <a:ext cx="790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9640" y="4221000"/>
            <a:ext cx="288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立方根的情况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187280" y="4797360"/>
            <a:ext cx="4681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数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立方根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87280" y="5300640"/>
            <a:ext cx="43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立方根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本身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87280" y="5805360"/>
            <a:ext cx="43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数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立方根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负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67280" y="4941720"/>
            <a:ext cx="2303640" cy="1224000"/>
          </a:xfrm>
          <a:prstGeom prst="rect">
            <a:avLst/>
          </a:prstGeom>
          <a:solidFill>
            <a:srgbClr val="cc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任何数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立方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292720" y="4941720"/>
            <a:ext cx="216000" cy="122400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95280" y="404640"/>
            <a:ext cx="151128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126828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列各式的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403280" y="1916280"/>
            <a:ext cx="2808360" cy="718920"/>
            <a:chOff x="1403280" y="1916280"/>
            <a:chExt cx="2808360" cy="718920"/>
          </a:xfrm>
        </p:grpSpPr>
        <p:sp>
          <p:nvSpPr>
            <p:cNvPr id="552" name=""/>
            <p:cNvSpPr/>
            <p:nvPr/>
          </p:nvSpPr>
          <p:spPr>
            <a:xfrm>
              <a:off x="1403280" y="2059200"/>
              <a:ext cx="2808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⑴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7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68360" y="220356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79640" y="1916280"/>
              <a:ext cx="360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64000" y="220356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276720" y="1916280"/>
              <a:ext cx="360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5219640" y="1773360"/>
            <a:ext cx="3024360" cy="718560"/>
            <a:chOff x="5219640" y="1773360"/>
            <a:chExt cx="3024360" cy="718560"/>
          </a:xfrm>
        </p:grpSpPr>
        <p:sp>
          <p:nvSpPr>
            <p:cNvPr id="558" name=""/>
            <p:cNvSpPr/>
            <p:nvPr/>
          </p:nvSpPr>
          <p:spPr>
            <a:xfrm>
              <a:off x="5219640" y="1969200"/>
              <a:ext cx="302436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⑵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8  +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03520" y="2035440"/>
              <a:ext cx="49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98720" y="2035440"/>
              <a:ext cx="42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51800" y="1773360"/>
              <a:ext cx="351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403280" y="321300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123640" y="3068640"/>
            <a:ext cx="1153080" cy="1008000"/>
            <a:chOff x="2123640" y="3068640"/>
            <a:chExt cx="1153080" cy="1008000"/>
          </a:xfrm>
        </p:grpSpPr>
        <p:grpSp>
          <p:nvGrpSpPr>
            <p:cNvPr id="566" name=""/>
            <p:cNvGrpSpPr/>
            <p:nvPr/>
          </p:nvGrpSpPr>
          <p:grpSpPr>
            <a:xfrm>
              <a:off x="2123640" y="3139920"/>
              <a:ext cx="1153080" cy="792360"/>
              <a:chOff x="2123640" y="3139920"/>
              <a:chExt cx="1153080" cy="792360"/>
            </a:xfrm>
          </p:grpSpPr>
          <p:sp>
            <p:nvSpPr>
              <p:cNvPr id="567" name=""/>
              <p:cNvSpPr/>
              <p:nvPr/>
            </p:nvSpPr>
            <p:spPr>
              <a:xfrm flipH="1">
                <a:off x="2268000" y="3139920"/>
                <a:ext cx="142920" cy="79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11280" y="3139920"/>
                <a:ext cx="86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2123640" y="3716280"/>
                <a:ext cx="7164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195640" y="3068640"/>
              <a:ext cx="1007640" cy="1008000"/>
              <a:chOff x="2195640" y="3068640"/>
              <a:chExt cx="1007640" cy="100800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268360" y="3068640"/>
                <a:ext cx="934920" cy="1008000"/>
                <a:chOff x="2268360" y="3068640"/>
                <a:chExt cx="934920" cy="100800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2626920" y="3068640"/>
                  <a:ext cx="576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626920" y="3429000"/>
                  <a:ext cx="57636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7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700000" y="3571920"/>
                  <a:ext cx="432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268360" y="3211560"/>
                  <a:ext cx="576000" cy="64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2195640" y="3716280"/>
                <a:ext cx="72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7" name=""/>
          <p:cNvSpPr/>
          <p:nvPr/>
        </p:nvSpPr>
        <p:spPr>
          <a:xfrm>
            <a:off x="2124000" y="292428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1280" y="3139920"/>
            <a:ext cx="86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866920" y="3068640"/>
            <a:ext cx="1295640" cy="1008000"/>
            <a:chOff x="5866920" y="3068640"/>
            <a:chExt cx="1295640" cy="1008000"/>
          </a:xfrm>
        </p:grpSpPr>
        <p:grpSp>
          <p:nvGrpSpPr>
            <p:cNvPr id="580" name=""/>
            <p:cNvGrpSpPr/>
            <p:nvPr/>
          </p:nvGrpSpPr>
          <p:grpSpPr>
            <a:xfrm>
              <a:off x="5866920" y="3140280"/>
              <a:ext cx="1153080" cy="792000"/>
              <a:chOff x="5866920" y="3140280"/>
              <a:chExt cx="1153080" cy="792000"/>
            </a:xfrm>
          </p:grpSpPr>
          <p:sp>
            <p:nvSpPr>
              <p:cNvPr id="581" name=""/>
              <p:cNvSpPr/>
              <p:nvPr/>
            </p:nvSpPr>
            <p:spPr>
              <a:xfrm flipH="1">
                <a:off x="6011280" y="3140280"/>
                <a:ext cx="142920" cy="79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154560" y="3140280"/>
                <a:ext cx="86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5866920" y="3716280"/>
                <a:ext cx="71640" cy="14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6154560" y="3068640"/>
              <a:ext cx="1008000" cy="1008000"/>
              <a:chOff x="6154560" y="3068640"/>
              <a:chExt cx="1008000" cy="1008000"/>
            </a:xfrm>
          </p:grpSpPr>
          <p:sp>
            <p:nvSpPr>
              <p:cNvPr id="585" name=""/>
              <p:cNvSpPr/>
              <p:nvPr/>
            </p:nvSpPr>
            <p:spPr>
              <a:xfrm>
                <a:off x="6154560" y="3068640"/>
                <a:ext cx="576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54560" y="3429000"/>
                <a:ext cx="576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54560" y="357192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86560" y="3213000"/>
                <a:ext cx="576000" cy="64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5938920" y="3716280"/>
              <a:ext cx="73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"/>
          <p:cNvSpPr/>
          <p:nvPr/>
        </p:nvSpPr>
        <p:spPr>
          <a:xfrm>
            <a:off x="5867280" y="2924280"/>
            <a:ext cx="3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403280" y="4149720"/>
            <a:ext cx="3168720" cy="719280"/>
            <a:chOff x="1403280" y="4149720"/>
            <a:chExt cx="3168720" cy="719280"/>
          </a:xfrm>
        </p:grpSpPr>
        <p:sp>
          <p:nvSpPr>
            <p:cNvPr id="592" name=""/>
            <p:cNvSpPr/>
            <p:nvPr/>
          </p:nvSpPr>
          <p:spPr>
            <a:xfrm>
              <a:off x="1403280" y="4292640"/>
              <a:ext cx="2808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⑸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(-3)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68360" y="443700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08360" y="4438800"/>
              <a:ext cx="86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19640" y="4149720"/>
              <a:ext cx="36036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95280" y="404640"/>
            <a:ext cx="151128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116000" y="1268280"/>
            <a:ext cx="698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44,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8=0,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+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1844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由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144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58920" y="184464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56000" y="1844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得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050920" y="2781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由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8=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356000" y="278136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得 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 baseline="30000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411280" y="2349360"/>
            <a:ext cx="2448000" cy="647280"/>
            <a:chOff x="2411280" y="2349360"/>
            <a:chExt cx="2448000" cy="647280"/>
          </a:xfrm>
        </p:grpSpPr>
        <p:sp>
          <p:nvSpPr>
            <p:cNvPr id="604" name=""/>
            <p:cNvSpPr/>
            <p:nvPr/>
          </p:nvSpPr>
          <p:spPr>
            <a:xfrm>
              <a:off x="2411280" y="2349360"/>
              <a:ext cx="244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∴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 =±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635280" y="2349360"/>
              <a:ext cx="1152720" cy="647280"/>
              <a:chOff x="3635280" y="2349360"/>
              <a:chExt cx="1152720" cy="647280"/>
            </a:xfrm>
          </p:grpSpPr>
          <p:sp>
            <p:nvSpPr>
              <p:cNvPr id="606" name=""/>
              <p:cNvSpPr/>
              <p:nvPr/>
            </p:nvSpPr>
            <p:spPr>
              <a:xfrm>
                <a:off x="3635280" y="2349360"/>
                <a:ext cx="1152720" cy="64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</a:rPr>
                  <a:t>√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36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067280" y="2509920"/>
                <a:ext cx="50328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8" name=""/>
          <p:cNvSpPr/>
          <p:nvPr/>
        </p:nvSpPr>
        <p:spPr>
          <a:xfrm>
            <a:off x="4572000" y="2349360"/>
            <a:ext cx="108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±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556000" y="3141720"/>
            <a:ext cx="2447640" cy="739800"/>
            <a:chOff x="2556000" y="3141720"/>
            <a:chExt cx="2447640" cy="739800"/>
          </a:xfrm>
        </p:grpSpPr>
        <p:sp>
          <p:nvSpPr>
            <p:cNvPr id="610" name=""/>
            <p:cNvSpPr/>
            <p:nvPr/>
          </p:nvSpPr>
          <p:spPr>
            <a:xfrm>
              <a:off x="2556000" y="3286080"/>
              <a:ext cx="2447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∴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3419640" y="3141720"/>
              <a:ext cx="1366560" cy="739800"/>
              <a:chOff x="3419640" y="3141720"/>
              <a:chExt cx="1366560" cy="739800"/>
            </a:xfrm>
          </p:grpSpPr>
          <p:sp>
            <p:nvSpPr>
              <p:cNvPr id="612" name=""/>
              <p:cNvSpPr/>
              <p:nvPr/>
            </p:nvSpPr>
            <p:spPr>
              <a:xfrm>
                <a:off x="3419640" y="3357360"/>
                <a:ext cx="13665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-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8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95280" y="3429000"/>
                <a:ext cx="4935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706560" y="3141720"/>
                <a:ext cx="3520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5" name=""/>
          <p:cNvSpPr/>
          <p:nvPr/>
        </p:nvSpPr>
        <p:spPr>
          <a:xfrm>
            <a:off x="4500720" y="3357720"/>
            <a:ext cx="108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908000" y="3787920"/>
            <a:ext cx="33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当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6,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11280" y="429264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6+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)=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08000" y="4797360"/>
            <a:ext cx="331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当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,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484360" y="530064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+(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)= 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611280" y="1125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操作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84360" y="1844640"/>
            <a:ext cx="936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11280" y="2421000"/>
            <a:ext cx="14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1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5280" y="260280"/>
            <a:ext cx="1800360" cy="647640"/>
          </a:xfrm>
          <a:prstGeom prst="rect">
            <a:avLst/>
          </a:prstGeom>
          <a:solidFill>
            <a:srgbClr val="99ccff">
              <a:alpha val="46000"/>
            </a:srgbClr>
          </a:solidFill>
          <a:ln w="1908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试一试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84360" y="3141720"/>
            <a:ext cx="151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填写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116000" y="1700280"/>
            <a:ext cx="1584360" cy="649080"/>
            <a:chOff x="1116000" y="1700280"/>
            <a:chExt cx="1584360" cy="649080"/>
          </a:xfrm>
        </p:grpSpPr>
        <p:sp>
          <p:nvSpPr>
            <p:cNvPr id="626" name=""/>
            <p:cNvSpPr/>
            <p:nvPr/>
          </p:nvSpPr>
          <p:spPr>
            <a:xfrm>
              <a:off x="1116000" y="1773360"/>
              <a:ext cx="1584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33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548000" y="1916280"/>
              <a:ext cx="892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32000" y="1700280"/>
              <a:ext cx="216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16360" y="1700280"/>
            <a:ext cx="1368360" cy="649080"/>
            <a:chOff x="4716360" y="1700280"/>
            <a:chExt cx="1368360" cy="649080"/>
          </a:xfrm>
        </p:grpSpPr>
        <p:sp>
          <p:nvSpPr>
            <p:cNvPr id="630" name=""/>
            <p:cNvSpPr/>
            <p:nvPr/>
          </p:nvSpPr>
          <p:spPr>
            <a:xfrm>
              <a:off x="4716360" y="1773360"/>
              <a:ext cx="1368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4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8360" y="1916280"/>
              <a:ext cx="7938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61080" y="1700280"/>
              <a:ext cx="35856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6012000" y="1844640"/>
            <a:ext cx="936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116000" y="2421000"/>
            <a:ext cx="1584360" cy="649080"/>
            <a:chOff x="1116000" y="2421000"/>
            <a:chExt cx="1584360" cy="649080"/>
          </a:xfrm>
        </p:grpSpPr>
        <p:sp>
          <p:nvSpPr>
            <p:cNvPr id="635" name=""/>
            <p:cNvSpPr/>
            <p:nvPr/>
          </p:nvSpPr>
          <p:spPr>
            <a:xfrm>
              <a:off x="1116000" y="2494080"/>
              <a:ext cx="1584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.26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48000" y="2637000"/>
              <a:ext cx="892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32000" y="2421000"/>
              <a:ext cx="21600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6443640" y="2421000"/>
            <a:ext cx="10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861080" y="2421000"/>
            <a:ext cx="1584000" cy="648720"/>
            <a:chOff x="4861080" y="2421000"/>
            <a:chExt cx="1584000" cy="648720"/>
          </a:xfrm>
        </p:grpSpPr>
        <p:sp>
          <p:nvSpPr>
            <p:cNvPr id="640" name=""/>
            <p:cNvSpPr/>
            <p:nvPr/>
          </p:nvSpPr>
          <p:spPr>
            <a:xfrm>
              <a:off x="4861080" y="2493720"/>
              <a:ext cx="1584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7.57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92720" y="2636640"/>
              <a:ext cx="10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76720" y="2421000"/>
              <a:ext cx="21600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971640" y="3571920"/>
            <a:ext cx="7704000" cy="936720"/>
            <a:chOff x="971640" y="3571920"/>
            <a:chExt cx="7704000" cy="936720"/>
          </a:xfrm>
        </p:grpSpPr>
        <p:sp>
          <p:nvSpPr>
            <p:cNvPr id="644" name=""/>
            <p:cNvSpPr/>
            <p:nvPr/>
          </p:nvSpPr>
          <p:spPr>
            <a:xfrm>
              <a:off x="971640" y="3789360"/>
              <a:ext cx="770400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⑴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立方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数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;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立方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4859280" y="3571920"/>
              <a:ext cx="792360" cy="936720"/>
              <a:chOff x="4859280" y="3571920"/>
              <a:chExt cx="792360" cy="936720"/>
            </a:xfrm>
          </p:grpSpPr>
          <p:sp>
            <p:nvSpPr>
              <p:cNvPr id="646" name=""/>
              <p:cNvSpPr/>
              <p:nvPr/>
            </p:nvSpPr>
            <p:spPr>
              <a:xfrm>
                <a:off x="5219640" y="3571920"/>
                <a:ext cx="43200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075280" y="3861000"/>
                <a:ext cx="57636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148360" y="4003920"/>
                <a:ext cx="50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859280" y="3643560"/>
                <a:ext cx="50508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0" name=""/>
          <p:cNvSpPr/>
          <p:nvPr/>
        </p:nvSpPr>
        <p:spPr>
          <a:xfrm>
            <a:off x="3995640" y="378936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7308720" y="3500280"/>
            <a:ext cx="792000" cy="936720"/>
            <a:chOff x="7308720" y="3500280"/>
            <a:chExt cx="792000" cy="936720"/>
          </a:xfrm>
        </p:grpSpPr>
        <p:sp>
          <p:nvSpPr>
            <p:cNvPr id="652" name=""/>
            <p:cNvSpPr/>
            <p:nvPr/>
          </p:nvSpPr>
          <p:spPr>
            <a:xfrm>
              <a:off x="7524360" y="3500280"/>
              <a:ext cx="4320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24360" y="3789360"/>
              <a:ext cx="576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597440" y="39322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08720" y="3571920"/>
              <a:ext cx="360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971640" y="4438800"/>
            <a:ext cx="7777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数的立方根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数的算术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5013360"/>
            <a:ext cx="7921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数的立方根是它本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812000" y="4437000"/>
            <a:ext cx="86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948360" y="501336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164360" y="5013360"/>
            <a:ext cx="7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740720" y="5013360"/>
            <a:ext cx="1081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 txBox="1"/>
          <p:nvPr/>
        </p:nvSpPr>
        <p:spPr>
          <a:xfrm>
            <a:off x="179280" y="189000"/>
            <a:ext cx="280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回顾小结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3" name=""/>
          <p:cNvSpPr/>
          <p:nvPr/>
        </p:nvSpPr>
        <p:spPr>
          <a:xfrm>
            <a:off x="468360" y="1197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方根与立方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39640" y="3933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区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484360" y="2276640"/>
            <a:ext cx="3095640" cy="947160"/>
            <a:chOff x="2484360" y="2276640"/>
            <a:chExt cx="3095640" cy="947160"/>
          </a:xfrm>
        </p:grpSpPr>
        <p:grpSp>
          <p:nvGrpSpPr>
            <p:cNvPr id="666" name=""/>
            <p:cNvGrpSpPr/>
            <p:nvPr/>
          </p:nvGrpSpPr>
          <p:grpSpPr>
            <a:xfrm>
              <a:off x="2484360" y="2276640"/>
              <a:ext cx="3095640" cy="642600"/>
              <a:chOff x="2484360" y="2276640"/>
              <a:chExt cx="3095640" cy="642600"/>
            </a:xfrm>
          </p:grpSpPr>
          <p:sp>
            <p:nvSpPr>
              <p:cNvPr id="667" name=""/>
              <p:cNvSpPr/>
              <p:nvPr/>
            </p:nvSpPr>
            <p:spPr>
              <a:xfrm>
                <a:off x="2484360" y="2276640"/>
                <a:ext cx="309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cc"/>
                    </a:solidFill>
                    <a:latin typeface="Times New Roman"/>
                  </a:rPr>
                  <a:t>记作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</a:rPr>
                  <a:t>:  </a:t>
                </a:r>
                <a:r>
                  <a:rPr b="1" i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1" lang="en-US" sz="3200" spc="-1" strike="noStrike">
                    <a:solidFill>
                      <a:srgbClr val="0000cc"/>
                    </a:solidFill>
                    <a:latin typeface="Times New Roman"/>
                  </a:rPr>
                  <a:t>=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  √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861080" y="241920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4140360" y="2276640"/>
              <a:ext cx="57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±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1116000" y="450864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数都有立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一个数只有一个立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0133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非负数才有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数的平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116000" y="1773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如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就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的平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042920" y="2852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如果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i="1" lang="zh-CN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就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的立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627280" y="3213000"/>
            <a:ext cx="2879640" cy="825480"/>
            <a:chOff x="2627280" y="3213000"/>
            <a:chExt cx="2879640" cy="825480"/>
          </a:xfrm>
        </p:grpSpPr>
        <p:sp>
          <p:nvSpPr>
            <p:cNvPr id="675" name=""/>
            <p:cNvSpPr/>
            <p:nvPr/>
          </p:nvSpPr>
          <p:spPr>
            <a:xfrm>
              <a:off x="2627280" y="3357720"/>
              <a:ext cx="28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记作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: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√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788000" y="3500280"/>
              <a:ext cx="28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0720" y="3213000"/>
              <a:ext cx="3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5364000" y="2276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≥0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908000" y="5516640"/>
            <a:ext cx="44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互为相反数的两个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971640" y="83664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81e5b"/>
                  </a:outerShdw>
                </a:effectLst>
                <a:latin typeface="隶书"/>
              </a:rPr>
              <a:t>思维拓展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981e5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81" name=""/>
          <p:cNvSpPr/>
          <p:nvPr/>
        </p:nvSpPr>
        <p:spPr>
          <a:xfrm>
            <a:off x="1908000" y="2276640"/>
            <a:ext cx="547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立方根是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900000" y="3141720"/>
            <a:ext cx="410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1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700"/>
                            </p:stCondLst>
                            <p:childTnLst>
                              <p:par>
                                <p:cTn id="52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盛龙平</dc:creator>
  <dc:description/>
  <dc:language>en-US</dc:language>
  <cp:lastModifiedBy>User</cp:lastModifiedBy>
  <dcterms:modified xsi:type="dcterms:W3CDTF">2008-08-30T07:01:25Z</dcterms:modified>
  <cp:revision>407</cp:revision>
  <dc:subject>初二数学备课</dc:subject>
  <dc:title>平方根与立方根</dc:title>
</cp:coreProperties>
</file>