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gif" ContentType="image/gif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7CFB8-F84D-42EB-9B27-CC6682B4E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2F5F3-8C3B-4516-89EE-3F1D80410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E9F193-3BB8-4206-A746-62F407FF3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CE2D5D-73BA-4A7F-90E0-C9BD26431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C67A33-B54E-4EA5-B8DB-0205BE316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3B93F8-878F-4761-AF15-04A979216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FA88B8-EF13-4195-9E14-9644D3741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77F265-0419-412A-AFFA-2025DE922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4D5ABE-375F-4CAD-B72A-FC469F1B7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FBE4D5-6C80-4D5C-8641-5C762988D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8B170B-57CC-46AA-87EA-3805F0E52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6CD94-F02D-4D39-B458-3F820D605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D46CB-2352-440D-9C1B-F1A69B986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7F031-AA83-440C-9971-D32C54811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D8F7E-4F89-4D7C-B21E-3AA793F21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3FDA9-CC55-4CB4-84FF-2752378D5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544E2-89A6-420D-8385-7E2FA6257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1E4A5-9D42-4C2A-9672-766EA9FBB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167D4-B57B-42D9-B0F9-7BC5ED6A5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06DD9-E800-4BBF-869E-BBE5840D8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FAFBA-99B4-4A82-A45F-1DA0E79A3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61559-7760-4C38-8A2B-90FD02382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637E4-7DF2-4D3E-A70F-9DBBB5BEB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307D2-BC5D-4FB3-9C3E-4B722436B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18C05-37AF-44A2-8C97-CF75FF327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ACEE0-D3AF-47AF-9E27-C2A9ECCFB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3EAC22-8D4A-4158-AD0C-06A808C2D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ED781F-92FA-42FC-9CD4-25D649F8F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213C1F-2B5F-4A92-B86C-3D5E447A7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F821AA-F937-4E30-ADC6-AFEED6F78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BA18FF-773A-4DFB-8393-8ECC4E50E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144E8-B97A-4B17-ACF8-9B14DBA2F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2A1500-7A74-4134-98EB-593F79BBC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87021A-701A-4D1C-AFB0-74CC169A2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3774A7-30C8-4733-A929-A6236B826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4642EC-F301-4F37-8EB0-175E34021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224082-9A37-4431-A710-E0C0560E4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8B1824-F73E-41D6-971C-09567DAE3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7C8AC7-A117-4A76-8089-A8B7846EC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DD9E29-E716-4311-8605-1BA40F983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DFCCAA-AE34-4875-8704-831B801F3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BF3F74-4857-4783-8E5C-5B2C787DB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E8FB1-E0DD-4741-ACB5-2D655B904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C3C255-43BD-4DE6-A5AA-9409F5114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0750A0-9CDB-4A98-8D57-A3F4A7F2C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A91570-EB79-4DC0-92B2-637AFD234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9C2F1E-DA01-406D-BC6D-753E074F0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99554D-A2B1-486F-B90C-DC9447733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AE2C9A-2588-4093-8D14-898344EE8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F3D7FE-BC17-426A-84B0-7AFFCCF15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E6EF92-107B-4E79-8BCF-285CC1AF4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6AB3C6-2314-4D08-9847-ACE4AC865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70AF77-C28B-451B-902C-C615C802B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691DE-2660-4FB9-B847-B172D7F20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77038A-0E6D-48F4-9918-C2891CC2F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0739A4-6954-4FBD-907D-9D15C2ED6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F8020F-9F15-4465-8D61-2D3781BDD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9C9641-9756-453B-A0FD-FEDADBF87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BEBA44-BF95-416E-B89A-FF591A6B7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DBD6A2-C690-4067-9CA2-C4BE402E5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C20745-B28A-4FD6-B1A7-F9CA7E095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6F7865-4595-450B-8BFF-7018391EF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E89DE3-8679-46A6-B37E-347D63069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CBB2E6-4F67-45B7-8B7C-2B2BB20F2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C09A4-BDD6-4D08-B812-9BAC36C6E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E943A9-47E2-4DF1-A48B-EE0BC0763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D144E5-1CB7-43ED-BE82-E9CF25AD9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1D4A1C-2308-41A1-9739-B184FAE0F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F59492-8465-43D8-B678-88511D2EC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15D056-C94A-44BF-A098-10A3F5ED9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833409-D14E-4B66-B2E8-B4A21FA14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6D2D41-6330-4FB0-B16F-F00735C93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383EF8-9385-4C88-BA0B-432373512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1F3B10-E4AF-4B34-9734-1E910052F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8D5633-E686-499D-AE0C-6D471C8CF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D2FE0-1712-4C56-B5D9-8A0B2CBD6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47ED2B-BB45-4536-B45C-30D0FE574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A2A307-58C6-43C1-8F16-04886ABC8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2CB696-E705-4CB0-9C9D-0AA2FF357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658B1D-2784-4EA5-87AD-1AAEE9456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FE668A-C3D2-4AE5-B2FD-F78A1FE4F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D0FA8E-306A-454B-93CF-1270421B1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3A1964-45E7-4BF1-8F85-8CA04489B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2F08EF-F50D-4B3B-B5CA-D9A0B8F63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3FEC42-ECBA-4352-B7F6-0CB2E3523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05218E-7C87-485C-B24E-2152B084B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FB7AE-43BC-4BF2-A4DC-EBFD04C27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A91444-B15B-4DAD-80DA-BEE3C2782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B2624B-F510-46F4-B5A0-B726E584D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0A3DE4-5587-4A3C-A18A-D10969EF1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F19105-038D-4932-B945-5499469A7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82BDB8-88E1-4CA4-AD12-EEABDF382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15D4741-A318-4BEA-877C-432A11CF5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49C5B9A-09DB-45A3-A55F-4DEA5367F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CE07958-4DF0-4C0E-A21C-A5E91F72B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9F6350C-DF68-422F-92D9-9FA8199E3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BE2236A-711C-4029-BADB-3AB23AC62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9A34C-2FE2-4D02-8449-F90C98FCB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8060900-8ACB-4AA8-A9C3-76DA8DB80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076D3DB-3FFF-4AE3-B079-044551B2A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8EEBAD5-2266-492D-9B37-6A92AAC73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349AD1E-85A6-4B7B-BDB2-29E46CCB1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0A8AC71-B334-47AD-ACB6-5E22517F5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38B1E8C-3188-4C66-95D8-9FA55E94D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FF06922-63FB-4081-9CB2-BDD6C9FEE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72BF66-CD65-4DA0-BBF8-159ABD608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E27ABB-1868-424D-B5E8-7D13BB08C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7C87F1-9BA8-4427-9D62-443DA210C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C67C4-0F00-4890-86EA-2CCDF525179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42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9949C-B3E8-49C5-B6D4-258308F10F8C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89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ACD2B-08F6-4E7D-A4EC-9D51FBBDAD4A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838C9-F1EB-4E4E-B9FE-044CC5D2EC6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dt" idx="13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8EE66-AD80-404C-8D77-27C36FD1EDF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5C6F7-D08C-4463-8BAA-A13EFE496A00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225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4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235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9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2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43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51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252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255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256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7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258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6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96466-A234-4C5F-99C2-1D034EC2352C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8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309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2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313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18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319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2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323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8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ftr" idx="2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ldNum" idx="2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6AD15-EF74-4723-8D3C-64AA69F9303B}" type="slidenum">
              <a:rPr b="0" lang="zh-CN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8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69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 type="dt" idx="2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18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0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421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31" name="PlaceHolder 1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CC20D-202F-42CB-AB7D-27A77B1CF9E9}" type="slidenum">
              <a:rPr b="0" lang="zh-CN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1" name="Picture 36" descr="问09"/>
          <p:cNvPicPr/>
          <p:nvPr/>
        </p:nvPicPr>
        <p:blipFill>
          <a:blip r:embed="rId2"/>
          <a:stretch/>
        </p:blipFill>
        <p:spPr>
          <a:xfrm>
            <a:off x="3421080" y="3429000"/>
            <a:ext cx="790560" cy="720720"/>
          </a:xfrm>
          <a:prstGeom prst="rect">
            <a:avLst/>
          </a:prstGeom>
          <a:ln w="0">
            <a:noFill/>
          </a:ln>
        </p:spPr>
      </p:pic>
      <p:sp>
        <p:nvSpPr>
          <p:cNvPr id="472" name=""/>
          <p:cNvSpPr/>
          <p:nvPr/>
        </p:nvSpPr>
        <p:spPr>
          <a:xfrm rot="4828800">
            <a:off x="1980720" y="2563920"/>
            <a:ext cx="1150920" cy="576360"/>
          </a:xfrm>
          <a:prstGeom prst="rightArrow">
            <a:avLst>
              <a:gd name="adj1" fmla="val 50000"/>
              <a:gd name="adj2" fmla="val 4992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4643280" y="5734080"/>
            <a:ext cx="426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bc"/>
                </a:solidFill>
                <a:latin typeface="Arial"/>
              </a:rPr>
              <a:t>江阴市峭岐中学   盛龙平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395280" y="404640"/>
            <a:ext cx="3505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bc"/>
                </a:solidFill>
                <a:latin typeface="Arial"/>
                <a:ea typeface="华文行楷"/>
              </a:rPr>
              <a:t>初二数学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 txBox="1"/>
          <p:nvPr/>
        </p:nvSpPr>
        <p:spPr>
          <a:xfrm>
            <a:off x="395280" y="549360"/>
            <a:ext cx="8280360" cy="51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5840">
                  <a:solidFill>
                    <a:srgbClr val="ffffff"/>
                  </a:solidFill>
                  <a:prstDash val="dash"/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00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12.1 </a:t>
            </a:r>
            <a:r>
              <a:rPr b="1" lang="zh-CN" sz="2400" spc="1" strike="noStrike">
                <a:ln w="15840">
                  <a:solidFill>
                    <a:srgbClr val="ffffff"/>
                  </a:solidFill>
                  <a:prstDash val="dash"/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00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平方根与立方根</a:t>
            </a:r>
            <a:endParaRPr b="1" lang="en-US" sz="2400" spc="1" strike="noStrike">
              <a:ln w="15840">
                <a:solidFill>
                  <a:srgbClr val="ffffff"/>
                </a:solidFill>
                <a:prstDash val="dash"/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0000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76" name=""/>
          <p:cNvSpPr/>
          <p:nvPr/>
        </p:nvSpPr>
        <p:spPr>
          <a:xfrm>
            <a:off x="826920" y="1341360"/>
            <a:ext cx="22323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4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1908000" y="3213000"/>
            <a:ext cx="22323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7020000" y="4149720"/>
            <a:ext cx="194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00"/>
                </a:solidFill>
                <a:latin typeface="宋体"/>
              </a:rPr>
              <a:t>(</a:t>
            </a:r>
            <a:r>
              <a:rPr b="1" lang="zh-CN" sz="4400" spc="-1" strike="noStrike">
                <a:solidFill>
                  <a:srgbClr val="00ff00"/>
                </a:solidFill>
                <a:latin typeface="宋体"/>
              </a:rPr>
              <a:t>之二</a:t>
            </a:r>
            <a:r>
              <a:rPr b="1" lang="en-US" sz="4400" spc="-1" strike="noStrike">
                <a:solidFill>
                  <a:srgbClr val="00ff00"/>
                </a:solidFill>
                <a:latin typeface="宋体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1" dur="20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"/>
          <p:cNvSpPr txBox="1"/>
          <p:nvPr/>
        </p:nvSpPr>
        <p:spPr>
          <a:xfrm>
            <a:off x="539640" y="476280"/>
            <a:ext cx="34290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936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00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布置作业</a:t>
            </a:r>
            <a:endParaRPr b="1" lang="en-US" sz="6000" spc="1" strike="noStrike">
              <a:ln w="936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0000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757" name=""/>
          <p:cNvSpPr/>
          <p:nvPr/>
        </p:nvSpPr>
        <p:spPr>
          <a:xfrm>
            <a:off x="3059280" y="2637000"/>
            <a:ext cx="3960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0" spc="-1" strike="noStrike">
                <a:solidFill>
                  <a:srgbClr val="ffff00"/>
                </a:solidFill>
                <a:latin typeface="Arial Black"/>
                <a:ea typeface="华文行楷"/>
              </a:rPr>
              <a:t>再 见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  <p:timing>
    <p:tnLst>
      <p:par>
        <p:cTn id="1054" dur="indefinite" restart="never" nodeType="tmRoot">
          <p:childTnLst>
            <p:seq>
              <p:cTn id="1055" dur="indefinite" nodeType="mainSeq">
                <p:childTnLst>
                  <p:par>
                    <p:cTn id="1056" fill="hold">
                      <p:stCondLst>
                        <p:cond delay="0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0" dur="50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1" dur="50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062" dur="1" fill="hold">
                                    <p:stCondLst>
                                      <p:cond evt="end">
                                        <p:tn val="1058"/>
                                      </p:cond>
                                    </p:stCondLst>
                                  </p:cTn>
                                  <p:tgtEl>
                                    <p:spTgt spid="7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63" fill="hold">
                            <p:stCondLst>
                              <p:cond delay="5000"/>
                            </p:stCondLst>
                            <p:childTnLst>
                              <p:par>
                                <p:cTn id="106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"/>
          <p:cNvSpPr/>
          <p:nvPr/>
        </p:nvSpPr>
        <p:spPr>
          <a:xfrm>
            <a:off x="468360" y="1197000"/>
            <a:ext cx="43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11448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平方根的概念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1042920" y="1773360"/>
            <a:ext cx="684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11448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bc"/>
                </a:solidFill>
                <a:latin typeface="Times New Roman"/>
              </a:rPr>
              <a:t>当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2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=a</a:t>
            </a:r>
            <a:r>
              <a:rPr b="1" lang="en-US" sz="3200" spc="-1" strike="noStrike">
                <a:solidFill>
                  <a:srgbClr val="0000bc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cc0066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cc0066"/>
                </a:solidFill>
                <a:latin typeface="Times New Roman"/>
              </a:rPr>
              <a:t>≥0</a:t>
            </a:r>
            <a:r>
              <a:rPr b="1" lang="en-US" sz="3200" spc="-1" strike="noStrike">
                <a:solidFill>
                  <a:srgbClr val="0000bc"/>
                </a:solidFill>
                <a:latin typeface="Times New Roman"/>
              </a:rPr>
              <a:t>)</a:t>
            </a:r>
            <a:r>
              <a:rPr b="1" i="1" lang="zh-CN" sz="3200" spc="-1" strike="noStrike">
                <a:solidFill>
                  <a:srgbClr val="0000bc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bc"/>
                </a:solidFill>
                <a:latin typeface="Times New Roman"/>
              </a:rPr>
              <a:t>时</a:t>
            </a:r>
            <a:r>
              <a:rPr b="1" lang="en-US" sz="3200" spc="-1" strike="noStrike">
                <a:solidFill>
                  <a:srgbClr val="0000bc"/>
                </a:solidFill>
                <a:latin typeface="Times New Roman"/>
              </a:rPr>
              <a:t>, </a:t>
            </a:r>
            <a:r>
              <a:rPr b="1" lang="zh-CN" sz="3200" spc="-1" strike="noStrike">
                <a:solidFill>
                  <a:srgbClr val="0000bc"/>
                </a:solidFill>
                <a:latin typeface="Times New Roman"/>
              </a:rPr>
              <a:t>就称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zh-CN" sz="3200" spc="-1" strike="noStrike">
                <a:solidFill>
                  <a:srgbClr val="0000bc"/>
                </a:solidFill>
                <a:latin typeface="Times New Roman"/>
              </a:rPr>
              <a:t>是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bc"/>
                </a:solidFill>
                <a:latin typeface="Times New Roman"/>
              </a:rPr>
              <a:t>的平方根</a:t>
            </a:r>
            <a:r>
              <a:rPr b="1" lang="en-US" sz="3200" spc="-1" strike="noStrike">
                <a:solidFill>
                  <a:srgbClr val="0000b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539640" y="2924280"/>
            <a:ext cx="496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11448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口答下列数的平方根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2" name=""/>
          <p:cNvGrpSpPr/>
          <p:nvPr/>
        </p:nvGrpSpPr>
        <p:grpSpPr>
          <a:xfrm>
            <a:off x="1187280" y="2349360"/>
            <a:ext cx="2952720" cy="520560"/>
            <a:chOff x="1187280" y="2349360"/>
            <a:chExt cx="2952720" cy="520560"/>
          </a:xfrm>
        </p:grpSpPr>
        <p:sp>
          <p:nvSpPr>
            <p:cNvPr id="483" name=""/>
            <p:cNvSpPr/>
            <p:nvPr/>
          </p:nvSpPr>
          <p:spPr>
            <a:xfrm>
              <a:off x="1187280" y="2349360"/>
              <a:ext cx="2952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114480"/>
                  <a:tab algn="l" pos="343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bc"/>
                  </a:solidFill>
                  <a:latin typeface="Times New Roman"/>
                </a:rPr>
                <a:t>记作</a:t>
              </a:r>
              <a:r>
                <a:rPr b="1" lang="en-US" sz="2800" spc="-1" strike="noStrike">
                  <a:solidFill>
                    <a:srgbClr val="0000bc"/>
                  </a:solidFill>
                  <a:latin typeface="Times New Roman"/>
                </a:rPr>
                <a:t>: 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x=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±</a:t>
              </a:r>
              <a:r>
                <a:rPr b="1" i="1" lang="zh-CN" sz="2800" spc="-1" strike="noStrike">
                  <a:solidFill>
                    <a:srgbClr val="ff0000"/>
                  </a:solidFill>
                  <a:latin typeface="Times New Roman"/>
                </a:rPr>
                <a:t>　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4" name=""/>
            <p:cNvGrpSpPr/>
            <p:nvPr/>
          </p:nvGrpSpPr>
          <p:grpSpPr>
            <a:xfrm>
              <a:off x="2771640" y="2349360"/>
              <a:ext cx="1224000" cy="520560"/>
              <a:chOff x="2771640" y="2349360"/>
              <a:chExt cx="1224000" cy="520560"/>
            </a:xfrm>
          </p:grpSpPr>
          <p:sp>
            <p:nvSpPr>
              <p:cNvPr id="485" name=""/>
              <p:cNvSpPr/>
              <p:nvPr/>
            </p:nvSpPr>
            <p:spPr>
              <a:xfrm>
                <a:off x="2771640" y="2349360"/>
                <a:ext cx="1224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tabLst>
                    <a:tab algn="l" pos="0"/>
                    <a:tab algn="l" pos="114480"/>
                    <a:tab algn="l" pos="3430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√</a:t>
                </a:r>
                <a:r>
                  <a:rPr b="1" i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3203280" y="2499840"/>
                <a:ext cx="28908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87" name=""/>
          <p:cNvSpPr txBox="1"/>
          <p:nvPr/>
        </p:nvSpPr>
        <p:spPr>
          <a:xfrm>
            <a:off x="324000" y="404640"/>
            <a:ext cx="3024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0">
                  <a:noFill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58008d"/>
                  </a:outerShdw>
                </a:effectLst>
                <a:latin typeface="华文彩云"/>
              </a:rPr>
              <a:t>知识回顾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58008d"/>
                </a:outerShdw>
              </a:effectLst>
              <a:latin typeface="华文彩云"/>
              <a:ea typeface="华文彩云"/>
            </a:endParaRPr>
          </a:p>
        </p:txBody>
      </p:sp>
      <p:grpSp>
        <p:nvGrpSpPr>
          <p:cNvPr id="488" name=""/>
          <p:cNvGrpSpPr/>
          <p:nvPr/>
        </p:nvGrpSpPr>
        <p:grpSpPr>
          <a:xfrm>
            <a:off x="5292720" y="2781360"/>
            <a:ext cx="3311640" cy="863280"/>
            <a:chOff x="5292720" y="2781360"/>
            <a:chExt cx="3311640" cy="863280"/>
          </a:xfrm>
        </p:grpSpPr>
        <p:sp>
          <p:nvSpPr>
            <p:cNvPr id="489" name=""/>
            <p:cNvSpPr/>
            <p:nvPr/>
          </p:nvSpPr>
          <p:spPr>
            <a:xfrm>
              <a:off x="5292720" y="2924280"/>
              <a:ext cx="3311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114480"/>
                  <a:tab algn="l" pos="343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bc"/>
                  </a:solidFill>
                  <a:latin typeface="Times New Roman"/>
                </a:rPr>
                <a:t>0.36</a:t>
              </a:r>
              <a:r>
                <a:rPr b="1" lang="zh-CN" sz="2800" spc="-1" strike="noStrike">
                  <a:solidFill>
                    <a:srgbClr val="0000bc"/>
                  </a:solidFill>
                  <a:latin typeface="Times New Roman"/>
                </a:rPr>
                <a:t>、       、</a:t>
              </a:r>
              <a:r>
                <a:rPr b="1" lang="en-US" sz="2800" spc="-1" strike="noStrike">
                  <a:solidFill>
                    <a:srgbClr val="0000bc"/>
                  </a:solidFill>
                  <a:latin typeface="Times New Roman"/>
                </a:rPr>
                <a:t>0</a:t>
              </a:r>
              <a:r>
                <a:rPr b="1" lang="zh-CN" sz="2800" spc="-1" strike="noStrike">
                  <a:solidFill>
                    <a:srgbClr val="0000bc"/>
                  </a:solidFill>
                  <a:latin typeface="Times New Roman"/>
                </a:rPr>
                <a:t>、</a:t>
              </a:r>
              <a:r>
                <a:rPr b="1" lang="en-US" sz="2800" spc="-1" strike="noStrike">
                  <a:solidFill>
                    <a:srgbClr val="0000bc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0" name=""/>
            <p:cNvGrpSpPr/>
            <p:nvPr/>
          </p:nvGrpSpPr>
          <p:grpSpPr>
            <a:xfrm>
              <a:off x="6300720" y="2781360"/>
              <a:ext cx="576360" cy="863280"/>
              <a:chOff x="6300720" y="2781360"/>
              <a:chExt cx="576360" cy="863280"/>
            </a:xfrm>
          </p:grpSpPr>
          <p:sp>
            <p:nvSpPr>
              <p:cNvPr id="491" name=""/>
              <p:cNvSpPr/>
              <p:nvPr/>
            </p:nvSpPr>
            <p:spPr>
              <a:xfrm>
                <a:off x="6300720" y="2781360"/>
                <a:ext cx="576360" cy="50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Times New Roman"/>
                  </a:rPr>
                  <a:t>25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6372360" y="3213000"/>
                <a:ext cx="431640" cy="0"/>
              </a:xfrm>
              <a:prstGeom prst="line">
                <a:avLst/>
              </a:prstGeom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6300720" y="3139920"/>
                <a:ext cx="576360" cy="504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Times New Roman"/>
                  </a:rPr>
                  <a:t>12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94" name=""/>
          <p:cNvSpPr/>
          <p:nvPr/>
        </p:nvSpPr>
        <p:spPr>
          <a:xfrm>
            <a:off x="539640" y="3573360"/>
            <a:ext cx="496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11448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平方根的情况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900000" y="4292640"/>
            <a:ext cx="46818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bc"/>
                </a:solidFill>
                <a:latin typeface="Times New Roman"/>
              </a:rPr>
              <a:t>⑴</a:t>
            </a:r>
            <a:r>
              <a:rPr b="1" lang="zh-CN" sz="2800" spc="-1" strike="noStrike">
                <a:solidFill>
                  <a:srgbClr val="0000bc"/>
                </a:solidFill>
                <a:latin typeface="Times New Roman"/>
              </a:rPr>
              <a:t>一个正数的平方根有两个</a:t>
            </a:r>
            <a:r>
              <a:rPr b="1" lang="en-US" sz="2800" spc="-1" strike="noStrike">
                <a:solidFill>
                  <a:srgbClr val="0000bc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5437080" y="4292640"/>
            <a:ext cx="30974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bc"/>
                </a:solidFill>
                <a:latin typeface="Times New Roman"/>
              </a:rPr>
              <a:t>它们是互为相反数</a:t>
            </a:r>
            <a:r>
              <a:rPr b="1" lang="en-US" sz="2800" spc="-1" strike="noStrike">
                <a:solidFill>
                  <a:srgbClr val="0000bc"/>
                </a:solidFill>
                <a:latin typeface="Times New Roman"/>
              </a:rPr>
              <a:t>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900000" y="4869000"/>
            <a:ext cx="43214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bc"/>
                </a:solidFill>
                <a:latin typeface="Times New Roman"/>
              </a:rPr>
              <a:t>⑵ </a:t>
            </a:r>
            <a:r>
              <a:rPr b="1" lang="en-US" sz="2800" spc="-1" strike="noStrike">
                <a:solidFill>
                  <a:srgbClr val="0000bc"/>
                </a:solidFill>
                <a:latin typeface="Times New Roman"/>
              </a:rPr>
              <a:t>0</a:t>
            </a:r>
            <a:r>
              <a:rPr b="1" lang="zh-CN" sz="2800" spc="-1" strike="noStrike">
                <a:solidFill>
                  <a:srgbClr val="0000bc"/>
                </a:solidFill>
                <a:latin typeface="Times New Roman"/>
              </a:rPr>
              <a:t>的平方根只有一个</a:t>
            </a:r>
            <a:r>
              <a:rPr b="1" lang="en-US" sz="2800" spc="-1" strike="noStrike">
                <a:solidFill>
                  <a:srgbClr val="0000bc"/>
                </a:solidFill>
                <a:latin typeface="Times New Roman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4573440" y="4869000"/>
            <a:ext cx="30974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bc"/>
                </a:solidFill>
                <a:latin typeface="Times New Roman"/>
              </a:rPr>
              <a:t>就是它本身</a:t>
            </a:r>
            <a:r>
              <a:rPr b="1" lang="en-US" sz="2800" spc="-1" strike="noStrike">
                <a:solidFill>
                  <a:srgbClr val="0000bc"/>
                </a:solidFill>
                <a:latin typeface="Times New Roman"/>
              </a:rPr>
              <a:t>0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900000" y="5445000"/>
            <a:ext cx="43214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bc"/>
                </a:solidFill>
                <a:latin typeface="Times New Roman"/>
              </a:rPr>
              <a:t>⑶</a:t>
            </a:r>
            <a:r>
              <a:rPr b="1" lang="zh-CN" sz="2800" spc="-1" strike="noStrike">
                <a:solidFill>
                  <a:srgbClr val="0000bc"/>
                </a:solidFill>
                <a:latin typeface="Times New Roman"/>
              </a:rPr>
              <a:t>负数没有平方根</a:t>
            </a:r>
            <a:r>
              <a:rPr b="1" lang="en-US" sz="2800" spc="-1" strike="noStrike">
                <a:solidFill>
                  <a:srgbClr val="0000bc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0" name=""/>
          <p:cNvGrpSpPr/>
          <p:nvPr/>
        </p:nvGrpSpPr>
        <p:grpSpPr>
          <a:xfrm>
            <a:off x="5076720" y="2349360"/>
            <a:ext cx="2519280" cy="520560"/>
            <a:chOff x="5076720" y="2349360"/>
            <a:chExt cx="2519280" cy="520560"/>
          </a:xfrm>
        </p:grpSpPr>
        <p:sp>
          <p:nvSpPr>
            <p:cNvPr id="501" name=""/>
            <p:cNvSpPr/>
            <p:nvPr/>
          </p:nvSpPr>
          <p:spPr>
            <a:xfrm>
              <a:off x="5076720" y="2349360"/>
              <a:ext cx="2376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114480"/>
                  <a:tab algn="l" pos="343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得</a:t>
              </a:r>
              <a:r>
                <a:rPr b="1" lang="en-US" sz="2800" spc="-1" strike="noStrike">
                  <a:solidFill>
                    <a:srgbClr val="0000bc"/>
                  </a:solidFill>
                  <a:latin typeface="Times New Roman"/>
                </a:rPr>
                <a:t>  </a:t>
              </a:r>
              <a:r>
                <a:rPr b="1" i="1" lang="en-US" sz="2800" spc="-1" strike="noStrike">
                  <a:solidFill>
                    <a:srgbClr val="cc0066"/>
                  </a:solidFill>
                  <a:latin typeface="Times New Roman"/>
                </a:rPr>
                <a:t>x=</a:t>
              </a:r>
              <a:r>
                <a:rPr b="1" lang="en-US" sz="2400" spc="-1" strike="noStrike">
                  <a:solidFill>
                    <a:srgbClr val="cc0066"/>
                  </a:solidFill>
                  <a:latin typeface="Times New Roman"/>
                </a:rPr>
                <a:t>±</a:t>
              </a:r>
              <a:r>
                <a:rPr b="1" i="1" lang="zh-CN" sz="2800" spc="-1" strike="noStrike">
                  <a:solidFill>
                    <a:srgbClr val="ff0000"/>
                  </a:solidFill>
                  <a:latin typeface="Times New Roman"/>
                </a:rPr>
                <a:t>　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2" name=""/>
            <p:cNvGrpSpPr/>
            <p:nvPr/>
          </p:nvGrpSpPr>
          <p:grpSpPr>
            <a:xfrm>
              <a:off x="6372000" y="2349360"/>
              <a:ext cx="1224000" cy="520560"/>
              <a:chOff x="6372000" y="2349360"/>
              <a:chExt cx="1224000" cy="520560"/>
            </a:xfrm>
          </p:grpSpPr>
          <p:sp>
            <p:nvSpPr>
              <p:cNvPr id="503" name=""/>
              <p:cNvSpPr/>
              <p:nvPr/>
            </p:nvSpPr>
            <p:spPr>
              <a:xfrm>
                <a:off x="6372000" y="2349360"/>
                <a:ext cx="1224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tabLst>
                    <a:tab algn="l" pos="0"/>
                    <a:tab algn="l" pos="114480"/>
                    <a:tab algn="l" pos="3430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cc0066"/>
                    </a:solidFill>
                    <a:latin typeface="Times New Roman"/>
                  </a:rPr>
                  <a:t>√</a:t>
                </a:r>
                <a:r>
                  <a:rPr b="1" lang="en-US" sz="2400" spc="-1" strike="noStrike">
                    <a:solidFill>
                      <a:srgbClr val="cc0066"/>
                    </a:solidFill>
                    <a:latin typeface="Times New Roman"/>
                  </a:rPr>
                  <a:t>49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6875280" y="2493720"/>
                <a:ext cx="287280" cy="0"/>
              </a:xfrm>
              <a:prstGeom prst="line">
                <a:avLst/>
              </a:prstGeom>
              <a:ln w="28440">
                <a:solidFill>
                  <a:srgbClr val="cc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05" name=""/>
          <p:cNvSpPr/>
          <p:nvPr/>
        </p:nvSpPr>
        <p:spPr>
          <a:xfrm>
            <a:off x="3348000" y="2349360"/>
            <a:ext cx="201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11448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bc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例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en-US" sz="2800" spc="-1" strike="noStrike">
                <a:solidFill>
                  <a:srgbClr val="0000b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cc0066"/>
                </a:solidFill>
                <a:latin typeface="Times New Roman"/>
              </a:rPr>
              <a:t>x</a:t>
            </a:r>
            <a:r>
              <a:rPr b="1" lang="en-US" sz="2800" spc="-1" strike="noStrike" baseline="30000">
                <a:solidFill>
                  <a:srgbClr val="cc0066"/>
                </a:solidFill>
                <a:latin typeface="Times New Roman"/>
              </a:rPr>
              <a:t>2</a:t>
            </a:r>
            <a:r>
              <a:rPr b="1" i="1" lang="en-US" sz="2800" spc="-1" strike="noStrike">
                <a:solidFill>
                  <a:srgbClr val="cc0066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cc0066"/>
                </a:solidFill>
                <a:latin typeface="Times New Roman"/>
              </a:rPr>
              <a:t>49</a:t>
            </a:r>
            <a:r>
              <a:rPr b="1" i="1" lang="zh-CN" sz="2800" spc="-1" strike="noStrike">
                <a:solidFill>
                  <a:srgbClr val="ff0000"/>
                </a:solidFill>
                <a:latin typeface="Times New Roman"/>
              </a:rPr>
              <a:t>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164360" y="2349360"/>
            <a:ext cx="115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11448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66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cc0066"/>
                </a:solidFill>
                <a:latin typeface="Times New Roman"/>
              </a:rPr>
              <a:t>±7</a:t>
            </a:r>
            <a:r>
              <a:rPr b="1" lang="en-US" sz="2800" spc="-1" strike="noStrike">
                <a:solidFill>
                  <a:srgbClr val="0000bc"/>
                </a:solidFill>
                <a:latin typeface="Times New Roman"/>
              </a:rPr>
              <a:t>)</a:t>
            </a:r>
            <a:r>
              <a:rPr b="1" i="1" lang="zh-CN" sz="2800" spc="-1" strike="noStrike">
                <a:solidFill>
                  <a:srgbClr val="ff0000"/>
                </a:solidFill>
                <a:latin typeface="Times New Roman"/>
              </a:rPr>
              <a:t>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newsflash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10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10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10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10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 txBox="1"/>
          <p:nvPr/>
        </p:nvSpPr>
        <p:spPr>
          <a:xfrm>
            <a:off x="324000" y="620640"/>
            <a:ext cx="3240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0">
                  <a:noFill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58008d"/>
                  </a:outerShdw>
                </a:effectLst>
                <a:latin typeface="华文彩云"/>
              </a:rPr>
              <a:t>新知概念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58008d"/>
                </a:outerShdw>
              </a:effectLst>
              <a:latin typeface="华文彩云"/>
              <a:ea typeface="华文彩云"/>
            </a:endParaRPr>
          </a:p>
        </p:txBody>
      </p:sp>
      <p:sp>
        <p:nvSpPr>
          <p:cNvPr id="508" name=""/>
          <p:cNvSpPr/>
          <p:nvPr/>
        </p:nvSpPr>
        <p:spPr>
          <a:xfrm>
            <a:off x="1258920" y="1628640"/>
            <a:ext cx="77058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正数 </a:t>
            </a:r>
            <a:r>
              <a:rPr b="1" i="1" lang="en-US" sz="4000" spc="-1" strike="noStrike">
                <a:solidFill>
                  <a:srgbClr val="ff0000"/>
                </a:solidFill>
                <a:latin typeface="Times New Roman"/>
              </a:rPr>
              <a:t>a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的</a:t>
            </a:r>
            <a:r>
              <a:rPr b="1" lang="zh-CN" sz="4000" spc="-1" strike="noStrike">
                <a:solidFill>
                  <a:srgbClr val="dc5900"/>
                </a:solidFill>
                <a:latin typeface="Times New Roman"/>
              </a:rPr>
              <a:t>正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的平方根叫做</a:t>
            </a:r>
            <a:r>
              <a:rPr b="1" i="1" lang="en-US" sz="4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的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算术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395280" y="2349360"/>
            <a:ext cx="3095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平方根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0" name=""/>
          <p:cNvGrpSpPr/>
          <p:nvPr/>
        </p:nvGrpSpPr>
        <p:grpSpPr>
          <a:xfrm>
            <a:off x="2484360" y="2349360"/>
            <a:ext cx="3024360" cy="642600"/>
            <a:chOff x="2484360" y="2349360"/>
            <a:chExt cx="3024360" cy="642600"/>
          </a:xfrm>
        </p:grpSpPr>
        <p:sp>
          <p:nvSpPr>
            <p:cNvPr id="511" name=""/>
            <p:cNvSpPr/>
            <p:nvPr/>
          </p:nvSpPr>
          <p:spPr>
            <a:xfrm>
              <a:off x="2484360" y="2349360"/>
              <a:ext cx="3024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114480"/>
                  <a:tab algn="l" pos="343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bc"/>
                  </a:solidFill>
                  <a:latin typeface="Times New Roman"/>
                </a:rPr>
                <a:t>记作</a:t>
              </a:r>
              <a:r>
                <a:rPr b="1" lang="en-US" sz="3600" spc="-1" strike="noStrike">
                  <a:solidFill>
                    <a:srgbClr val="0000bc"/>
                  </a:solidFill>
                  <a:latin typeface="Times New Roman"/>
                </a:rPr>
                <a:t>:  </a:t>
              </a:r>
              <a:r>
                <a:rPr b="1" i="1" lang="zh-CN" sz="3600" spc="-1" strike="noStrike">
                  <a:solidFill>
                    <a:srgbClr val="ff0000"/>
                  </a:solidFill>
                  <a:latin typeface="Times New Roman"/>
                </a:rPr>
                <a:t>　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2" name=""/>
            <p:cNvGrpSpPr/>
            <p:nvPr/>
          </p:nvGrpSpPr>
          <p:grpSpPr>
            <a:xfrm>
              <a:off x="3564000" y="2349360"/>
              <a:ext cx="1224000" cy="642600"/>
              <a:chOff x="3564000" y="2349360"/>
              <a:chExt cx="1224000" cy="642600"/>
            </a:xfrm>
          </p:grpSpPr>
          <p:sp>
            <p:nvSpPr>
              <p:cNvPr id="513" name=""/>
              <p:cNvSpPr/>
              <p:nvPr/>
            </p:nvSpPr>
            <p:spPr>
              <a:xfrm>
                <a:off x="3564000" y="2349360"/>
                <a:ext cx="1224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tabLst>
                    <a:tab algn="l" pos="0"/>
                    <a:tab algn="l" pos="114480"/>
                    <a:tab algn="l" pos="3430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600" spc="-1" strike="noStrike">
                    <a:solidFill>
                      <a:srgbClr val="ff0000"/>
                    </a:solidFill>
                    <a:latin typeface="Times New Roman"/>
                  </a:rPr>
                  <a:t>√</a:t>
                </a:r>
                <a:r>
                  <a:rPr b="1" i="1" lang="en-US" sz="3600" spc="-1" strike="noStrike">
                    <a:solidFill>
                      <a:srgbClr val="ff0000"/>
                    </a:solidFill>
                    <a:latin typeface="Times New Roman"/>
                  </a:rPr>
                  <a:t>a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4140360" y="2492280"/>
                <a:ext cx="28872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15" name=""/>
          <p:cNvSpPr/>
          <p:nvPr/>
        </p:nvSpPr>
        <p:spPr>
          <a:xfrm>
            <a:off x="4572000" y="2349360"/>
            <a:ext cx="403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99"/>
                </a:solidFill>
                <a:latin typeface="Times New Roman"/>
              </a:rPr>
              <a:t>,  </a:t>
            </a:r>
            <a:r>
              <a:rPr b="1" lang="zh-CN" sz="3600" spc="-1" strike="noStrike">
                <a:solidFill>
                  <a:srgbClr val="003399"/>
                </a:solidFill>
                <a:latin typeface="Times New Roman"/>
              </a:rPr>
              <a:t>读作：</a:t>
            </a:r>
            <a:r>
              <a:rPr b="1" lang="zh-CN" sz="3600" spc="-1" strike="noStrike">
                <a:solidFill>
                  <a:srgbClr val="dc5900"/>
                </a:solidFill>
                <a:latin typeface="Times New Roman"/>
              </a:rPr>
              <a:t>根号</a:t>
            </a:r>
            <a:r>
              <a:rPr b="1" i="1" lang="en-US" sz="4000" spc="-1" strike="noStrike">
                <a:solidFill>
                  <a:srgbClr val="ff0000"/>
                </a:solidFill>
                <a:latin typeface="Times New Roman"/>
              </a:rPr>
              <a:t>a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6" name=""/>
          <p:cNvGrpSpPr/>
          <p:nvPr/>
        </p:nvGrpSpPr>
        <p:grpSpPr>
          <a:xfrm>
            <a:off x="539640" y="2924280"/>
            <a:ext cx="8172720" cy="715320"/>
            <a:chOff x="539640" y="2924280"/>
            <a:chExt cx="8172720" cy="715320"/>
          </a:xfrm>
        </p:grpSpPr>
        <p:sp>
          <p:nvSpPr>
            <p:cNvPr id="517" name=""/>
            <p:cNvSpPr/>
            <p:nvPr/>
          </p:nvSpPr>
          <p:spPr>
            <a:xfrm>
              <a:off x="539640" y="2995560"/>
              <a:ext cx="817272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这样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,  </a:t>
              </a:r>
              <a:r>
                <a:rPr b="1" i="1" lang="en-US" sz="3200" spc="-1" strike="noStrike">
                  <a:solidFill>
                    <a:srgbClr val="ff0000"/>
                  </a:solidFill>
                  <a:latin typeface="Times New Roman"/>
                </a:rPr>
                <a:t>a 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的另一个平方根就是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8" name=""/>
            <p:cNvGrpSpPr/>
            <p:nvPr/>
          </p:nvGrpSpPr>
          <p:grpSpPr>
            <a:xfrm>
              <a:off x="5867280" y="2924280"/>
              <a:ext cx="1224000" cy="715320"/>
              <a:chOff x="5867280" y="2924280"/>
              <a:chExt cx="1224000" cy="715320"/>
            </a:xfrm>
          </p:grpSpPr>
          <p:grpSp>
            <p:nvGrpSpPr>
              <p:cNvPr id="519" name=""/>
              <p:cNvGrpSpPr/>
              <p:nvPr/>
            </p:nvGrpSpPr>
            <p:grpSpPr>
              <a:xfrm>
                <a:off x="5867280" y="2997000"/>
                <a:ext cx="1224000" cy="642600"/>
                <a:chOff x="5867280" y="2997000"/>
                <a:chExt cx="1224000" cy="642600"/>
              </a:xfrm>
            </p:grpSpPr>
            <p:sp>
              <p:nvSpPr>
                <p:cNvPr id="520" name=""/>
                <p:cNvSpPr/>
                <p:nvPr/>
              </p:nvSpPr>
              <p:spPr>
                <a:xfrm>
                  <a:off x="5867280" y="2997000"/>
                  <a:ext cx="122400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just">
                    <a:tabLst>
                      <a:tab algn="l" pos="0"/>
                      <a:tab algn="l" pos="114480"/>
                      <a:tab algn="l" pos="34308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3600" spc="-1" strike="noStrike">
                      <a:solidFill>
                        <a:srgbClr val="ff0000"/>
                      </a:solidFill>
                      <a:latin typeface="Times New Roman"/>
                    </a:rPr>
                    <a:t>√</a:t>
                  </a:r>
                  <a:r>
                    <a:rPr b="1" i="1" lang="en-US" sz="3600" spc="-1" strike="noStrike">
                      <a:solidFill>
                        <a:srgbClr val="ff0000"/>
                      </a:solidFill>
                      <a:latin typeface="Times New Roman"/>
                    </a:rPr>
                    <a:t>a</a:t>
                  </a: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1" name=""/>
                <p:cNvSpPr/>
                <p:nvPr/>
              </p:nvSpPr>
              <p:spPr>
                <a:xfrm>
                  <a:off x="6443640" y="3139560"/>
                  <a:ext cx="288720" cy="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22" name=""/>
              <p:cNvSpPr/>
              <p:nvPr/>
            </p:nvSpPr>
            <p:spPr>
              <a:xfrm>
                <a:off x="5867280" y="2924280"/>
                <a:ext cx="1224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tabLst>
                    <a:tab algn="l" pos="0"/>
                    <a:tab algn="l" pos="114480"/>
                    <a:tab algn="l" pos="3430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600" spc="-1" strike="noStrike">
                    <a:solidFill>
                      <a:srgbClr val="ff0000"/>
                    </a:solidFill>
                    <a:latin typeface="Times New Roman"/>
                  </a:rPr>
                  <a:t>-</a:t>
                </a:r>
                <a:r>
                  <a:rPr b="1" i="1" lang="zh-CN" sz="3600" spc="-1" strike="noStrike">
                    <a:solidFill>
                      <a:srgbClr val="ff0000"/>
                    </a:solidFill>
                    <a:latin typeface="Times New Roman"/>
                  </a:rPr>
                  <a:t>　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23" name=""/>
          <p:cNvGrpSpPr/>
          <p:nvPr/>
        </p:nvGrpSpPr>
        <p:grpSpPr>
          <a:xfrm>
            <a:off x="611280" y="3645000"/>
            <a:ext cx="8172360" cy="642600"/>
            <a:chOff x="611280" y="3645000"/>
            <a:chExt cx="8172360" cy="642600"/>
          </a:xfrm>
        </p:grpSpPr>
        <p:sp>
          <p:nvSpPr>
            <p:cNvPr id="524" name=""/>
            <p:cNvSpPr/>
            <p:nvPr/>
          </p:nvSpPr>
          <p:spPr>
            <a:xfrm>
              <a:off x="611280" y="3645000"/>
              <a:ext cx="8172360" cy="57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其中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“      ”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表示开平方的运算符号，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5" name=""/>
            <p:cNvGrpSpPr/>
            <p:nvPr/>
          </p:nvGrpSpPr>
          <p:grpSpPr>
            <a:xfrm>
              <a:off x="1618920" y="3645000"/>
              <a:ext cx="1223640" cy="642600"/>
              <a:chOff x="1618920" y="3645000"/>
              <a:chExt cx="1223640" cy="642600"/>
            </a:xfrm>
          </p:grpSpPr>
          <p:sp>
            <p:nvSpPr>
              <p:cNvPr id="526" name=""/>
              <p:cNvSpPr/>
              <p:nvPr/>
            </p:nvSpPr>
            <p:spPr>
              <a:xfrm>
                <a:off x="1618920" y="3645000"/>
                <a:ext cx="12236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tabLst>
                    <a:tab algn="l" pos="0"/>
                    <a:tab algn="l" pos="114480"/>
                    <a:tab algn="l" pos="3430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600" spc="-1" strike="noStrike">
                    <a:solidFill>
                      <a:srgbClr val="ff0000"/>
                    </a:solidFill>
                    <a:latin typeface="Times New Roman"/>
                  </a:rPr>
                  <a:t>√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2194920" y="3789000"/>
                <a:ext cx="28836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28" name=""/>
          <p:cNvSpPr/>
          <p:nvPr/>
        </p:nvSpPr>
        <p:spPr>
          <a:xfrm>
            <a:off x="1835280" y="4292640"/>
            <a:ext cx="3673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称为被开方数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826920" y="4869000"/>
            <a:ext cx="69850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注：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1.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被开方数应为非负数的条件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0" name=""/>
          <p:cNvGrpSpPr/>
          <p:nvPr/>
        </p:nvGrpSpPr>
        <p:grpSpPr>
          <a:xfrm>
            <a:off x="1619280" y="5373720"/>
            <a:ext cx="6265800" cy="642600"/>
            <a:chOff x="1619280" y="5373720"/>
            <a:chExt cx="6265800" cy="642600"/>
          </a:xfrm>
        </p:grpSpPr>
        <p:sp>
          <p:nvSpPr>
            <p:cNvPr id="531" name=""/>
            <p:cNvSpPr/>
            <p:nvPr/>
          </p:nvSpPr>
          <p:spPr>
            <a:xfrm>
              <a:off x="1619280" y="5373720"/>
              <a:ext cx="626580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cc"/>
                  </a:solidFill>
                  <a:latin typeface="Times New Roman"/>
                </a:rPr>
                <a:t>2.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zh-CN" sz="3200" spc="-1" strike="noStrike">
                  <a:solidFill>
                    <a:srgbClr val="0000cc"/>
                  </a:solidFill>
                  <a:latin typeface="Times New Roman"/>
                </a:rPr>
                <a:t>            </a:t>
              </a:r>
              <a:r>
                <a:rPr b="1" lang="zh-CN" sz="3200" spc="-1" strike="noStrike">
                  <a:solidFill>
                    <a:srgbClr val="0000cc"/>
                  </a:solidFill>
                  <a:latin typeface="Times New Roman"/>
                </a:rPr>
                <a:t>也称为</a:t>
              </a:r>
              <a:r>
                <a:rPr b="1" lang="en-US" sz="3200" spc="-1" strike="noStrike">
                  <a:solidFill>
                    <a:srgbClr val="0000cc"/>
                  </a:solidFill>
                  <a:latin typeface="Times New Roman"/>
                </a:rPr>
                <a:t>0</a:t>
              </a:r>
              <a:r>
                <a:rPr b="1" lang="zh-CN" sz="3200" spc="-1" strike="noStrike">
                  <a:solidFill>
                    <a:srgbClr val="0000cc"/>
                  </a:solidFill>
                  <a:latin typeface="Times New Roman"/>
                </a:rPr>
                <a:t>的算术平方根</a:t>
              </a:r>
              <a:r>
                <a:rPr b="1" lang="en-US" sz="3200" spc="-1" strike="noStrike">
                  <a:solidFill>
                    <a:srgbClr val="0000cc"/>
                  </a:solidFill>
                  <a:latin typeface="Times New Roman"/>
                </a:rPr>
                <a:t>.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32" name=""/>
            <p:cNvGrpSpPr/>
            <p:nvPr/>
          </p:nvGrpSpPr>
          <p:grpSpPr>
            <a:xfrm>
              <a:off x="1835280" y="5373720"/>
              <a:ext cx="1726920" cy="642600"/>
              <a:chOff x="1835280" y="5373720"/>
              <a:chExt cx="1726920" cy="642600"/>
            </a:xfrm>
          </p:grpSpPr>
          <p:sp>
            <p:nvSpPr>
              <p:cNvPr id="533" name=""/>
              <p:cNvSpPr/>
              <p:nvPr/>
            </p:nvSpPr>
            <p:spPr>
              <a:xfrm>
                <a:off x="1835280" y="5373720"/>
                <a:ext cx="17269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tabLst>
                    <a:tab algn="l" pos="0"/>
                    <a:tab algn="l" pos="114480"/>
                    <a:tab algn="l" pos="3430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600" spc="-1" strike="noStrike">
                    <a:solidFill>
                      <a:srgbClr val="ff0000"/>
                    </a:solidFill>
                    <a:latin typeface="Times New Roman"/>
                  </a:rPr>
                  <a:t>√</a:t>
                </a:r>
                <a:r>
                  <a:rPr b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0  =0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2411280" y="5516640"/>
                <a:ext cx="289080" cy="14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>
    <p:cover dir="u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3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4000"/>
                            </p:stCondLst>
                            <p:childTnLst>
                              <p:par>
                                <p:cTn id="1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3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3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1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1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1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/>
          <p:nvPr/>
        </p:nvSpPr>
        <p:spPr>
          <a:xfrm>
            <a:off x="395280" y="333360"/>
            <a:ext cx="1511280" cy="64764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例练</a:t>
            </a:r>
            <a:r>
              <a:rPr b="1" lang="en-US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684360" y="1052640"/>
            <a:ext cx="61927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求下列各数的算术平方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1116000" y="1700280"/>
            <a:ext cx="763272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⑴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96                   ⑵ 0.09                    ⑶ 0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⑷                          ⑸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                         ⑹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8" name=""/>
          <p:cNvGrpSpPr/>
          <p:nvPr/>
        </p:nvGrpSpPr>
        <p:grpSpPr>
          <a:xfrm>
            <a:off x="1692360" y="2349360"/>
            <a:ext cx="576000" cy="863280"/>
            <a:chOff x="1692360" y="2349360"/>
            <a:chExt cx="576000" cy="863280"/>
          </a:xfrm>
        </p:grpSpPr>
        <p:sp>
          <p:nvSpPr>
            <p:cNvPr id="539" name=""/>
            <p:cNvSpPr/>
            <p:nvPr/>
          </p:nvSpPr>
          <p:spPr>
            <a:xfrm>
              <a:off x="1692360" y="2349360"/>
              <a:ext cx="57600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2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63640" y="2781000"/>
              <a:ext cx="431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1692360" y="2707920"/>
              <a:ext cx="576000" cy="50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22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2" name=""/>
          <p:cNvGrpSpPr/>
          <p:nvPr/>
        </p:nvGrpSpPr>
        <p:grpSpPr>
          <a:xfrm>
            <a:off x="4427640" y="2349360"/>
            <a:ext cx="504720" cy="863280"/>
            <a:chOff x="4427640" y="2349360"/>
            <a:chExt cx="504720" cy="863280"/>
          </a:xfrm>
        </p:grpSpPr>
        <p:sp>
          <p:nvSpPr>
            <p:cNvPr id="543" name=""/>
            <p:cNvSpPr/>
            <p:nvPr/>
          </p:nvSpPr>
          <p:spPr>
            <a:xfrm>
              <a:off x="4427640" y="2707920"/>
              <a:ext cx="504720" cy="50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4427640" y="2349360"/>
              <a:ext cx="50472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4552560" y="2781000"/>
              <a:ext cx="253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6" name=""/>
          <p:cNvSpPr/>
          <p:nvPr/>
        </p:nvSpPr>
        <p:spPr>
          <a:xfrm>
            <a:off x="755640" y="3357720"/>
            <a:ext cx="936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bc"/>
                </a:solidFill>
                <a:latin typeface="Times New Roman"/>
              </a:rPr>
              <a:t>⑴</a:t>
            </a:r>
            <a:r>
              <a:rPr b="1" lang="zh-CN" sz="2800" spc="-1" strike="noStrike">
                <a:solidFill>
                  <a:srgbClr val="0000bc"/>
                </a:solidFill>
                <a:latin typeface="Times New Roman"/>
              </a:rPr>
              <a:t>解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7" name=""/>
          <p:cNvGrpSpPr/>
          <p:nvPr/>
        </p:nvGrpSpPr>
        <p:grpSpPr>
          <a:xfrm>
            <a:off x="1836720" y="3357720"/>
            <a:ext cx="5327640" cy="431640"/>
            <a:chOff x="1836720" y="3357720"/>
            <a:chExt cx="5327640" cy="431640"/>
          </a:xfrm>
        </p:grpSpPr>
        <p:sp>
          <p:nvSpPr>
            <p:cNvPr id="548" name=""/>
            <p:cNvSpPr/>
            <p:nvPr/>
          </p:nvSpPr>
          <p:spPr>
            <a:xfrm>
              <a:off x="1836720" y="3357720"/>
              <a:ext cx="532764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bc"/>
                  </a:solidFill>
                  <a:latin typeface="Times New Roman"/>
                </a:rPr>
                <a:t>196</a:t>
              </a:r>
              <a:r>
                <a:rPr b="1" lang="zh-CN" sz="2800" spc="-1" strike="noStrike">
                  <a:solidFill>
                    <a:srgbClr val="0000bc"/>
                  </a:solidFill>
                  <a:latin typeface="Times New Roman"/>
                </a:rPr>
                <a:t>的算术平方根为</a:t>
              </a:r>
              <a:r>
                <a:rPr b="1" lang="en-US" sz="2800" spc="-1" strike="noStrike">
                  <a:solidFill>
                    <a:srgbClr val="0000bc"/>
                  </a:solidFill>
                  <a:latin typeface="Times New Roman"/>
                </a:rPr>
                <a:t>:√196  =14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5364000" y="3429000"/>
              <a:ext cx="720720" cy="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0" name=""/>
          <p:cNvSpPr/>
          <p:nvPr/>
        </p:nvSpPr>
        <p:spPr>
          <a:xfrm>
            <a:off x="684360" y="3933720"/>
            <a:ext cx="6192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口答下列各式的值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1" name=""/>
          <p:cNvGrpSpPr/>
          <p:nvPr/>
        </p:nvGrpSpPr>
        <p:grpSpPr>
          <a:xfrm>
            <a:off x="1116000" y="4508640"/>
            <a:ext cx="7632720" cy="1366560"/>
            <a:chOff x="1116000" y="4508640"/>
            <a:chExt cx="7632720" cy="1366560"/>
          </a:xfrm>
        </p:grpSpPr>
        <p:sp>
          <p:nvSpPr>
            <p:cNvPr id="552" name=""/>
            <p:cNvSpPr/>
            <p:nvPr/>
          </p:nvSpPr>
          <p:spPr>
            <a:xfrm>
              <a:off x="1116000" y="4508640"/>
              <a:ext cx="7632720" cy="136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⑴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√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10000  =                    ⑵ 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√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144  =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⑶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±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√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0.04 =                     ⑷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√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3)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 =      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979640" y="4724280"/>
              <a:ext cx="1008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5940360" y="4724280"/>
              <a:ext cx="719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5580000" y="4869000"/>
              <a:ext cx="144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2268360" y="5445000"/>
              <a:ext cx="719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5796000" y="5445000"/>
              <a:ext cx="792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8" name=""/>
          <p:cNvSpPr/>
          <p:nvPr/>
        </p:nvSpPr>
        <p:spPr>
          <a:xfrm>
            <a:off x="3276720" y="4581360"/>
            <a:ext cx="9349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6948360" y="4581360"/>
            <a:ext cx="93528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-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1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3276720" y="5373720"/>
            <a:ext cx="93492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±0.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6732720" y="5373720"/>
            <a:ext cx="93492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heel spokes="2"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10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"/>
          <p:cNvSpPr/>
          <p:nvPr/>
        </p:nvSpPr>
        <p:spPr>
          <a:xfrm>
            <a:off x="395280" y="404640"/>
            <a:ext cx="1511280" cy="6480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例练</a:t>
            </a:r>
            <a:r>
              <a:rPr b="1" lang="en-US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611280" y="1125360"/>
            <a:ext cx="62658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计算下列各数的算术平方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1044720" y="1700280"/>
            <a:ext cx="1441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⑴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700360" y="1700280"/>
            <a:ext cx="1441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⑵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29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4643280" y="1700280"/>
            <a:ext cx="1441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⑶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225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6732720" y="1700280"/>
            <a:ext cx="1441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⑷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4.81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971640" y="3860640"/>
            <a:ext cx="7920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注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: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对不是平方数的数和较大的数通常利用计算器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755640" y="4437000"/>
            <a:ext cx="7991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操作求它的算术平方根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近似数常取四个有效数字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1476360" y="2347920"/>
            <a:ext cx="2015640" cy="576360"/>
            <a:chOff x="1476360" y="2347920"/>
            <a:chExt cx="2015640" cy="576360"/>
          </a:xfrm>
        </p:grpSpPr>
        <p:sp>
          <p:nvSpPr>
            <p:cNvPr id="571" name=""/>
            <p:cNvSpPr/>
            <p:nvPr/>
          </p:nvSpPr>
          <p:spPr>
            <a:xfrm>
              <a:off x="1476360" y="2347920"/>
              <a:ext cx="201564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Times New Roman"/>
                </a:rPr>
                <a:t>⑴</a:t>
              </a:r>
              <a:r>
                <a:rPr b="1" lang="zh-CN" sz="3200" spc="-1" strike="noStrike">
                  <a:solidFill>
                    <a:srgbClr val="0000cc"/>
                  </a:solidFill>
                  <a:latin typeface="Times New Roman"/>
                </a:rPr>
                <a:t>√</a:t>
              </a:r>
              <a:r>
                <a:rPr b="1" lang="en-US" sz="2800" spc="-1" strike="noStrike">
                  <a:solidFill>
                    <a:srgbClr val="0000cc"/>
                  </a:solidFill>
                  <a:latin typeface="Times New Roman"/>
                </a:rPr>
                <a:t>2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2297880" y="2492280"/>
              <a:ext cx="29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3" name=""/>
          <p:cNvSpPr/>
          <p:nvPr/>
        </p:nvSpPr>
        <p:spPr>
          <a:xfrm>
            <a:off x="2484360" y="2347920"/>
            <a:ext cx="1441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≈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1.414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900000" y="2347920"/>
            <a:ext cx="720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解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5" name=""/>
          <p:cNvGrpSpPr/>
          <p:nvPr/>
        </p:nvGrpSpPr>
        <p:grpSpPr>
          <a:xfrm>
            <a:off x="4932360" y="2276640"/>
            <a:ext cx="1655640" cy="576000"/>
            <a:chOff x="4932360" y="2276640"/>
            <a:chExt cx="1655640" cy="576000"/>
          </a:xfrm>
        </p:grpSpPr>
        <p:sp>
          <p:nvSpPr>
            <p:cNvPr id="576" name=""/>
            <p:cNvSpPr/>
            <p:nvPr/>
          </p:nvSpPr>
          <p:spPr>
            <a:xfrm>
              <a:off x="4932360" y="2276640"/>
              <a:ext cx="1655640" cy="57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Times New Roman"/>
                </a:rPr>
                <a:t>⑵</a:t>
              </a:r>
              <a:r>
                <a:rPr b="1" lang="zh-CN" sz="3200" spc="-1" strike="noStrike">
                  <a:solidFill>
                    <a:srgbClr val="0000cc"/>
                  </a:solidFill>
                  <a:latin typeface="Times New Roman"/>
                </a:rPr>
                <a:t>√</a:t>
              </a:r>
              <a:r>
                <a:rPr b="1" lang="en-US" sz="2800" spc="-1" strike="noStrike">
                  <a:solidFill>
                    <a:srgbClr val="0000cc"/>
                  </a:solidFill>
                  <a:latin typeface="Times New Roman"/>
                </a:rPr>
                <a:t>529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724360" y="2419560"/>
              <a:ext cx="64944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8" name=""/>
          <p:cNvSpPr/>
          <p:nvPr/>
        </p:nvSpPr>
        <p:spPr>
          <a:xfrm>
            <a:off x="6372360" y="2276640"/>
            <a:ext cx="1441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=23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9" name=""/>
          <p:cNvGrpSpPr/>
          <p:nvPr/>
        </p:nvGrpSpPr>
        <p:grpSpPr>
          <a:xfrm>
            <a:off x="1476360" y="3068640"/>
            <a:ext cx="1800360" cy="576360"/>
            <a:chOff x="1476360" y="3068640"/>
            <a:chExt cx="1800360" cy="576360"/>
          </a:xfrm>
        </p:grpSpPr>
        <p:sp>
          <p:nvSpPr>
            <p:cNvPr id="580" name=""/>
            <p:cNvSpPr/>
            <p:nvPr/>
          </p:nvSpPr>
          <p:spPr>
            <a:xfrm>
              <a:off x="1476360" y="3068640"/>
              <a:ext cx="180036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Times New Roman"/>
                </a:rPr>
                <a:t>⑶</a:t>
              </a:r>
              <a:r>
                <a:rPr b="1" lang="zh-CN" sz="3200" spc="-1" strike="noStrike">
                  <a:solidFill>
                    <a:srgbClr val="0000cc"/>
                  </a:solidFill>
                  <a:latin typeface="Times New Roman"/>
                </a:rPr>
                <a:t>√</a:t>
              </a:r>
              <a:r>
                <a:rPr b="1" lang="en-US" sz="2800" spc="-1" strike="noStrike">
                  <a:solidFill>
                    <a:srgbClr val="0000cc"/>
                  </a:solidFill>
                  <a:latin typeface="Times New Roman"/>
                </a:rPr>
                <a:t>1225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2268360" y="3211560"/>
              <a:ext cx="863640" cy="144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2" name=""/>
          <p:cNvSpPr/>
          <p:nvPr/>
        </p:nvSpPr>
        <p:spPr>
          <a:xfrm>
            <a:off x="3132000" y="3068640"/>
            <a:ext cx="1441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=35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3" name=""/>
          <p:cNvGrpSpPr/>
          <p:nvPr/>
        </p:nvGrpSpPr>
        <p:grpSpPr>
          <a:xfrm>
            <a:off x="4932360" y="2997360"/>
            <a:ext cx="2016000" cy="576000"/>
            <a:chOff x="4932360" y="2997360"/>
            <a:chExt cx="2016000" cy="576000"/>
          </a:xfrm>
        </p:grpSpPr>
        <p:sp>
          <p:nvSpPr>
            <p:cNvPr id="584" name=""/>
            <p:cNvSpPr/>
            <p:nvPr/>
          </p:nvSpPr>
          <p:spPr>
            <a:xfrm>
              <a:off x="4932360" y="2997360"/>
              <a:ext cx="2016000" cy="57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Times New Roman"/>
                </a:rPr>
                <a:t>⑷</a:t>
              </a:r>
              <a:r>
                <a:rPr b="1" lang="zh-CN" sz="3200" spc="-1" strike="noStrike">
                  <a:solidFill>
                    <a:srgbClr val="0000cc"/>
                  </a:solidFill>
                  <a:latin typeface="Times New Roman"/>
                </a:rPr>
                <a:t>√</a:t>
              </a:r>
              <a:r>
                <a:rPr b="1" lang="en-US" sz="2800" spc="-1" strike="noStrike">
                  <a:solidFill>
                    <a:srgbClr val="0000cc"/>
                  </a:solidFill>
                  <a:latin typeface="Times New Roman"/>
                </a:rPr>
                <a:t>44.81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5724360" y="3139920"/>
              <a:ext cx="935280" cy="180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6" name=""/>
          <p:cNvSpPr/>
          <p:nvPr/>
        </p:nvSpPr>
        <p:spPr>
          <a:xfrm>
            <a:off x="6659640" y="2997360"/>
            <a:ext cx="1441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≈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6.694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heel spokes="3"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10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10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10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10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10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10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"/>
          <p:cNvSpPr/>
          <p:nvPr/>
        </p:nvSpPr>
        <p:spPr>
          <a:xfrm>
            <a:off x="468360" y="1125360"/>
            <a:ext cx="1224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操作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8" name=""/>
          <p:cNvGrpSpPr/>
          <p:nvPr/>
        </p:nvGrpSpPr>
        <p:grpSpPr>
          <a:xfrm>
            <a:off x="1474920" y="1125360"/>
            <a:ext cx="1152360" cy="576360"/>
            <a:chOff x="1474920" y="1125360"/>
            <a:chExt cx="1152360" cy="576360"/>
          </a:xfrm>
        </p:grpSpPr>
        <p:sp>
          <p:nvSpPr>
            <p:cNvPr id="589" name=""/>
            <p:cNvSpPr/>
            <p:nvPr/>
          </p:nvSpPr>
          <p:spPr>
            <a:xfrm>
              <a:off x="1474920" y="1125360"/>
              <a:ext cx="115236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√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50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1906560" y="1268280"/>
              <a:ext cx="502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2340000" y="1052640"/>
            <a:ext cx="12952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≈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7.071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2" name=""/>
          <p:cNvGrpSpPr/>
          <p:nvPr/>
        </p:nvGrpSpPr>
        <p:grpSpPr>
          <a:xfrm>
            <a:off x="3562200" y="1125360"/>
            <a:ext cx="1152360" cy="576360"/>
            <a:chOff x="3562200" y="1125360"/>
            <a:chExt cx="1152360" cy="576360"/>
          </a:xfrm>
        </p:grpSpPr>
        <p:sp>
          <p:nvSpPr>
            <p:cNvPr id="593" name=""/>
            <p:cNvSpPr/>
            <p:nvPr/>
          </p:nvSpPr>
          <p:spPr>
            <a:xfrm>
              <a:off x="3562200" y="1125360"/>
              <a:ext cx="115236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,√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43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4066920" y="1268280"/>
              <a:ext cx="503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5" name=""/>
          <p:cNvSpPr/>
          <p:nvPr/>
        </p:nvSpPr>
        <p:spPr>
          <a:xfrm>
            <a:off x="4572000" y="1052640"/>
            <a:ext cx="15127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≈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6.557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6" name=""/>
          <p:cNvGrpSpPr/>
          <p:nvPr/>
        </p:nvGrpSpPr>
        <p:grpSpPr>
          <a:xfrm>
            <a:off x="5794200" y="1125360"/>
            <a:ext cx="1152720" cy="576360"/>
            <a:chOff x="5794200" y="1125360"/>
            <a:chExt cx="1152720" cy="576360"/>
          </a:xfrm>
        </p:grpSpPr>
        <p:sp>
          <p:nvSpPr>
            <p:cNvPr id="597" name=""/>
            <p:cNvSpPr/>
            <p:nvPr/>
          </p:nvSpPr>
          <p:spPr>
            <a:xfrm>
              <a:off x="5794200" y="1125360"/>
              <a:ext cx="115272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,√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81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6298920" y="1268280"/>
              <a:ext cx="503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9" name=""/>
          <p:cNvSpPr/>
          <p:nvPr/>
        </p:nvSpPr>
        <p:spPr>
          <a:xfrm>
            <a:off x="6586560" y="1052640"/>
            <a:ext cx="1008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=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0" name=""/>
          <p:cNvGrpSpPr/>
          <p:nvPr/>
        </p:nvGrpSpPr>
        <p:grpSpPr>
          <a:xfrm>
            <a:off x="7307280" y="1125360"/>
            <a:ext cx="1152360" cy="576360"/>
            <a:chOff x="7307280" y="1125360"/>
            <a:chExt cx="1152360" cy="576360"/>
          </a:xfrm>
        </p:grpSpPr>
        <p:sp>
          <p:nvSpPr>
            <p:cNvPr id="601" name=""/>
            <p:cNvSpPr/>
            <p:nvPr/>
          </p:nvSpPr>
          <p:spPr>
            <a:xfrm>
              <a:off x="7307280" y="1125360"/>
              <a:ext cx="115236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,√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0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810200" y="1269720"/>
              <a:ext cx="28872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3" name=""/>
          <p:cNvSpPr/>
          <p:nvPr/>
        </p:nvSpPr>
        <p:spPr>
          <a:xfrm>
            <a:off x="8101080" y="1052640"/>
            <a:ext cx="7189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=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"/>
          <p:cNvGrpSpPr/>
          <p:nvPr/>
        </p:nvGrpSpPr>
        <p:grpSpPr>
          <a:xfrm>
            <a:off x="1401840" y="1700280"/>
            <a:ext cx="1152360" cy="576000"/>
            <a:chOff x="1401840" y="1700280"/>
            <a:chExt cx="1152360" cy="576000"/>
          </a:xfrm>
        </p:grpSpPr>
        <p:sp>
          <p:nvSpPr>
            <p:cNvPr id="605" name=""/>
            <p:cNvSpPr/>
            <p:nvPr/>
          </p:nvSpPr>
          <p:spPr>
            <a:xfrm>
              <a:off x="1401840" y="1700280"/>
              <a:ext cx="1152360" cy="57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√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123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1833480" y="1842840"/>
              <a:ext cx="649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7" name=""/>
          <p:cNvSpPr/>
          <p:nvPr/>
        </p:nvSpPr>
        <p:spPr>
          <a:xfrm>
            <a:off x="2411280" y="1628640"/>
            <a:ext cx="14400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≈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11.09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8" name=""/>
          <p:cNvGrpSpPr/>
          <p:nvPr/>
        </p:nvGrpSpPr>
        <p:grpSpPr>
          <a:xfrm>
            <a:off x="3635280" y="1700280"/>
            <a:ext cx="1368360" cy="576360"/>
            <a:chOff x="3635280" y="1700280"/>
            <a:chExt cx="1368360" cy="576360"/>
          </a:xfrm>
        </p:grpSpPr>
        <p:sp>
          <p:nvSpPr>
            <p:cNvPr id="609" name=""/>
            <p:cNvSpPr/>
            <p:nvPr/>
          </p:nvSpPr>
          <p:spPr>
            <a:xfrm>
              <a:off x="3635280" y="1700280"/>
              <a:ext cx="136836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,√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1000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4140000" y="1844640"/>
              <a:ext cx="79380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1" name=""/>
          <p:cNvSpPr/>
          <p:nvPr/>
        </p:nvSpPr>
        <p:spPr>
          <a:xfrm>
            <a:off x="4932360" y="1628640"/>
            <a:ext cx="14400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≈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31.62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2" name=""/>
          <p:cNvGrpSpPr/>
          <p:nvPr/>
        </p:nvGrpSpPr>
        <p:grpSpPr>
          <a:xfrm>
            <a:off x="6227640" y="1700280"/>
            <a:ext cx="1152720" cy="576360"/>
            <a:chOff x="6227640" y="1700280"/>
            <a:chExt cx="1152720" cy="576360"/>
          </a:xfrm>
        </p:grpSpPr>
        <p:sp>
          <p:nvSpPr>
            <p:cNvPr id="613" name=""/>
            <p:cNvSpPr/>
            <p:nvPr/>
          </p:nvSpPr>
          <p:spPr>
            <a:xfrm>
              <a:off x="6227640" y="1700280"/>
              <a:ext cx="115272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,√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7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6732720" y="1844640"/>
              <a:ext cx="28872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5" name=""/>
          <p:cNvSpPr/>
          <p:nvPr/>
        </p:nvSpPr>
        <p:spPr>
          <a:xfrm>
            <a:off x="7020000" y="1628640"/>
            <a:ext cx="151272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≈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2.646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395280" y="260280"/>
            <a:ext cx="1800360" cy="647640"/>
          </a:xfrm>
          <a:prstGeom prst="rect">
            <a:avLst/>
          </a:prstGeom>
          <a:solidFill>
            <a:srgbClr val="99ccff">
              <a:alpha val="46000"/>
            </a:srgbClr>
          </a:solidFill>
          <a:ln w="19080">
            <a:solidFill>
              <a:srgbClr val="0000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试一试</a:t>
            </a:r>
            <a:r>
              <a:rPr b="1" lang="en-US" sz="3200" spc="-1" strike="noStrike">
                <a:solidFill>
                  <a:srgbClr val="ffff00"/>
                </a:solidFill>
                <a:latin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468360" y="2349360"/>
            <a:ext cx="1224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比较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8" name=""/>
          <p:cNvGrpSpPr/>
          <p:nvPr/>
        </p:nvGrpSpPr>
        <p:grpSpPr>
          <a:xfrm>
            <a:off x="757080" y="2924280"/>
            <a:ext cx="1224000" cy="576000"/>
            <a:chOff x="757080" y="2924280"/>
            <a:chExt cx="1224000" cy="576000"/>
          </a:xfrm>
        </p:grpSpPr>
        <p:sp>
          <p:nvSpPr>
            <p:cNvPr id="619" name=""/>
            <p:cNvSpPr/>
            <p:nvPr/>
          </p:nvSpPr>
          <p:spPr>
            <a:xfrm>
              <a:off x="757080" y="2924280"/>
              <a:ext cx="1224000" cy="57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√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0 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188720" y="3066840"/>
              <a:ext cx="2890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1" name=""/>
          <p:cNvGrpSpPr/>
          <p:nvPr/>
        </p:nvGrpSpPr>
        <p:grpSpPr>
          <a:xfrm>
            <a:off x="5005440" y="2924280"/>
            <a:ext cx="1152360" cy="576000"/>
            <a:chOff x="5005440" y="2924280"/>
            <a:chExt cx="1152360" cy="576000"/>
          </a:xfrm>
        </p:grpSpPr>
        <p:sp>
          <p:nvSpPr>
            <p:cNvPr id="622" name=""/>
            <p:cNvSpPr/>
            <p:nvPr/>
          </p:nvSpPr>
          <p:spPr>
            <a:xfrm>
              <a:off x="5005440" y="2924280"/>
              <a:ext cx="1152360" cy="57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√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81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5437080" y="3066840"/>
              <a:ext cx="503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4" name=""/>
          <p:cNvSpPr/>
          <p:nvPr/>
        </p:nvSpPr>
        <p:spPr>
          <a:xfrm>
            <a:off x="1476360" y="2924280"/>
            <a:ext cx="7192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＜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5" name=""/>
          <p:cNvGrpSpPr/>
          <p:nvPr/>
        </p:nvGrpSpPr>
        <p:grpSpPr>
          <a:xfrm>
            <a:off x="1763640" y="2924280"/>
            <a:ext cx="1152360" cy="576000"/>
            <a:chOff x="1763640" y="2924280"/>
            <a:chExt cx="1152360" cy="576000"/>
          </a:xfrm>
        </p:grpSpPr>
        <p:sp>
          <p:nvSpPr>
            <p:cNvPr id="626" name=""/>
            <p:cNvSpPr/>
            <p:nvPr/>
          </p:nvSpPr>
          <p:spPr>
            <a:xfrm>
              <a:off x="1763640" y="2924280"/>
              <a:ext cx="1152360" cy="57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√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7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2195280" y="3068640"/>
              <a:ext cx="28908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8" name=""/>
          <p:cNvSpPr/>
          <p:nvPr/>
        </p:nvSpPr>
        <p:spPr>
          <a:xfrm>
            <a:off x="2411280" y="2924280"/>
            <a:ext cx="7192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＜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9" name=""/>
          <p:cNvGrpSpPr/>
          <p:nvPr/>
        </p:nvGrpSpPr>
        <p:grpSpPr>
          <a:xfrm>
            <a:off x="2701800" y="2924280"/>
            <a:ext cx="1152360" cy="576000"/>
            <a:chOff x="2701800" y="2924280"/>
            <a:chExt cx="1152360" cy="576000"/>
          </a:xfrm>
        </p:grpSpPr>
        <p:sp>
          <p:nvSpPr>
            <p:cNvPr id="630" name=""/>
            <p:cNvSpPr/>
            <p:nvPr/>
          </p:nvSpPr>
          <p:spPr>
            <a:xfrm>
              <a:off x="2701800" y="2924280"/>
              <a:ext cx="1152360" cy="57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√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43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3133440" y="3068640"/>
              <a:ext cx="503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2" name=""/>
          <p:cNvSpPr/>
          <p:nvPr/>
        </p:nvSpPr>
        <p:spPr>
          <a:xfrm>
            <a:off x="3565440" y="2924280"/>
            <a:ext cx="7192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＜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3" name=""/>
          <p:cNvGrpSpPr/>
          <p:nvPr/>
        </p:nvGrpSpPr>
        <p:grpSpPr>
          <a:xfrm>
            <a:off x="3852720" y="2924280"/>
            <a:ext cx="1152720" cy="576000"/>
            <a:chOff x="3852720" y="2924280"/>
            <a:chExt cx="1152720" cy="576000"/>
          </a:xfrm>
        </p:grpSpPr>
        <p:sp>
          <p:nvSpPr>
            <p:cNvPr id="634" name=""/>
            <p:cNvSpPr/>
            <p:nvPr/>
          </p:nvSpPr>
          <p:spPr>
            <a:xfrm>
              <a:off x="3852720" y="2924280"/>
              <a:ext cx="1152720" cy="57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√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50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4284720" y="3066840"/>
              <a:ext cx="503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6" name=""/>
          <p:cNvSpPr/>
          <p:nvPr/>
        </p:nvSpPr>
        <p:spPr>
          <a:xfrm>
            <a:off x="4718160" y="2924280"/>
            <a:ext cx="7189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＜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5869080" y="2924280"/>
            <a:ext cx="7189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＜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8" name=""/>
          <p:cNvGrpSpPr/>
          <p:nvPr/>
        </p:nvGrpSpPr>
        <p:grpSpPr>
          <a:xfrm>
            <a:off x="6157800" y="2924280"/>
            <a:ext cx="1152360" cy="576000"/>
            <a:chOff x="6157800" y="2924280"/>
            <a:chExt cx="1152360" cy="576000"/>
          </a:xfrm>
        </p:grpSpPr>
        <p:sp>
          <p:nvSpPr>
            <p:cNvPr id="639" name=""/>
            <p:cNvSpPr/>
            <p:nvPr/>
          </p:nvSpPr>
          <p:spPr>
            <a:xfrm>
              <a:off x="6157800" y="2924280"/>
              <a:ext cx="1152360" cy="57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√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123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6589440" y="3066840"/>
              <a:ext cx="649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1" name=""/>
          <p:cNvSpPr/>
          <p:nvPr/>
        </p:nvSpPr>
        <p:spPr>
          <a:xfrm>
            <a:off x="7164360" y="2924280"/>
            <a:ext cx="7192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＜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2" name=""/>
          <p:cNvGrpSpPr/>
          <p:nvPr/>
        </p:nvGrpSpPr>
        <p:grpSpPr>
          <a:xfrm>
            <a:off x="7451640" y="2924280"/>
            <a:ext cx="1368360" cy="576000"/>
            <a:chOff x="7451640" y="2924280"/>
            <a:chExt cx="1368360" cy="576000"/>
          </a:xfrm>
        </p:grpSpPr>
        <p:sp>
          <p:nvSpPr>
            <p:cNvPr id="643" name=""/>
            <p:cNvSpPr/>
            <p:nvPr/>
          </p:nvSpPr>
          <p:spPr>
            <a:xfrm>
              <a:off x="7451640" y="2924280"/>
              <a:ext cx="1368360" cy="57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√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1000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883280" y="3066840"/>
              <a:ext cx="793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5" name=""/>
          <p:cNvSpPr/>
          <p:nvPr/>
        </p:nvSpPr>
        <p:spPr>
          <a:xfrm>
            <a:off x="1258920" y="3500280"/>
            <a:ext cx="62658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0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＜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＜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3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＜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0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＜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1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＜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23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＜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00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6" name=""/>
          <p:cNvGrpSpPr/>
          <p:nvPr/>
        </p:nvGrpSpPr>
        <p:grpSpPr>
          <a:xfrm>
            <a:off x="0" y="2924280"/>
            <a:ext cx="1224000" cy="576000"/>
            <a:chOff x="0" y="2924280"/>
            <a:chExt cx="1224000" cy="576000"/>
          </a:xfrm>
        </p:grpSpPr>
        <p:sp>
          <p:nvSpPr>
            <p:cNvPr id="647" name=""/>
            <p:cNvSpPr/>
            <p:nvPr/>
          </p:nvSpPr>
          <p:spPr>
            <a:xfrm>
              <a:off x="0" y="2924280"/>
              <a:ext cx="1224000" cy="57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√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431640" y="3066840"/>
              <a:ext cx="28908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9" name=""/>
          <p:cNvSpPr/>
          <p:nvPr/>
        </p:nvSpPr>
        <p:spPr>
          <a:xfrm>
            <a:off x="324000" y="3500280"/>
            <a:ext cx="720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324000" y="3500280"/>
            <a:ext cx="720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1" name=""/>
          <p:cNvGrpSpPr/>
          <p:nvPr/>
        </p:nvGrpSpPr>
        <p:grpSpPr>
          <a:xfrm>
            <a:off x="1690560" y="4149720"/>
            <a:ext cx="1224000" cy="576360"/>
            <a:chOff x="1690560" y="4149720"/>
            <a:chExt cx="1224000" cy="576360"/>
          </a:xfrm>
        </p:grpSpPr>
        <p:sp>
          <p:nvSpPr>
            <p:cNvPr id="652" name=""/>
            <p:cNvSpPr/>
            <p:nvPr/>
          </p:nvSpPr>
          <p:spPr>
            <a:xfrm>
              <a:off x="1690560" y="4149720"/>
              <a:ext cx="122400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√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122200" y="4292640"/>
              <a:ext cx="289080" cy="18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4" name=""/>
          <p:cNvSpPr/>
          <p:nvPr/>
        </p:nvSpPr>
        <p:spPr>
          <a:xfrm>
            <a:off x="2411280" y="4149720"/>
            <a:ext cx="4464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值随着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增大而增大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539640" y="4149720"/>
            <a:ext cx="1224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结论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539640" y="4653000"/>
            <a:ext cx="1224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叙述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1403280" y="4653000"/>
            <a:ext cx="69850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非负数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算术平方根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随着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被开方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增大而增大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heel spokes="3"/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0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500"/>
                            </p:stCondLst>
                            <p:childTnLst>
                              <p:par>
                                <p:cTn id="26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9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5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6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7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8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9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0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1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2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00"/>
                            </p:stCondLst>
                            <p:childTnLst>
                              <p:par>
                                <p:cTn id="29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3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9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0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1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2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3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4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5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6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1000"/>
                            </p:stCondLst>
                            <p:childTnLst>
                              <p:par>
                                <p:cTn id="31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7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3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4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5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6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7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28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9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30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7" dur="10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1000"/>
                            </p:stCondLst>
                            <p:childTnLst>
                              <p:par>
                                <p:cTn id="33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1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7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8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9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0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1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2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3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4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1000"/>
                            </p:stCondLst>
                            <p:childTnLst>
                              <p:par>
                                <p:cTn id="36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5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6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1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2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3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4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5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6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7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8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5" dur="10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1000"/>
                            </p:stCondLst>
                            <p:childTnLst>
                              <p:par>
                                <p:cTn id="38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9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0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5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96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7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98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9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0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1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2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9" dur="10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3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4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9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20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1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22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3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4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5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6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8" dur="1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6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3" dur="10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1000"/>
                            </p:stCondLst>
                            <p:childTnLst>
                              <p:par>
                                <p:cTn id="46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7" dur="10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1000"/>
                            </p:stCondLst>
                            <p:childTnLst>
                              <p:par>
                                <p:cTn id="47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4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1" dur="10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1000"/>
                            </p:stCondLst>
                            <p:childTnLst>
                              <p:par>
                                <p:cTn id="49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8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5" dur="10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1000"/>
                            </p:stCondLst>
                            <p:childTnLst>
                              <p:par>
                                <p:cTn id="50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2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9" dur="10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1000"/>
                            </p:stCondLst>
                            <p:childTnLst>
                              <p:par>
                                <p:cTn id="52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6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3" dur="10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8" dur="10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5" dur="10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3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0" dur="10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5" dur="10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3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1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6" dur="10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"/>
          <p:cNvSpPr/>
          <p:nvPr/>
        </p:nvSpPr>
        <p:spPr>
          <a:xfrm>
            <a:off x="395280" y="404640"/>
            <a:ext cx="1511280" cy="6480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例练</a:t>
            </a:r>
            <a:r>
              <a:rPr b="1" lang="en-US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1042920" y="1125360"/>
            <a:ext cx="5761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估算下列各值在哪两个整数之间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0" name=""/>
          <p:cNvGrpSpPr/>
          <p:nvPr/>
        </p:nvGrpSpPr>
        <p:grpSpPr>
          <a:xfrm>
            <a:off x="971640" y="1773360"/>
            <a:ext cx="1152360" cy="576000"/>
            <a:chOff x="971640" y="1773360"/>
            <a:chExt cx="1152360" cy="576000"/>
          </a:xfrm>
        </p:grpSpPr>
        <p:sp>
          <p:nvSpPr>
            <p:cNvPr id="661" name=""/>
            <p:cNvSpPr/>
            <p:nvPr/>
          </p:nvSpPr>
          <p:spPr>
            <a:xfrm>
              <a:off x="971640" y="1773360"/>
              <a:ext cx="1152360" cy="57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√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2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1403280" y="1917720"/>
              <a:ext cx="28908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3" name=""/>
          <p:cNvGrpSpPr/>
          <p:nvPr/>
        </p:nvGrpSpPr>
        <p:grpSpPr>
          <a:xfrm>
            <a:off x="2484360" y="1773360"/>
            <a:ext cx="1152360" cy="576000"/>
            <a:chOff x="2484360" y="1773360"/>
            <a:chExt cx="1152360" cy="576000"/>
          </a:xfrm>
        </p:grpSpPr>
        <p:sp>
          <p:nvSpPr>
            <p:cNvPr id="664" name=""/>
            <p:cNvSpPr/>
            <p:nvPr/>
          </p:nvSpPr>
          <p:spPr>
            <a:xfrm>
              <a:off x="2484360" y="1773360"/>
              <a:ext cx="1152360" cy="57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√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5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2916000" y="1917720"/>
              <a:ext cx="28908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6" name=""/>
          <p:cNvGrpSpPr/>
          <p:nvPr/>
        </p:nvGrpSpPr>
        <p:grpSpPr>
          <a:xfrm>
            <a:off x="3924360" y="1773360"/>
            <a:ext cx="1152360" cy="576000"/>
            <a:chOff x="3924360" y="1773360"/>
            <a:chExt cx="1152360" cy="576000"/>
          </a:xfrm>
        </p:grpSpPr>
        <p:sp>
          <p:nvSpPr>
            <p:cNvPr id="667" name=""/>
            <p:cNvSpPr/>
            <p:nvPr/>
          </p:nvSpPr>
          <p:spPr>
            <a:xfrm>
              <a:off x="3924360" y="1773360"/>
              <a:ext cx="1152360" cy="57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√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7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4356000" y="1917720"/>
              <a:ext cx="28908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9" name=""/>
          <p:cNvGrpSpPr/>
          <p:nvPr/>
        </p:nvGrpSpPr>
        <p:grpSpPr>
          <a:xfrm>
            <a:off x="5292720" y="1773360"/>
            <a:ext cx="1152360" cy="576000"/>
            <a:chOff x="5292720" y="1773360"/>
            <a:chExt cx="1152360" cy="576000"/>
          </a:xfrm>
        </p:grpSpPr>
        <p:sp>
          <p:nvSpPr>
            <p:cNvPr id="670" name=""/>
            <p:cNvSpPr/>
            <p:nvPr/>
          </p:nvSpPr>
          <p:spPr>
            <a:xfrm>
              <a:off x="5292720" y="1773360"/>
              <a:ext cx="1152360" cy="57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√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10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5724360" y="1915920"/>
              <a:ext cx="502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2" name=""/>
          <p:cNvGrpSpPr/>
          <p:nvPr/>
        </p:nvGrpSpPr>
        <p:grpSpPr>
          <a:xfrm>
            <a:off x="6804000" y="1773360"/>
            <a:ext cx="1152720" cy="576000"/>
            <a:chOff x="6804000" y="1773360"/>
            <a:chExt cx="1152720" cy="576000"/>
          </a:xfrm>
        </p:grpSpPr>
        <p:sp>
          <p:nvSpPr>
            <p:cNvPr id="673" name=""/>
            <p:cNvSpPr/>
            <p:nvPr/>
          </p:nvSpPr>
          <p:spPr>
            <a:xfrm>
              <a:off x="6804000" y="1773360"/>
              <a:ext cx="1152720" cy="57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√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23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236000" y="1915920"/>
              <a:ext cx="503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5" name=""/>
          <p:cNvSpPr/>
          <p:nvPr/>
        </p:nvSpPr>
        <p:spPr>
          <a:xfrm>
            <a:off x="826920" y="2421000"/>
            <a:ext cx="720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解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1692360" y="2421000"/>
            <a:ext cx="1871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∵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1 &lt;2 &lt;4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7" name=""/>
          <p:cNvGrpSpPr/>
          <p:nvPr/>
        </p:nvGrpSpPr>
        <p:grpSpPr>
          <a:xfrm>
            <a:off x="3635280" y="2421000"/>
            <a:ext cx="2808360" cy="576360"/>
            <a:chOff x="3635280" y="2421000"/>
            <a:chExt cx="2808360" cy="576360"/>
          </a:xfrm>
        </p:grpSpPr>
        <p:sp>
          <p:nvSpPr>
            <p:cNvPr id="678" name=""/>
            <p:cNvSpPr/>
            <p:nvPr/>
          </p:nvSpPr>
          <p:spPr>
            <a:xfrm>
              <a:off x="3635280" y="2421000"/>
              <a:ext cx="280836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Times New Roman"/>
                </a:rPr>
                <a:t>∴√</a:t>
              </a:r>
              <a:r>
                <a:rPr b="1" lang="en-US" sz="2800" spc="-1" strike="noStrike">
                  <a:solidFill>
                    <a:srgbClr val="0000cc"/>
                  </a:solidFill>
                  <a:latin typeface="Times New Roman"/>
                </a:rPr>
                <a:t>1 &lt;√2 &lt;√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354560" y="2565360"/>
              <a:ext cx="2872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5219640" y="2565360"/>
              <a:ext cx="2872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6011640" y="2565360"/>
              <a:ext cx="28764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2" name=""/>
          <p:cNvGrpSpPr/>
          <p:nvPr/>
        </p:nvGrpSpPr>
        <p:grpSpPr>
          <a:xfrm>
            <a:off x="2268360" y="3141720"/>
            <a:ext cx="2305080" cy="576360"/>
            <a:chOff x="2268360" y="3141720"/>
            <a:chExt cx="2305080" cy="576360"/>
          </a:xfrm>
        </p:grpSpPr>
        <p:sp>
          <p:nvSpPr>
            <p:cNvPr id="683" name=""/>
            <p:cNvSpPr/>
            <p:nvPr/>
          </p:nvSpPr>
          <p:spPr>
            <a:xfrm>
              <a:off x="2268360" y="3141720"/>
              <a:ext cx="230508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Times New Roman"/>
                </a:rPr>
                <a:t>即</a:t>
              </a:r>
              <a:r>
                <a:rPr b="1" lang="en-US" sz="2800" spc="-1" strike="noStrike">
                  <a:solidFill>
                    <a:srgbClr val="0000cc"/>
                  </a:solidFill>
                  <a:latin typeface="Times New Roman"/>
                </a:rPr>
                <a:t>: 1 &lt;√2 &lt;2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3708000" y="3286440"/>
              <a:ext cx="28764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5" name=""/>
          <p:cNvSpPr/>
          <p:nvPr/>
        </p:nvSpPr>
        <p:spPr>
          <a:xfrm>
            <a:off x="826920" y="3789360"/>
            <a:ext cx="7777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注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一般先找出被开方数前后的两个完全平方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1476360" y="4365720"/>
            <a:ext cx="61927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再进行算术平方根的比较估算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  <p:timing>
    <p:tnLst>
      <p:par>
        <p:cTn id="587" dur="indefinite" restart="never" nodeType="tmRoot">
          <p:childTnLst>
            <p:seq>
              <p:cTn id="588" dur="indefinite" nodeType="mainSeq">
                <p:childTnLst>
                  <p:par>
                    <p:cTn id="589" fill="hold">
                      <p:stCondLst>
                        <p:cond delay="0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5" dur="10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0" dur="10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5" dur="10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0" dur="10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5" dur="10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2" dur="10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7" dur="10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9" dur="10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10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6" dur="10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10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3" dur="10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8" dur="10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fill="hold">
                            <p:stCondLst>
                              <p:cond delay="1000"/>
                            </p:stCondLst>
                            <p:childTnLst>
                              <p:par>
                                <p:cTn id="6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2" dur="10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"/>
          <p:cNvSpPr txBox="1"/>
          <p:nvPr/>
        </p:nvSpPr>
        <p:spPr>
          <a:xfrm>
            <a:off x="179280" y="189000"/>
            <a:ext cx="280836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908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009900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回顾小结</a:t>
            </a:r>
            <a:endParaRPr b="0" lang="en-US" sz="2400" spc="1" strike="noStrike">
              <a:ln w="1908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009900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88" name=""/>
          <p:cNvSpPr/>
          <p:nvPr/>
        </p:nvSpPr>
        <p:spPr>
          <a:xfrm>
            <a:off x="468360" y="1197000"/>
            <a:ext cx="496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11448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算术平方根与平方根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1042920" y="1773360"/>
            <a:ext cx="568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11448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bc"/>
                </a:solidFill>
                <a:latin typeface="Times New Roman"/>
              </a:rPr>
              <a:t>算术平方根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是平方根中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正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一个值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0000b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468360" y="2278080"/>
            <a:ext cx="58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11448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bc"/>
                </a:solidFill>
                <a:latin typeface="Times New Roman"/>
              </a:rPr>
              <a:t>平方根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一般有</a:t>
            </a:r>
            <a:r>
              <a:rPr b="1" lang="zh-CN" sz="2800" spc="-1" strike="noStrike">
                <a:solidFill>
                  <a:srgbClr val="cc0066"/>
                </a:solidFill>
                <a:latin typeface="Times New Roman"/>
              </a:rPr>
              <a:t>互为相反数的两个值</a:t>
            </a:r>
            <a:r>
              <a:rPr b="1" lang="en-US" sz="2800" spc="-1" strike="noStrike">
                <a:solidFill>
                  <a:srgbClr val="0000b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539640" y="4581360"/>
            <a:ext cx="813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11448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进行算术平方根估值时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先找出被开方数的前后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6588000" y="1773360"/>
            <a:ext cx="21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11448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Times New Roman"/>
              </a:rPr>
              <a:t>只有一个值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1" lang="en-US" sz="3200" spc="-1" strike="noStrike">
                <a:solidFill>
                  <a:srgbClr val="0000b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3" name=""/>
          <p:cNvGrpSpPr/>
          <p:nvPr/>
        </p:nvGrpSpPr>
        <p:grpSpPr>
          <a:xfrm>
            <a:off x="468360" y="2781360"/>
            <a:ext cx="8278560" cy="947160"/>
            <a:chOff x="468360" y="2781360"/>
            <a:chExt cx="8278560" cy="947160"/>
          </a:xfrm>
        </p:grpSpPr>
        <p:sp>
          <p:nvSpPr>
            <p:cNvPr id="694" name=""/>
            <p:cNvSpPr/>
            <p:nvPr/>
          </p:nvSpPr>
          <p:spPr>
            <a:xfrm>
              <a:off x="468360" y="2854080"/>
              <a:ext cx="8064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114480"/>
                  <a:tab algn="l" pos="343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bc"/>
                  </a:solidFill>
                  <a:latin typeface="Times New Roman"/>
                </a:rPr>
                <a:t>算术平方根</a:t>
              </a:r>
              <a:r>
                <a:rPr b="1" lang="zh-CN" sz="2800" spc="-1" strike="noStrike">
                  <a:solidFill>
                    <a:srgbClr val="ff0066"/>
                  </a:solidFill>
                  <a:latin typeface="Times New Roman"/>
                </a:rPr>
                <a:t>只表示</a:t>
              </a:r>
              <a:r>
                <a:rPr b="1" lang="zh-CN" sz="2800" spc="-1" strike="noStrike">
                  <a:solidFill>
                    <a:srgbClr val="0000bc"/>
                  </a:solidFill>
                  <a:latin typeface="Times New Roman"/>
                </a:rPr>
                <a:t>为</a:t>
              </a:r>
              <a:r>
                <a:rPr b="1" lang="en-US" sz="2800" spc="-1" strike="noStrike">
                  <a:solidFill>
                    <a:srgbClr val="0000bc"/>
                  </a:solidFill>
                  <a:latin typeface="Times New Roman"/>
                </a:rPr>
                <a:t>:        , </a:t>
              </a:r>
              <a:r>
                <a:rPr b="1" lang="zh-CN" sz="2800" spc="-1" strike="noStrike">
                  <a:solidFill>
                    <a:srgbClr val="0000bc"/>
                  </a:solidFill>
                  <a:latin typeface="Times New Roman"/>
                </a:rPr>
                <a:t>而平方根</a:t>
              </a:r>
              <a:r>
                <a:rPr b="1" lang="zh-CN" sz="2800" spc="-1" strike="noStrike">
                  <a:solidFill>
                    <a:srgbClr val="ff0066"/>
                  </a:solidFill>
                  <a:latin typeface="Times New Roman"/>
                </a:rPr>
                <a:t>需表示</a:t>
              </a:r>
              <a:r>
                <a:rPr b="1" lang="zh-CN" sz="2800" spc="-1" strike="noStrike">
                  <a:solidFill>
                    <a:srgbClr val="0000bc"/>
                  </a:solidFill>
                  <a:latin typeface="Times New Roman"/>
                </a:rPr>
                <a:t>为</a:t>
              </a:r>
              <a:r>
                <a:rPr b="1" lang="en-US" sz="2800" spc="-1" strike="noStrike">
                  <a:solidFill>
                    <a:srgbClr val="0000bc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5" name=""/>
            <p:cNvGrpSpPr/>
            <p:nvPr/>
          </p:nvGrpSpPr>
          <p:grpSpPr>
            <a:xfrm>
              <a:off x="3708360" y="2781360"/>
              <a:ext cx="1224000" cy="642600"/>
              <a:chOff x="3708360" y="2781360"/>
              <a:chExt cx="1224000" cy="642600"/>
            </a:xfrm>
          </p:grpSpPr>
          <p:sp>
            <p:nvSpPr>
              <p:cNvPr id="696" name=""/>
              <p:cNvSpPr/>
              <p:nvPr/>
            </p:nvSpPr>
            <p:spPr>
              <a:xfrm>
                <a:off x="3708360" y="2781360"/>
                <a:ext cx="1224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tabLst>
                    <a:tab algn="l" pos="0"/>
                    <a:tab algn="l" pos="114480"/>
                    <a:tab algn="l" pos="3430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600" spc="-1" strike="noStrike">
                    <a:solidFill>
                      <a:srgbClr val="ff0000"/>
                    </a:solidFill>
                    <a:latin typeface="Times New Roman"/>
                  </a:rPr>
                  <a:t>√</a:t>
                </a:r>
                <a:r>
                  <a:rPr b="1" i="1" lang="en-US" sz="3600" spc="-1" strike="noStrike">
                    <a:solidFill>
                      <a:srgbClr val="ff0000"/>
                    </a:solidFill>
                    <a:latin typeface="Times New Roman"/>
                  </a:rPr>
                  <a:t>a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4284720" y="2923920"/>
                <a:ext cx="28872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8" name=""/>
            <p:cNvGrpSpPr/>
            <p:nvPr/>
          </p:nvGrpSpPr>
          <p:grpSpPr>
            <a:xfrm>
              <a:off x="7667640" y="2781360"/>
              <a:ext cx="1079280" cy="947160"/>
              <a:chOff x="7667640" y="2781360"/>
              <a:chExt cx="1079280" cy="947160"/>
            </a:xfrm>
          </p:grpSpPr>
          <p:sp>
            <p:nvSpPr>
              <p:cNvPr id="699" name=""/>
              <p:cNvSpPr/>
              <p:nvPr/>
            </p:nvSpPr>
            <p:spPr>
              <a:xfrm>
                <a:off x="7667640" y="2781360"/>
                <a:ext cx="57600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tabLst>
                    <a:tab algn="l" pos="0"/>
                    <a:tab algn="l" pos="114480"/>
                    <a:tab algn="l" pos="3430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±</a:t>
                </a:r>
                <a:r>
                  <a:rPr b="1" i="1" lang="zh-CN" sz="2800" spc="-1" strike="noStrike">
                    <a:solidFill>
                      <a:srgbClr val="ff0000"/>
                    </a:solidFill>
                    <a:latin typeface="Times New Roman"/>
                  </a:rPr>
                  <a:t>　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7812000" y="2781360"/>
                <a:ext cx="9349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tabLst>
                    <a:tab algn="l" pos="0"/>
                    <a:tab algn="l" pos="114480"/>
                    <a:tab algn="l" pos="3430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600" spc="-1" strike="noStrike">
                    <a:solidFill>
                      <a:srgbClr val="ff0000"/>
                    </a:solidFill>
                    <a:latin typeface="Times New Roman"/>
                  </a:rPr>
                  <a:t>√</a:t>
                </a:r>
                <a:r>
                  <a:rPr b="1" i="1" lang="en-US" sz="3600" spc="-1" strike="noStrike">
                    <a:solidFill>
                      <a:srgbClr val="ff0000"/>
                    </a:solidFill>
                    <a:latin typeface="Times New Roman"/>
                  </a:rPr>
                  <a:t>a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8388360" y="2923920"/>
                <a:ext cx="28872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02" name=""/>
          <p:cNvSpPr/>
          <p:nvPr/>
        </p:nvSpPr>
        <p:spPr>
          <a:xfrm>
            <a:off x="539640" y="3429000"/>
            <a:ext cx="842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11448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计算器操作算术平方根时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根据精度要求取小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468360" y="4005360"/>
            <a:ext cx="691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11448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没有要求的默认取四个有效数字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187280" y="5157720"/>
            <a:ext cx="756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11448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两个完全平方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再根据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非负数的算术平方根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1835280" y="5661000"/>
            <a:ext cx="669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11448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被开方数的增大而增大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进行估算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mb dir="horz"/>
  </p:transition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0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9" dur="10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10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10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2" dur="10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fill="hold">
                            <p:stCondLst>
                              <p:cond delay="1000"/>
                            </p:stCondLst>
                            <p:childTnLst>
                              <p:par>
                                <p:cTn id="6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6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1" dur="10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6" dur="10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1" dur="10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6" dur="10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1" dur="10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2" fill="hold">
                            <p:stCondLst>
                              <p:cond delay="1000"/>
                            </p:stCondLst>
                            <p:childTnLst>
                              <p:par>
                                <p:cTn id="6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5" dur="10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0" dur="10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fill="hold">
                            <p:stCondLst>
                              <p:cond delay="1000"/>
                            </p:stCondLst>
                            <p:childTnLst>
                              <p:par>
                                <p:cTn id="7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4" dur="10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5" fill="hold">
                            <p:stCondLst>
                              <p:cond delay="2000"/>
                            </p:stCondLst>
                            <p:childTnLst>
                              <p:par>
                                <p:cTn id="7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8" dur="10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"/>
          <p:cNvSpPr/>
          <p:nvPr/>
        </p:nvSpPr>
        <p:spPr>
          <a:xfrm>
            <a:off x="395280" y="404640"/>
            <a:ext cx="1800360" cy="648000"/>
          </a:xfrm>
          <a:prstGeom prst="rect">
            <a:avLst/>
          </a:prstGeom>
          <a:solidFill>
            <a:srgbClr val="99ccff">
              <a:alpha val="46000"/>
            </a:srgbClr>
          </a:solidFill>
          <a:ln w="19080">
            <a:solidFill>
              <a:srgbClr val="0000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填一填</a:t>
            </a:r>
            <a:r>
              <a:rPr b="1" lang="en-US" sz="3200" spc="-1" strike="noStrike">
                <a:solidFill>
                  <a:srgbClr val="ffff00"/>
                </a:solidFill>
                <a:latin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826920" y="1197000"/>
            <a:ext cx="813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11448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平方根恰是本身的数是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_____;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算术平方根恰是本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395280" y="1628640"/>
            <a:ext cx="813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11448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身的数是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______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5076720" y="1197000"/>
            <a:ext cx="4320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1908000" y="1628640"/>
            <a:ext cx="432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124000" y="1628640"/>
            <a:ext cx="7923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826920" y="2133720"/>
            <a:ext cx="640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11448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 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平方是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_____; 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平方根是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_____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3059280" y="2133720"/>
            <a:ext cx="7207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16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6012000" y="2133720"/>
            <a:ext cx="7207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±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4140360" y="2637000"/>
            <a:ext cx="5029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7596360" y="2637000"/>
            <a:ext cx="7207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±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7" name=""/>
          <p:cNvGrpSpPr/>
          <p:nvPr/>
        </p:nvGrpSpPr>
        <p:grpSpPr>
          <a:xfrm>
            <a:off x="826920" y="2637000"/>
            <a:ext cx="7993080" cy="1081080"/>
            <a:chOff x="826920" y="2637000"/>
            <a:chExt cx="7993080" cy="1081080"/>
          </a:xfrm>
        </p:grpSpPr>
        <p:sp>
          <p:nvSpPr>
            <p:cNvPr id="718" name=""/>
            <p:cNvSpPr/>
            <p:nvPr/>
          </p:nvSpPr>
          <p:spPr>
            <a:xfrm>
              <a:off x="826920" y="2637000"/>
              <a:ext cx="7993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114480"/>
                  <a:tab algn="l" pos="343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3. 9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的算术平方根是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_____;  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的平方根是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_____.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9" name=""/>
            <p:cNvGrpSpPr/>
            <p:nvPr/>
          </p:nvGrpSpPr>
          <p:grpSpPr>
            <a:xfrm>
              <a:off x="4788000" y="2637000"/>
              <a:ext cx="1152360" cy="576000"/>
              <a:chOff x="4788000" y="2637000"/>
              <a:chExt cx="1152360" cy="576000"/>
            </a:xfrm>
          </p:grpSpPr>
          <p:sp>
            <p:nvSpPr>
              <p:cNvPr id="720" name=""/>
              <p:cNvSpPr/>
              <p:nvPr/>
            </p:nvSpPr>
            <p:spPr>
              <a:xfrm>
                <a:off x="4788000" y="2637000"/>
                <a:ext cx="1152360" cy="576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Times New Roman"/>
                  </a:rPr>
                  <a:t>√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16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5219640" y="2779560"/>
                <a:ext cx="502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2" name=""/>
            <p:cNvGrpSpPr/>
            <p:nvPr/>
          </p:nvGrpSpPr>
          <p:grpSpPr>
            <a:xfrm>
              <a:off x="826920" y="3141720"/>
              <a:ext cx="7993080" cy="576360"/>
              <a:chOff x="826920" y="3141720"/>
              <a:chExt cx="7993080" cy="576360"/>
            </a:xfrm>
          </p:grpSpPr>
          <p:sp>
            <p:nvSpPr>
              <p:cNvPr id="723" name=""/>
              <p:cNvSpPr/>
              <p:nvPr/>
            </p:nvSpPr>
            <p:spPr>
              <a:xfrm>
                <a:off x="826920" y="3141720"/>
                <a:ext cx="7993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tabLst>
                    <a:tab algn="l" pos="0"/>
                    <a:tab algn="l" pos="114480"/>
                    <a:tab algn="l" pos="3430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4.           =_____;   </a:t>
                </a: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- 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</a:rPr>
                  <a:t>         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=_____;  ±         =____.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24" name=""/>
              <p:cNvGrpSpPr/>
              <p:nvPr/>
            </p:nvGrpSpPr>
            <p:grpSpPr>
              <a:xfrm>
                <a:off x="3564000" y="3141720"/>
                <a:ext cx="1152360" cy="576360"/>
                <a:chOff x="3564000" y="3141720"/>
                <a:chExt cx="1152360" cy="576360"/>
              </a:xfrm>
            </p:grpSpPr>
            <p:sp>
              <p:nvSpPr>
                <p:cNvPr id="725" name=""/>
                <p:cNvSpPr/>
                <p:nvPr/>
              </p:nvSpPr>
              <p:spPr>
                <a:xfrm>
                  <a:off x="3564000" y="3141720"/>
                  <a:ext cx="1152360" cy="576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3200" spc="-1" strike="noStrike">
                      <a:solidFill>
                        <a:srgbClr val="000000"/>
                      </a:solidFill>
                      <a:latin typeface="Times New Roman"/>
                    </a:rPr>
                    <a:t>√</a:t>
                  </a:r>
                  <a:r>
                    <a:rPr b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36 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6" name=""/>
                <p:cNvSpPr/>
                <p:nvPr/>
              </p:nvSpPr>
              <p:spPr>
                <a:xfrm>
                  <a:off x="3995640" y="3284640"/>
                  <a:ext cx="5029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7" name=""/>
              <p:cNvGrpSpPr/>
              <p:nvPr/>
            </p:nvGrpSpPr>
            <p:grpSpPr>
              <a:xfrm>
                <a:off x="1116000" y="3141720"/>
                <a:ext cx="1152360" cy="576360"/>
                <a:chOff x="1116000" y="3141720"/>
                <a:chExt cx="1152360" cy="576360"/>
              </a:xfrm>
            </p:grpSpPr>
            <p:sp>
              <p:nvSpPr>
                <p:cNvPr id="728" name=""/>
                <p:cNvSpPr/>
                <p:nvPr/>
              </p:nvSpPr>
              <p:spPr>
                <a:xfrm>
                  <a:off x="1116000" y="3141720"/>
                  <a:ext cx="1152360" cy="576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3200" spc="-1" strike="noStrike">
                      <a:solidFill>
                        <a:srgbClr val="000000"/>
                      </a:solidFill>
                      <a:latin typeface="Times New Roman"/>
                    </a:rPr>
                    <a:t>√</a:t>
                  </a:r>
                  <a:r>
                    <a:rPr b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25 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9" name=""/>
                <p:cNvSpPr/>
                <p:nvPr/>
              </p:nvSpPr>
              <p:spPr>
                <a:xfrm>
                  <a:off x="1547640" y="3284640"/>
                  <a:ext cx="5029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0" name=""/>
              <p:cNvGrpSpPr/>
              <p:nvPr/>
            </p:nvGrpSpPr>
            <p:grpSpPr>
              <a:xfrm>
                <a:off x="6156360" y="3141720"/>
                <a:ext cx="1152360" cy="576360"/>
                <a:chOff x="6156360" y="3141720"/>
                <a:chExt cx="1152360" cy="576360"/>
              </a:xfrm>
            </p:grpSpPr>
            <p:sp>
              <p:nvSpPr>
                <p:cNvPr id="731" name=""/>
                <p:cNvSpPr/>
                <p:nvPr/>
              </p:nvSpPr>
              <p:spPr>
                <a:xfrm>
                  <a:off x="6156360" y="3141720"/>
                  <a:ext cx="1152360" cy="576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3200" spc="-1" strike="noStrike">
                      <a:solidFill>
                        <a:srgbClr val="000000"/>
                      </a:solidFill>
                      <a:latin typeface="Times New Roman"/>
                    </a:rPr>
                    <a:t>√</a:t>
                  </a:r>
                  <a:r>
                    <a:rPr b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49 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2" name=""/>
                <p:cNvSpPr/>
                <p:nvPr/>
              </p:nvSpPr>
              <p:spPr>
                <a:xfrm>
                  <a:off x="6588000" y="3284640"/>
                  <a:ext cx="5029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733" name=""/>
          <p:cNvSpPr/>
          <p:nvPr/>
        </p:nvSpPr>
        <p:spPr>
          <a:xfrm>
            <a:off x="2627280" y="3141720"/>
            <a:ext cx="5032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5003640" y="3141720"/>
            <a:ext cx="6480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-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7380360" y="3141720"/>
            <a:ext cx="7207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±7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826920" y="3645000"/>
            <a:ext cx="792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11448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. 8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算术平方根是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____;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9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平方根是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4284720" y="3645000"/>
            <a:ext cx="5047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9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3132000" y="4581360"/>
            <a:ext cx="648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8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7451640" y="3645000"/>
            <a:ext cx="7207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±9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539640" y="4149720"/>
            <a:ext cx="7704360" cy="1008000"/>
            <a:chOff x="539640" y="4149720"/>
            <a:chExt cx="7704360" cy="1008000"/>
          </a:xfrm>
        </p:grpSpPr>
        <p:sp>
          <p:nvSpPr>
            <p:cNvPr id="741" name=""/>
            <p:cNvSpPr/>
            <p:nvPr/>
          </p:nvSpPr>
          <p:spPr>
            <a:xfrm>
              <a:off x="826920" y="4149720"/>
              <a:ext cx="741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114480"/>
                  <a:tab algn="l" pos="343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6.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若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=9,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则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=____;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若    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=9 ,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则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=____;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42" name=""/>
            <p:cNvGrpSpPr/>
            <p:nvPr/>
          </p:nvGrpSpPr>
          <p:grpSpPr>
            <a:xfrm>
              <a:off x="4427640" y="4149720"/>
              <a:ext cx="1152360" cy="576360"/>
              <a:chOff x="4427640" y="4149720"/>
              <a:chExt cx="1152360" cy="576360"/>
            </a:xfrm>
          </p:grpSpPr>
          <p:sp>
            <p:nvSpPr>
              <p:cNvPr id="743" name=""/>
              <p:cNvSpPr/>
              <p:nvPr/>
            </p:nvSpPr>
            <p:spPr>
              <a:xfrm>
                <a:off x="4427640" y="4149720"/>
                <a:ext cx="1152360" cy="57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Times New Roman"/>
                  </a:rPr>
                  <a:t>√</a:t>
                </a: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1" lang="en-US" sz="2800" spc="-1" strike="noStrike" baseline="30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4859280" y="4292640"/>
                <a:ext cx="502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5" name=""/>
            <p:cNvSpPr/>
            <p:nvPr/>
          </p:nvSpPr>
          <p:spPr>
            <a:xfrm>
              <a:off x="539640" y="4581360"/>
              <a:ext cx="741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114480"/>
                  <a:tab algn="l" pos="343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若</a:t>
              </a:r>
              <a:r>
                <a:rPr b="1" i="1" lang="zh-CN" sz="2800" spc="-1" strike="noStrike">
                  <a:solidFill>
                    <a:srgbClr val="000000"/>
                  </a:solidFill>
                  <a:latin typeface="Times New Roman"/>
                </a:rPr>
                <a:t>   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=9,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则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=____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46" name=""/>
            <p:cNvGrpSpPr/>
            <p:nvPr/>
          </p:nvGrpSpPr>
          <p:grpSpPr>
            <a:xfrm>
              <a:off x="826920" y="4581360"/>
              <a:ext cx="1152720" cy="576360"/>
              <a:chOff x="826920" y="4581360"/>
              <a:chExt cx="1152720" cy="576360"/>
            </a:xfrm>
          </p:grpSpPr>
          <p:sp>
            <p:nvSpPr>
              <p:cNvPr id="747" name=""/>
              <p:cNvSpPr/>
              <p:nvPr/>
            </p:nvSpPr>
            <p:spPr>
              <a:xfrm>
                <a:off x="826920" y="4581360"/>
                <a:ext cx="1152720" cy="57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√</a:t>
                </a: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1258920" y="4724280"/>
                <a:ext cx="28872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49" name=""/>
          <p:cNvGrpSpPr/>
          <p:nvPr/>
        </p:nvGrpSpPr>
        <p:grpSpPr>
          <a:xfrm>
            <a:off x="539640" y="5084640"/>
            <a:ext cx="8353440" cy="952560"/>
            <a:chOff x="539640" y="5084640"/>
            <a:chExt cx="8353440" cy="952560"/>
          </a:xfrm>
        </p:grpSpPr>
        <p:sp>
          <p:nvSpPr>
            <p:cNvPr id="750" name=""/>
            <p:cNvSpPr/>
            <p:nvPr/>
          </p:nvSpPr>
          <p:spPr>
            <a:xfrm>
              <a:off x="826920" y="5084640"/>
              <a:ext cx="8066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114480"/>
                  <a:tab algn="l" pos="343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7.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若一个正数的两个平方根是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和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m-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4,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则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=____;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539640" y="5516640"/>
              <a:ext cx="8066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114480"/>
                  <a:tab algn="l" pos="343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且这个正数值是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____.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2" name=""/>
          <p:cNvSpPr/>
          <p:nvPr/>
        </p:nvSpPr>
        <p:spPr>
          <a:xfrm>
            <a:off x="3276720" y="4149720"/>
            <a:ext cx="7207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±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6948360" y="4149720"/>
            <a:ext cx="7207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±9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8028000" y="5084640"/>
            <a:ext cx="4316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3276720" y="5516640"/>
            <a:ext cx="4316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lu"/>
  </p:transition>
  <p:timing>
    <p:tnLst>
      <p:par>
        <p:cTn id="709" dur="indefinite" restart="never" nodeType="tmRoot">
          <p:childTnLst>
            <p:seq>
              <p:cTn id="710" dur="indefinite" nodeType="mainSeq">
                <p:childTnLst>
                  <p:par>
                    <p:cTn id="711" fill="hold">
                      <p:stCondLst>
                        <p:cond delay="0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5" dur="5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fill="hold">
                            <p:stCondLst>
                              <p:cond delay="500"/>
                            </p:stCondLst>
                            <p:childTnLst>
                              <p:par>
                                <p:cTn id="7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9" dur="5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3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3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3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3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3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6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6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6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7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7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fill="hold">
                            <p:stCondLst>
                              <p:cond delay="2000"/>
                            </p:stCondLst>
                            <p:childTnLst>
                              <p:par>
                                <p:cTn id="7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7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8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8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9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9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9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0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0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0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1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1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4" fill="hold">
                            <p:stCondLst>
                              <p:cond delay="2000"/>
                            </p:stCondLst>
                            <p:childTnLst>
                              <p:par>
                                <p:cTn id="8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7" dur="10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2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2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3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3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3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4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4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4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5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5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4" fill="hold">
                            <p:stCondLst>
                              <p:cond delay="2000"/>
                            </p:stCondLst>
                            <p:childTnLst>
                              <p:par>
                                <p:cTn id="8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7" dur="10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6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6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7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7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7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8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8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8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9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9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0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0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0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0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1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2" fill="hold">
                            <p:stCondLst>
                              <p:cond delay="2000"/>
                            </p:stCondLst>
                            <p:childTnLst>
                              <p:par>
                                <p:cTn id="9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5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fill="hold">
                      <p:stCondLst>
                        <p:cond delay="indefinite"/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2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2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2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3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3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fill="hold">
                      <p:stCondLst>
                        <p:cond delay="indefinite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4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4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4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4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5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2" fill="hold">
                            <p:stCondLst>
                              <p:cond delay="2000"/>
                            </p:stCondLst>
                            <p:childTnLst>
                              <p:par>
                                <p:cTn id="95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5" dur="10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6" dur="10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7" dur="10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6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6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7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7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7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8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8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8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9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9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0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0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0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0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0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0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1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1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01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5" dur="10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6" dur="10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7" dur="10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2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2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3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3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3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3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3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3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4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4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4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5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5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盛龙平</dc:creator>
  <dc:description/>
  <dc:language>en-US</dc:language>
  <cp:lastModifiedBy>User</cp:lastModifiedBy>
  <dcterms:modified xsi:type="dcterms:W3CDTF">2008-09-01T07:57:09Z</dcterms:modified>
  <cp:revision>391</cp:revision>
  <dc:subject>初二数学备课</dc:subject>
  <dc:title>平方根与立方根</dc:title>
</cp:coreProperties>
</file>