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748-CA7F-4F4D-96F7-92482E51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C6A-49A4-488B-8BAD-F18FE902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0484F-8AC1-4266-B863-C2C202E6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FC42-E717-4872-B477-D0E9A7B7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25E8-29BF-4A9C-8701-F6447B2B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06120-9A88-427C-9B57-D132DFA7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7FD8F-B4D4-4080-8609-1DBD3A4B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E2797-B35F-4D3A-BFA9-18523AB5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CAD3C-4945-4863-86B6-72F45DC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8EDD6-4278-4BA7-92C3-D443D2EF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DBE5B-28A1-4F37-86C7-FAB1495C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40602D-CD92-4338-8E02-8C80BD30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B5A-E327-4E47-B4FA-5A86711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D1CD42-8118-4EE3-BDE9-2BD6C64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95C809-B373-4998-8364-283E6048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16CA7F-1610-4E19-9430-6593C7A4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C4FCF5-D8C3-4DAE-828C-FF494488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15C6D3-EBB8-40D1-AEAC-C1643C0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74F5B1-0C69-467A-90EA-E46AD04D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03BFBB-1DA2-46FC-A7A2-1771A8F4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6D53C4-7BA1-4A4A-B85A-FFE87D40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F701E-C1FE-445E-899B-AAB9C85B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FA8911-5B10-4081-B40F-27AE64DA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6CF-7CB6-4638-A5C0-ACB66A97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B677FE-F099-4A72-BBEA-3C5C237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04F61-AD0F-410A-ADF3-DAD90B14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7EE61-4C2C-4C46-9DDF-34C3813E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844D7-24D6-4B7A-B4F6-E75AC029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AF3A0-A66F-44A6-9911-A6FACA13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26B3-CD68-4CB7-B969-AA1B05FC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8CA93-D413-4844-9B11-778759DA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E99F8-C687-4A0A-915C-F6C13A3D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57424-0715-425D-9DD8-2DBFE84C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2FED2-1AF2-4A1A-AB18-A573325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D712-7401-4EB3-BB2B-96EA58B1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5B445-245C-4A70-B90A-E1CEE108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77429-16E1-40CF-8C9B-E0E80447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DADD0-D7D9-42AE-8089-A464B72B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ADFA-739A-4E00-9987-A21996FE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7E8F-9096-49AD-A9C6-4F671469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17B9-B6E3-4830-84C8-A8334256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F4DF-75C2-4263-ABDC-F0AC0D18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BBFA-FBC2-46EB-B71D-E09BA857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71DD-FF72-46F6-BFF8-132683C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F0E-EA4A-43F2-9093-B25CEF9B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DB2B-9C4A-4D02-AC58-D87AD1D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55FD-B66D-40E9-A772-A4A1F0F3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FB38-62F0-4D27-A694-3750F726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4678-569A-403B-91D0-03822FAD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EF07-873E-43F0-890F-7BD73666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3BD1D-176C-4491-8C9F-2EBC60F4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06ECA-EED5-43FC-A9A1-7EDBC491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8646-1DE5-4C80-8C18-98735529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C0E63-05B5-4E42-AA76-27C7BA1A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0228-7822-4FF7-8E54-4848E5CC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980-A80B-4B9E-9EAE-13907501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469BC-2792-45FF-811B-31BD6DD3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46F3F-19EA-43C8-9346-E8BB7DFF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04DA-7BDE-403C-8E35-0DED6CA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7B04F-1C54-4283-8E82-DDBA436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2F737-1E36-42FB-A3E3-853A517C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F335-0F20-45DE-8E24-08F4B47F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1546-F138-49B9-87AF-CFC578AC3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01E06-DA45-46F8-B451-57AAF487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63D7-6FCD-4295-89E0-F1E4640F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264B1-74F6-485C-8CDE-78200E37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5BF-C217-4A5A-A731-868B26C6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990EF-8900-4750-BDBC-14CEDD5D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F0A7D-6B08-4DF1-A906-70C0AEE8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B55A6-494C-4977-9598-4DE6F2A2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3ED14-1559-4906-9924-89221E3D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6B35-0E13-4A46-ACBE-8F03C7D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355B2-3A58-429D-8EC5-A69A7438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FC04-D2A0-4D1E-8B57-31FF1AA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981BB-9052-4C57-9A89-EF39D0B2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05C2-9284-4FB8-BB9C-7ACDA8BD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E00E7-3E01-49D4-A622-F54A5B9F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79F-3044-4879-BBD2-046C10F4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F94BB-5E3C-455B-BCC9-139EA290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BBAB7-41B8-4128-8844-DD76BDE6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6F5B-FEE6-41B1-9799-C53E2EB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8D5A-F810-426F-97C3-24E5FF15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D4007-2345-4E4E-A778-FB660540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A6BB-BF60-4C4D-B79B-5B8A9CF0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F91E2-1083-48DB-95B8-DB5E047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FC8D0-315F-4E62-A186-1343F84F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9E7C8-C5C3-4EBB-AB99-8355968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DBED-F881-487D-98B0-8EF269DC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3D5-8CC9-4734-B41C-AD21FF23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073A-8581-4295-9028-7C07FF60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ADE95-7468-4FE4-BDA7-7802D8C6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38592-6789-42A1-9F3A-E9491AE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5ACD8-BC4F-49F0-BD96-C39E5B9A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994CF-1C22-4A1F-80CD-B02C0AC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551B2-AA70-4699-BF34-E9B2A68C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54BFA-0DED-4A11-B1F2-F759B3B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5E87E-6966-4D92-B878-F5DD37E8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9D64-892A-4617-B7C2-816A6143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DBBFA-B5FF-486A-A53E-6A8F4178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76D-F401-403E-B878-BAFA1609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BE338-A46C-426D-B39C-59A43BA5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D10B-6D0B-4550-B01F-EA6D5869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D8851-1F6A-4624-9F51-309E0A09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8BE36-785D-4291-9DCE-1F7EED3D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4A8B5-9D8E-44E7-B1D2-6B143D07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77B6-3AAF-4F98-8499-30779267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012E7-EF20-46C5-8F78-99F38F30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117D6-B6B7-4A64-AC9F-35F9241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B972C-2B1E-4E60-A62B-7FC18B98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AF724-0C61-4863-8965-5EEEBDC5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115-35B2-490A-A04F-3955054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35B3-3F74-4B7E-BCF0-59FED16A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1AC20-C042-4B8A-9701-DABA6636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E8F77-2B6A-425A-8DDC-D356CE7F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A591-6F47-4E64-961C-C5084091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BE27-9A1A-461D-A725-DA49619D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1B27D-C260-433F-BCA4-8C86B065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E47F-FAFB-4A08-B0E8-3B3E28FC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7BDEA-C343-4481-ABA4-D1692EF6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92AD2-0770-46F1-8790-7743C156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42259-0075-4459-B4C8-5334E02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453D-EA0B-4B00-B596-1FA4A9CD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9654A-F0DB-4D14-82D3-CB9509B7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D9695-C476-4A48-B6FE-B15FFF00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E81B2-2578-47BA-A4F6-A623F548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6F39-B8F1-47AC-806D-3B75BED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A65D1-EC73-4A2A-BFDC-6658539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90CFB-A23C-4633-B6DC-4A818F26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AD5D-9E3F-4AB0-9716-7FBCE240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AFB16-2C28-489A-A47F-06B57FD8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EA252-FF54-44E6-A522-F0B0F0D4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AEE05-682F-480B-A7FE-45290858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C44A-883B-48AF-854A-E5DD066704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F5A1-F9D7-41BD-A5A8-7F97794D163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1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PlaceHolder 1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3723-F3C5-4C22-9983-23BC124B48F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9FD8-7B23-409F-9B5E-6ECC9CD68AC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09C4-1DCD-420B-8050-36C2E1949BF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CCDE-1A03-485A-9F78-F3D53C8FCB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3442-7716-4EB8-8A4E-31A37C53AB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F9E5-817B-4F24-A403-9EB1AA6E772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5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1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52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5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6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8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6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9588-50CD-4AF3-B6E8-829CD8A0372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9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3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9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3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A453-7143-4621-918C-263466E153D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FCF4-2214-468B-A7F2-4F31FB68DD1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539640" y="476280"/>
            <a:ext cx="609624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欢迎同学们</a:t>
            </a:r>
            <a:endParaRPr b="1" lang="en-US" sz="96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/>
          <p:nvPr/>
        </p:nvSpPr>
        <p:spPr>
          <a:xfrm>
            <a:off x="684360" y="2349360"/>
            <a:ext cx="76690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Arial Black"/>
                <a:ea typeface="华文行楷"/>
              </a:rPr>
              <a:t>愉快学习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00"/>
                </a:solidFill>
                <a:latin typeface="Arial Black"/>
                <a:ea typeface="华文行楷"/>
              </a:rPr>
              <a:t>新 学 年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95280" y="333360"/>
            <a:ext cx="1511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68360" y="1052640"/>
            <a:ext cx="712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表述正确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26920" y="155736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             B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26920" y="2062080"/>
            <a:ext cx="76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2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468360" y="2492280"/>
            <a:ext cx="8064360" cy="1008000"/>
            <a:chOff x="468360" y="2492280"/>
            <a:chExt cx="8064360" cy="1008000"/>
          </a:xfrm>
        </p:grpSpPr>
        <p:sp>
          <p:nvSpPr>
            <p:cNvPr id="712" name=""/>
            <p:cNvSpPr/>
            <p:nvPr/>
          </p:nvSpPr>
          <p:spPr>
            <a:xfrm>
              <a:off x="468360" y="2492280"/>
              <a:ext cx="712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下列各数中没有平方根的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         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900000" y="2924280"/>
              <a:ext cx="7632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 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        B. 0           C.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              D.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64000" y="306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96000" y="306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468360" y="3357720"/>
            <a:ext cx="8424720" cy="1439280"/>
            <a:chOff x="468360" y="3357720"/>
            <a:chExt cx="8424720" cy="1439280"/>
          </a:xfrm>
        </p:grpSpPr>
        <p:sp>
          <p:nvSpPr>
            <p:cNvPr id="717" name=""/>
            <p:cNvSpPr/>
            <p:nvPr/>
          </p:nvSpPr>
          <p:spPr>
            <a:xfrm>
              <a:off x="468360" y="3357720"/>
              <a:ext cx="842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下列各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 0, 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)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, 3.14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,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中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88000" y="350172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19640" y="350172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84720" y="3428640"/>
              <a:ext cx="5032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3200" spc="-1" strike="noStrike">
                  <a:solidFill>
                    <a:srgbClr val="000000"/>
                  </a:solidFill>
                  <a:latin typeface="宋体"/>
                </a:rPr>
                <a:t>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68360" y="3789000"/>
              <a:ext cx="8424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方根的数的个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         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00000" y="4221000"/>
              <a:ext cx="76327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. 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. 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. 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. 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39640" y="4508640"/>
            <a:ext cx="8352000" cy="1225440"/>
            <a:chOff x="539640" y="4508640"/>
            <a:chExt cx="8352000" cy="1225440"/>
          </a:xfrm>
        </p:grpSpPr>
        <p:sp>
          <p:nvSpPr>
            <p:cNvPr id="724" name=""/>
            <p:cNvSpPr/>
            <p:nvPr/>
          </p:nvSpPr>
          <p:spPr>
            <a:xfrm>
              <a:off x="539640" y="4653000"/>
              <a:ext cx="792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平方得      的数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;     6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开平方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5" name=""/>
            <p:cNvGrpSpPr/>
            <p:nvPr/>
          </p:nvGrpSpPr>
          <p:grpSpPr>
            <a:xfrm>
              <a:off x="2050920" y="4508640"/>
              <a:ext cx="576360" cy="863280"/>
              <a:chOff x="2050920" y="4508640"/>
              <a:chExt cx="576360" cy="863280"/>
            </a:xfrm>
          </p:grpSpPr>
          <p:sp>
            <p:nvSpPr>
              <p:cNvPr id="726" name=""/>
              <p:cNvSpPr/>
              <p:nvPr/>
            </p:nvSpPr>
            <p:spPr>
              <a:xfrm>
                <a:off x="2050920" y="4508640"/>
                <a:ext cx="5763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122560" y="494028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050920" y="4867200"/>
                <a:ext cx="576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>
              <a:off x="971640" y="5157720"/>
              <a:ext cx="792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平方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;     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)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平方根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_____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4067280" y="1125360"/>
            <a:ext cx="64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35640" y="2565360"/>
            <a:ext cx="64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32846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700360" y="3284640"/>
            <a:ext cx="431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35280" y="328464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443640" y="3284640"/>
            <a:ext cx="432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635280" y="3860640"/>
            <a:ext cx="649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3708360" y="4365720"/>
            <a:ext cx="934920" cy="863640"/>
            <a:chOff x="3708360" y="4365720"/>
            <a:chExt cx="934920" cy="863640"/>
          </a:xfrm>
        </p:grpSpPr>
        <p:sp>
          <p:nvSpPr>
            <p:cNvPr id="738" name=""/>
            <p:cNvSpPr/>
            <p:nvPr/>
          </p:nvSpPr>
          <p:spPr>
            <a:xfrm>
              <a:off x="3995640" y="4724280"/>
              <a:ext cx="5763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708360" y="4508640"/>
              <a:ext cx="93492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±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995640" y="4365720"/>
              <a:ext cx="57636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138560" y="4797360"/>
              <a:ext cx="290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7164360" y="465300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08000" y="5157720"/>
            <a:ext cx="93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236000" y="515772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971640" y="836640"/>
            <a:ext cx="338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981e5b"/>
                  </a:outerShdw>
                </a:effectLst>
                <a:latin typeface="隶书"/>
              </a:rPr>
              <a:t>思维拓展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981e5b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46" name=""/>
          <p:cNvSpPr/>
          <p:nvPr/>
        </p:nvSpPr>
        <p:spPr>
          <a:xfrm>
            <a:off x="1042920" y="2205000"/>
            <a:ext cx="46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求下列各式中的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403280" y="2852640"/>
            <a:ext cx="24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03280" y="3573360"/>
            <a:ext cx="244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 64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2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03280" y="4365720"/>
            <a:ext cx="2449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(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203640" y="306864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51280" y="2852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±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64000" y="378936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4140360" y="3429000"/>
            <a:ext cx="1441440" cy="861480"/>
            <a:chOff x="4140360" y="3429000"/>
            <a:chExt cx="1441440" cy="861480"/>
          </a:xfrm>
        </p:grpSpPr>
        <p:sp>
          <p:nvSpPr>
            <p:cNvPr id="754" name=""/>
            <p:cNvSpPr/>
            <p:nvPr/>
          </p:nvSpPr>
          <p:spPr>
            <a:xfrm>
              <a:off x="4140360" y="357336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4861080" y="3429000"/>
              <a:ext cx="504720" cy="861480"/>
              <a:chOff x="4861080" y="3429000"/>
              <a:chExt cx="504720" cy="861480"/>
            </a:xfrm>
          </p:grpSpPr>
          <p:sp>
            <p:nvSpPr>
              <p:cNvPr id="756" name=""/>
              <p:cNvSpPr/>
              <p:nvPr/>
            </p:nvSpPr>
            <p:spPr>
              <a:xfrm>
                <a:off x="4861080" y="3429000"/>
                <a:ext cx="5032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861080" y="3715920"/>
                <a:ext cx="5032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861080" y="386064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5580000" y="378936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156360" y="357336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7093080" y="3500280"/>
            <a:ext cx="360360" cy="719280"/>
            <a:chOff x="7093080" y="3500280"/>
            <a:chExt cx="360360" cy="719280"/>
          </a:xfrm>
        </p:grpSpPr>
        <p:sp>
          <p:nvSpPr>
            <p:cNvPr id="762" name=""/>
            <p:cNvSpPr/>
            <p:nvPr/>
          </p:nvSpPr>
          <p:spPr>
            <a:xfrm>
              <a:off x="7093080" y="3500280"/>
              <a:ext cx="36036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93080" y="3787560"/>
              <a:ext cx="360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093080" y="38606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3564000" y="4581360"/>
            <a:ext cx="576360" cy="144720"/>
          </a:xfrm>
          <a:prstGeom prst="rightArrow">
            <a:avLst>
              <a:gd name="adj1" fmla="val 50000"/>
              <a:gd name="adj2" fmla="val 995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40360" y="4365720"/>
            <a:ext cx="1726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±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796000" y="4581360"/>
            <a:ext cx="576360" cy="144720"/>
          </a:xfrm>
          <a:prstGeom prst="rightArrow">
            <a:avLst>
              <a:gd name="adj1" fmla="val 50000"/>
              <a:gd name="adj2" fmla="val 9956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372360" y="4365720"/>
            <a:ext cx="1079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64360" y="4365720"/>
            <a:ext cx="15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或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0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4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2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539640" y="47628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布置作业</a:t>
            </a:r>
            <a:endParaRPr b="1" lang="en-US" sz="6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71" name=""/>
          <p:cNvSpPr/>
          <p:nvPr/>
        </p:nvSpPr>
        <p:spPr>
          <a:xfrm>
            <a:off x="3059280" y="2637000"/>
            <a:ext cx="396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00"/>
                </a:solidFill>
                <a:latin typeface="Arial Black"/>
                <a:ea typeface="华文行楷"/>
              </a:rPr>
              <a:t>再 见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1" dur="1" fill="hold">
                                    <p:stCondLst>
                                      <p:cond evt="end">
                                        <p:tn val="817"/>
                                      </p:cond>
                                    </p:stCondLst>
                                  </p:cTn>
                                  <p:tgtEl>
                                    <p:spTgt spid="7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0"/>
                            </p:stCondLst>
                            <p:childTnLst>
                              <p:par>
                                <p:cTn id="82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36" descr="问09"/>
          <p:cNvPicPr/>
          <p:nvPr/>
        </p:nvPicPr>
        <p:blipFill>
          <a:blip r:embed="rId2"/>
          <a:stretch/>
        </p:blipFill>
        <p:spPr>
          <a:xfrm>
            <a:off x="3421080" y="3429000"/>
            <a:ext cx="79056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 rot="4828800">
            <a:off x="1980720" y="2563920"/>
            <a:ext cx="1150920" cy="576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43280" y="57340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Arial"/>
              </a:rPr>
              <a:t>江阴市峭岐中学   盛龙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40464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bc"/>
                </a:solidFill>
                <a:latin typeface="Arial"/>
                <a:ea typeface="华文行楷"/>
              </a:rPr>
              <a:t>初二数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95280" y="549360"/>
            <a:ext cx="828036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2.1 </a:t>
            </a:r>
            <a:r>
              <a:rPr b="1" lang="zh-CN" sz="2400" spc="1" strike="noStrike">
                <a:ln w="15840">
                  <a:solidFill>
                    <a:srgbClr val="ffffff"/>
                  </a:solidFill>
                  <a:prstDash val="dash"/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平方根与立方根</a:t>
            </a:r>
            <a:endParaRPr b="1" lang="en-US" sz="2400" spc="1" strike="noStrike">
              <a:ln w="15840">
                <a:solidFill>
                  <a:srgbClr val="ffffff"/>
                </a:solidFill>
                <a:prstDash val="dash"/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/>
          <p:nvPr/>
        </p:nvSpPr>
        <p:spPr>
          <a:xfrm>
            <a:off x="826920" y="134136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8000" y="3213000"/>
            <a:ext cx="223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20000" y="414972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ff00"/>
                </a:solidFill>
                <a:latin typeface="宋体"/>
              </a:rPr>
              <a:t>之一</a:t>
            </a:r>
            <a:r>
              <a:rPr b="1" lang="en-US" sz="4400" spc="-1" strike="noStrike">
                <a:solidFill>
                  <a:srgbClr val="00ff00"/>
                </a:solidFill>
                <a:latin typeface="宋体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826920" y="126828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面积为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25</a:t>
            </a:r>
            <a:r>
              <a:rPr b="1" i="1" lang="en-US" sz="2800" spc="-1" strike="noStrike">
                <a:solidFill>
                  <a:srgbClr val="0000bc"/>
                </a:solidFill>
                <a:latin typeface="Times New Roman"/>
              </a:rPr>
              <a:t>cm</a:t>
            </a:r>
            <a:r>
              <a:rPr b="1" lang="en-US" sz="2800" spc="-1" strike="noStrike" baseline="30000">
                <a:solidFill>
                  <a:srgbClr val="0000b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正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边长为多少呢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72360" y="1916280"/>
            <a:ext cx="2232000" cy="2233440"/>
            <a:chOff x="6372360" y="1916280"/>
            <a:chExt cx="2232000" cy="2233440"/>
          </a:xfrm>
        </p:grpSpPr>
        <p:sp>
          <p:nvSpPr>
            <p:cNvPr id="581" name=""/>
            <p:cNvSpPr/>
            <p:nvPr/>
          </p:nvSpPr>
          <p:spPr>
            <a:xfrm>
              <a:off x="6372360" y="1916280"/>
              <a:ext cx="2232000" cy="2233440"/>
            </a:xfrm>
            <a:prstGeom prst="rect">
              <a:avLst/>
            </a:prstGeom>
            <a:solidFill>
              <a:srgbClr val="99ccff">
                <a:alpha val="4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82200" y="2637000"/>
              <a:ext cx="128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r>
                <a:rPr b="1" i="1" lang="en-US" sz="2800" spc="-1" strike="noStrike">
                  <a:solidFill>
                    <a:srgbClr val="0000bc"/>
                  </a:solidFill>
                  <a:latin typeface="Times New Roman"/>
                </a:rPr>
                <a:t>cm</a:t>
              </a:r>
              <a:r>
                <a:rPr b="1" lang="en-US" sz="2800" spc="-1" strike="noStrike" baseline="30000">
                  <a:solidFill>
                    <a:srgbClr val="0000bc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6720" y="1916280"/>
            <a:ext cx="1871640" cy="1872720"/>
            <a:chOff x="6516720" y="1916280"/>
            <a:chExt cx="1871640" cy="1872720"/>
          </a:xfrm>
        </p:grpSpPr>
        <p:sp>
          <p:nvSpPr>
            <p:cNvPr id="584" name=""/>
            <p:cNvSpPr/>
            <p:nvPr/>
          </p:nvSpPr>
          <p:spPr>
            <a:xfrm>
              <a:off x="6516720" y="1916280"/>
              <a:ext cx="1871640" cy="1872720"/>
            </a:xfrm>
            <a:prstGeom prst="rect">
              <a:avLst/>
            </a:prstGeom>
            <a:solidFill>
              <a:srgbClr val="99ccff">
                <a:alpha val="4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4360" y="248652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7164360" y="4076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bc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24000" y="40464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问题情景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88" name=""/>
          <p:cNvSpPr/>
          <p:nvPr/>
        </p:nvSpPr>
        <p:spPr>
          <a:xfrm>
            <a:off x="7380360" y="3429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6659640" y="1916280"/>
            <a:ext cx="1584360" cy="1584000"/>
            <a:chOff x="6659640" y="1916280"/>
            <a:chExt cx="1584360" cy="1584000"/>
          </a:xfrm>
        </p:grpSpPr>
        <p:sp>
          <p:nvSpPr>
            <p:cNvPr id="590" name=""/>
            <p:cNvSpPr/>
            <p:nvPr/>
          </p:nvSpPr>
          <p:spPr>
            <a:xfrm>
              <a:off x="6659640" y="1916280"/>
              <a:ext cx="1584360" cy="1584000"/>
            </a:xfrm>
            <a:prstGeom prst="rect">
              <a:avLst/>
            </a:prstGeom>
            <a:solidFill>
              <a:srgbClr val="99ccff">
                <a:alpha val="46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236000" y="234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2050920" y="2276640"/>
            <a:ext cx="324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          </a:t>
            </a:r>
            <a:r>
              <a:rPr b="1" lang="en-US" sz="2800" spc="-1" strike="noStrike" baseline="30000">
                <a:solidFill>
                  <a:srgbClr val="0000bc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= 2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26920" y="3284640"/>
            <a:ext cx="4465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：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边长为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932360" y="3284640"/>
            <a:ext cx="57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804000" y="2276640"/>
            <a:ext cx="1368360" cy="1368360"/>
          </a:xfrm>
          <a:prstGeom prst="rect">
            <a:avLst/>
          </a:prstGeom>
          <a:solidFill>
            <a:srgbClr val="99ccff">
              <a:alpha val="46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236000" y="2492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236000" y="256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492360" y="23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边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63640" y="2781360"/>
            <a:ext cx="33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边长为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bc"/>
                </a:solidFill>
                <a:latin typeface="Times New Roman"/>
              </a:rPr>
              <a:t>c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236000" y="364500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47640" y="3789360"/>
            <a:ext cx="403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边长为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716360" y="3789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164360" y="3357720"/>
            <a:ext cx="4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4292640"/>
            <a:ext cx="468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边长为多少呢？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47640" y="4797360"/>
            <a:ext cx="475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面积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边长又如何呢？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4000" y="1773360"/>
            <a:ext cx="583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根据正方形的面积公式，</a:t>
            </a:r>
            <a:r>
              <a:rPr b="1" i="1" lang="zh-CN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00000" y="5300640"/>
            <a:ext cx="44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这时，可设其边长为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， </a:t>
            </a:r>
            <a:r>
              <a:rPr b="1" i="1" lang="zh-CN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88000" y="5300640"/>
            <a:ext cx="266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得到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 </a:t>
            </a:r>
            <a:r>
              <a:rPr b="1" i="1" lang="en-US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24000" y="620640"/>
            <a:ext cx="324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58008d"/>
                  </a:outerShdw>
                </a:effectLst>
                <a:latin typeface="华文彩云"/>
              </a:rPr>
              <a:t>新知概念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58008d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10" name=""/>
          <p:cNvSpPr/>
          <p:nvPr/>
        </p:nvSpPr>
        <p:spPr>
          <a:xfrm>
            <a:off x="1403280" y="1773360"/>
            <a:ext cx="72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果一个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平方</a:t>
            </a: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等于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360" y="2781360"/>
            <a:ext cx="8066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那么这个数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叫做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平方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55640" y="3789360"/>
            <a:ext cx="817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就是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b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称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64000" y="3789360"/>
            <a:ext cx="122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≥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3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11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95280" y="333360"/>
            <a:ext cx="1511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84360" y="105264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下列各数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16000" y="170028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                  ⑵ 0.49                    ⑶ 1.69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⑷                          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1692360" y="2349360"/>
            <a:ext cx="576000" cy="863280"/>
            <a:chOff x="1692360" y="2349360"/>
            <a:chExt cx="576000" cy="863280"/>
          </a:xfrm>
        </p:grpSpPr>
        <p:sp>
          <p:nvSpPr>
            <p:cNvPr id="618" name=""/>
            <p:cNvSpPr/>
            <p:nvPr/>
          </p:nvSpPr>
          <p:spPr>
            <a:xfrm>
              <a:off x="1692360" y="2349360"/>
              <a:ext cx="576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63640" y="2781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692360" y="2707920"/>
              <a:ext cx="5760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27640" y="2349360"/>
            <a:ext cx="504720" cy="863280"/>
            <a:chOff x="4427640" y="2349360"/>
            <a:chExt cx="504720" cy="863280"/>
          </a:xfrm>
        </p:grpSpPr>
        <p:sp>
          <p:nvSpPr>
            <p:cNvPr id="622" name=""/>
            <p:cNvSpPr/>
            <p:nvPr/>
          </p:nvSpPr>
          <p:spPr>
            <a:xfrm>
              <a:off x="4427640" y="270792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427640" y="2349360"/>
              <a:ext cx="50472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552560" y="2781000"/>
              <a:ext cx="25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"/>
          <p:cNvSpPr/>
          <p:nvPr/>
        </p:nvSpPr>
        <p:spPr>
          <a:xfrm>
            <a:off x="755640" y="3357720"/>
            <a:ext cx="9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6720" y="3357720"/>
            <a:ext cx="2448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0000b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=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40360" y="3357720"/>
            <a:ext cx="24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且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(-10)</a:t>
            </a:r>
            <a:r>
              <a:rPr b="1" lang="en-US" sz="2800" spc="-1" strike="noStrike" baseline="30000">
                <a:solidFill>
                  <a:srgbClr val="0000b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=10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4005360"/>
            <a:ext cx="43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平方根为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±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84360" y="1052640"/>
            <a:ext cx="619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各数的平方根会是怎样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16000" y="1700280"/>
            <a:ext cx="763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1                   ⑵ 2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⑶ (-4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⑷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                       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9640" y="3284640"/>
            <a:ext cx="25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平方根的情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58920" y="3789360"/>
            <a:ext cx="46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一个正数的平方根有两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96000" y="378936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它们是互为相反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58920" y="4365720"/>
            <a:ext cx="4321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平方根只有一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95280" y="260280"/>
            <a:ext cx="1800360" cy="647640"/>
          </a:xfrm>
          <a:prstGeom prst="rect">
            <a:avLst/>
          </a:prstGeom>
          <a:solidFill>
            <a:srgbClr val="99ccff">
              <a:alpha val="46000"/>
            </a:srgbClr>
          </a:solidFill>
          <a:ln w="1908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想一想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32360" y="4365720"/>
            <a:ext cx="3097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就是它本身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0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258920" y="4941720"/>
            <a:ext cx="4321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⑶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负数没有平方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95280" y="333360"/>
            <a:ext cx="1511280" cy="64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例练</a:t>
            </a: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26920" y="1197000"/>
            <a:ext cx="61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答下列各数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16000" y="1844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64000" y="1844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227640" y="1844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1116000" y="2708280"/>
            <a:ext cx="1441440" cy="863280"/>
            <a:chOff x="1116000" y="2708280"/>
            <a:chExt cx="1441440" cy="863280"/>
          </a:xfrm>
        </p:grpSpPr>
        <p:sp>
          <p:nvSpPr>
            <p:cNvPr id="644" name=""/>
            <p:cNvSpPr/>
            <p:nvPr/>
          </p:nvSpPr>
          <p:spPr>
            <a:xfrm>
              <a:off x="1116000" y="285264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⑷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1619280" y="2708280"/>
              <a:ext cx="576360" cy="863280"/>
              <a:chOff x="1619280" y="2708280"/>
              <a:chExt cx="576360" cy="863280"/>
            </a:xfrm>
          </p:grpSpPr>
          <p:sp>
            <p:nvSpPr>
              <p:cNvPr id="646" name=""/>
              <p:cNvSpPr/>
              <p:nvPr/>
            </p:nvSpPr>
            <p:spPr>
              <a:xfrm>
                <a:off x="1619280" y="2708280"/>
                <a:ext cx="57636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690920" y="31399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19280" y="3066840"/>
                <a:ext cx="57636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3564000" y="2708280"/>
            <a:ext cx="1441440" cy="863280"/>
            <a:chOff x="3564000" y="2708280"/>
            <a:chExt cx="1441440" cy="863280"/>
          </a:xfrm>
        </p:grpSpPr>
        <p:sp>
          <p:nvSpPr>
            <p:cNvPr id="650" name=""/>
            <p:cNvSpPr/>
            <p:nvPr/>
          </p:nvSpPr>
          <p:spPr>
            <a:xfrm>
              <a:off x="3564000" y="285264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⑸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4067280" y="2708280"/>
              <a:ext cx="576000" cy="863280"/>
              <a:chOff x="4067280" y="2708280"/>
              <a:chExt cx="576000" cy="863280"/>
            </a:xfrm>
          </p:grpSpPr>
          <p:sp>
            <p:nvSpPr>
              <p:cNvPr id="652" name=""/>
              <p:cNvSpPr/>
              <p:nvPr/>
            </p:nvSpPr>
            <p:spPr>
              <a:xfrm>
                <a:off x="4067280" y="2708280"/>
                <a:ext cx="5760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138560" y="3139920"/>
                <a:ext cx="43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67280" y="3066840"/>
                <a:ext cx="57600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6300720" y="2708280"/>
            <a:ext cx="1441440" cy="863280"/>
            <a:chOff x="6300720" y="2708280"/>
            <a:chExt cx="1441440" cy="863280"/>
          </a:xfrm>
        </p:grpSpPr>
        <p:sp>
          <p:nvSpPr>
            <p:cNvPr id="656" name=""/>
            <p:cNvSpPr/>
            <p:nvPr/>
          </p:nvSpPr>
          <p:spPr>
            <a:xfrm>
              <a:off x="6300720" y="2852640"/>
              <a:ext cx="1441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⑹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7020000" y="2708280"/>
              <a:ext cx="431640" cy="863280"/>
              <a:chOff x="7020000" y="2708280"/>
              <a:chExt cx="431640" cy="863280"/>
            </a:xfrm>
          </p:grpSpPr>
          <p:sp>
            <p:nvSpPr>
              <p:cNvPr id="658" name=""/>
              <p:cNvSpPr/>
              <p:nvPr/>
            </p:nvSpPr>
            <p:spPr>
              <a:xfrm>
                <a:off x="7020000" y="2708280"/>
                <a:ext cx="4316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073640" y="3139920"/>
                <a:ext cx="323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020000" y="3066840"/>
                <a:ext cx="43164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1116000" y="3860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35280" y="3860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372360" y="386064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4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16000" y="4869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8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635280" y="4869000"/>
            <a:ext cx="165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012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72360" y="4869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6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3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95280" y="260280"/>
            <a:ext cx="1800360" cy="647640"/>
          </a:xfrm>
          <a:prstGeom prst="rect">
            <a:avLst/>
          </a:prstGeom>
          <a:solidFill>
            <a:srgbClr val="99ccff">
              <a:alpha val="46000"/>
            </a:srgbClr>
          </a:solidFill>
          <a:ln w="19080">
            <a:solidFill>
              <a:srgbClr val="00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辨一辨</a:t>
            </a: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4360" y="1052640"/>
            <a:ext cx="71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列叙述正确的打“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错误的打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00000" y="155736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4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643280" y="148428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00000" y="2060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643280" y="198756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900000" y="256536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⑶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500720" y="256536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900000" y="306864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284720" y="2997360"/>
            <a:ext cx="934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900000" y="3573360"/>
            <a:ext cx="50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±25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716360" y="3573360"/>
            <a:ext cx="9352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00000" y="407664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427640" y="4005360"/>
            <a:ext cx="934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900000" y="458136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平方根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40360" y="4508640"/>
            <a:ext cx="93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900000" y="5084640"/>
            <a:ext cx="64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⑻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个平方根为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数是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27640" y="5013360"/>
            <a:ext cx="935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900000" y="5589720"/>
            <a:ext cx="64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⑼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一个平方根的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;    (    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51640" y="5589720"/>
            <a:ext cx="9349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79280" y="189000"/>
            <a:ext cx="2808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回顾小结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8" name=""/>
          <p:cNvSpPr/>
          <p:nvPr/>
        </p:nvSpPr>
        <p:spPr>
          <a:xfrm>
            <a:off x="468360" y="112536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平方根的概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42920" y="1557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当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=a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≥0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00b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时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就称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是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的平方根</a:t>
            </a:r>
            <a:r>
              <a:rPr b="1" lang="en-US" sz="32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2565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相关概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1280" y="2060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而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称为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的平方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708360" y="206064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即平方根是利用平方数来说的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71640" y="306864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任何数都有平方数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且只有一个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都有平方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39640" y="407664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843280" y="4508640"/>
            <a:ext cx="4176720" cy="593280"/>
            <a:chOff x="2843280" y="4508640"/>
            <a:chExt cx="4176720" cy="593280"/>
          </a:xfrm>
        </p:grpSpPr>
        <p:sp>
          <p:nvSpPr>
            <p:cNvPr id="697" name=""/>
            <p:cNvSpPr/>
            <p:nvPr/>
          </p:nvSpPr>
          <p:spPr>
            <a:xfrm>
              <a:off x="2843280" y="450864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11448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bc"/>
                  </a:solidFill>
                  <a:latin typeface="Times New Roman"/>
                </a:rPr>
                <a:t>通常记作</a:t>
              </a:r>
              <a:r>
                <a:rPr b="1" lang="en-US" sz="2800" spc="-1" strike="noStrike">
                  <a:solidFill>
                    <a:srgbClr val="0000bc"/>
                  </a:solidFill>
                  <a:latin typeface="Times New Roman"/>
                </a:rPr>
                <a:t>:  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=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±</a:t>
              </a:r>
              <a:r>
                <a:rPr b="1" i="1" lang="zh-CN" sz="2800" spc="-1" strike="noStrike">
                  <a:solidFill>
                    <a:srgbClr val="ff0000"/>
                  </a:solidFill>
                  <a:latin typeface="Times New Roman"/>
                </a:rPr>
                <a:t>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5075280" y="4581360"/>
              <a:ext cx="1224000" cy="520560"/>
              <a:chOff x="5075280" y="4581360"/>
              <a:chExt cx="1224000" cy="520560"/>
            </a:xfrm>
          </p:grpSpPr>
          <p:sp>
            <p:nvSpPr>
              <p:cNvPr id="699" name=""/>
              <p:cNvSpPr/>
              <p:nvPr/>
            </p:nvSpPr>
            <p:spPr>
              <a:xfrm>
                <a:off x="5075280" y="458136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114480"/>
                    <a:tab algn="l" pos="343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√</a:t>
                </a:r>
                <a:r>
                  <a:rPr b="1" i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06920" y="4726080"/>
                <a:ext cx="2890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1" name=""/>
          <p:cNvSpPr/>
          <p:nvPr/>
        </p:nvSpPr>
        <p:spPr>
          <a:xfrm>
            <a:off x="1979640" y="501336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求一个</a:t>
            </a:r>
            <a:r>
              <a:rPr b="1" lang="zh-CN" sz="3200" spc="-1" strike="noStrike">
                <a:solidFill>
                  <a:srgbClr val="0000bc"/>
                </a:solidFill>
                <a:latin typeface="Times New Roman"/>
              </a:rPr>
              <a:t>非负数的平方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运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484360" y="5516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开平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2000" y="3068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并不是任何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84360" y="357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只有非负数才有平方根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0720" y="3573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数没有平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42920" y="4076640"/>
            <a:ext cx="65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448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bc"/>
                </a:solidFill>
                <a:latin typeface="Times New Roman"/>
              </a:rPr>
              <a:t>且正数的平方根是互为相反数的两个数</a:t>
            </a:r>
            <a:r>
              <a:rPr b="1" lang="en-US" sz="2800" spc="-1" strike="noStrike">
                <a:solidFill>
                  <a:srgbClr val="0000b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盛龙平</dc:creator>
  <dc:description/>
  <dc:language>en-US</dc:language>
  <cp:lastModifiedBy>User</cp:lastModifiedBy>
  <dcterms:modified xsi:type="dcterms:W3CDTF">2008-09-01T00:01:11Z</dcterms:modified>
  <cp:revision>352</cp:revision>
  <dc:subject>初二数学备课</dc:subject>
  <dc:title>平方根与立方根</dc:title>
</cp:coreProperties>
</file>