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345-1693-4C9E-8C4C-D653BC21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BA6-DACB-4D9C-A9D4-E4FB2FD4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E12-20B6-49D4-A45B-6B9DC54E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BCD-E054-4F60-B374-1A1871DE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2874-4FAC-4BA8-8B94-6E323DDB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B0C8-8E51-4C61-A28B-8E64ED2C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BB95-0DD9-4F99-997D-C36EB628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AD7C-FA21-4C62-9DF0-D6B6C600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77CD-3B6F-495F-9B79-16D5D5FE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B0FC-3D25-43E4-B9A3-B07D2236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A734-DBDC-497F-A1A1-E5AED7C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9DB-E9D0-4DF0-8E44-2CBFDA59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02C9-4F12-489F-B564-D8D34B55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64BE-46A1-4E97-8F0E-D2C3C08D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8A1A-8C26-4165-A234-6EC525B8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60DF-5D2E-4A32-9CE3-2C5FC290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5C7D-8584-4010-9B93-76F68B40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14E-20B8-470A-922B-8ADFA55D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1E6-7CF6-4D46-A85B-865B64EE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79D-37FB-4437-BA88-5529DEC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4D7-9933-476B-BF47-D7A3B66D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B52-53ED-45B5-A891-550FF364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FEA-0107-42D6-AF82-618B34C7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861-0B16-411B-BE73-9C4471F5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88B9-211A-4757-A0CB-25E76A7CC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6200" cy="51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9120" cy="82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5640" cy="77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4BB0-8938-4382-9E26-3B5000DED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图片2"/>
          <p:cNvPicPr/>
          <p:nvPr/>
        </p:nvPicPr>
        <p:blipFill>
          <a:blip r:embed="rId1"/>
          <a:stretch/>
        </p:blipFill>
        <p:spPr>
          <a:xfrm>
            <a:off x="0" y="-457200"/>
            <a:ext cx="8964720" cy="73152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2315880" y="476280"/>
            <a:ext cx="424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要和陌生人说话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交友安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4150800" y="2428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主题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56760" y="4284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、约会时要察言观色 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不可能通过网络了解一个人的真实背景或真正性格，所以约会时察言观色是加深对对方感性认知的好时机。随时观察对方的任何特征：吹牛、叹气、过激举动、眼神、表情等等，建立正确客观的第一印象对你们今后的关系发展大有裨益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99680" y="499680"/>
            <a:ext cx="8358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四、保持平常心 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交友要有一颗平常心，不能掺杂任何杂质，任何目的。（特别是别人说请你去吃喝玩乐，天上不会掉馅饼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42960" y="4996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五、请勿和网友发生借贷关系 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新闻中常常看到被网友骗取财物的事件，我们提醒中学生切勿和网友发生钱财或者物品的借贷关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571680" y="5713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六、勿轻信他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只有当你深深了解并且信任一个人的时候，你才能复出自己的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所以，我们奉劝你珍惜自己的情感，克制自己，理性交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当心 交友软件“聊”来的危险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QQ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微信、陌陌等交友工具的兴起，让搜索和结交陌生网友更加方便，特别是这些交友工具所具备的能搜寻“附近的人”功能，更是深受年轻人欢迎。但与此同时，一些不法分子也将目光瞄准了这一新兴事物，利用这些交友工具实施抢劫、诈骗、盗窃等犯罪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42960" y="4284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提醒：网络虚拟世界错综复杂，在利用社交工具交友时要注意学会自我保护，交谈时不要轻易向陌生人提供具体身份和详细地址等信息，并注意不泄露个人或家庭的财产状况；更不要轻信花言巧语，轻易同陌生人见面，即使见面也选在白天人多的场合；见面交流时，也要注意保管随身的贵重物品，如遭遇到不法侵害，要第一时间报警，并提供当事人的身高、年龄等特征，便于案件侦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weimei_fengjing_beijing-006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5"/>
          <p:cNvSpPr/>
          <p:nvPr/>
        </p:nvSpPr>
        <p:spPr>
          <a:xfrm>
            <a:off x="2568960" y="10000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慎重交友，珍惜生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28760" y="928440"/>
            <a:ext cx="85010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那些年，一起走过的青葱岁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那些年，一起坐过的冷板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                                 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weimei_fengjing_beijing-018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285840" y="301680"/>
            <a:ext cx="84294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之初，性本善。为什么这个世界还会有好人和坏人之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就是一个人从小是学好还是学坏决定的。交友不慎是一个人学坏的起点，把坏人当朋友的人永远成不了好人，不愿与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交朋友的人，也很难成为好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其实，人是具备起码的辨别能力的，好和坏也是很容易识别的，只有在交朋友时择良而处，善辨良莠，不交狐朋狗友，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才不会误入歧途，产生悲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1872720" y="549360"/>
            <a:ext cx="4569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讨论：你愿意与什么样的人交朋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兴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信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性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爱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同班同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42960" y="6426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真心相对，充满真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能指出缺点错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志同道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心胸开阔，气量恢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真诚、坦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脾气好、性格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乐于助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weimei_fengjing_beijing-015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5"/>
          <p:cNvSpPr/>
          <p:nvPr/>
        </p:nvSpPr>
        <p:spPr>
          <a:xfrm>
            <a:off x="2603880" y="119700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青少年交友不慎有什么危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weimei_fengjing_beijing-007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5"/>
          <p:cNvSpPr/>
          <p:nvPr/>
        </p:nvSpPr>
        <p:spPr>
          <a:xfrm>
            <a:off x="2512440" y="4214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交友六大安全注意事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56760" y="571320"/>
            <a:ext cx="8572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对陌生人时刻保持警惕不要轻信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有时候直觉会欺骗一个人，尽量多沟通多交流，对对方作出充分的了解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609120" y="333360"/>
            <a:ext cx="8153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、选择合适的约会时间和约会地点是对自己最好的保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选择合适的约会时间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尽量不要选择晚上，周末的白天时间是很好的选择。 实在不行选择了晚上约会，一定要控制时间，不要拖得太晚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选择合适的约会地点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请在你们约会前确定一个首要原则：选择公共场所约会，并告知自己的朋友或家人。您一定多次听到过这样的劝告：单独去一个陌生、偏僻的场所和陌生人约会是多么危险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特别对女生来说，选择自己熟悉的公众场所，比如学校附近，是最好的选择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没充分了解前，一定不要到其处所，或任何可能危险的地方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1T08:48:19Z</dcterms:created>
  <dc:creator>Administrator</dc:creator>
  <dc:description/>
  <dc:language>en-US</dc:language>
  <cp:lastModifiedBy>Sky123.Org</cp:lastModifiedBy>
  <dcterms:modified xsi:type="dcterms:W3CDTF">2014-12-21T14:48:37Z</dcterms:modified>
  <cp:revision>15</cp:revision>
  <dc:subject/>
  <dc:title>幻灯片 1</dc:title>
</cp:coreProperties>
</file>