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301-D970-4BF4-A1E4-D957AC4E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474-54F7-414B-98BA-664DA3C0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E68-5465-472A-B49E-C97D8E4F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B00-958A-4361-A3E3-6D61D84E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19C6-F811-4F1C-8221-238254E8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6777-966E-4F9F-8CB9-866F203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AA4F-F0F4-4F4D-9B0C-768F413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359-7898-4304-86C0-B1AAB26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B586-3841-4E69-A21C-89BE24B6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71AB-F69F-49B1-A4A9-0BE61B3F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73D6-ECE1-45F8-99EA-4DA3BC67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519-3913-4062-B550-A45054A7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062C-1478-4203-B5C4-EBAD1C33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3C1-818C-41CA-A3C9-7853A6C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4A38-A9F3-4267-AD0F-FA6D1F5F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5C82-6568-4BFE-93C0-091A9953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F83D-91AA-494F-AB4D-1DC90E27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ADC-56E4-4C95-A036-5175E62C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80B-4D64-44D1-ABD6-FC28DF4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773-B1BD-4378-96E5-E92DB0A5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EF5-FA28-4F60-BC99-4B15F287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A0D-B742-40E6-A003-D662E2C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63D-C2E7-4252-96F8-2C1C364F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4AF-25F6-4145-86C4-61A8426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402-1DFB-460E-8619-93743E6F1FB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DC8-4D14-483D-A487-D39902D44B8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990720"/>
            <a:ext cx="487656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珍爱生命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3200400"/>
            <a:ext cx="24382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拒绝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257800" y="33526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520-4A8E-4434-A9B7-39DAF795AA89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252360"/>
            <a:ext cx="66294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963-4054-4B0A-8838-F1FD7184499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252360"/>
            <a:ext cx="57150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007-3B98-4116-9CB6-1A70820E3B55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334120" cy="53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10D4-0FE4-488B-BE73-B4B034831989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34340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055-E53C-4CBB-8CD9-DD826CD35668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5EB-BCAE-4FC7-9A89-8270FD70837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487656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902-EBC9-4F40-AAE5-D35B43E3136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27880" y="701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抢答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0680" y="176832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我们班主任在班会之初所朗读的诗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题目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1400" y="30700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是：《拒绝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2000" y="3548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青少年要拒绝毒品，首先要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4404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抽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548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交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6280" y="41911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用精神科药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6640" y="487692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国内外的调查显示，吸毒人员绝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多数集中会么年龄之间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2200" y="6056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青少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1000" y="603396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中壮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6019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老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D04-91E6-4D55-ACE8-847A8D277202}" type="slidenum">
              <a:t>16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69880" y="8809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东南亚的毒品主要产地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4000" y="1523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香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4200" y="15606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越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8560" y="15606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金三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23360" y="2557440"/>
            <a:ext cx="35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一旦吸毒，等于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5080" y="34290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东方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080" y="3443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死亡列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9360" y="342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网际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95200" y="4005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下面的那种药物不是麻醉药品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77560" y="4913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吗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79480" y="48769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咖啡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26040" y="4876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感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E32-2C13-4343-BD7C-FE1C81A45288}" type="slidenum">
              <a:t>17</a:t>
            </a:fld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28480" y="1109520"/>
            <a:ext cx="64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专家认为：一次吸毒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1840" y="2093760"/>
            <a:ext cx="8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十月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6040" y="2170080"/>
            <a:ext cx="11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十年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3160" y="2170080"/>
            <a:ext cx="11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 终身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7480" y="2666880"/>
            <a:ext cx="48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毒品的毒瘾分生理上和心理上的两种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理论上讲，多长时间可以脱离生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39480" y="40752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9160" y="4052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64120" y="40528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4040" y="4614840"/>
            <a:ext cx="437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多长时间可以脱离心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3920" y="5486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65000" y="53341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55920" y="53481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AB7-5320-436F-A400-056FE63B13AA}" type="slidenum">
              <a:t>18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79960" y="122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班主任总结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4920" y="26971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Arial"/>
                <a:ea typeface="隶书"/>
              </a:rPr>
              <a:t>珍爱生命，拒绝毒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561-5706-4D74-AB16-FB672A847698}" type="slidenum">
              <a:t>19</a:t>
            </a:fld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480" y="8604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远方的死亡的喧嚣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31360" y="13176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从火海和毒云中传来的呼叫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18800" y="2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16760" y="21700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仿佛还听到鸦片战争的枪声还在耳边回响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2920" y="251460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依稀看到，从虎门海滩上升起的缕缕白烟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5320" y="32004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世界上所有白色的无知正在潜滋味暗长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9600" y="35193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世界上所有黑色的邪恶已经泛滥成灾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14560" y="405288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每天遇到罪孽，遇见死亡；它们象云块掠过我们的世界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8376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一倏忽即逝的闪电狂笑来对我们嘲弄。人们必须站在它们面前，说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5320" y="4952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不怕你，嗨，魔鬼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1EC-D6C6-4F2A-B258-40FBC4888F8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26800" y="12477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谢谢各位领导、老师来我们班指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我们上课！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DB7-587C-416B-8AE6-549D10F517F0}" type="slidenum">
              <a:t>20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9876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1720" y="7984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全凭信念征服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45120" y="125568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活过了一天又一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9960" y="18288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即使暂时失败，也抱着坚定的信念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360" y="23986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360" y="31608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0080" y="39988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的未来是真实的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F74-DA7B-4D66-90CB-A1C4F412FF17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17320" y="12351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我们所认识的毒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D37-1963-4B02-A1BE-DEBB1B3F5E1E}" type="slidenum">
              <a:t>4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65960" y="10825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毒品离我们有多远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9DE-B33E-462F-8955-2E2F9973E056}" type="slidenum">
              <a:t>5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77840" y="1492200"/>
            <a:ext cx="52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</a:t>
            </a:r>
            <a:r>
              <a:rPr b="0" lang="zh-CN" sz="3600" spc="-1" strike="noStrike">
                <a:solidFill>
                  <a:srgbClr val="ffffff"/>
                </a:solidFill>
                <a:latin typeface="_x000b__x000c_"/>
              </a:rPr>
              <a:t>让我们坚决地对毒品说声“不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D69-913D-41AD-B332-133DD91A4A90}" type="slidenum">
              <a:t>6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7040" y="1447920"/>
            <a:ext cx="80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命如此可贵，请我们同学高奏一曲生命之最强音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6320" y="30639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渔洲唱晚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8040" y="40543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演奏者：关盼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6E7-C332-4D18-A342-F001D9BC4D38}" type="slidenum">
              <a:t>7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99720" y="1371600"/>
            <a:ext cx="54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聪明的朋友，你能理解下面的图片所蕴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意思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387-8C39-4B22-9951-64C56D1F77D5}" type="slidenum">
              <a:t>8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76520" y="399960"/>
            <a:ext cx="556236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FEA-1C85-4979-A5BA-A3A2A149006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7:36:10Z</dcterms:created>
  <dc:creator>lszjks - www.k12zy.com</dc:creator>
  <dc:description>中小学教育资源交流中心  www.k12zy.com  免费教案、课件、试题、论文、素材等教育资源下载。</dc:description>
  <cp:keywords>中小学教育资源交流中心/www.k12zy.com/教案/课件/试题/论文/素材/教育资源/下载</cp:keywords>
  <dc:language>en-US</dc:language>
  <cp:lastModifiedBy>Sky123.Org</cp:lastModifiedBy>
  <dcterms:modified xsi:type="dcterms:W3CDTF">2015-10-26T05:55:26Z</dcterms:modified>
  <cp:revision>21</cp:revision>
  <dc:subject/>
  <dc:title>中小学心理健康教育活动课  - www.k12zy.com 中小学教育资源 提供</dc:title>
</cp:coreProperties>
</file>