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12C-05E6-4800-885A-9220921F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EE4-441E-4CE6-924F-3F7275AE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9036D-9C7C-492C-B9C7-E71439E7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DDF6A-DF8C-451F-8312-9B13E639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C4B76-D637-4FD6-8B5E-5D8898DA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E60D3-6E56-480F-97BA-FFEEAF65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4B3C2-793C-4C26-9CE7-761FB3D2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3890B-F1FD-45C4-9DEC-86290597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7079C-34E6-45F8-8813-25B7126B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6FEE7-4C98-44C0-B658-6B604F18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A86D3-C7E1-403F-B48F-7DFAF4E7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39738-518D-403E-84B2-294DD0D5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851-C2C6-4059-AAAD-BB92C75E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3AC40-4BAA-449B-B992-12AAAA6B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2CB83-76D2-4B9C-A113-E49511D2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DF01B-6119-4272-9DF6-34EC9373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D8D66-29E7-49B6-B78D-123B86FA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6EF3A-B952-464C-B386-C6E8A1A8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84654-576C-494B-963A-A3390EBA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CDEBD-3BD3-4EFF-B372-C30661CC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A5A8E-6A06-4C0D-9EE3-5BDEF1D2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2184B-49A9-48AD-AEA7-25CF396C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A198F-57B1-4DEB-BADE-4DFDFFF9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AC75-C87D-44AA-8BFD-0F17CA4D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C7860-60D2-4A01-9353-2D3453B8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CEBF5-6B2E-429F-9EBB-808D4D18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EB67A-2F37-41E8-8AF1-C70FB986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196BE-0958-4623-937F-C1962E19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90C7D-F9D8-4695-A397-4C57C8B7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E2B87-C13B-49E8-898F-A7CAC228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793C5-1D5E-4FC6-A19D-59134F5B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66FBA-DDD2-44BD-B24A-D982D30B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17F87-EF97-41E7-A7FC-3D4B4311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C47BC-339B-4396-9F96-5F1CB7C9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157F-2044-4DDA-A92E-6410E106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EB13D-1720-46DA-8536-3CA9D365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EA2FB-0F2C-4FA8-8C06-97F32C04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90830-CE50-4708-B242-6C00B579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7822-724F-4A1C-B7F1-04F49656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DD24-DE01-496C-8FCD-2CDC5752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5533-3A21-4DA6-8543-8D4B5715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75E1-6AD2-4CB5-98D3-EA67A1C9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EBFB-130D-4C29-9FB1-9A6005A5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F1FA-90D0-4326-9CCB-B3137D9C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3B4-3CF8-45B1-8DDD-C468BCA2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D2AB-7D21-4598-8445-FA089CA2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28F4-00A8-4F45-A3E8-90F54D63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11F9-53E5-4894-A627-FE0FCA9C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AEAF-6627-490B-9016-E7953B29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AD4D-81FC-41C0-8D47-EDEFD8B0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C272A-C6AC-445A-9DB9-452173CA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2924E-8DD7-456F-B951-E302FCFD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CB55-2F5C-480C-8EFA-6C616AB4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92C40-A924-447C-980E-54B4980E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5D90-A50C-4F8D-BE1D-C2DF2A61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E35-53B5-44A5-9B9F-34E48580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EA21F-B511-4394-B20D-17407DDA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AEAB4-4255-45B2-9796-2CACF163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160B6-B372-4D98-84E8-E4B95077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0183-6B7E-4EAE-927D-80AFC25E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AD686-E1C3-4CD8-A189-99CB694E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1F10-6D95-477B-BE90-4DEAAC19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A58D0-F38E-4836-8FF9-063F7D20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26B71-9505-4692-A626-4A00D072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D9786-5F3C-4067-BC88-EB6DDDA2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2D667-4376-46D1-A4F7-6A9703A8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24C-29BF-4A50-A2D9-A654FC3E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F651-52D7-4585-A4E6-B735B56F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EA153-91AD-4A79-ADC7-0223B913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2D6C1-D9F1-4A6A-B8FA-9798159F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5BFB0-5E23-49E8-8189-EB763635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1DCC2-F3A1-40DC-9DE7-F58D0C4A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F1342-FF4D-4334-970F-8C620D62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164AB-4A60-418A-B3DE-4CFC4D11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DB532-CDD3-4B74-BC58-08E718F1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3E5C2-713D-4AAA-8055-66CA62E2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4F398-9BD1-4AC3-816B-D6A28108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CE1-8325-4D00-A171-CC9C7E70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9738A-4284-47D3-B5BE-2669CDA3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B2985-F2A7-480F-BE8C-D3075BD1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15317-375C-4BCC-828A-32D14C95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A1CD5-C88B-4CC9-B3BE-5948AA5C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34AC8-4DA5-42FB-A663-2FAADE0B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D08CF-9061-45AC-A6FD-C41E8497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53866-D512-4C16-AE54-1CEE0E43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4384C-87E4-498F-A7F8-227F03E3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8DA52-CECF-4021-97C6-A1C3E441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58323-76FA-4356-A8E6-670801E1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C20-701E-4BBA-AA5C-02B9BA96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35CB9-03B7-4B66-ACD4-BB638A10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76AA6-C866-4B97-A8A4-D1E2374B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099D7-56B9-490D-BE2E-B1524C47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17B5C-BDC1-4866-B95A-5D8AFA72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22B82-8855-430E-9818-2569FB14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0E737-E6A6-4481-89B2-03C4CDA0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DB2D9-3DED-43C0-8FEF-ED57E992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EAE96-1255-4B30-820D-AB90C284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BD9CA-6649-4940-B77B-5E711A17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FE9EA-DF51-412C-B606-C6A1B202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74A-1292-49BF-A609-DFD1D3AF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4405D-A861-4791-A4F0-CD78E94B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89995-85E2-4D9E-9B0C-2882EC8A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8FEBB-4D97-4F64-9D1F-F4272AD4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D44D5-7D99-4F9E-916B-7AD1B9EF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6EA5D-DBBD-4D86-98D1-E2BDE4C8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68EC7-425D-4AE8-8999-C52033D3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E1877-5589-42BA-B094-E55783C8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B4DF8-66FC-4845-9509-24EF7AC7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F7248-EB19-45FE-8FB4-B4A6616E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74BBC-2517-4A83-92A7-5CCE5E1D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BC9-C264-4396-A916-B7627D2E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92638-1057-41C6-9A1A-7C73F32A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F21F-297D-4E69-B5D7-274877AD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2AE25-2AC0-4C75-ABA7-069BDCC2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07E65-CB21-446F-AA93-533517E1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35F88-B63E-4F13-A004-1EE28F2C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8765B-CF21-4EFE-845A-662454C4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DAF74-1A41-4F34-9D83-E4BB939D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28F75-EE59-4B62-BAF9-F8825B9F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C080D-1B8B-447F-9029-B354CFF5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5D1D2-95BF-46F4-9879-6E6F3DB7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B43-7B39-4CFF-A5EA-4C6BD3C7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3B06C-5B22-495A-86F4-566D6354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06435-77A1-4E7A-8EB8-183C53C2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36BB4-69E5-47B3-8A34-595827A7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8749A-E3D1-48B1-99C0-AF28C5A5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273F6-307B-4223-B102-2B71D007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8E635-10F7-4A2D-8D91-A9EA2871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B0BC5-2C3A-466E-87CE-0374C9E4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6267E-F9FD-43E7-95C2-3B84D47F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CF175-9900-44FC-B510-680750B1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06E94-6C0C-4A74-AA18-80E5B027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2139-738D-41B3-97C4-53ED4C48A7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5B14-D20B-4F6A-8A28-6F1FF8DD20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0163-4293-4D79-819D-16DED43686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410B-AECE-4384-AE57-2120F97A7F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50D9-14AE-4AA6-B478-41FCBB8A7A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37D8-6163-4530-A21D-E5A812685B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061E-02F4-45CD-B830-4D2D844D74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56ED-DE34-479C-AAFF-D745BE992A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3F6A-A978-45A4-8FC8-938F25EB51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CECD-FC09-4AC0-BD45-CD96ACEC62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7528-801E-42AD-B3C2-355F86CAE8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"/>
          <p:cNvPicPr/>
          <p:nvPr/>
        </p:nvPicPr>
        <p:blipFill>
          <a:blip r:embed="rId1"/>
          <a:stretch/>
        </p:blipFill>
        <p:spPr>
          <a:xfrm>
            <a:off x="1803240" y="1590840"/>
            <a:ext cx="7080480" cy="2603160"/>
          </a:xfrm>
          <a:prstGeom prst="rect">
            <a:avLst/>
          </a:prstGeom>
          <a:ln w="0">
            <a:noFill/>
          </a:ln>
        </p:spPr>
      </p:pic>
      <p:sp>
        <p:nvSpPr>
          <p:cNvPr id="452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112643"/>
          <p:cNvSpPr/>
          <p:nvPr/>
        </p:nvSpPr>
        <p:spPr>
          <a:xfrm>
            <a:off x="5279040" y="442764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化学方程式及其意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8484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4507200"/>
          </a:xfrm>
          <a:prstGeom prst="rect">
            <a:avLst/>
          </a:prstGeom>
          <a:ln w="0">
            <a:noFill/>
          </a:ln>
        </p:spPr>
      </p:pic>
      <p:sp>
        <p:nvSpPr>
          <p:cNvPr id="478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4565880"/>
          </a:xfrm>
          <a:prstGeom prst="rect">
            <a:avLst/>
          </a:prstGeom>
          <a:ln w="0">
            <a:noFill/>
          </a:ln>
        </p:spPr>
      </p:pic>
      <p:sp>
        <p:nvSpPr>
          <p:cNvPr id="480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图片 1" descr=""/>
          <p:cNvPicPr/>
          <p:nvPr/>
        </p:nvPicPr>
        <p:blipFill>
          <a:blip r:embed="rId1"/>
          <a:srcRect l="0" t="0" r="0" b="11394"/>
          <a:stretch/>
        </p:blipFill>
        <p:spPr>
          <a:xfrm>
            <a:off x="1803240" y="1082520"/>
            <a:ext cx="7080480" cy="4438800"/>
          </a:xfrm>
          <a:prstGeom prst="rect">
            <a:avLst/>
          </a:prstGeom>
          <a:ln w="0">
            <a:noFill/>
          </a:ln>
        </p:spPr>
      </p:pic>
      <p:sp>
        <p:nvSpPr>
          <p:cNvPr id="482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915000"/>
          </a:xfrm>
          <a:prstGeom prst="rect">
            <a:avLst/>
          </a:prstGeom>
          <a:ln w="0">
            <a:noFill/>
          </a:ln>
        </p:spPr>
      </p:pic>
      <p:sp>
        <p:nvSpPr>
          <p:cNvPr id="484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270240"/>
          </a:xfrm>
          <a:prstGeom prst="rect">
            <a:avLst/>
          </a:prstGeom>
          <a:ln w="0">
            <a:noFill/>
          </a:ln>
        </p:spPr>
      </p:pic>
      <p:sp>
        <p:nvSpPr>
          <p:cNvPr id="486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4110120"/>
          </a:xfrm>
          <a:prstGeom prst="rect">
            <a:avLst/>
          </a:prstGeom>
          <a:ln w="0">
            <a:noFill/>
          </a:ln>
        </p:spPr>
      </p:pic>
      <p:sp>
        <p:nvSpPr>
          <p:cNvPr id="488" name="矩形 2"/>
          <p:cNvSpPr/>
          <p:nvPr/>
        </p:nvSpPr>
        <p:spPr>
          <a:xfrm>
            <a:off x="8317080" y="1736640"/>
            <a:ext cx="358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"/>
          <p:cNvSpPr/>
          <p:nvPr/>
        </p:nvSpPr>
        <p:spPr>
          <a:xfrm>
            <a:off x="8318520" y="3392640"/>
            <a:ext cx="36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图片 1" descr=""/>
          <p:cNvPicPr/>
          <p:nvPr/>
        </p:nvPicPr>
        <p:blipFill>
          <a:blip r:embed="rId1"/>
          <a:stretch/>
        </p:blipFill>
        <p:spPr>
          <a:xfrm>
            <a:off x="1803240" y="1590840"/>
            <a:ext cx="7080480" cy="1425240"/>
          </a:xfrm>
          <a:prstGeom prst="rect">
            <a:avLst/>
          </a:prstGeom>
          <a:ln w="0">
            <a:noFill/>
          </a:ln>
        </p:spPr>
      </p:pic>
      <p:sp>
        <p:nvSpPr>
          <p:cNvPr id="492" name="矩形 2"/>
          <p:cNvSpPr/>
          <p:nvPr/>
        </p:nvSpPr>
        <p:spPr>
          <a:xfrm>
            <a:off x="8317080" y="1916280"/>
            <a:ext cx="358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975120"/>
          </a:xfrm>
          <a:prstGeom prst="rect">
            <a:avLst/>
          </a:prstGeom>
          <a:ln w="0">
            <a:noFill/>
          </a:ln>
        </p:spPr>
      </p:pic>
      <p:sp>
        <p:nvSpPr>
          <p:cNvPr id="495" name="矩形 2"/>
          <p:cNvSpPr/>
          <p:nvPr/>
        </p:nvSpPr>
        <p:spPr>
          <a:xfrm>
            <a:off x="8317080" y="1484280"/>
            <a:ext cx="358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4065840"/>
          </a:xfrm>
          <a:prstGeom prst="rect">
            <a:avLst/>
          </a:prstGeom>
          <a:ln w="0">
            <a:noFill/>
          </a:ln>
        </p:spPr>
      </p:pic>
      <p:sp>
        <p:nvSpPr>
          <p:cNvPr id="498" name="矩形 2"/>
          <p:cNvSpPr/>
          <p:nvPr/>
        </p:nvSpPr>
        <p:spPr>
          <a:xfrm>
            <a:off x="6985080" y="1160640"/>
            <a:ext cx="718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3"/>
          <p:cNvSpPr/>
          <p:nvPr/>
        </p:nvSpPr>
        <p:spPr>
          <a:xfrm>
            <a:off x="2124000" y="1555920"/>
            <a:ext cx="71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4"/>
          <p:cNvSpPr/>
          <p:nvPr/>
        </p:nvSpPr>
        <p:spPr>
          <a:xfrm>
            <a:off x="4859280" y="152100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5"/>
          <p:cNvSpPr/>
          <p:nvPr/>
        </p:nvSpPr>
        <p:spPr>
          <a:xfrm>
            <a:off x="6856560" y="1521000"/>
            <a:ext cx="595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6"/>
          <p:cNvSpPr/>
          <p:nvPr/>
        </p:nvSpPr>
        <p:spPr>
          <a:xfrm>
            <a:off x="2124000" y="1909800"/>
            <a:ext cx="595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7"/>
          <p:cNvSpPr/>
          <p:nvPr/>
        </p:nvSpPr>
        <p:spPr>
          <a:xfrm>
            <a:off x="5272200" y="1890720"/>
            <a:ext cx="595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8"/>
          <p:cNvSpPr/>
          <p:nvPr/>
        </p:nvSpPr>
        <p:spPr>
          <a:xfrm>
            <a:off x="3708360" y="2276640"/>
            <a:ext cx="595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9"/>
          <p:cNvSpPr/>
          <p:nvPr/>
        </p:nvSpPr>
        <p:spPr>
          <a:xfrm>
            <a:off x="3995640" y="4465800"/>
            <a:ext cx="4222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0"/>
          <p:cNvSpPr/>
          <p:nvPr/>
        </p:nvSpPr>
        <p:spPr>
          <a:xfrm>
            <a:off x="8209080" y="4464000"/>
            <a:ext cx="4204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1"/>
          <p:cNvSpPr/>
          <p:nvPr/>
        </p:nvSpPr>
        <p:spPr>
          <a:xfrm>
            <a:off x="5148360" y="4797360"/>
            <a:ext cx="576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图片 2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4261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440160"/>
          </a:xfrm>
          <a:prstGeom prst="rect">
            <a:avLst/>
          </a:prstGeom>
          <a:ln w="0">
            <a:noFill/>
          </a:ln>
        </p:spPr>
      </p:pic>
      <p:sp>
        <p:nvSpPr>
          <p:cNvPr id="510" name="矩形 2"/>
          <p:cNvSpPr/>
          <p:nvPr/>
        </p:nvSpPr>
        <p:spPr>
          <a:xfrm>
            <a:off x="8244000" y="2276640"/>
            <a:ext cx="36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760920"/>
          </a:xfrm>
          <a:prstGeom prst="rect">
            <a:avLst/>
          </a:prstGeom>
          <a:ln w="0">
            <a:noFill/>
          </a:ln>
        </p:spPr>
      </p:pic>
      <p:sp>
        <p:nvSpPr>
          <p:cNvPr id="513" name="矩形 2"/>
          <p:cNvSpPr/>
          <p:nvPr/>
        </p:nvSpPr>
        <p:spPr>
          <a:xfrm>
            <a:off x="8317080" y="3176640"/>
            <a:ext cx="358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913200"/>
          </a:xfrm>
          <a:prstGeom prst="rect">
            <a:avLst/>
          </a:prstGeom>
          <a:ln w="0">
            <a:noFill/>
          </a:ln>
        </p:spPr>
      </p:pic>
      <p:sp>
        <p:nvSpPr>
          <p:cNvPr id="516" name="矩形 2"/>
          <p:cNvSpPr/>
          <p:nvPr/>
        </p:nvSpPr>
        <p:spPr>
          <a:xfrm>
            <a:off x="6156360" y="313992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3"/>
          <p:cNvSpPr/>
          <p:nvPr/>
        </p:nvSpPr>
        <p:spPr>
          <a:xfrm>
            <a:off x="3166920" y="3824280"/>
            <a:ext cx="576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4"/>
          <p:cNvSpPr/>
          <p:nvPr/>
        </p:nvSpPr>
        <p:spPr>
          <a:xfrm>
            <a:off x="6516720" y="3500280"/>
            <a:ext cx="576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5"/>
          <p:cNvSpPr/>
          <p:nvPr/>
        </p:nvSpPr>
        <p:spPr>
          <a:xfrm>
            <a:off x="7848720" y="4184640"/>
            <a:ext cx="97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6"/>
          <p:cNvSpPr/>
          <p:nvPr/>
        </p:nvSpPr>
        <p:spPr>
          <a:xfrm>
            <a:off x="2195640" y="4473720"/>
            <a:ext cx="12240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327480"/>
          </a:xfrm>
          <a:prstGeom prst="rect">
            <a:avLst/>
          </a:prstGeom>
          <a:ln w="0">
            <a:noFill/>
          </a:ln>
        </p:spPr>
      </p:pic>
      <p:sp>
        <p:nvSpPr>
          <p:cNvPr id="523" name="矩形 2"/>
          <p:cNvSpPr/>
          <p:nvPr/>
        </p:nvSpPr>
        <p:spPr>
          <a:xfrm>
            <a:off x="4103640" y="198900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3"/>
          <p:cNvSpPr/>
          <p:nvPr/>
        </p:nvSpPr>
        <p:spPr>
          <a:xfrm>
            <a:off x="6192720" y="2708280"/>
            <a:ext cx="358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4"/>
          <p:cNvSpPr/>
          <p:nvPr/>
        </p:nvSpPr>
        <p:spPr>
          <a:xfrm>
            <a:off x="4356000" y="3033720"/>
            <a:ext cx="86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5"/>
          <p:cNvSpPr/>
          <p:nvPr/>
        </p:nvSpPr>
        <p:spPr>
          <a:xfrm>
            <a:off x="5256360" y="3716280"/>
            <a:ext cx="1079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4251600"/>
          </a:xfrm>
          <a:prstGeom prst="rect">
            <a:avLst/>
          </a:prstGeom>
          <a:ln w="0">
            <a:noFill/>
          </a:ln>
        </p:spPr>
      </p:pic>
      <p:sp>
        <p:nvSpPr>
          <p:cNvPr id="457" name="矩形 2"/>
          <p:cNvSpPr/>
          <p:nvPr/>
        </p:nvSpPr>
        <p:spPr>
          <a:xfrm>
            <a:off x="3240000" y="3033720"/>
            <a:ext cx="16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3"/>
          <p:cNvSpPr/>
          <p:nvPr/>
        </p:nvSpPr>
        <p:spPr>
          <a:xfrm>
            <a:off x="6296040" y="3035160"/>
            <a:ext cx="1731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162600"/>
          </a:xfrm>
          <a:prstGeom prst="rect">
            <a:avLst/>
          </a:prstGeom>
          <a:ln w="0">
            <a:noFill/>
          </a:ln>
        </p:spPr>
      </p:pic>
      <p:sp>
        <p:nvSpPr>
          <p:cNvPr id="461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4418280"/>
          </a:xfrm>
          <a:prstGeom prst="rect">
            <a:avLst/>
          </a:prstGeom>
          <a:ln w="0">
            <a:noFill/>
          </a:ln>
        </p:spPr>
      </p:pic>
      <p:sp>
        <p:nvSpPr>
          <p:cNvPr id="463" name="矩形 2"/>
          <p:cNvSpPr/>
          <p:nvPr/>
        </p:nvSpPr>
        <p:spPr>
          <a:xfrm>
            <a:off x="5327640" y="195264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3"/>
          <p:cNvSpPr/>
          <p:nvPr/>
        </p:nvSpPr>
        <p:spPr>
          <a:xfrm>
            <a:off x="2808360" y="3105000"/>
            <a:ext cx="1079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"/>
          <p:cNvSpPr/>
          <p:nvPr/>
        </p:nvSpPr>
        <p:spPr>
          <a:xfrm>
            <a:off x="4896000" y="3068640"/>
            <a:ext cx="10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835440"/>
          </a:xfrm>
          <a:prstGeom prst="rect">
            <a:avLst/>
          </a:prstGeom>
          <a:ln w="0">
            <a:noFill/>
          </a:ln>
        </p:spPr>
      </p:pic>
      <p:sp>
        <p:nvSpPr>
          <p:cNvPr id="468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4714920"/>
          </a:xfrm>
          <a:prstGeom prst="rect">
            <a:avLst/>
          </a:prstGeom>
          <a:ln w="0">
            <a:noFill/>
          </a:ln>
        </p:spPr>
      </p:pic>
      <p:sp>
        <p:nvSpPr>
          <p:cNvPr id="470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918240"/>
          </a:xfrm>
          <a:prstGeom prst="rect">
            <a:avLst/>
          </a:prstGeom>
          <a:ln w="0">
            <a:noFill/>
          </a:ln>
        </p:spPr>
      </p:pic>
      <p:sp>
        <p:nvSpPr>
          <p:cNvPr id="472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图片 1" descr=""/>
          <p:cNvPicPr/>
          <p:nvPr/>
        </p:nvPicPr>
        <p:blipFill>
          <a:blip r:embed="rId1"/>
          <a:srcRect l="0" t="0" r="0" b="11471"/>
          <a:stretch/>
        </p:blipFill>
        <p:spPr>
          <a:xfrm>
            <a:off x="1803240" y="1082520"/>
            <a:ext cx="7080480" cy="4438800"/>
          </a:xfrm>
          <a:prstGeom prst="rect">
            <a:avLst/>
          </a:prstGeom>
          <a:ln w="0">
            <a:noFill/>
          </a:ln>
        </p:spPr>
      </p:pic>
      <p:sp>
        <p:nvSpPr>
          <p:cNvPr id="474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19-12-27T06:03:54Z</dcterms:modified>
  <cp:revision>14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