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28A-BC0E-47D8-BA70-5180542F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CCC-4957-4D5C-8F54-A1018DC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4CA-E4AA-4D66-BBCE-829EAD9C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BA0-BBAA-4DAC-B01C-65F2EE5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AFF-5119-4F9B-A647-E4797636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F7D-77F8-4BC8-8F86-DDC0C4C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943-5898-4E2A-AA9C-372AA33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4FB-6144-49CB-8AF5-C050165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74B-742C-49EF-850E-438E273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BC6-1E05-4339-921F-A14D689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C1C-6173-4384-8BF4-EEF0A5E6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B4C-56F7-4D60-A6E4-9FFA264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6896-768E-4468-AD31-D87EA894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71840" y="3500280"/>
            <a:ext cx="39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  <a:ea typeface="黑体"/>
              </a:rPr>
              <a:t>Q2  </a:t>
            </a:r>
            <a:r>
              <a:rPr b="0" lang="zh-CN" sz="4800" spc="-1" strike="noStrike">
                <a:solidFill>
                  <a:srgbClr val="ffcc00"/>
                </a:solidFill>
                <a:latin typeface="Arial"/>
                <a:ea typeface="黑体"/>
              </a:rPr>
              <a:t>颁奖典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357720" y="57434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Z:\培训部\常用工具\logo\软通动力logo-中文语境.jpg"/>
          <p:cNvPicPr/>
          <p:nvPr/>
        </p:nvPicPr>
        <p:blipFill>
          <a:blip r:embed="rId2"/>
          <a:stretch/>
        </p:blipFill>
        <p:spPr>
          <a:xfrm>
            <a:off x="3643200" y="6143760"/>
            <a:ext cx="2214720" cy="669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071720" y="26431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个人与家庭实施五部深圳分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标题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88" name="矩形 4" descr=""/>
          <p:cNvPicPr/>
          <p:nvPr/>
        </p:nvPicPr>
        <p:blipFill>
          <a:blip r:embed="rId3"/>
          <a:stretch/>
        </p:blipFill>
        <p:spPr>
          <a:xfrm>
            <a:off x="565200" y="1428840"/>
            <a:ext cx="3394080" cy="52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sitang\桌面\表彰大会照片\IDC_李凯项目组1.JPG"/>
          <p:cNvPicPr/>
          <p:nvPr/>
        </p:nvPicPr>
        <p:blipFill>
          <a:blip r:embed="rId4"/>
          <a:srcRect l="0" t="7178" r="0" b="0"/>
          <a:stretch/>
        </p:blipFill>
        <p:spPr>
          <a:xfrm>
            <a:off x="1785960" y="2214720"/>
            <a:ext cx="5929200" cy="36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标题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6" descr=""/>
          <p:cNvPicPr/>
          <p:nvPr/>
        </p:nvPicPr>
        <p:blipFill>
          <a:blip r:embed="rId3"/>
          <a:stretch/>
        </p:blipFill>
        <p:spPr>
          <a:xfrm>
            <a:off x="585720" y="1357200"/>
            <a:ext cx="3654360" cy="52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sitang\桌面\表彰大会照片\winmax项目.jpg"/>
          <p:cNvPicPr/>
          <p:nvPr/>
        </p:nvPicPr>
        <p:blipFill>
          <a:blip r:embed="rId4"/>
          <a:srcRect l="0" t="9007" r="0" b="0"/>
          <a:stretch/>
        </p:blipFill>
        <p:spPr>
          <a:xfrm>
            <a:off x="2143080" y="2143080"/>
            <a:ext cx="5286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标题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96" name="矩形 6" descr=""/>
          <p:cNvPicPr/>
          <p:nvPr/>
        </p:nvPicPr>
        <p:blipFill>
          <a:blip r:embed="rId3"/>
          <a:stretch/>
        </p:blipFill>
        <p:spPr>
          <a:xfrm>
            <a:off x="523800" y="1500120"/>
            <a:ext cx="3908520" cy="5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sitang\桌面\表彰大会照片\SDP Hosting项目组.jpg"/>
          <p:cNvPicPr/>
          <p:nvPr/>
        </p:nvPicPr>
        <p:blipFill>
          <a:blip r:embed="rId4"/>
          <a:srcRect l="0" t="0" r="9156" b="0"/>
          <a:stretch/>
        </p:blipFill>
        <p:spPr>
          <a:xfrm>
            <a:off x="2214720" y="2214720"/>
            <a:ext cx="54291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标题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6" descr=""/>
          <p:cNvPicPr/>
          <p:nvPr/>
        </p:nvPicPr>
        <p:blipFill>
          <a:blip r:embed="rId3"/>
          <a:stretch/>
        </p:blipFill>
        <p:spPr>
          <a:xfrm>
            <a:off x="536400" y="1785960"/>
            <a:ext cx="2962440" cy="52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sitang\桌面\IMP.JPG"/>
          <p:cNvPicPr/>
          <p:nvPr/>
        </p:nvPicPr>
        <p:blipFill>
          <a:blip r:embed="rId4"/>
          <a:srcRect l="9972" t="14981" r="6630" b="9062"/>
          <a:stretch/>
        </p:blipFill>
        <p:spPr>
          <a:xfrm>
            <a:off x="1714680" y="2643120"/>
            <a:ext cx="6000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标题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4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3500280" cy="522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500040" y="2102760"/>
            <a:ext cx="8215200" cy="350820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为致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CS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组的表扬信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司委托贵司进行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C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安全委托测试项目组启动后，在贵司投入该项目的项目经理及项目成员的共同努力下，已经顺利完成《内容安全与域名备案系统》和《网页防篡改系统》的基本功能测试，《应用防火墙系统》测试正在顺利进行，迄今为止的项目阶段性目标均如期实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期间贵司项目组成员配合默契，工作积极主动，工作认真负责，保质保量地按时完成了交办的任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此，我们对项目组及各项目组成员付出的心血和所取得的成果表示感谢，并提出表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希望项目组在后续工作中，再接再厉，不断发扬优秀的工作态度和热情，更好的完成项目付</a:t>
            </a: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标题 2" descr=""/>
          <p:cNvPicPr/>
          <p:nvPr/>
        </p:nvPicPr>
        <p:blipFill>
          <a:blip r:embed="rId1"/>
          <a:stretch/>
        </p:blipFill>
        <p:spPr>
          <a:xfrm>
            <a:off x="2500200" y="341280"/>
            <a:ext cx="4310280" cy="101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108" name="表格 5" descr=""/>
          <p:cNvPicPr/>
          <p:nvPr/>
        </p:nvPicPr>
        <p:blipFill>
          <a:blip r:embed="rId3"/>
          <a:stretch/>
        </p:blipFill>
        <p:spPr>
          <a:xfrm>
            <a:off x="1708200" y="1636560"/>
            <a:ext cx="6156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标题 2" descr=""/>
          <p:cNvPicPr/>
          <p:nvPr/>
        </p:nvPicPr>
        <p:blipFill>
          <a:blip r:embed="rId1"/>
          <a:stretch/>
        </p:blipFill>
        <p:spPr>
          <a:xfrm>
            <a:off x="2611440" y="270000"/>
            <a:ext cx="4309920" cy="101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785960" y="1500120"/>
          <a:ext cx="5786280" cy="4300560"/>
        </p:xfrm>
        <a:graphic>
          <a:graphicData uri="http://schemas.openxmlformats.org/drawingml/2006/table">
            <a:tbl>
              <a:tblPr/>
              <a:tblGrid>
                <a:gridCol w="1455840"/>
                <a:gridCol w="1380960"/>
                <a:gridCol w="112680"/>
                <a:gridCol w="1455840"/>
                <a:gridCol w="1380960"/>
              </a:tblGrid>
              <a:tr h="31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讲师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影票数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rowSpan="1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讲师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影票数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黄玉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谢朝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海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映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晓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邹德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雷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钟华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隆梦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黄艳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涂小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陈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陶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何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达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曾令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繁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恩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永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31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旭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阮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9595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3348000" y="242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Times New Roman"/>
              </a:rPr>
              <a:t>THE 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427640" y="37893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2020</a:t>
            </a:r>
            <a:r>
              <a:rPr b="0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年</a:t>
            </a:r>
            <a:r>
              <a:rPr b="0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243000" y="1290600"/>
            <a:ext cx="416736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8" descr=""/>
          <p:cNvPicPr/>
          <p:nvPr/>
        </p:nvPicPr>
        <p:blipFill>
          <a:blip r:embed="rId4"/>
          <a:stretch/>
        </p:blipFill>
        <p:spPr>
          <a:xfrm>
            <a:off x="214200" y="642960"/>
            <a:ext cx="118440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1332000" y="4130640"/>
            <a:ext cx="4140000" cy="2648160"/>
          </a:xfrm>
          <a:prstGeom prst="rect">
            <a:avLst/>
          </a:prstGeom>
          <a:ln w="0">
            <a:noFill/>
          </a:ln>
        </p:spPr>
      </p:pic>
      <p:pic>
        <p:nvPicPr>
          <p:cNvPr id="51" name="矩形 9" descr=""/>
          <p:cNvPicPr/>
          <p:nvPr/>
        </p:nvPicPr>
        <p:blipFill>
          <a:blip r:embed="rId6"/>
          <a:stretch/>
        </p:blipFill>
        <p:spPr>
          <a:xfrm>
            <a:off x="357120" y="4143240"/>
            <a:ext cx="161136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7"/>
          <a:stretch/>
        </p:blipFill>
        <p:spPr>
          <a:xfrm>
            <a:off x="4754520" y="1719360"/>
            <a:ext cx="3718080" cy="391644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3" descr=""/>
          <p:cNvPicPr/>
          <p:nvPr/>
        </p:nvPicPr>
        <p:blipFill>
          <a:blip r:embed="rId8"/>
          <a:stretch/>
        </p:blipFill>
        <p:spPr>
          <a:xfrm>
            <a:off x="4357800" y="2000160"/>
            <a:ext cx="16113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4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800280" cy="1857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749160" y="2716200"/>
            <a:ext cx="7643880" cy="223884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通的员工董保民在工作期间，工作积极主动，认真负责，承担了大量国内局点版本的测试工作，测试工作质量良好，成为国内版本测试的主力。在工作期间，董保民积极帮助和指导新员工学习和工作，为新员工的快速成长，做出了贡献，在此对董保民给予表扬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公司数字家庭产品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测试部测试经理：谭兴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0-1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785880" y="2342880"/>
            <a:ext cx="7643880" cy="350892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位软通公司领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贵公司对华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公共开发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ploy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的大力支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公共开发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ploy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，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P PDU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的可服务性落实项目，对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P PDU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动安装可服务性的提高具有重要意义。贵公司深圳分公司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ploy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团队在华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公共开发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ploy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的开发过程中，在涉及技术广，技术难度大，时间紧任务重的情况下，克服种种技术难题，不断提高工作效率，加班加点保证了多个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ploy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本的顺利交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别需要提到</a:t>
            </a:r>
            <a:r>
              <a:rPr b="1" i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吴镇清和李先富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他们在工作之余，能对工作进行总结，多次输出面向所有团队的公共培训，并得到了良好的培训效果，得到了周边团队的表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公司员工的表现，充分体现了贵公司员工良好的职业素养和以客户为中心的工作作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Box 5" descr=""/>
          <p:cNvPicPr/>
          <p:nvPr/>
        </p:nvPicPr>
        <p:blipFill>
          <a:blip r:embed="rId3"/>
          <a:stretch/>
        </p:blipFill>
        <p:spPr>
          <a:xfrm>
            <a:off x="285840" y="500040"/>
            <a:ext cx="799920" cy="178596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4"/>
          <a:stretch/>
        </p:blipFill>
        <p:spPr>
          <a:xfrm>
            <a:off x="685800" y="500040"/>
            <a:ext cx="1314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4" descr=""/>
          <p:cNvPicPr/>
          <p:nvPr/>
        </p:nvPicPr>
        <p:blipFill>
          <a:blip r:embed="rId3"/>
          <a:stretch/>
        </p:blipFill>
        <p:spPr>
          <a:xfrm>
            <a:off x="571680" y="428760"/>
            <a:ext cx="119988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857160" y="2643480"/>
            <a:ext cx="7643880" cy="243756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扬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通员工杨川在工作期间，积极主动学习，业务知识掌握很快，能独立完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PTV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测试环境搭建，并很好地维护了多套测试环境，对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测试组的测试工作的顺利开展做出了突出贡献。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还牺牲休息时间，凭借良好的技术能力，协助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hom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在现网安装调试商用服务平台。在工作中，杨川还积极进行改进和效率提升，建立了环境部署表，环境搭建经验集，开发环境使用小工具，同时积极给新员工做技术交流和讲解，很好的支持了测试组的工作，在此对杨川给予表扬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公司数字家庭产品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-4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642960" y="2437200"/>
            <a:ext cx="7929720" cy="316908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为公司致聂青、温伟强的表扬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组成员聂青高质量交付自己所负责模块，主动开发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QL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助版本经理检查数据包正确性，在同事请假期间，主动承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TV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的存储切换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组成员温伟强在工作量非常大的情况下，交付验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陷，自检非常认真到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评审，给予聂青、温伟强《金荷花奖》，以资鼓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                                   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3"/>
          <a:stretch/>
        </p:blipFill>
        <p:spPr>
          <a:xfrm>
            <a:off x="785880" y="642960"/>
            <a:ext cx="79992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4"/>
          <a:stretch/>
        </p:blipFill>
        <p:spPr>
          <a:xfrm>
            <a:off x="1714680" y="642960"/>
            <a:ext cx="799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642960" y="2656440"/>
            <a:ext cx="7929720" cy="272988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为公司致吴龙、周波的表扬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2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动化测试工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B-Cleane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由黄金培、吴龙等人组成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2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测试效率提升工具项目开发完成，迅速地、全面地投入了使用。截止当前，覆盖了业软、数通、接入网，大道地提高了各产品线的测试效率、测试质量，为配置器数据的开发、测试赢得了充分的时间，提高配置器的交付质量，提高了团队交付的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B-Cleane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供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2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动化测试的解决方案，让测试人力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2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测试工作中得到较大的释放。同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B-Cleane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在诞生后，及时响应各用户的需求，配合当前的业务状态，进行持续的优化，真正为用户提供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2B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算法测试的利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此，颁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B-Cleane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组效率提升奖，以资鼓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8" descr=""/>
          <p:cNvPicPr/>
          <p:nvPr/>
        </p:nvPicPr>
        <p:blipFill>
          <a:blip r:embed="rId3"/>
          <a:stretch/>
        </p:blipFill>
        <p:spPr>
          <a:xfrm>
            <a:off x="785880" y="642960"/>
            <a:ext cx="79992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10" descr=""/>
          <p:cNvPicPr/>
          <p:nvPr/>
        </p:nvPicPr>
        <p:blipFill>
          <a:blip r:embed="rId4"/>
          <a:stretch/>
        </p:blipFill>
        <p:spPr>
          <a:xfrm>
            <a:off x="1714680" y="642960"/>
            <a:ext cx="799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642960" y="2093760"/>
            <a:ext cx="7929720" cy="435564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为公司致王建、聂青、吴龙的表扬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软配置器从单机版搬迁到网络版，涉及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2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模块，测试工作量非常大，需要工具快速、准确地生产测试用例。业软数据团队根据业软单机版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QUOTE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数据结构，分析数据表与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QUOTE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功能，一周时间内在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JAVA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上开发出了业软测试用例导出工具，按美国模块输出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以上用例计算，使用该工具只需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就可完成，效率提升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，较大提升了网络版测试效率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DNA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入分析单机版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QUOTE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结构与系统功能，发挥团队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JAVA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程优势；详尽分析了业软单机版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QUOTE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表的结构及关系，以及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QUOTE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自身功能，充分发挥团队成员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JAVA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程能力，快速开发出测试用例导出工具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据此，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S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质量与成本管理部对“业软配置器数据团队”进行通报嘉奖！希望产品体系其他项目组根据本团队情况借鉴学习，进一步提高版本质量和效率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奖小组成员：王建、聂青、吴龙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.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区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extBox 8" descr=""/>
          <p:cNvPicPr/>
          <p:nvPr/>
        </p:nvPicPr>
        <p:blipFill>
          <a:blip r:embed="rId3"/>
          <a:stretch/>
        </p:blipFill>
        <p:spPr>
          <a:xfrm>
            <a:off x="357120" y="428760"/>
            <a:ext cx="800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标题 2" descr=""/>
          <p:cNvPicPr/>
          <p:nvPr/>
        </p:nvPicPr>
        <p:blipFill>
          <a:blip r:embed="rId1"/>
          <a:stretch/>
        </p:blipFill>
        <p:spPr>
          <a:xfrm>
            <a:off x="3216240" y="214200"/>
            <a:ext cx="5843520" cy="101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43840" y="6116760"/>
            <a:ext cx="1741320" cy="52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500040" y="2973600"/>
            <a:ext cx="8215200" cy="2662200"/>
          </a:xfrm>
          <a:prstGeom prst="horizontalScroll">
            <a:avLst>
              <a:gd name="adj" fmla="val 12500"/>
            </a:avLst>
          </a:prstGeom>
          <a:solidFill>
            <a:srgbClr val="a80000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为公司对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P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成员刘三梅、唐祥进行表彰的通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公司员工刘三梅、唐祥在华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P R001C02LA000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中，工作积极主动，测试技能熟练，工作认真细致，并能在项目组内起到带头表率作用，表现优异，体现了贵公司员工敬业精神和“以客户为中心”的工作作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此对刘三梅、唐祥提出表扬和感谢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 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extBox 6" descr=""/>
          <p:cNvPicPr/>
          <p:nvPr/>
        </p:nvPicPr>
        <p:blipFill>
          <a:blip r:embed="rId3"/>
          <a:stretch/>
        </p:blipFill>
        <p:spPr>
          <a:xfrm>
            <a:off x="-46080" y="1000080"/>
            <a:ext cx="1332000" cy="17859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7" descr=""/>
          <p:cNvPicPr/>
          <p:nvPr/>
        </p:nvPicPr>
        <p:blipFill>
          <a:blip r:embed="rId4"/>
          <a:stretch/>
        </p:blipFill>
        <p:spPr>
          <a:xfrm>
            <a:off x="1414440" y="1000080"/>
            <a:ext cx="800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24:27Z</dcterms:created>
  <dc:creator>User</dc:creator>
  <dc:description/>
  <dc:language>en-US</dc:language>
  <cp:lastModifiedBy>mayn</cp:lastModifiedBy>
  <dcterms:modified xsi:type="dcterms:W3CDTF">2020-01-07T10:09:24Z</dcterms:modified>
  <cp:revision>134</cp:revision>
  <dc:subject/>
  <dc:title>相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