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.jpeg" ContentType="image/jpeg"/>
  <Override PartName="/ppt/media/image7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4AF-EADC-49A4-97A3-F68492C4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68A-6C20-4EC1-B594-502BDA28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6F6-4E7C-4A65-9599-26B5D158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239-31A1-4904-B6E6-2EF7E048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6055-B2B0-46E8-A725-3D98AA5D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B3F9-3183-484D-B66D-3D9FBBE1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30B1-9DBA-4627-A1B9-DD95D2F1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253D-B01B-469B-947B-0ACAE5DB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511C-D60D-4199-B2E9-181D9DD0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ADDC-6C9D-4F66-988B-77C8FF16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C6FD-DC3C-446A-A883-A733B778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F9D-1A94-4E41-9022-84CE8B20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5475-A1D8-498F-BB61-1C3AF816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AE19-FCB5-4F6B-BBB4-F0940514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8FD8-FD8C-4196-A349-7C1B110F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5D63-225F-499D-89F5-8C1F69C6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F6ED-D94A-4850-936C-C3BDD628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14537-3176-4177-9965-C47BDD21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4FCF-0725-4173-A976-44467526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4F674-5406-4028-B412-E7750E8D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7EFF-D63D-48C2-8823-6D3ABF93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DA02-26C8-47F2-9D63-6880643D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559-0127-40C4-BDE4-0E6F1B28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C7E3-2E0D-4372-AEEA-A11A090F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637E-CC0A-4298-9DD6-55931929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EE05-5BE8-4196-91CA-5BB38FC2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14ED8-C62B-4675-979A-E596A3A8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02168-CFE6-4B34-A611-B32269BB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C886-41D5-422B-AA95-8B24F363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6936-C57F-4E16-921B-2A59F221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F2ABA-52AB-4FEF-B6B8-1CE094EE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B42CC-A64A-4D2B-B421-7E3C022B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741CA-7BEA-4734-8495-B0D35DAE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7F0-E9FD-49CF-BB71-2E17FA13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1968F-5F3E-470F-8DC9-DE5B263E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A6D0-C7C5-41A1-B771-C9EEE0C1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245AF-F14A-4B6E-BD6F-0AD5A938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A592-5F2D-4232-BD1F-42714B77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65407-04A4-4E63-B30A-DA7633D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E48F1-DDC9-499B-9246-68E0D5AD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4D4A4-33C1-447B-913D-9CCC9E13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4B092-1BD4-4586-BA49-618D6EE1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E868-A874-4F7C-932B-16E70C8D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5245C-86E2-4871-A616-1BDC4220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501-D369-4145-83D8-0EA8C5C4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42FB1-AA04-45C9-8F15-6274306F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85407-0C54-49F2-859E-A3F9DC93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8DA33-0ADE-499D-A6CE-0DD79188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DB6CE-FA50-401E-918E-CCCD1A3C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937DF-00B7-4BF3-9342-7CA6F15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290EA-CEAD-4B9C-93B7-D403C30A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82272-0C1C-4E51-863D-660974FB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1E550-E200-41AD-978C-551E92F2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B9221-799F-4EFC-B61F-7B160614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1DCC8-4F79-4BC5-BAE2-7FE36D65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A96-4DC4-48C9-9B13-F2E37F23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DFF7-A372-4E75-8D50-8D45657A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69FD1-A962-4A25-969F-C9120EA7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FE88C-301F-4FCD-9E57-6FCB3B84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8993A-2C3F-4B9D-A854-44FE1ED3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9EA47-1A6D-4F15-8F20-69519801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610DB-AFFF-4901-A29F-BD6B3078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4441E-9991-41BB-9646-C83D46C8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DD01F-D8A4-4B98-A44B-141CAF75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45BF1-6D8B-4CC6-B843-CA530B1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3B0B5-4AB2-4A90-93BA-DE59151F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70E-43DE-48AB-B863-24C9B88D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2B167-C680-4E65-9262-BD6E3719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70E01-39B4-4B76-8D5C-FEA47346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A6924-EF8C-42BC-8B86-5E5FF709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EB468-0A80-4EBB-A33C-4E289C91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CABDF-82C2-4EB9-979E-AAA43E57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7DFFB-F6B0-43D4-9FB9-97C46D20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0389D-1D1E-461F-93F1-4934A357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DF1A5-3FD5-4AC9-87F5-B239781E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22F862-57FC-4F04-BF07-F7DFBE96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34BFA4-79AC-4DEF-B549-A6212280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42B-C1FA-48EE-8870-152AF6AB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D42EB8-7770-4D79-8CEA-5A68BA31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1DA15-E897-4CEA-9CAB-94D6B49A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FD3A3-4CDB-4399-8A70-36B12DE7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F56C8D-7F20-4715-B153-7C2CF5E7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DBA13-FD49-4600-AC08-25DAC29B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4D6-E286-4B8C-BE94-3D0DC40C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6765-9AAF-4EB2-8387-1B832E55670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9469-D536-4333-B6AF-26F15B25B2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8E79-24C2-4A63-8B48-CBCCDBA8CD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E4D4-8B5D-4AA3-A3E4-CF58D9F870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41D4-7E4E-40F4-B8F4-EB7C8BB199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021B-0A34-4B9E-BD9A-F2128C785A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D0B1-9EC1-4F7F-9017-73FC760156E4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F1F8-06C8-4792-8F68-55411E1C764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0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1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1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6DAC-E2A5-4F81-A2B1-82D6F0E23AE6}" type="datetime">
              <a:rPr b="0" lang="zh-CN" sz="1400" spc="-1" strike="noStrike">
                <a:solidFill>
                  <a:srgbClr val="1c1c1c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F252-5DB2-43FB-B651-ED07BA3CCB2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23E9-D7E4-4DAC-A378-DF4A724CCA6C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6F4E-785D-4BB9-B909-5614946E664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7EF7-6D59-4B9E-991A-7241BC30417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05A1-BAE3-4043-B5A8-E45911DC908F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&#22825;&#20142;&#20102;.swf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507;%B8%A3&amp;in=20551&amp;cl=2&amp;cm=1&amp;sc=0&amp;lm=-1&amp;pn=80&amp;rn=1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95280" y="4653000"/>
            <a:ext cx="784692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感恩节主题班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5E9-49DB-4F34-96E5-BD49F930EA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8AE1B-6C02-45F0-BE7C-21962174C4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4589640"/>
            <a:ext cx="2268360" cy="2268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6000" y="335736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zh-CN" sz="5400" spc="-1" strike="noStrike">
                <a:solidFill>
                  <a:srgbClr val="333399"/>
                </a:solidFill>
                <a:latin typeface="华文行楷"/>
                <a:ea typeface="华文行楷"/>
              </a:rPr>
              <a:t>请欣赏视频</a:t>
            </a:r>
            <a:br>
              <a:rPr sz="5400"/>
            </a:br>
            <a:r>
              <a:rPr b="0" lang="zh-CN" sz="54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  《感恩父母》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281A-894F-49E6-8521-231AC86122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62F14FCD-6A99-48CE-A71D-32C5E7F152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你是否了解你爸爸妈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9280" y="907920"/>
            <a:ext cx="67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的生日是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的体重是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的身高是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穿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码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喜欢颜色是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喜欢食物是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喜欢的日常消遣活动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喜欢做的运动是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妈妈经常用来教育你的口头禅是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亲节：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父亲节：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580000" y="260280"/>
            <a:ext cx="3564000" cy="2362320"/>
            <a:chOff x="5580000" y="260280"/>
            <a:chExt cx="3564000" cy="2362320"/>
          </a:xfrm>
        </p:grpSpPr>
        <p:sp>
          <p:nvSpPr>
            <p:cNvPr id="369" name=""/>
            <p:cNvSpPr/>
            <p:nvPr/>
          </p:nvSpPr>
          <p:spPr>
            <a:xfrm>
              <a:off x="5580000" y="260280"/>
              <a:ext cx="3564000" cy="23623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52720" y="260280"/>
              <a:ext cx="349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请你如实回答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心的同学可以把答案写在一张纸寄给你父母评分。答对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题以下的请你以后多与父母沟通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595600" y="5300640"/>
            <a:ext cx="23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二个星期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4160" y="5661000"/>
            <a:ext cx="24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2F9-F7E8-4CAB-A454-D42D62E6091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60F42-80E3-4B04-A7C3-D21198DF38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6699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16000" y="69228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隶书"/>
              </a:rPr>
              <a:t>真情流露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205000"/>
            <a:ext cx="831672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你最想对父母说的一句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父母生日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亲节或父亲节那天你        有何表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你认为该如何报答父母的恩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DAE-EAF5-4329-8642-4312541DA1B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08DD4-F056-4368-9FAE-72D65D56E7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单击图片换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2556000" y="1125360"/>
            <a:ext cx="3276360" cy="3086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3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父母为你做的事和你为父母做的事列举出来，作为砝码放在天平的两端，看看你的天平是否倾斜得太厉害？如果是，请你加重砝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09480" y="5335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BCD-EB5F-45B3-AB52-0A30F464832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9AC6C-EA2C-4E62-B48B-31B2BC01BE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755640" y="404640"/>
            <a:ext cx="72738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第二环节：感恩老师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83" name="">
            <a:hlinkClick r:id="rId2"/>
          </p:cNvPr>
          <p:cNvSpPr/>
          <p:nvPr/>
        </p:nvSpPr>
        <p:spPr>
          <a:xfrm>
            <a:off x="8458200" y="6329520"/>
            <a:ext cx="376200" cy="52848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5640" y="31068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老师的心，和父母一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父母给了你生命，老师给了你灵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父母给了你肉体，老师给了你思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愿天下的孩子孝顺父母，愿天下的学子爱戴老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26C-BF9C-472A-B1ED-C9F386F2A95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6023F-D22C-4484-9835-1DB632609B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971280" y="2997360"/>
            <a:ext cx="756108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</a:rPr>
              <a:t>《我爱您，老师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268360" y="1125360"/>
            <a:ext cx="41148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集体诗朗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050-E7B4-4168-8A60-686C8EFCC7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4F6F2-B48B-4B96-8A70-C616869D20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179280" y="1197000"/>
            <a:ext cx="87440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华文新魏"/>
              </a:rPr>
              <a:t>第三环节：感恩同学、感恩社会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549-B40C-4169-98C4-4C5C923EE67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A88CB-3211-4800-8B7B-7AD032B9AF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3993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感恩社会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孕育爱心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社会是个大家庭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兄弟姐妹聚集在这里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互相传递着一颗善良的心。我们要学会感恩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感恩生命的美好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感恩世界的绚烂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感恩社会的温馨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76600" y="4292640"/>
            <a:ext cx="185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小品欣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《拥有一颗感恩的心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EED-74CA-4108-AB57-35A2D68DE4E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DE471-3299-477E-A6F9-D814A18393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340000" y="404640"/>
            <a:ext cx="4191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  激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</a:t>
            </a:r>
            <a:r>
              <a:rPr b="0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感谢父母，赐予我生命，不求回报地爱着我疼着我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   </a:t>
            </a:r>
            <a:r>
              <a:rPr b="0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感谢老师，传授我知识，告诉我做人的道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   </a:t>
            </a:r>
            <a:r>
              <a:rPr b="0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感谢朋友，在我困惑，委屈的时候给我力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   </a:t>
            </a:r>
            <a:r>
              <a:rPr b="0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感谢所有进入我生命中的人，因为是你们一点点装饰了我的人生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   </a:t>
            </a:r>
            <a:r>
              <a:rPr b="0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感谢这个世界上所有值得我们感激的人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E1748-E9D8-4972-ABD0-368E3C194E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4485B811-243A-458F-9CEE-1399B65B6223}" type="datetime1">
              <a:rPr lang="en-US"/>
              <a:t>07/31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318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方正舒体"/>
                <a:ea typeface="方正舒体"/>
              </a:rPr>
              <a:t>凡事感激</a:t>
            </a:r>
            <a:r>
              <a:rPr b="0" lang="zh-CN" sz="6600" spc="-1" strike="noStrike">
                <a:solidFill>
                  <a:srgbClr val="0000ff"/>
                </a:solidFill>
                <a:latin typeface="方正舒体"/>
                <a:ea typeface="方正舒体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感激伤害你的人，因为他磨练了你的心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感激绊倒你的人，因为他强化了你的双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感激欺骗你的人，因为他增进了你的智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感激藐视你的人，因为他觉醒了你的自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感激遗弃你的人，因为他教会了你该独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凡事感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会感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感激一切使你成长的人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CE9-8381-449E-9CE6-709BC48D79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EFB3F-4F89-497C-B35E-B20C0624EF43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122868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感恩节的由来和文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1F7-E7C7-4AB2-83C7-C1AC70F4CD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39F9B-0E25-4DCA-87BA-AA70CE6844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来自偶然像一颗尘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谁看出我的脆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来自何方我情归何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谁在下一刻呼唤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地虽宽这条路却难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看遍这人间坎坷辛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还有多少爱我还有多少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要苍天知道我不认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感恩的心感谢有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我一生让我有勇气作我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感恩的心感谢命运花开花落我一样会珍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1600200" cy="647712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《 感恩的心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816-7CE9-4692-A166-EE7146BEC71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FBC9E-E1F8-4B2A-81AD-814E58295D0D}" type="datetime1">
              <a:rPr lang="en-US"/>
              <a:t>07/31/26</a:t>
            </a:fld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116000" y="1801440"/>
            <a:ext cx="69850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全体宣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我一定会孝敬长辈、尊敬老师、团结同学、刻苦学习、顽强拼搏、不辜负父母、老师的期望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A66-D5CA-4784-AD89-7F869CCC86E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507B9-BC11-4DC7-BB7F-E0FED2E452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755640" y="2565360"/>
            <a:ext cx="813744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同学们，为了将来，我们要自尊、自律、自强、自信，刻苦学习、勇于探索，奋发向上，走向辉煌！以实际行动来报答父母、老师的深情</a:t>
            </a:r>
            <a:r>
              <a:rPr b="0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2A2-382F-4291-8887-7B008D6F106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23AB6-68EA-438E-BCD4-86CEB5099323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0"/>
            <a:ext cx="8604360" cy="6824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1908000" y="765000"/>
            <a:ext cx="56008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谢谢大家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188-85EF-4C49-8020-F59ECC977DE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B2C4D-7112-45B7-A777-30BC3506B7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588000" y="5373720"/>
            <a:ext cx="2556000" cy="1332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月的第四个星期四是感恩节。感恩节是美国人民独创的一个古老节日，也是美国人合家欢聚的节日，因此美国人提起感恩节总是倍感亲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恩节的由来要一直追溯到美国历史的发端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著名的“五月花”号船满载不堪忍受英国国内宗教迫害的清教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到达美洲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2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之交的冬天，他们遇到了难以想象的困难，处在饥寒交迫之中，冬天过去时，活下来的移民只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人。这时，心地善良的印第安人给移民送来了生活必需品，还特地派人教他们怎样狩猎、捕鱼和种植玉米、南瓜。在印第安人的帮助下，移民们终于获得了丰收，在欢庆丰收的日子，按照宗教传统习俗，移民规定了感谢上帝的日子，并决定为感谢印第安人的真诚帮助，邀请他们一同庆祝节日。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B30-742C-4299-9E7D-3AEFAC3C6B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934CA-6CC9-488F-B67A-E1BC3A83BA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451640" y="538164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50920" y="189000"/>
            <a:ext cx="8488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逢感恩节这一天，美国举国上下热闹非常，人们按照习俗前往教堂做感恩祈祷，城乡市镇到处都有化装游行、戏剧表演或体育比赛等。劳燕分飞了一年的亲人们也会从天南海北归来，一家人团团圆圆，品尝美味的感恩节火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火鸡是感恩节的传统主菜，通常是把火鸡肚子里塞上各种调料和拌好的食品，然后整只烤出，由男主人用刀切成薄片分给大家。此外，感恩节的传统食品还有甜山芋、玉蜀黍、南瓜饼、红莓苔子果酱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恩节宴会后，人们有时会做些传统游戏，比如南瓜赛跑是比赛者用一把小勺推着南瓜跑，规则是不能用手碰南瓜，先到终点者获胜。比赛用的勺子越小，游戏就越有意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少年来，庆祝感恩节的习俗代代相传，无论在岩石嶙峋的西海岸还是在风光旖旎的夏威夷，人们几乎在以同样的方式欢度感恩节，感恩节是不论何种信仰、何种民族的美国人都庆祝的传统节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3C6-40FD-4EA5-8F25-E4C92EC7618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D555F-4308-47E9-8C9F-C8D61AC611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>
            <a:lum bright="18000"/>
          </a:blip>
          <a:srcRect l="0" t="14078" r="0" b="296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95280" y="407664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世上有一部永远也写不完的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父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71640" y="836640"/>
            <a:ext cx="691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一环节：感恩父母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D86-16F4-461E-AD67-FE5BA43E11C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80D31-021D-413D-A144-A82C7FBC07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34080" y="3040200"/>
            <a:ext cx="3409920" cy="3817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4535280" cy="35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母亲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9640" y="3860640"/>
            <a:ext cx="23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歌曲欣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FEE-7DCE-4C34-8479-1390614641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EEE18-4CF5-4070-9811-63DFA701B3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76000" y="914040"/>
            <a:ext cx="629604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孟郊《游子吟》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64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808"/>
                </a:solidFill>
                <a:latin typeface="华文楷体"/>
                <a:ea typeface="华文楷体"/>
              </a:rPr>
              <a:t>慈母手中线，游子身上衣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808"/>
                </a:solidFill>
                <a:latin typeface="华文楷体"/>
                <a:ea typeface="华文楷体"/>
              </a:rPr>
              <a:t>临行密密缝，意恐迟迟归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808"/>
                </a:solidFill>
                <a:latin typeface="华文楷体"/>
                <a:ea typeface="华文楷体"/>
              </a:rPr>
              <a:t>谁言寸草心，报得三春晖</a:t>
            </a:r>
            <a:r>
              <a:rPr b="0" lang="zh-CN" sz="4800" spc="-1" strike="noStrike">
                <a:solidFill>
                  <a:srgbClr val="000808"/>
                </a:solidFill>
                <a:latin typeface="华文楷体"/>
                <a:ea typeface="华文楷体"/>
              </a:rPr>
              <a:t>。</a:t>
            </a:r>
            <a:r>
              <a:rPr b="1" lang="zh-CN" sz="5400" spc="-1" strike="noStrike">
                <a:solidFill>
                  <a:srgbClr val="000808"/>
                </a:solidFill>
                <a:latin typeface="华文中宋"/>
                <a:ea typeface="华文中宋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79280" y="18900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请欣赏诗朗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F638-3BE4-418B-B334-482F455BFE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BDAFE29-ED98-43FE-906C-DFF0FEE6AEB2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8985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981000"/>
            <a:ext cx="765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     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走过十多年的风雨路，相信你与你的父母之间也会有许多令你感动的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8EC-9D38-4241-861A-6E0E9585D21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A37E2-48A9-4B09-8963-38F79166F3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新闻链接：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六旬老父捐肾救子：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月，湖北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岁的农民父亲胡介甫将自己的肾脏移植给了患“尿毒症”的儿子，固执的父亲不容拒绝地告诉儿子胡立新：“没什么比你的命更重要？我宁可自己没命，也不能看着你死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感恩节主题班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1469F-769C-450E-AB6B-A54A66D0C6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A4870A3C-F526-43C4-9232-F5121F86BC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07T06:51:39Z</dcterms:modified>
  <cp:revision>149</cp:revision>
  <dc:subject/>
  <dc:title>PowerPoint 演示文稿</dc:title>
</cp:coreProperties>
</file>