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5D9-6560-4AB4-BA10-665847F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481-0E0E-4FA1-95ED-C1ADD76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DD8E4-216D-4DB6-B7F7-299D00A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5162-5862-418E-B7EB-3648814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109B-0DFF-4AF6-BD0D-C1FE681F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818B1-B11D-4F45-8D8F-9F06F38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E92C-EA95-4713-BA7B-186BC58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85A96-3277-48AF-BBC2-1687E64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D156-9FD2-417A-8852-7A2675A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87467-FD7A-4EE9-9D9A-3C43F7E9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D3706-81A0-4F47-93D8-F4DD012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5AC12-DCBB-4B67-A165-FEA35E3B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FEA-24A7-4EF5-8486-9B465664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2835A-30A7-4433-833F-23A2748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5088B-149D-4409-B0AB-DD9E785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64CFB-3F6B-4663-B72B-4BDBCD5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08C25-4B84-4F51-8506-77C0D63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6ABFE-A9A1-4C8C-9E88-6186E3E3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A50E0-4CCD-4580-A3C2-DA339F3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9DABF-778C-45EE-92B4-9B8C36C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52F6B-E050-4313-884D-EDA700D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5FB40-DBBD-479B-BD98-CF8284E8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F7747-F31A-4990-83A6-03A0263F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E11-A425-44BF-824B-DFBF043B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767BB-EC96-422A-9DC9-2E23E76E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9EC77-E9B7-4C90-AA07-634D8DA3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8FA81-B162-4906-A4FC-3365566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374E-DE10-4196-9BC0-1C3DB69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C667-8AB7-41B6-B632-24C7994B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242A5-5170-40B6-80CD-4DDCDD2C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1461A-17BA-42A2-BDFC-84ED6AF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8EED-1AF7-4237-918B-0E4519D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7C0D-8589-4F47-9A9E-09E67A3B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51A0-0F43-464F-8476-76ACFE9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5C9-2CAB-43F8-B4B8-5CF77A7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129BF-2F1E-41BA-AF04-E5763EA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E971-4AB3-409B-B3AB-05B4EE7A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1ADD-AF72-4F07-BCDF-E87C2009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C63-C7D0-4956-AD98-061BE94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174-AA60-41DC-9E6E-B116FC2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D16-E009-432E-9879-BAA634A8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EA7-4926-486F-A9EC-85B27EB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A3C8-9292-431C-9230-7F7801C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4E16-A3EE-4734-9D56-F1EC719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438-BBB5-4B9E-8651-3317544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5D11-D3D5-4DBC-9ED5-7CD9AFA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5FB-90FA-4845-B9B4-A6A31EA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3AEB-2EBA-4DC1-A6AD-AE3B73F0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04D-21AF-495B-BD6F-C4606BA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1A66-B50B-4BA9-BDCD-DF5B463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FC50-784F-4F77-8F92-0F8AC3C8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5B5B-ECEF-47C1-99AB-C00C0E9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9739-8D41-4605-8DA8-3F82C0EB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5ECE-A10F-43C8-B273-FC9AD70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0E9B-8C21-4372-B88C-C04C47BE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B4E-26EB-4E11-BFC0-BFF86F5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FD30-D8BE-4542-859C-EAC20BCA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0DD3-2B0D-4162-876F-9BE61B3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B2C6-8F00-416C-9174-B46F622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9806-90F0-4E22-9FB0-B9878D0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F066-872B-4871-AA8C-A0AD1DA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5E74-960B-4F76-88AF-9EC9379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CDC4-E90C-435A-A346-780F0C0A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4AFB-8B7C-492D-9C84-8D861808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07C0-1875-4988-B203-6578A61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BADE-EA49-4789-816E-E59BF6F9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888-EBE3-4D31-9478-EEEAAD8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E611-6629-4250-AF9D-4AA6205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DCC8-E3F0-4F0B-9457-50FB80EF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14E8-D067-4843-9EB0-71DD123C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9325-AF73-49EA-92F9-B552BC3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4301-60EE-47FD-9801-0B6274F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E10A-2201-4BFB-B7A2-C38D26C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4505-A4F9-492E-8CFA-B680F9F3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48FC-2880-489D-93E2-385B9CCA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95AB-FC0E-419A-BC63-1CC563E5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3BA2-DCBF-433F-A9F1-EB3F1FEB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0CE-8AED-4C1F-9BE9-B63FD6D3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2484C-AABC-47BC-B1F2-5691242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DB30-6E4C-4F62-8522-7D37C8BB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3F68-2077-4981-8B95-C1DB4E8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DEF76-9E9D-4EA5-A6AE-9780F0CD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8787-D837-4488-B089-2EE4868D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23156-CA44-43FC-B6BD-FEA2EF4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FD25-685B-4EBB-8FBF-910B97B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6535-5854-422C-8486-3048BCE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F2A8-F5CB-4444-9843-8E8E362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3DB9-2F91-4967-913C-F2B47B21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013-5BDD-4FD5-BB6A-EBAF89F6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E31F-7222-4E92-9FD4-44CF380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BAEB-4311-4A64-9B89-576B699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5267-5086-4721-ABA6-D135ACA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74CF-53A1-4A49-88E9-08B9E569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8054-5445-4670-AF48-902D0F7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A568-3DE3-47C6-BADC-6C5C02B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7AC9-42BA-4A84-B0A3-935AC80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8DC5-6F95-4D92-873F-C61F7D3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A00C-78BF-4656-A92B-9535DDE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5EA8-BAC5-43F4-8DB9-FD6945D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2C7-80FF-461B-99B5-C0C0B5F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3A27-8CDA-4852-A58C-248E96A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50F7-88ED-4950-A8BC-6F90D0EA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FF9C-FA5A-4075-831D-26658F5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16EB9-BEAE-4DA5-B7CE-469827A8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65877-995C-4F66-B793-99B9ABFF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B7EA6-5E3A-42D1-A9EF-152FF5A5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92A3-8EA3-477B-82D5-25346E0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95A2-CADD-44BC-85F7-F5201AB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D265-5B6E-42F2-AF0E-D0CC3596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799C-5419-4563-B0D6-6DA8BCC9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F20-86CE-4A60-A539-14053D5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9355-0CBA-45BC-8F90-E51FCCF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0959-F27D-4EE8-AE83-76350DC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F16A-8FF6-4566-A01B-A1B750E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8E1FF-1170-4302-98A7-2F62CA26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FEC1-1CBE-461C-9FDA-EDAAB31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CCF81-5FCC-446F-A430-28FE02C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17FC-EF33-45FA-B7D2-6674CB3A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5FDD-B6A9-48A1-9568-6FD0902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8CB3-7B3E-4EBA-8DB7-6003C43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EEA5D-78D6-408D-8A08-9E15C701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1DB-DB0D-4719-BCF1-E474537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E27E9-B88B-4ED8-8987-0280585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E97B-38DE-4606-AB05-FDF3F87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75B86-1893-471C-9BEA-C0CF29C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8DE0-3BD2-4680-B529-3DFEFCB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7066-D6FB-4BEA-8CAC-62EE1A2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4B4A-5166-428D-AD03-F8802694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33841-BEA0-46A8-A5DD-D9DE7A0B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3677-1CD0-49D1-AD33-E5936079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4D989-F237-4333-9C12-1EF22916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81C7-09B2-4295-857C-3E0E8625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BEDE-8E83-40D7-9D44-502D130E4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D7B9-02E3-44BD-BE30-B59826736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5122-1EC3-4984-AE85-A99425AFB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B5D-23F3-4C0C-A60D-9FE1B04E5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EE2-649A-4C61-9F5D-D80B15C78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88B-8A2B-4775-B619-6C43A76AF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4B7-931D-4AB8-A52F-1ED77423E3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8F3-16B4-468A-B2B5-41225A47E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63D-42C7-41EB-A182-CEBD4CC84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CB9-2DBA-42AD-A8D0-2593CC403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833D-DEDD-44D5-BBAC-1FF82FE8CE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214720" y="2535120"/>
            <a:ext cx="4714560" cy="132264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换底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变式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计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Object 2" descr=""/>
          <p:cNvPicPr/>
          <p:nvPr/>
        </p:nvPicPr>
        <p:blipFill>
          <a:blip r:embed="rId1"/>
          <a:stretch/>
        </p:blipFill>
        <p:spPr>
          <a:xfrm>
            <a:off x="1501920" y="2859120"/>
            <a:ext cx="61401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Object 2" descr=""/>
          <p:cNvPicPr/>
          <p:nvPr/>
        </p:nvPicPr>
        <p:blipFill>
          <a:blip r:embed="rId1"/>
          <a:stretch/>
        </p:blipFill>
        <p:spPr>
          <a:xfrm>
            <a:off x="1654200" y="1636560"/>
            <a:ext cx="5835600" cy="35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型二　用已知对数表示其它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试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1692360" y="1844640"/>
            <a:ext cx="873000" cy="500040"/>
            <a:chOff x="1692360" y="1844640"/>
            <a:chExt cx="873000" cy="500040"/>
          </a:xfrm>
        </p:grpSpPr>
        <p:grpSp>
          <p:nvGrpSpPr>
            <p:cNvPr id="497" name="Group 16"/>
            <p:cNvGrpSpPr/>
            <p:nvPr/>
          </p:nvGrpSpPr>
          <p:grpSpPr>
            <a:xfrm>
              <a:off x="1692360" y="1868400"/>
              <a:ext cx="873000" cy="476280"/>
              <a:chOff x="1692360" y="1868400"/>
              <a:chExt cx="873000" cy="476280"/>
            </a:xfrm>
          </p:grpSpPr>
          <p:sp>
            <p:nvSpPr>
              <p:cNvPr id="498" name="Oval 93"/>
              <p:cNvSpPr/>
              <p:nvPr/>
            </p:nvSpPr>
            <p:spPr>
              <a:xfrm>
                <a:off x="1692360" y="1868400"/>
                <a:ext cx="873000" cy="4762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18"/>
              <p:cNvGrpSpPr/>
              <p:nvPr/>
            </p:nvGrpSpPr>
            <p:grpSpPr>
              <a:xfrm>
                <a:off x="1755360" y="1878840"/>
                <a:ext cx="775080" cy="423000"/>
                <a:chOff x="1755360" y="1878840"/>
                <a:chExt cx="775080" cy="423000"/>
              </a:xfrm>
            </p:grpSpPr>
            <p:pic>
              <p:nvPicPr>
                <p:cNvPr id="500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55360" y="187884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1" name="Text Box 38"/>
                <p:cNvSpPr/>
                <p:nvPr/>
              </p:nvSpPr>
              <p:spPr>
                <a:xfrm>
                  <a:off x="1837440" y="1943640"/>
                  <a:ext cx="5320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TextBox 15"/>
            <p:cNvSpPr/>
            <p:nvPr/>
          </p:nvSpPr>
          <p:spPr>
            <a:xfrm>
              <a:off x="1763640" y="18446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Object 2" descr=""/>
          <p:cNvPicPr/>
          <p:nvPr/>
        </p:nvPicPr>
        <p:blipFill>
          <a:blip r:embed="rId2"/>
          <a:stretch/>
        </p:blipFill>
        <p:spPr>
          <a:xfrm>
            <a:off x="1646280" y="2924280"/>
            <a:ext cx="585144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ject 2" descr=""/>
          <p:cNvPicPr/>
          <p:nvPr/>
        </p:nvPicPr>
        <p:blipFill>
          <a:blip r:embed="rId1"/>
          <a:stretch/>
        </p:blipFill>
        <p:spPr>
          <a:xfrm>
            <a:off x="1654200" y="1309680"/>
            <a:ext cx="58356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Object 2" descr=""/>
          <p:cNvPicPr/>
          <p:nvPr/>
        </p:nvPicPr>
        <p:blipFill>
          <a:blip r:embed="rId1"/>
          <a:stretch/>
        </p:blipFill>
        <p:spPr>
          <a:xfrm>
            <a:off x="1654200" y="1658880"/>
            <a:ext cx="58356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608120" y="1430280"/>
            <a:ext cx="5927760" cy="399744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【名师点睛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求条件对数式的值，可从条件入手，从条件中分化出要求的对数式，进行求值；也可从结论入手，转化成能使用条件的形式；还可同时化简条件和结论，直到找到它们之间的联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变式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Object 2" descr=""/>
          <p:cNvPicPr/>
          <p:nvPr/>
        </p:nvPicPr>
        <p:blipFill>
          <a:blip r:embed="rId1"/>
          <a:stretch/>
        </p:blipFill>
        <p:spPr>
          <a:xfrm>
            <a:off x="1654200" y="1844640"/>
            <a:ext cx="5835600" cy="43488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7" descr=""/>
          <p:cNvPicPr/>
          <p:nvPr/>
        </p:nvPicPr>
        <p:blipFill>
          <a:blip r:embed="rId2"/>
          <a:stretch/>
        </p:blipFill>
        <p:spPr>
          <a:xfrm>
            <a:off x="1670040" y="2565360"/>
            <a:ext cx="580536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Object 2" descr=""/>
          <p:cNvPicPr/>
          <p:nvPr/>
        </p:nvPicPr>
        <p:blipFill>
          <a:blip r:embed="rId1"/>
          <a:stretch/>
        </p:blipFill>
        <p:spPr>
          <a:xfrm>
            <a:off x="1654200" y="1681200"/>
            <a:ext cx="583560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型三　利用对数求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【思路点拨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把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对数形式表示后，转化为对数的运算求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解】法一：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5"/>
          <p:cNvGrpSpPr/>
          <p:nvPr/>
        </p:nvGrpSpPr>
        <p:grpSpPr>
          <a:xfrm>
            <a:off x="1547640" y="1916280"/>
            <a:ext cx="873360" cy="500040"/>
            <a:chOff x="1547640" y="1916280"/>
            <a:chExt cx="873360" cy="500040"/>
          </a:xfrm>
        </p:grpSpPr>
        <p:grpSp>
          <p:nvGrpSpPr>
            <p:cNvPr id="513" name="Group 16"/>
            <p:cNvGrpSpPr/>
            <p:nvPr/>
          </p:nvGrpSpPr>
          <p:grpSpPr>
            <a:xfrm>
              <a:off x="1547640" y="1940040"/>
              <a:ext cx="873360" cy="476280"/>
              <a:chOff x="1547640" y="1940040"/>
              <a:chExt cx="873360" cy="476280"/>
            </a:xfrm>
          </p:grpSpPr>
          <p:sp>
            <p:nvSpPr>
              <p:cNvPr id="514" name="Oval 93"/>
              <p:cNvSpPr/>
              <p:nvPr/>
            </p:nvSpPr>
            <p:spPr>
              <a:xfrm>
                <a:off x="1547640" y="1940040"/>
                <a:ext cx="873360" cy="4762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18"/>
              <p:cNvGrpSpPr/>
              <p:nvPr/>
            </p:nvGrpSpPr>
            <p:grpSpPr>
              <a:xfrm>
                <a:off x="1610640" y="1950480"/>
                <a:ext cx="775440" cy="423000"/>
                <a:chOff x="1610640" y="1950480"/>
                <a:chExt cx="775440" cy="423000"/>
              </a:xfrm>
            </p:grpSpPr>
            <p:pic>
              <p:nvPicPr>
                <p:cNvPr id="516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10640" y="1950480"/>
                  <a:ext cx="77544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7" name="Text Box 38"/>
                <p:cNvSpPr/>
                <p:nvPr/>
              </p:nvSpPr>
              <p:spPr>
                <a:xfrm>
                  <a:off x="1692720" y="2015280"/>
                  <a:ext cx="532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TextBox 15"/>
            <p:cNvSpPr/>
            <p:nvPr/>
          </p:nvSpPr>
          <p:spPr>
            <a:xfrm>
              <a:off x="1618920" y="191628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Object 2" descr=""/>
          <p:cNvPicPr/>
          <p:nvPr/>
        </p:nvPicPr>
        <p:blipFill>
          <a:blip r:embed="rId2"/>
          <a:stretch/>
        </p:blipFill>
        <p:spPr>
          <a:xfrm>
            <a:off x="1655640" y="1844640"/>
            <a:ext cx="583416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1509840" y="968400"/>
            <a:ext cx="61243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714320" y="1179000"/>
            <a:ext cx="5715000" cy="453564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学习导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Object 2" descr=""/>
          <p:cNvPicPr/>
          <p:nvPr/>
        </p:nvPicPr>
        <p:blipFill>
          <a:blip r:embed="rId1"/>
          <a:stretch/>
        </p:blipFill>
        <p:spPr>
          <a:xfrm>
            <a:off x="1816200" y="2852640"/>
            <a:ext cx="55116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608120" y="1755720"/>
            <a:ext cx="5927760" cy="334656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【名师点评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解答带有附加条件的对数式求值问题，通常需要指数式与对数式互化或对等式两边取对数等，但要注意对底数的合理选取及化同底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变式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Object 2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834160" cy="150948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4" descr=""/>
          <p:cNvPicPr/>
          <p:nvPr/>
        </p:nvPicPr>
        <p:blipFill>
          <a:blip r:embed="rId2"/>
          <a:stretch/>
        </p:blipFill>
        <p:spPr>
          <a:xfrm>
            <a:off x="1670040" y="3429000"/>
            <a:ext cx="5805360" cy="22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219"/>
          <p:cNvGrpSpPr/>
          <p:nvPr/>
        </p:nvGrpSpPr>
        <p:grpSpPr>
          <a:xfrm>
            <a:off x="3537000" y="981000"/>
            <a:ext cx="2071800" cy="528480"/>
            <a:chOff x="3537000" y="981000"/>
            <a:chExt cx="2071800" cy="528480"/>
          </a:xfrm>
        </p:grpSpPr>
        <p:grpSp>
          <p:nvGrpSpPr>
            <p:cNvPr id="526" name="Group 7"/>
            <p:cNvGrpSpPr/>
            <p:nvPr/>
          </p:nvGrpSpPr>
          <p:grpSpPr>
            <a:xfrm>
              <a:off x="3537000" y="1003680"/>
              <a:ext cx="2001600" cy="505800"/>
              <a:chOff x="3537000" y="1003680"/>
              <a:chExt cx="2001600" cy="505800"/>
            </a:xfrm>
          </p:grpSpPr>
          <p:sp>
            <p:nvSpPr>
              <p:cNvPr id="527" name="AutoShape 8"/>
              <p:cNvSpPr/>
              <p:nvPr/>
            </p:nvSpPr>
            <p:spPr>
              <a:xfrm>
                <a:off x="3537000" y="1009080"/>
                <a:ext cx="1998360" cy="500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8a2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8" name="Picture 9" descr="Picture3"/>
              <p:cNvPicPr/>
              <p:nvPr/>
            </p:nvPicPr>
            <p:blipFill>
              <a:blip r:embed="rId1"/>
              <a:stretch/>
            </p:blipFill>
            <p:spPr>
              <a:xfrm>
                <a:off x="3559680" y="1232280"/>
                <a:ext cx="85464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10" descr="Picture3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4608720" y="1003680"/>
                <a:ext cx="929880" cy="27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0" name="Rectangle 185"/>
            <p:cNvSpPr/>
            <p:nvPr/>
          </p:nvSpPr>
          <p:spPr>
            <a:xfrm>
              <a:off x="3741480" y="981000"/>
              <a:ext cx="186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备选例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 txBox="1"/>
          <p:nvPr/>
        </p:nvSpPr>
        <p:spPr>
          <a:xfrm>
            <a:off x="1608120" y="1557000"/>
            <a:ext cx="5927760" cy="370836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已知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等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解析：令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i="1" lang="en-US" sz="2400" spc="-1" strike="noStrike" baseline="30000">
                <a:solidFill>
                  <a:srgbClr val="7030a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，则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∴</a:t>
            </a:r>
            <a:r>
              <a:rPr b="1" i="1" lang="zh-CN" sz="2400" spc="-1" strike="noStrike">
                <a:solidFill>
                  <a:srgbClr val="7030a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i="1" lang="zh-CN" sz="2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4log</a:t>
            </a:r>
            <a:r>
              <a:rPr b="1" lang="zh-CN" sz="2400" spc="-1" strike="noStrike" baseline="-25000">
                <a:solidFill>
                  <a:srgbClr val="7030a0"/>
                </a:solidFill>
                <a:latin typeface="Arial"/>
              </a:rPr>
              <a:t>3</a:t>
            </a:r>
            <a:r>
              <a:rPr b="1" i="1" lang="zh-CN" sz="2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·log</a:t>
            </a:r>
            <a:r>
              <a:rPr b="1" lang="zh-CN" sz="24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Object 2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5833800" cy="18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Object 2" descr=""/>
          <p:cNvPicPr/>
          <p:nvPr/>
        </p:nvPicPr>
        <p:blipFill>
          <a:blip r:embed="rId1"/>
          <a:stretch/>
        </p:blipFill>
        <p:spPr>
          <a:xfrm>
            <a:off x="1655640" y="2781360"/>
            <a:ext cx="5832720" cy="24238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答案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比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大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Object 2" descr=""/>
          <p:cNvPicPr/>
          <p:nvPr/>
        </p:nvPicPr>
        <p:blipFill>
          <a:blip r:embed="rId1"/>
          <a:stretch/>
        </p:blipFill>
        <p:spPr>
          <a:xfrm>
            <a:off x="1654200" y="1622520"/>
            <a:ext cx="5835600" cy="36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219"/>
          <p:cNvGrpSpPr/>
          <p:nvPr/>
        </p:nvGrpSpPr>
        <p:grpSpPr>
          <a:xfrm>
            <a:off x="3570120" y="1214280"/>
            <a:ext cx="2003040" cy="528480"/>
            <a:chOff x="3570120" y="1214280"/>
            <a:chExt cx="2003040" cy="528480"/>
          </a:xfrm>
        </p:grpSpPr>
        <p:grpSp>
          <p:nvGrpSpPr>
            <p:cNvPr id="537" name="Group 7"/>
            <p:cNvGrpSpPr/>
            <p:nvPr/>
          </p:nvGrpSpPr>
          <p:grpSpPr>
            <a:xfrm>
              <a:off x="3570120" y="1236960"/>
              <a:ext cx="2003040" cy="505800"/>
              <a:chOff x="3570120" y="1236960"/>
              <a:chExt cx="2003040" cy="505800"/>
            </a:xfrm>
          </p:grpSpPr>
          <p:sp>
            <p:nvSpPr>
              <p:cNvPr id="538" name="AutoShape 8"/>
              <p:cNvSpPr/>
              <p:nvPr/>
            </p:nvSpPr>
            <p:spPr>
              <a:xfrm>
                <a:off x="3570120" y="1242360"/>
                <a:ext cx="1999440" cy="500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8a2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9" name="Picture 9" descr="Picture3"/>
              <p:cNvPicPr/>
              <p:nvPr/>
            </p:nvPicPr>
            <p:blipFill>
              <a:blip r:embed="rId1"/>
              <a:stretch/>
            </p:blipFill>
            <p:spPr>
              <a:xfrm>
                <a:off x="3592800" y="1465560"/>
                <a:ext cx="85536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10" descr="Picture3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4642920" y="1236960"/>
                <a:ext cx="930240" cy="27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1" name="Rectangle 185"/>
            <p:cNvSpPr/>
            <p:nvPr/>
          </p:nvSpPr>
          <p:spPr>
            <a:xfrm>
              <a:off x="3636720" y="1214280"/>
              <a:ext cx="186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法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 txBox="1"/>
          <p:nvPr/>
        </p:nvSpPr>
        <p:spPr>
          <a:xfrm>
            <a:off x="1608120" y="1988640"/>
            <a:ext cx="5927760" cy="370836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方法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Object 2" descr=""/>
          <p:cNvPicPr/>
          <p:nvPr/>
        </p:nvPicPr>
        <p:blipFill>
          <a:blip r:embed="rId3"/>
          <a:stretch/>
        </p:blipFill>
        <p:spPr>
          <a:xfrm>
            <a:off x="1654200" y="2565360"/>
            <a:ext cx="583560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ject 2" descr=""/>
          <p:cNvPicPr/>
          <p:nvPr/>
        </p:nvPicPr>
        <p:blipFill>
          <a:blip r:embed="rId1"/>
          <a:stretch/>
        </p:blipFill>
        <p:spPr>
          <a:xfrm>
            <a:off x="1654200" y="1731960"/>
            <a:ext cx="583560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失误防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注意对数换底公式的特征：一个对数换为两个同底的对数的商，而不是商的对数．要保证对数有意义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化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然是无意义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608120" y="2079720"/>
            <a:ext cx="5927760" cy="269856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重点难点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：换底公式的特征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点：用换底公式进行对数式的化简求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20"/>
          <p:cNvGrpSpPr/>
          <p:nvPr/>
        </p:nvGrpSpPr>
        <p:grpSpPr>
          <a:xfrm>
            <a:off x="2071800" y="1008000"/>
            <a:ext cx="5000400" cy="706680"/>
            <a:chOff x="2071800" y="1008000"/>
            <a:chExt cx="5000400" cy="706680"/>
          </a:xfrm>
        </p:grpSpPr>
        <p:grpSp>
          <p:nvGrpSpPr>
            <p:cNvPr id="456" name="Group 3"/>
            <p:cNvGrpSpPr/>
            <p:nvPr/>
          </p:nvGrpSpPr>
          <p:grpSpPr>
            <a:xfrm>
              <a:off x="2071800" y="1030320"/>
              <a:ext cx="5000400" cy="684360"/>
              <a:chOff x="2071800" y="1030320"/>
              <a:chExt cx="5000400" cy="684360"/>
            </a:xfrm>
          </p:grpSpPr>
          <p:sp>
            <p:nvSpPr>
              <p:cNvPr id="457" name="AutoShape 3"/>
              <p:cNvSpPr/>
              <p:nvPr/>
            </p:nvSpPr>
            <p:spPr>
              <a:xfrm>
                <a:off x="2071800" y="1271160"/>
                <a:ext cx="5000400" cy="44352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3"/>
              <p:cNvSpPr/>
              <p:nvPr/>
            </p:nvSpPr>
            <p:spPr>
              <a:xfrm>
                <a:off x="2120760" y="1030320"/>
                <a:ext cx="4902480" cy="604800"/>
              </a:xfrm>
              <a:prstGeom prst="rect">
                <a:avLst/>
              </a:prstGeom>
              <a:solidFill>
                <a:srgbClr val="0033cc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TextBox 53"/>
            <p:cNvSpPr/>
            <p:nvPr/>
          </p:nvSpPr>
          <p:spPr>
            <a:xfrm>
              <a:off x="2447280" y="1008000"/>
              <a:ext cx="441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方正大标宋_GBK"/>
                </a:rPr>
                <a:t>新知初探</a:t>
              </a:r>
              <a:r>
                <a:rPr b="0" lang="en-US" sz="3600" spc="-1" strike="noStrike">
                  <a:solidFill>
                    <a:srgbClr val="ffffff"/>
                  </a:solidFill>
                  <a:latin typeface="方正大标宋_GBK"/>
                </a:rPr>
                <a:t>·</a:t>
              </a:r>
              <a:r>
                <a:rPr b="1" lang="zh-CN" sz="3600" spc="-1" strike="noStrike">
                  <a:solidFill>
                    <a:srgbClr val="ffffff"/>
                  </a:solidFill>
                  <a:latin typeface="方正大标宋_GBK"/>
                </a:rPr>
                <a:t>思维启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 txBox="1"/>
          <p:nvPr/>
        </p:nvSpPr>
        <p:spPr>
          <a:xfrm>
            <a:off x="1608120" y="1915920"/>
            <a:ext cx="5927760" cy="37810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数换底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≠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≠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583920" cy="648000"/>
          </a:xfrm>
          <a:prstGeom prst="rect">
            <a:avLst/>
          </a:prstGeom>
          <a:ln w="0">
            <a:noFill/>
          </a:ln>
        </p:spPr>
      </p:pic>
      <p:pic>
        <p:nvPicPr>
          <p:cNvPr id="462" name="Object 9" descr=""/>
          <p:cNvPicPr/>
          <p:nvPr/>
        </p:nvPicPr>
        <p:blipFill>
          <a:blip r:embed="rId2"/>
          <a:stretch/>
        </p:blipFill>
        <p:spPr>
          <a:xfrm>
            <a:off x="1654200" y="4724280"/>
            <a:ext cx="583560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608120" y="1162080"/>
            <a:ext cx="5927760" cy="4535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做一做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Object 2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835600" cy="188568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4" descr=""/>
          <p:cNvPicPr/>
          <p:nvPr/>
        </p:nvPicPr>
        <p:blipFill>
          <a:blip r:embed="rId2"/>
          <a:stretch/>
        </p:blipFill>
        <p:spPr>
          <a:xfrm>
            <a:off x="1668600" y="4292640"/>
            <a:ext cx="5806800" cy="86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2" descr=""/>
          <p:cNvPicPr/>
          <p:nvPr/>
        </p:nvPicPr>
        <p:blipFill>
          <a:blip r:embed="rId1"/>
          <a:stretch/>
        </p:blipFill>
        <p:spPr>
          <a:xfrm>
            <a:off x="1654200" y="4149720"/>
            <a:ext cx="5835600" cy="696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1608120" y="1628640"/>
            <a:ext cx="5927760" cy="406872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·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Object 2" descr=""/>
          <p:cNvPicPr/>
          <p:nvPr/>
        </p:nvPicPr>
        <p:blipFill>
          <a:blip r:embed="rId1"/>
          <a:stretch/>
        </p:blipFill>
        <p:spPr>
          <a:xfrm>
            <a:off x="1639800" y="3403440"/>
            <a:ext cx="5835600" cy="14655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608120" y="1628640"/>
            <a:ext cx="5927760" cy="38512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(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组合 20"/>
          <p:cNvGrpSpPr/>
          <p:nvPr/>
        </p:nvGrpSpPr>
        <p:grpSpPr>
          <a:xfrm>
            <a:off x="2071800" y="1000080"/>
            <a:ext cx="5000400" cy="706320"/>
            <a:chOff x="2071800" y="1000080"/>
            <a:chExt cx="5000400" cy="706320"/>
          </a:xfrm>
        </p:grpSpPr>
        <p:grpSp>
          <p:nvGrpSpPr>
            <p:cNvPr id="471" name="Group 3"/>
            <p:cNvGrpSpPr/>
            <p:nvPr/>
          </p:nvGrpSpPr>
          <p:grpSpPr>
            <a:xfrm>
              <a:off x="2071800" y="1022400"/>
              <a:ext cx="5000400" cy="684000"/>
              <a:chOff x="2071800" y="1022400"/>
              <a:chExt cx="5000400" cy="684000"/>
            </a:xfrm>
          </p:grpSpPr>
          <p:sp>
            <p:nvSpPr>
              <p:cNvPr id="472" name="AutoShape 3"/>
              <p:cNvSpPr/>
              <p:nvPr/>
            </p:nvSpPr>
            <p:spPr>
              <a:xfrm>
                <a:off x="2071800" y="1262880"/>
                <a:ext cx="5000400" cy="44352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"/>
              <p:cNvSpPr/>
              <p:nvPr/>
            </p:nvSpPr>
            <p:spPr>
              <a:xfrm>
                <a:off x="2120760" y="1022400"/>
                <a:ext cx="4902480" cy="604440"/>
              </a:xfrm>
              <a:prstGeom prst="rect">
                <a:avLst/>
              </a:prstGeom>
              <a:solidFill>
                <a:srgbClr val="0033cc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Box 53"/>
            <p:cNvSpPr/>
            <p:nvPr/>
          </p:nvSpPr>
          <p:spPr>
            <a:xfrm>
              <a:off x="2347560" y="1000080"/>
              <a:ext cx="45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方正大标宋_GBK"/>
                </a:rPr>
                <a:t>典题例证</a:t>
              </a:r>
              <a:r>
                <a:rPr b="0" lang="en-US" sz="3600" spc="-1" strike="noStrike">
                  <a:solidFill>
                    <a:srgbClr val="ffffff"/>
                  </a:solidFill>
                  <a:latin typeface="方正大标宋_GBK"/>
                </a:rPr>
                <a:t>·</a:t>
              </a:r>
              <a:r>
                <a:rPr b="1" lang="zh-CN" sz="3600" spc="-1" strike="noStrike">
                  <a:solidFill>
                    <a:srgbClr val="ffffff"/>
                  </a:solidFill>
                  <a:latin typeface="方正大标宋_GBK"/>
                </a:rPr>
                <a:t>技法归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 txBox="1"/>
          <p:nvPr/>
        </p:nvSpPr>
        <p:spPr>
          <a:xfrm>
            <a:off x="1608120" y="2491920"/>
            <a:ext cx="5927760" cy="320508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型一　用换底公式求对数式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219"/>
          <p:cNvGrpSpPr/>
          <p:nvPr/>
        </p:nvGrpSpPr>
        <p:grpSpPr>
          <a:xfrm>
            <a:off x="3571920" y="1785960"/>
            <a:ext cx="2001240" cy="528120"/>
            <a:chOff x="3571920" y="1785960"/>
            <a:chExt cx="2001240" cy="528120"/>
          </a:xfrm>
        </p:grpSpPr>
        <p:grpSp>
          <p:nvGrpSpPr>
            <p:cNvPr id="477" name="Group 7"/>
            <p:cNvGrpSpPr/>
            <p:nvPr/>
          </p:nvGrpSpPr>
          <p:grpSpPr>
            <a:xfrm>
              <a:off x="3571920" y="1809000"/>
              <a:ext cx="2001240" cy="505080"/>
              <a:chOff x="3571920" y="1809000"/>
              <a:chExt cx="2001240" cy="505080"/>
            </a:xfrm>
          </p:grpSpPr>
          <p:sp>
            <p:nvSpPr>
              <p:cNvPr id="478" name="AutoShape 8"/>
              <p:cNvSpPr/>
              <p:nvPr/>
            </p:nvSpPr>
            <p:spPr>
              <a:xfrm>
                <a:off x="3571920" y="1814040"/>
                <a:ext cx="1997640" cy="500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8a2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9" name="Picture 9" descr="Picture3"/>
              <p:cNvPicPr/>
              <p:nvPr/>
            </p:nvPicPr>
            <p:blipFill>
              <a:blip r:embed="rId1"/>
              <a:stretch/>
            </p:blipFill>
            <p:spPr>
              <a:xfrm>
                <a:off x="3594600" y="2037240"/>
                <a:ext cx="854640" cy="27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10" descr="Picture3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4643640" y="1809000"/>
                <a:ext cx="929520" cy="27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1" name="Rectangle 185"/>
            <p:cNvSpPr/>
            <p:nvPr/>
          </p:nvSpPr>
          <p:spPr>
            <a:xfrm>
              <a:off x="3638520" y="1785960"/>
              <a:ext cx="186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题型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5"/>
          <p:cNvGrpSpPr/>
          <p:nvPr/>
        </p:nvGrpSpPr>
        <p:grpSpPr>
          <a:xfrm>
            <a:off x="1770120" y="3216240"/>
            <a:ext cx="873000" cy="500040"/>
            <a:chOff x="1770120" y="3216240"/>
            <a:chExt cx="873000" cy="500040"/>
          </a:xfrm>
        </p:grpSpPr>
        <p:grpSp>
          <p:nvGrpSpPr>
            <p:cNvPr id="483" name="Group 16"/>
            <p:cNvGrpSpPr/>
            <p:nvPr/>
          </p:nvGrpSpPr>
          <p:grpSpPr>
            <a:xfrm>
              <a:off x="1770120" y="3240000"/>
              <a:ext cx="873000" cy="476280"/>
              <a:chOff x="1770120" y="3240000"/>
              <a:chExt cx="873000" cy="476280"/>
            </a:xfrm>
          </p:grpSpPr>
          <p:sp>
            <p:nvSpPr>
              <p:cNvPr id="484" name="Oval 93"/>
              <p:cNvSpPr/>
              <p:nvPr/>
            </p:nvSpPr>
            <p:spPr>
              <a:xfrm>
                <a:off x="1770120" y="3240000"/>
                <a:ext cx="873000" cy="47628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Group 18"/>
              <p:cNvGrpSpPr/>
              <p:nvPr/>
            </p:nvGrpSpPr>
            <p:grpSpPr>
              <a:xfrm>
                <a:off x="1833120" y="3250440"/>
                <a:ext cx="775080" cy="423000"/>
                <a:chOff x="1833120" y="3250440"/>
                <a:chExt cx="775080" cy="423000"/>
              </a:xfrm>
            </p:grpSpPr>
            <p:pic>
              <p:nvPicPr>
                <p:cNvPr id="486" name="Oval 9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33120" y="325044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Text Box 38"/>
                <p:cNvSpPr/>
                <p:nvPr/>
              </p:nvSpPr>
              <p:spPr>
                <a:xfrm>
                  <a:off x="1915200" y="3315240"/>
                  <a:ext cx="53208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TextBox 15"/>
            <p:cNvSpPr/>
            <p:nvPr/>
          </p:nvSpPr>
          <p:spPr>
            <a:xfrm>
              <a:off x="1841400" y="32162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Object 2" descr=""/>
          <p:cNvPicPr/>
          <p:nvPr/>
        </p:nvPicPr>
        <p:blipFill>
          <a:blip r:embed="rId4"/>
          <a:stretch/>
        </p:blipFill>
        <p:spPr>
          <a:xfrm>
            <a:off x="1654200" y="4365720"/>
            <a:ext cx="58356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Object 2" descr=""/>
          <p:cNvPicPr/>
          <p:nvPr/>
        </p:nvPicPr>
        <p:blipFill>
          <a:blip r:embed="rId1"/>
          <a:stretch/>
        </p:blipFill>
        <p:spPr>
          <a:xfrm>
            <a:off x="1654200" y="1125360"/>
            <a:ext cx="5835600" cy="32943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1608120" y="4221000"/>
            <a:ext cx="5927760" cy="165600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【思维总结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求对数式的值时，若底数不同，可用换底公式化为同底，再利用对数运算性质计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20-01-02T03:14:06Z</dcterms:modified>
  <cp:revision>14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