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5.png" ContentType="image/png"/>
  <Override PartName="/ppt/media/image2.png" ContentType="image/png"/>
  <Override PartName="/ppt/media/image3.gif" ContentType="image/gif"/>
  <Override PartName="/ppt/media/image6.wmf" ContentType="image/x-wmf"/>
  <Override PartName="/ppt/media/image7.wmf" ContentType="image/x-wmf"/>
  <Override PartName="/ppt/media/image8.png" ContentType="image/png"/>
  <Override PartName="/ppt/media/image9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3023-7382-4E8A-A406-CC98CDF91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5873-A21A-4FF8-B515-0FB974032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4BF4-120D-4CFD-A4F2-C58F9F29F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EF9B-7676-4B5E-834C-8029DC52D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89B7-ECF6-4806-B685-8D5B15CA1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4832-801F-4FE9-8964-A0158403A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BAED-EFE0-48E7-8B4A-FF1ACB08E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10F1-86AF-4778-8AAA-6EA6355F4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B93A-B5C0-4D0F-9D96-4B0F3503C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895D-8B75-4562-8E00-9180228E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C72B-C177-45B2-B520-7D0954D2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EBD1-0C64-493F-AB19-648F1D59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7A071-6B22-424B-BF4C-EA7E0FBC10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0" y="1447920"/>
            <a:ext cx="50292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函数的极值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2209680" y="714240"/>
            <a:ext cx="69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函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定义域为开区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a,b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导函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x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a,b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内的图象如图所示，则函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开区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a,b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内极值点有（     ）极小值点有（　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2209680" y="2666880"/>
            <a:ext cx="6599520" cy="271944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3"/>
          <p:cNvSpPr/>
          <p:nvPr/>
        </p:nvSpPr>
        <p:spPr>
          <a:xfrm>
            <a:off x="3540240" y="5561640"/>
            <a:ext cx="424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4419720" y="19051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b3817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7924680" y="19051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b3817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2" descr="question_float_from_box_hg_clr"/>
          <p:cNvPicPr/>
          <p:nvPr/>
        </p:nvPicPr>
        <p:blipFill>
          <a:blip r:embed="rId2"/>
          <a:stretch/>
        </p:blipFill>
        <p:spPr>
          <a:xfrm>
            <a:off x="304920" y="3581280"/>
            <a:ext cx="19987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2590920" y="228600"/>
            <a:ext cx="579096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568f"/>
                </a:solidFill>
                <a:latin typeface="Impact"/>
              </a:rPr>
              <a:t>   </a:t>
            </a:r>
            <a:r>
              <a:rPr b="1" lang="zh-CN" sz="3200" spc="-1" strike="noStrike">
                <a:solidFill>
                  <a:srgbClr val="09568f"/>
                </a:solidFill>
                <a:latin typeface="Impact"/>
              </a:rPr>
              <a:t>函数极值的求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2937600" y="1671480"/>
            <a:ext cx="271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1)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确定函数的</a:t>
            </a:r>
            <a:r>
              <a:rPr b="1" lang="zh-CN" sz="2800" spc="-1" strike="noStrike">
                <a:solidFill>
                  <a:srgbClr val="3366ff"/>
                </a:solidFill>
                <a:latin typeface="Calibri"/>
              </a:rPr>
              <a:t>定义域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2362320" y="109224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求可导函数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的极值点和极值的步骤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2347920" y="2357280"/>
            <a:ext cx="491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2)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求出导数</a:t>
            </a:r>
            <a:r>
              <a:rPr b="1" i="1" lang="en-US" sz="2800" spc="-1" strike="noStrike">
                <a:solidFill>
                  <a:srgbClr val="3366ff"/>
                </a:solidFill>
                <a:latin typeface="Calibri"/>
              </a:rPr>
              <a:t>f´</a:t>
            </a:r>
            <a:r>
              <a:rPr b="1" lang="en-US" sz="2800" spc="-1" strike="noStrike">
                <a:solidFill>
                  <a:srgbClr val="3366ff"/>
                </a:solidFill>
                <a:latin typeface="Calibri"/>
              </a:rPr>
              <a:t>(</a:t>
            </a:r>
            <a:r>
              <a:rPr b="1" i="1" lang="en-US" sz="2800" spc="-1" strike="noStrike">
                <a:solidFill>
                  <a:srgbClr val="3366ff"/>
                </a:solidFill>
                <a:latin typeface="Calibri"/>
              </a:rPr>
              <a:t>x</a:t>
            </a:r>
            <a:r>
              <a:rPr b="1" lang="en-US" sz="2800" spc="-1" strike="noStrike">
                <a:solidFill>
                  <a:srgbClr val="3366ff"/>
                </a:solidFill>
                <a:latin typeface="Calibri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；</a:t>
            </a:r>
            <a:r>
              <a:rPr b="0" lang="zh-CN" sz="2800" spc="-1" strike="noStrike">
                <a:solidFill>
                  <a:srgbClr val="3366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1"/>
          <p:cNvSpPr/>
          <p:nvPr/>
        </p:nvSpPr>
        <p:spPr>
          <a:xfrm>
            <a:off x="2347920" y="2967120"/>
            <a:ext cx="658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3)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令</a:t>
            </a:r>
            <a:r>
              <a:rPr b="1" i="1" lang="en-US" sz="2800" spc="-1" strike="noStrike">
                <a:solidFill>
                  <a:srgbClr val="3366ff"/>
                </a:solidFill>
                <a:latin typeface="Calibri"/>
              </a:rPr>
              <a:t>f ´</a:t>
            </a:r>
            <a:r>
              <a:rPr b="1" lang="en-US" sz="2800" spc="-1" strike="noStrike">
                <a:solidFill>
                  <a:srgbClr val="3366ff"/>
                </a:solidFill>
                <a:latin typeface="Calibri"/>
              </a:rPr>
              <a:t>(</a:t>
            </a:r>
            <a:r>
              <a:rPr b="1" i="1" lang="en-US" sz="2800" spc="-1" strike="noStrike">
                <a:solidFill>
                  <a:srgbClr val="3366ff"/>
                </a:solidFill>
                <a:latin typeface="Calibri"/>
              </a:rPr>
              <a:t>x</a:t>
            </a:r>
            <a:r>
              <a:rPr b="1" lang="en-US" sz="2800" spc="-1" strike="noStrike">
                <a:solidFill>
                  <a:srgbClr val="3366ff"/>
                </a:solidFill>
                <a:latin typeface="Calibri"/>
              </a:rPr>
              <a:t>)=0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，求出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的全部</a:t>
            </a:r>
            <a:r>
              <a:rPr b="1" lang="zh-CN" sz="2800" spc="-1" strike="noStrike">
                <a:solidFill>
                  <a:srgbClr val="3366ff"/>
                </a:solidFill>
                <a:latin typeface="Calibri"/>
              </a:rPr>
              <a:t>驻点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2347920" y="3652920"/>
            <a:ext cx="7010280" cy="21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驻点把定义域划分为</a:t>
            </a: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部分区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考察每个部分区间内 </a:t>
            </a:r>
            <a:r>
              <a:rPr b="1" i="1" lang="en-US" sz="2800" spc="-1" strike="noStrike">
                <a:solidFill>
                  <a:srgbClr val="3366ff"/>
                </a:solidFill>
                <a:latin typeface="Times New Roman"/>
              </a:rPr>
              <a:t>f ´</a:t>
            </a:r>
            <a:r>
              <a:rPr b="1" lang="en-US" sz="2800" spc="-1" strike="noStrike">
                <a:solidFill>
                  <a:srgbClr val="3366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66ff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3366ff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的符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确定每个驻点是否是</a:t>
            </a: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极值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若是极值点，确定是极大点还是极小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1" descr="question_float_from_box_hg_clr"/>
          <p:cNvPicPr/>
          <p:nvPr/>
        </p:nvPicPr>
        <p:blipFill>
          <a:blip r:embed="rId1"/>
          <a:stretch/>
        </p:blipFill>
        <p:spPr>
          <a:xfrm>
            <a:off x="304920" y="3581280"/>
            <a:ext cx="19987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3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3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3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3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3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49"/>
          <p:cNvSpPr/>
          <p:nvPr/>
        </p:nvSpPr>
        <p:spPr>
          <a:xfrm>
            <a:off x="304920" y="2286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b3817"/>
                </a:solidFill>
                <a:latin typeface="Calibri"/>
              </a:rPr>
              <a:t>例</a:t>
            </a:r>
            <a:r>
              <a:rPr b="1" lang="en-US" sz="3600" spc="-1" strike="noStrike">
                <a:solidFill>
                  <a:srgbClr val="fb3817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1295280" y="3808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Calibri"/>
              </a:rPr>
              <a:t>求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1676520" y="3048120"/>
            <a:ext cx="523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4)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列表讨论，如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9"/>
          <p:cNvSpPr/>
          <p:nvPr/>
        </p:nvSpPr>
        <p:spPr>
          <a:xfrm>
            <a:off x="1295280" y="38862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0"/>
          <p:cNvSpPr/>
          <p:nvPr/>
        </p:nvSpPr>
        <p:spPr>
          <a:xfrm>
            <a:off x="1066680" y="43434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´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1"/>
          <p:cNvSpPr/>
          <p:nvPr/>
        </p:nvSpPr>
        <p:spPr>
          <a:xfrm>
            <a:off x="1143000" y="4800600"/>
            <a:ext cx="68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2"/>
          <p:cNvSpPr/>
          <p:nvPr/>
        </p:nvSpPr>
        <p:spPr>
          <a:xfrm>
            <a:off x="182880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－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－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3"/>
          <p:cNvSpPr/>
          <p:nvPr/>
        </p:nvSpPr>
        <p:spPr>
          <a:xfrm>
            <a:off x="5181480" y="44197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5"/>
          <p:cNvSpPr/>
          <p:nvPr/>
        </p:nvSpPr>
        <p:spPr>
          <a:xfrm>
            <a:off x="3581280" y="3962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－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6"/>
          <p:cNvSpPr/>
          <p:nvPr/>
        </p:nvSpPr>
        <p:spPr>
          <a:xfrm>
            <a:off x="3809880" y="44197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7"/>
          <p:cNvSpPr/>
          <p:nvPr/>
        </p:nvSpPr>
        <p:spPr>
          <a:xfrm>
            <a:off x="4800600" y="39625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－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 ,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8"/>
          <p:cNvSpPr/>
          <p:nvPr/>
        </p:nvSpPr>
        <p:spPr>
          <a:xfrm>
            <a:off x="2438280" y="44197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9"/>
          <p:cNvSpPr/>
          <p:nvPr/>
        </p:nvSpPr>
        <p:spPr>
          <a:xfrm>
            <a:off x="7543800" y="4952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单调减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0"/>
          <p:cNvSpPr/>
          <p:nvPr/>
        </p:nvSpPr>
        <p:spPr>
          <a:xfrm>
            <a:off x="6705720" y="3962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1"/>
          <p:cNvSpPr/>
          <p:nvPr/>
        </p:nvSpPr>
        <p:spPr>
          <a:xfrm>
            <a:off x="6705720" y="44197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2"/>
          <p:cNvSpPr/>
          <p:nvPr/>
        </p:nvSpPr>
        <p:spPr>
          <a:xfrm>
            <a:off x="7620120" y="3962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3 , + ∞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4"/>
          <p:cNvSpPr/>
          <p:nvPr/>
        </p:nvSpPr>
        <p:spPr>
          <a:xfrm>
            <a:off x="4800600" y="49528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单调增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5"/>
          <p:cNvSpPr/>
          <p:nvPr/>
        </p:nvSpPr>
        <p:spPr>
          <a:xfrm>
            <a:off x="1600200" y="5869080"/>
            <a:ext cx="56386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函数在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处取得极小值－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在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= 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处取得极大值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6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Object 22" descr=""/>
          <p:cNvPicPr/>
          <p:nvPr/>
        </p:nvPicPr>
        <p:blipFill>
          <a:blip r:embed="rId1"/>
          <a:stretch/>
        </p:blipFill>
        <p:spPr>
          <a:xfrm>
            <a:off x="1752480" y="152280"/>
            <a:ext cx="3822840" cy="100836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38"/>
          <p:cNvSpPr/>
          <p:nvPr/>
        </p:nvSpPr>
        <p:spPr>
          <a:xfrm>
            <a:off x="5486400" y="3808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Calibri"/>
              </a:rPr>
              <a:t>的单调区间和极值</a:t>
            </a:r>
            <a:r>
              <a:rPr b="0" lang="en-US" sz="3200" spc="-1" strike="noStrike">
                <a:solidFill>
                  <a:srgbClr val="0000cc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9"/>
          <p:cNvSpPr/>
          <p:nvPr/>
        </p:nvSpPr>
        <p:spPr>
          <a:xfrm>
            <a:off x="1066680" y="1047600"/>
            <a:ext cx="683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解：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1) 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的定义域为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∞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∞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0"/>
          <p:cNvSpPr/>
          <p:nvPr/>
        </p:nvSpPr>
        <p:spPr>
          <a:xfrm>
            <a:off x="1752480" y="165744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2) 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f´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 =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² + 3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+ 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1"/>
          <p:cNvSpPr/>
          <p:nvPr/>
        </p:nvSpPr>
        <p:spPr>
          <a:xfrm>
            <a:off x="1752480" y="2266920"/>
            <a:ext cx="5943600" cy="5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3)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令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´(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 = 0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得驻点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,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=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2"/>
          <p:cNvSpPr/>
          <p:nvPr/>
        </p:nvSpPr>
        <p:spPr>
          <a:xfrm>
            <a:off x="8001000" y="4419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3"/>
          <p:cNvSpPr/>
          <p:nvPr/>
        </p:nvSpPr>
        <p:spPr>
          <a:xfrm>
            <a:off x="1905120" y="4952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单调减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4"/>
          <p:cNvSpPr/>
          <p:nvPr/>
        </p:nvSpPr>
        <p:spPr>
          <a:xfrm>
            <a:off x="3200400" y="4952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极小值－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6"/>
          <p:cNvSpPr/>
          <p:nvPr/>
        </p:nvSpPr>
        <p:spPr>
          <a:xfrm>
            <a:off x="6095880" y="4952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极大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6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50"/>
          <p:cNvSpPr/>
          <p:nvPr/>
        </p:nvSpPr>
        <p:spPr>
          <a:xfrm>
            <a:off x="4419720" y="533520"/>
            <a:ext cx="533160" cy="152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86200"/>
          <a:ext cx="7848360" cy="1600200"/>
        </p:xfrm>
        <a:graphic>
          <a:graphicData uri="http://schemas.openxmlformats.org/drawingml/2006/table">
            <a:tbl>
              <a:tblPr/>
              <a:tblGrid>
                <a:gridCol w="914040"/>
                <a:gridCol w="1371600"/>
                <a:gridCol w="1523880"/>
                <a:gridCol w="1295640"/>
                <a:gridCol w="1523880"/>
                <a:gridCol w="121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3" dur="3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3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3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3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3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3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3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3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3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3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3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3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3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3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3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3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3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3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WordArt 4" descr=""/>
          <p:cNvPicPr/>
          <p:nvPr/>
        </p:nvPicPr>
        <p:blipFill>
          <a:blip r:embed="rId1"/>
          <a:stretch/>
        </p:blipFill>
        <p:spPr>
          <a:xfrm>
            <a:off x="1152360" y="907920"/>
            <a:ext cx="5791320" cy="25545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question_pop_up_from_box_hg_clr"/>
          <p:cNvPicPr/>
          <p:nvPr/>
        </p:nvPicPr>
        <p:blipFill>
          <a:blip r:embed="rId2"/>
          <a:stretch/>
        </p:blipFill>
        <p:spPr>
          <a:xfrm>
            <a:off x="3429000" y="3581280"/>
            <a:ext cx="21654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4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函数极值的概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函数极值的求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question_pop_up_from_box_rotate_hg_clr"/>
          <p:cNvPicPr/>
          <p:nvPr/>
        </p:nvPicPr>
        <p:blipFill>
          <a:blip r:embed="rId1"/>
          <a:stretch/>
        </p:blipFill>
        <p:spPr>
          <a:xfrm>
            <a:off x="6172200" y="3276720"/>
            <a:ext cx="2724120" cy="33336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67057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函数极值的概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457200" y="1295280"/>
            <a:ext cx="8077320" cy="5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设函数 </a:t>
            </a: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y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f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( </a:t>
            </a: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x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在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, </a:t>
            </a: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b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内连续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,  </a:t>
            </a: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alibri"/>
              </a:rPr>
              <a:t>0 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是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, </a:t>
            </a: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b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内一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838080" y="2057400"/>
            <a:ext cx="7010640" cy="22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如果对于点 </a:t>
            </a: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alibri"/>
              </a:rPr>
              <a:t>0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近旁的任意一点 </a:t>
            </a: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x 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均有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en-US" sz="2800" spc="-1" strike="noStrike">
                <a:solidFill>
                  <a:srgbClr val="ffff00"/>
                </a:solidFill>
                <a:latin typeface="Calibri"/>
              </a:rPr>
              <a:t>f </a:t>
            </a: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( </a:t>
            </a:r>
            <a:r>
              <a:rPr b="1" i="1" lang="en-US" sz="2800" spc="-1" strike="noStrike">
                <a:solidFill>
                  <a:srgbClr val="ffff00"/>
                </a:solidFill>
                <a:latin typeface="Calibri"/>
              </a:rPr>
              <a:t>x </a:t>
            </a: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) &lt; </a:t>
            </a:r>
            <a:r>
              <a:rPr b="1" i="1" lang="en-US" sz="2800" spc="-1" strike="noStrike">
                <a:solidFill>
                  <a:srgbClr val="ffff00"/>
                </a:solidFill>
                <a:latin typeface="Calibri"/>
              </a:rPr>
              <a:t>f </a:t>
            </a: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( </a:t>
            </a:r>
            <a:r>
              <a:rPr b="1" i="1" lang="en-US" sz="2800" spc="-1" strike="noStrike">
                <a:solidFill>
                  <a:srgbClr val="ffff00"/>
                </a:solidFill>
                <a:latin typeface="Calibri"/>
              </a:rPr>
              <a:t>x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alibri"/>
              </a:rPr>
              <a:t>0 </a:t>
            </a: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则就称 </a:t>
            </a: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f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( </a:t>
            </a: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alibri"/>
              </a:rPr>
              <a:t>0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是函数 </a:t>
            </a: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f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( </a:t>
            </a: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1" i="1" lang="en-US" sz="28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的一个</a:t>
            </a:r>
            <a:r>
              <a:rPr b="1" lang="zh-CN" sz="2800" spc="-1" strike="noStrike">
                <a:solidFill>
                  <a:srgbClr val="ff3300"/>
                </a:solidFill>
                <a:latin typeface="Calibri"/>
              </a:rPr>
              <a:t>极大值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            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点 </a:t>
            </a: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alibri"/>
              </a:rPr>
              <a:t>0 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是 </a:t>
            </a: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f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( </a:t>
            </a: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x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的一个</a:t>
            </a:r>
            <a:r>
              <a:rPr b="1" lang="zh-CN" sz="2800" spc="-1" strike="noStrike">
                <a:solidFill>
                  <a:srgbClr val="ff3300"/>
                </a:solidFill>
                <a:latin typeface="Calibri"/>
              </a:rPr>
              <a:t>极大点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838080" y="4343400"/>
            <a:ext cx="7010640" cy="22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如果对于点 </a:t>
            </a: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alibri"/>
              </a:rPr>
              <a:t>0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近旁的任意一点 </a:t>
            </a: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x 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均有  </a:t>
            </a:r>
            <a:r>
              <a:rPr b="1" i="1" lang="en-US" sz="2800" spc="-1" strike="noStrike">
                <a:solidFill>
                  <a:srgbClr val="ffff00"/>
                </a:solidFill>
                <a:latin typeface="Calibri"/>
              </a:rPr>
              <a:t>f </a:t>
            </a: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( </a:t>
            </a:r>
            <a:r>
              <a:rPr b="1" i="1" lang="en-US" sz="2800" spc="-1" strike="noStrike">
                <a:solidFill>
                  <a:srgbClr val="ffff00"/>
                </a:solidFill>
                <a:latin typeface="Calibri"/>
              </a:rPr>
              <a:t>x </a:t>
            </a: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) &gt; </a:t>
            </a:r>
            <a:r>
              <a:rPr b="1" i="1" lang="en-US" sz="2800" spc="-1" strike="noStrike">
                <a:solidFill>
                  <a:srgbClr val="ffff00"/>
                </a:solidFill>
                <a:latin typeface="Calibri"/>
              </a:rPr>
              <a:t>f </a:t>
            </a: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( </a:t>
            </a:r>
            <a:r>
              <a:rPr b="1" i="1" lang="en-US" sz="2800" spc="-1" strike="noStrike">
                <a:solidFill>
                  <a:srgbClr val="ffff00"/>
                </a:solidFill>
                <a:latin typeface="Calibri"/>
              </a:rPr>
              <a:t>x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alibri"/>
              </a:rPr>
              <a:t>0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则就称 </a:t>
            </a: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f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( </a:t>
            </a: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alibri"/>
              </a:rPr>
              <a:t>0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是函数 </a:t>
            </a: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f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( </a:t>
            </a: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x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的一个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极小值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            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点 </a:t>
            </a: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alibri"/>
              </a:rPr>
              <a:t>0 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是 </a:t>
            </a: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f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( </a:t>
            </a: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x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的一个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极小点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question_pop_up_from_box_rotate_hg_clr"/>
          <p:cNvPicPr/>
          <p:nvPr/>
        </p:nvPicPr>
        <p:blipFill>
          <a:blip r:embed="rId1"/>
          <a:stretch/>
        </p:blipFill>
        <p:spPr>
          <a:xfrm>
            <a:off x="7275600" y="0"/>
            <a:ext cx="1868400" cy="2286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1091880" y="380880"/>
            <a:ext cx="2170440" cy="5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6000" tIns="18000" bIns="180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Calibri"/>
              </a:rPr>
              <a:t>取得极值的必要条件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304920" y="1066680"/>
            <a:ext cx="7181640" cy="11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6000" tIns="18000" bIns="180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如果函数 </a:t>
            </a: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f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) 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在点 </a:t>
            </a: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1" lang="en-US" sz="2000" spc="-1" strike="noStrike" baseline="-30000">
                <a:solidFill>
                  <a:srgbClr val="ffffff"/>
                </a:solidFill>
                <a:latin typeface="Calibri"/>
              </a:rPr>
              <a:t>0 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处有极值，且 </a:t>
            </a: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1" lang="en-US" sz="2000" spc="-1" strike="noStrike" baseline="-30000">
                <a:solidFill>
                  <a:srgbClr val="ffffff"/>
                </a:solidFill>
                <a:latin typeface="Calibri"/>
              </a:rPr>
              <a:t>0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存在，则必有 </a:t>
            </a: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1" lang="en-US" sz="2000" spc="-1" strike="noStrike" baseline="-30000">
                <a:solidFill>
                  <a:srgbClr val="ffffff"/>
                </a:solidFill>
                <a:latin typeface="Calibri"/>
              </a:rPr>
              <a:t>0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)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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0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380880" y="2133720"/>
            <a:ext cx="7467840" cy="5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6000" tIns="18000" bIns="180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Calibri"/>
              </a:rPr>
              <a:t>驻点：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使导数 </a:t>
            </a: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为零的点叫函数 </a:t>
            </a: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的驻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380880" y="2743200"/>
            <a:ext cx="5062680" cy="20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6000" tIns="18000" bIns="180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ff"/>
                </a:solidFill>
                <a:latin typeface="Calibri"/>
              </a:rPr>
              <a:t>        </a:t>
            </a:r>
            <a:r>
              <a:rPr b="1" lang="zh-CN" sz="2800" spc="-1" strike="noStrike">
                <a:solidFill>
                  <a:srgbClr val="ffff00"/>
                </a:solidFill>
                <a:latin typeface="Calibri"/>
              </a:rPr>
              <a:t>说明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80ff"/>
                </a:solidFill>
                <a:latin typeface="Calibri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可导函数 </a:t>
            </a: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的极值点必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是函数的驻点。但函数 </a:t>
            </a: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的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点却不一定是极值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7"/>
          <p:cNvGrpSpPr/>
          <p:nvPr/>
        </p:nvGrpSpPr>
        <p:grpSpPr>
          <a:xfrm>
            <a:off x="5410080" y="3048120"/>
            <a:ext cx="3733920" cy="3486960"/>
            <a:chOff x="5410080" y="3048120"/>
            <a:chExt cx="3733920" cy="3486960"/>
          </a:xfrm>
        </p:grpSpPr>
        <p:sp>
          <p:nvSpPr>
            <p:cNvPr id="55" name="Text Box 8"/>
            <p:cNvSpPr/>
            <p:nvPr/>
          </p:nvSpPr>
          <p:spPr>
            <a:xfrm>
              <a:off x="5410080" y="3048120"/>
              <a:ext cx="3733920" cy="348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Group 20"/>
            <p:cNvGrpSpPr/>
            <p:nvPr/>
          </p:nvGrpSpPr>
          <p:grpSpPr>
            <a:xfrm>
              <a:off x="5562720" y="3048120"/>
              <a:ext cx="3324240" cy="3294000"/>
              <a:chOff x="5562720" y="3048120"/>
              <a:chExt cx="3324240" cy="3294000"/>
            </a:xfrm>
          </p:grpSpPr>
          <p:sp>
            <p:nvSpPr>
              <p:cNvPr id="57" name="Rectangle 9"/>
              <p:cNvSpPr/>
              <p:nvPr/>
            </p:nvSpPr>
            <p:spPr>
              <a:xfrm>
                <a:off x="8721360" y="4797720"/>
                <a:ext cx="1332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Calibri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2"/>
              <p:cNvSpPr/>
              <p:nvPr/>
            </p:nvSpPr>
            <p:spPr>
              <a:xfrm>
                <a:off x="7321680" y="3048120"/>
                <a:ext cx="2052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Calibri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13"/>
              <p:cNvSpPr/>
              <p:nvPr/>
            </p:nvSpPr>
            <p:spPr>
              <a:xfrm>
                <a:off x="7220160" y="3065760"/>
                <a:ext cx="1440" cy="3276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14"/>
              <p:cNvSpPr/>
              <p:nvPr/>
            </p:nvSpPr>
            <p:spPr>
              <a:xfrm>
                <a:off x="5562720" y="4703760"/>
                <a:ext cx="332424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15"/>
              <p:cNvSpPr/>
              <p:nvPr/>
            </p:nvSpPr>
            <p:spPr>
              <a:xfrm>
                <a:off x="5562720" y="3065760"/>
                <a:ext cx="3324240" cy="3276360"/>
              </a:xfrm>
              <a:custGeom>
                <a:avLst/>
                <a:gdLst/>
                <a:ahLst/>
                <a:rect l="l" t="t" r="r" b="b"/>
                <a:pathLst>
                  <a:path w="2094" h="2064">
                    <a:moveTo>
                      <a:pt x="0" y="2064"/>
                    </a:moveTo>
                    <a:lnTo>
                      <a:pt x="12" y="2034"/>
                    </a:lnTo>
                    <a:lnTo>
                      <a:pt x="18" y="2004"/>
                    </a:lnTo>
                    <a:lnTo>
                      <a:pt x="30" y="1974"/>
                    </a:lnTo>
                    <a:lnTo>
                      <a:pt x="42" y="1944"/>
                    </a:lnTo>
                    <a:lnTo>
                      <a:pt x="54" y="1914"/>
                    </a:lnTo>
                    <a:lnTo>
                      <a:pt x="60" y="1890"/>
                    </a:lnTo>
                    <a:lnTo>
                      <a:pt x="72" y="1860"/>
                    </a:lnTo>
                    <a:lnTo>
                      <a:pt x="84" y="1836"/>
                    </a:lnTo>
                    <a:lnTo>
                      <a:pt x="96" y="1812"/>
                    </a:lnTo>
                    <a:lnTo>
                      <a:pt x="102" y="1782"/>
                    </a:lnTo>
                    <a:lnTo>
                      <a:pt x="114" y="1758"/>
                    </a:lnTo>
                    <a:lnTo>
                      <a:pt x="126" y="1734"/>
                    </a:lnTo>
                    <a:lnTo>
                      <a:pt x="138" y="1710"/>
                    </a:lnTo>
                    <a:lnTo>
                      <a:pt x="144" y="1686"/>
                    </a:lnTo>
                    <a:lnTo>
                      <a:pt x="156" y="1668"/>
                    </a:lnTo>
                    <a:lnTo>
                      <a:pt x="168" y="1644"/>
                    </a:lnTo>
                    <a:lnTo>
                      <a:pt x="180" y="1620"/>
                    </a:lnTo>
                    <a:lnTo>
                      <a:pt x="186" y="1602"/>
                    </a:lnTo>
                    <a:lnTo>
                      <a:pt x="198" y="1578"/>
                    </a:lnTo>
                    <a:lnTo>
                      <a:pt x="210" y="1560"/>
                    </a:lnTo>
                    <a:lnTo>
                      <a:pt x="222" y="1542"/>
                    </a:lnTo>
                    <a:lnTo>
                      <a:pt x="228" y="1524"/>
                    </a:lnTo>
                    <a:lnTo>
                      <a:pt x="240" y="1506"/>
                    </a:lnTo>
                    <a:lnTo>
                      <a:pt x="252" y="1488"/>
                    </a:lnTo>
                    <a:lnTo>
                      <a:pt x="264" y="1470"/>
                    </a:lnTo>
                    <a:lnTo>
                      <a:pt x="270" y="1452"/>
                    </a:lnTo>
                    <a:lnTo>
                      <a:pt x="282" y="1434"/>
                    </a:lnTo>
                    <a:lnTo>
                      <a:pt x="294" y="1416"/>
                    </a:lnTo>
                    <a:lnTo>
                      <a:pt x="306" y="1404"/>
                    </a:lnTo>
                    <a:lnTo>
                      <a:pt x="312" y="1386"/>
                    </a:lnTo>
                    <a:lnTo>
                      <a:pt x="324" y="1374"/>
                    </a:lnTo>
                    <a:lnTo>
                      <a:pt x="336" y="1356"/>
                    </a:lnTo>
                    <a:lnTo>
                      <a:pt x="348" y="1344"/>
                    </a:lnTo>
                    <a:lnTo>
                      <a:pt x="354" y="1326"/>
                    </a:lnTo>
                    <a:lnTo>
                      <a:pt x="366" y="1314"/>
                    </a:lnTo>
                    <a:lnTo>
                      <a:pt x="378" y="1302"/>
                    </a:lnTo>
                    <a:lnTo>
                      <a:pt x="390" y="1290"/>
                    </a:lnTo>
                    <a:lnTo>
                      <a:pt x="396" y="1278"/>
                    </a:lnTo>
                    <a:lnTo>
                      <a:pt x="408" y="1266"/>
                    </a:lnTo>
                    <a:lnTo>
                      <a:pt x="420" y="1254"/>
                    </a:lnTo>
                    <a:lnTo>
                      <a:pt x="432" y="1242"/>
                    </a:lnTo>
                    <a:lnTo>
                      <a:pt x="438" y="1236"/>
                    </a:lnTo>
                    <a:lnTo>
                      <a:pt x="450" y="1224"/>
                    </a:lnTo>
                    <a:lnTo>
                      <a:pt x="462" y="1212"/>
                    </a:lnTo>
                    <a:lnTo>
                      <a:pt x="474" y="1206"/>
                    </a:lnTo>
                    <a:lnTo>
                      <a:pt x="480" y="1194"/>
                    </a:lnTo>
                    <a:lnTo>
                      <a:pt x="492" y="1188"/>
                    </a:lnTo>
                    <a:lnTo>
                      <a:pt x="504" y="1176"/>
                    </a:lnTo>
                    <a:lnTo>
                      <a:pt x="516" y="1170"/>
                    </a:lnTo>
                    <a:lnTo>
                      <a:pt x="522" y="1164"/>
                    </a:lnTo>
                    <a:lnTo>
                      <a:pt x="534" y="1152"/>
                    </a:lnTo>
                    <a:lnTo>
                      <a:pt x="546" y="1146"/>
                    </a:lnTo>
                    <a:lnTo>
                      <a:pt x="552" y="1140"/>
                    </a:lnTo>
                    <a:lnTo>
                      <a:pt x="564" y="1134"/>
                    </a:lnTo>
                    <a:lnTo>
                      <a:pt x="576" y="1128"/>
                    </a:lnTo>
                    <a:lnTo>
                      <a:pt x="588" y="1122"/>
                    </a:lnTo>
                    <a:lnTo>
                      <a:pt x="594" y="1116"/>
                    </a:lnTo>
                    <a:lnTo>
                      <a:pt x="606" y="1110"/>
                    </a:lnTo>
                    <a:lnTo>
                      <a:pt x="618" y="1104"/>
                    </a:lnTo>
                    <a:lnTo>
                      <a:pt x="630" y="1098"/>
                    </a:lnTo>
                    <a:lnTo>
                      <a:pt x="636" y="1092"/>
                    </a:lnTo>
                    <a:lnTo>
                      <a:pt x="648" y="1086"/>
                    </a:lnTo>
                    <a:lnTo>
                      <a:pt x="660" y="1086"/>
                    </a:lnTo>
                    <a:lnTo>
                      <a:pt x="672" y="1080"/>
                    </a:lnTo>
                    <a:lnTo>
                      <a:pt x="678" y="1074"/>
                    </a:lnTo>
                    <a:lnTo>
                      <a:pt x="690" y="1074"/>
                    </a:lnTo>
                    <a:lnTo>
                      <a:pt x="702" y="1068"/>
                    </a:lnTo>
                    <a:lnTo>
                      <a:pt x="714" y="1068"/>
                    </a:lnTo>
                    <a:lnTo>
                      <a:pt x="720" y="1062"/>
                    </a:lnTo>
                    <a:lnTo>
                      <a:pt x="732" y="1062"/>
                    </a:lnTo>
                    <a:lnTo>
                      <a:pt x="744" y="1056"/>
                    </a:lnTo>
                    <a:lnTo>
                      <a:pt x="756" y="1056"/>
                    </a:lnTo>
                    <a:lnTo>
                      <a:pt x="762" y="1050"/>
                    </a:lnTo>
                    <a:lnTo>
                      <a:pt x="774" y="1050"/>
                    </a:lnTo>
                    <a:lnTo>
                      <a:pt x="786" y="1050"/>
                    </a:lnTo>
                    <a:lnTo>
                      <a:pt x="798" y="1044"/>
                    </a:lnTo>
                    <a:lnTo>
                      <a:pt x="804" y="1044"/>
                    </a:lnTo>
                    <a:lnTo>
                      <a:pt x="816" y="1044"/>
                    </a:lnTo>
                    <a:lnTo>
                      <a:pt x="828" y="1044"/>
                    </a:lnTo>
                    <a:lnTo>
                      <a:pt x="840" y="1038"/>
                    </a:lnTo>
                    <a:lnTo>
                      <a:pt x="846" y="1038"/>
                    </a:lnTo>
                    <a:lnTo>
                      <a:pt x="858" y="1038"/>
                    </a:lnTo>
                    <a:lnTo>
                      <a:pt x="870" y="1038"/>
                    </a:lnTo>
                    <a:lnTo>
                      <a:pt x="882" y="1038"/>
                    </a:lnTo>
                    <a:lnTo>
                      <a:pt x="888" y="1038"/>
                    </a:lnTo>
                    <a:lnTo>
                      <a:pt x="900" y="1032"/>
                    </a:lnTo>
                    <a:lnTo>
                      <a:pt x="912" y="1032"/>
                    </a:lnTo>
                    <a:lnTo>
                      <a:pt x="924" y="1032"/>
                    </a:lnTo>
                    <a:lnTo>
                      <a:pt x="930" y="1032"/>
                    </a:lnTo>
                    <a:lnTo>
                      <a:pt x="942" y="1032"/>
                    </a:lnTo>
                    <a:lnTo>
                      <a:pt x="954" y="1032"/>
                    </a:lnTo>
                    <a:lnTo>
                      <a:pt x="966" y="1032"/>
                    </a:lnTo>
                    <a:lnTo>
                      <a:pt x="972" y="1032"/>
                    </a:lnTo>
                    <a:lnTo>
                      <a:pt x="984" y="1032"/>
                    </a:lnTo>
                    <a:lnTo>
                      <a:pt x="996" y="1032"/>
                    </a:lnTo>
                    <a:lnTo>
                      <a:pt x="1008" y="1032"/>
                    </a:lnTo>
                    <a:lnTo>
                      <a:pt x="1014" y="1032"/>
                    </a:lnTo>
                    <a:lnTo>
                      <a:pt x="1026" y="1032"/>
                    </a:lnTo>
                    <a:lnTo>
                      <a:pt x="1038" y="1032"/>
                    </a:lnTo>
                    <a:lnTo>
                      <a:pt x="1050" y="1032"/>
                    </a:lnTo>
                    <a:lnTo>
                      <a:pt x="1056" y="1032"/>
                    </a:lnTo>
                    <a:lnTo>
                      <a:pt x="1068" y="1032"/>
                    </a:lnTo>
                    <a:lnTo>
                      <a:pt x="1080" y="1032"/>
                    </a:lnTo>
                    <a:lnTo>
                      <a:pt x="1086" y="1032"/>
                    </a:lnTo>
                    <a:lnTo>
                      <a:pt x="1098" y="1032"/>
                    </a:lnTo>
                    <a:lnTo>
                      <a:pt x="1110" y="1032"/>
                    </a:lnTo>
                    <a:lnTo>
                      <a:pt x="1122" y="1032"/>
                    </a:lnTo>
                    <a:lnTo>
                      <a:pt x="1128" y="1032"/>
                    </a:lnTo>
                    <a:lnTo>
                      <a:pt x="1140" y="1032"/>
                    </a:lnTo>
                    <a:lnTo>
                      <a:pt x="1152" y="1032"/>
                    </a:lnTo>
                    <a:lnTo>
                      <a:pt x="1164" y="1032"/>
                    </a:lnTo>
                    <a:lnTo>
                      <a:pt x="1170" y="1032"/>
                    </a:lnTo>
                    <a:lnTo>
                      <a:pt x="1182" y="1032"/>
                    </a:lnTo>
                    <a:lnTo>
                      <a:pt x="1194" y="1032"/>
                    </a:lnTo>
                    <a:lnTo>
                      <a:pt x="1206" y="1026"/>
                    </a:lnTo>
                    <a:lnTo>
                      <a:pt x="1212" y="1026"/>
                    </a:lnTo>
                    <a:lnTo>
                      <a:pt x="1224" y="1026"/>
                    </a:lnTo>
                    <a:lnTo>
                      <a:pt x="1236" y="1026"/>
                    </a:lnTo>
                    <a:lnTo>
                      <a:pt x="1248" y="1026"/>
                    </a:lnTo>
                    <a:lnTo>
                      <a:pt x="1254" y="1026"/>
                    </a:lnTo>
                    <a:lnTo>
                      <a:pt x="1266" y="1020"/>
                    </a:lnTo>
                    <a:lnTo>
                      <a:pt x="1278" y="1020"/>
                    </a:lnTo>
                    <a:lnTo>
                      <a:pt x="1290" y="1020"/>
                    </a:lnTo>
                    <a:lnTo>
                      <a:pt x="1296" y="1020"/>
                    </a:lnTo>
                    <a:lnTo>
                      <a:pt x="1308" y="1014"/>
                    </a:lnTo>
                    <a:lnTo>
                      <a:pt x="1320" y="1014"/>
                    </a:lnTo>
                    <a:lnTo>
                      <a:pt x="1332" y="1014"/>
                    </a:lnTo>
                    <a:lnTo>
                      <a:pt x="1338" y="1008"/>
                    </a:lnTo>
                    <a:lnTo>
                      <a:pt x="1350" y="1008"/>
                    </a:lnTo>
                    <a:lnTo>
                      <a:pt x="1362" y="1002"/>
                    </a:lnTo>
                    <a:lnTo>
                      <a:pt x="1374" y="1002"/>
                    </a:lnTo>
                    <a:lnTo>
                      <a:pt x="1380" y="996"/>
                    </a:lnTo>
                    <a:lnTo>
                      <a:pt x="1392" y="996"/>
                    </a:lnTo>
                    <a:lnTo>
                      <a:pt x="1404" y="990"/>
                    </a:lnTo>
                    <a:lnTo>
                      <a:pt x="1416" y="990"/>
                    </a:lnTo>
                    <a:lnTo>
                      <a:pt x="1422" y="984"/>
                    </a:lnTo>
                    <a:lnTo>
                      <a:pt x="1434" y="978"/>
                    </a:lnTo>
                    <a:lnTo>
                      <a:pt x="1446" y="978"/>
                    </a:lnTo>
                    <a:lnTo>
                      <a:pt x="1458" y="972"/>
                    </a:lnTo>
                    <a:lnTo>
                      <a:pt x="1464" y="966"/>
                    </a:lnTo>
                    <a:lnTo>
                      <a:pt x="1476" y="960"/>
                    </a:lnTo>
                    <a:lnTo>
                      <a:pt x="1488" y="954"/>
                    </a:lnTo>
                    <a:lnTo>
                      <a:pt x="1500" y="948"/>
                    </a:lnTo>
                    <a:lnTo>
                      <a:pt x="1506" y="942"/>
                    </a:lnTo>
                    <a:lnTo>
                      <a:pt x="1518" y="936"/>
                    </a:lnTo>
                    <a:lnTo>
                      <a:pt x="1530" y="930"/>
                    </a:lnTo>
                    <a:lnTo>
                      <a:pt x="1542" y="924"/>
                    </a:lnTo>
                    <a:lnTo>
                      <a:pt x="1548" y="918"/>
                    </a:lnTo>
                    <a:lnTo>
                      <a:pt x="1560" y="912"/>
                    </a:lnTo>
                    <a:lnTo>
                      <a:pt x="1572" y="906"/>
                    </a:lnTo>
                    <a:lnTo>
                      <a:pt x="1578" y="894"/>
                    </a:lnTo>
                    <a:lnTo>
                      <a:pt x="1590" y="888"/>
                    </a:lnTo>
                    <a:lnTo>
                      <a:pt x="1602" y="876"/>
                    </a:lnTo>
                    <a:lnTo>
                      <a:pt x="1614" y="870"/>
                    </a:lnTo>
                    <a:lnTo>
                      <a:pt x="1620" y="858"/>
                    </a:lnTo>
                    <a:lnTo>
                      <a:pt x="1632" y="852"/>
                    </a:lnTo>
                    <a:lnTo>
                      <a:pt x="1644" y="840"/>
                    </a:lnTo>
                    <a:lnTo>
                      <a:pt x="1656" y="828"/>
                    </a:lnTo>
                    <a:lnTo>
                      <a:pt x="1662" y="822"/>
                    </a:lnTo>
                    <a:lnTo>
                      <a:pt x="1674" y="810"/>
                    </a:lnTo>
                    <a:lnTo>
                      <a:pt x="1686" y="798"/>
                    </a:lnTo>
                    <a:lnTo>
                      <a:pt x="1698" y="786"/>
                    </a:lnTo>
                    <a:lnTo>
                      <a:pt x="1704" y="774"/>
                    </a:lnTo>
                    <a:lnTo>
                      <a:pt x="1716" y="762"/>
                    </a:lnTo>
                    <a:lnTo>
                      <a:pt x="1728" y="750"/>
                    </a:lnTo>
                    <a:lnTo>
                      <a:pt x="1740" y="738"/>
                    </a:lnTo>
                    <a:lnTo>
                      <a:pt x="1746" y="720"/>
                    </a:lnTo>
                    <a:lnTo>
                      <a:pt x="1758" y="708"/>
                    </a:lnTo>
                    <a:lnTo>
                      <a:pt x="1770" y="690"/>
                    </a:lnTo>
                    <a:lnTo>
                      <a:pt x="1782" y="678"/>
                    </a:lnTo>
                    <a:lnTo>
                      <a:pt x="1788" y="660"/>
                    </a:lnTo>
                    <a:lnTo>
                      <a:pt x="1800" y="648"/>
                    </a:lnTo>
                    <a:lnTo>
                      <a:pt x="1812" y="630"/>
                    </a:lnTo>
                    <a:lnTo>
                      <a:pt x="1824" y="612"/>
                    </a:lnTo>
                    <a:lnTo>
                      <a:pt x="1830" y="594"/>
                    </a:lnTo>
                    <a:lnTo>
                      <a:pt x="1842" y="576"/>
                    </a:lnTo>
                    <a:lnTo>
                      <a:pt x="1854" y="558"/>
                    </a:lnTo>
                    <a:lnTo>
                      <a:pt x="1866" y="540"/>
                    </a:lnTo>
                    <a:lnTo>
                      <a:pt x="1872" y="522"/>
                    </a:lnTo>
                    <a:lnTo>
                      <a:pt x="1884" y="504"/>
                    </a:lnTo>
                    <a:lnTo>
                      <a:pt x="1896" y="486"/>
                    </a:lnTo>
                    <a:lnTo>
                      <a:pt x="1908" y="462"/>
                    </a:lnTo>
                    <a:lnTo>
                      <a:pt x="1914" y="444"/>
                    </a:lnTo>
                    <a:lnTo>
                      <a:pt x="1926" y="420"/>
                    </a:lnTo>
                    <a:lnTo>
                      <a:pt x="1938" y="396"/>
                    </a:lnTo>
                    <a:lnTo>
                      <a:pt x="1950" y="378"/>
                    </a:lnTo>
                    <a:lnTo>
                      <a:pt x="1956" y="354"/>
                    </a:lnTo>
                    <a:lnTo>
                      <a:pt x="1968" y="330"/>
                    </a:lnTo>
                    <a:lnTo>
                      <a:pt x="1980" y="306"/>
                    </a:lnTo>
                    <a:lnTo>
                      <a:pt x="1992" y="282"/>
                    </a:lnTo>
                    <a:lnTo>
                      <a:pt x="1998" y="252"/>
                    </a:lnTo>
                    <a:lnTo>
                      <a:pt x="2010" y="228"/>
                    </a:lnTo>
                    <a:lnTo>
                      <a:pt x="2022" y="204"/>
                    </a:lnTo>
                    <a:lnTo>
                      <a:pt x="2034" y="174"/>
                    </a:lnTo>
                    <a:lnTo>
                      <a:pt x="2040" y="150"/>
                    </a:lnTo>
                    <a:lnTo>
                      <a:pt x="2052" y="120"/>
                    </a:lnTo>
                    <a:lnTo>
                      <a:pt x="2064" y="90"/>
                    </a:lnTo>
                    <a:lnTo>
                      <a:pt x="2076" y="60"/>
                    </a:lnTo>
                    <a:lnTo>
                      <a:pt x="2082" y="30"/>
                    </a:lnTo>
                    <a:lnTo>
                      <a:pt x="20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6"/>
              <p:cNvSpPr/>
              <p:nvPr/>
            </p:nvSpPr>
            <p:spPr>
              <a:xfrm>
                <a:off x="7313760" y="4711680"/>
                <a:ext cx="2019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7"/>
              <p:cNvSpPr/>
              <p:nvPr/>
            </p:nvSpPr>
            <p:spPr>
              <a:xfrm>
                <a:off x="7621200" y="3598920"/>
                <a:ext cx="912600" cy="40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36000" tIns="18000" bIns="18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Calibri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(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Calibri"/>
                  </a:rPr>
                  <a:t>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Calibri"/>
                  </a:rPr>
                  <a:t>x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Calibri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Text Box 19" descr=""/>
          <p:cNvPicPr/>
          <p:nvPr/>
        </p:nvPicPr>
        <p:blipFill>
          <a:blip r:embed="rId2"/>
          <a:stretch/>
        </p:blipFill>
        <p:spPr>
          <a:xfrm>
            <a:off x="457200" y="4956120"/>
            <a:ext cx="472428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9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9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9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9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28"/>
          <p:cNvGrpSpPr/>
          <p:nvPr/>
        </p:nvGrpSpPr>
        <p:grpSpPr>
          <a:xfrm>
            <a:off x="1066680" y="1924200"/>
            <a:ext cx="6897600" cy="2813040"/>
            <a:chOff x="1066680" y="1924200"/>
            <a:chExt cx="6897600" cy="2813040"/>
          </a:xfrm>
        </p:grpSpPr>
        <p:sp>
          <p:nvSpPr>
            <p:cNvPr id="66" name="Text Box 29"/>
            <p:cNvSpPr/>
            <p:nvPr/>
          </p:nvSpPr>
          <p:spPr>
            <a:xfrm>
              <a:off x="1754640" y="1924200"/>
              <a:ext cx="205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alibri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30"/>
            <p:cNvSpPr/>
            <p:nvPr/>
          </p:nvSpPr>
          <p:spPr>
            <a:xfrm flipV="1">
              <a:off x="1636560" y="1973160"/>
              <a:ext cx="0" cy="276408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31"/>
            <p:cNvSpPr/>
            <p:nvPr/>
          </p:nvSpPr>
          <p:spPr>
            <a:xfrm>
              <a:off x="7770960" y="4411440"/>
              <a:ext cx="13320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32"/>
            <p:cNvSpPr/>
            <p:nvPr/>
          </p:nvSpPr>
          <p:spPr>
            <a:xfrm>
              <a:off x="1816560" y="4354200"/>
              <a:ext cx="201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33"/>
            <p:cNvSpPr/>
            <p:nvPr/>
          </p:nvSpPr>
          <p:spPr>
            <a:xfrm>
              <a:off x="1066680" y="4400280"/>
              <a:ext cx="689760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37"/>
          <p:cNvGrpSpPr/>
          <p:nvPr/>
        </p:nvGrpSpPr>
        <p:grpSpPr>
          <a:xfrm>
            <a:off x="2435760" y="2305080"/>
            <a:ext cx="5144040" cy="2484720"/>
            <a:chOff x="2435760" y="2305080"/>
            <a:chExt cx="5144040" cy="2484720"/>
          </a:xfrm>
        </p:grpSpPr>
        <p:sp>
          <p:nvSpPr>
            <p:cNvPr id="72" name="Freeform 38"/>
            <p:cNvSpPr/>
            <p:nvPr/>
          </p:nvSpPr>
          <p:spPr>
            <a:xfrm>
              <a:off x="2455200" y="2568240"/>
              <a:ext cx="5044320" cy="1018800"/>
            </a:xfrm>
            <a:custGeom>
              <a:avLst/>
              <a:gdLst/>
              <a:ahLst/>
              <a:rect l="l" t="t" r="r" b="b"/>
              <a:pathLst>
                <a:path w="2088" h="708">
                  <a:moveTo>
                    <a:pt x="0" y="708"/>
                  </a:moveTo>
                  <a:cubicBezTo>
                    <a:pt x="84" y="550"/>
                    <a:pt x="166" y="406"/>
                    <a:pt x="288" y="396"/>
                  </a:cubicBezTo>
                  <a:cubicBezTo>
                    <a:pt x="410" y="386"/>
                    <a:pt x="608" y="668"/>
                    <a:pt x="732" y="648"/>
                  </a:cubicBezTo>
                  <a:cubicBezTo>
                    <a:pt x="856" y="628"/>
                    <a:pt x="888" y="432"/>
                    <a:pt x="1032" y="276"/>
                  </a:cubicBezTo>
                  <a:cubicBezTo>
                    <a:pt x="1176" y="120"/>
                    <a:pt x="1368" y="396"/>
                    <a:pt x="1476" y="672"/>
                  </a:cubicBezTo>
                  <a:cubicBezTo>
                    <a:pt x="1596" y="336"/>
                    <a:pt x="1687" y="308"/>
                    <a:pt x="1884" y="300"/>
                  </a:cubicBezTo>
                  <a:cubicBezTo>
                    <a:pt x="2081" y="292"/>
                    <a:pt x="2046" y="62"/>
                    <a:pt x="2088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39"/>
            <p:cNvSpPr/>
            <p:nvPr/>
          </p:nvSpPr>
          <p:spPr>
            <a:xfrm>
              <a:off x="2455200" y="3604680"/>
              <a:ext cx="0" cy="8290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40"/>
            <p:cNvSpPr/>
            <p:nvPr/>
          </p:nvSpPr>
          <p:spPr>
            <a:xfrm>
              <a:off x="7470720" y="2585520"/>
              <a:ext cx="0" cy="18478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41"/>
            <p:cNvSpPr/>
            <p:nvPr/>
          </p:nvSpPr>
          <p:spPr>
            <a:xfrm>
              <a:off x="2435760" y="4423680"/>
              <a:ext cx="157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42"/>
            <p:cNvSpPr/>
            <p:nvPr/>
          </p:nvSpPr>
          <p:spPr>
            <a:xfrm>
              <a:off x="7422120" y="4423680"/>
              <a:ext cx="157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43"/>
            <p:cNvSpPr/>
            <p:nvPr/>
          </p:nvSpPr>
          <p:spPr>
            <a:xfrm>
              <a:off x="6393240" y="2305080"/>
              <a:ext cx="82584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18000" bIns="18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alibri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alibri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44"/>
          <p:cNvGrpSpPr/>
          <p:nvPr/>
        </p:nvGrpSpPr>
        <p:grpSpPr>
          <a:xfrm>
            <a:off x="2560680" y="3143160"/>
            <a:ext cx="1206720" cy="2201760"/>
            <a:chOff x="2560680" y="3143160"/>
            <a:chExt cx="1206720" cy="2201760"/>
          </a:xfrm>
        </p:grpSpPr>
        <p:sp>
          <p:nvSpPr>
            <p:cNvPr id="79" name="Line 45"/>
            <p:cNvSpPr/>
            <p:nvPr/>
          </p:nvSpPr>
          <p:spPr>
            <a:xfrm>
              <a:off x="3137040" y="3143160"/>
              <a:ext cx="0" cy="12956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46"/>
            <p:cNvSpPr/>
            <p:nvPr/>
          </p:nvSpPr>
          <p:spPr>
            <a:xfrm>
              <a:off x="3055320" y="4321080"/>
              <a:ext cx="22320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47"/>
            <p:cNvSpPr/>
            <p:nvPr/>
          </p:nvSpPr>
          <p:spPr>
            <a:xfrm>
              <a:off x="2560680" y="4803840"/>
              <a:ext cx="120672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alibri"/>
                </a:rPr>
                <a:t>f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48"/>
          <p:cNvGrpSpPr/>
          <p:nvPr/>
        </p:nvGrpSpPr>
        <p:grpSpPr>
          <a:xfrm>
            <a:off x="3555000" y="3524400"/>
            <a:ext cx="1275120" cy="1804680"/>
            <a:chOff x="3555000" y="3524400"/>
            <a:chExt cx="1275120" cy="1804680"/>
          </a:xfrm>
        </p:grpSpPr>
        <p:sp>
          <p:nvSpPr>
            <p:cNvPr id="83" name="Line 49"/>
            <p:cNvSpPr/>
            <p:nvPr/>
          </p:nvSpPr>
          <p:spPr>
            <a:xfrm>
              <a:off x="4138560" y="3524400"/>
              <a:ext cx="0" cy="9082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50"/>
            <p:cNvSpPr/>
            <p:nvPr/>
          </p:nvSpPr>
          <p:spPr>
            <a:xfrm>
              <a:off x="3999960" y="4318200"/>
              <a:ext cx="22320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51"/>
            <p:cNvSpPr/>
            <p:nvPr/>
          </p:nvSpPr>
          <p:spPr>
            <a:xfrm>
              <a:off x="3555000" y="4788000"/>
              <a:ext cx="127512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alibri"/>
                </a:rPr>
                <a:t>f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52"/>
          <p:cNvGrpSpPr/>
          <p:nvPr/>
        </p:nvGrpSpPr>
        <p:grpSpPr>
          <a:xfrm>
            <a:off x="4622040" y="2914560"/>
            <a:ext cx="1275120" cy="2421360"/>
            <a:chOff x="4622040" y="2914560"/>
            <a:chExt cx="1275120" cy="2421360"/>
          </a:xfrm>
        </p:grpSpPr>
        <p:sp>
          <p:nvSpPr>
            <p:cNvPr id="87" name="Line 53"/>
            <p:cNvSpPr/>
            <p:nvPr/>
          </p:nvSpPr>
          <p:spPr>
            <a:xfrm>
              <a:off x="5153040" y="2914560"/>
              <a:ext cx="0" cy="15256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54"/>
            <p:cNvSpPr/>
            <p:nvPr/>
          </p:nvSpPr>
          <p:spPr>
            <a:xfrm>
              <a:off x="5071680" y="4304520"/>
              <a:ext cx="22320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55"/>
            <p:cNvSpPr/>
            <p:nvPr/>
          </p:nvSpPr>
          <p:spPr>
            <a:xfrm>
              <a:off x="4622040" y="4794840"/>
              <a:ext cx="127512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alibri"/>
                </a:rPr>
                <a:t>f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alibri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59"/>
          <p:cNvGrpSpPr/>
          <p:nvPr/>
        </p:nvGrpSpPr>
        <p:grpSpPr>
          <a:xfrm>
            <a:off x="5950800" y="3524400"/>
            <a:ext cx="223200" cy="1286280"/>
            <a:chOff x="5950800" y="3524400"/>
            <a:chExt cx="223200" cy="1286280"/>
          </a:xfrm>
        </p:grpSpPr>
        <p:sp>
          <p:nvSpPr>
            <p:cNvPr id="91" name="Line 60"/>
            <p:cNvSpPr/>
            <p:nvPr/>
          </p:nvSpPr>
          <p:spPr>
            <a:xfrm>
              <a:off x="6032520" y="3524400"/>
              <a:ext cx="0" cy="9334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61"/>
            <p:cNvSpPr/>
            <p:nvPr/>
          </p:nvSpPr>
          <p:spPr>
            <a:xfrm>
              <a:off x="5950800" y="4394160"/>
              <a:ext cx="22320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62"/>
          <p:cNvGrpSpPr/>
          <p:nvPr/>
        </p:nvGrpSpPr>
        <p:grpSpPr>
          <a:xfrm>
            <a:off x="6466320" y="2990880"/>
            <a:ext cx="1242720" cy="2329920"/>
            <a:chOff x="6466320" y="2990880"/>
            <a:chExt cx="1242720" cy="2329920"/>
          </a:xfrm>
        </p:grpSpPr>
        <p:sp>
          <p:nvSpPr>
            <p:cNvPr id="94" name="Text Box 63"/>
            <p:cNvSpPr/>
            <p:nvPr/>
          </p:nvSpPr>
          <p:spPr>
            <a:xfrm>
              <a:off x="6466320" y="4743720"/>
              <a:ext cx="124272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18000" bIns="180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alibri"/>
                </a:rPr>
                <a:t>f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alibri"/>
                </a:rPr>
                <a:t>5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64"/>
            <p:cNvSpPr/>
            <p:nvPr/>
          </p:nvSpPr>
          <p:spPr>
            <a:xfrm>
              <a:off x="6859440" y="2990880"/>
              <a:ext cx="0" cy="14130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65"/>
            <p:cNvSpPr/>
            <p:nvPr/>
          </p:nvSpPr>
          <p:spPr>
            <a:xfrm>
              <a:off x="6778080" y="4287960"/>
              <a:ext cx="22320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Line 66"/>
          <p:cNvSpPr/>
          <p:nvPr/>
        </p:nvSpPr>
        <p:spPr>
          <a:xfrm>
            <a:off x="2743200" y="3143160"/>
            <a:ext cx="898560" cy="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7"/>
          <p:cNvSpPr/>
          <p:nvPr/>
        </p:nvSpPr>
        <p:spPr>
          <a:xfrm>
            <a:off x="3733920" y="3524400"/>
            <a:ext cx="869760" cy="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68"/>
          <p:cNvSpPr/>
          <p:nvPr/>
        </p:nvSpPr>
        <p:spPr>
          <a:xfrm>
            <a:off x="4724280" y="2914560"/>
            <a:ext cx="831960" cy="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69"/>
          <p:cNvSpPr/>
          <p:nvPr/>
        </p:nvSpPr>
        <p:spPr>
          <a:xfrm>
            <a:off x="6324480" y="2990880"/>
            <a:ext cx="1044720" cy="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4"/>
          <p:cNvSpPr/>
          <p:nvPr/>
        </p:nvSpPr>
        <p:spPr>
          <a:xfrm>
            <a:off x="1066680" y="1371600"/>
            <a:ext cx="6019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6000" tIns="18000" bIns="180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Calibri"/>
              </a:rPr>
              <a:t>观察与思考：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极值与导数有何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6"/>
          <p:cNvSpPr/>
          <p:nvPr/>
        </p:nvSpPr>
        <p:spPr>
          <a:xfrm>
            <a:off x="304920" y="380880"/>
            <a:ext cx="739116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6000" tIns="18000" bIns="180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函数的极大值与极小值统称为</a:t>
            </a:r>
            <a:r>
              <a:rPr b="1" lang="zh-CN" sz="2800" spc="-1" strike="noStrike">
                <a:solidFill>
                  <a:srgbClr val="ffff00"/>
                </a:solidFill>
                <a:latin typeface="Calibri"/>
              </a:rPr>
              <a:t>函数的极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使函数取得极值的点称为</a:t>
            </a:r>
            <a:r>
              <a:rPr b="1" lang="zh-CN" sz="2800" spc="-1" strike="noStrike">
                <a:solidFill>
                  <a:srgbClr val="ffff00"/>
                </a:solidFill>
                <a:latin typeface="Calibri"/>
              </a:rPr>
              <a:t>极值点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2" descr="question_pop_up_from_box_rotate_hg_clr"/>
          <p:cNvPicPr/>
          <p:nvPr/>
        </p:nvPicPr>
        <p:blipFill>
          <a:blip r:embed="rId1"/>
          <a:stretch/>
        </p:blipFill>
        <p:spPr>
          <a:xfrm>
            <a:off x="7400880" y="4724280"/>
            <a:ext cx="1743120" cy="21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函数极值的判定定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1828800" y="990720"/>
            <a:ext cx="7010280" cy="5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设函数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在点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的近旁可导且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f ´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1981080" y="1600200"/>
            <a:ext cx="6934320" cy="19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若在点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</a:rPr>
              <a:t>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侧近旁 </a:t>
            </a:r>
            <a:r>
              <a:rPr b="1" i="1" lang="en-US" sz="2800" spc="-1" strike="noStrike">
                <a:solidFill>
                  <a:srgbClr val="009999"/>
                </a:solidFill>
                <a:latin typeface="Times New Roman"/>
              </a:rPr>
              <a:t>f ´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9999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</a:rPr>
              <a:t>恒为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点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</a:rPr>
              <a:t>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侧近旁 </a:t>
            </a:r>
            <a:r>
              <a:rPr b="1" i="1" lang="en-US" sz="2800" spc="-1" strike="noStrike">
                <a:solidFill>
                  <a:srgbClr val="009999"/>
                </a:solidFill>
                <a:latin typeface="Times New Roman"/>
              </a:rPr>
              <a:t>f ´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9999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</a:rPr>
              <a:t>恒为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则函数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点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处取得</a:t>
            </a:r>
            <a:r>
              <a:rPr b="1" lang="zh-CN" sz="2800" spc="-1" strike="noStrike">
                <a:solidFill>
                  <a:srgbClr val="d60093"/>
                </a:solidFill>
                <a:latin typeface="Times New Roman"/>
              </a:rPr>
              <a:t>极大值 </a:t>
            </a: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f ´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( </a:t>
            </a: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x</a:t>
            </a:r>
            <a:r>
              <a:rPr b="1" lang="en-US" sz="2000" spc="-1" strike="noStrike" baseline="-25000">
                <a:solidFill>
                  <a:srgbClr val="d60093"/>
                </a:solidFill>
                <a:latin typeface="Times New Roman"/>
              </a:rPr>
              <a:t>0</a:t>
            </a:r>
            <a:r>
              <a:rPr b="1" lang="en-US" sz="2800" spc="-1" strike="noStrike" baseline="-25000">
                <a:solidFill>
                  <a:srgbClr val="d6009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2057400" y="3581280"/>
            <a:ext cx="7086600" cy="19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若在点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</a:rPr>
              <a:t>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侧近旁 </a:t>
            </a:r>
            <a:r>
              <a:rPr b="1" i="1" lang="en-US" sz="2800" spc="-1" strike="noStrike">
                <a:solidFill>
                  <a:srgbClr val="009999"/>
                </a:solidFill>
                <a:latin typeface="Times New Roman"/>
              </a:rPr>
              <a:t>f ´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9999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</a:rPr>
              <a:t>恒为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点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</a:rPr>
              <a:t>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侧近旁 </a:t>
            </a:r>
            <a:r>
              <a:rPr b="1" i="1" lang="en-US" sz="2800" spc="-1" strike="noStrike">
                <a:solidFill>
                  <a:srgbClr val="009999"/>
                </a:solidFill>
                <a:latin typeface="Times New Roman"/>
              </a:rPr>
              <a:t>f ´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9999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</a:rPr>
              <a:t>恒为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则函数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点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处取得</a:t>
            </a:r>
            <a:r>
              <a:rPr b="1" lang="zh-CN" sz="2800" spc="-1" strike="noStrike">
                <a:solidFill>
                  <a:srgbClr val="d60093"/>
                </a:solidFill>
                <a:latin typeface="Times New Roman"/>
              </a:rPr>
              <a:t>极小值 </a:t>
            </a: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f ´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( </a:t>
            </a: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x</a:t>
            </a:r>
            <a:r>
              <a:rPr b="1" lang="en-US" sz="2000" spc="-1" strike="noStrike" baseline="-25000">
                <a:solidFill>
                  <a:srgbClr val="d60093"/>
                </a:solidFill>
                <a:latin typeface="Times New Roman"/>
              </a:rPr>
              <a:t>0</a:t>
            </a:r>
            <a:r>
              <a:rPr b="1" lang="en-US" sz="2800" spc="-1" strike="noStrike" baseline="-25000">
                <a:solidFill>
                  <a:srgbClr val="d6009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3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29"/>
          <p:cNvGrpSpPr/>
          <p:nvPr/>
        </p:nvGrpSpPr>
        <p:grpSpPr>
          <a:xfrm>
            <a:off x="2014560" y="1351080"/>
            <a:ext cx="5594040" cy="3898080"/>
            <a:chOff x="2014560" y="1351080"/>
            <a:chExt cx="5594040" cy="3898080"/>
          </a:xfrm>
        </p:grpSpPr>
        <p:sp>
          <p:nvSpPr>
            <p:cNvPr id="109" name="Text Box 30"/>
            <p:cNvSpPr/>
            <p:nvPr/>
          </p:nvSpPr>
          <p:spPr>
            <a:xfrm>
              <a:off x="2572560" y="1351080"/>
              <a:ext cx="205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alibri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31"/>
            <p:cNvSpPr/>
            <p:nvPr/>
          </p:nvSpPr>
          <p:spPr>
            <a:xfrm flipV="1">
              <a:off x="2476800" y="1400760"/>
              <a:ext cx="0" cy="384840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32"/>
            <p:cNvSpPr/>
            <p:nvPr/>
          </p:nvSpPr>
          <p:spPr>
            <a:xfrm>
              <a:off x="7445160" y="4810680"/>
              <a:ext cx="13320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33"/>
            <p:cNvSpPr/>
            <p:nvPr/>
          </p:nvSpPr>
          <p:spPr>
            <a:xfrm>
              <a:off x="2601720" y="4734000"/>
              <a:ext cx="201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34"/>
            <p:cNvSpPr/>
            <p:nvPr/>
          </p:nvSpPr>
          <p:spPr>
            <a:xfrm>
              <a:off x="2014560" y="4780440"/>
              <a:ext cx="559404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Line 35"/>
          <p:cNvSpPr/>
          <p:nvPr/>
        </p:nvSpPr>
        <p:spPr>
          <a:xfrm>
            <a:off x="4373640" y="4282920"/>
            <a:ext cx="0" cy="51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6"/>
          <p:cNvSpPr/>
          <p:nvPr/>
        </p:nvSpPr>
        <p:spPr>
          <a:xfrm>
            <a:off x="4281480" y="4757760"/>
            <a:ext cx="22320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7"/>
          <p:cNvSpPr/>
          <p:nvPr/>
        </p:nvSpPr>
        <p:spPr>
          <a:xfrm>
            <a:off x="5803920" y="1973160"/>
            <a:ext cx="0" cy="2854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8"/>
          <p:cNvSpPr/>
          <p:nvPr/>
        </p:nvSpPr>
        <p:spPr>
          <a:xfrm>
            <a:off x="5749920" y="4757760"/>
            <a:ext cx="22320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39"/>
          <p:cNvGrpSpPr/>
          <p:nvPr/>
        </p:nvGrpSpPr>
        <p:grpSpPr>
          <a:xfrm>
            <a:off x="2675520" y="1986120"/>
            <a:ext cx="4556880" cy="3160080"/>
            <a:chOff x="2675520" y="1986120"/>
            <a:chExt cx="4556880" cy="3160080"/>
          </a:xfrm>
        </p:grpSpPr>
        <p:sp>
          <p:nvSpPr>
            <p:cNvPr id="119" name="Line 40"/>
            <p:cNvSpPr/>
            <p:nvPr/>
          </p:nvSpPr>
          <p:spPr>
            <a:xfrm>
              <a:off x="7130880" y="4033800"/>
              <a:ext cx="0" cy="744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41"/>
            <p:cNvSpPr/>
            <p:nvPr/>
          </p:nvSpPr>
          <p:spPr>
            <a:xfrm>
              <a:off x="3031200" y="4780080"/>
              <a:ext cx="157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42"/>
            <p:cNvSpPr/>
            <p:nvPr/>
          </p:nvSpPr>
          <p:spPr>
            <a:xfrm>
              <a:off x="7074720" y="4780080"/>
              <a:ext cx="157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43"/>
            <p:cNvSpPr/>
            <p:nvPr/>
          </p:nvSpPr>
          <p:spPr>
            <a:xfrm>
              <a:off x="2675520" y="1986120"/>
              <a:ext cx="82584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18000" bIns="18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alibri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alibri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Freeform 44"/>
          <p:cNvSpPr/>
          <p:nvPr/>
        </p:nvSpPr>
        <p:spPr>
          <a:xfrm>
            <a:off x="3081240" y="1914480"/>
            <a:ext cx="4070520" cy="2460600"/>
          </a:xfrm>
          <a:custGeom>
            <a:avLst/>
            <a:gdLst/>
            <a:ahLst/>
            <a:rect l="l" t="t" r="r" b="b"/>
            <a:pathLst>
              <a:path w="2564" h="1550">
                <a:moveTo>
                  <a:pt x="0" y="365"/>
                </a:moveTo>
                <a:cubicBezTo>
                  <a:pt x="139" y="553"/>
                  <a:pt x="552" y="1550"/>
                  <a:pt x="836" y="1494"/>
                </a:cubicBezTo>
                <a:cubicBezTo>
                  <a:pt x="1120" y="1438"/>
                  <a:pt x="1418" y="52"/>
                  <a:pt x="1706" y="26"/>
                </a:cubicBezTo>
                <a:cubicBezTo>
                  <a:pt x="1994" y="0"/>
                  <a:pt x="2385" y="1063"/>
                  <a:pt x="2564" y="1336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45"/>
          <p:cNvSpPr/>
          <p:nvPr/>
        </p:nvSpPr>
        <p:spPr>
          <a:xfrm>
            <a:off x="3079800" y="2457360"/>
            <a:ext cx="0" cy="2330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6"/>
          <p:cNvSpPr/>
          <p:nvPr/>
        </p:nvSpPr>
        <p:spPr>
          <a:xfrm>
            <a:off x="4206960" y="785880"/>
            <a:ext cx="301284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Calibri"/>
              </a:rPr>
              <a:t>在极大值点附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8"/>
          <p:cNvSpPr/>
          <p:nvPr/>
        </p:nvSpPr>
        <p:spPr>
          <a:xfrm>
            <a:off x="3812040" y="5102280"/>
            <a:ext cx="149436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Calibri"/>
              </a:rPr>
              <a:t>在极小值点附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9"/>
          <p:cNvSpPr/>
          <p:nvPr/>
        </p:nvSpPr>
        <p:spPr>
          <a:xfrm>
            <a:off x="2693880" y="3846600"/>
            <a:ext cx="993960" cy="4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6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&l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50"/>
          <p:cNvSpPr/>
          <p:nvPr/>
        </p:nvSpPr>
        <p:spPr>
          <a:xfrm>
            <a:off x="3638520" y="3747960"/>
            <a:ext cx="291960" cy="576360"/>
          </a:xfrm>
          <a:prstGeom prst="line">
            <a:avLst/>
          </a:prstGeom>
          <a:ln w="19080">
            <a:solidFill>
              <a:srgbClr val="000000"/>
            </a:solidFill>
            <a:round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1"/>
          <p:cNvSpPr/>
          <p:nvPr/>
        </p:nvSpPr>
        <p:spPr>
          <a:xfrm>
            <a:off x="4943160" y="3846600"/>
            <a:ext cx="993960" cy="4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6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52"/>
          <p:cNvSpPr/>
          <p:nvPr/>
        </p:nvSpPr>
        <p:spPr>
          <a:xfrm flipV="1">
            <a:off x="4737240" y="3747600"/>
            <a:ext cx="272880" cy="576360"/>
          </a:xfrm>
          <a:prstGeom prst="line">
            <a:avLst/>
          </a:prstGeom>
          <a:ln w="19080">
            <a:solidFill>
              <a:srgbClr val="000000"/>
            </a:solidFill>
            <a:round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3"/>
          <p:cNvSpPr/>
          <p:nvPr/>
        </p:nvSpPr>
        <p:spPr>
          <a:xfrm>
            <a:off x="4284360" y="1870200"/>
            <a:ext cx="99396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6000" tIns="18000" bIns="180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54"/>
          <p:cNvSpPr/>
          <p:nvPr/>
        </p:nvSpPr>
        <p:spPr>
          <a:xfrm flipV="1">
            <a:off x="5137200" y="1955520"/>
            <a:ext cx="272880" cy="577800"/>
          </a:xfrm>
          <a:prstGeom prst="line">
            <a:avLst/>
          </a:prstGeom>
          <a:ln w="19080">
            <a:solidFill>
              <a:srgbClr val="000000"/>
            </a:solidFill>
            <a:round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55"/>
          <p:cNvSpPr/>
          <p:nvPr/>
        </p:nvSpPr>
        <p:spPr>
          <a:xfrm>
            <a:off x="6240600" y="1957320"/>
            <a:ext cx="291960" cy="577800"/>
          </a:xfrm>
          <a:prstGeom prst="line">
            <a:avLst/>
          </a:prstGeom>
          <a:ln w="19080">
            <a:solidFill>
              <a:srgbClr val="000000"/>
            </a:solidFill>
            <a:round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6"/>
          <p:cNvSpPr/>
          <p:nvPr/>
        </p:nvSpPr>
        <p:spPr>
          <a:xfrm>
            <a:off x="6502320" y="1870200"/>
            <a:ext cx="99396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6000" tIns="18000" bIns="180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&l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9" descr="question_float_from_box_hg_clr"/>
          <p:cNvPicPr/>
          <p:nvPr/>
        </p:nvPicPr>
        <p:blipFill>
          <a:blip r:embed="rId1"/>
          <a:stretch/>
        </p:blipFill>
        <p:spPr>
          <a:xfrm>
            <a:off x="152280" y="3733920"/>
            <a:ext cx="2109960" cy="28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矩形 10"/>
          <p:cNvSpPr/>
          <p:nvPr/>
        </p:nvSpPr>
        <p:spPr>
          <a:xfrm>
            <a:off x="2209680" y="38088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极值是一个局部概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2"/>
          <p:cNvSpPr/>
          <p:nvPr/>
        </p:nvSpPr>
        <p:spPr>
          <a:xfrm>
            <a:off x="2362320" y="1981080"/>
            <a:ext cx="631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并不意味着它在函数的整个的定义域内最大或最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3"/>
          <p:cNvSpPr/>
          <p:nvPr/>
        </p:nvSpPr>
        <p:spPr>
          <a:xfrm>
            <a:off x="2362320" y="2895480"/>
            <a:ext cx="529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函数的极值不是唯一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4"/>
          <p:cNvSpPr/>
          <p:nvPr/>
        </p:nvSpPr>
        <p:spPr>
          <a:xfrm>
            <a:off x="2362320" y="3276720"/>
            <a:ext cx="64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即一个函数在某区间上或定义域内极大值或极小值可以不止一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5"/>
          <p:cNvSpPr/>
          <p:nvPr/>
        </p:nvSpPr>
        <p:spPr>
          <a:xfrm>
            <a:off x="2590920" y="4191120"/>
            <a:ext cx="50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极大值与极小值之间无确定的大小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6"/>
          <p:cNvSpPr/>
          <p:nvPr/>
        </p:nvSpPr>
        <p:spPr>
          <a:xfrm>
            <a:off x="2438280" y="510552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即一个函数的极大值未必大于极小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8"/>
          <p:cNvSpPr/>
          <p:nvPr/>
        </p:nvSpPr>
        <p:spPr>
          <a:xfrm>
            <a:off x="2362320" y="914400"/>
            <a:ext cx="678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定义，极值只是某个点的函数值与它附近点的函数值比较是最大或最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占位符 9"/>
          <p:cNvSpPr/>
          <p:nvPr/>
        </p:nvSpPr>
        <p:spPr>
          <a:xfrm>
            <a:off x="685800" y="457200"/>
            <a:ext cx="160020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b3817"/>
                </a:solidFill>
                <a:latin typeface="Arial"/>
              </a:rPr>
              <a:t>注意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2" descr="question_float_from_box_hg_clr"/>
          <p:cNvPicPr/>
          <p:nvPr/>
        </p:nvPicPr>
        <p:blipFill>
          <a:blip r:embed="rId1"/>
          <a:stretch/>
        </p:blipFill>
        <p:spPr>
          <a:xfrm>
            <a:off x="152280" y="3429000"/>
            <a:ext cx="2221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矩形 17"/>
          <p:cNvSpPr/>
          <p:nvPr/>
        </p:nvSpPr>
        <p:spPr>
          <a:xfrm>
            <a:off x="2133720" y="1905120"/>
            <a:ext cx="6172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函数的极值点一定出现在区间的内部，区间的端点不能成为极值点而使函数取得最大值、最小值的点可能在区间的内部，也可能在区间的端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图片 19" descr=""/>
          <p:cNvPicPr/>
          <p:nvPr/>
        </p:nvPicPr>
        <p:blipFill>
          <a:blip r:embed="rId1"/>
          <a:stretch/>
        </p:blipFill>
        <p:spPr>
          <a:xfrm>
            <a:off x="2514600" y="3809880"/>
            <a:ext cx="5981760" cy="2667240"/>
          </a:xfrm>
          <a:prstGeom prst="rect">
            <a:avLst/>
          </a:prstGeom>
          <a:ln w="0">
            <a:noFill/>
          </a:ln>
        </p:spPr>
      </p:pic>
      <p:pic>
        <p:nvPicPr>
          <p:cNvPr id="147" name="Text Box 8" descr=""/>
          <p:cNvPicPr/>
          <p:nvPr/>
        </p:nvPicPr>
        <p:blipFill>
          <a:blip r:embed="rId2"/>
          <a:stretch/>
        </p:blipFill>
        <p:spPr>
          <a:xfrm>
            <a:off x="2438280" y="762120"/>
            <a:ext cx="5639040" cy="957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question_float_from_box_hg_clr"/>
          <p:cNvPicPr/>
          <p:nvPr/>
        </p:nvPicPr>
        <p:blipFill>
          <a:blip r:embed="rId3"/>
          <a:stretch/>
        </p:blipFill>
        <p:spPr>
          <a:xfrm>
            <a:off x="228600" y="3657600"/>
            <a:ext cx="21654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4T22:26:30Z</dcterms:created>
  <dc:creator>ppt课件网（www.pptkj.net）</dc:creator>
  <dc:description>ppt课件网（www.pptkj.net）</dc:description>
  <cp:keywords>ppt课件网（www.pptkj.net）</cp:keywords>
  <dc:language>en-US</dc:language>
  <cp:lastModifiedBy>Administrator</cp:lastModifiedBy>
  <dcterms:modified xsi:type="dcterms:W3CDTF">2020-01-02T02:31:39Z</dcterms:modified>
  <cp:revision>15</cp:revision>
  <dc:subject>ppt课件网（www.pptkj.net）</dc:subject>
  <dc:title>ppt课件网（www.pptkj.net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05</vt:lpwstr>
  </property>
</Properties>
</file>