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BC7-7D3D-4284-989E-9C99917D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73A-C2AD-4143-83BC-43F1A99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4C1-1109-424A-95E3-D241ABFE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DB0-7E1A-4CD6-840E-61E3602E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573-C8E9-41A4-BCAE-3D5795BB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7A44-A5A9-438F-ACA7-3DA3694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E7E-9A19-4819-86AC-DFF073E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D2A-DEDC-4528-88CB-14C010BE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6FF-F3F6-4EB4-A251-C7639B3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8D23-3024-4FFA-887D-5915B136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302C-6A6F-41AD-806D-0493E70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7CA-9B49-4D36-90AE-37143465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324-5A4A-4326-B6BC-11A2484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F5BB-1848-4B5C-923E-1A5D6EC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E34B-0863-4F00-9D17-11E529F6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A11E-D9E2-44A2-B470-12C7D29C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E36E-A3D7-44E0-84A8-1D36B0BB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775B-D566-4E45-A805-458E6E87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9E58-03F5-49CE-B0CE-8DD46F51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0BD5-A3F2-4D17-AD79-706BE3B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5726-76E3-455D-89B8-19417C4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73FE6-1929-4D2D-8CE6-71BF749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E8C-DACD-41CC-8CC2-6A21818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DE96-090D-4EEA-B309-5F61170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4875-1052-4566-BD80-45BE9C5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CA9E-30F8-4FAD-8B43-C4EEB645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BCAC5-0D48-4F25-B9D4-796C74C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9939-D5E8-4652-BBA0-31901EBD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46D0-70A3-4C22-8EF8-98041BDE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E33B-F3D1-4C18-A71E-32F39BC3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EF5-B4E3-4EDE-A074-EAE8F524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806-89F9-498C-A05B-23410AF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E0B-DF4C-45FB-BEFD-A6249CD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60C-1B6A-429D-9C02-79E47EA1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C89-F699-4DAA-8A4A-3C234EC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2F9-639C-47F5-854C-5E669C56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e11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F0D0-4385-417F-BB94-2166442372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e11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EBD-D731-46AD-9D6D-5914EE6009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e11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e11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7e11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e1126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7739-77D6-4163-AA1D-C1220B42FC1E}" type="datetime">
              <a:rPr b="0" lang="zh-CN" sz="1400" spc="-1" strike="noStrike">
                <a:solidFill>
                  <a:srgbClr val="7e1126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e112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060D-29EA-4F82-BA06-B846D7745E07}" type="slidenum">
              <a:rPr b="0" lang="zh-CN" sz="1400" spc="-1" strike="noStrike">
                <a:solidFill>
                  <a:srgbClr val="7e112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61912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e1126"/>
                </a:solidFill>
                <a:latin typeface="隶书"/>
                <a:ea typeface="隶书"/>
              </a:rPr>
              <a:t>服</a:t>
            </a:r>
            <a:r>
              <a:rPr b="0" lang="zh-CN" sz="7200" spc="-1" strike="noStrike">
                <a:solidFill>
                  <a:srgbClr val="b20b39"/>
                </a:solidFill>
                <a:latin typeface="隶书"/>
                <a:ea typeface="隶书"/>
              </a:rPr>
              <a:t>务</a:t>
            </a:r>
            <a:r>
              <a:rPr b="0" lang="zh-CN" sz="7200" spc="-1" strike="noStrike">
                <a:solidFill>
                  <a:srgbClr val="da7d94"/>
                </a:solidFill>
                <a:latin typeface="隶书"/>
                <a:ea typeface="隶书"/>
              </a:rPr>
              <a:t>营</a:t>
            </a:r>
            <a:r>
              <a:rPr b="0" lang="zh-CN" sz="7200" spc="-1" strike="noStrike">
                <a:solidFill>
                  <a:srgbClr val="b54e78"/>
                </a:solidFill>
                <a:latin typeface="隶书"/>
                <a:ea typeface="隶书"/>
              </a:rPr>
              <a:t>销</a:t>
            </a:r>
            <a:r>
              <a:rPr b="0" lang="zh-CN" sz="7200" spc="-1" strike="noStrike">
                <a:solidFill>
                  <a:srgbClr val="b20b39"/>
                </a:solidFill>
                <a:latin typeface="隶书"/>
                <a:ea typeface="隶书"/>
              </a:rPr>
              <a:t>技</a:t>
            </a:r>
            <a:r>
              <a:rPr b="0" lang="zh-CN" sz="7200" spc="-1" strike="noStrike">
                <a:solidFill>
                  <a:srgbClr val="b54e78"/>
                </a:solidFill>
                <a:latin typeface="隶书"/>
                <a:ea typeface="隶书"/>
              </a:rPr>
              <a:t>巧</a:t>
            </a:r>
            <a:endParaRPr b="0" lang="en-US" sz="7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508360" y="2997360"/>
            <a:ext cx="338436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0b39"/>
                </a:solidFill>
                <a:latin typeface="Arial"/>
                <a:ea typeface="宋体"/>
              </a:rPr>
              <a:t> </a:t>
            </a:r>
            <a:r>
              <a:rPr b="0" lang="zh-CN" sz="6000" spc="-1" strike="noStrike">
                <a:solidFill>
                  <a:srgbClr val="b54e78"/>
                </a:solidFill>
                <a:latin typeface="Arial"/>
                <a:ea typeface="宋体"/>
              </a:rPr>
              <a:t>F</a:t>
            </a:r>
            <a:r>
              <a:rPr b="0" lang="zh-CN" sz="6000" spc="-1" strike="noStrike">
                <a:solidFill>
                  <a:srgbClr val="7e1126"/>
                </a:solidFill>
                <a:latin typeface="Arial"/>
                <a:ea typeface="宋体"/>
              </a:rPr>
              <a:t>A</a:t>
            </a:r>
            <a:r>
              <a:rPr b="0" lang="zh-CN" sz="6000" spc="-1" strike="noStrike">
                <a:solidFill>
                  <a:srgbClr val="da7d94"/>
                </a:solidFill>
                <a:latin typeface="Arial"/>
                <a:ea typeface="宋体"/>
              </a:rPr>
              <a:t>I</a:t>
            </a:r>
            <a:r>
              <a:rPr b="0" lang="zh-CN" sz="6000" spc="-1" strike="noStrike">
                <a:solidFill>
                  <a:srgbClr val="b20b39"/>
                </a:solidFill>
                <a:latin typeface="Arial"/>
                <a:ea typeface="宋体"/>
              </a:rPr>
              <a:t>T</a:t>
            </a:r>
            <a:r>
              <a:rPr b="0" lang="zh-CN" sz="6000" spc="-1" strike="noStrike">
                <a:solidFill>
                  <a:srgbClr val="da7d94"/>
                </a:solidFill>
                <a:latin typeface="Arial"/>
                <a:ea typeface="宋体"/>
              </a:rPr>
              <a:t>H</a:t>
            </a:r>
            <a:r>
              <a:rPr b="0" lang="zh-CN" sz="3200" spc="-1" strike="noStrike">
                <a:solidFill>
                  <a:srgbClr val="b54e78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b54e78"/>
                </a:solidFill>
                <a:latin typeface="Arial"/>
                <a:ea typeface="宋体"/>
              </a:rPr>
              <a:t>COSMETIC</a:t>
            </a:r>
            <a:endParaRPr b="0" lang="en-US" sz="20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11280" y="4365720"/>
            <a:ext cx="338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0b39"/>
                </a:solidFill>
                <a:latin typeface="Arial"/>
                <a:ea typeface="宋体"/>
              </a:rPr>
              <a:t> </a:t>
            </a:r>
            <a:r>
              <a:rPr b="0" lang="en-US" sz="6000" spc="-1" strike="noStrike">
                <a:solidFill>
                  <a:srgbClr val="b54e78"/>
                </a:solidFill>
                <a:latin typeface="Arial"/>
                <a:ea typeface="宋体"/>
              </a:rPr>
              <a:t>F</a:t>
            </a:r>
            <a:r>
              <a:rPr b="0" lang="en-US" sz="6000" spc="-1" strike="noStrike">
                <a:solidFill>
                  <a:srgbClr val="7e1126"/>
                </a:solidFill>
                <a:latin typeface="Arial"/>
                <a:ea typeface="宋体"/>
              </a:rPr>
              <a:t>A</a:t>
            </a:r>
            <a:r>
              <a:rPr b="0" lang="en-US" sz="6000" spc="-1" strike="noStrike">
                <a:solidFill>
                  <a:srgbClr val="da7d94"/>
                </a:solidFill>
                <a:latin typeface="Arial"/>
                <a:ea typeface="宋体"/>
              </a:rPr>
              <a:t>I</a:t>
            </a:r>
            <a:r>
              <a:rPr b="0" lang="en-US" sz="6000" spc="-1" strike="noStrike">
                <a:solidFill>
                  <a:srgbClr val="b20b39"/>
                </a:solidFill>
                <a:latin typeface="Arial"/>
                <a:ea typeface="宋体"/>
              </a:rPr>
              <a:t>T</a:t>
            </a:r>
            <a:r>
              <a:rPr b="0" lang="en-US" sz="6000" spc="-1" strike="noStrike">
                <a:solidFill>
                  <a:srgbClr val="da7d94"/>
                </a:solidFill>
                <a:latin typeface="Arial"/>
                <a:ea typeface="宋体"/>
              </a:rPr>
              <a:t>H</a:t>
            </a:r>
            <a:r>
              <a:rPr b="0" lang="en-US" sz="3200" spc="-1" strike="noStrike">
                <a:solidFill>
                  <a:srgbClr val="b54e78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b54e78"/>
                </a:solidFill>
                <a:latin typeface="Arial"/>
                <a:ea typeface="宋体"/>
              </a:rPr>
              <a:t>COSMETIC</a:t>
            </a:r>
            <a:endParaRPr b="0" lang="en-US" sz="2000" spc="-1" strike="noStrike">
              <a:solidFill>
                <a:srgbClr val="7e1126"/>
              </a:solidFill>
              <a:latin typeface="Arial"/>
            </a:endParaRPr>
          </a:p>
        </p:txBody>
      </p:sp>
      <p:pic>
        <p:nvPicPr>
          <p:cNvPr id="126" name="图片 7" descr="webwxgetmsgimgFB1K2B4N"/>
          <p:cNvPicPr/>
          <p:nvPr/>
        </p:nvPicPr>
        <p:blipFill>
          <a:blip r:embed="rId1"/>
          <a:stretch/>
        </p:blipFill>
        <p:spPr>
          <a:xfrm>
            <a:off x="5237280" y="3992400"/>
            <a:ext cx="3359160" cy="27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优质服务对企业的影响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3276720" y="141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顾客满意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5580000" y="234936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传播产品优点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5605560" y="309564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e1126"/>
                </a:solidFill>
                <a:latin typeface="隶书"/>
                <a:ea typeface="隶书"/>
              </a:rPr>
              <a:t>产生新客源</a:t>
            </a:r>
            <a:endParaRPr b="0" lang="en-US" sz="20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5580000" y="386064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提高认知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5580000" y="465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成为名牌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971640" y="227664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经常购买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971640" y="306864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成为忠诚顾客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971640" y="386064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销售提升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971640" y="465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效益增加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6" name="Rectangle 42"/>
          <p:cNvSpPr/>
          <p:nvPr/>
        </p:nvSpPr>
        <p:spPr>
          <a:xfrm>
            <a:off x="3276720" y="558972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企业进入良性循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7" name="Line 43"/>
          <p:cNvSpPr/>
          <p:nvPr/>
        </p:nvSpPr>
        <p:spPr>
          <a:xfrm flipH="1">
            <a:off x="2123640" y="1844640"/>
            <a:ext cx="1800360" cy="43200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8" name="Line 45"/>
          <p:cNvSpPr/>
          <p:nvPr/>
        </p:nvSpPr>
        <p:spPr>
          <a:xfrm>
            <a:off x="5003640" y="1844640"/>
            <a:ext cx="1800360" cy="504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89" name="Line 46"/>
          <p:cNvSpPr/>
          <p:nvPr/>
        </p:nvSpPr>
        <p:spPr>
          <a:xfrm>
            <a:off x="2124000" y="2708280"/>
            <a:ext cx="0" cy="289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0" name="Line 47"/>
          <p:cNvSpPr/>
          <p:nvPr/>
        </p:nvSpPr>
        <p:spPr>
          <a:xfrm>
            <a:off x="2124000" y="3500280"/>
            <a:ext cx="0" cy="289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1" name="Line 48"/>
          <p:cNvSpPr/>
          <p:nvPr/>
        </p:nvSpPr>
        <p:spPr>
          <a:xfrm>
            <a:off x="2124000" y="4292640"/>
            <a:ext cx="0" cy="288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6804000" y="2781360"/>
            <a:ext cx="0" cy="288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4" name="Line 51"/>
          <p:cNvSpPr/>
          <p:nvPr/>
        </p:nvSpPr>
        <p:spPr>
          <a:xfrm>
            <a:off x="6804000" y="4292640"/>
            <a:ext cx="0" cy="288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5" name="Line 54"/>
          <p:cNvSpPr/>
          <p:nvPr/>
        </p:nvSpPr>
        <p:spPr>
          <a:xfrm>
            <a:off x="2124000" y="5084640"/>
            <a:ext cx="1800360" cy="505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6" name="Line 56"/>
          <p:cNvSpPr/>
          <p:nvPr/>
        </p:nvSpPr>
        <p:spPr>
          <a:xfrm flipH="1">
            <a:off x="4932000" y="5084640"/>
            <a:ext cx="1871640" cy="505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劣质服务对企业的影响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276720" y="141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顾客不满意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580000" y="234936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传播怨言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580000" y="386064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信誉下降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5580000" y="465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品牌受挫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971640" y="227664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不再购买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276720" y="314172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潜在的客源流失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971640" y="3860640"/>
            <a:ext cx="2374920" cy="432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销售减少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971640" y="465300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效益降低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276720" y="5589720"/>
            <a:ext cx="2374920" cy="431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企业陷入恶性循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2123640" y="1844640"/>
            <a:ext cx="1800360" cy="43200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003640" y="1844640"/>
            <a:ext cx="1800360" cy="504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124000" y="4292640"/>
            <a:ext cx="0" cy="288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6804000" y="4292640"/>
            <a:ext cx="0" cy="288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2124000" y="5084640"/>
            <a:ext cx="1800360" cy="505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 flipH="1">
            <a:off x="4932000" y="5084640"/>
            <a:ext cx="1871640" cy="505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2124000" y="2708280"/>
            <a:ext cx="1800360" cy="43344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H="1">
            <a:off x="4932000" y="2781360"/>
            <a:ext cx="1871640" cy="36036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2123640" y="3573360"/>
            <a:ext cx="1871640" cy="2872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859280" y="3573360"/>
            <a:ext cx="1944720" cy="2872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企业好的服务信誉和口碑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提高客户的信任度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增加业务的信誉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带来更多的客源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收到便宜而有效的广告宣传效果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服务的四个层次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971640" y="4941720"/>
            <a:ext cx="151272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484360" y="4365720"/>
            <a:ext cx="0" cy="57600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484360" y="4365720"/>
            <a:ext cx="158292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4067280" y="3789360"/>
            <a:ext cx="0" cy="57636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4067280" y="3789360"/>
            <a:ext cx="165708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5724360" y="3213000"/>
            <a:ext cx="0" cy="57636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5724360" y="3213000"/>
            <a:ext cx="172728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 flipV="1">
            <a:off x="7451640" y="2492280"/>
            <a:ext cx="0" cy="720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4067280" y="4365720"/>
            <a:ext cx="14436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428472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>
            <a:off x="464328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500364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>
            <a:off x="536400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3" name="Line 20"/>
          <p:cNvSpPr/>
          <p:nvPr/>
        </p:nvSpPr>
        <p:spPr>
          <a:xfrm>
            <a:off x="572436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608472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6443640" y="4365720"/>
            <a:ext cx="21600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1288440" y="447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基本服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112800" y="260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难忘服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4385880" y="3251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超值服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2801520" y="382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满意服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4878360" y="3827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服务水准线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3695760" y="450072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服务的水准线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应该是满意的服务，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因为优质的服务不但要满足客户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物质上的需求，还要满足客户精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神上的需求。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忠诚的客户群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不断重复购买企业的系列产品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对竞争对手的促销手段具有免疫性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同时是品牌的义务推广者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主动传播并宣传企业品牌的满意服务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主动向其他人推荐产品，并帮助销售员开展业务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所以，忠诚的客户群是企业的宝贵资源、胜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利之本，企业一定要通过优质的服务积极培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养并保持自己的忠诚客户群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正确的服务理念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双</a:t>
            </a:r>
            <a:r>
              <a:rPr b="0" lang="zh-CN" sz="3600" spc="-1" strike="noStrike">
                <a:solidFill>
                  <a:srgbClr val="da7d94"/>
                </a:solidFill>
                <a:latin typeface="Comic Sans MS"/>
                <a:ea typeface="隶书"/>
              </a:rPr>
              <a:t>S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专家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Comic Sans MS"/>
                <a:ea typeface="隶书"/>
              </a:rPr>
              <a:t>Sales </a:t>
            </a: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销售专家：通过销售提供服务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Comic Sans MS"/>
                <a:ea typeface="隶书"/>
              </a:rPr>
              <a:t>Service </a:t>
            </a: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服务专家：通过服务促进销售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服务现在，行销未来</a:t>
            </a: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”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世界上最成功的公司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世界上最成功的公司，都是那些提供最优质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服务的公司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日本公司成功的秘诀：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讲究服务的精神，提高服务效率；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隶书"/>
              </a:rPr>
              <a:t>IBM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的信条：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尊重客户，以人为本，无论何时何地都要为客户提供最优质的服务；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乔</a:t>
            </a:r>
            <a:r>
              <a:rPr b="0" lang="zh-CN" sz="3200" spc="-1" strike="noStrike">
                <a:solidFill>
                  <a:srgbClr val="7e1126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吉拉德神奇理念：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服务、服务、再服务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十大准则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客户就是收入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态度左右服务的表现程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客户只有一个目的</a:t>
            </a:r>
            <a:r>
              <a:rPr b="0" lang="zh-CN" sz="2400" spc="-1" strike="noStrike">
                <a:solidFill>
                  <a:srgbClr val="7e1126"/>
                </a:solidFill>
                <a:latin typeface="Arial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需要帮助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老客户的价值是其销售额的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20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倍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持续和你做生意的客户是你的最大优势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只有满意度还不够，还要努力建立忠诚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亲切、友善、助人与成功成正比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口碑的威力比媒体广告强大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50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倍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服务是一种感觉，从客户说</a:t>
            </a:r>
            <a:r>
              <a:rPr b="0" lang="zh-CN" sz="24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lang="zh-CN" sz="2400" spc="-1" strike="noStrike">
                <a:solidFill>
                  <a:srgbClr val="7e1126"/>
                </a:solidFill>
                <a:latin typeface="Comic Sans MS"/>
                <a:ea typeface="隶书"/>
              </a:rPr>
              <a:t>YES</a:t>
            </a:r>
            <a:r>
              <a:rPr b="0" lang="zh-CN" sz="2400" spc="-1" strike="noStrike">
                <a:solidFill>
                  <a:srgbClr val="7e1126"/>
                </a:solidFill>
                <a:latin typeface="Arial"/>
                <a:ea typeface="隶书"/>
              </a:rPr>
              <a:t>”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开始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客户的认识就是衡量成功的标准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购买流程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11280" y="1844640"/>
            <a:ext cx="2016000" cy="504720"/>
          </a:xfrm>
          <a:prstGeom prst="rightArrowCallout">
            <a:avLst>
              <a:gd name="adj1" fmla="val 25002"/>
              <a:gd name="adj2" fmla="val 25000"/>
              <a:gd name="adj3" fmla="val 66553"/>
              <a:gd name="adj4" fmla="val 66667"/>
            </a:avLst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受到刺激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2700360" y="1844640"/>
            <a:ext cx="2016000" cy="504720"/>
          </a:xfrm>
          <a:prstGeom prst="rightArrowCallout">
            <a:avLst>
              <a:gd name="adj1" fmla="val 25002"/>
              <a:gd name="adj2" fmla="val 25000"/>
              <a:gd name="adj3" fmla="val 66553"/>
              <a:gd name="adj4" fmla="val 66667"/>
            </a:avLst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产生欲望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4788000" y="1844640"/>
            <a:ext cx="2016000" cy="504720"/>
          </a:xfrm>
          <a:prstGeom prst="rightArrowCallout">
            <a:avLst>
              <a:gd name="adj1" fmla="val 25002"/>
              <a:gd name="adj2" fmla="val 25000"/>
              <a:gd name="adj3" fmla="val 66553"/>
              <a:gd name="adj4" fmla="val 66667"/>
            </a:avLst>
          </a:prstGeom>
          <a:solidFill>
            <a:srgbClr val="7e1126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感受需求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48360" y="1844640"/>
            <a:ext cx="1511280" cy="720720"/>
          </a:xfrm>
          <a:prstGeom prst="downArrowCallout">
            <a:avLst>
              <a:gd name="adj1" fmla="val 52427"/>
              <a:gd name="adj2" fmla="val 52423"/>
              <a:gd name="adj3" fmla="val 16662"/>
              <a:gd name="adj4" fmla="val 66667"/>
            </a:avLst>
          </a:prstGeom>
          <a:solidFill>
            <a:srgbClr val="7e1126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信息搜索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6588000" y="2924280"/>
            <a:ext cx="1871640" cy="504720"/>
          </a:xfrm>
          <a:prstGeom prst="leftArrowCallout">
            <a:avLst>
              <a:gd name="adj1" fmla="val 25002"/>
              <a:gd name="adj2" fmla="val 25000"/>
              <a:gd name="adj3" fmla="val 61787"/>
              <a:gd name="adj4" fmla="val 66673"/>
            </a:avLst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评估选择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4572000" y="2924280"/>
            <a:ext cx="1943280" cy="504720"/>
          </a:xfrm>
          <a:prstGeom prst="leftArrowCallout">
            <a:avLst>
              <a:gd name="adj1" fmla="val 25002"/>
              <a:gd name="adj2" fmla="val 25000"/>
              <a:gd name="adj3" fmla="val 64152"/>
              <a:gd name="adj4" fmla="val 66673"/>
            </a:avLst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做出决定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2916360" y="2924280"/>
            <a:ext cx="1511280" cy="50328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结果平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852920" y="3860640"/>
            <a:ext cx="444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首先是受到了一定的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刺激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产生了一定的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欲望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然后会感受到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需求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再去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搜索信息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并在搜索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信息的过程中不断地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筛选、评估和选择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最后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做出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决定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，实现</a:t>
            </a: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结果平衡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评估选择过程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116000" y="1484280"/>
            <a:ext cx="2519280" cy="1440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核心价值观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种族群体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社会阶层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116000" y="2997360"/>
            <a:ext cx="2519280" cy="1439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社会参照群体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家庭和生活方式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年龄、收入和性格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116000" y="4508640"/>
            <a:ext cx="2519280" cy="1439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目标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偏好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梦想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716360" y="2997360"/>
            <a:ext cx="863640" cy="1439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信念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态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印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732720" y="2997360"/>
            <a:ext cx="863640" cy="143964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评估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选择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3635280" y="2276640"/>
            <a:ext cx="1008000" cy="1296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3635280" y="3645000"/>
            <a:ext cx="100800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 flipV="1">
            <a:off x="3635280" y="3715920"/>
            <a:ext cx="1008000" cy="151308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5580000" y="3645000"/>
            <a:ext cx="107964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e1126"/>
                </a:solidFill>
                <a:latin typeface="隶书"/>
                <a:ea typeface="隶书"/>
              </a:rPr>
              <a:t>什么是服务？</a:t>
            </a:r>
            <a:endParaRPr b="0" lang="en-US" sz="5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  </a:t>
            </a:r>
            <a:r>
              <a:rPr b="0" lang="zh-CN" sz="4400" spc="-1" strike="noStrike">
                <a:solidFill>
                  <a:srgbClr val="7e1126"/>
                </a:solidFill>
                <a:latin typeface="Arial"/>
                <a:ea typeface="隶书"/>
              </a:rPr>
              <a:t>服务就是达到或超越客户的期待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客户的期待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da7d94"/>
                </a:solidFill>
                <a:latin typeface="Arial"/>
                <a:ea typeface="隶书"/>
              </a:rPr>
              <a:t>客户怎样看待这件事，满意还是不满意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达到客户的期待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da7d94"/>
                </a:solidFill>
                <a:latin typeface="Arial"/>
                <a:ea typeface="隶书"/>
              </a:rPr>
              <a:t>要达到客户满意的标准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超越客户的期待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da7d94"/>
                </a:solidFill>
                <a:latin typeface="Arial"/>
                <a:ea typeface="隶书"/>
              </a:rPr>
              <a:t>仅仅达到客户满意的标准还不够，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da7d94"/>
                </a:solidFill>
                <a:latin typeface="Arial"/>
                <a:ea typeface="隶书"/>
              </a:rPr>
              <a:t>还要做到最好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8" descr="1"/>
          <p:cNvPicPr/>
          <p:nvPr/>
        </p:nvPicPr>
        <p:blipFill>
          <a:blip r:embed="rId1"/>
          <a:stretch/>
        </p:blipFill>
        <p:spPr>
          <a:xfrm>
            <a:off x="15840" y="857160"/>
            <a:ext cx="600120" cy="60984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1"/>
          <p:cNvSpPr/>
          <p:nvPr/>
        </p:nvSpPr>
        <p:spPr>
          <a:xfrm>
            <a:off x="277920" y="1906560"/>
            <a:ext cx="55036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户为什么愿意留下来，事关用户活跃度和留存率。</a:t>
            </a:r>
            <a:endParaRPr b="0" lang="en-US" sz="1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1042560"/>
            <a:ext cx="7886880" cy="706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微软雅黑"/>
                <a:ea typeface="微软雅黑"/>
              </a:rPr>
              <a:t>用户为什么愿意留下来</a:t>
            </a:r>
            <a:r>
              <a:rPr b="0" lang="zh-CN" sz="4400" spc="-1" strike="noStrike">
                <a:solidFill>
                  <a:srgbClr val="7e1126"/>
                </a:solidFill>
                <a:latin typeface="微软雅黑"/>
                <a:ea typeface="微软雅黑"/>
              </a:rPr>
              <a:t>?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2" name="文本框 2"/>
          <p:cNvSpPr/>
          <p:nvPr/>
        </p:nvSpPr>
        <p:spPr>
          <a:xfrm>
            <a:off x="5192640" y="240840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666666"/>
                </a:solidFill>
                <a:latin typeface="Arial"/>
                <a:ea typeface="黑体"/>
              </a:rPr>
              <a:t>需求由较低层次到较高层次，首先满足较低层次的迫切需要。</a:t>
            </a:r>
            <a:endParaRPr b="0" lang="en-US" sz="15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3" name="文本框 99"/>
          <p:cNvSpPr/>
          <p:nvPr/>
        </p:nvSpPr>
        <p:spPr>
          <a:xfrm>
            <a:off x="5297400" y="3095640"/>
            <a:ext cx="347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黑体"/>
              </a:rPr>
              <a:t>社交需求排在第三层，在其之上是尊重需求。尊重需求属于较高层次的需求，如成就、名声、地位等。尊重需求既包括对成就或自我价值的 个人感觉，也包括他人对自己的认可与尊重。尊重是指一个人希望有地位、有威信，受到别人的尊重、信赖和高度评价。</a:t>
            </a:r>
            <a:endParaRPr b="0" lang="en-US" sz="1400" spc="-1" strike="noStrike">
              <a:solidFill>
                <a:srgbClr val="7e1126"/>
              </a:solidFill>
              <a:latin typeface="Arial"/>
            </a:endParaRPr>
          </a:p>
        </p:txBody>
      </p:sp>
      <p:pic>
        <p:nvPicPr>
          <p:cNvPr id="274" name="图片 1" descr="msl"/>
          <p:cNvPicPr/>
          <p:nvPr/>
        </p:nvPicPr>
        <p:blipFill>
          <a:blip r:embed="rId2"/>
          <a:stretch/>
        </p:blipFill>
        <p:spPr>
          <a:xfrm>
            <a:off x="277920" y="2274840"/>
            <a:ext cx="4914720" cy="3543480"/>
          </a:xfrm>
          <a:prstGeom prst="rect">
            <a:avLst/>
          </a:prstGeom>
          <a:ln w="0">
            <a:noFill/>
          </a:ln>
        </p:spPr>
      </p:pic>
      <p:pic>
        <p:nvPicPr>
          <p:cNvPr id="275" name="文本框 4" descr=""/>
          <p:cNvPicPr/>
          <p:nvPr/>
        </p:nvPicPr>
        <p:blipFill>
          <a:blip r:embed="rId3"/>
          <a:stretch/>
        </p:blipFill>
        <p:spPr>
          <a:xfrm>
            <a:off x="5297400" y="5172120"/>
            <a:ext cx="3254400" cy="64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行为心理学表明人的行为动机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00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实现快乐（荣誉尊严）</a:t>
            </a:r>
            <a:r>
              <a:rPr b="0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催眠行销法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解决问题（远离痛苦）</a:t>
            </a:r>
            <a:r>
              <a:rPr b="0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——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危机行销法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针对不同的产品，企业应该使用不同的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广告策略。解决问题与实现快乐是我们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人类行为的两个基本动机。找到客户的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需求点，则是企业成功营销的关键按钮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需求的冰山理论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1187280" y="4221000"/>
            <a:ext cx="576108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68360" y="2924280"/>
            <a:ext cx="5398920" cy="0"/>
          </a:xfrm>
          <a:prstGeom prst="line">
            <a:avLst/>
          </a:prstGeom>
          <a:ln w="9360">
            <a:solidFill>
              <a:srgbClr val="7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1" name="Freeform 8"/>
          <p:cNvSpPr/>
          <p:nvPr/>
        </p:nvSpPr>
        <p:spPr>
          <a:xfrm>
            <a:off x="900000" y="1616040"/>
            <a:ext cx="3600720" cy="3757680"/>
          </a:xfrm>
          <a:custGeom>
            <a:avLst/>
            <a:gdLst/>
            <a:ahLst/>
            <a:rect l="l" t="t" r="r" b="b"/>
            <a:pathLst>
              <a:path w="2268" h="2367">
                <a:moveTo>
                  <a:pt x="0" y="2321"/>
                </a:moveTo>
                <a:cubicBezTo>
                  <a:pt x="151" y="1160"/>
                  <a:pt x="302" y="0"/>
                  <a:pt x="680" y="8"/>
                </a:cubicBezTo>
                <a:cubicBezTo>
                  <a:pt x="1058" y="16"/>
                  <a:pt x="2003" y="1974"/>
                  <a:pt x="2268" y="2367"/>
                </a:cubicBezTo>
              </a:path>
            </a:pathLst>
          </a:custGeom>
          <a:noFill/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022480" y="4508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深藏的利益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情感、感受、信任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759200" y="32130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隐藏的利益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关系、维护、交往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040280" y="19890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显性的利益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产品、价格、质量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2012400" y="555624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真正影响客户购买的决定因素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情感、感受和信任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的性格分析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68360" y="1125360"/>
          <a:ext cx="8229600" cy="5572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7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活泼型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判断依据：外向重人际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动物：孔雀、猴子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颜色：红色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特征：热情，健谈，喜交朋友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缺点：缺少逻辑思维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力量型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判断依据：外向重事物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动物：猴子、老虎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颜色：黄色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特征：热情，健谈，喜交朋友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缺点：缺少逻辑思维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</a:tr>
              <a:tr h="284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平和型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判断依据：内向重人际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动物：无尾熊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颜色：绿色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特征：好好先生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缺点：心口不一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分析型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判断依据：内向重事物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动物：啄木鸟、猫头鹰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代表颜色：蓝色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特征：善于思考，追求完美主意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缺点：像书呆子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对不同性格类型客户的策略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1187280" y="3933720"/>
            <a:ext cx="662472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4500720" y="2060640"/>
            <a:ext cx="0" cy="374472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4387680" y="1523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表现力、控制力强（外向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2441160" y="2459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活泼型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（赞美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227600" y="3395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重人际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441160" y="4475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平和型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（解说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609520" y="2459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力量型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（服务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6772680" y="3395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重事物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681160" y="44751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分析型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隶书"/>
                <a:ea typeface="隶书"/>
              </a:rPr>
              <a:t>（征询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387680" y="5843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亲和力、逻辑力强（内向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目标客户分析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Comic Sans MS"/>
                <a:ea typeface="宋体"/>
              </a:rPr>
              <a:t>5W1H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Who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是谁买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Why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为何买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What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买什么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When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何时买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Where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何处买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How Many 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有多少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4572000" y="1557360"/>
            <a:ext cx="38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Arial"/>
                <a:ea typeface="隶书"/>
              </a:rPr>
              <a:t>“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二八定律</a:t>
            </a:r>
            <a:r>
              <a:rPr b="0" lang="zh-CN" sz="3200" spc="-1" strike="noStrike">
                <a:solidFill>
                  <a:srgbClr val="da7d94"/>
                </a:solidFill>
                <a:latin typeface="Arial"/>
                <a:ea typeface="隶书"/>
              </a:rPr>
              <a:t>”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重点的少部分</a:t>
            </a:r>
            <a:r>
              <a:rPr b="0" lang="en-US" sz="3200" spc="-1" strike="noStrike">
                <a:solidFill>
                  <a:srgbClr val="7e1126"/>
                </a:solidFill>
                <a:latin typeface="隶书"/>
                <a:ea typeface="隶书"/>
              </a:rPr>
              <a:t>20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％，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一般的大部分</a:t>
            </a:r>
            <a:r>
              <a:rPr b="0" lang="en-US" sz="3200" spc="-1" strike="noStrike">
                <a:solidFill>
                  <a:srgbClr val="7e1126"/>
                </a:solidFill>
                <a:latin typeface="隶书"/>
                <a:ea typeface="隶书"/>
              </a:rPr>
              <a:t>80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％，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1126"/>
                </a:solidFill>
                <a:latin typeface="隶书"/>
                <a:ea typeface="隶书"/>
              </a:rPr>
              <a:t>20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％往往会影响</a:t>
            </a:r>
            <a:r>
              <a:rPr b="0" lang="en-US" sz="3200" spc="-1" strike="noStrike">
                <a:solidFill>
                  <a:srgbClr val="7e1126"/>
                </a:solidFill>
                <a:latin typeface="隶书"/>
                <a:ea typeface="隶书"/>
              </a:rPr>
              <a:t>80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％的结果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满意度测量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e1126"/>
                </a:solidFill>
                <a:latin typeface="隶书"/>
                <a:ea typeface="隶书"/>
              </a:rPr>
              <a:t>现场采访</a:t>
            </a:r>
            <a:endParaRPr b="0" lang="en-US" sz="4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e1126"/>
                </a:solidFill>
                <a:latin typeface="隶书"/>
                <a:ea typeface="隶书"/>
              </a:rPr>
              <a:t>电话采访</a:t>
            </a:r>
            <a:endParaRPr b="0" lang="en-US" sz="4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e1126"/>
                </a:solidFill>
                <a:latin typeface="隶书"/>
                <a:ea typeface="隶书"/>
              </a:rPr>
              <a:t>调查问卷</a:t>
            </a:r>
            <a:endParaRPr b="0" lang="en-US" sz="4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Comic Sans MS"/>
                <a:ea typeface="隶书"/>
              </a:rPr>
              <a:t>CRM </a:t>
            </a: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管 理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Comic Sans MS"/>
                <a:ea typeface="宋体"/>
              </a:rPr>
              <a:t>CRM(Customer Relationship Management)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客户关系管理：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Comic Sans MS"/>
                <a:ea typeface="隶书"/>
              </a:rPr>
              <a:t>CRM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是一套企业信息化管理的软件系统，也就是如何去管理客户信息资料的软件系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Comic Sans MS"/>
                <a:ea typeface="隶书"/>
              </a:rPr>
              <a:t>CRM</a:t>
            </a: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是一种先进的管理模式，是一切以客户为中心，一切以客户为向导，紧紧围绕客户这一核心目标的先进的管理模式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Comic Sans MS"/>
                <a:ea typeface="隶书"/>
              </a:rPr>
              <a:t>CRM</a:t>
            </a: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的四大功能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00200"/>
          <a:ext cx="8229600" cy="476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客户的信息管理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市场营销管理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市场调研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市场分析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目标市场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市场定位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</a:tr>
              <a:tr h="25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销售管理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业务管理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团队管理</a:t>
                      </a:r>
                      <a:endParaRPr b="0" lang="en-US" sz="24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服务管理和客户关怀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服务任务管理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服务跟踪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客户关怀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服务知识库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客户反馈</a:t>
                      </a: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投诉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产品缺陷登记 等</a:t>
                      </a:r>
                      <a:endParaRPr b="0" lang="en-US" sz="1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Comic Sans MS"/>
                <a:ea typeface="隶书"/>
              </a:rPr>
              <a:t>CRM</a:t>
            </a: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的基本流程和策略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互动</a:t>
                      </a: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连续</a:t>
                      </a: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5760">
                      <a:solidFill>
                        <a:srgbClr val="7e1126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了解</a:t>
                      </a: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建立关系</a:t>
                      </a:r>
                      <a:endParaRPr b="0" lang="en-US" sz="4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576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e1126"/>
                </a:solidFill>
                <a:latin typeface="隶书"/>
                <a:ea typeface="隶书"/>
              </a:rPr>
              <a:t>什么是客户？</a:t>
            </a:r>
            <a:endParaRPr b="0" lang="en-US" sz="5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Arial"/>
                <a:ea typeface="隶书"/>
              </a:rPr>
              <a:t>  </a:t>
            </a:r>
            <a:r>
              <a:rPr b="0" lang="zh-CN" sz="4000" spc="-1" strike="noStrike">
                <a:solidFill>
                  <a:srgbClr val="7e1126"/>
                </a:solidFill>
                <a:latin typeface="Arial"/>
                <a:ea typeface="隶书"/>
              </a:rPr>
              <a:t>客户就是任何需要我们提供服务的对象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Arial"/>
                <a:ea typeface="隶书"/>
              </a:rPr>
              <a:t>外部客户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e1126"/>
                </a:solidFill>
                <a:latin typeface="Arial"/>
                <a:ea typeface="隶书"/>
              </a:rPr>
              <a:t>    </a:t>
            </a:r>
            <a:endParaRPr b="0" lang="en-US" sz="20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Arial"/>
                <a:ea typeface="隶书"/>
              </a:rPr>
              <a:t>内部客户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e1126"/>
                </a:solidFill>
                <a:latin typeface="Arial"/>
                <a:ea typeface="隶书"/>
              </a:rPr>
              <a:t>    </a:t>
            </a:r>
            <a:r>
              <a:rPr b="0" lang="zh-CN" sz="2400" spc="-1" strike="noStrike">
                <a:solidFill>
                  <a:srgbClr val="da7d94"/>
                </a:solidFill>
                <a:latin typeface="Arial"/>
                <a:ea typeface="隶书"/>
              </a:rPr>
              <a:t>指工作流程的下一道工序的用户，包括同事、上司、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7d94"/>
                </a:solidFill>
                <a:latin typeface="Arial"/>
                <a:ea typeface="隶书"/>
              </a:rPr>
              <a:t>   </a:t>
            </a:r>
            <a:r>
              <a:rPr b="0" lang="zh-CN" sz="2400" spc="-1" strike="noStrike">
                <a:solidFill>
                  <a:srgbClr val="da7d94"/>
                </a:solidFill>
                <a:latin typeface="Arial"/>
                <a:ea typeface="隶书"/>
              </a:rPr>
              <a:t>下属以及团队成员等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关系管理流程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收集客户的背景心理资料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分类、分级及建立模式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规划和设计服务营销活动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标准营销行为的测试、执行和整合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绩效的分析与评估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卓越服务的原则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了解客户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与客户沟通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树立好形象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尽量满足客户的要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培养忠诚客户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精益求精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的时机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服务贯穿售前、售中和售后整个过程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售前服务：包括充分了解客户的需求，与客户加强接触，建立信任关系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售中服务：则是指为客户制定合适的方案，帮助客户解决实际问题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售后服务：发生在与客户成交之后，内容室与产品有关的后续服务，售后服务不仅仅包括维修、配件、保养等基本服务，还包括超出附加值的服务，即超值服务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的步骤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建立客户服务档案，分类整理并熟悉档案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调查客户对服务的种种需求并座分析和准备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拟定客户服务计划和行动方案，进行服务拜访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对服务满意度进行追踪反馈，找出疏漏之处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持续改进与完善，直到客户完全满意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8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的方法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亲自拜访：亲情关怀、无微不至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书信问候：信函、贺卡、资料等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通讯问候：电话、传真、邮件、短信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礼仪专送：鲜花、蛋糕、书籍、赠券等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附加值服务：联谊会、抽奖活动、免费家政（保姆、插花、园艺）、旅游、剪报、菜谱等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四种类型的服务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服务的两种特性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程序特性：提供产品和服务的方法和程序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个人特性：与客户打交道时采用的态度、行为与语言技巧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优质型服务：办事效率高，态度友好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友好型服务：态度很友好，但是解决问题的速度缓慢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生产型服务：解决问题很迅速，但是不够礼貌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7d94"/>
                </a:solidFill>
                <a:latin typeface="隶书"/>
                <a:ea typeface="隶书"/>
              </a:rPr>
              <a:t>冷淡型服务：态度不好，问题也解决不了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建立忠诚客户群的步骤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将可能购买者转换为有效潜在购买者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将有效的潜在购买者转换为初次购买者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将初次购买者转换为重复购买者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诱导重复购买者成为忠诚的主顾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转换忠诚顾客成为品牌提倡者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预防顾客怠惰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发展以忠诚为导向的企业文化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的流程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900000" y="1773360"/>
            <a:ext cx="2808360" cy="50328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对客户显示积极态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332000" y="2708280"/>
            <a:ext cx="2808360" cy="50328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辨识客户的需求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835280" y="3645000"/>
            <a:ext cx="2808000" cy="50328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满足客户的需求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2411280" y="4581360"/>
            <a:ext cx="2808360" cy="50328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确保客户成为回头客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29" name="AutoShape 9"/>
          <p:cNvSpPr/>
          <p:nvPr/>
        </p:nvSpPr>
        <p:spPr>
          <a:xfrm>
            <a:off x="4500720" y="1916280"/>
            <a:ext cx="792000" cy="718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5219640" y="285264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1" name="AutoShape 11"/>
          <p:cNvSpPr/>
          <p:nvPr/>
        </p:nvSpPr>
        <p:spPr>
          <a:xfrm>
            <a:off x="5940360" y="3933720"/>
            <a:ext cx="1008000" cy="8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体态语言练习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68360" y="1989000"/>
          <a:ext cx="8229600" cy="348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4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积极的信息：</a:t>
                      </a:r>
                      <a:endParaRPr b="0" lang="en-US" sz="36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放松而节制的面部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微笑自然而舒服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交谈时眼睛对视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身体移动放松从容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消极的信息：</a:t>
                      </a:r>
                      <a:endParaRPr b="0" lang="en-US" sz="36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紧张焦急的面部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没有或勉强的笑容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交谈时避开目光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身体移动别扭匆忙</a:t>
                      </a:r>
                      <a:endParaRPr b="0" lang="en-US" sz="35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辨识客户的需求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优质服务的时间标准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领先一步了解客户的需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善于倾听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11280" y="3429000"/>
            <a:ext cx="7345440" cy="2736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优质服务的时间标准示范：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顾客来到时，在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xx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秒内向他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/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她问候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在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xx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分钟内完成初次接待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在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xx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分钟内完成后续接待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顾客的特殊要求应在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xx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时间内处理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电话应在</a:t>
            </a:r>
            <a:r>
              <a:rPr b="0" lang="en-US" sz="2400" spc="-1" strike="noStrike">
                <a:solidFill>
                  <a:srgbClr val="7e1126"/>
                </a:solidFill>
                <a:latin typeface="隶书"/>
                <a:ea typeface="隶书"/>
              </a:rPr>
              <a:t>xxx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声铃响予以接听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其他规定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中国营销观念的发展阶段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pic>
        <p:nvPicPr>
          <p:cNvPr id="132" name="Picture 31" descr="5 horiz glass bars"/>
          <p:cNvPicPr/>
          <p:nvPr/>
        </p:nvPicPr>
        <p:blipFill>
          <a:blip r:embed="rId1"/>
          <a:stretch/>
        </p:blipFill>
        <p:spPr>
          <a:xfrm>
            <a:off x="209520" y="1433520"/>
            <a:ext cx="8763120" cy="525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2" descr="5 bar horiz - 5"/>
          <p:cNvPicPr/>
          <p:nvPr/>
        </p:nvPicPr>
        <p:blipFill>
          <a:blip r:embed="rId2"/>
          <a:stretch/>
        </p:blipFill>
        <p:spPr>
          <a:xfrm>
            <a:off x="2038320" y="5653080"/>
            <a:ext cx="6870600" cy="97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3" descr="5 bar horiz - 1"/>
          <p:cNvPicPr/>
          <p:nvPr/>
        </p:nvPicPr>
        <p:blipFill>
          <a:blip r:embed="rId3"/>
          <a:stretch/>
        </p:blipFill>
        <p:spPr>
          <a:xfrm>
            <a:off x="2038320" y="1484280"/>
            <a:ext cx="6870600" cy="9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4" descr="5 bar horiz - 2"/>
          <p:cNvPicPr/>
          <p:nvPr/>
        </p:nvPicPr>
        <p:blipFill>
          <a:blip r:embed="rId4"/>
          <a:stretch/>
        </p:blipFill>
        <p:spPr>
          <a:xfrm>
            <a:off x="2038320" y="3559320"/>
            <a:ext cx="6870600" cy="100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5" descr="5 bar horiz - 3"/>
          <p:cNvPicPr/>
          <p:nvPr/>
        </p:nvPicPr>
        <p:blipFill>
          <a:blip r:embed="rId5"/>
          <a:stretch/>
        </p:blipFill>
        <p:spPr>
          <a:xfrm>
            <a:off x="2038320" y="2513160"/>
            <a:ext cx="6870600" cy="100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5 bar horiz - 4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2038320" y="4605480"/>
            <a:ext cx="6870600" cy="1001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9"/>
          <p:cNvSpPr/>
          <p:nvPr/>
        </p:nvSpPr>
        <p:spPr>
          <a:xfrm>
            <a:off x="2131920" y="2775240"/>
            <a:ext cx="670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酒香不怕巷子深”的产品观念阶段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2131920" y="4859640"/>
            <a:ext cx="670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营销观念阶段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2131920" y="3818160"/>
            <a:ext cx="670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好货还要勤吆喝”的推销挂念阶段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41" name="Rectangle 42"/>
          <p:cNvSpPr/>
          <p:nvPr/>
        </p:nvSpPr>
        <p:spPr>
          <a:xfrm>
            <a:off x="2131920" y="1727640"/>
            <a:ext cx="670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皇帝女儿不愁嫁”的生产观念阶段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2131920" y="5864400"/>
            <a:ext cx="670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7e1126"/>
                </a:solidFill>
                <a:latin typeface="Arial"/>
                <a:ea typeface="隶书"/>
              </a:rPr>
              <a:t>“</a:t>
            </a:r>
            <a:r>
              <a:rPr b="0" i="1" lang="zh-CN" sz="2800" spc="-1" strike="noStrike">
                <a:solidFill>
                  <a:srgbClr val="7e1126"/>
                </a:solidFill>
                <a:latin typeface="Arial"/>
                <a:ea typeface="隶书"/>
              </a:rPr>
              <a:t>以客户为中心，以需求为导向”的服务营销观念阶段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pic>
        <p:nvPicPr>
          <p:cNvPr id="143" name="Picture 45" descr="blue check"/>
          <p:cNvPicPr/>
          <p:nvPr/>
        </p:nvPicPr>
        <p:blipFill>
          <a:blip r:embed="rId7"/>
          <a:stretch/>
        </p:blipFill>
        <p:spPr>
          <a:xfrm>
            <a:off x="476280" y="2327400"/>
            <a:ext cx="146700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6" descr="purple check"/>
          <p:cNvPicPr/>
          <p:nvPr/>
        </p:nvPicPr>
        <p:blipFill>
          <a:blip r:embed="rId8"/>
          <a:stretch/>
        </p:blipFill>
        <p:spPr>
          <a:xfrm>
            <a:off x="476280" y="4417920"/>
            <a:ext cx="1467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yellow check"/>
          <p:cNvPicPr/>
          <p:nvPr/>
        </p:nvPicPr>
        <p:blipFill>
          <a:blip r:embed="rId9"/>
          <a:stretch/>
        </p:blipFill>
        <p:spPr>
          <a:xfrm>
            <a:off x="468360" y="5334120"/>
            <a:ext cx="1466640" cy="152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green check"/>
          <p:cNvPicPr/>
          <p:nvPr/>
        </p:nvPicPr>
        <p:blipFill>
          <a:blip r:embed="rId10"/>
          <a:stretch/>
        </p:blipFill>
        <p:spPr>
          <a:xfrm>
            <a:off x="476280" y="1281240"/>
            <a:ext cx="146700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orange check"/>
          <p:cNvPicPr/>
          <p:nvPr/>
        </p:nvPicPr>
        <p:blipFill>
          <a:blip r:embed="rId11"/>
          <a:stretch/>
        </p:blipFill>
        <p:spPr>
          <a:xfrm>
            <a:off x="476280" y="3371760"/>
            <a:ext cx="1467000" cy="152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向客户提供服务的流程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79280" y="1844640"/>
            <a:ext cx="266400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接受客户的信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3203640" y="1844640"/>
            <a:ext cx="266364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向客户提供信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184560" y="2997360"/>
            <a:ext cx="266364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识别和解决问题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300720" y="2997360"/>
            <a:ext cx="266400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按照客户的要求去做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6300720" y="1844640"/>
            <a:ext cx="266400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向客户索取反馈信息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68120" y="3005280"/>
            <a:ext cx="2664000" cy="50472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向客户提供服务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2843280" y="2133720"/>
            <a:ext cx="28872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5867280" y="2133720"/>
            <a:ext cx="36036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7667640" y="2492280"/>
            <a:ext cx="0" cy="43200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7" name="Line 15"/>
          <p:cNvSpPr/>
          <p:nvPr/>
        </p:nvSpPr>
        <p:spPr>
          <a:xfrm flipH="1">
            <a:off x="5867280" y="3284640"/>
            <a:ext cx="43344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8" name="Line 16"/>
          <p:cNvSpPr/>
          <p:nvPr/>
        </p:nvSpPr>
        <p:spPr>
          <a:xfrm flipH="1">
            <a:off x="2843280" y="3284640"/>
            <a:ext cx="288720" cy="0"/>
          </a:xfrm>
          <a:prstGeom prst="line">
            <a:avLst/>
          </a:prstGeom>
          <a:ln w="9360">
            <a:solidFill>
              <a:srgbClr val="7e112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1332000" y="414972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要想为客户提供优质的服务，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最大限度地满足客户的需求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正确处理客户的抱怨投诉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化解客户的抱怨的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6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个步骤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仔细聆听抱怨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复述抱怨，确认真实情况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诚恳致歉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认可顾客的感受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解释你将采取什么行动纠正错误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a7d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感谢顾客提出值得你主意的问题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8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8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8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客户服务的基本功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看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，就是要学会观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听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，则是学会倾听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说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，是在与客户交谈的时候要学会委婉的表达，并善于运用询问方式发现客户的需求点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笑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，提倡微笑服务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动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，讲究实际行动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8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沟通的类别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人际沟通：取得彼此的信任，建立融洽的关系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工作沟通：信息要准确，传播速度要快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商务沟通：为了赢得客户，融汇了人际沟通和工作沟通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沟通的原则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第一，沟通是对话而不是说话，也就是说要双方交流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第二，沟通要先处理好情绪，再解决问题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第三，先建立人际关系，再建立生意关系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e1126"/>
                </a:solidFill>
                <a:latin typeface="隶书"/>
                <a:ea typeface="隶书"/>
              </a:rPr>
              <a:t>第四，多问，多听，准确地说，恰当地答</a:t>
            </a:r>
            <a:endParaRPr b="0" lang="en-US" sz="28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187280" y="3933720"/>
            <a:ext cx="5545440" cy="2448000"/>
          </a:xfrm>
          <a:prstGeom prst="rect">
            <a:avLst/>
          </a:prstGeom>
          <a:solidFill>
            <a:srgbClr val="da7d94"/>
          </a:solidFill>
          <a:ln w="9360">
            <a:solidFill>
              <a:srgbClr val="7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高</a:t>
            </a:r>
            <a:r>
              <a:rPr b="0" lang="en-US" sz="2400" spc="-1" strike="noStrike">
                <a:solidFill>
                  <a:srgbClr val="7e1126"/>
                </a:solidFill>
                <a:latin typeface="Comic Sans MS"/>
                <a:ea typeface="隶书"/>
              </a:rPr>
              <a:t>EQ</a:t>
            </a: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者特征：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十分了解自己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善于控制自己的情绪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了解他人的情绪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会舍身处地为他人着想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1126"/>
                </a:solidFill>
                <a:latin typeface="隶书"/>
                <a:ea typeface="隶书"/>
              </a:rPr>
              <a:t>懂得引导对方情绪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聆听的技巧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106800"/>
                <a:gridCol w="5122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聆听的五种境界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设身处地地听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专注地听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有选择地听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虚应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听而不闻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7e1126"/>
                      </a:solidFill>
                    </a:lnL>
                    <a:lnR w="576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7e1126"/>
                          </a:solidFill>
                          <a:latin typeface="隶书"/>
                          <a:ea typeface="隶书"/>
                        </a:rPr>
                        <a:t>六种不同的回应方式</a:t>
                      </a:r>
                      <a:endParaRPr b="0" lang="en-US" sz="28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评价式，当主题讨论得很深入得时候，表达自己的意见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碰撞式，帮助对方澄清想法，或者情感相似的经理等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转移式，将焦点转移到主题上来，或者相似的经历等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探测式，要求对方澄清内容，或者了解更详细的信息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重复式，复述对方的内容以确认是否理解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a7d94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da7d94"/>
                          </a:solidFill>
                          <a:latin typeface="隶书"/>
                          <a:ea typeface="隶书"/>
                        </a:rPr>
                        <a:t>平静式，通过降低感情强度和消除情绪障碍，让对方平缓下来</a:t>
                      </a:r>
                      <a:endParaRPr b="0" lang="en-US" sz="2000" spc="-1" strike="noStrike">
                        <a:solidFill>
                          <a:srgbClr val="7e11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e1126"/>
                      </a:solidFill>
                    </a:lnL>
                    <a:lnR w="13680">
                      <a:solidFill>
                        <a:srgbClr val="7e1126"/>
                      </a:solidFill>
                    </a:lnR>
                    <a:lnT w="13680">
                      <a:solidFill>
                        <a:srgbClr val="7e1126"/>
                      </a:solidFill>
                    </a:lnT>
                    <a:lnB w="13680">
                      <a:solidFill>
                        <a:srgbClr val="7e112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询问的技巧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隶书"/>
                <a:ea typeface="隶书"/>
              </a:rPr>
              <a:t>询问的方式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隶书"/>
                <a:ea typeface="隶书"/>
              </a:rPr>
              <a:t>封闭式询问，可以判断客户的价值观，想法和需求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隶书"/>
                <a:ea typeface="隶书"/>
              </a:rPr>
              <a:t>开放式询问，搜集客户的各项基本信息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Comic Sans MS"/>
                <a:ea typeface="隶书"/>
              </a:rPr>
              <a:t>SPIN</a:t>
            </a:r>
            <a:r>
              <a:rPr b="0" lang="zh-CN" sz="2600" spc="-1" strike="noStrike">
                <a:solidFill>
                  <a:srgbClr val="7e1126"/>
                </a:solidFill>
                <a:latin typeface="隶书"/>
                <a:ea typeface="隶书"/>
              </a:rPr>
              <a:t>模式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Comic Sans MS"/>
                <a:ea typeface="隶书"/>
              </a:rPr>
              <a:t>S</a:t>
            </a:r>
            <a:r>
              <a:rPr b="0" lang="zh-CN" sz="2600" spc="-1" strike="noStrike">
                <a:solidFill>
                  <a:srgbClr val="da7d94"/>
                </a:solidFill>
                <a:latin typeface="Comic Sans MS"/>
                <a:ea typeface="隶书"/>
              </a:rPr>
              <a:t>ituation Question</a:t>
            </a:r>
            <a:r>
              <a:rPr b="0" lang="zh-CN" sz="2600" spc="-1" strike="noStrike">
                <a:solidFill>
                  <a:srgbClr val="da7d94"/>
                </a:solidFill>
                <a:latin typeface="隶书"/>
                <a:ea typeface="隶书"/>
              </a:rPr>
              <a:t>，通过询问了解客户的基本资料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Comic Sans MS"/>
                <a:ea typeface="隶书"/>
              </a:rPr>
              <a:t>P</a:t>
            </a:r>
            <a:r>
              <a:rPr b="0" lang="zh-CN" sz="2600" spc="-1" strike="noStrike">
                <a:solidFill>
                  <a:srgbClr val="da7d94"/>
                </a:solidFill>
                <a:latin typeface="Comic Sans MS"/>
                <a:ea typeface="隶书"/>
              </a:rPr>
              <a:t>roblem Question</a:t>
            </a:r>
            <a:r>
              <a:rPr b="0" lang="zh-CN" sz="2600" spc="-1" strike="noStrike">
                <a:solidFill>
                  <a:srgbClr val="da7d94"/>
                </a:solidFill>
                <a:latin typeface="隶书"/>
                <a:ea typeface="隶书"/>
              </a:rPr>
              <a:t>,</a:t>
            </a:r>
            <a:r>
              <a:rPr b="0" lang="zh-CN" sz="2600" spc="-1" strike="noStrike">
                <a:solidFill>
                  <a:srgbClr val="da7d94"/>
                </a:solidFill>
                <a:latin typeface="隶书"/>
                <a:ea typeface="隶书"/>
              </a:rPr>
              <a:t>针对客户的问题进行询问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Comic Sans MS"/>
                <a:ea typeface="隶书"/>
              </a:rPr>
              <a:t>I</a:t>
            </a:r>
            <a:r>
              <a:rPr b="0" lang="zh-CN" sz="2600" spc="-1" strike="noStrike">
                <a:solidFill>
                  <a:srgbClr val="da7d94"/>
                </a:solidFill>
                <a:latin typeface="Comic Sans MS"/>
                <a:ea typeface="隶书"/>
              </a:rPr>
              <a:t>mplication Question</a:t>
            </a:r>
            <a:r>
              <a:rPr b="0" lang="zh-CN" sz="2600" spc="-1" strike="noStrike">
                <a:solidFill>
                  <a:srgbClr val="da7d94"/>
                </a:solidFill>
                <a:latin typeface="隶书"/>
                <a:ea typeface="隶书"/>
              </a:rPr>
              <a:t>，针对客户的暗示进行询问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7e1126"/>
                </a:solidFill>
                <a:latin typeface="Comic Sans MS"/>
                <a:ea typeface="隶书"/>
              </a:rPr>
              <a:t>N</a:t>
            </a:r>
            <a:r>
              <a:rPr b="0" lang="zh-CN" sz="2600" spc="-1" strike="noStrike">
                <a:solidFill>
                  <a:srgbClr val="da7d94"/>
                </a:solidFill>
                <a:latin typeface="Comic Sans MS"/>
                <a:ea typeface="隶书"/>
              </a:rPr>
              <a:t>eed-Payoff Question</a:t>
            </a:r>
            <a:r>
              <a:rPr b="0" lang="zh-CN" sz="2600" spc="-1" strike="noStrike">
                <a:solidFill>
                  <a:srgbClr val="da7d94"/>
                </a:solidFill>
                <a:latin typeface="隶书"/>
                <a:ea typeface="隶书"/>
              </a:rPr>
              <a:t>，针对客户的需求进行询问</a:t>
            </a: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6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8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5" dur="8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8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8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8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沟通公式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沟通</a:t>
            </a: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=</a:t>
            </a: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认同＋赞美＋转移＋反问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7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服务的最高境界：尊重人性，先处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理心情再处理事情，建立同理心，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化解抱怨心。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服务式最佳的销售技巧，诚信式最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好的销售秘诀，专业是唯一的成功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e1126"/>
                </a:solidFill>
                <a:latin typeface="隶书"/>
                <a:ea typeface="隶书"/>
              </a:rPr>
              <a:t>之路。</a:t>
            </a: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8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8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285560" y="2428560"/>
            <a:ext cx="64292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e1126"/>
                </a:solidFill>
                <a:latin typeface="Arial"/>
                <a:ea typeface="宋体"/>
              </a:rPr>
              <a:t>Thank You…</a:t>
            </a:r>
            <a:endParaRPr b="0" lang="en-US" sz="24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e1126"/>
                </a:solidFill>
                <a:latin typeface="隶书"/>
                <a:ea typeface="隶书"/>
              </a:rPr>
              <a:t>什么是服务营销观念？</a:t>
            </a:r>
            <a:endParaRPr b="0" lang="en-US" sz="5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是要靠客户服务、客户满意来赢得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我们的客户，培养我们的忠诚客户群。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同时还要照顾整体社会各群体的利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益，我们称之为</a:t>
            </a:r>
            <a:r>
              <a:rPr b="0" lang="zh-CN" sz="3600" spc="-1" strike="noStrike">
                <a:solidFill>
                  <a:srgbClr val="da7d94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da7d94"/>
                </a:solidFill>
                <a:latin typeface="隶书"/>
                <a:ea typeface="隶书"/>
              </a:rPr>
              <a:t>社会营销观念</a:t>
            </a:r>
            <a:r>
              <a:rPr b="0" lang="zh-CN" sz="3600" spc="-1" strike="noStrike">
                <a:solidFill>
                  <a:srgbClr val="da7d94"/>
                </a:solidFill>
                <a:latin typeface="Arial"/>
                <a:ea typeface="隶书"/>
              </a:rPr>
              <a:t>”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营销的基本要素从</a:t>
            </a:r>
            <a:r>
              <a:rPr b="0" lang="zh-CN" sz="4400" spc="-1" strike="noStrike">
                <a:solidFill>
                  <a:srgbClr val="7e1126"/>
                </a:solidFill>
                <a:latin typeface="Arial Black"/>
                <a:ea typeface="MS PGothic"/>
              </a:rPr>
              <a:t>4P</a:t>
            </a: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转变为</a:t>
            </a:r>
            <a:r>
              <a:rPr b="0" lang="zh-CN" sz="4400" spc="-1" strike="noStrike">
                <a:solidFill>
                  <a:srgbClr val="7e1126"/>
                </a:solidFill>
                <a:latin typeface="Arial Black"/>
                <a:ea typeface="隶书"/>
              </a:rPr>
              <a:t>4C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grpSp>
        <p:nvGrpSpPr>
          <p:cNvPr id="151" name="Organization Chart 49"/>
          <p:cNvGrpSpPr/>
          <p:nvPr/>
        </p:nvGrpSpPr>
        <p:grpSpPr>
          <a:xfrm>
            <a:off x="457200" y="1600200"/>
            <a:ext cx="8229240" cy="4525200"/>
            <a:chOff x="457200" y="1600200"/>
            <a:chExt cx="8229240" cy="4525200"/>
          </a:xfrm>
        </p:grpSpPr>
        <p:sp>
          <p:nvSpPr>
            <p:cNvPr id="152" name="AutoShape 48"/>
            <p:cNvSpPr/>
            <p:nvPr/>
          </p:nvSpPr>
          <p:spPr>
            <a:xfrm>
              <a:off x="457200" y="1600200"/>
              <a:ext cx="8229240" cy="45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7e1126"/>
                </a:solidFill>
                <a:latin typeface="Arial"/>
              </a:endParaRPr>
            </a:p>
          </p:txBody>
        </p:sp>
        <p:cxnSp>
          <p:nvCxnSpPr>
            <p:cNvPr id="153" name="_s1028"/>
            <p:cNvCxnSpPr>
              <a:stCxn id="154" idx="3"/>
              <a:endCxn id="155" idx="2"/>
            </p:cNvCxnSpPr>
            <p:nvPr/>
          </p:nvCxnSpPr>
          <p:spPr>
            <a:xfrm flipV="1">
              <a:off x="7717680" y="4428000"/>
              <a:ext cx="244080" cy="113184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56" name="_s1029"/>
            <p:cNvCxnSpPr>
              <a:stCxn id="157" idx="3"/>
              <a:endCxn id="158" idx="2"/>
            </p:cNvCxnSpPr>
            <p:nvPr/>
          </p:nvCxnSpPr>
          <p:spPr>
            <a:xfrm flipV="1">
              <a:off x="5781960" y="4428000"/>
              <a:ext cx="242640" cy="113184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59" name="_s1030"/>
            <p:cNvCxnSpPr>
              <a:stCxn id="160" idx="3"/>
              <a:endCxn id="161" idx="2"/>
            </p:cNvCxnSpPr>
            <p:nvPr/>
          </p:nvCxnSpPr>
          <p:spPr>
            <a:xfrm flipV="1">
              <a:off x="1908720" y="4428000"/>
              <a:ext cx="242640" cy="113184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62" name="_s1031"/>
            <p:cNvCxnSpPr>
              <a:stCxn id="163" idx="3"/>
              <a:endCxn id="164" idx="2"/>
            </p:cNvCxnSpPr>
            <p:nvPr/>
          </p:nvCxnSpPr>
          <p:spPr>
            <a:xfrm flipV="1">
              <a:off x="3844440" y="4428000"/>
              <a:ext cx="244800" cy="113184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65" name="_s1032"/>
            <p:cNvCxnSpPr>
              <a:stCxn id="155" idx="0"/>
              <a:endCxn id="166" idx="2"/>
            </p:cNvCxnSpPr>
            <p:nvPr/>
          </p:nvCxnSpPr>
          <p:spPr>
            <a:xfrm flipH="1" flipV="1">
              <a:off x="5054400" y="2730600"/>
              <a:ext cx="2907000" cy="56628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67" name="_s1033"/>
            <p:cNvCxnSpPr>
              <a:stCxn id="158" idx="0"/>
              <a:endCxn id="166" idx="2"/>
            </p:cNvCxnSpPr>
            <p:nvPr/>
          </p:nvCxnSpPr>
          <p:spPr>
            <a:xfrm flipH="1" flipV="1">
              <a:off x="5054400" y="2730600"/>
              <a:ext cx="969480" cy="56628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68" name="_s1034"/>
            <p:cNvCxnSpPr>
              <a:stCxn id="164" idx="0"/>
              <a:endCxn id="166" idx="2"/>
            </p:cNvCxnSpPr>
            <p:nvPr/>
          </p:nvCxnSpPr>
          <p:spPr>
            <a:xfrm flipV="1">
              <a:off x="4083120" y="2719080"/>
              <a:ext cx="967680" cy="56628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cxnSp>
          <p:nvCxnSpPr>
            <p:cNvPr id="169" name="_s1035"/>
            <p:cNvCxnSpPr>
              <a:stCxn id="161" idx="0"/>
              <a:endCxn id="166" idx="2"/>
            </p:cNvCxnSpPr>
            <p:nvPr/>
          </p:nvCxnSpPr>
          <p:spPr>
            <a:xfrm flipV="1">
              <a:off x="2145600" y="2730600"/>
              <a:ext cx="2905200" cy="566280"/>
            </a:xfrm>
            <a:prstGeom prst="straightConnector1">
              <a:avLst/>
            </a:prstGeom>
            <a:ln w="28440">
              <a:solidFill>
                <a:srgbClr val="7e1126"/>
              </a:solidFill>
              <a:miter/>
            </a:ln>
          </p:spPr>
        </p:cxnSp>
        <p:sp>
          <p:nvSpPr>
            <p:cNvPr id="166" name="_s1036"/>
            <p:cNvSpPr/>
            <p:nvPr/>
          </p:nvSpPr>
          <p:spPr>
            <a:xfrm>
              <a:off x="4328640" y="160020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市场营销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Marketing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61" name="_s1037"/>
            <p:cNvSpPr/>
            <p:nvPr/>
          </p:nvSpPr>
          <p:spPr>
            <a:xfrm>
              <a:off x="1424160" y="329688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产品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Product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3359880" y="329688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价格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Price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58" name="_s1039"/>
            <p:cNvSpPr/>
            <p:nvPr/>
          </p:nvSpPr>
          <p:spPr>
            <a:xfrm>
              <a:off x="5297400" y="329688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促销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Promotion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55" name="_s1040"/>
            <p:cNvSpPr/>
            <p:nvPr/>
          </p:nvSpPr>
          <p:spPr>
            <a:xfrm>
              <a:off x="7233480" y="329688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渠道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Place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63" name="_s1041"/>
            <p:cNvSpPr/>
            <p:nvPr/>
          </p:nvSpPr>
          <p:spPr>
            <a:xfrm>
              <a:off x="2392920" y="4993920"/>
              <a:ext cx="14511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购买成本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Customer 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Cost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60" name="_s1042"/>
            <p:cNvSpPr/>
            <p:nvPr/>
          </p:nvSpPr>
          <p:spPr>
            <a:xfrm>
              <a:off x="457200" y="4993920"/>
              <a:ext cx="145152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消费者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解决方案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Customer 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Solution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57" name="_s1043"/>
            <p:cNvSpPr/>
            <p:nvPr/>
          </p:nvSpPr>
          <p:spPr>
            <a:xfrm>
              <a:off x="4328640" y="4993920"/>
              <a:ext cx="145296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沟通交流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Communication</a:t>
              </a:r>
              <a:endParaRPr b="0" lang="en-US" sz="1400" spc="-1" strike="noStrike">
                <a:solidFill>
                  <a:srgbClr val="7e1126"/>
                </a:solidFill>
                <a:latin typeface="Arial"/>
              </a:endParaRPr>
            </a:p>
          </p:txBody>
        </p:sp>
        <p:sp>
          <p:nvSpPr>
            <p:cNvPr id="154" name="_s1044"/>
            <p:cNvSpPr/>
            <p:nvPr/>
          </p:nvSpPr>
          <p:spPr>
            <a:xfrm>
              <a:off x="6266160" y="4993920"/>
              <a:ext cx="1451520" cy="1131120"/>
            </a:xfrm>
            <a:prstGeom prst="roundRect">
              <a:avLst>
                <a:gd name="adj" fmla="val 16667"/>
              </a:avLst>
            </a:prstGeom>
            <a:solidFill>
              <a:srgbClr val="da7d94"/>
            </a:solidFill>
            <a:ln w="9360">
              <a:solidFill>
                <a:srgbClr val="7e11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e1126"/>
                  </a:solidFill>
                  <a:latin typeface="隶书"/>
                  <a:ea typeface="隶书"/>
                </a:rPr>
                <a:t>购买方便性</a:t>
              </a:r>
              <a:endParaRPr b="0" lang="en-US" sz="2000" spc="-1" strike="noStrike">
                <a:solidFill>
                  <a:srgbClr val="7e112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e1126"/>
                  </a:solidFill>
                  <a:latin typeface="Arial Black"/>
                  <a:ea typeface="隶书"/>
                </a:rPr>
                <a:t>Convenience</a:t>
              </a:r>
              <a:endParaRPr b="0" lang="en-US" sz="1600" spc="-1" strike="noStrike">
                <a:solidFill>
                  <a:srgbClr val="7e1126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Arial"/>
                <a:ea typeface="隶书"/>
              </a:rPr>
              <a:t>现代服务营销观念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Arial"/>
                <a:ea typeface="隶书"/>
              </a:rPr>
              <a:t>企业的重点不是讨论生产什么产品，而要研究客户有什么需求；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Arial"/>
                <a:ea typeface="隶书"/>
              </a:rPr>
              <a:t>不是讨论产品定什么价格，而是关注客户的购买成本；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Arial"/>
                <a:ea typeface="隶书"/>
              </a:rPr>
              <a:t>不是讨论开展什么促销活动，而是想如何与客户进行沟通交流；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Arial"/>
                <a:ea typeface="隶书"/>
              </a:rPr>
              <a:t>不是讨论如何建立分销渠道，而是要考虑客户购买的方便性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服务的意义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如果两家企业产品无差异、实力无差异、品牌无差异、技术无差异、人员无差异，那么客户为什么要选择你？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7d94"/>
                </a:solidFill>
                <a:latin typeface="隶书"/>
                <a:ea typeface="隶书"/>
              </a:rPr>
              <a:t>就是因为你的服务比别人更有特色，消费者信赖你。所以我们要用好的服务品质来提升竞争力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服务就是一项非常有效的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差异化</a:t>
            </a:r>
            <a:r>
              <a:rPr b="0" lang="zh-CN" sz="4400" spc="-1" strike="noStrike">
                <a:solidFill>
                  <a:srgbClr val="da7d94"/>
                </a:solidFill>
                <a:latin typeface="隶书"/>
                <a:ea typeface="隶书"/>
              </a:rPr>
              <a:t>策略</a:t>
            </a:r>
            <a:r>
              <a:rPr b="0" lang="zh-CN" sz="3600" spc="-1" strike="noStrike">
                <a:solidFill>
                  <a:srgbClr val="7e1126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e1126"/>
                </a:solidFill>
                <a:latin typeface="隶书"/>
                <a:ea typeface="隶书"/>
              </a:rPr>
              <a:t>服务战略</a:t>
            </a:r>
            <a:endParaRPr b="0" lang="en-US" sz="4400" spc="-1" strike="noStrike">
              <a:solidFill>
                <a:srgbClr val="7e11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企业所有的运营从组织架构的设计到产品的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开发，到整个运营系统的每一个环节、每一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个流程，都要紧紧围绕一个核心去进行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这个核心就是：</a:t>
            </a:r>
            <a:r>
              <a:rPr b="0" lang="zh-CN" sz="4800" spc="-1" strike="noStrike">
                <a:solidFill>
                  <a:srgbClr val="da7d94"/>
                </a:solidFill>
                <a:latin typeface="隶书"/>
                <a:ea typeface="隶书"/>
              </a:rPr>
              <a:t>客户满意，更重要的是可以留住客户</a:t>
            </a:r>
            <a:r>
              <a:rPr b="0" lang="zh-CN" sz="3200" spc="-1" strike="noStrike">
                <a:solidFill>
                  <a:srgbClr val="7e1126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7e112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7,11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31,-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7:58:25Z</dcterms:created>
  <dc:creator>Presentation Helper</dc:creator>
  <dc:description/>
  <dc:language>en-US</dc:language>
  <cp:lastModifiedBy>fhkj</cp:lastModifiedBy>
  <dcterms:modified xsi:type="dcterms:W3CDTF">2017-09-27T07:59:21Z</dcterms:modified>
  <cp:revision>186</cp:revision>
  <dc:subject/>
  <dc:title>Abstract Valent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