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7CA-4251-499E-982C-EF7AB6F9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2B1A-D6D5-402A-B424-1D216A47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AF1A-B761-4616-B84A-AC74D2CA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4CE-45D6-4EE6-9798-486B5863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BD5-2D5D-49D8-80E3-C0039EDA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E54-5F2C-4198-92C2-D68E6CC4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49C-A308-4621-B93C-2E01E9FC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7A66-35FB-4F5A-B4DF-71F1F180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385-79DF-4139-9F4E-482BC9FF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78B-C906-4071-B46F-89DA4421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C07-C82A-43C2-ABD9-E7518AA9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B02-CE32-4BDD-8062-6938D17A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9876-C251-4122-A967-29473FA52B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852640"/>
            <a:ext cx="806436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等腰三角形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(2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等腰三角形的判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56000" y="1773360"/>
            <a:ext cx="3960720" cy="71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隶书"/>
              </a:rPr>
              <a:t>WELC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1197000"/>
            <a:ext cx="828036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等腰三角形的判定：等角对等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等边三角形：有一个角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等腰三角形是等边三角形；三个内角都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三角形是等边三角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等腰直角三角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顶角是直角的等腰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836640"/>
            <a:ext cx="403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堂小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 rot="5400000">
            <a:off x="1114560" y="2061360"/>
            <a:ext cx="3816360" cy="165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705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谢谢，再见</a:t>
            </a:r>
            <a:endParaRPr b="0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1484280"/>
            <a:ext cx="770400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学会如何判断一个三角形是不是等腰三角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了解等腰直角三角形的概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4000" y="260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动手做一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05264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草稿纸上画一条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155592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一边分别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顶点，用量角器画两个相等的角，两角的另一边交于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242100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比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度的大小，你发现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2997360"/>
            <a:ext cx="107928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问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35733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能用一句话概括上面的结论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4292640"/>
            <a:ext cx="1079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结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479736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如果一个三角形中有两个角相等，那么这个三角形就是一个等腰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5697360"/>
            <a:ext cx="48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简称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等角对等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55640" y="11253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  △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，已知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=40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 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=70°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判断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什么三角形，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2565360"/>
            <a:ext cx="7021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证明：∵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=180°- ∠A- ∠B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                             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180°-40°-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∴ 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=∠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B=AC    (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∴ 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等腰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2997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三角形的内角和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1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等角对等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98900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 △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等腰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14920" y="1123920"/>
            <a:ext cx="4547880" cy="2905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5640" y="3333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图，已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分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E∥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那么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等腰三角形吗？请简要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628640"/>
            <a:ext cx="40338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证明：∵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E∥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∴ 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= ∠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= ∠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又∵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平分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∴ 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= ∠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∴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= ∠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B=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即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等腰三角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86560" y="21319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3280" y="3860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062920" y="3932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99280" y="105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5640" y="24192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8560" y="20606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78560" y="241920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5229360"/>
            <a:ext cx="777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1125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△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等腰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等边三角形的判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三个角都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 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三角形是等边三角形吗？你能用今天所学的知识来解释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有一个角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0 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三角形是等腰三角形吗？你能说明理由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2394000" y="3840120"/>
            <a:ext cx="3925800" cy="1697040"/>
            <a:chOff x="2394000" y="3840120"/>
            <a:chExt cx="3925800" cy="1697040"/>
          </a:xfrm>
        </p:grpSpPr>
        <p:sp>
          <p:nvSpPr>
            <p:cNvPr id="73" name=""/>
            <p:cNvSpPr/>
            <p:nvPr/>
          </p:nvSpPr>
          <p:spPr>
            <a:xfrm>
              <a:off x="2416320" y="5502240"/>
              <a:ext cx="3868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415960" y="3863880"/>
              <a:ext cx="1941480" cy="163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57800" y="3863880"/>
              <a:ext cx="1927080" cy="163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57800" y="3863880"/>
              <a:ext cx="1440" cy="163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34040" y="5479920"/>
              <a:ext cx="56880" cy="572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94000" y="5479920"/>
              <a:ext cx="57240" cy="572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62560" y="5479920"/>
              <a:ext cx="57240" cy="572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34040" y="3840120"/>
              <a:ext cx="56880" cy="568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84360" y="69228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顶角是直角的等腰三角形叫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等腰直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4842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腰直角三角形的三个内角度数分别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242100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习：如图， 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C=BC,∠ACB=90 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边上的中线，那么图中共有几个等腰直角三角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11640" y="342900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544500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00720" y="544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11640" y="558972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148428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0 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5 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5 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372360" y="1557360"/>
            <a:ext cx="2144520" cy="3124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8360" y="18900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图， 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， 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=36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 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=72°,B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平分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BC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么图中共有几个等腰三角形？你能依次说明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83664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答：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(1)△ABC     (2)△ABD     (3)△B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268280"/>
            <a:ext cx="6408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证明：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∵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=36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 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=72 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∴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BC=180 °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 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+ ∠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 180 °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6°+72 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=72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∴ 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BC= ∠C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B=AC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即 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等腰三角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3429000"/>
            <a:ext cx="5472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∵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平分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∴ 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BD=1/2 ∠ABC= 36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∴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=∠A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∴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D=BD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即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 等腰三角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5254560"/>
            <a:ext cx="5761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∵ 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DC= ∠A+∠ABD=36°+36°=72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∴ 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DC= ∠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∴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C=BD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即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C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等腰三角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08720" y="134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7640" y="450864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17080" y="450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28000" y="32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195640" y="4724280"/>
            <a:ext cx="4003560" cy="723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9640" y="692280"/>
            <a:ext cx="77774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随堂训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如果有个三角形的两个内角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0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50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则这是一个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角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如果一个三角形有两个内角等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那么这是一个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角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底角是顶角一半的等腰三角形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角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如果一个三角形三个外角的比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则这是一个           （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等腰三角形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等边三角形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直角三角形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等腰直角三角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如图，线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一个端点在直线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上，以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为一边画等腰三角形，并且使另一个顶点也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上，则这样的三角形有                             （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一个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.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.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D.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92720" y="4508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27640" y="5300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5373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5373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105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等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0720" y="148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等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1916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等腰直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27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342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7T12:40:12Z</dcterms:created>
  <dc:creator>微软用户</dc:creator>
  <dc:description/>
  <dc:language>en-US</dc:language>
  <cp:lastModifiedBy>user</cp:lastModifiedBy>
  <dcterms:modified xsi:type="dcterms:W3CDTF">2002-05-14T09:34:19Z</dcterms:modified>
  <cp:revision>18</cp:revision>
  <dc:subject/>
  <dc:title>幻灯片 1</dc:title>
</cp:coreProperties>
</file>