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53.gif" ContentType="image/gif"/>
  <Override PartName="/ppt/media/image43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50.wmf" ContentType="image/x-wmf"/>
  <Override PartName="/ppt/media/image52.png" ContentType="image/png"/>
  <Override PartName="/ppt/media/image13.wmf" ContentType="image/x-wmf"/>
  <Override PartName="/ppt/media/image51.wmf" ContentType="image/x-wmf"/>
  <Override PartName="/ppt/media/image44.wmf" ContentType="image/x-wmf"/>
  <Override PartName="/ppt/media/image42.wmf" ContentType="image/x-wmf"/>
  <Override PartName="/ppt/media/image5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696-72AD-470E-B449-BAF1F5DD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777-8E2C-4985-846B-DF460E67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36CA-84C3-460D-950A-4211D4B8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305-0959-4208-AFD4-4D03EAF6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4896-5AF3-42F9-8839-1406B6C0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1308-2B9F-45FB-B178-E11B333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A7C-D7E9-49A7-87C4-EC2FD38A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5062-6091-4FD6-B975-F2667A27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4E55-2571-4CE1-BD9C-4BAC3ACF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E020-6108-467B-8FC5-9ACE7A6B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A27F-6420-4B32-B746-D05371F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2623-3256-4E43-BEEE-8C8A2592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E224-0F9D-4DBB-90D2-C4012D47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9D24-8315-4198-BCA5-0F84DF1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8B1A-DD37-403D-BF09-697A1404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E91-C5B1-49E0-91BC-B8CF5434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3A2B-5ECA-4BAC-B280-93C94795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65FD-11F7-476E-9597-25761D0A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97EC-9315-4D19-946B-E8EF83C1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7FFF-DA94-40D9-BD34-0689CC8B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1260-C76C-4FD9-A44F-2773C947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3EE4D-5D32-4C8B-9952-FE51FEF0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67E-98C5-40AE-82CE-4F1D2428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96C5-404A-428D-9F6F-656B2AE8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4AC2-89D3-41F1-ADE4-2BE74D17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0011-AC99-42B2-BF3F-DD4C76DA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EBD1F-096E-46D7-B762-7C52A0EE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5CD8-A27E-4E3D-AE0A-09498837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D250-5FF6-4F0C-9401-CEC58064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3837C-EC04-41E1-BCAD-EB2BE5C1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0285-633A-4A74-B656-0C904F00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715A-AFD5-4A3F-811E-3DF3D8EB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BB413-EFD7-4EB0-9925-636B1EC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DA8-2A86-4FB9-9E4B-B790B93C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74FFC-8CBA-4A04-931F-15FE8977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DE730-9142-4E08-BB12-F63812DD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1923-3261-4637-BC33-D947C209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B9D5-22C6-4CB3-B3F7-529A0513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4F82B-D210-447A-A7DC-EC460A79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080AB-0A06-4772-8681-06451834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9EC3F-B576-4C12-8307-CEA0ACF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491B0-4EDD-4B71-BC4F-4D75388B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569D5-69D9-4CE3-9DEE-5145DC77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BD8-FB25-4ED7-A5AB-9428D2CC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12C-4801-478A-8BE0-0516447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4C4-FCC9-4434-B57B-D5B5925A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4FE-3EC2-4B6A-8361-D392270F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E316-2794-4A99-8F1F-B7035683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2D90-7006-49DA-89B9-ACE041F49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AEB-FE95-4DD0-A7B2-59F78693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3F5F-C223-4758-B584-D45D657B7E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AC74-95A5-4A4A-80F9-D926220026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623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6633"/>
                </a:solidFill>
                <a:latin typeface="Garamond"/>
              </a:rPr>
              <a:t>§9.3  </a:t>
            </a:r>
            <a:r>
              <a:rPr b="1" lang="zh-CN" sz="5600" spc="-1" strike="noStrike">
                <a:solidFill>
                  <a:srgbClr val="006633"/>
                </a:solidFill>
                <a:latin typeface="Garamond"/>
              </a:rPr>
              <a:t>等腰三角形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授课教师：申延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276720"/>
            <a:ext cx="784872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2485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29200" y="2286000"/>
            <a:ext cx="3200400" cy="396252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31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8600" y="152280"/>
            <a:ext cx="2057400" cy="990720"/>
            <a:chOff x="228600" y="152280"/>
            <a:chExt cx="2057400" cy="990720"/>
          </a:xfrm>
        </p:grpSpPr>
        <p:sp>
          <p:nvSpPr>
            <p:cNvPr id="412" name=""/>
            <p:cNvSpPr/>
            <p:nvPr/>
          </p:nvSpPr>
          <p:spPr>
            <a:xfrm>
              <a:off x="228600" y="1522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304560"/>
              <a:ext cx="1828800" cy="83844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例２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80" y="1219320"/>
            <a:ext cx="8991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如图，在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△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BC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，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是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边上的中点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，∠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B=30</a:t>
            </a:r>
            <a:r>
              <a:rPr b="1" i="1" lang="zh-CN" sz="4000" spc="-1" strike="noStrike" baseline="50000">
                <a:solidFill>
                  <a:srgbClr val="0066ff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求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∠１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和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0066ff"/>
                </a:solidFill>
                <a:latin typeface="Times New Roman"/>
              </a:rPr>
              <a:t>ADC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的度数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 txBox="1"/>
          <p:nvPr/>
        </p:nvSpPr>
        <p:spPr>
          <a:xfrm>
            <a:off x="152280" y="243828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</a:t>
            </a: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895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∵ 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边上的中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687840"/>
            <a:ext cx="30481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en-US" sz="3200" spc="-1" strike="noStrike">
                <a:solidFill>
                  <a:srgbClr val="080808"/>
                </a:solidFill>
                <a:latin typeface="Times New Roman"/>
              </a:rPr>
              <a:t>ADC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＝ </a:t>
            </a:r>
            <a:r>
              <a:rPr b="0" i="1" lang="en-US" sz="3200" spc="-1" strike="noStrike">
                <a:solidFill>
                  <a:srgbClr val="080808"/>
                </a:solidFill>
                <a:latin typeface="Times New Roman"/>
              </a:rPr>
              <a:t>9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495680"/>
            <a:ext cx="792468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∵ </a:t>
            </a:r>
            <a:r>
              <a:rPr b="0" i="1" lang="en-US" sz="32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en-US" sz="3200" spc="-1" strike="noStrike">
                <a:solidFill>
                  <a:srgbClr val="080808"/>
                </a:solidFill>
                <a:latin typeface="Times New Roman"/>
              </a:rPr>
              <a:t>BAC=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18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80808"/>
                </a:solidFill>
                <a:latin typeface="Times New Roman"/>
              </a:rPr>
              <a:t>120</a:t>
            </a:r>
            <a:r>
              <a:rPr b="1" i="1" lang="en-US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280" y="5257800"/>
          <a:ext cx="2897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257800"/>
                    <a:ext cx="2897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3581280" y="4419720"/>
            <a:ext cx="5532480" cy="2504520"/>
            <a:chOff x="3581280" y="4419720"/>
            <a:chExt cx="5532480" cy="2504520"/>
          </a:xfrm>
        </p:grpSpPr>
        <p:grpSp>
          <p:nvGrpSpPr>
            <p:cNvPr id="424" name=""/>
            <p:cNvGrpSpPr/>
            <p:nvPr/>
          </p:nvGrpSpPr>
          <p:grpSpPr>
            <a:xfrm>
              <a:off x="3581280" y="4419720"/>
              <a:ext cx="5532480" cy="2504520"/>
              <a:chOff x="3581280" y="4419720"/>
              <a:chExt cx="5532480" cy="2504520"/>
            </a:xfrm>
          </p:grpSpPr>
          <p:sp>
            <p:nvSpPr>
              <p:cNvPr id="425" name=""/>
              <p:cNvSpPr/>
              <p:nvPr/>
            </p:nvSpPr>
            <p:spPr>
              <a:xfrm>
                <a:off x="3886200" y="4813200"/>
                <a:ext cx="4876560" cy="144720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24480" y="4813200"/>
                <a:ext cx="0" cy="1447200"/>
              </a:xfrm>
              <a:prstGeom prst="line">
                <a:avLst/>
              </a:prstGeom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427" name=""/>
              <p:cNvGraphicFramePr/>
              <p:nvPr/>
            </p:nvGraphicFramePr>
            <p:xfrm>
              <a:off x="6507000" y="4419720"/>
              <a:ext cx="503280" cy="545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07000" y="4419720"/>
                        <a:ext cx="5032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9" name=""/>
              <p:cNvGraphicFramePr/>
              <p:nvPr/>
            </p:nvGraphicFramePr>
            <p:xfrm>
              <a:off x="3581280" y="6337080"/>
              <a:ext cx="503280" cy="545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81280" y="6337080"/>
                        <a:ext cx="5032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1" name=""/>
              <p:cNvGraphicFramePr/>
              <p:nvPr/>
            </p:nvGraphicFramePr>
            <p:xfrm>
              <a:off x="8610480" y="6337080"/>
              <a:ext cx="503280" cy="587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3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610480" y="6337080"/>
                        <a:ext cx="503280" cy="58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3" name=""/>
              <p:cNvGraphicFramePr/>
              <p:nvPr/>
            </p:nvGraphicFramePr>
            <p:xfrm>
              <a:off x="6075360" y="6337080"/>
              <a:ext cx="544320" cy="5457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075360" y="6337080"/>
                        <a:ext cx="54432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5" name=""/>
              <p:cNvGraphicFramePr/>
              <p:nvPr/>
            </p:nvGraphicFramePr>
            <p:xfrm>
              <a:off x="5954760" y="4965480"/>
              <a:ext cx="293400" cy="545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954760" y="4965480"/>
                        <a:ext cx="29340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7" name=""/>
              <p:cNvGraphicFramePr/>
              <p:nvPr/>
            </p:nvGraphicFramePr>
            <p:xfrm>
              <a:off x="6386400" y="4944960"/>
              <a:ext cx="377640" cy="58680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38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386400" y="4944960"/>
                        <a:ext cx="377640" cy="58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9" name=""/>
            <p:cNvSpPr/>
            <p:nvPr/>
          </p:nvSpPr>
          <p:spPr>
            <a:xfrm>
              <a:off x="5181480" y="5333760"/>
              <a:ext cx="152280" cy="151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314840" y="5333760"/>
              <a:ext cx="152280" cy="151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82440" y="3548160"/>
          <a:ext cx="2873520" cy="97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440" y="3548160"/>
                    <a:ext cx="28735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5638680" y="3625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三线合一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57200" y="380880"/>
            <a:ext cx="2057400" cy="990720"/>
            <a:chOff x="457200" y="380880"/>
            <a:chExt cx="2057400" cy="990720"/>
          </a:xfrm>
        </p:grpSpPr>
        <p:sp>
          <p:nvSpPr>
            <p:cNvPr id="445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533160"/>
              <a:ext cx="1828800" cy="83844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52280" y="1828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用刻度尺量一量下面的三角形，是等腰三角形的在括号内打“√”，不是的打“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×”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号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3612240"/>
            <a:ext cx="9220320" cy="2332440"/>
            <a:chOff x="0" y="3612240"/>
            <a:chExt cx="9220320" cy="2332440"/>
          </a:xfrm>
        </p:grpSpPr>
        <p:grpSp>
          <p:nvGrpSpPr>
            <p:cNvPr id="449" name=""/>
            <p:cNvGrpSpPr/>
            <p:nvPr/>
          </p:nvGrpSpPr>
          <p:grpSpPr>
            <a:xfrm>
              <a:off x="214560" y="3836160"/>
              <a:ext cx="1692720" cy="1144800"/>
              <a:chOff x="214560" y="3836160"/>
              <a:chExt cx="1692720" cy="114480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214560" y="4527360"/>
                <a:ext cx="1692720" cy="453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14560" y="3836160"/>
                <a:ext cx="1034280" cy="1144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48840" y="3836160"/>
                <a:ext cx="658440" cy="6912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68200" y="3840120"/>
              <a:ext cx="1728360" cy="1052280"/>
              <a:chOff x="2068200" y="3840120"/>
              <a:chExt cx="1728360" cy="1052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68200" y="4564440"/>
                <a:ext cx="1728360" cy="327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2068200" y="3840120"/>
                <a:ext cx="910080" cy="723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78280" y="3840480"/>
                <a:ext cx="818280" cy="105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114800" y="3778200"/>
              <a:ext cx="1523880" cy="1066680"/>
            </a:xfrm>
            <a:prstGeom prst="rtTriangl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6057720" y="3740040"/>
              <a:ext cx="1219320" cy="1295280"/>
            </a:xfrm>
            <a:prstGeom prst="rtTriangl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1775000">
              <a:off x="7467120" y="3777840"/>
              <a:ext cx="1371600" cy="1295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0" y="5270400"/>
              <a:ext cx="9220320" cy="674280"/>
              <a:chOff x="0" y="5270400"/>
              <a:chExt cx="9220320" cy="67428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040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76520" y="5270400"/>
                <a:ext cx="213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81280" y="53020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410080" y="53020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86600" y="530208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533520" y="51814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51814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52578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320" y="150804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等腰三角形的底角可以是直角或钝角吗？为什么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24000" y="3400560"/>
            <a:ext cx="11239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不能</a:t>
            </a:r>
            <a:endParaRPr b="1" lang="en-US" sz="4400" spc="-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8600" y="4038480"/>
            <a:ext cx="8915400" cy="2027160"/>
            <a:chOff x="228600" y="4038480"/>
            <a:chExt cx="8915400" cy="2027160"/>
          </a:xfrm>
        </p:grpSpPr>
        <p:sp>
          <p:nvSpPr>
            <p:cNvPr id="474" name=""/>
            <p:cNvSpPr/>
            <p:nvPr/>
          </p:nvSpPr>
          <p:spPr>
            <a:xfrm>
              <a:off x="228600" y="4038480"/>
              <a:ext cx="891540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因为如果底角大于或等于　　，则２倍底角大于或等于　　，这样三角形的内角和就大于　　，显然不可能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75" name=""/>
            <p:cNvGraphicFramePr/>
            <p:nvPr/>
          </p:nvGraphicFramePr>
          <p:xfrm>
            <a:off x="5410080" y="4160880"/>
            <a:ext cx="68580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0080" y="4160880"/>
                      <a:ext cx="6858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2666880" y="4770360"/>
            <a:ext cx="914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47703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838080" y="5456160"/>
            <a:ext cx="91440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080" y="54561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1" name=""/>
          <p:cNvGrpSpPr/>
          <p:nvPr/>
        </p:nvGrpSpPr>
        <p:grpSpPr>
          <a:xfrm>
            <a:off x="457200" y="380880"/>
            <a:ext cx="2057400" cy="990720"/>
            <a:chOff x="457200" y="380880"/>
            <a:chExt cx="2057400" cy="990720"/>
          </a:xfrm>
        </p:grpSpPr>
        <p:sp>
          <p:nvSpPr>
            <p:cNvPr id="482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33160"/>
              <a:ext cx="1828800" cy="83844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280" y="16002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填空题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" y="380880"/>
            <a:ext cx="2057400" cy="990720"/>
            <a:chOff x="457200" y="380880"/>
            <a:chExt cx="2057400" cy="990720"/>
          </a:xfrm>
        </p:grpSpPr>
        <p:sp>
          <p:nvSpPr>
            <p:cNvPr id="486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533160"/>
              <a:ext cx="1828800" cy="83844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6320" y="2482920"/>
            <a:ext cx="8991360" cy="825120"/>
            <a:chOff x="76320" y="2482920"/>
            <a:chExt cx="8991360" cy="825120"/>
          </a:xfrm>
        </p:grpSpPr>
        <p:sp>
          <p:nvSpPr>
            <p:cNvPr id="489" name=""/>
            <p:cNvSpPr/>
            <p:nvPr/>
          </p:nvSpPr>
          <p:spPr>
            <a:xfrm>
              <a:off x="76320" y="2482920"/>
              <a:ext cx="899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⑴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.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如果等腰三角形的一个底角为　　，那么其余两个角为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____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和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____.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7467480" y="2555640"/>
            <a:ext cx="723600" cy="644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480" y="2555640"/>
                      <a:ext cx="723600" cy="64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2" name=""/>
          <p:cNvGraphicFramePr/>
          <p:nvPr/>
        </p:nvGraphicFramePr>
        <p:xfrm>
          <a:off x="4495680" y="3284640"/>
          <a:ext cx="7621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284640"/>
                    <a:ext cx="7621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019920" y="3276720"/>
          <a:ext cx="7617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276720"/>
                    <a:ext cx="7617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76320" y="4495680"/>
            <a:ext cx="8991360" cy="825120"/>
            <a:chOff x="76320" y="4495680"/>
            <a:chExt cx="8991360" cy="825120"/>
          </a:xfrm>
        </p:grpSpPr>
        <p:sp>
          <p:nvSpPr>
            <p:cNvPr id="497" name=""/>
            <p:cNvSpPr/>
            <p:nvPr/>
          </p:nvSpPr>
          <p:spPr>
            <a:xfrm>
              <a:off x="76320" y="4495680"/>
              <a:ext cx="899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⑵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.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如果等腰三角形的顶角为　　，那么它的一个底角为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____.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98" name=""/>
            <p:cNvGraphicFramePr/>
            <p:nvPr/>
          </p:nvGraphicFramePr>
          <p:xfrm>
            <a:off x="6476760" y="4572000"/>
            <a:ext cx="761760" cy="67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6760" y="4572000"/>
                      <a:ext cx="76176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00" name=""/>
          <p:cNvGraphicFramePr/>
          <p:nvPr/>
        </p:nvGraphicFramePr>
        <p:xfrm>
          <a:off x="3962520" y="5334120"/>
          <a:ext cx="76176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5334120"/>
                    <a:ext cx="7617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04920" y="45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中，有一种特殊的情况．就是底边与腰相等．这时三角形三边都相等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我们把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三条边都相等的三角形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等边三角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666880" y="2716200"/>
            <a:ext cx="4114080" cy="3456720"/>
            <a:chOff x="2666880" y="2716200"/>
            <a:chExt cx="4114080" cy="3456720"/>
          </a:xfrm>
        </p:grpSpPr>
        <p:grpSp>
          <p:nvGrpSpPr>
            <p:cNvPr id="504" name=""/>
            <p:cNvGrpSpPr/>
            <p:nvPr/>
          </p:nvGrpSpPr>
          <p:grpSpPr>
            <a:xfrm>
              <a:off x="3206880" y="3361320"/>
              <a:ext cx="2971080" cy="2811600"/>
              <a:chOff x="3206880" y="3361320"/>
              <a:chExt cx="2971080" cy="281160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3206880" y="3361320"/>
                <a:ext cx="2971080" cy="2303280"/>
                <a:chOff x="3206880" y="3361320"/>
                <a:chExt cx="2971080" cy="2303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206880" y="3361320"/>
                  <a:ext cx="2971080" cy="2211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cc"/>
                </a:solidFill>
                <a:ln w="381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37240" y="4374360"/>
                  <a:ext cx="179640" cy="9216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5367600" y="4282560"/>
                  <a:ext cx="90000" cy="18396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737240" y="5480280"/>
                  <a:ext cx="0" cy="18432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3833280" y="5774040"/>
                <a:ext cx="1894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图</a:t>
                </a:r>
                <a:r>
                  <a:rPr b="1" lang="en-US" sz="2000" spc="-1" strike="noStrike">
                    <a:solidFill>
                      <a:srgbClr val="080808"/>
                    </a:solidFill>
                    <a:latin typeface="Arial"/>
                  </a:rPr>
                  <a:t>8.3.3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511" name=""/>
            <p:cNvGraphicFramePr/>
            <p:nvPr/>
          </p:nvGraphicFramePr>
          <p:xfrm>
            <a:off x="4467600" y="2716200"/>
            <a:ext cx="511920" cy="56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67600" y="2716200"/>
                      <a:ext cx="51192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"/>
            <p:cNvGraphicFramePr/>
            <p:nvPr/>
          </p:nvGraphicFramePr>
          <p:xfrm>
            <a:off x="2666880" y="5296320"/>
            <a:ext cx="511920" cy="56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5296320"/>
                      <a:ext cx="51192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"/>
            <p:cNvGraphicFramePr/>
            <p:nvPr/>
          </p:nvGraphicFramePr>
          <p:xfrm>
            <a:off x="6269040" y="5275080"/>
            <a:ext cx="511920" cy="61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69040" y="5275080"/>
                      <a:ext cx="511920" cy="61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8600" y="2800440"/>
            <a:ext cx="5334120" cy="3733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400" y="83808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那么，等边三角形具有什么性质呢？</a:t>
            </a:r>
            <a:endParaRPr b="0" lang="en-US" sz="1800" spc="-1" strike="noStrike">
              <a:ln w="9360">
                <a:solidFill>
                  <a:srgbClr val="00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1447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请同学们用量角器测量一下</a:t>
            </a:r>
            <a:r>
              <a:rPr b="0" i="1" lang="en-US" sz="36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3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9.3.3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各个内角的度数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638680" y="3181320"/>
            <a:ext cx="3481560" cy="2927880"/>
            <a:chOff x="5638680" y="3181320"/>
            <a:chExt cx="3481560" cy="2927880"/>
          </a:xfrm>
        </p:grpSpPr>
        <p:grpSp>
          <p:nvGrpSpPr>
            <p:cNvPr id="521" name=""/>
            <p:cNvGrpSpPr/>
            <p:nvPr/>
          </p:nvGrpSpPr>
          <p:grpSpPr>
            <a:xfrm>
              <a:off x="6095880" y="3714840"/>
              <a:ext cx="2514600" cy="2394360"/>
              <a:chOff x="6095880" y="3714840"/>
              <a:chExt cx="2514600" cy="23943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095880" y="3714840"/>
                <a:ext cx="2514600" cy="1905120"/>
                <a:chOff x="6095880" y="3714840"/>
                <a:chExt cx="2514600" cy="190512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095880" y="3714840"/>
                  <a:ext cx="2514600" cy="1828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cc"/>
                </a:solidFill>
                <a:ln w="381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29400" y="4552920"/>
                  <a:ext cx="152280" cy="7632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7924680" y="4476960"/>
                  <a:ext cx="76320" cy="15228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391160" y="5467320"/>
                  <a:ext cx="0" cy="15264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626160" y="5710320"/>
                <a:ext cx="16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图</a:t>
                </a:r>
                <a:r>
                  <a:rPr b="1" lang="en-US" sz="2000" spc="-1" strike="noStrike">
                    <a:solidFill>
                      <a:srgbClr val="080808"/>
                    </a:solidFill>
                    <a:latin typeface="Arial"/>
                  </a:rPr>
                  <a:t>8.3.3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528" name=""/>
            <p:cNvGraphicFramePr/>
            <p:nvPr/>
          </p:nvGraphicFramePr>
          <p:xfrm>
            <a:off x="7162560" y="3181320"/>
            <a:ext cx="433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560" y="3181320"/>
                      <a:ext cx="433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0" name=""/>
            <p:cNvGraphicFramePr/>
            <p:nvPr/>
          </p:nvGraphicFramePr>
          <p:xfrm>
            <a:off x="5638680" y="5315040"/>
            <a:ext cx="433440" cy="46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315040"/>
                      <a:ext cx="433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"/>
            <p:cNvGraphicFramePr/>
            <p:nvPr/>
          </p:nvGraphicFramePr>
          <p:xfrm>
            <a:off x="8686800" y="5297400"/>
            <a:ext cx="433440" cy="50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86800" y="5297400"/>
                      <a:ext cx="43344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34" name=""/>
          <p:cNvGraphicFramePr/>
          <p:nvPr/>
        </p:nvGraphicFramePr>
        <p:xfrm>
          <a:off x="2971800" y="2009880"/>
          <a:ext cx="380988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2009880"/>
                    <a:ext cx="3809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380880" y="2800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根据“等边对等角”可得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666800" y="3435480"/>
          <a:ext cx="28288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6800" y="3435480"/>
                    <a:ext cx="28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"/>
          <p:cNvGrpSpPr/>
          <p:nvPr/>
        </p:nvGrpSpPr>
        <p:grpSpPr>
          <a:xfrm>
            <a:off x="380880" y="4629240"/>
            <a:ext cx="5334120" cy="1923480"/>
            <a:chOff x="380880" y="4629240"/>
            <a:chExt cx="5334120" cy="1923480"/>
          </a:xfrm>
        </p:grpSpPr>
        <p:graphicFrame>
          <p:nvGraphicFramePr>
            <p:cNvPr id="540" name=""/>
            <p:cNvGraphicFramePr/>
            <p:nvPr/>
          </p:nvGraphicFramePr>
          <p:xfrm>
            <a:off x="1676160" y="4736880"/>
            <a:ext cx="2827440" cy="181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6160" y="4736880"/>
                      <a:ext cx="2827440" cy="18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2" name=""/>
            <p:cNvSpPr/>
            <p:nvPr/>
          </p:nvSpPr>
          <p:spPr>
            <a:xfrm>
              <a:off x="380880" y="462924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所以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57200" y="3987720"/>
            <a:ext cx="5334120" cy="642600"/>
            <a:chOff x="457200" y="3987720"/>
            <a:chExt cx="5334120" cy="642600"/>
          </a:xfrm>
        </p:grpSpPr>
        <p:graphicFrame>
          <p:nvGraphicFramePr>
            <p:cNvPr id="544" name=""/>
            <p:cNvGraphicFramePr/>
            <p:nvPr/>
          </p:nvGraphicFramePr>
          <p:xfrm>
            <a:off x="1417680" y="4011480"/>
            <a:ext cx="3916440" cy="581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17680" y="4011480"/>
                      <a:ext cx="391644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6" name=""/>
            <p:cNvSpPr/>
            <p:nvPr/>
          </p:nvSpPr>
          <p:spPr>
            <a:xfrm>
              <a:off x="457200" y="398772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而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28600" y="44280"/>
            <a:ext cx="6901920" cy="642600"/>
            <a:chOff x="228600" y="44280"/>
            <a:chExt cx="6901920" cy="642600"/>
          </a:xfrm>
        </p:grpSpPr>
        <p:sp>
          <p:nvSpPr>
            <p:cNvPr id="548" name=""/>
            <p:cNvSpPr/>
            <p:nvPr/>
          </p:nvSpPr>
          <p:spPr>
            <a:xfrm>
              <a:off x="2286360" y="44280"/>
              <a:ext cx="48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三条边都相等的三角形</a:t>
              </a: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叫做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等边三角形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600" y="228600"/>
              <a:ext cx="380880" cy="38088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428760"/>
            <a:ext cx="400068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</a:rPr>
              <a:t>你学到了什么</a:t>
            </a:r>
            <a:r>
              <a:rPr b="0" lang="en-US" sz="4400" spc="-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</a:rPr>
              <a:t>??</a:t>
            </a:r>
            <a:endParaRPr b="0" lang="en-US" sz="4400" spc="-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汉鼎繁古印"/>
              <a:ea typeface="汉鼎繁古印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2438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32288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两个底角相等，简写成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楷体_GB2312"/>
              </a:rPr>
              <a:t>等边对等角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43200" y="458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简称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三线合一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819520" y="1581120"/>
            <a:ext cx="5715000" cy="62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等腰三角形的三个性质</a:t>
            </a:r>
            <a:endParaRPr b="1" lang="en-US" sz="4400" spc="-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76120" y="1719360"/>
            <a:ext cx="208620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622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623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19">
                                      <p:cBhvr>
                                        <p:cTn id="6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80880" y="457200"/>
            <a:ext cx="25909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作业</a:t>
            </a:r>
            <a:endParaRPr b="0" lang="en-US" sz="44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28600" y="1981080"/>
          <a:ext cx="212724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27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 txBox="1"/>
          <p:nvPr/>
        </p:nvSpPr>
        <p:spPr>
          <a:xfrm>
            <a:off x="2514600" y="5105520"/>
            <a:ext cx="224784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,3,4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295280" y="3657600"/>
            <a:ext cx="209556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习题</a:t>
            </a: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8.3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562720" y="2971800"/>
            <a:ext cx="2628720" cy="2057400"/>
            <a:chOff x="5562720" y="2971800"/>
            <a:chExt cx="2628720" cy="2057400"/>
          </a:xfrm>
        </p:grpSpPr>
        <p:sp>
          <p:nvSpPr>
            <p:cNvPr id="563" name=""/>
            <p:cNvSpPr txBox="1"/>
            <p:nvPr/>
          </p:nvSpPr>
          <p:spPr>
            <a:xfrm>
              <a:off x="5562720" y="4114800"/>
              <a:ext cx="2628720" cy="91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~~!</a:t>
              </a:r>
              <a:r>
                <a:rPr b="0" lang="zh-CN" sz="5400" spc="-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再见</a:t>
              </a:r>
              <a:r>
                <a:rPr b="0" lang="en-US" sz="5400" spc="-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!~~</a:t>
              </a:r>
              <a:endParaRPr b="0" lang="en-US" sz="5400" spc="-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彩云"/>
                <a:ea typeface="汉鼎繁彩云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38880" y="2971800"/>
              <a:ext cx="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019560" y="3429000"/>
              <a:ext cx="12189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19560" y="3429000"/>
              <a:ext cx="60912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6745320" cy="662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5120" y="2133720"/>
            <a:ext cx="3124080" cy="2438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81532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6720" y="428760"/>
            <a:ext cx="3260880" cy="376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533520"/>
            <a:ext cx="320040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038480" y="2971800"/>
            <a:ext cx="4749840" cy="356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10080" y="3048120"/>
            <a:ext cx="3581640" cy="27432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28800" y="2514600"/>
            <a:ext cx="4800240" cy="3200400"/>
            <a:chOff x="1828800" y="2514600"/>
            <a:chExt cx="4800240" cy="3200400"/>
          </a:xfrm>
        </p:grpSpPr>
        <p:sp>
          <p:nvSpPr>
            <p:cNvPr id="181" name=""/>
            <p:cNvSpPr/>
            <p:nvPr/>
          </p:nvSpPr>
          <p:spPr>
            <a:xfrm>
              <a:off x="1828800" y="2514600"/>
              <a:ext cx="4800240" cy="3200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0200" y="3048120"/>
              <a:ext cx="3484080" cy="2209680"/>
            </a:xfrm>
            <a:prstGeom prst="rightArrow">
              <a:avLst>
                <a:gd name="adj1" fmla="val 50000"/>
                <a:gd name="adj2" fmla="val 3941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80808"/>
                  </a:solidFill>
                  <a:latin typeface="Arial"/>
                </a:rPr>
                <a:t>高速公路</a:t>
              </a:r>
              <a:endParaRPr b="0" lang="en-US" sz="4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48320" y="2743200"/>
            <a:ext cx="1676160" cy="2743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2173800">
            <a:off x="4876560" y="1219320"/>
            <a:ext cx="4066920" cy="62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都有等腰三角形</a:t>
            </a:r>
            <a:endParaRPr b="1" lang="en-US" sz="4400" spc="-1" strike="noStrike">
              <a:ln w="9360">
                <a:solidFill>
                  <a:srgbClr val="080808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590920" y="1015920"/>
            <a:ext cx="4097160" cy="4691160"/>
            <a:chOff x="2590920" y="1015920"/>
            <a:chExt cx="4097160" cy="4691160"/>
          </a:xfrm>
        </p:grpSpPr>
        <p:sp>
          <p:nvSpPr>
            <p:cNvPr id="186" name=""/>
            <p:cNvSpPr/>
            <p:nvPr/>
          </p:nvSpPr>
          <p:spPr>
            <a:xfrm>
              <a:off x="3048120" y="1549440"/>
              <a:ext cx="3200400" cy="396216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4496040" y="1015920"/>
            <a:ext cx="363240" cy="3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6040" y="1015920"/>
                      <a:ext cx="3632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2590920" y="5283000"/>
            <a:ext cx="363600" cy="393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5283000"/>
                      <a:ext cx="363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324840" y="5283000"/>
            <a:ext cx="363240" cy="424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840" y="5283000"/>
                      <a:ext cx="363240" cy="4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3" name=""/>
          <p:cNvGraphicFramePr/>
          <p:nvPr/>
        </p:nvGraphicFramePr>
        <p:xfrm>
          <a:off x="2971800" y="3149640"/>
          <a:ext cx="6094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14964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149640"/>
          <a:ext cx="609480" cy="58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14964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99040" y="5740560"/>
          <a:ext cx="1058760" cy="58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9040" y="5740560"/>
                    <a:ext cx="10587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648320" y="18543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65800" y="1574640"/>
          <a:ext cx="118728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5800" y="1574640"/>
                    <a:ext cx="1187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 flipV="1">
            <a:off x="6019920" y="497844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16800" y="4673520"/>
          <a:ext cx="1155600" cy="58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16800" y="4673520"/>
                    <a:ext cx="1155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828800" y="4673520"/>
          <a:ext cx="1155600" cy="58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28800" y="4673520"/>
                    <a:ext cx="1155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flipH="1" flipV="1">
            <a:off x="2819520" y="497844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316120" y="3436920"/>
            <a:ext cx="187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74600" y="3454560"/>
            <a:ext cx="187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047760" y="1523880"/>
            <a:ext cx="1600200" cy="3962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523880"/>
            <a:ext cx="1600200" cy="3962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486400"/>
            <a:ext cx="3200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304920"/>
            <a:ext cx="8686800" cy="6248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eaeaea">
              <a:alpha val="49000"/>
            </a:srgbClr>
          </a:solidFill>
          <a:ln w="22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4936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做一张等腰三角形的半透明纸片，每个人的等腰三角形可以不一样，如图</a:t>
            </a:r>
            <a:r>
              <a:rPr b="1" lang="en-US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9.3.2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，把纸片对折，让两腰</a:t>
            </a:r>
            <a:r>
              <a:rPr b="1" i="1" lang="en-US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B</a:t>
            </a:r>
            <a:r>
              <a:rPr b="1" i="1" lang="zh-CN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、</a:t>
            </a:r>
            <a:r>
              <a:rPr b="1" i="1" lang="en-US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重叠在一起，折痕为</a:t>
            </a:r>
            <a:r>
              <a:rPr b="1" i="1" lang="en-US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D</a:t>
            </a:r>
            <a:r>
              <a:rPr b="1" lang="en-US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你能发现什么现象吗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1295280" cy="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56080" y="2590920"/>
            <a:ext cx="3025800" cy="3733200"/>
            <a:chOff x="5356080" y="2590920"/>
            <a:chExt cx="3025800" cy="3733200"/>
          </a:xfrm>
        </p:grpSpPr>
        <p:sp>
          <p:nvSpPr>
            <p:cNvPr id="218" name=""/>
            <p:cNvSpPr/>
            <p:nvPr/>
          </p:nvSpPr>
          <p:spPr>
            <a:xfrm>
              <a:off x="5790960" y="3124080"/>
              <a:ext cx="2133720" cy="259020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0" y="3124080"/>
              <a:ext cx="1066680" cy="259020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3124080"/>
              <a:ext cx="0" cy="259020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5714640"/>
              <a:ext cx="761760" cy="3808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858000" y="3124080"/>
              <a:ext cx="761760" cy="297144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543800" y="5714640"/>
              <a:ext cx="380880" cy="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6324480" y="6159240"/>
              <a:ext cx="838080" cy="164880"/>
            </a:xfrm>
            <a:custGeom>
              <a:avLst/>
              <a:gdLst/>
              <a:ahLst/>
              <a:rect l="l" t="t" r="r" b="b"/>
              <a:pathLst>
                <a:path w="336" h="104">
                  <a:moveTo>
                    <a:pt x="0" y="0"/>
                  </a:moveTo>
                  <a:cubicBezTo>
                    <a:pt x="44" y="44"/>
                    <a:pt x="88" y="88"/>
                    <a:pt x="144" y="96"/>
                  </a:cubicBezTo>
                  <a:cubicBezTo>
                    <a:pt x="200" y="104"/>
                    <a:pt x="268" y="76"/>
                    <a:pt x="336" y="4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6705360" y="2590920"/>
            <a:ext cx="435240" cy="46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05360" y="2590920"/>
                      <a:ext cx="43524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356080" y="5410080"/>
            <a:ext cx="434880" cy="46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6080" y="5410080"/>
                      <a:ext cx="43488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7947000" y="5392440"/>
            <a:ext cx="434880" cy="50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47000" y="5392440"/>
                      <a:ext cx="43488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6557760" y="5702040"/>
            <a:ext cx="471600" cy="46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7760" y="5702040"/>
                      <a:ext cx="471600" cy="46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6250680" y="4399560"/>
              <a:ext cx="14760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317720" y="439956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165080" y="4628160"/>
              <a:ext cx="14760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图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9.3.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900000">
            <a:off x="4190760" y="3352680"/>
            <a:ext cx="7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？</a:t>
            </a:r>
            <a:endParaRPr b="1" lang="en-US" sz="60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666880"/>
            <a:ext cx="3025800" cy="3581280"/>
            <a:chOff x="914400" y="2666880"/>
            <a:chExt cx="3025800" cy="3581280"/>
          </a:xfrm>
        </p:grpSpPr>
        <p:sp>
          <p:nvSpPr>
            <p:cNvPr id="239" name=""/>
            <p:cNvSpPr/>
            <p:nvPr/>
          </p:nvSpPr>
          <p:spPr>
            <a:xfrm>
              <a:off x="1371600" y="3200400"/>
              <a:ext cx="2133720" cy="251460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3200400"/>
              <a:ext cx="0" cy="251460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41" name=""/>
            <p:cNvGraphicFramePr/>
            <p:nvPr/>
          </p:nvGraphicFramePr>
          <p:xfrm>
            <a:off x="2286000" y="2666880"/>
            <a:ext cx="434880" cy="4698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2666880"/>
                      <a:ext cx="4348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914400" y="5410080"/>
            <a:ext cx="434880" cy="469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14400" y="5410080"/>
                      <a:ext cx="4348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3505320" y="5392440"/>
            <a:ext cx="434880" cy="50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392440"/>
                      <a:ext cx="43488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1831320" y="439956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898000" y="4399560"/>
              <a:ext cx="14760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2214720" y="5778360"/>
            <a:ext cx="471240" cy="4698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14720" y="5778360"/>
                      <a:ext cx="4712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106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7621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B=∠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73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等腰三角形两个底角相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438280" y="806400"/>
            <a:ext cx="6705360" cy="642600"/>
            <a:chOff x="2438280" y="806400"/>
            <a:chExt cx="6705360" cy="642600"/>
          </a:xfrm>
        </p:grpSpPr>
        <p:sp>
          <p:nvSpPr>
            <p:cNvPr id="255" name=""/>
            <p:cNvSpPr/>
            <p:nvPr/>
          </p:nvSpPr>
          <p:spPr>
            <a:xfrm>
              <a:off x="2438280" y="838080"/>
              <a:ext cx="670536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69480" y="806400"/>
              <a:ext cx="451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简写成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等边对等角</a:t>
              </a:r>
              <a:r>
                <a:rPr b="0" lang="en-US" sz="3600" spc="-1" strike="noStrike">
                  <a:solidFill>
                    <a:srgbClr val="080808"/>
                  </a:solidFill>
                  <a:latin typeface="Arial"/>
                </a:rPr>
                <a:t>”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6320" y="2787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BD=C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底边上的中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20858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ADB=∠ADC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底边上的高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141588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BAD=∠CA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en-US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顶角平分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429000"/>
            <a:ext cx="3809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26668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1981080"/>
            <a:ext cx="33526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638680" y="2819520"/>
            <a:ext cx="3504960" cy="4038120"/>
            <a:chOff x="5638680" y="2819520"/>
            <a:chExt cx="3504960" cy="4038120"/>
          </a:xfrm>
        </p:grpSpPr>
        <p:sp>
          <p:nvSpPr>
            <p:cNvPr id="264" name=""/>
            <p:cNvSpPr/>
            <p:nvPr/>
          </p:nvSpPr>
          <p:spPr>
            <a:xfrm>
              <a:off x="6168240" y="3421080"/>
              <a:ext cx="2471760" cy="283536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03760" y="3421080"/>
              <a:ext cx="0" cy="283536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7227360" y="2819520"/>
            <a:ext cx="503640" cy="52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27360" y="2819520"/>
                      <a:ext cx="503640" cy="52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5638680" y="5912640"/>
            <a:ext cx="503640" cy="52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912640"/>
                      <a:ext cx="503640" cy="52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8640000" y="5892840"/>
            <a:ext cx="503640" cy="57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40000" y="5892840"/>
                      <a:ext cx="50364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6700680" y="477288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936200" y="477252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7144920" y="6328080"/>
            <a:ext cx="545760" cy="52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44920" y="6328080"/>
                      <a:ext cx="545760" cy="52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76320" y="1295280"/>
            <a:ext cx="1015920" cy="4495680"/>
            <a:chOff x="76320" y="1295280"/>
            <a:chExt cx="1015920" cy="4495680"/>
          </a:xfrm>
        </p:grpSpPr>
        <p:sp>
          <p:nvSpPr>
            <p:cNvPr id="277" name=""/>
            <p:cNvSpPr/>
            <p:nvPr/>
          </p:nvSpPr>
          <p:spPr>
            <a:xfrm>
              <a:off x="76320" y="1295280"/>
              <a:ext cx="355680" cy="449568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240" y="4572000"/>
              <a:ext cx="711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00200" y="3886200"/>
            <a:ext cx="4038480" cy="2286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88296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295280"/>
            <a:ext cx="8534520" cy="5410080"/>
            <a:chOff x="0" y="1295280"/>
            <a:chExt cx="8534520" cy="5410080"/>
          </a:xfrm>
        </p:grpSpPr>
        <p:sp>
          <p:nvSpPr>
            <p:cNvPr id="282" name=""/>
            <p:cNvSpPr/>
            <p:nvPr/>
          </p:nvSpPr>
          <p:spPr>
            <a:xfrm>
              <a:off x="0" y="1295280"/>
              <a:ext cx="1371600" cy="5410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2743200"/>
              <a:ext cx="5867280" cy="990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8080" y="1447560"/>
              <a:ext cx="769644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09480" y="2209680"/>
            <a:ext cx="990720" cy="2819520"/>
            <a:chOff x="609480" y="2209680"/>
            <a:chExt cx="990720" cy="2819520"/>
          </a:xfrm>
        </p:grpSpPr>
        <p:sp>
          <p:nvSpPr>
            <p:cNvPr id="286" name=""/>
            <p:cNvSpPr/>
            <p:nvPr/>
          </p:nvSpPr>
          <p:spPr>
            <a:xfrm flipH="1">
              <a:off x="609480" y="5029200"/>
              <a:ext cx="990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09480" y="2209680"/>
              <a:ext cx="0" cy="28195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6320" y="1492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简称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线合一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2286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·→</a:t>
            </a:r>
            <a:r>
              <a:rPr b="1" lang="en-US" sz="4000" spc="-1" strike="noStrike">
                <a:solidFill>
                  <a:srgbClr val="106d9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106d9c"/>
                </a:solidFill>
                <a:latin typeface="Arial"/>
              </a:rPr>
              <a:t>画出任意一个等腰三角形的底角平分线、腰上的中线和高，看看它们是否重合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952880" y="533520"/>
            <a:ext cx="4038480" cy="5714640"/>
            <a:chOff x="4952880" y="533520"/>
            <a:chExt cx="4038480" cy="5714640"/>
          </a:xfrm>
        </p:grpSpPr>
        <p:sp>
          <p:nvSpPr>
            <p:cNvPr id="291" name=""/>
            <p:cNvSpPr/>
            <p:nvPr/>
          </p:nvSpPr>
          <p:spPr>
            <a:xfrm>
              <a:off x="5403240" y="1183320"/>
              <a:ext cx="3154680" cy="482652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6830640" y="533520"/>
            <a:ext cx="357840" cy="47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30640" y="533520"/>
                      <a:ext cx="35784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"/>
            <p:cNvGraphicFramePr/>
            <p:nvPr/>
          </p:nvGraphicFramePr>
          <p:xfrm>
            <a:off x="4952880" y="5731560"/>
            <a:ext cx="358200" cy="47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731560"/>
                      <a:ext cx="3582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"/>
            <p:cNvGraphicFramePr/>
            <p:nvPr/>
          </p:nvGraphicFramePr>
          <p:xfrm>
            <a:off x="8633520" y="5731560"/>
            <a:ext cx="357840" cy="516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33520" y="5731560"/>
                      <a:ext cx="357840" cy="51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8" name=""/>
          <p:cNvGrpSpPr/>
          <p:nvPr/>
        </p:nvGrpSpPr>
        <p:grpSpPr>
          <a:xfrm>
            <a:off x="5410080" y="3962520"/>
            <a:ext cx="3060720" cy="2057040"/>
            <a:chOff x="5410080" y="3962520"/>
            <a:chExt cx="3060720" cy="2057040"/>
          </a:xfrm>
        </p:grpSpPr>
        <p:grpSp>
          <p:nvGrpSpPr>
            <p:cNvPr id="299" name=""/>
            <p:cNvGrpSpPr/>
            <p:nvPr/>
          </p:nvGrpSpPr>
          <p:grpSpPr>
            <a:xfrm>
              <a:off x="5410080" y="4343040"/>
              <a:ext cx="2590920" cy="1676520"/>
              <a:chOff x="5410080" y="4343040"/>
              <a:chExt cx="2590920" cy="167652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5410080" y="4343040"/>
                <a:ext cx="2590920" cy="167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38680" y="5562720"/>
                <a:ext cx="76320" cy="75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67280" y="5791320"/>
                <a:ext cx="76320" cy="75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303" name=""/>
            <p:cNvGraphicFramePr/>
            <p:nvPr/>
          </p:nvGraphicFramePr>
          <p:xfrm>
            <a:off x="8076960" y="3962520"/>
            <a:ext cx="393840" cy="39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3962520"/>
                      <a:ext cx="3938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5" name=""/>
          <p:cNvGrpSpPr/>
          <p:nvPr/>
        </p:nvGrpSpPr>
        <p:grpSpPr>
          <a:xfrm>
            <a:off x="5410080" y="3352680"/>
            <a:ext cx="2879640" cy="2666520"/>
            <a:chOff x="5410080" y="3352680"/>
            <a:chExt cx="2879640" cy="2666520"/>
          </a:xfrm>
        </p:grpSpPr>
        <p:sp>
          <p:nvSpPr>
            <p:cNvPr id="306" name=""/>
            <p:cNvSpPr/>
            <p:nvPr/>
          </p:nvSpPr>
          <p:spPr>
            <a:xfrm flipV="1">
              <a:off x="5410080" y="3657240"/>
              <a:ext cx="2362320" cy="236196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7926120" y="3352680"/>
            <a:ext cx="36360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26120" y="3352680"/>
                      <a:ext cx="363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"/>
          <p:cNvGrpSpPr/>
          <p:nvPr/>
        </p:nvGrpSpPr>
        <p:grpSpPr>
          <a:xfrm>
            <a:off x="5410080" y="4711680"/>
            <a:ext cx="3276720" cy="1308240"/>
            <a:chOff x="5410080" y="4711680"/>
            <a:chExt cx="3276720" cy="1308240"/>
          </a:xfrm>
        </p:grpSpPr>
        <p:sp>
          <p:nvSpPr>
            <p:cNvPr id="310" name=""/>
            <p:cNvSpPr/>
            <p:nvPr/>
          </p:nvSpPr>
          <p:spPr>
            <a:xfrm flipV="1">
              <a:off x="5410080" y="4952880"/>
              <a:ext cx="2819520" cy="10670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92960" y="4711680"/>
            <a:ext cx="39384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92960" y="4711680"/>
                      <a:ext cx="3938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"/>
          <p:cNvGrpSpPr/>
          <p:nvPr/>
        </p:nvGrpSpPr>
        <p:grpSpPr>
          <a:xfrm>
            <a:off x="685800" y="5105520"/>
            <a:ext cx="3581280" cy="1371600"/>
            <a:chOff x="685800" y="5105520"/>
            <a:chExt cx="3581280" cy="1371600"/>
          </a:xfrm>
        </p:grpSpPr>
        <p:sp>
          <p:nvSpPr>
            <p:cNvPr id="314" name=""/>
            <p:cNvSpPr txBox="1"/>
            <p:nvPr/>
          </p:nvSpPr>
          <p:spPr>
            <a:xfrm>
              <a:off x="2190600" y="5562720"/>
              <a:ext cx="20764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古印"/>
                </a:rPr>
                <a:t>不重合！</a:t>
              </a:r>
              <a:endPara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  <a:ea typeface="汉鼎繁古印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685800" y="5105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76320" y="76320"/>
            <a:ext cx="441936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320" y="76320"/>
            <a:ext cx="4876200" cy="4800240"/>
            <a:chOff x="76320" y="76320"/>
            <a:chExt cx="4876200" cy="4800240"/>
          </a:xfrm>
        </p:grpSpPr>
        <p:grpSp>
          <p:nvGrpSpPr>
            <p:cNvPr id="318" name=""/>
            <p:cNvGrpSpPr/>
            <p:nvPr/>
          </p:nvGrpSpPr>
          <p:grpSpPr>
            <a:xfrm>
              <a:off x="76320" y="76320"/>
              <a:ext cx="3733200" cy="4800240"/>
              <a:chOff x="76320" y="76320"/>
              <a:chExt cx="3733200" cy="4800240"/>
            </a:xfrm>
          </p:grpSpPr>
          <p:sp>
            <p:nvSpPr>
              <p:cNvPr id="319" name=""/>
              <p:cNvSpPr/>
              <p:nvPr/>
            </p:nvSpPr>
            <p:spPr>
              <a:xfrm>
                <a:off x="640440" y="791280"/>
                <a:ext cx="2632680" cy="3370320"/>
              </a:xfrm>
              <a:prstGeom prst="triangle">
                <a:avLst>
                  <a:gd name="adj" fmla="val 50000"/>
                </a:avLst>
              </a:prstGeom>
              <a:solidFill>
                <a:srgbClr val="eaeaea">
                  <a:alpha val="49000"/>
                </a:srgbClr>
              </a:solidFill>
              <a:ln w="255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56600" y="791280"/>
                <a:ext cx="0" cy="3370320"/>
              </a:xfrm>
              <a:prstGeom prst="line">
                <a:avLst/>
              </a:prstGeom>
              <a:ln w="25560">
                <a:solidFill>
                  <a:srgbClr val="08080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21" name=""/>
              <p:cNvGraphicFramePr/>
              <p:nvPr/>
            </p:nvGraphicFramePr>
            <p:xfrm>
              <a:off x="1768680" y="76320"/>
              <a:ext cx="536400" cy="62964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1768680" y="76320"/>
                        <a:ext cx="536400" cy="62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3" name=""/>
              <p:cNvGraphicFramePr/>
              <p:nvPr/>
            </p:nvGraphicFramePr>
            <p:xfrm>
              <a:off x="76320" y="3753360"/>
              <a:ext cx="536400" cy="62964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76320" y="3753360"/>
                        <a:ext cx="536400" cy="62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5" name=""/>
              <p:cNvGraphicFramePr/>
              <p:nvPr/>
            </p:nvGraphicFramePr>
            <p:xfrm>
              <a:off x="3273120" y="3729600"/>
              <a:ext cx="536400" cy="67860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326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3273120" y="3729600"/>
                        <a:ext cx="536400" cy="67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7" name=""/>
              <p:cNvSpPr/>
              <p:nvPr/>
            </p:nvSpPr>
            <p:spPr>
              <a:xfrm>
                <a:off x="1207800" y="2401200"/>
                <a:ext cx="181080" cy="486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523960" y="2400840"/>
                <a:ext cx="181800" cy="4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29" name=""/>
              <p:cNvGraphicFramePr/>
              <p:nvPr/>
            </p:nvGraphicFramePr>
            <p:xfrm>
              <a:off x="1680480" y="4246920"/>
              <a:ext cx="581400" cy="62964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3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680480" y="4246920"/>
                        <a:ext cx="581400" cy="62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1" name=""/>
            <p:cNvSpPr txBox="1"/>
            <p:nvPr/>
          </p:nvSpPr>
          <p:spPr>
            <a:xfrm>
              <a:off x="2666880" y="962280"/>
              <a:ext cx="2285640" cy="561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ln w="0">
                    <a:noFill/>
                  </a:ln>
                  <a:solidFill>
                    <a:srgbClr val="9933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楷体_GB2312"/>
                </a:rPr>
                <a:t>三线合一</a:t>
              </a:r>
              <a:endParaRPr b="0" lang="en-US" sz="44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133000" y="1600200"/>
              <a:ext cx="1447560" cy="13716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320" y="4876920"/>
            <a:ext cx="441936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49230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线合一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”应该对应等腰三角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角平分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中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38560" y="2381400"/>
            <a:ext cx="300996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为什么不一样</a:t>
            </a:r>
            <a:r>
              <a:rPr b="0" lang="en-US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?</a:t>
            </a:r>
            <a:endParaRPr b="0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800520" y="3124080"/>
            <a:ext cx="923760" cy="1600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1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304920"/>
            <a:ext cx="2057400" cy="990000"/>
            <a:chOff x="304920" y="304920"/>
            <a:chExt cx="2057400" cy="990000"/>
          </a:xfrm>
        </p:grpSpPr>
        <p:sp>
          <p:nvSpPr>
            <p:cNvPr id="338" name=""/>
            <p:cNvSpPr/>
            <p:nvPr/>
          </p:nvSpPr>
          <p:spPr>
            <a:xfrm>
              <a:off x="304920" y="304920"/>
              <a:ext cx="1828800" cy="83772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520" y="45684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填空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743200" y="2286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，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B=AC</a:t>
            </a: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，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上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4605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１</a:t>
            </a:r>
            <a:r>
              <a:rPr b="0" lang="en-US" sz="3600" spc="-1" strike="noStrike">
                <a:solidFill>
                  <a:srgbClr val="0039ac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如果 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⊥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那么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∠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∠＿＿＿， </a:t>
            </a:r>
            <a:br>
              <a:rPr sz="3600"/>
            </a:b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        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＿＿＿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32893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２</a:t>
            </a: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如果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∠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＝∠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CAD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， </a:t>
            </a:r>
            <a:br>
              <a:rPr sz="3600"/>
            </a:b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那么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⊥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＿＿＿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br>
              <a:rPr sz="3600"/>
            </a:b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    </a:t>
            </a: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＝＿＿＿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50418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如果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CD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那么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∠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∠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＿＿＿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        </a:t>
            </a: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AD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⊥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＿＿＿</a:t>
            </a:r>
            <a:r>
              <a:rPr b="1" lang="en-US" sz="3600" spc="-1" strike="noStrike">
                <a:solidFill>
                  <a:srgbClr val="0039a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486400" y="2057400"/>
            <a:ext cx="3504960" cy="4723920"/>
            <a:chOff x="5486400" y="2057400"/>
            <a:chExt cx="3504960" cy="4723920"/>
          </a:xfrm>
        </p:grpSpPr>
        <p:sp>
          <p:nvSpPr>
            <p:cNvPr id="345" name=""/>
            <p:cNvSpPr/>
            <p:nvPr/>
          </p:nvSpPr>
          <p:spPr>
            <a:xfrm>
              <a:off x="6015960" y="2760840"/>
              <a:ext cx="2471760" cy="331704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51480" y="2760840"/>
              <a:ext cx="0" cy="331704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47" name=""/>
            <p:cNvGraphicFramePr/>
            <p:nvPr/>
          </p:nvGraphicFramePr>
          <p:xfrm>
            <a:off x="7075080" y="2057400"/>
            <a:ext cx="503640" cy="6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75080" y="2057400"/>
                      <a:ext cx="50364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5486400" y="5675760"/>
            <a:ext cx="503640" cy="61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5675760"/>
                      <a:ext cx="50364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"/>
            <p:cNvGraphicFramePr/>
            <p:nvPr/>
          </p:nvGraphicFramePr>
          <p:xfrm>
            <a:off x="8487720" y="5652720"/>
            <a:ext cx="5036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87720" y="5652720"/>
                      <a:ext cx="5036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6548400" y="434628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83920" y="434592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6992640" y="6161760"/>
            <a:ext cx="545760" cy="61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92640" y="6161760"/>
                      <a:ext cx="54576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"/>
          <p:cNvSpPr/>
          <p:nvPr/>
        </p:nvSpPr>
        <p:spPr>
          <a:xfrm>
            <a:off x="350532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CA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5562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CA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514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C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387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C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809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33ff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9a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320" y="144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638680" y="2209680"/>
            <a:ext cx="3504960" cy="4724280"/>
            <a:chOff x="5638680" y="2209680"/>
            <a:chExt cx="3504960" cy="4724280"/>
          </a:xfrm>
        </p:grpSpPr>
        <p:sp>
          <p:nvSpPr>
            <p:cNvPr id="365" name=""/>
            <p:cNvSpPr/>
            <p:nvPr/>
          </p:nvSpPr>
          <p:spPr>
            <a:xfrm>
              <a:off x="6168240" y="2913480"/>
              <a:ext cx="2471760" cy="331704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3760" y="2913480"/>
              <a:ext cx="0" cy="331704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67" name=""/>
            <p:cNvGraphicFramePr/>
            <p:nvPr/>
          </p:nvGraphicFramePr>
          <p:xfrm>
            <a:off x="7227360" y="2209680"/>
            <a:ext cx="503640" cy="61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27360" y="2209680"/>
                      <a:ext cx="50364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9" name=""/>
            <p:cNvGraphicFramePr/>
            <p:nvPr/>
          </p:nvGraphicFramePr>
          <p:xfrm>
            <a:off x="5638680" y="5828400"/>
            <a:ext cx="503640" cy="619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828400"/>
                      <a:ext cx="50364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"/>
            <p:cNvGraphicFramePr/>
            <p:nvPr/>
          </p:nvGraphicFramePr>
          <p:xfrm>
            <a:off x="8640000" y="5805000"/>
            <a:ext cx="503640" cy="668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40000" y="5805000"/>
                      <a:ext cx="503640" cy="66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6700680" y="449892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936200" y="449856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75" name=""/>
            <p:cNvGraphicFramePr/>
            <p:nvPr/>
          </p:nvGraphicFramePr>
          <p:xfrm>
            <a:off x="7144920" y="6314400"/>
            <a:ext cx="545760" cy="619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44920" y="6314400"/>
                      <a:ext cx="545760" cy="61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7" name=""/>
          <p:cNvSpPr/>
          <p:nvPr/>
        </p:nvSpPr>
        <p:spPr>
          <a:xfrm>
            <a:off x="7632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两个底角相等，简写成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等边对等角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38228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简称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线合一</a:t>
            </a:r>
            <a:r>
              <a:rPr b="0" lang="en-US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361800"/>
            <a:ext cx="5715000" cy="62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等腰三角形的三个性质</a:t>
            </a:r>
            <a:endParaRPr b="1" lang="en-US" sz="4400" spc="-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228600"/>
            <a:ext cx="3200400" cy="2057400"/>
          </a:xfrm>
          <a:prstGeom prst="wedgeEllipseCallout">
            <a:avLst>
              <a:gd name="adj1" fmla="val -43453"/>
              <a:gd name="adj2" fmla="val 74226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记得哦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2280" y="1219320"/>
            <a:ext cx="89917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已知：在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△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ABC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中，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AB=AC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B=80</a:t>
            </a:r>
            <a:r>
              <a:rPr b="1" i="1" lang="zh-CN" sz="4400" spc="-1" strike="noStrike" baseline="50000">
                <a:solidFill>
                  <a:srgbClr val="0066ff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求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C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和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的度数．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" y="228600"/>
            <a:ext cx="2057400" cy="990720"/>
            <a:chOff x="228600" y="228600"/>
            <a:chExt cx="2057400" cy="990720"/>
          </a:xfrm>
        </p:grpSpPr>
        <p:sp>
          <p:nvSpPr>
            <p:cNvPr id="383" name=""/>
            <p:cNvSpPr/>
            <p:nvPr/>
          </p:nvSpPr>
          <p:spPr>
            <a:xfrm>
              <a:off x="228600" y="22860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200" y="380880"/>
              <a:ext cx="1828800" cy="83844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例</a:t>
              </a:r>
              <a:r>
                <a:rPr b="0" lang="en-US" sz="40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85" name=""/>
          <p:cNvSpPr txBox="1"/>
          <p:nvPr/>
        </p:nvSpPr>
        <p:spPr>
          <a:xfrm>
            <a:off x="228600" y="251460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</a:t>
            </a:r>
            <a:r>
              <a: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95200" y="3040200"/>
          <a:ext cx="22370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040200"/>
                    <a:ext cx="2237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19240" y="3718080"/>
          <a:ext cx="331920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" y="3718080"/>
                    <a:ext cx="3319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76120" y="4479840"/>
          <a:ext cx="4515120" cy="61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120" y="4479840"/>
                    <a:ext cx="45151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04920" y="5859360"/>
          <a:ext cx="547668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859360"/>
                    <a:ext cx="54766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4" name=""/>
          <p:cNvGrpSpPr/>
          <p:nvPr/>
        </p:nvGrpSpPr>
        <p:grpSpPr>
          <a:xfrm>
            <a:off x="5791320" y="1981080"/>
            <a:ext cx="3276000" cy="4190760"/>
            <a:chOff x="5791320" y="1981080"/>
            <a:chExt cx="3276000" cy="4190760"/>
          </a:xfrm>
        </p:grpSpPr>
        <p:grpSp>
          <p:nvGrpSpPr>
            <p:cNvPr id="395" name=""/>
            <p:cNvGrpSpPr/>
            <p:nvPr/>
          </p:nvGrpSpPr>
          <p:grpSpPr>
            <a:xfrm>
              <a:off x="5791320" y="1981080"/>
              <a:ext cx="3276000" cy="4190760"/>
              <a:chOff x="5791320" y="1981080"/>
              <a:chExt cx="3276000" cy="4190760"/>
            </a:xfrm>
          </p:grpSpPr>
          <p:sp>
            <p:nvSpPr>
              <p:cNvPr id="396" name=""/>
              <p:cNvSpPr/>
              <p:nvPr/>
            </p:nvSpPr>
            <p:spPr>
              <a:xfrm>
                <a:off x="6289920" y="2610000"/>
                <a:ext cx="2278800" cy="3304080"/>
              </a:xfrm>
              <a:prstGeom prst="triangle">
                <a:avLst>
                  <a:gd name="adj" fmla="val 50000"/>
                </a:avLst>
              </a:prstGeom>
              <a:solidFill>
                <a:srgbClr val="cc9900">
                  <a:alpha val="49000"/>
                </a:srgbClr>
              </a:solidFill>
              <a:ln w="255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97" name=""/>
              <p:cNvGraphicFramePr/>
              <p:nvPr/>
            </p:nvGraphicFramePr>
            <p:xfrm>
              <a:off x="7172280" y="1981080"/>
              <a:ext cx="470160" cy="563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72280" y="1981080"/>
                        <a:ext cx="47016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9" name=""/>
              <p:cNvGraphicFramePr/>
              <p:nvPr/>
            </p:nvGraphicFramePr>
            <p:xfrm>
              <a:off x="8597160" y="5565600"/>
              <a:ext cx="47016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597160" y="5565600"/>
                        <a:ext cx="47016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1" name=""/>
              <p:cNvGraphicFramePr/>
              <p:nvPr/>
            </p:nvGraphicFramePr>
            <p:xfrm>
              <a:off x="5791320" y="5586480"/>
              <a:ext cx="470160" cy="563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0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791320" y="5586480"/>
                        <a:ext cx="47016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03" name=""/>
            <p:cNvSpPr/>
            <p:nvPr/>
          </p:nvSpPr>
          <p:spPr>
            <a:xfrm>
              <a:off x="6857640" y="4038480"/>
              <a:ext cx="152280" cy="763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858440" y="4000680"/>
              <a:ext cx="131760" cy="75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352600" y="2932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67000" y="369396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等边对等角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920" y="5173560"/>
            <a:ext cx="6705720" cy="642600"/>
            <a:chOff x="142920" y="5173560"/>
            <a:chExt cx="6705720" cy="642600"/>
          </a:xfrm>
        </p:grpSpPr>
        <p:sp>
          <p:nvSpPr>
            <p:cNvPr id="408" name=""/>
            <p:cNvSpPr/>
            <p:nvPr/>
          </p:nvSpPr>
          <p:spPr>
            <a:xfrm>
              <a:off x="142920" y="5173560"/>
              <a:ext cx="670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（三角形内角和等于　　）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4410000" y="5173560"/>
            <a:ext cx="91440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10000" y="51735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in" orient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JUMAO</cp:lastModifiedBy>
  <dcterms:modified xsi:type="dcterms:W3CDTF">2005-05-06T06:26:06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