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0.png" ContentType="image/png"/>
  <Override PartName="/ppt/media/image8.png" ContentType="image/png"/>
  <Override PartName="/ppt/media/image5.gif" ContentType="image/gif"/>
  <Override PartName="/ppt/media/image7.png" ContentType="image/png"/>
  <Override PartName="/ppt/media/image2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25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gif" ContentType="image/gif"/>
  <Override PartName="/ppt/media/image9.jpeg" ContentType="image/jpe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91440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2751120"/>
            <a:ext cx="91440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93348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275112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275112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294408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933480"/>
            <a:ext cx="294408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933480"/>
            <a:ext cx="294408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2751120"/>
            <a:ext cx="294408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2751120"/>
            <a:ext cx="294408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2751120"/>
            <a:ext cx="294408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933480"/>
            <a:ext cx="914400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91440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44622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933480"/>
            <a:ext cx="44622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933480"/>
            <a:ext cx="44622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275112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44622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93348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275112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3348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933480"/>
            <a:ext cx="44622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2751120"/>
            <a:ext cx="914400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933480"/>
            <a:ext cx="914400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Aft>
                <a:spcPts val="524"/>
              </a:spcAft>
              <a:buClr>
                <a:srgbClr val="0000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Aft>
                <a:spcPts val="524"/>
              </a:spcAft>
              <a:buClr>
                <a:srgbClr val="0000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Aft>
                <a:spcPts val="524"/>
              </a:spcAft>
              <a:buClr>
                <a:srgbClr val="0000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Aft>
                <a:spcPts val="524"/>
              </a:spcAft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Aft>
                <a:spcPts val="524"/>
              </a:spcAft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Aft>
                <a:spcPts val="524"/>
              </a:spcAft>
              <a:buClr>
                <a:srgbClr val="0000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BD14594_" descr=""/>
          <p:cNvPicPr/>
          <p:nvPr/>
        </p:nvPicPr>
        <p:blipFill>
          <a:blip r:embed="rId3"/>
          <a:stretch/>
        </p:blipFill>
        <p:spPr>
          <a:xfrm>
            <a:off x="76320" y="609480"/>
            <a:ext cx="9067680" cy="1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n.yahoo.com/" TargetMode="External"/><Relationship Id="rId3" Type="http://schemas.openxmlformats.org/officeDocument/2006/relationships/hyperlink" Target="http://cn.yahoo.com/" TargetMode="External"/><Relationship Id="rId4" Type="http://schemas.openxmlformats.org/officeDocument/2006/relationships/hyperlink" Target="http://cn.yahoo.com/" TargetMode="External"/><Relationship Id="rId5" Type="http://schemas.openxmlformats.org/officeDocument/2006/relationships/image" Target="../media/image3.png"/><Relationship Id="rId6" Type="http://schemas.openxmlformats.org/officeDocument/2006/relationships/hyperlink" Target="D:\&#32032;&#26448;&#24211;\&#39118;&#24070;.ppt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gif"/><Relationship Id="rId9" Type="http://schemas.openxmlformats.org/officeDocument/2006/relationships/image" Target="../media/image1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file:///H:/picxyly/pic39_400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file:///H:/picxyly/pic39_400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2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标题</a:t>
            </a:r>
            <a:r>
              <a:rPr b="1" lang="zh-CN" sz="4000" spc="-1" strike="noStrike" u="sng">
                <a:solidFill>
                  <a:srgbClr val="ff11b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zh-CN" sz="4000" spc="-1" strike="noStrike" u="sng">
                <a:solidFill>
                  <a:srgbClr val="ff11b0"/>
                </a:solidFill>
                <a:uFillTx/>
                <a:latin typeface="Times New Roman"/>
                <a:hlinkClick r:id="rId3"/>
              </a:rPr>
              <a:t>cn</a:t>
            </a:r>
            <a:r>
              <a:rPr b="1" lang="zh-CN" sz="4000" spc="-1" strike="noStrike" u="sng">
                <a:solidFill>
                  <a:srgbClr val="ff11b0"/>
                </a:solidFill>
                <a:uFillTx/>
                <a:latin typeface="Times New Roman"/>
                <a:hlinkClick r:id="rId4"/>
              </a:rPr>
              <a:t>.yahoo.com/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257800" y="624852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行楷"/>
                <a:ea typeface="华文行楷"/>
              </a:rPr>
              <a:t>长寿中学：张洪斌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62240" y="4191120"/>
            <a:ext cx="5867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等腰三角形</a:t>
            </a:r>
            <a:endParaRPr b="1" lang="en-US" sz="72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-3200040" y="824040"/>
            <a:ext cx="6400080" cy="12220200"/>
            <a:chOff x="-3200040" y="824040"/>
            <a:chExt cx="6400080" cy="12220200"/>
          </a:xfrm>
        </p:grpSpPr>
        <p:sp>
          <p:nvSpPr>
            <p:cNvPr id="44" name="">
              <a:hlinkClick r:id="rId6"/>
            </p:cNvPr>
            <p:cNvSpPr/>
            <p:nvPr/>
          </p:nvSpPr>
          <p:spPr>
            <a:xfrm>
              <a:off x="-3200040" y="824040"/>
              <a:ext cx="6400080" cy="122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45" name="3%5B12%5D" descr=""/>
            <p:cNvPicPr/>
            <p:nvPr/>
          </p:nvPicPr>
          <p:blipFill>
            <a:blip r:embed="rId8"/>
            <a:stretch/>
          </p:blipFill>
          <p:spPr>
            <a:xfrm>
              <a:off x="76320" y="1502640"/>
              <a:ext cx="2743200" cy="543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标题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-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数学》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( 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华东师大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七年级 下册 </a:t>
            </a: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)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71800" y="838080"/>
            <a:ext cx="510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第九章 轴对称图形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"/>
          <p:cNvSpPr/>
          <p:nvPr/>
        </p:nvSpPr>
        <p:spPr>
          <a:xfrm>
            <a:off x="2768760" y="2577960"/>
            <a:ext cx="1066680" cy="13716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34040" y="3200400"/>
            <a:ext cx="2971800" cy="7621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00680" y="2971800"/>
            <a:ext cx="2057400" cy="990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例题解析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191120" y="0"/>
            <a:ext cx="19047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例题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04" name="RW_015" descr=""/>
          <p:cNvPicPr/>
          <p:nvPr/>
        </p:nvPicPr>
        <p:blipFill>
          <a:blip r:embed="rId2"/>
          <a:stretch/>
        </p:blipFill>
        <p:spPr>
          <a:xfrm>
            <a:off x="7875720" y="0"/>
            <a:ext cx="1268280" cy="111924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-152280"/>
            <a:ext cx="3276720" cy="916920"/>
            <a:chOff x="0" y="-152280"/>
            <a:chExt cx="3276720" cy="916920"/>
          </a:xfrm>
        </p:grpSpPr>
        <p:sp>
          <p:nvSpPr>
            <p:cNvPr id="206" name=""/>
            <p:cNvSpPr/>
            <p:nvPr/>
          </p:nvSpPr>
          <p:spPr>
            <a:xfrm>
              <a:off x="0" y="46080"/>
              <a:ext cx="3276720" cy="627120"/>
            </a:xfrm>
            <a:prstGeom prst="rect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ffffff"/>
                </a:gs>
              </a:gsLst>
              <a:lin ang="8100000"/>
            </a:gra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学一学</a:t>
              </a:r>
              <a:endParaRPr b="0" lang="en-US" sz="3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207" name="677" descr=""/>
            <p:cNvPicPr/>
            <p:nvPr/>
          </p:nvPicPr>
          <p:blipFill>
            <a:blip r:embed="rId3"/>
            <a:stretch/>
          </p:blipFill>
          <p:spPr>
            <a:xfrm>
              <a:off x="69840" y="60480"/>
              <a:ext cx="78732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2581920" y="-152280"/>
              <a:ext cx="43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</a:t>
              </a:r>
              <a:endParaRPr b="0" lang="en-US" sz="5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914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在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C=B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CB=90°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D⊥AB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则图中有哪些角相等？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143000" y="1995480"/>
            <a:ext cx="2666880" cy="2730240"/>
            <a:chOff x="1143000" y="1995480"/>
            <a:chExt cx="2666880" cy="2730240"/>
          </a:xfrm>
        </p:grpSpPr>
        <p:sp>
          <p:nvSpPr>
            <p:cNvPr id="211" name=""/>
            <p:cNvSpPr/>
            <p:nvPr/>
          </p:nvSpPr>
          <p:spPr>
            <a:xfrm>
              <a:off x="1295280" y="19954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143000" y="2376360"/>
              <a:ext cx="2666880" cy="2349360"/>
              <a:chOff x="1143000" y="2376360"/>
              <a:chExt cx="2666880" cy="2349360"/>
            </a:xfrm>
          </p:grpSpPr>
          <p:sp>
            <p:nvSpPr>
              <p:cNvPr id="213" name=""/>
              <p:cNvSpPr/>
              <p:nvPr/>
            </p:nvSpPr>
            <p:spPr>
              <a:xfrm>
                <a:off x="1523880" y="2376360"/>
                <a:ext cx="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523880" y="4281480"/>
                <a:ext cx="190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523880" y="2376360"/>
                <a:ext cx="1905120" cy="19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23880" y="3354480"/>
                <a:ext cx="954000" cy="927000"/>
              </a:xfrm>
              <a:custGeom>
                <a:avLst/>
                <a:gdLst/>
                <a:ahLst/>
                <a:rect l="l" t="t" r="r" b="b"/>
                <a:pathLst>
                  <a:path w="601" h="584">
                    <a:moveTo>
                      <a:pt x="0" y="584"/>
                    </a:moveTo>
                    <a:lnTo>
                      <a:pt x="601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43000" y="42051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200400" y="420516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361960" y="290988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2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3124080" y="2590920"/>
            <a:ext cx="57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=∠B=∠ACD=∠BCD=45°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0040" y="3505320"/>
            <a:ext cx="49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∠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ADC=∠BDC=∠ACB=90°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gradFill rotWithShape="0">
            <a:gsLst>
              <a:gs pos="0">
                <a:srgbClr val="eaeffe"/>
              </a:gs>
              <a:gs pos="100000">
                <a:srgbClr val="ffffff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9907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已知：如图，房屋的顶角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AC=10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过屋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立柱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D⊥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屋椽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B=AC,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求顶架上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A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CA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度数。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57200" y="2133720"/>
            <a:ext cx="3505320" cy="2145960"/>
            <a:chOff x="457200" y="2133720"/>
            <a:chExt cx="3505320" cy="2145960"/>
          </a:xfrm>
        </p:grpSpPr>
        <p:grpSp>
          <p:nvGrpSpPr>
            <p:cNvPr id="225" name=""/>
            <p:cNvGrpSpPr/>
            <p:nvPr/>
          </p:nvGrpSpPr>
          <p:grpSpPr>
            <a:xfrm>
              <a:off x="750600" y="2647080"/>
              <a:ext cx="2880000" cy="1195200"/>
              <a:chOff x="750600" y="2647080"/>
              <a:chExt cx="2880000" cy="11952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750600" y="2647080"/>
                <a:ext cx="2880000" cy="1195200"/>
                <a:chOff x="750600" y="2647080"/>
                <a:chExt cx="2880000" cy="1195200"/>
              </a:xfrm>
            </p:grpSpPr>
            <p:sp>
              <p:nvSpPr>
                <p:cNvPr id="227" name=""/>
                <p:cNvSpPr/>
                <p:nvPr/>
              </p:nvSpPr>
              <p:spPr>
                <a:xfrm flipH="1">
                  <a:off x="750600" y="2647080"/>
                  <a:ext cx="1424520" cy="11952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206080" y="2647080"/>
                  <a:ext cx="1424520" cy="11952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75800" y="3822120"/>
                  <a:ext cx="2829600" cy="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2190960" y="2666880"/>
                <a:ext cx="0" cy="11559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1905120" y="2133720"/>
              <a:ext cx="51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" y="375912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B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5640" y="3759120"/>
              <a:ext cx="56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D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89400" y="3759120"/>
              <a:ext cx="57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C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4350960" y="2514600"/>
            <a:ext cx="22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解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在△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中，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25520" y="2819520"/>
            <a:ext cx="22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AB=A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已知）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27120" y="327672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∴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B=∠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等边对等角）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371484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∴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B=∠C=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88120" y="419112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=40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14720" y="457200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又∵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AD⊥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已知）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493884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∴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BAD=∠CA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（等腰三角形顶角的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平分线与底边上的高互相重合）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86120" y="5943600"/>
            <a:ext cx="301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∴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BAD=∠CAD=50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0060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0060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502320" y="3556080"/>
                <a:ext cx="1343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∠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6" name=""/>
          <p:cNvGrpSpPr/>
          <p:nvPr/>
        </p:nvGrpSpPr>
        <p:grpSpPr>
          <a:xfrm>
            <a:off x="0" y="-228600"/>
            <a:ext cx="6095880" cy="942840"/>
            <a:chOff x="0" y="-228600"/>
            <a:chExt cx="6095880" cy="942840"/>
          </a:xfrm>
        </p:grpSpPr>
        <p:grpSp>
          <p:nvGrpSpPr>
            <p:cNvPr id="247" name=""/>
            <p:cNvGrpSpPr/>
            <p:nvPr/>
          </p:nvGrpSpPr>
          <p:grpSpPr>
            <a:xfrm>
              <a:off x="0" y="-228600"/>
              <a:ext cx="3276720" cy="916920"/>
              <a:chOff x="0" y="-228600"/>
              <a:chExt cx="3276720" cy="91692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-30240"/>
                <a:ext cx="3276720" cy="62712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ffffff"/>
                  </a:gs>
                </a:gsLst>
                <a:lin ang="8100000"/>
              </a:gra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学一学</a:t>
                </a:r>
                <a:endParaRPr b="0" lang="en-US" sz="3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pic>
            <p:nvPicPr>
              <p:cNvPr id="249" name="677" descr=""/>
              <p:cNvPicPr/>
              <p:nvPr/>
            </p:nvPicPr>
            <p:blipFill>
              <a:blip r:embed="rId1"/>
              <a:stretch/>
            </p:blipFill>
            <p:spPr>
              <a:xfrm>
                <a:off x="69840" y="-15840"/>
                <a:ext cx="787320" cy="55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2581920" y="-228600"/>
                <a:ext cx="43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5400" spc="-1" strike="noStrike">
                    <a:solidFill>
                      <a:srgbClr val="000000"/>
                    </a:solidFill>
                    <a:latin typeface="Webdings"/>
                    <a:ea typeface="Webdings"/>
                  </a:rPr>
                  <a:t></a:t>
                </a:r>
                <a:endParaRPr b="0" lang="en-US" sz="5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 txBox="1"/>
            <p:nvPr/>
          </p:nvSpPr>
          <p:spPr>
            <a:xfrm>
              <a:off x="4191120" y="0"/>
              <a:ext cx="1904760" cy="71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行楷"/>
                </a:rPr>
                <a:t>例题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随堂练习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623320" y="-37080"/>
            <a:ext cx="3243960" cy="1519920"/>
            <a:chOff x="2623320" y="-37080"/>
            <a:chExt cx="3243960" cy="1519920"/>
          </a:xfrm>
        </p:grpSpPr>
        <p:sp>
          <p:nvSpPr>
            <p:cNvPr id="254" name=""/>
            <p:cNvSpPr/>
            <p:nvPr/>
          </p:nvSpPr>
          <p:spPr>
            <a:xfrm>
              <a:off x="2666880" y="726480"/>
              <a:ext cx="3200400" cy="5281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ff6600"/>
              </a:solidFill>
              <a:round/>
            </a:ln>
            <a:effectLst>
              <a:outerShdw dist="153753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623320" y="-37080"/>
              <a:ext cx="3104280" cy="1519920"/>
              <a:chOff x="2623320" y="-37080"/>
              <a:chExt cx="3104280" cy="1519920"/>
            </a:xfrm>
          </p:grpSpPr>
          <p:sp>
            <p:nvSpPr>
              <p:cNvPr id="256" name=""/>
              <p:cNvSpPr/>
              <p:nvPr/>
            </p:nvSpPr>
            <p:spPr>
              <a:xfrm rot="158400">
                <a:off x="2805840" y="132840"/>
                <a:ext cx="834840" cy="99072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84120" y="199440"/>
                <a:ext cx="834840" cy="92448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cc3300"/>
                  </a:gs>
                  <a:gs pos="100000">
                    <a:srgbClr val="ffcc66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961200">
                <a:off x="2805480" y="0"/>
                <a:ext cx="417240" cy="105660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11b0"/>
                  </a:gs>
                  <a:gs pos="50000">
                    <a:srgbClr val="ffcc66"/>
                  </a:gs>
                  <a:gs pos="100000">
                    <a:srgbClr val="ff11b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23080" y="1080"/>
                <a:ext cx="695520" cy="26424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36000" y="793800"/>
                <a:ext cx="556560" cy="59436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11b0"/>
                  </a:gs>
                  <a:gs pos="50000">
                    <a:srgbClr val="ff9900"/>
                  </a:gs>
                  <a:gs pos="100000">
                    <a:srgbClr val="ff11b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1629000">
                <a:off x="2666880" y="1205280"/>
                <a:ext cx="212760" cy="241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5ff"/>
                  </a:gs>
                  <a:gs pos="50000">
                    <a:srgbClr val="969696"/>
                  </a:gs>
                  <a:gs pos="100000">
                    <a:srgbClr val="e5f5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01720" y="67320"/>
                <a:ext cx="208440" cy="655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e5f5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49480" y="65520"/>
                <a:ext cx="187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随堂练习</a:t>
                </a:r>
                <a:endParaRPr b="0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"/>
          <p:cNvSpPr/>
          <p:nvPr/>
        </p:nvSpPr>
        <p:spPr>
          <a:xfrm>
            <a:off x="3962520" y="63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p84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65" name="678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中宋"/>
              </a:rPr>
              <a:t>本节课你的收获是什么？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743200" y="685800"/>
            <a:ext cx="1905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华文行楷"/>
              </a:rPr>
              <a:t>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华文行楷"/>
              <a:ea typeface="华文行楷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-304920" y="2176560"/>
            <a:ext cx="7925040" cy="1633320"/>
            <a:chOff x="-304920" y="2176560"/>
            <a:chExt cx="7925040" cy="1633320"/>
          </a:xfrm>
        </p:grpSpPr>
        <p:sp>
          <p:nvSpPr>
            <p:cNvPr id="269" name=""/>
            <p:cNvSpPr txBox="1"/>
            <p:nvPr/>
          </p:nvSpPr>
          <p:spPr>
            <a:xfrm>
              <a:off x="1219320" y="2971800"/>
              <a:ext cx="640080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d80090"/>
                    </a:solidFill>
                    <a:miter/>
                  </a:ln>
                  <a:solidFill>
                    <a:srgbClr val="d80090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本节课你学到了什么</a:t>
              </a:r>
              <a:r>
                <a:rPr b="0" lang="en-US" sz="2400" spc="1" strike="noStrike">
                  <a:ln w="9360">
                    <a:solidFill>
                      <a:srgbClr val="d80090"/>
                    </a:solidFill>
                    <a:miter/>
                  </a:ln>
                  <a:solidFill>
                    <a:srgbClr val="d80090"/>
                  </a:solidFill>
                  <a:effectLst>
                    <a:outerShdw dist="53966" dir="2700000" blurRad="0" rotWithShape="0">
                      <a:srgbClr val="c0c0c0"/>
                    </a:outerShdw>
                  </a:effectLst>
                  <a:latin typeface="宋体"/>
                </a:rPr>
                <a:t>?</a:t>
              </a:r>
              <a:endParaRPr b="0" lang="en-US" sz="2400" spc="1" strike="noStrike">
                <a:ln w="9360">
                  <a:solidFill>
                    <a:srgbClr val="d80090"/>
                  </a:solidFill>
                  <a:miter/>
                </a:ln>
                <a:solidFill>
                  <a:srgbClr val="d8009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-304920" y="2176560"/>
              <a:ext cx="1667160" cy="163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0" y="430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Times New Roman"/>
              </a:rPr>
              <a:t>作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478320" y="1668600"/>
            <a:ext cx="1779120" cy="1303200"/>
            <a:chOff x="3478320" y="1668600"/>
            <a:chExt cx="1779120" cy="1303200"/>
          </a:xfrm>
        </p:grpSpPr>
        <p:pic>
          <p:nvPicPr>
            <p:cNvPr id="274" name="051（致敬）" descr=""/>
            <p:cNvPicPr/>
            <p:nvPr/>
          </p:nvPicPr>
          <p:blipFill>
            <a:blip r:embed="rId2"/>
            <a:stretch/>
          </p:blipFill>
          <p:spPr>
            <a:xfrm>
              <a:off x="3478320" y="1668600"/>
              <a:ext cx="676080" cy="13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052（致敬）" descr=""/>
            <p:cNvPicPr/>
            <p:nvPr/>
          </p:nvPicPr>
          <p:blipFill>
            <a:blip r:embed="rId3"/>
            <a:stretch/>
          </p:blipFill>
          <p:spPr>
            <a:xfrm>
              <a:off x="4605120" y="1744560"/>
              <a:ext cx="652320" cy="116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6" name=""/>
          <p:cNvGrpSpPr/>
          <p:nvPr/>
        </p:nvGrpSpPr>
        <p:grpSpPr>
          <a:xfrm>
            <a:off x="2971800" y="76320"/>
            <a:ext cx="3429000" cy="1371600"/>
            <a:chOff x="2971800" y="76320"/>
            <a:chExt cx="3429000" cy="1371600"/>
          </a:xfrm>
        </p:grpSpPr>
        <p:sp>
          <p:nvSpPr>
            <p:cNvPr id="277" name=""/>
            <p:cNvSpPr/>
            <p:nvPr/>
          </p:nvSpPr>
          <p:spPr>
            <a:xfrm>
              <a:off x="2971800" y="76320"/>
              <a:ext cx="3429000" cy="137160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ccc"/>
                </a:gs>
              </a:gsLst>
              <a:lin ang="108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  </a:t>
              </a:r>
              <a:r>
                <a:rPr b="1" lang="zh-CN" sz="60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作业</a:t>
              </a:r>
              <a:endParaRPr b="0" lang="en-US" sz="6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4"/>
            <a:stretch/>
          </p:blipFill>
          <p:spPr>
            <a:xfrm>
              <a:off x="5410080" y="380880"/>
              <a:ext cx="56520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"/>
          <p:cNvSpPr/>
          <p:nvPr/>
        </p:nvSpPr>
        <p:spPr>
          <a:xfrm>
            <a:off x="420840" y="3438360"/>
            <a:ext cx="87231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、基础训练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P86  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3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、扩展训练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P83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试一试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.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endshow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gradFill rotWithShape="0">
            <a:gsLst>
              <a:gs pos="0">
                <a:srgbClr val="eaeffe"/>
              </a:gs>
              <a:gs pos="100000">
                <a:srgbClr val="ffffff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4800" y="0"/>
            <a:ext cx="1519200" cy="15192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895480" y="-15840"/>
            <a:ext cx="3352680" cy="703440"/>
            <a:chOff x="2895480" y="-15840"/>
            <a:chExt cx="3352680" cy="703440"/>
          </a:xfrm>
        </p:grpSpPr>
        <p:sp>
          <p:nvSpPr>
            <p:cNvPr id="56" name=""/>
            <p:cNvSpPr/>
            <p:nvPr/>
          </p:nvSpPr>
          <p:spPr>
            <a:xfrm>
              <a:off x="2895480" y="76320"/>
              <a:ext cx="3352680" cy="4838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1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创设情景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90080" y="-15840"/>
              <a:ext cx="63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66"/>
                  </a:solidFill>
                  <a:latin typeface="Arial"/>
                  <a:ea typeface="BatangChe"/>
                </a:rPr>
                <a:t>☞</a:t>
              </a:r>
              <a:endParaRPr b="0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037680" y="187200"/>
              <a:ext cx="314640" cy="331560"/>
              <a:chOff x="3037680" y="187200"/>
              <a:chExt cx="314640" cy="331560"/>
            </a:xfrm>
          </p:grpSpPr>
          <p:sp>
            <p:nvSpPr>
              <p:cNvPr id="59" name=""/>
              <p:cNvSpPr/>
              <p:nvPr/>
            </p:nvSpPr>
            <p:spPr>
              <a:xfrm>
                <a:off x="3143880" y="187200"/>
                <a:ext cx="208440" cy="278280"/>
              </a:xfrm>
              <a:custGeom>
                <a:avLst/>
                <a:gdLst/>
                <a:ahLst/>
                <a:rect l="l" t="t" r="r" b="b"/>
                <a:pathLst>
                  <a:path w="256" h="208">
                    <a:moveTo>
                      <a:pt x="0" y="16"/>
                    </a:moveTo>
                    <a:cubicBezTo>
                      <a:pt x="52" y="8"/>
                      <a:pt x="104" y="0"/>
                      <a:pt x="144" y="16"/>
                    </a:cubicBezTo>
                    <a:cubicBezTo>
                      <a:pt x="184" y="32"/>
                      <a:pt x="224" y="80"/>
                      <a:pt x="240" y="112"/>
                    </a:cubicBezTo>
                    <a:cubicBezTo>
                      <a:pt x="256" y="144"/>
                      <a:pt x="248" y="176"/>
                      <a:pt x="240" y="2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0760400">
                <a:off x="3039120" y="239040"/>
                <a:ext cx="208440" cy="278280"/>
              </a:xfrm>
              <a:custGeom>
                <a:avLst/>
                <a:gdLst/>
                <a:ahLst/>
                <a:rect l="l" t="t" r="r" b="b"/>
                <a:pathLst>
                  <a:path w="256" h="208">
                    <a:moveTo>
                      <a:pt x="0" y="16"/>
                    </a:moveTo>
                    <a:cubicBezTo>
                      <a:pt x="52" y="8"/>
                      <a:pt x="104" y="0"/>
                      <a:pt x="144" y="16"/>
                    </a:cubicBezTo>
                    <a:cubicBezTo>
                      <a:pt x="184" y="32"/>
                      <a:pt x="224" y="80"/>
                      <a:pt x="240" y="112"/>
                    </a:cubicBezTo>
                    <a:cubicBezTo>
                      <a:pt x="256" y="144"/>
                      <a:pt x="248" y="176"/>
                      <a:pt x="240" y="2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143880" y="204480"/>
                <a:ext cx="104400" cy="31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50760" y="1447920"/>
            <a:ext cx="9093240" cy="5422680"/>
            <a:chOff x="50760" y="1447920"/>
            <a:chExt cx="9093240" cy="5422680"/>
          </a:xfrm>
        </p:grpSpPr>
        <p:sp>
          <p:nvSpPr>
            <p:cNvPr id="63" name=""/>
            <p:cNvSpPr/>
            <p:nvPr/>
          </p:nvSpPr>
          <p:spPr>
            <a:xfrm>
              <a:off x="914400" y="43434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  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64" name="bg2" descr=""/>
            <p:cNvPicPr/>
            <p:nvPr/>
          </p:nvPicPr>
          <p:blipFill>
            <a:blip r:embed="rId2"/>
            <a:stretch/>
          </p:blipFill>
          <p:spPr>
            <a:xfrm>
              <a:off x="5029200" y="3886200"/>
              <a:ext cx="1116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914400" y="3886200"/>
              <a:ext cx="6629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47920" y="6413400"/>
              <a:ext cx="6248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09960" y="623556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龙王岛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 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68" name="pic39_200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50760" y="1447920"/>
              <a:ext cx="8381880" cy="487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3520" y="1041480"/>
            <a:ext cx="8229600" cy="5572440"/>
            <a:chOff x="533520" y="1041480"/>
            <a:chExt cx="8229600" cy="5572440"/>
          </a:xfrm>
        </p:grpSpPr>
        <p:pic>
          <p:nvPicPr>
            <p:cNvPr id="70" name="k2" descr=""/>
            <p:cNvPicPr/>
            <p:nvPr/>
          </p:nvPicPr>
          <p:blipFill>
            <a:blip r:embed="rId1"/>
            <a:stretch/>
          </p:blipFill>
          <p:spPr>
            <a:xfrm>
              <a:off x="533520" y="1041480"/>
              <a:ext cx="4348080" cy="49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k1" descr=""/>
            <p:cNvPicPr/>
            <p:nvPr/>
          </p:nvPicPr>
          <p:blipFill>
            <a:blip r:embed="rId2"/>
            <a:stretch/>
          </p:blipFill>
          <p:spPr>
            <a:xfrm>
              <a:off x="4800600" y="1117440"/>
              <a:ext cx="396252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038480" y="6032520"/>
              <a:ext cx="175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魁星阁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 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gradFill rotWithShape="0">
            <a:gsLst>
              <a:gs pos="0">
                <a:srgbClr val="eaeffe"/>
              </a:gs>
              <a:gs pos="100000">
                <a:srgbClr val="ffffff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624800" y="0"/>
            <a:ext cx="1519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gradFill rotWithShape="0">
            <a:gsLst>
              <a:gs pos="0">
                <a:srgbClr val="eaeffe"/>
              </a:gs>
              <a:gs pos="100000">
                <a:srgbClr val="ffffff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76" name="ccteclogo0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251760" cy="6400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624800" y="0"/>
            <a:ext cx="1519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685800"/>
            <a:ext cx="9023400" cy="3143160"/>
            <a:chOff x="0" y="685800"/>
            <a:chExt cx="9023400" cy="314316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0" y="822240"/>
              <a:ext cx="15552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39_200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5560" y="838080"/>
              <a:ext cx="2325600" cy="2232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1" name=""/>
            <p:cNvGrpSpPr/>
            <p:nvPr/>
          </p:nvGrpSpPr>
          <p:grpSpPr>
            <a:xfrm>
              <a:off x="127080" y="685800"/>
              <a:ext cx="8896320" cy="3143160"/>
              <a:chOff x="127080" y="685800"/>
              <a:chExt cx="8896320" cy="3143160"/>
            </a:xfrm>
          </p:grpSpPr>
          <p:pic>
            <p:nvPicPr>
              <p:cNvPr id="82" name="ccteclogo0" descr=""/>
              <p:cNvPicPr/>
              <p:nvPr/>
            </p:nvPicPr>
            <p:blipFill>
              <a:blip r:embed="rId4"/>
              <a:stretch/>
            </p:blipFill>
            <p:spPr>
              <a:xfrm>
                <a:off x="6642000" y="685800"/>
                <a:ext cx="2381400" cy="238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k2" descr=""/>
              <p:cNvPicPr/>
              <p:nvPr/>
            </p:nvPicPr>
            <p:blipFill>
              <a:blip r:embed="rId5"/>
              <a:stretch/>
            </p:blipFill>
            <p:spPr>
              <a:xfrm>
                <a:off x="2400480" y="1079640"/>
                <a:ext cx="2244600" cy="196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k1" descr=""/>
              <p:cNvPicPr/>
              <p:nvPr/>
            </p:nvPicPr>
            <p:blipFill>
              <a:blip r:embed="rId6"/>
              <a:stretch/>
            </p:blipFill>
            <p:spPr>
              <a:xfrm>
                <a:off x="4641840" y="1122480"/>
                <a:ext cx="2046240" cy="19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352680" y="3124080"/>
                <a:ext cx="1676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魁星阁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中宋"/>
                  </a:rPr>
                  <a:t> </a:t>
                </a:r>
                <a:endParaRPr b="0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5392800">
                <a:off x="436680" y="608760"/>
                <a:ext cx="206280" cy="700200"/>
              </a:xfrm>
              <a:custGeom>
                <a:avLst/>
                <a:gdLst>
                  <a:gd name="textAreaLeft" fmla="*/ 10080 w 206280"/>
                  <a:gd name="textAreaRight" fmla="*/ 196200 w 206280"/>
                  <a:gd name="textAreaTop" fmla="*/ 10080 h 700200"/>
                  <a:gd name="textAreaBottom" fmla="*/ 690120 h 700200"/>
                </a:gdLst>
                <a:ahLst/>
                <a:rect l="textAreaLeft" t="textAreaTop" r="textAreaRight" b="textAreaBottom"/>
                <a:pathLst>
                  <a:path w="21600" h="73229">
                    <a:moveTo>
                      <a:pt x="3600" y="0"/>
                    </a:moveTo>
                    <a:arcTo wR="3600" hR="3600" stAng="16200000" swAng="-5400000"/>
                    <a:lnTo>
                      <a:pt x="0" y="69629"/>
                    </a:lnTo>
                    <a:arcTo wR="3600" hR="3600" stAng="10800000" swAng="-5400000"/>
                    <a:lnTo>
                      <a:pt x="18000" y="732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lin ang="13500000"/>
              </a:gradFill>
              <a:ln w="19080">
                <a:solidFill>
                  <a:srgbClr val="cc0000"/>
                </a:solidFill>
                <a:miter/>
              </a:ln>
              <a:effectLst>
                <a:outerShdw dist="107932" dir="270000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127080" y="2181240"/>
                <a:ext cx="1988640" cy="701640"/>
                <a:chOff x="127080" y="2181240"/>
                <a:chExt cx="1988640" cy="7016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27080" y="2181240"/>
                  <a:ext cx="183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74320" y="2216520"/>
                  <a:ext cx="1841400" cy="51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423720" y="3371760"/>
                <a:ext cx="17337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880" y="3124080"/>
                <a:ext cx="1428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龙王岛</a:t>
                </a:r>
                <a:r>
                  <a:rPr b="1" lang="zh-CN" sz="3200" spc="-1" strike="noStrike">
                    <a:solidFill>
                      <a:srgbClr val="0000ff"/>
                    </a:solidFill>
                    <a:latin typeface="Times New Roman"/>
                    <a:ea typeface="华文中宋"/>
                  </a:rPr>
                  <a:t> </a:t>
                </a:r>
                <a:endParaRPr b="0" lang="en-US" sz="32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152280" y="4422600"/>
            <a:ext cx="630360" cy="682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2120" y="44956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通过刚刚的欣赏，利用数学的观点去思考，你观察到了什么？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715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通过观察请你说出这些三角形有什么样的共同特征？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8600" y="3718080"/>
            <a:ext cx="3352680" cy="703440"/>
            <a:chOff x="228600" y="3718080"/>
            <a:chExt cx="3352680" cy="703440"/>
          </a:xfrm>
        </p:grpSpPr>
        <p:sp>
          <p:nvSpPr>
            <p:cNvPr id="96" name=""/>
            <p:cNvSpPr/>
            <p:nvPr/>
          </p:nvSpPr>
          <p:spPr>
            <a:xfrm>
              <a:off x="228600" y="3810240"/>
              <a:ext cx="335268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11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r>
                <a:rPr b="1" lang="zh-CN" sz="4000" spc="-1" strike="noStrike">
                  <a:solidFill>
                    <a:srgbClr val="ff3300"/>
                  </a:solidFill>
                  <a:latin typeface="Arial"/>
                  <a:ea typeface="隶书"/>
                </a:rPr>
                <a:t>问 题</a:t>
              </a:r>
              <a:endParaRPr b="0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3200" y="3718080"/>
              <a:ext cx="63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66"/>
                  </a:solidFill>
                  <a:latin typeface="Arial"/>
                  <a:ea typeface="BatangChe"/>
                </a:rPr>
                <a:t>☞</a:t>
              </a:r>
              <a:endParaRPr b="0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70800" y="3921120"/>
              <a:ext cx="314640" cy="331560"/>
              <a:chOff x="370800" y="3921120"/>
              <a:chExt cx="314640" cy="331560"/>
            </a:xfrm>
          </p:grpSpPr>
          <p:sp>
            <p:nvSpPr>
              <p:cNvPr id="99" name=""/>
              <p:cNvSpPr/>
              <p:nvPr/>
            </p:nvSpPr>
            <p:spPr>
              <a:xfrm>
                <a:off x="477000" y="3921120"/>
                <a:ext cx="208440" cy="278280"/>
              </a:xfrm>
              <a:custGeom>
                <a:avLst/>
                <a:gdLst/>
                <a:ahLst/>
                <a:rect l="l" t="t" r="r" b="b"/>
                <a:pathLst>
                  <a:path w="256" h="208">
                    <a:moveTo>
                      <a:pt x="0" y="16"/>
                    </a:moveTo>
                    <a:cubicBezTo>
                      <a:pt x="52" y="8"/>
                      <a:pt x="104" y="0"/>
                      <a:pt x="144" y="16"/>
                    </a:cubicBezTo>
                    <a:cubicBezTo>
                      <a:pt x="184" y="32"/>
                      <a:pt x="224" y="80"/>
                      <a:pt x="240" y="112"/>
                    </a:cubicBezTo>
                    <a:cubicBezTo>
                      <a:pt x="256" y="144"/>
                      <a:pt x="248" y="176"/>
                      <a:pt x="240" y="2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0760400">
                <a:off x="372240" y="3972960"/>
                <a:ext cx="208440" cy="278280"/>
              </a:xfrm>
              <a:custGeom>
                <a:avLst/>
                <a:gdLst/>
                <a:ahLst/>
                <a:rect l="l" t="t" r="r" b="b"/>
                <a:pathLst>
                  <a:path w="256" h="208">
                    <a:moveTo>
                      <a:pt x="0" y="16"/>
                    </a:moveTo>
                    <a:cubicBezTo>
                      <a:pt x="52" y="8"/>
                      <a:pt x="104" y="0"/>
                      <a:pt x="144" y="16"/>
                    </a:cubicBezTo>
                    <a:cubicBezTo>
                      <a:pt x="184" y="32"/>
                      <a:pt x="224" y="80"/>
                      <a:pt x="240" y="112"/>
                    </a:cubicBezTo>
                    <a:cubicBezTo>
                      <a:pt x="256" y="144"/>
                      <a:pt x="248" y="176"/>
                      <a:pt x="240" y="2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77000" y="3938400"/>
                <a:ext cx="104400" cy="312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-360" y="-251640"/>
            <a:ext cx="7397280" cy="969120"/>
            <a:chOff x="-360" y="-251640"/>
            <a:chExt cx="7397280" cy="969120"/>
          </a:xfrm>
        </p:grpSpPr>
        <p:sp>
          <p:nvSpPr>
            <p:cNvPr id="103" name=""/>
            <p:cNvSpPr/>
            <p:nvPr/>
          </p:nvSpPr>
          <p:spPr>
            <a:xfrm rot="17553000">
              <a:off x="-21240" y="-146880"/>
              <a:ext cx="353880" cy="190440"/>
            </a:xfrm>
            <a:custGeom>
              <a:avLst/>
              <a:gdLst>
                <a:gd name="textAreaLeft" fmla="*/ 61920 w 353880"/>
                <a:gd name="textAreaRight" fmla="*/ 256680 w 353880"/>
                <a:gd name="textAreaTop" fmla="*/ 25560 h 190440"/>
                <a:gd name="textAreaBottom" fmla="*/ 16488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328680"/>
              <a:ext cx="2228760" cy="388800"/>
            </a:xfrm>
            <a:prstGeom prst="rect">
              <a:avLst/>
            </a:prstGeom>
            <a:gradFill rotWithShape="0">
              <a:gsLst>
                <a:gs pos="0">
                  <a:srgbClr val="04b7ca"/>
                </a:gs>
                <a:gs pos="100000">
                  <a:srgbClr val="e5f5ff"/>
                </a:gs>
              </a:gsLst>
              <a:lin ang="10800000"/>
            </a:gra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9280" y="-117360"/>
              <a:ext cx="555840" cy="466560"/>
            </a:xfrm>
            <a:prstGeom prst="ellipse">
              <a:avLst/>
            </a:prstGeom>
            <a:gradFill rotWithShape="0">
              <a:gsLst>
                <a:gs pos="0">
                  <a:srgbClr val="e5f5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0520" y="15840"/>
              <a:ext cx="111240" cy="55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8440" y="15840"/>
              <a:ext cx="110880" cy="55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300200">
              <a:off x="446760" y="149760"/>
              <a:ext cx="77760" cy="168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66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960" y="76320"/>
              <a:ext cx="276120" cy="137880"/>
            </a:xfrm>
            <a:prstGeom prst="rightArrow">
              <a:avLst>
                <a:gd name="adj1" fmla="val 50000"/>
                <a:gd name="adj2" fmla="val 50065"/>
              </a:avLst>
            </a:prstGeom>
            <a:gradFill rotWithShape="0">
              <a:gsLst>
                <a:gs pos="0">
                  <a:srgbClr val="ff11b0"/>
                </a:gs>
                <a:gs pos="50000">
                  <a:srgbClr val="ffcc66"/>
                </a:gs>
                <a:gs pos="100000">
                  <a:srgbClr val="ff11b0"/>
                </a:gs>
              </a:gsLst>
              <a:lin ang="5400000"/>
            </a:gra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600" y="406440"/>
              <a:ext cx="501840" cy="20016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ff6600"/>
                </a:gs>
                <a:gs pos="50000">
                  <a:srgbClr val="ffcc66"/>
                </a:gs>
                <a:gs pos="100000">
                  <a:srgbClr val="ff6600"/>
                </a:gs>
              </a:gsLst>
              <a:lin ang="5400000"/>
            </a:gra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1640" y="304920"/>
              <a:ext cx="30492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0"/>
                  </a:moveTo>
                  <a:lnTo>
                    <a:pt x="0" y="144"/>
                  </a:lnTo>
                  <a:lnTo>
                    <a:pt x="192" y="144"/>
                  </a:ln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 rot="68400">
              <a:off x="1218960" y="-75960"/>
              <a:ext cx="6172200" cy="59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仔细思考努力探索</a:t>
              </a:r>
              <a:endPara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360" y="5549760"/>
            <a:ext cx="7430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81320" y="1214280"/>
            <a:ext cx="1203480" cy="2468880"/>
          </a:xfrm>
          <a:custGeom>
            <a:avLst/>
            <a:gdLst/>
            <a:ahLst/>
            <a:rect l="l" t="t" r="r" b="b"/>
            <a:pathLst>
              <a:path w="758" h="1555">
                <a:moveTo>
                  <a:pt x="758" y="0"/>
                </a:moveTo>
                <a:lnTo>
                  <a:pt x="0" y="1555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1227240"/>
            <a:ext cx="1163880" cy="2430360"/>
          </a:xfrm>
          <a:custGeom>
            <a:avLst/>
            <a:gdLst/>
            <a:ahLst/>
            <a:rect l="l" t="t" r="r" b="b"/>
            <a:pathLst>
              <a:path w="733" h="1531">
                <a:moveTo>
                  <a:pt x="0" y="0"/>
                </a:moveTo>
                <a:lnTo>
                  <a:pt x="733" y="1531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3670200"/>
            <a:ext cx="2354400" cy="12960"/>
          </a:xfrm>
          <a:custGeom>
            <a:avLst/>
            <a:gdLst/>
            <a:ahLst/>
            <a:rect l="l" t="t" r="r" b="b"/>
            <a:pathLst>
              <a:path w="1483" h="8">
                <a:moveTo>
                  <a:pt x="0" y="8"/>
                </a:moveTo>
                <a:lnTo>
                  <a:pt x="1483" y="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32760" bIns="-327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19520" y="825480"/>
            <a:ext cx="3733560" cy="3177720"/>
            <a:chOff x="2819520" y="825480"/>
            <a:chExt cx="3733560" cy="3177720"/>
          </a:xfrm>
        </p:grpSpPr>
        <p:sp>
          <p:nvSpPr>
            <p:cNvPr id="118" name=""/>
            <p:cNvSpPr/>
            <p:nvPr/>
          </p:nvSpPr>
          <p:spPr>
            <a:xfrm>
              <a:off x="3200400" y="1244520"/>
              <a:ext cx="2362320" cy="2438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1120" y="825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A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19520" y="3505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B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86400" y="35434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C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981080" y="152280"/>
            <a:ext cx="5707080" cy="4838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11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等腰三角形的基本概念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960" y="45212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两条边相等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的三角形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45086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叫做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等腰三角形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5480" y="5016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相等的两条边都叫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6840" y="4944960"/>
            <a:ext cx="102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5029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另一条边叫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9150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底边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55371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两腰的夹角叫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4400" y="5448240"/>
            <a:ext cx="15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顶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60800" y="554184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腰和底边的夹角叫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07240" y="54100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底角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4" name="line23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0"/>
            <a:ext cx="2209320" cy="884160"/>
            <a:chOff x="0" y="0"/>
            <a:chExt cx="2209320" cy="884160"/>
          </a:xfrm>
        </p:grpSpPr>
        <p:sp>
          <p:nvSpPr>
            <p:cNvPr id="137" name=""/>
            <p:cNvSpPr/>
            <p:nvPr/>
          </p:nvSpPr>
          <p:spPr>
            <a:xfrm>
              <a:off x="0" y="503280"/>
              <a:ext cx="2057040" cy="380880"/>
            </a:xfrm>
            <a:prstGeom prst="rect">
              <a:avLst/>
            </a:prstGeom>
            <a:gradFill rotWithShape="0">
              <a:gsLst>
                <a:gs pos="0">
                  <a:srgbClr val="e5f5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5440" y="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一做</a:t>
              </a:r>
              <a:endParaRPr b="0" lang="en-US" sz="3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60" y="426960"/>
              <a:ext cx="609120" cy="3049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560" y="673200"/>
              <a:ext cx="15192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5f5ff"/>
                </a:gs>
                <a:gs pos="50000">
                  <a:srgbClr val="969696"/>
                </a:gs>
                <a:gs pos="100000">
                  <a:srgbClr val="e5f5ff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960" y="122040"/>
              <a:ext cx="609120" cy="3812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960" y="46080"/>
              <a:ext cx="607680" cy="1522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4560" y="46080"/>
              <a:ext cx="151920" cy="7596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e5f5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0" y="388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6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143000" y="5143680"/>
            <a:ext cx="5257800" cy="724680"/>
            <a:chOff x="1143000" y="5143680"/>
            <a:chExt cx="5257800" cy="724680"/>
          </a:xfrm>
        </p:grpSpPr>
        <p:sp>
          <p:nvSpPr>
            <p:cNvPr id="147" name=""/>
            <p:cNvSpPr/>
            <p:nvPr/>
          </p:nvSpPr>
          <p:spPr>
            <a:xfrm>
              <a:off x="2666880" y="5295600"/>
              <a:ext cx="3733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华文中宋"/>
                </a:rPr>
                <a:t>你发现了什么</a:t>
              </a: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华文中宋"/>
                </a:rPr>
                <a:t>? 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143000" y="5143680"/>
              <a:ext cx="2216160" cy="724680"/>
              <a:chOff x="1143000" y="5143680"/>
              <a:chExt cx="2216160" cy="724680"/>
            </a:xfrm>
          </p:grpSpPr>
          <p:pic>
            <p:nvPicPr>
              <p:cNvPr id="149" name="问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5278320"/>
                <a:ext cx="46368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1530360" y="5143680"/>
                <a:ext cx="182880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990000"/>
                    </a:solidFill>
                    <a:latin typeface="华文行楷"/>
                    <a:ea typeface="华文行楷"/>
                  </a:rPr>
                  <a:t>探索</a:t>
                </a:r>
                <a:r>
                  <a:rPr b="1" lang="zh-CN" sz="3600" spc="-1" strike="noStrike">
                    <a:solidFill>
                      <a:srgbClr val="990000"/>
                    </a:solidFill>
                    <a:latin typeface="方正舒体"/>
                    <a:ea typeface="方正舒体"/>
                  </a:rPr>
                  <a:t>:</a:t>
                </a:r>
                <a:r>
                  <a:rPr b="1" lang="zh-CN" sz="3600" spc="-1" strike="noStrike">
                    <a:solidFill>
                      <a:srgbClr val="ff3300"/>
                    </a:solidFill>
                    <a:latin typeface="方正舒体"/>
                    <a:ea typeface="方正舒体"/>
                  </a:rPr>
                  <a:t> </a:t>
                </a:r>
                <a:endParaRPr b="0" lang="en-US" sz="3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0" y="838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做一张等腰三角形的半透明纸片，每个人的等腰三角形的大小和形状可以不一样，如图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9.3.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把纸片对折，让两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重叠在一起，折痕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D.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2133720"/>
          <a:ext cx="8153280" cy="32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8153280" cy="32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346040" y="59436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等腰三角形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两底角相等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5867280"/>
            <a:ext cx="36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（简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等边对等角）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-101520"/>
          <a:ext cx="8153640" cy="322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-101520"/>
                    <a:ext cx="815364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838080" y="2641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由于折痕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是它的对称轴，因此我们可以得到以下结论：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838080" y="3505320"/>
            <a:ext cx="470160" cy="507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19320" y="3505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D=C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63840" y="351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底边的中线；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838080" y="4038480"/>
            <a:ext cx="459000" cy="470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96280" y="403848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BAD=∠CAD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2120" y="40514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为顶角的平分线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388160" y="44956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DB=∠ADC=90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，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4572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A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又为底边上的高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200400" y="3352680"/>
            <a:ext cx="6019560" cy="2666880"/>
            <a:chOff x="3200400" y="3352680"/>
            <a:chExt cx="6019560" cy="2666880"/>
          </a:xfrm>
        </p:grpSpPr>
        <p:sp>
          <p:nvSpPr>
            <p:cNvPr id="170" name=""/>
            <p:cNvSpPr/>
            <p:nvPr/>
          </p:nvSpPr>
          <p:spPr>
            <a:xfrm>
              <a:off x="6140880" y="3352680"/>
              <a:ext cx="3017880" cy="1407600"/>
            </a:xfrm>
            <a:prstGeom prst="cloudCallout">
              <a:avLst>
                <a:gd name="adj1" fmla="val 25212"/>
                <a:gd name="adj2" fmla="val 72805"/>
              </a:avLst>
            </a:prstGeom>
            <a:gradFill rotWithShape="0">
              <a:gsLst>
                <a:gs pos="0">
                  <a:srgbClr val="ffeebf"/>
                </a:gs>
                <a:gs pos="100000">
                  <a:srgbClr val="ffffff"/>
                </a:gs>
              </a:gsLst>
              <a:lin ang="13500000"/>
            </a:gradFill>
            <a:ln w="38160">
              <a:solidFill>
                <a:srgbClr val="ff3300"/>
              </a:solidFill>
              <a:miter/>
            </a:ln>
            <a:effectLst>
              <a:outerShdw dist="107932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请你用自己的语言叙述左边的结论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5352840"/>
              <a:ext cx="5958360" cy="666720"/>
            </a:xfrm>
            <a:prstGeom prst="rect">
              <a:avLst/>
            </a:prstGeom>
            <a:gradFill rotWithShape="0">
              <a:gsLst>
                <a:gs pos="0">
                  <a:srgbClr val="f7f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172" name="gif_25" descr=""/>
            <p:cNvPicPr/>
            <p:nvPr/>
          </p:nvPicPr>
          <p:blipFill>
            <a:blip r:embed="rId7"/>
            <a:stretch/>
          </p:blipFill>
          <p:spPr>
            <a:xfrm>
              <a:off x="8152920" y="4658400"/>
              <a:ext cx="1067040" cy="136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762120" y="49528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等腰三角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底边的中线，顶角的角平分线和底边上的高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互相重合，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53640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简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“三线合一”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11b0"/>
                </a:solidFill>
                <a:latin typeface="Times New Roman"/>
              </a:rPr>
              <a:t>          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733920" y="0"/>
            <a:ext cx="2666520" cy="703440"/>
            <a:chOff x="3733920" y="0"/>
            <a:chExt cx="2666520" cy="703440"/>
          </a:xfrm>
        </p:grpSpPr>
        <p:sp>
          <p:nvSpPr>
            <p:cNvPr id="177" name=""/>
            <p:cNvSpPr/>
            <p:nvPr/>
          </p:nvSpPr>
          <p:spPr>
            <a:xfrm>
              <a:off x="4267080" y="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66"/>
                  </a:solidFill>
                  <a:latin typeface="Times New Roman"/>
                  <a:ea typeface="华文新魏"/>
                </a:rPr>
                <a:t>动脑筋</a:t>
              </a:r>
              <a:endParaRPr b="0" lang="en-US" sz="4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pic>
          <p:nvPicPr>
            <p:cNvPr id="178" name="GY_021" descr=""/>
            <p:cNvPicPr/>
            <p:nvPr/>
          </p:nvPicPr>
          <p:blipFill>
            <a:blip r:embed="rId2"/>
            <a:stretch/>
          </p:blipFill>
          <p:spPr>
            <a:xfrm>
              <a:off x="3760560" y="91800"/>
              <a:ext cx="58248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733920" y="42840"/>
              <a:ext cx="2209680" cy="6588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7520" y="815040"/>
            <a:ext cx="2390760" cy="969480"/>
            <a:chOff x="47520" y="815040"/>
            <a:chExt cx="2390760" cy="969480"/>
          </a:xfrm>
        </p:grpSpPr>
        <p:sp>
          <p:nvSpPr>
            <p:cNvPr id="181" name=""/>
            <p:cNvSpPr/>
            <p:nvPr/>
          </p:nvSpPr>
          <p:spPr>
            <a:xfrm>
              <a:off x="1054080" y="914400"/>
              <a:ext cx="138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试一试</a:t>
              </a:r>
              <a:endParaRPr b="0" lang="en-US" sz="2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7520" y="815040"/>
              <a:ext cx="2229120" cy="969480"/>
              <a:chOff x="47520" y="815040"/>
              <a:chExt cx="2229120" cy="969480"/>
            </a:xfrm>
          </p:grpSpPr>
          <p:sp>
            <p:nvSpPr>
              <p:cNvPr id="183" name=""/>
              <p:cNvSpPr/>
              <p:nvPr/>
            </p:nvSpPr>
            <p:spPr>
              <a:xfrm rot="17553000">
                <a:off x="25920" y="919800"/>
                <a:ext cx="354240" cy="190440"/>
              </a:xfrm>
              <a:custGeom>
                <a:avLst/>
                <a:gdLst>
                  <a:gd name="textAreaLeft" fmla="*/ 61920 w 354240"/>
                  <a:gd name="textAreaRight" fmla="*/ 257040 w 354240"/>
                  <a:gd name="textAreaTop" fmla="*/ 25560 h 190440"/>
                  <a:gd name="textAreaBottom" fmla="*/ 164880 h 19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520" y="1395360"/>
                <a:ext cx="2229120" cy="389160"/>
              </a:xfrm>
              <a:prstGeom prst="rect">
                <a:avLst/>
              </a:prstGeom>
              <a:gradFill rotWithShape="0">
                <a:gsLst>
                  <a:gs pos="0">
                    <a:srgbClr val="04b7ca"/>
                  </a:gs>
                  <a:gs pos="100000">
                    <a:srgbClr val="e5f5ff"/>
                  </a:gs>
                </a:gsLst>
                <a:lin ang="10800000"/>
              </a:gra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7160" y="949320"/>
                <a:ext cx="555480" cy="466560"/>
              </a:xfrm>
              <a:prstGeom prst="ellipse">
                <a:avLst/>
              </a:prstGeom>
              <a:gradFill rotWithShape="0">
                <a:gsLst>
                  <a:gs pos="0">
                    <a:srgbClr val="e5f5ff"/>
                  </a:gs>
                  <a:gs pos="100000">
                    <a:srgbClr val="ffcc99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8040" y="1082520"/>
                <a:ext cx="1112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5960" y="1082520"/>
                <a:ext cx="111240" cy="558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300200">
                <a:off x="494280" y="1216800"/>
                <a:ext cx="77760" cy="168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66">
                  <a:alpha val="50000"/>
                </a:srgbClr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5480" y="1143000"/>
                <a:ext cx="276120" cy="138240"/>
              </a:xfrm>
              <a:prstGeom prst="rightArrow">
                <a:avLst>
                  <a:gd name="adj1" fmla="val 50000"/>
                  <a:gd name="adj2" fmla="val 49935"/>
                </a:avLst>
              </a:prstGeom>
              <a:gradFill rotWithShape="0">
                <a:gsLst>
                  <a:gs pos="0">
                    <a:srgbClr val="ff11b0"/>
                  </a:gs>
                  <a:gs pos="50000">
                    <a:srgbClr val="ffcc66"/>
                  </a:gs>
                  <a:gs pos="100000">
                    <a:srgbClr val="ff11b0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14480" y="1473120"/>
                <a:ext cx="501480" cy="20016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6600"/>
                  </a:gs>
                  <a:gs pos="50000">
                    <a:srgbClr val="ffcc66"/>
                  </a:gs>
                  <a:gs pos="100000">
                    <a:srgbClr val="ff6600"/>
                  </a:gs>
                </a:gsLst>
                <a:lin ang="5400000"/>
              </a:gra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9160" y="1371600"/>
                <a:ext cx="304920" cy="228600"/>
              </a:xfrm>
              <a:custGeom>
                <a:avLst/>
                <a:gdLst/>
                <a:ahLst/>
                <a:rect l="l" t="t" r="r" b="b"/>
                <a:pathLst>
                  <a:path w="192" h="144">
                    <a:moveTo>
                      <a:pt x="0" y="0"/>
                    </a:moveTo>
                    <a:lnTo>
                      <a:pt x="0" y="144"/>
                    </a:lnTo>
                    <a:lnTo>
                      <a:pt x="192" y="144"/>
                    </a:ln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441972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75°, 30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3276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0°,40°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55°,55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600280" y="1430280"/>
            <a:ext cx="6162840" cy="4384800"/>
            <a:chOff x="2600280" y="1430280"/>
            <a:chExt cx="6162840" cy="4384800"/>
          </a:xfrm>
        </p:grpSpPr>
        <p:sp>
          <p:nvSpPr>
            <p:cNvPr id="195" name=""/>
            <p:cNvSpPr/>
            <p:nvPr/>
          </p:nvSpPr>
          <p:spPr>
            <a:xfrm>
              <a:off x="3124080" y="1485720"/>
              <a:ext cx="5639040" cy="41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1.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等腰三角形一个底角为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75°,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它的另外两个角为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_______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⒉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等腰三角形一个角为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70°,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它的另外两个角为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_____ ______________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⒊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等腰三角形一个角为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110°,</a:t>
              </a:r>
              <a:r>
                <a:rPr b="1" lang="zh-CN" sz="2400" spc="-1" strike="noStrike">
                  <a:solidFill>
                    <a:srgbClr val="0000ff"/>
                  </a:solidFill>
                  <a:latin typeface="宋体"/>
                </a:rPr>
                <a:t>它的另外两个角为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______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600280" y="1430280"/>
              <a:ext cx="3876840" cy="4384800"/>
              <a:chOff x="2600280" y="1430280"/>
              <a:chExt cx="3876840" cy="4384800"/>
            </a:xfrm>
          </p:grpSpPr>
          <p:sp>
            <p:nvSpPr>
              <p:cNvPr id="197" name=""/>
              <p:cNvSpPr/>
              <p:nvPr/>
            </p:nvSpPr>
            <p:spPr>
              <a:xfrm>
                <a:off x="2600280" y="1430280"/>
                <a:ext cx="41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</a:t>
                </a:r>
                <a:endParaRPr b="0" lang="en-US" sz="4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00280" y="2789280"/>
                <a:ext cx="41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6600"/>
                    </a:solidFill>
                    <a:latin typeface="Wingdings 2"/>
                    <a:ea typeface="Wingdings 2"/>
                  </a:rPr>
                  <a:t></a:t>
                </a:r>
                <a:endParaRPr b="0" lang="en-US" sz="4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00280" y="4287960"/>
                <a:ext cx="410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</a:t>
                </a:r>
                <a:endParaRPr b="0" lang="en-US" sz="4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32480" y="5357880"/>
                <a:ext cx="1844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4343400" y="4800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35°,35°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0:32:51Z</dcterms:created>
  <dc:creator>彭万保</dc:creator>
  <dc:description>北师大《数学(下)》第一章整式,
powerpoint演示文稿</dc:description>
  <dc:language>en-US</dc:language>
  <cp:lastModifiedBy>user</cp:lastModifiedBy>
  <dcterms:modified xsi:type="dcterms:W3CDTF">2004-04-01T04:05:55Z</dcterms:modified>
  <cp:revision>1606</cp:revision>
  <dc:subject/>
  <dc:title>第13课 8、完全平方公式(1)</dc:title>
</cp:coreProperties>
</file>