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4F4E-32BE-410D-9584-261450FE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B88-3DAE-4D22-BD06-DF699488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94A-B727-4E97-A717-3DF9D967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2F2-EF0E-4CBC-B3EA-CC57789B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3FC6-6491-4818-AAA5-5BDBDD95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6356-86BE-40DC-B065-4E5DEB2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28AA-E586-4492-9328-B70EE41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AB06-6789-4259-8DE4-075C9F71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D5D-4414-4769-AD18-71CDDCA6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19A5-F982-441F-BC86-6473CD16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6DE5-DE29-45B4-AAEC-916E57E1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877-E8F1-4D42-AFA5-D67E2785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78F1-E322-4628-AF15-0C9BBE5C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44F4-9114-4AA6-9D5D-24FBBB1B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A67B-8407-4A98-BE29-C8FF159A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471C-03F8-4538-B73E-E994107F0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7BF4-0F7B-4039-8F0D-84981C07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048-5386-4912-B4F3-3291E059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686-77CF-4CD6-8334-22D63EE1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EC1-C1D1-4654-A6C6-0DB53D74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4BE9-F8A4-42A6-808B-03851B17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FAD-7967-4420-A00E-683B22A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96E-075C-4929-8FA9-D5E30CC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35D-FBAE-4887-8253-4FEA8466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F038-6A29-40A4-AF38-12444096FF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8028-7451-4087-B51E-F240CAB314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53320" y="121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教学目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86120" y="2057400"/>
            <a:ext cx="28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使学生了解等腰三角形的有关概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掌握等腰三角形的性质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8720" y="335268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掌握等腰三角形性质的基础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够灵活地运用它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54640" y="45115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了解等腰三角形有关概念的基础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一步来学习等边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960" y="5943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重点：等腰三角形等边对等角性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00400" y="0"/>
            <a:ext cx="32004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9.3 </a:t>
            </a: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等腰三角形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143000" y="228600"/>
            <a:ext cx="175248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"/>
          <p:cNvSpPr/>
          <p:nvPr/>
        </p:nvSpPr>
        <p:spPr>
          <a:xfrm>
            <a:off x="3027240" y="15238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等腰三角形的性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63200" y="1523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等边对等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48760" y="2286000"/>
            <a:ext cx="330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等腰三角形的顶角平分线、底边上的中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底边上的高互相重合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三线合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76960" y="3429000"/>
            <a:ext cx="33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由等腰三角形的性质推出等边三角形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各角都相等，且都等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648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三线合一”性质在实际应用中，只要推出其中一个            结论成立，其它两个结论一下成立，所以关键是寻找其中一个结论成立的条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28400" y="11318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42440" y="2968560"/>
            <a:ext cx="50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页，习题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99960" y="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90a8"/>
                </a:solidFill>
                <a:latin typeface="Times New Roman"/>
              </a:rPr>
              <a:t>做一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03840" y="685800"/>
            <a:ext cx="44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让学生在练习本上画一个等腰三角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出字母，问 什么样的三角形是等腰三角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226560" y="1600200"/>
            <a:ext cx="2763000" cy="2329560"/>
            <a:chOff x="6226560" y="1600200"/>
            <a:chExt cx="2763000" cy="2329560"/>
          </a:xfrm>
        </p:grpSpPr>
        <p:sp>
          <p:nvSpPr>
            <p:cNvPr id="136" name=""/>
            <p:cNvSpPr/>
            <p:nvPr/>
          </p:nvSpPr>
          <p:spPr>
            <a:xfrm flipH="1">
              <a:off x="6392520" y="19810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35880" y="1981080"/>
              <a:ext cx="11430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92880" y="342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14360" y="160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6560" y="3470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89240" y="347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90400" y="2286000"/>
            <a:ext cx="40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△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中，如果有两边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 =AC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那么它是等腰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3886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请指出 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腰、顶角、底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60080" y="4648320"/>
            <a:ext cx="490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相等的两边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都叫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腰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另一边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底边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两腰的夹角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BA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叫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顶角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腰与底边的夹角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CB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叫做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底角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57480" y="1752480"/>
            <a:ext cx="4008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在请同学们</a:t>
            </a:r>
            <a:r>
              <a:rPr b="1" lang="zh-CN" sz="2800" spc="-1" strike="noStrike">
                <a:solidFill>
                  <a:srgbClr val="0099cc"/>
                </a:solidFill>
                <a:latin typeface="黑体"/>
                <a:ea typeface="黑体"/>
              </a:rPr>
              <a:t>做一张等腰三角形的半透明纸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个人的等腰三角形的大小和形状可以不一样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纸片对折，让两腰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叠在一起，折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66cc"/>
                </a:solidFill>
                <a:latin typeface="黑体"/>
                <a:ea typeface="黑体"/>
              </a:rPr>
              <a:t>你能发现什么现象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请大家尽可能多地写出结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 rot="917400">
            <a:off x="1066320" y="0"/>
            <a:ext cx="175284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实验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7" name="BD00028_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 rot="211800">
            <a:off x="1219320" y="0"/>
            <a:ext cx="1371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结论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4915800" y="330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等腰三角形是轴对称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28800" y="939960"/>
            <a:ext cx="227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 =∠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74440" y="1473120"/>
            <a:ext cx="472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D = C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底边上的中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27320" y="208296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B = ∠ADC = 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底边上的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67040" y="2692440"/>
            <a:ext cx="55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AD = ∠CA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顶角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98800" y="3809880"/>
            <a:ext cx="34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文字如何表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86680" y="464832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等腰三角形的两个底角相等（简写“等边对等角”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60320" y="5562720"/>
            <a:ext cx="48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、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一句话可以归纳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37640" y="1600200"/>
            <a:ext cx="5013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等腰三角形的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顶角平分线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底边上的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中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底边上的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互相</a:t>
            </a: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重合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简称“</a:t>
            </a:r>
            <a:r>
              <a:rPr b="1" lang="zh-CN" sz="3200" spc="-1" strike="noStrike">
                <a:solidFill>
                  <a:srgbClr val="0066cc"/>
                </a:solidFill>
                <a:latin typeface="华文新魏"/>
                <a:ea typeface="华文新魏"/>
              </a:rPr>
              <a:t>三线合一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40384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0"/>
            <a:ext cx="1371600" cy="102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归纳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52160" y="345960"/>
            <a:ext cx="504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已知：在△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 = A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B = 80°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求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和 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548680" y="914400"/>
            <a:ext cx="3220200" cy="3202920"/>
            <a:chOff x="5548680" y="914400"/>
            <a:chExt cx="3220200" cy="3202920"/>
          </a:xfrm>
        </p:grpSpPr>
        <p:sp>
          <p:nvSpPr>
            <p:cNvPr id="162" name=""/>
            <p:cNvSpPr/>
            <p:nvPr/>
          </p:nvSpPr>
          <p:spPr>
            <a:xfrm flipH="1">
              <a:off x="5715360" y="1177920"/>
              <a:ext cx="137160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7082640" y="1179720"/>
              <a:ext cx="1379160" cy="243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5360" y="3616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255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48680" y="3657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68560" y="3581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348920" y="1797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90840" y="26319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因为  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AB =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6560" y="339408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所以    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B = ∠C = 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27200" y="4267080"/>
            <a:ext cx="38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又     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A + ∠ B + ∠C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11320" y="510552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所以 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A = 180°- 80° - 80°= 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57200" y="22860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等腰三角形中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一种特殊的情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就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底边与腰相等，这时，三角形三边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35640" y="14479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把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三条边都相等的三角形叫做等边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正三角形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96560" y="2362320"/>
            <a:ext cx="33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边三角形具有什么性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73560" y="3276720"/>
            <a:ext cx="395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等边三角形的各角都相等，并且每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角都等于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11840" y="4495680"/>
            <a:ext cx="34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边三角形是轴对称图形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是，有几条对称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3280" y="568008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）是，有三条对称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160000" y="304920"/>
            <a:ext cx="56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如图，在△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中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B = A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边上的中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B = 30°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，求 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和 ∠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ADC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1520" y="1143000"/>
            <a:ext cx="3782520" cy="2517120"/>
            <a:chOff x="5411520" y="1143000"/>
            <a:chExt cx="3782520" cy="2517120"/>
          </a:xfrm>
        </p:grpSpPr>
        <p:sp>
          <p:nvSpPr>
            <p:cNvPr id="181" name=""/>
            <p:cNvSpPr/>
            <p:nvPr/>
          </p:nvSpPr>
          <p:spPr>
            <a:xfrm flipH="1">
              <a:off x="5490000" y="1558800"/>
              <a:ext cx="1723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14040" y="1558800"/>
              <a:ext cx="1723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90000" y="3159000"/>
              <a:ext cx="34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03440" y="11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1520" y="3200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93720" y="32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14040" y="15588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48720" y="1787400"/>
              <a:ext cx="265320" cy="165240"/>
            </a:xfrm>
            <a:custGeom>
              <a:avLst/>
              <a:gdLst/>
              <a:ahLst/>
              <a:rect l="l" t="t" r="r" b="b"/>
              <a:pathLst>
                <a:path w="192" h="104">
                  <a:moveTo>
                    <a:pt x="0" y="0"/>
                  </a:moveTo>
                  <a:cubicBezTo>
                    <a:pt x="32" y="44"/>
                    <a:pt x="64" y="88"/>
                    <a:pt x="96" y="96"/>
                  </a:cubicBezTo>
                  <a:cubicBezTo>
                    <a:pt x="128" y="104"/>
                    <a:pt x="160" y="76"/>
                    <a:pt x="192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14040" y="1787400"/>
              <a:ext cx="331200" cy="165240"/>
            </a:xfrm>
            <a:custGeom>
              <a:avLst/>
              <a:gdLst/>
              <a:ahLst/>
              <a:rect l="l" t="t" r="r" b="b"/>
              <a:pathLst>
                <a:path w="240" h="104">
                  <a:moveTo>
                    <a:pt x="0" y="0"/>
                  </a:moveTo>
                  <a:cubicBezTo>
                    <a:pt x="28" y="44"/>
                    <a:pt x="56" y="88"/>
                    <a:pt x="96" y="96"/>
                  </a:cubicBezTo>
                  <a:cubicBezTo>
                    <a:pt x="136" y="104"/>
                    <a:pt x="216" y="64"/>
                    <a:pt x="240" y="4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4360" y="19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33920" y="1904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70040" y="32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52800" y="1366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74400" y="2362320"/>
            <a:ext cx="242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因为等腰三角形的“三线合一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是△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的顶角平分线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底边上的高，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59880" y="38512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1 = ∠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68520" y="441972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DC =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2040" y="5070600"/>
            <a:ext cx="46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因为    ∠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BAC =180° - 30°-30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55560" y="5832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所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124080" y="5638680"/>
                <a:ext cx="25146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B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H="1">
            <a:off x="4343400" y="6400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25760" y="45720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判断下列命题是否正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6040" y="1219320"/>
            <a:ext cx="717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等腰三角形的角平分线、中线和高互相重合。（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有一个角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等腰三角形，其它两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角也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                                                （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90720" y="-152280"/>
            <a:ext cx="1371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练一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4" name=""/>
          <p:cNvSpPr/>
          <p:nvPr/>
        </p:nvSpPr>
        <p:spPr>
          <a:xfrm>
            <a:off x="2055600" y="3124080"/>
            <a:ext cx="54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、如图，在△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中，已知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B = AC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D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∠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B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平分线，且∠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2=25°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求∠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AD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和∠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97280" y="3927600"/>
            <a:ext cx="3540600" cy="2932920"/>
            <a:chOff x="2897280" y="3927600"/>
            <a:chExt cx="3540600" cy="2932920"/>
          </a:xfrm>
        </p:grpSpPr>
        <p:sp>
          <p:nvSpPr>
            <p:cNvPr id="206" name=""/>
            <p:cNvSpPr/>
            <p:nvPr/>
          </p:nvSpPr>
          <p:spPr>
            <a:xfrm flipH="1">
              <a:off x="3139920" y="4191120"/>
              <a:ext cx="144792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87840" y="4191120"/>
              <a:ext cx="144756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39920" y="6477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87840" y="41911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2920" y="4648320"/>
              <a:ext cx="304920" cy="164880"/>
            </a:xfrm>
            <a:custGeom>
              <a:avLst/>
              <a:gdLst/>
              <a:ahLst/>
              <a:rect l="l" t="t" r="r" b="b"/>
              <a:pathLst>
                <a:path w="192" h="104">
                  <a:moveTo>
                    <a:pt x="0" y="0"/>
                  </a:moveTo>
                  <a:cubicBezTo>
                    <a:pt x="8" y="44"/>
                    <a:pt x="16" y="88"/>
                    <a:pt x="48" y="96"/>
                  </a:cubicBezTo>
                  <a:cubicBezTo>
                    <a:pt x="80" y="104"/>
                    <a:pt x="136" y="76"/>
                    <a:pt x="192" y="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87840" y="4648320"/>
              <a:ext cx="380880" cy="164880"/>
            </a:xfrm>
            <a:custGeom>
              <a:avLst/>
              <a:gdLst/>
              <a:ahLst/>
              <a:rect l="l" t="t" r="r" b="b"/>
              <a:pathLst>
                <a:path w="192" h="56">
                  <a:moveTo>
                    <a:pt x="0" y="0"/>
                  </a:moveTo>
                  <a:cubicBezTo>
                    <a:pt x="32" y="20"/>
                    <a:pt x="64" y="40"/>
                    <a:pt x="96" y="48"/>
                  </a:cubicBezTo>
                  <a:cubicBezTo>
                    <a:pt x="128" y="56"/>
                    <a:pt x="176" y="56"/>
                    <a:pt x="192" y="48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9256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26080" y="476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16960" y="3927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97280" y="6365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37560" y="6400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08:30:07Z</dcterms:created>
  <dc:creator>d</dc:creator>
  <dc:description/>
  <dc:language>en-US</dc:language>
  <cp:lastModifiedBy>d</cp:lastModifiedBy>
  <dcterms:modified xsi:type="dcterms:W3CDTF">2004-04-19T11:43:19Z</dcterms:modified>
  <cp:revision>7</cp:revision>
  <dc:subject/>
  <dc:title>PowerPoint 演示文稿</dc:title>
</cp:coreProperties>
</file>