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3.gif" ContentType="image/gif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png" ContentType="image/png"/>
  <Override PartName="/ppt/media/image32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46.gif" ContentType="image/gif"/>
  <Override PartName="/ppt/media/image43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WHOOSH.WAV" ContentType="audio/x-wav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24BC-C14A-4B53-9638-DAF46B649A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FA4-888B-4248-8245-F862635C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FA4-A72F-4106-A946-A0C1EA8B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4F9-BAC6-46AE-AC23-527039A0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E6D-9CA2-44AF-BBB9-95364B67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010-B1E7-456F-BBFA-3D193B53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7BA8-6894-481B-A530-2D24953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FC2-8ADF-40A3-B7CB-44A9F23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328-EC15-4656-A14A-C9AB054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50B-FD4E-4800-AD6C-D9B739E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D62-9DAD-4463-8C39-DF68DC05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FDD5-CBB6-4730-9B6A-352C2A3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271-7558-4AF6-A6FE-7AB1029A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556-4EDA-4BC4-B40B-5F6BE1B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FF5-FB9B-40E8-9A99-7D5611B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B4D-4911-42BE-9751-30C2BC8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8577-86C6-4207-B60D-A645163D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7DF1-EE6D-4AC6-89DB-62ECBF50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E3D5-A8EB-467B-BFC2-15DFC427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E6E8-D95B-4CBE-A269-F0D74BC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DCC7-A483-417D-909E-12C7484B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5E31-572A-4288-81F4-13B20B3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7136-5957-4D56-89FE-4F16382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A3D-9425-4B68-B950-D813300E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3BAA-552F-446F-A9F6-14E93F5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E7A6-330A-4FA6-8A45-3B22B053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DBEA-E75E-47A1-984F-1AB09D3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B14A-9083-4E99-91AB-F764629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413A-72FC-4313-A34C-EB671A3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5635-DFD2-4438-9D87-4F97FA1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3F74-5150-42C5-8060-D3745289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F7B6-9E36-48DC-835E-38233D6F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CF52-6264-436B-94BD-22877E6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31A7-3D28-4EB5-B41F-5166538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BF6-9B34-495D-A09D-118FC05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3A8C-17AA-45BC-B403-1035049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DB9A-A540-455D-87A3-4E01650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4BE7-806E-4EB3-A2B3-52E55BE6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684D-3A12-4AF4-A6F9-CC2391C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ABDD-AC4A-40BC-82C2-394D8A0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3A5B-C756-4C2D-BF15-20D3BDB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BDBB-E38E-4FC0-BE4E-B0F0D46C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6664-55F8-48DB-8023-5056CB6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B324-EF20-4B1B-BE3F-68A17E2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B918-A3F5-4B49-81FA-8612B52F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B9C-FC18-4FC7-B2F7-288C0EC7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914D-EE6E-462E-8DEC-048481D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981AC-FAF4-41D3-85FF-9775D87B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9F47-D636-46D8-BCB3-B7480A2E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F215-736D-4F05-9981-457958E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E488-7884-42FD-90B7-34DDE3D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710D-1EC8-4B43-B5AB-CC9AED3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7903D-C435-4EC0-81D7-6517915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28F2-7DE9-49FA-8821-B4DAF40F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BF5C-7461-443A-8161-C0017086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C0B1-25B6-408C-92CB-5628CD22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E5B-8929-4F6E-8586-88B3749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DCC6-A670-4B2D-A590-056472F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E440-0B3B-41F8-88F0-2C946D96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084D-C470-4031-8E36-6D6F11A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BC8D-4162-42C2-90DF-673A07D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DA2E0-31AC-441F-A79C-079A77E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593E-2F9C-4E6C-97B4-0D9D350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C04E-5ECF-42A1-AB47-9BF690E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A9BE-D3A0-480F-B5E7-E05482D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86A13-9146-4478-8109-D5464B9F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2D5F9-5AAE-4499-A9F9-2C771A31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20E-E271-4BC3-B83E-6A3446B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1D6D-90A4-45C8-9848-CCC8263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7526-8D5B-4647-8041-2A60F36D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BF84-3274-411B-A238-C6BA1102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345-3106-49F1-83D8-5A74799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9E3-C34C-46E5-91EE-16E762FD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EBE-F3F2-4C71-B95A-5F946A0863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943-9D75-4E9B-933E-6E0B473BA4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745-5FC9-43A0-880D-273D92977E5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71F-2F9F-4B6C-B9BC-E739D347E45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3456-3A3A-4AA1-BB2D-6A9C92E81E0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F91A-CCC1-41B9-93DF-33CDF74C0D7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8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81505.htm" TargetMode="External"/><Relationship Id="rId3" Type="http://schemas.openxmlformats.org/officeDocument/2006/relationships/hyperlink" Target="http://baike.baidu.com/view/1522668.htm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picview/2567/5060532/0/bd7faf354661a7b6a71e127d.html" TargetMode="External"/><Relationship Id="rId3" Type="http://schemas.openxmlformats.org/officeDocument/2006/relationships/hyperlink" Target="http://baike.baidu.com/view/52139.htm" TargetMode="External"/><Relationship Id="rId4" Type="http://schemas.openxmlformats.org/officeDocument/2006/relationships/hyperlink" Target="http://baike.baidu.com/view/110918.htm" TargetMode="External"/><Relationship Id="rId5" Type="http://schemas.openxmlformats.org/officeDocument/2006/relationships/hyperlink" Target="http://baike.baidu.com/view/1011948.htm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10376.htm" TargetMode="External"/><Relationship Id="rId3" Type="http://schemas.openxmlformats.org/officeDocument/2006/relationships/hyperlink" Target="http://baike.baidu.com/picview/2567/5060532/0/1cd4147bf09460d10bd18767.html" TargetMode="External"/><Relationship Id="rId4" Type="http://schemas.openxmlformats.org/officeDocument/2006/relationships/hyperlink" Target="http://baike.baidu.com/view/40898.htm" TargetMode="External"/><Relationship Id="rId5" Type="http://schemas.openxmlformats.org/officeDocument/2006/relationships/hyperlink" Target="http://baike.baidu.com/view/356043.htm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36790.htm" TargetMode="External"/><Relationship Id="rId3" Type="http://schemas.openxmlformats.org/officeDocument/2006/relationships/hyperlink" Target="http://baike.baidu.com/view/66776.htm" TargetMode="External"/><Relationship Id="rId4" Type="http://schemas.openxmlformats.org/officeDocument/2006/relationships/hyperlink" Target="http://baike.baidu.com/view/575173.htm" TargetMode="External"/><Relationship Id="rId5" Type="http://schemas.openxmlformats.org/officeDocument/2006/relationships/hyperlink" Target="http://baike.baidu.com/view/33013.htm" TargetMode="External"/><Relationship Id="rId6" Type="http://schemas.openxmlformats.org/officeDocument/2006/relationships/hyperlink" Target="http://baike.baidu.com/view/198011.htm" TargetMode="External"/><Relationship Id="rId7" Type="http://schemas.openxmlformats.org/officeDocument/2006/relationships/hyperlink" Target="http://baike.baidu.com/view/58308.htm" TargetMode="External"/><Relationship Id="rId8" Type="http://schemas.openxmlformats.org/officeDocument/2006/relationships/hyperlink" Target="http://baike.baidu.com/view/6771.htm" TargetMode="External"/><Relationship Id="rId9" Type="http://schemas.openxmlformats.org/officeDocument/2006/relationships/hyperlink" Target="http://baike.baidu.com/view/4277.htm" TargetMode="External"/><Relationship Id="rId10" Type="http://schemas.openxmlformats.org/officeDocument/2006/relationships/hyperlink" Target="http://baike.baidu.com/view/589276.htm" TargetMode="External"/><Relationship Id="rId11" Type="http://schemas.openxmlformats.org/officeDocument/2006/relationships/hyperlink" Target="http://baike.baidu.com/view/2812.htm" TargetMode="External"/><Relationship Id="rId12" Type="http://schemas.openxmlformats.org/officeDocument/2006/relationships/hyperlink" Target="http://baike.baidu.com/view/15447.htm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0236.htm" TargetMode="External"/><Relationship Id="rId3" Type="http://schemas.openxmlformats.org/officeDocument/2006/relationships/hyperlink" Target="http://baike.baidu.com/view/52225.htm" TargetMode="External"/><Relationship Id="rId4" Type="http://schemas.openxmlformats.org/officeDocument/2006/relationships/hyperlink" Target="http://baike.baidu.com/view/15168.htm" TargetMode="External"/><Relationship Id="rId5" Type="http://schemas.openxmlformats.org/officeDocument/2006/relationships/hyperlink" Target="http://baike.baidu.com/view/1646.htm" TargetMode="External"/><Relationship Id="rId6" Type="http://schemas.openxmlformats.org/officeDocument/2006/relationships/hyperlink" Target="http://baike.baidu.com/view/149774.htm" TargetMode="External"/><Relationship Id="rId7" Type="http://schemas.openxmlformats.org/officeDocument/2006/relationships/hyperlink" Target="http://baike.baidu.com/picview/2567/5060532/0/8b13632762d0f70384f4b87508fa513d2797c5d0.html" TargetMode="External"/><Relationship Id="rId8" Type="http://schemas.openxmlformats.org/officeDocument/2006/relationships/hyperlink" Target="http://baike.baidu.com/picview/2567/5060532/0/8b13632762d0f70384f4b87508fa513d2797c5d0.html" TargetMode="External"/><Relationship Id="rId9" Type="http://schemas.openxmlformats.org/officeDocument/2006/relationships/hyperlink" Target="http://baike.baidu.com/view/20236.htm" TargetMode="External"/><Relationship Id="rId10" Type="http://schemas.openxmlformats.org/officeDocument/2006/relationships/hyperlink" Target="http://baike.baidu.com/view/52225.htm" TargetMode="External"/><Relationship Id="rId11" Type="http://schemas.openxmlformats.org/officeDocument/2006/relationships/hyperlink" Target="http://baike.baidu.com/view/400710.htm" TargetMode="External"/><Relationship Id="rId12" Type="http://schemas.openxmlformats.org/officeDocument/2006/relationships/hyperlink" Target="http://baike.baidu.com/view/3061848.htm" TargetMode="External"/><Relationship Id="rId13" Type="http://schemas.openxmlformats.org/officeDocument/2006/relationships/hyperlink" Target="http://baike.baidu.com/view/404607.htm" TargetMode="External"/><Relationship Id="rId14" Type="http://schemas.openxmlformats.org/officeDocument/2006/relationships/hyperlink" Target="http://baike.baidu.com/view/42544.htm" TargetMode="External"/><Relationship Id="rId15" Type="http://schemas.openxmlformats.org/officeDocument/2006/relationships/hyperlink" Target="http://baike.baidu.com/view/149774.htm" TargetMode="External"/><Relationship Id="rId16" Type="http://schemas.openxmlformats.org/officeDocument/2006/relationships/hyperlink" Target="http://baike.baidu.com/picview/2567/5060532/0/8b13632762d0f70384f4b87508fa513d2797c5d0.html" TargetMode="External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 txBox="1"/>
          <p:nvPr/>
        </p:nvSpPr>
        <p:spPr>
          <a:xfrm rot="20352600">
            <a:off x="2533320" y="1836720"/>
            <a:ext cx="252108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传统佳节</a:t>
            </a:r>
            <a:endParaRPr b="0" i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7" name=""/>
          <p:cNvSpPr txBox="1"/>
          <p:nvPr/>
        </p:nvSpPr>
        <p:spPr>
          <a:xfrm rot="2292600">
            <a:off x="4271760" y="3489120"/>
            <a:ext cx="167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端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6"/>
          <a:stretch/>
        </p:blipFill>
        <p:spPr>
          <a:xfrm>
            <a:off x="2438280" y="3809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7"/>
          <a:stretch/>
        </p:blipFill>
        <p:spPr>
          <a:xfrm>
            <a:off x="5715000" y="533520"/>
            <a:ext cx="2381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粽子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5076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938680" y="562932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端午节是我国传统的节日，家家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粽子成了很多人记忆中美好的往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佩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旧时江浙一带端午时妇女的一种饰物。一般用金银丝或铜丝金箔做成，形状为小人骑虎，亦有另加钟、铃、缨及蒜、粽子等的。插在妇女发髻，也用以馈送。《清嘉录》云：“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五月五日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市人以金银丝制为繁缨、钟、铃诸状，骑人于虎，极精细，缀小钗，贯为串，或有用铜丝金箔者，供妇女插鬓。又互相献赉，名曰健人。”健人一说与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艾人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同意，只是以帛易艾，吴曼云《江乡节物词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小序》云：“杭俗，健人即艾人，而易之以帛，作骆虎状，妇人皆戴之，”似此则当有驱邪辟疫之作用；一说即古时的步摇，纯为妇女装饰品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蔡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《吴献》注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。儿童头上还会用雄黄酒画上一个“王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禳解、祛除及避五毒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五毒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如上所述，端午在古人心目中是毒日、恶日，在民间信仰中这个思想一直传了下来，所以才有种种求平安、禳解灾异的习俗。其实，这是由于夏季天气燥热，人易生病，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瘟疫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也易流行；加上蛇虫繁殖，易咬伤人，所以要十分小心，这才形成此习惯。种种节俗，如采药，以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雄黄酒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洒墙壁门窗，饮蒲酒等，看似迷信，但又是有益于身体健康的卫生活动。端午实在可算是传统的医药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卫生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，是人民群众与疾病、毒虫做斗争的节日。今天这些卫生习俗仍然是应发展，并应弘扬传承的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3524400" y="1676520"/>
            <a:ext cx="3257280" cy="26812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3809880" y="1905120"/>
            <a:ext cx="1916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4920" cy="371628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4680000" y="333360"/>
            <a:ext cx="4464000" cy="376092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287280" y="43657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午习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避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民间认为五月是五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蝎、蛇、蜈蚣、蜘蛛、蟾蜍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出没之时，便以各种方法以防其害。一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屋中贴五毒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再用五根针刺于五毒之上，即认为毒物被刺死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是一种辟邪术遗俗。含驱毒防病之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1692360" y="0"/>
            <a:ext cx="792000" cy="1006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916000" y="0"/>
            <a:ext cx="718920" cy="907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618920" y="1916280"/>
            <a:ext cx="1152360" cy="13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626920" y="1989000"/>
            <a:ext cx="1081080" cy="1440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2195640" y="1197000"/>
            <a:ext cx="72072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挂艾草、菖蒲、榕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端午节在门口挂艾草、菖蒲（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蒲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）或石榴、胡蒜，都有其它原因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挂艾草、菖蒲、榕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艾、榕、菖蒲用红纸绑成一束，然后插或悬在门上。因为菖蒲天中五瑞之首，象征驱除不祥的宝剑，因为生长的季节和外形被视为感“百阴之气”，叶片呈剑型，插在门口可以避邪。所以方士们称它为“水剑”，后来的风俗则引申为“蒲剑”，可以斩千邪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清代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顾铁卿在《清嘉录》中有一段记载“截蒲为剑，割蓬作鞭，副以桃梗蒜头，悬于床户，皆以却鬼”。而晋代《风土志》中则有“以艾为虎形，或剪彩为小虎，帖以艾叶，内人争相裁之。以后更加菖蒲，或作人形，或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肖剑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状，名为蒲剑，以驱邪却鬼”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6019920" y="0"/>
            <a:ext cx="1828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885680" y="436572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端午插艾不仅是节日中的点缀，更具有一定的科学根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荆楚岁时记》：“采艾以为人，悬门户上，以禳毒气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艾是菊科草本植物，其茎叶含挥发性芳香油，可驱蚊虫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净化空气。它还可入药，具有理气血、祛湿寒的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3075120" y="787320"/>
            <a:ext cx="2720880" cy="29559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29400" cy="2286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4"/>
          <a:stretch/>
        </p:blipFill>
        <p:spPr>
          <a:xfrm>
            <a:off x="8915400" y="189000"/>
            <a:ext cx="228600" cy="48290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228600" cy="482904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0" y="645336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0" y="1628640"/>
            <a:ext cx="228600" cy="4829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8"/>
          <a:stretch/>
        </p:blipFill>
        <p:spPr>
          <a:xfrm>
            <a:off x="4314960" y="6453360"/>
            <a:ext cx="4829040" cy="2286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"/>
          <a:stretch/>
        </p:blipFill>
        <p:spPr>
          <a:xfrm>
            <a:off x="8915400" y="2028960"/>
            <a:ext cx="228600" cy="48290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ll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80880" y="-36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划龙舟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龙舟竞渡与祭祀屈原、曹娥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龙舟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一词，最早见于先秦古书《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穆天子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》卷五：“天子乘鸟舟、龙舟浮于大沼。”预《九歌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湘君》中“驾飞龙今北征，邅吾道兮洞庭”，“石濑浅浅，飞龙兮翩翩”，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学者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们也认为“飞龙”即龙舟。《湘君》即描写湘人驭驾龙舟，将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玉佩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沉入江中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与抛踪子入江相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悼念某位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历史人物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之诗。这即与“魂舟”暗合，与楚国《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6"/>
              </a:rPr>
              <a:t>人物御龙帛画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》之像暗合，可互为印证。《荆楚岁时记》载：“五月五日，谓之浴兰节。…… 是日，竞渡，竞采杂药。”此后，历代诗赋、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7"/>
              </a:rPr>
              <a:t>笔记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、志书 等记载竞渡就数不胜数了。龙舟，与普通船只不太相同，大小不一，桡手人数不一。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8"/>
              </a:rPr>
              <a:t>广州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黄埔、郊区一带龙船，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路上有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，桡手约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9"/>
              </a:rPr>
              <a:t>南宁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龙舟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多米，每船约五六十人。湖南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0"/>
              </a:rPr>
              <a:t>汨罗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龙舟则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6—22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挠手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24—48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1"/>
              </a:rPr>
              <a:t>福建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福州龙舟长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米，挠手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人。龙船一般是狭长、细窄，船头饰龙头，船尾饰龙尾。龙头的颜色有红、黑、灰等色，均与</a:t>
            </a:r>
            <a:r>
              <a:rPr b="0" lang="zh-CN" sz="2400" spc="-1" strike="noStrike" u="sng">
                <a:solidFill>
                  <a:srgbClr val="ffccff"/>
                </a:solidFill>
                <a:uFillTx/>
                <a:latin typeface="Arial Black"/>
                <a:hlinkClick r:id="rId12"/>
              </a:rPr>
              <a:t>龙灯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之头相似，姿态不一。一般以木雕成，加以彩绘（也有用纸扎、纱扎的）。龙尾多用整木雕，上刻鳞甲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3"/>
          <a:stretch/>
        </p:blipFill>
        <p:spPr>
          <a:xfrm rot="897000">
            <a:off x="3809880" y="1295280"/>
            <a:ext cx="2095560" cy="30765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跳钟馗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跳钟馗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、闹钟馗：自晋代以来跳钟馗、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钟馗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，赐福镇宅就是端午节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春节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的重要内容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钟馗执剑祛邪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悬挂钟馗画。最早的钟馗画，据说出自画圣吴道子之手。据北宋沈括《梦溪补笔谈》记载：唐明皇患疾近一月，忽梦二鬼。小鬼窃得皇上玉笛及杨贵妃之紫香囊奔逃，大鬼乃捉小鬼刳其目，然后擘而啖之。大鬼道：“臣为钟馗，即武举不捷之士也，誓与陛下除天下之妖孽。”唐明皇醒后，即病愈，便召画工吴道子，嘱其按梦中情景画钟馗捉鬼图，道子挥笔即成，明皇见后，竟与所梦一模一样，惊叹不已。后来，钟馗画渐渐走入民间，绘制钟馗画大都作于五月端午节这一天，或者端午节的前后几天。到了清代，江南苏、浙一带的居民大都在农历五月于大门或堂中挂钟馗图一月，以期驱邪除害、祛凶引福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2819520" y="1295280"/>
            <a:ext cx="27432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图文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0" name=""/>
          <p:cNvSpPr txBox="1"/>
          <p:nvPr/>
        </p:nvSpPr>
        <p:spPr>
          <a:xfrm rot="2116200">
            <a:off x="4571640" y="3276360"/>
            <a:ext cx="18669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走进端午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887480" y="436572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屈原投江之后，老郎中将雄黄酒倒入江中，以药晕鱼龙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会儿，水面果真浮起一条蛟龙。人们把这条蛟龙扯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岸，抽其筋，剥其皮，再用雄黄酒抹七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据说这就是日久端午节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饮雄黄酒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来历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5924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53708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643280" cy="37116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68200" y="4724280"/>
            <a:ext cx="905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端午节已被列入首批国家级非物质文化遗产名录令人欣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非物质文化遗产，是各民族人民世代相承的各种传统文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形式，它是民族智慧的体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4681440" y="189000"/>
            <a:ext cx="4427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684880" y="566100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吃粽子的风俗，千百年来，不但盛行不衰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而且流传到日本、朝鲜和越南等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103640" cy="2728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3887640" cy="27414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880" name="" descr=""/>
          <p:cNvPicPr/>
          <p:nvPr/>
        </p:nvPicPr>
        <p:blipFill>
          <a:blip r:embed="rId3"/>
          <a:stretch/>
        </p:blipFill>
        <p:spPr>
          <a:xfrm>
            <a:off x="2627280" y="3141720"/>
            <a:ext cx="3384720" cy="24321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881" name=""/>
          <p:cNvSpPr/>
          <p:nvPr/>
        </p:nvSpPr>
        <p:spPr>
          <a:xfrm>
            <a:off x="75456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  <a:ea typeface="华文新魏"/>
              </a:rPr>
              <a:t>越南粽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59640" y="29973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00"/>
                </a:solidFill>
                <a:latin typeface="Arial"/>
                <a:ea typeface="华文新魏"/>
              </a:rPr>
              <a:t>新加坡粽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42200" y="465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华文新魏"/>
              </a:rPr>
              <a:t>陈皮牛肉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01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802"/>
                            </p:stCondLst>
                            <p:childTnLst>
                              <p:par>
                                <p:cTn id="2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802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103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103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52712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87280" y="4869000"/>
            <a:ext cx="76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龙舟竞渡之习，盛行于楚、吴、越，沿袭至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456000" cy="21254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476360" y="9079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北宋皇帝于临水殿看金明池内龙舟竞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5695920" y="4292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明代皇帝，在中南海紫光阁观龙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90080" y="5805360"/>
            <a:ext cx="27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诗为证，     且 看 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801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187280" y="469260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 午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唐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文秀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节分端午自谁言，万古传闻为屈原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堪笑楚江空渺渺，不能洗得直臣冤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5808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1716120" y="644400"/>
            <a:ext cx="5721480" cy="4111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2693160" y="5216400"/>
            <a:ext cx="414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端午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宋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张耒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竞渡深悲千载冤，忠魂一去讵能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国亡身殒今何有，只留离骚在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间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pull dir="l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-539640" y="260280"/>
            <a:ext cx="9144000" cy="22269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七 律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端午   老 舍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端午偏逢风雨狂，村童仍着旧衣裳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相邀情重携蓑笠，敢为泥深恋草堂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有客同心当骨肉，无钱买酒卖文章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当年此会鱼三尺，不似今朝豆味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364500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p:transition spd="slow" advTm="8000">
    <p:plus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116000" y="2637000"/>
            <a:ext cx="87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呼唤远古之精魂，传统文化有了强劲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复兴势头，诗句传承着伟大的屈子精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4932360" y="4195800"/>
            <a:ext cx="3168720" cy="24732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黄酒"/>
          <p:cNvPicPr/>
          <p:nvPr/>
        </p:nvPicPr>
        <p:blipFill>
          <a:blip r:embed="rId2"/>
          <a:stretch/>
        </p:blipFill>
        <p:spPr>
          <a:xfrm>
            <a:off x="1187280" y="4135320"/>
            <a:ext cx="3097440" cy="25225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2700360" y="333360"/>
            <a:ext cx="3313080" cy="2386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01480" y="5373720"/>
            <a:ext cx="8642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我们过端午，是对远古流传下来的民族精魂的呼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楷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232000" cy="16621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2663640" cy="19177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877080" y="3716280"/>
            <a:ext cx="1944720" cy="12049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2376360" cy="18241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2381040" cy="17143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7020000" y="1125360"/>
            <a:ext cx="1684440" cy="23036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2771640" y="0"/>
            <a:ext cx="4176720" cy="9637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119320" y="6113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47" dur="1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7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7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601"/>
                            </p:stCondLst>
                            <p:childTnLst>
                              <p:par>
                                <p:cTn id="3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601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 rot="1654800">
            <a:off x="2819160" y="1447560"/>
            <a:ext cx="2476440" cy="33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8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7910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3.80204E-006 L -0.3 -0.28862 E">
                                      <p:cBhvr>
                                        <p:cTn id="43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0492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端午节的由来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端午节，因为端午节是在农历的五月五日，是三个重要的中国节庆之一，其他两个分別是中秋节和农历新年。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幼圆"/>
              </a:rPr>
              <a:t>农历五月初五为端午节，又称端阳节、午日节、五月节、艾节、端五、重午、午日、夏节。虽然名称不同，但各地人民过节的习俗是相同的。端午节是我国二千多年的旧习俗，每到这一天，家家户户都悬钟馗像，挂艾叶菖蒲，赛龙舟，吃粽子，饮雄黄酒，游百病，佩香囊，备牲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端午节为每年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农历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五月初五，又称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端阳节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午日节、五月节等；端午节是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中国汉族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人民纪念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屈原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的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传统节日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更有吃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粽子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赛龙舟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挂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菖蒲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蒿草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艾叶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薰苍术、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芷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，喝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雄黄酒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的习俗。“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端午节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”为国家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法定节假日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之一，并被列入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 Black"/>
              </a:rPr>
              <a:t>世界非物质文化遗产</a:t>
            </a:r>
            <a:r>
              <a:rPr b="0" lang="zh-CN" sz="3200" spc="-1" strike="noStrike">
                <a:solidFill>
                  <a:srgbClr val="0033cc"/>
                </a:solidFill>
                <a:latin typeface="Arial Black"/>
              </a:rPr>
              <a:t>名录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20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Black"/>
              </a:rPr>
              <a:t>.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 Black"/>
              </a:rPr>
              <a:t>纪念屈原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传说端午节是为了纪念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2"/>
              </a:rPr>
              <a:t>战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时代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3"/>
              </a:rPr>
              <a:t>楚国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4"/>
              </a:rPr>
              <a:t>诗人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5"/>
              </a:rPr>
              <a:t>屈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，他在五月初五这天投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6"/>
              </a:rPr>
              <a:t>汨罗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自尽殉国。屈平，字原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8"/>
              </a:rPr>
              <a:t>  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屈原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通常称为屈原，又自云名正则，号灵均，汉族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9"/>
              </a:rPr>
              <a:t>战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末期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0"/>
              </a:rPr>
              <a:t>楚国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丹阳（今湖北秭归）人，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1"/>
              </a:rPr>
              <a:t>楚武王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2"/>
              </a:rPr>
              <a:t>熊通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之子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3"/>
              </a:rPr>
              <a:t>屈瑕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的后代。屈原虽忠事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4"/>
              </a:rPr>
              <a:t>楚怀王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，却屡遭排挤，怀王死后又因顷襄王听信谗言而被流放，最终投</a:t>
            </a:r>
            <a:r>
              <a:rPr b="0" lang="zh-CN" sz="2800" spc="-1" strike="noStrike" u="sng">
                <a:solidFill>
                  <a:srgbClr val="ffccff"/>
                </a:solidFill>
                <a:uFillTx/>
                <a:latin typeface="Arial Black"/>
                <a:hlinkClick r:id="rId15"/>
              </a:rPr>
              <a:t>汨罗江</a:t>
            </a:r>
            <a:r>
              <a:rPr b="0" lang="zh-CN" sz="2800" spc="-1" strike="noStrike">
                <a:solidFill>
                  <a:srgbClr val="0033cc"/>
                </a:solidFill>
                <a:latin typeface="Arial Black"/>
              </a:rPr>
              <a:t>而死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3" name="" descr="屈原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57200" y="4762440"/>
            <a:ext cx="1628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79186E-006 L 0.35834 -0.41073 E">
                                      <p:cBhvr>
                                        <p:cTn id="148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吃粽子的来历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农历五月初五是端午节，民间有吃粽子的习惯，传说是为了纪念战国时期楚国大臣屈原的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是我国伟大的爱国主义诗人，他积极主张楚国联合齐国，抗击秦国，他的意见没有被采纳，反而被罢了官，发配到边远的地方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楚国快要灭亡时，农历五月五日这天，屈原投汨罗江自杀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投江后，楚国人民为了不让江里的鱼虾鳖蟹吃屈原的尸体，就往江里投好吃的食物。这样年复一年，人民为了纪念这位爱国诗人，每逢端午节那天，便把食物投到江里祭祀屈原。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一天晚上，有一位老人在梦里梦到屈原，就问他：“我们给您投去那么多的食物，您吃到没有？”屈原说：“你们送给我的饭，都让那些鱼虾鳖蟹吃了。”老人问“怎样才不会被他们吃掉呢？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说：“你们用竹叶把饭包起来，做成菱角形的尖角粽子，它们以为是菱角就不敢抢着吃了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第二年的端午节，人们就照着屈原说的话，向汨罗江里投下尖角粽子。可是，过了端午节后，屈原又给老人托了个梦，说：“谢谢你们给我送来了那么多粽子，我吃到了。但大多数仍是被鱼虾鳖蟹吃了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老人问屈原：“还有什么办法呢？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屈原说：“送粽子的船要打扮成龙的样子，因为鱼虾鳖蟹属龙管辖，它们不敢吃龙王的东西。”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 Black"/>
              </a:rPr>
              <a:t>　　从那以后，年年端午节那天，人们划着龙船到汨罗江送粽子。这就是端午节吃粽子划龙舟的来历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17780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1T04:24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