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4.png" ContentType="image/png"/>
  <Override PartName="/ppt/media/image3.gif" ContentType="image/gif"/>
  <Override PartName="/ppt/media/image2.jpeg" ContentType="image/jpeg"/>
  <Override PartName="/ppt/media/image23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gif" ContentType="image/gif"/>
  <Override PartName="/ppt/media/image19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5.png" ContentType="image/png"/>
  <Override PartName="/ppt/media/image24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8C3C-46DD-4E71-B482-C62D24F3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3DB2-AB1E-45C2-AA94-9D8C502C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9B39-018B-4406-896C-C6C70D8A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8787-61E2-4537-8C1A-40B0F0CC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27E1-0809-455D-A658-7B38769E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0AF5-08BB-41C9-ABAF-0C5566E1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483F-3122-47C9-B4C6-6BFCB06F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861A-8D13-48FC-B2D9-FF097474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0922-A295-41D1-98DE-9F8C8D79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B12D-B495-4524-B894-21C65906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79DD-B34F-4787-BB36-DE3525B8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B55D-3D4E-4194-B906-D9FD60FF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9E15-99F0-4CDD-9DAE-E5986ED599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365hr.com.cn/new/chengxin.htm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0" y="2286000"/>
            <a:ext cx="4648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</a:rPr>
              <a:t>诚信在你我身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76320" y="1600200"/>
            <a:ext cx="9067680" cy="4876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ff99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1</a:t>
            </a:r>
            <a:r>
              <a:rPr b="0" lang="zh-CN" sz="2400" spc="1" strike="noStrike">
                <a:ln w="9360">
                  <a:solidFill>
                    <a:srgbClr val="ccff99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、若老师为人虚伪、上课混日子、</a:t>
            </a:r>
            <a:endParaRPr b="0" lang="en-US" sz="2400" spc="1" strike="noStrike">
              <a:ln w="9360">
                <a:solidFill>
                  <a:srgbClr val="ccff99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ff99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对学生说话常常失信，你喜欢他吗？</a:t>
            </a:r>
            <a:endParaRPr b="0" lang="en-US" sz="2400" spc="1" strike="noStrike">
              <a:ln w="9360">
                <a:solidFill>
                  <a:srgbClr val="ccff99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ff99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你的前途乐观吗？</a:t>
            </a:r>
            <a:endParaRPr b="0" lang="en-US" sz="2400" spc="1" strike="noStrike">
              <a:ln w="9360">
                <a:solidFill>
                  <a:srgbClr val="ccff99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ff99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2</a:t>
            </a:r>
            <a:r>
              <a:rPr b="0" lang="zh-CN" sz="2400" spc="1" strike="noStrike">
                <a:ln w="9360">
                  <a:solidFill>
                    <a:srgbClr val="ccff99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、作为学生</a:t>
            </a:r>
            <a:r>
              <a:rPr b="0" lang="en-US" sz="2400" spc="1" strike="noStrike">
                <a:ln w="9360">
                  <a:solidFill>
                    <a:srgbClr val="ccff99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,</a:t>
            </a:r>
            <a:r>
              <a:rPr b="0" lang="zh-CN" sz="2400" spc="1" strike="noStrike">
                <a:ln w="9360">
                  <a:solidFill>
                    <a:srgbClr val="ccff99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上课不听讲</a:t>
            </a:r>
            <a:r>
              <a:rPr b="0" lang="en-US" sz="2400" spc="1" strike="noStrike">
                <a:ln w="9360">
                  <a:solidFill>
                    <a:srgbClr val="ccff99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,</a:t>
            </a:r>
            <a:r>
              <a:rPr b="0" lang="zh-CN" sz="2400" spc="1" strike="noStrike">
                <a:ln w="9360">
                  <a:solidFill>
                    <a:srgbClr val="ccff99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行为不端正</a:t>
            </a:r>
            <a:r>
              <a:rPr b="0" lang="en-US" sz="2400" spc="1" strike="noStrike">
                <a:ln w="9360">
                  <a:solidFill>
                    <a:srgbClr val="ccff99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,</a:t>
            </a:r>
            <a:endParaRPr b="0" lang="en-US" sz="2400" spc="1" strike="noStrike">
              <a:ln w="9360">
                <a:solidFill>
                  <a:srgbClr val="ccff99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ff99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作业不完成</a:t>
            </a:r>
            <a:r>
              <a:rPr b="0" lang="en-US" sz="2400" spc="1" strike="noStrike">
                <a:ln w="9360">
                  <a:solidFill>
                    <a:srgbClr val="ccff99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,</a:t>
            </a:r>
            <a:r>
              <a:rPr b="0" lang="zh-CN" sz="2400" spc="1" strike="noStrike">
                <a:ln w="9360">
                  <a:solidFill>
                    <a:srgbClr val="ccff99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对人不礼貌</a:t>
            </a:r>
            <a:r>
              <a:rPr b="0" lang="en-US" sz="2400" spc="1" strike="noStrike">
                <a:ln w="9360">
                  <a:solidFill>
                    <a:srgbClr val="ccff99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,</a:t>
            </a:r>
            <a:r>
              <a:rPr b="0" lang="zh-CN" sz="2400" spc="1" strike="noStrike">
                <a:ln w="9360">
                  <a:solidFill>
                    <a:srgbClr val="ccff99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前途会好吗</a:t>
            </a:r>
            <a:r>
              <a:rPr b="0" lang="en-US" sz="2400" spc="1" strike="noStrike">
                <a:ln w="9360">
                  <a:solidFill>
                    <a:srgbClr val="ccff99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?</a:t>
            </a:r>
            <a:endParaRPr b="0" lang="en-US" sz="2400" spc="1" strike="noStrike">
              <a:ln w="9360">
                <a:solidFill>
                  <a:srgbClr val="ccff99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1066680" y="1219320"/>
            <a:ext cx="75438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原来，生活的平安、顺利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和美好</a:t>
            </a:r>
            <a:r>
              <a:rPr b="0" lang="en-US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离不开人们的诚信</a:t>
            </a:r>
            <a:r>
              <a:rPr b="0" lang="en-US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!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6" name=""/>
          <p:cNvSpPr/>
          <p:nvPr/>
        </p:nvSpPr>
        <p:spPr>
          <a:xfrm>
            <a:off x="2077920" y="4314960"/>
            <a:ext cx="505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值得庆幸的是，这个世上绝大多数人都是相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诚信的，如果我们这一代能更诚信，那生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99"/>
                </a:solidFill>
                <a:latin typeface="Times New Roman"/>
              </a:rPr>
              <a:t>会更美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0880" y="1905120"/>
            <a:ext cx="84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352680" y="3443400"/>
            <a:ext cx="5334120" cy="3414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34120" y="58672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大火后的芝加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1227240"/>
            <a:ext cx="80773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芝加哥大火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国著名城市芝加哥曾经发生了世界上罕见的大火，成千上万的商人在这次大火中失去了所有的财富，一夜之间就变成了穷光蛋，有的还背上了巨额的债务。 可是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他们中的很多人很快就创办了自己的公司，有的甚至比遭受火灾之前更富有。因为他们的诚实信用就是他们的银行账户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多年的商业往来中，他们从不拖欠银行的贷款，有很好的声誉，许多银行都主动借钱给他们，他们凭着自己的勤奋和信用又开辟了自己的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业。 </a:t>
            </a:r>
            <a:r>
              <a:rPr b="1" lang="zh-CN" sz="2400" spc="-1" strike="noStrike">
                <a:solidFill>
                  <a:srgbClr val="fc0a04"/>
                </a:solidFill>
                <a:latin typeface="宋体"/>
              </a:rPr>
              <a:t>火曾经毁掉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0a04"/>
                </a:solidFill>
                <a:latin typeface="宋体"/>
              </a:rPr>
              <a:t>他们的财产，但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0a04"/>
                </a:solidFill>
                <a:latin typeface="宋体"/>
              </a:rPr>
              <a:t>永远毁灭不了他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0a04"/>
                </a:solidFill>
                <a:latin typeface="宋体"/>
              </a:rPr>
              <a:t>的信誉和声望</a:t>
            </a:r>
            <a:r>
              <a:rPr b="1" lang="zh-CN" sz="2800" spc="-1" strike="noStrike">
                <a:solidFill>
                  <a:srgbClr val="fc0a04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28600" y="0"/>
            <a:ext cx="7391520" cy="12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当灾难降临</a:t>
            </a:r>
            <a:r>
              <a:rPr b="0" lang="en-US" sz="24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诚信可帮你度过困境</a:t>
            </a:r>
            <a:r>
              <a:rPr b="0" lang="en-US" sz="24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!</a:t>
            </a:r>
            <a:endParaRPr b="0" lang="en-US" sz="2400" spc="1" strike="noStrike">
              <a:ln w="9360">
                <a:solidFill>
                  <a:srgbClr val="0066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14400" y="525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181480" y="914400"/>
            <a:ext cx="3302280" cy="4952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495680" y="304920"/>
            <a:ext cx="0" cy="655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16880" y="571500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建筑工人挖到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坟墓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3708360" cy="5562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022400" y="5686560"/>
            <a:ext cx="257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多年前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美国某机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要建孤儿院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6120" y="228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认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4368960" cy="6553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V="1">
            <a:off x="2895480" y="19051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"/>
            <a:ext cx="2209680" cy="2438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7880" y="457200"/>
            <a:ext cx="131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墓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人的后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来认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美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赔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65080" y="57913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该机构将此事登报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76920" y="1219320"/>
            <a:ext cx="3911400" cy="5638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486400" y="5867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他来了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38880" y="304920"/>
            <a:ext cx="190512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0"/>
            <a:ext cx="21337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墓中人的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儿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呜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715000" y="1523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8153280" y="21337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920" y="457200"/>
            <a:ext cx="12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登记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您是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儿子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216320" cy="6324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72960" y="1143000"/>
            <a:ext cx="3741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头条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位死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的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竟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6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儿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单如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X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XX;XXX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510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9440" y="4619520"/>
            <a:ext cx="274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报纸把这些来冒认尸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贪财人的名字登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出来…他在其中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537160" y="457200"/>
            <a:ext cx="3606840" cy="5410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99280" y="4630680"/>
            <a:ext cx="2977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他很羞愧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珍藏这份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纸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警示自己要做一个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实可信的人…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年后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成了全美通迅业的巨头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他叫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爱德华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3520" y="533520"/>
            <a:ext cx="8229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一张报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宋体"/>
              </a:rPr>
              <a:t>  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英格拉姆是英国著名报纸《伦敦图片新闻》的创始人。刚刚毕业的时候，报社的规模很小，报纸的发行量也很小。但是他一点儿也不灰心，真诚地对待每一位客户，即使是只订一张报纸的客户。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次，为了不让他的读者失望，他送一张报纸步行了六千多米的路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间久了，人们发现这份报纸总是能够提供最准确的新闻资讯，并且每期都能准时送到读者手里。人们开始争相订阅这份报纸。后来《伦敦图片新闻》成为十分畅销的报纸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4800600"/>
            <a:ext cx="6324480" cy="1676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诚信有助创业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命运也总是青睐诚信的人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71920" y="401760"/>
            <a:ext cx="73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古今中外因诚信而成为各个领域的佼佼者的例子实在太多了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各行各业的精英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绝大多数都有着诚信的品质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365hr.com.cn/new/chengxin.ht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上就有不少这类事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28600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诚信适用于一切领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曾任美国波士顿市市长的哈特先生说，五十年来，他看到百分之九十的成功生意人都是正直和诚实的人，那些不诚实的生意人大多数都会破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他在一次演讲中还说：“诚信是一条自然法则，违背诚信的人是会得到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报应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诚信就像万有引力定律一样，适用于一切领域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。拥有诚信，也就掌握了成功的方法。”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7823160" cy="2412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2120" y="1143000"/>
            <a:ext cx="80769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吃偷来的石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是中国共产党早期农民运动的成功的领导人。他六岁上学，是个品学兼优的好学生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天中午放学，同学们路过一个围墙时，发现墙内有石榴！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43000" y="0"/>
            <a:ext cx="6095880" cy="1069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诚信，你也可以做到：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694880" y="762120"/>
            <a:ext cx="4417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大家很想吃。 这时候，一个大同学从旁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走过，就怂恿他们动手摘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摘下之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大家站在围墙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边吃石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这时，彭湃从后面赶了上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学习在班上总是第一名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又常帮助同学，所以孩子们都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喜欢他。看到他来了，同学们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很慷慨地掰了一半石榴递给他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说：“彭湃，石榴可甜了，你也吃一半吧！”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638680" y="1447920"/>
            <a:ext cx="320040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哈佛大学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是世界上最著名的大学之一，这所学校把“真理”作为校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在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哈佛大学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的校门和建筑物上都刻了一个拉丁文单词“真理”，这个词代表了“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真相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诚实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正直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正门上还刻了一句话：“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真理之门只会向那些正直的民族开放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。”意思是说，在这个世界上那些不诚实的人是没有出路的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" y="4495680"/>
            <a:ext cx="8381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为什么人们把诚实、守信</a:t>
            </a:r>
            <a:endParaRPr b="0" lang="en-US" sz="2400" spc="1" strike="noStrike">
              <a:ln w="9360">
                <a:solidFill>
                  <a:srgbClr val="cc0099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（守社会公德）看得那么重要呢？</a:t>
            </a:r>
            <a:endParaRPr b="0" lang="en-US" sz="2400" spc="1" strike="noStrike">
              <a:ln w="9360">
                <a:solidFill>
                  <a:srgbClr val="cc0099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4136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486400" y="304920"/>
            <a:ext cx="3429000" cy="2950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04920" y="380880"/>
            <a:ext cx="523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奇怪石榴是哪儿来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小同学说：“自己上去搞的！” 彭湃连忙把石榴退还，说：“你们偷人家的石榴，就不怕妈妈骂你吗？”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大一点儿的同学说：“不告诉妈妈，不就行了吗？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6440" y="375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24280" y="3809880"/>
            <a:ext cx="5394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的妈妈是一个很正直的农村妇女，她常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最近做了些什么事？哪些好，哪些坏？” 彭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总是如实回答。 他以为，别人的妈妈也会这样问孩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就很生气地说：“你们不但偷东西，而且还不诚实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我再也不和你们玩了。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400800" y="2666880"/>
            <a:ext cx="2514600" cy="3810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09480" y="304920"/>
            <a:ext cx="8382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回家后，彭湃把此事告诉妈妈。妈妈很高兴，但还试探着问：“你不想吃石榴吗？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答：“我很想吃呀！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妈妈问：“那同学分给你，你怎么不要呢？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说：“那是偷来的，我不能要。要是让您知道我      吃了偷来的石榴，您会生气的。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52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3124080"/>
            <a:ext cx="640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妈妈问：“你不告诉我，我怎知道呢？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说：“可我不能撒谎啊！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妈妈很高兴地说：“你真是个诚实的好孩子，妈妈给你钱，你自己去买石榴吧！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接过钱，说：“谢谢妈妈！”就高兴地去买石榴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12960" y="284040"/>
            <a:ext cx="7316640" cy="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-4680" y="290520"/>
            <a:ext cx="9153360" cy="6284880"/>
            <a:chOff x="-4680" y="290520"/>
            <a:chExt cx="9153360" cy="6284880"/>
          </a:xfrm>
        </p:grpSpPr>
        <p:grpSp>
          <p:nvGrpSpPr>
            <p:cNvPr id="129" name=""/>
            <p:cNvGrpSpPr/>
            <p:nvPr/>
          </p:nvGrpSpPr>
          <p:grpSpPr>
            <a:xfrm>
              <a:off x="0" y="295200"/>
              <a:ext cx="9144000" cy="6275520"/>
              <a:chOff x="0" y="295200"/>
              <a:chExt cx="9144000" cy="627552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0" y="295200"/>
                <a:ext cx="9144000" cy="6275160"/>
                <a:chOff x="0" y="295200"/>
                <a:chExt cx="9144000" cy="62751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0" y="295200"/>
                  <a:ext cx="9144000" cy="627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295200"/>
                  <a:ext cx="82296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>
                <a:off x="0" y="295200"/>
                <a:ext cx="9144000" cy="6275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-4680" y="290520"/>
              <a:ext cx="9153360" cy="6284880"/>
            </a:xfrm>
            <a:prstGeom prst="rect">
              <a:avLst/>
            </a:prstGeom>
            <a:noFill/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 txBox="1"/>
          <p:nvPr/>
        </p:nvSpPr>
        <p:spPr>
          <a:xfrm rot="5400000">
            <a:off x="4000320" y="3009960"/>
            <a:ext cx="52578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诚信的形成，从小事做起！</a:t>
            </a:r>
            <a:endParaRPr b="0" i="1" lang="en-US" sz="24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666880" y="1371600"/>
            <a:ext cx="2286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思考后回答</a:t>
            </a: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: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14600" y="3276720"/>
            <a:ext cx="6324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说说看，你对待别人（老师、同学、家人</a:t>
            </a:r>
            <a:r>
              <a:rPr b="0" lang="en-US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......</a:t>
            </a:r>
            <a:r>
              <a:rPr b="0" lang="zh-CN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）</a:t>
            </a:r>
            <a:endParaRPr b="0" lang="en-US" sz="2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在哪些方面做到了诚信？</a:t>
            </a:r>
            <a:endParaRPr b="0" lang="en-US" sz="2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这有好处吗</a:t>
            </a:r>
            <a:r>
              <a:rPr b="0" lang="en-US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?</a:t>
            </a:r>
            <a:r>
              <a:rPr b="0" lang="zh-CN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哪些方面没做到？会有什么后果吗</a:t>
            </a:r>
            <a:r>
              <a:rPr b="0" lang="en-US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?</a:t>
            </a:r>
            <a:endParaRPr b="0" lang="en-US" sz="2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380880" y="2895480"/>
            <a:ext cx="8534520" cy="3581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04920" y="3124080"/>
            <a:ext cx="833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2387520"/>
            <a:ext cx="5638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们的诚信可以这样建立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: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供参考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在校按中学生守则做到每一点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对父母孝顺体贴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对同学互助友爱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对每一个人都礼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不轻言承诺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诺则一诺千金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不做损人的事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不轻浮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不开过火玩笑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不与人比吃穿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只比学习进步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0"/>
            <a:ext cx="7772400" cy="2438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7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现在就定计划培养自己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成为一个诚信的人吧</a:t>
            </a: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!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2" name=""/>
          <p:cNvSpPr/>
          <p:nvPr/>
        </p:nvSpPr>
        <p:spPr>
          <a:xfrm>
            <a:off x="6785280" y="653040"/>
            <a:ext cx="1642680" cy="72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你的诚信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造就你的成功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你的成功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你家庭的荣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你家庭的荣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祖国的荣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447920" y="457200"/>
            <a:ext cx="63244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彩云"/>
              </a:rPr>
              <a:t>记住：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彩云"/>
              </a:rPr>
              <a:t>诚信由你我做起，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彩云"/>
              </a:rPr>
              <a:t>诚信就在你我身边！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533520"/>
            <a:ext cx="7925040" cy="128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80e08"/>
                </a:solidFill>
                <a:latin typeface="Times New Roman"/>
              </a:rPr>
              <a:t>本店没有温州货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   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人靠诚信在社会上立足，一个企业、一个行业甚至是一个地区也要靠诚信在社会上立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改革开放之初，我国东南沿海的一些小厂为了赚取暴利，成批地生产假冒伪劣商品，这种现象最严重的就是温州地区，在那里一切假名牌应有尽有。时间长了，全国都知道温州货不可靠，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许多商店为了表明自己的信誉，都在店门口贴上“本店没有温州货”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使温州人一下子觉醒了，这才懂得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要把生意做大，必须靠诚实经营，用诚信树立商业信誉和企业形象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现在的温州已经不生产假货了，整个社会又开始重新接受温州生产的货品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800600"/>
            <a:ext cx="76960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做假可能在没被人识破时会得到一定的利益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可是不会长久，最终会自断前程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601992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仅仅是做生意才需要诚信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说说看，还有什么行业需要诚信？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971800" y="1523880"/>
            <a:ext cx="1828800" cy="838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8160">
                  <a:solidFill>
                    <a:srgbClr val="ff0066"/>
                  </a:solidFill>
                  <a:miter/>
                </a:ln>
                <a:solidFill>
                  <a:srgbClr val="ffffff"/>
                </a:solidFill>
                <a:latin typeface="华文新魏"/>
              </a:rPr>
              <a:t>讨论</a:t>
            </a:r>
            <a:endParaRPr b="0" lang="en-US" sz="2400" spc="1" strike="noStrike">
              <a:ln w="38160">
                <a:solidFill>
                  <a:srgbClr val="ff0066"/>
                </a:solidFill>
                <a:miter/>
              </a:ln>
              <a:solidFill>
                <a:srgbClr val="ffffff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762120" y="2666880"/>
            <a:ext cx="7391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假如你的同学、老师、医生、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警察、司机、父母、邻居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...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都不正直、诚实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后果会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?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0" name=""/>
          <p:cNvSpPr/>
          <p:nvPr/>
        </p:nvSpPr>
        <p:spPr>
          <a:xfrm>
            <a:off x="4331160" y="304920"/>
            <a:ext cx="80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cc00"/>
                </a:solidFill>
                <a:latin typeface="Times New Roman"/>
              </a:rPr>
              <a:t>世界将充满虚伪和欺骗、不公和悲惨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70160" y="14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066680"/>
            <a:ext cx="5562360" cy="1295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不信请看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451560" y="1146240"/>
            <a:ext cx="2374920" cy="57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0e08"/>
                </a:solidFill>
                <a:latin typeface="Times New Roman"/>
              </a:rPr>
              <a:t>如果遇到不信守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交通</a:t>
            </a:r>
            <a:r>
              <a:rPr b="1" lang="zh-CN" sz="3600" spc="-1" strike="noStrike">
                <a:solidFill>
                  <a:srgbClr val="f80e08"/>
                </a:solidFill>
                <a:latin typeface="Times New Roman"/>
              </a:rPr>
              <a:t>规则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0e08"/>
                </a:solidFill>
                <a:latin typeface="Times New Roman"/>
              </a:rPr>
              <a:t>司机，很容易发生这种事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7238880" cy="5334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19320" y="228600"/>
            <a:ext cx="6781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a04"/>
                </a:solidFill>
                <a:latin typeface="Times New Roman"/>
              </a:rPr>
              <a:t>又或者是行人不信守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交通</a:t>
            </a:r>
            <a:r>
              <a:rPr b="1" lang="zh-CN" sz="3200" spc="-1" strike="noStrike">
                <a:solidFill>
                  <a:srgbClr val="fc0a04"/>
                </a:solidFill>
                <a:latin typeface="Times New Roman"/>
              </a:rPr>
              <a:t>规则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a04"/>
                </a:solidFill>
                <a:latin typeface="Times New Roman"/>
              </a:rPr>
              <a:t>也会发生这种事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2590920"/>
            <a:ext cx="6553440" cy="2490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平安离不开诚信！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219320" y="2819520"/>
            <a:ext cx="6651360" cy="1276200"/>
            <a:chOff x="1219320" y="2819520"/>
            <a:chExt cx="6651360" cy="1276200"/>
          </a:xfrm>
        </p:grpSpPr>
        <p:sp>
          <p:nvSpPr>
            <p:cNvPr id="58" name=""/>
            <p:cNvSpPr/>
            <p:nvPr/>
          </p:nvSpPr>
          <p:spPr>
            <a:xfrm>
              <a:off x="1219320" y="2819520"/>
              <a:ext cx="6651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9320" y="2819520"/>
              <a:ext cx="6651360" cy="12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371600" y="457200"/>
            <a:ext cx="6705720" cy="2438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480" y="2819520"/>
            <a:ext cx="80010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ahoma"/>
              </a:rPr>
              <a:t>术后化疗竟要人命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　　１９９９年９月，李珍（化名）在广州市十二人民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医院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做甲状腺癌根治术，术后因院方在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无消毒隔离或进入洁净病房、无进行必要的各项检查、无强有力的预防感染措施、无干细胞支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情况下，对李珍施予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超常规剂量数倍的化疗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致李珍出现严重的感染性休克、内出血、全身衰竭，于１９９９年１０月１４日在医院</a:t>
            </a:r>
            <a:r>
              <a:rPr b="1" lang="zh-CN" sz="2800" spc="-1" strike="noStrike">
                <a:solidFill>
                  <a:srgbClr val="fc0a04"/>
                </a:solidFill>
                <a:latin typeface="Tahoma"/>
              </a:rPr>
              <a:t>死亡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828800"/>
            <a:ext cx="8229600" cy="1028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医生医德若有问题，你敢进医院治病吗？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241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257800" y="1523880"/>
            <a:ext cx="3635280" cy="3276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8908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8240" y="1112760"/>
            <a:ext cx="31068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被咬掉耳朵的妈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一个小孩的妈妈品行不好，经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教孩子撒谎，鼓励孩子占别人的小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宜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一次，父亲捕了几条鱼，可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家里没有炸鱼的油了，于是妈妈就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孩子拿着一团棉花到油坊的油缸里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油，孩子照着妈妈说的方法做了，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来从棉花里挤出一大碗的油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441972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母亲夸他真有本事，当天晚上孩子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了香喷喷的炸鱼。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孩子胆子越来越大，开始偷鸡摸狗，骗人钱财，再后来就是抢劫杀人，最后他被判了</a:t>
            </a:r>
            <a:r>
              <a:rPr b="1" lang="zh-CN" sz="2400" spc="-1" strike="noStrike">
                <a:solidFill>
                  <a:srgbClr val="f80e08"/>
                </a:solidFill>
                <a:latin typeface="Times New Roman"/>
              </a:rPr>
              <a:t>死刑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临刑前母亲来看他，他说，都是你，你害了我，于是把妈妈的耳朵咬掉了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10240" y="380880"/>
            <a:ext cx="52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0e08"/>
                </a:solidFill>
                <a:latin typeface="Times New Roman"/>
              </a:rPr>
              <a:t>父母亲要是不诚信</a:t>
            </a:r>
            <a:r>
              <a:rPr b="1" lang="zh-CN" sz="3600" spc="-1" strike="noStrike">
                <a:solidFill>
                  <a:srgbClr val="f80e08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80e08"/>
                </a:solidFill>
                <a:latin typeface="Times New Roman"/>
              </a:rPr>
              <a:t>后果可以祸及后代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81080" y="76212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一中国留学生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在德国某出名大学毕业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想留在德国就业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按他的成绩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应该不难在大公司找到高薪水的职位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过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他去了几家公司面试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人家都很客气地据绝了他…后来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一间小公司也是如此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他忍不住问为什么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后来才知道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招聘单位按他的名字在网上查找他的资料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3333cc"/>
                </a:solidFill>
                <a:latin typeface="Times New Roman"/>
              </a:rPr>
              <a:t>发现他在德国读书期间有三次乘电车</a:t>
            </a:r>
            <a:r>
              <a:rPr b="1" lang="zh-CN" sz="2700" spc="-1" strike="noStrike">
                <a:solidFill>
                  <a:srgbClr val="660066"/>
                </a:solidFill>
                <a:latin typeface="Times New Roman"/>
              </a:rPr>
              <a:t>逃票</a:t>
            </a:r>
            <a:r>
              <a:rPr b="1" lang="zh-CN" sz="2700" spc="-1" strike="noStrike">
                <a:solidFill>
                  <a:srgbClr val="3333cc"/>
                </a:solidFill>
                <a:latin typeface="Times New Roman"/>
              </a:rPr>
              <a:t>的记录</a:t>
            </a:r>
            <a:r>
              <a:rPr b="1" lang="zh-CN" sz="27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认为他人品有问题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诚实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而一个公司的员工如果不具备诚信的话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这间公司是无法经营下去的…所以…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3000" y="5181480"/>
            <a:ext cx="6248520" cy="1455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做人不诚信</a:t>
            </a:r>
            <a:r>
              <a:rPr b="0" lang="en-US" sz="32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0" lang="zh-CN" sz="32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往往会因</a:t>
            </a:r>
            <a:r>
              <a:rPr b="0" lang="en-US" sz="32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"</a:t>
            </a:r>
            <a:r>
              <a:rPr b="0" lang="zh-CN" sz="32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小</a:t>
            </a:r>
            <a:r>
              <a:rPr b="0" lang="en-US" sz="32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"</a:t>
            </a:r>
            <a:r>
              <a:rPr b="0" lang="zh-CN" sz="32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失大</a:t>
            </a:r>
            <a:r>
              <a:rPr b="0" lang="en-US" sz="32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!</a:t>
            </a:r>
            <a:endParaRPr b="0" lang="en-US" sz="32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1905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小事”不诚信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留学生的求职遭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6T17:10:25Z</dcterms:created>
  <dc:creator>teacher</dc:creator>
  <dc:description/>
  <dc:language>en-US</dc:language>
  <cp:lastModifiedBy>ckh</cp:lastModifiedBy>
  <dcterms:modified xsi:type="dcterms:W3CDTF">2008-07-13T01:09:45Z</dcterms:modified>
  <cp:revision>39</cp:revision>
  <dc:subject/>
  <dc:title>PowerPoint 演示文稿</dc:title>
</cp:coreProperties>
</file>