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007-90AF-409A-9993-DDC57509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D9E-AE0C-4D9A-85CD-ECBF609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1A0-09A0-4CC7-A4E6-BD689AA0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E45-900C-4A2F-9CE7-4A1ED1A8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F71-CE1C-440D-B421-88E1E7F4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F3E-FBCB-4409-841D-79A18FC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9B1-3D3D-4B99-A6C2-0333331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A0F-37DB-409B-97C1-CD2DFE2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4B1-E5F8-4265-9C9D-9673A517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425-E6A0-4F43-AA3E-A2EC83A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A67-6F85-4184-BAA3-95AB693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012-8C15-4F40-8410-C694DA4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1E6-38DC-45C9-A6A8-0A0D37BF8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>
              <a:gd name="textAreaLeft" fmla="*/ 0 w 4606920"/>
              <a:gd name="textAreaRight" fmla="*/ 4607280 w 4606920"/>
              <a:gd name="textAreaTop" fmla="*/ 0 h 4965840"/>
              <a:gd name="textAreaBottom" fmla="*/ 4966200 h 4965840"/>
            </a:gdLst>
            <a:ahLst/>
            <a:rect l="textAreaLeft" t="textAreaTop" r="textAreaRight" b="textAreaBottom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>
              <a:gd name="textAreaLeft" fmla="*/ 0 w 514440"/>
              <a:gd name="textAreaRight" fmla="*/ 514800 w 5144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>
              <a:gd name="textAreaLeft" fmla="*/ 0 w 519120"/>
              <a:gd name="textAreaRight" fmla="*/ 519480 w 51912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>
              <a:gd name="textAreaLeft" fmla="*/ 0 w 514440"/>
              <a:gd name="textAreaRight" fmla="*/ 514800 w 51444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960"/>
            <a:chOff x="2216160" y="3736800"/>
            <a:chExt cx="2440080" cy="87696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56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侠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大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大侠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大侠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>
              <a:gd name="textAreaLeft" fmla="*/ 0 w 1146240"/>
              <a:gd name="textAreaRight" fmla="*/ 1146600 w 11462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大侠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966960"/>
            <a:chOff x="552600" y="2166840"/>
            <a:chExt cx="2935080" cy="96696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大侠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>
                  <a:gd name="textAreaLeft" fmla="*/ 0 w 1696320"/>
                  <a:gd name="textAreaRight" fmla="*/ 1696680 w 1696320"/>
                  <a:gd name="textAreaTop" fmla="*/ -360 h 1695240"/>
                  <a:gd name="textAreaBottom" fmla="*/ 1695240 h 1695240"/>
                </a:gdLst>
                <a:ahLst/>
                <a:rect l="textAreaLeft" t="textAreaTop" r="textAreaRight" b="textAreaBottom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>
                  <a:gd name="textAreaLeft" fmla="*/ 0 w 1696320"/>
                  <a:gd name="textAreaRight" fmla="*/ 1696680 w 1696320"/>
                  <a:gd name="textAreaTop" fmla="*/ -360 h 1695240"/>
                  <a:gd name="textAreaBottom" fmla="*/ 1695240 h 1695240"/>
                </a:gdLst>
                <a:ahLst/>
                <a:rect l="textAreaLeft" t="textAreaTop" r="textAreaRight" b="textAreaBottom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>
                  <a:gd name="textAreaLeft" fmla="*/ 0 w 1696320"/>
                  <a:gd name="textAreaRight" fmla="*/ 1696680 w 1696320"/>
                  <a:gd name="textAreaTop" fmla="*/ 360 h 1695600"/>
                  <a:gd name="textAreaBottom" fmla="*/ 1696320 h 1695600"/>
                </a:gdLst>
                <a:ahLst/>
                <a:rect l="textAreaLeft" t="textAreaTop" r="textAreaRight" b="textAreaBottom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>
                  <a:gd name="textAreaLeft" fmla="*/ 0 w 1695240"/>
                  <a:gd name="textAreaRight" fmla="*/ 1695600 w 1695240"/>
                  <a:gd name="textAreaTop" fmla="*/ 360 h 1695600"/>
                  <a:gd name="textAreaBottom" fmla="*/ 1696320 h 1695600"/>
                </a:gdLst>
                <a:ahLst/>
                <a:rect l="textAreaLeft" t="textAreaTop" r="textAreaRight" b="textAreaBottom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大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大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大侠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大侠，请在百度搜索：大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7T08:00:06Z</dcterms:modified>
  <cp:revision>0</cp:revision>
  <dc:subject/>
  <dc:title/>
</cp:coreProperties>
</file>