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853-A66E-4A1E-9D53-8116A3DF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35F-4510-4F75-8ED9-7CFAF9F2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179-2D69-4CEF-96EA-EAAEB94E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234-F352-4C6A-95C2-0E053059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76F-325A-4B47-9E17-A1DBE2E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DE3-3405-416A-BC2C-6C08BCB9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ED5-DA6E-45C8-8359-5E47736F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E3C-9376-4BF6-B1F8-23EB427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27A-A24D-4BBE-AC13-2AAD1941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B98-1F75-4497-8BFC-E605CF6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63B-D807-4806-A1B0-725B66F4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8CA-52DE-4981-9FDA-E2F5C67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FF47-7E89-43C9-B214-0A220081D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5:15Z</dcterms:modified>
  <cp:revision>2</cp:revision>
  <dc:subject/>
  <dc:title>PPT样式一</dc:title>
</cp:coreProperties>
</file>