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04B-2177-4B97-A284-A7439B3A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9A3-503B-4BAD-A45E-0B47E6D7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065-9546-430A-BED4-B2DAB6E8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596-5E57-4A00-9E3D-66E71A0F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07D-63A8-422E-B27E-8CC8F674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180-BBC5-4279-AE0B-B5236C4D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8FA-E5F8-43A5-AD5B-DB62E8D2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57A-476A-4AB4-A1EE-F0BE6F1C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BBE-D5CC-47E2-8097-0F7C9ED1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D1A-A82F-4EBE-94FA-73A4451C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69E-FEBA-46AA-9A66-189538F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ADD-AFBA-4798-90A8-55F8CAE6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26EF-1E4C-43B4-9AAA-E342EDE5E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4:55Z</dcterms:modified>
  <cp:revision>1</cp:revision>
  <dc:subject/>
  <dc:title>PPT样式一</dc:title>
</cp:coreProperties>
</file>